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ADF2-36D1-45F0-BF8C-53A3F878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705C-984B-4B04-89C7-ED6C536B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BA9-5FAB-4699-9381-4221922F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0E82-8CBA-4CC2-A504-C3A9C6F1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88EA3-771E-450D-9F46-52F344E7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9F10A-19DC-480F-8292-FCCEEB06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5034B-A053-417A-A1BA-A51FBBB9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564FC-7419-47B8-A00D-7A65160D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0FC8C-4206-4A69-8895-7333FCA6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7F222-80C7-4397-86D7-002158DF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E888B-0693-4F67-87E5-1F7633F2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FD2-BA55-4794-8F12-6BF6F6EC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C8138-53E1-46DE-A20D-231C4E6B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A2DC6-0064-4F36-B678-7F91A842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0EBE4-8D88-47DF-8791-8E74DBAD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F8F43-451A-44F9-97D9-4EF7AF23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5867D-E603-4714-972F-BC3A346B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B960-C24E-4CCC-8CB6-30CC3DB7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2F68-A282-4646-8C5A-4012476C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4E8-E833-47AB-B599-F914845C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4B9-0287-46FA-8696-930AC5E3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0EBA-6A0A-4955-80C6-7DAA350C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1DB4-7587-40F2-AF79-014896C9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95C5-E9C6-4C2D-8563-59BC6DAC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D7B4-55EE-48AB-A516-93F5B3529B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9335-DDF3-4552-A6EE-50E1C30207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ЗАГАЛЬНА ГЕОГРАФ</a:t>
            </a:r>
            <a:r>
              <a:rPr b="0" lang="uk-UA" sz="5400" spc="-1" strike="noStrike">
                <a:solidFill>
                  <a:srgbClr val="e3e3ff"/>
                </a:solidFill>
                <a:latin typeface="Arial"/>
              </a:rPr>
              <a:t>І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6 кла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3e3ff"/>
                </a:solidFill>
                <a:latin typeface="Arial"/>
              </a:rPr>
              <a:t>БУДОВА ВУЛКАНА</a:t>
            </a:r>
            <a:br>
              <a:rPr sz="4000"/>
            </a:br>
            <a:r>
              <a:rPr b="0" lang="uk-UA" sz="3200" spc="-1" strike="noStrike">
                <a:solidFill>
                  <a:srgbClr val="e3e3ff"/>
                </a:solidFill>
                <a:latin typeface="Arial"/>
              </a:rPr>
              <a:t>Встановіть правильну послідовність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А кра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Б  л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В жерл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Г осередок маг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Д кону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1__, 2 __ ,3 __ , 4__ , 5 __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3e3ff"/>
                </a:solidFill>
                <a:latin typeface="Arial"/>
              </a:rPr>
              <a:t>Речовини, що вивергають вулкан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?                      ?                    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Підручник – с. 9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979280" y="1700280"/>
            <a:ext cx="158436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1700280"/>
            <a:ext cx="7128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84720" y="1700280"/>
            <a:ext cx="136692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3e3ff"/>
                </a:solidFill>
                <a:latin typeface="Arial"/>
              </a:rPr>
              <a:t>Речовини, що вивергають вулкан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рідкі            тверді           газуват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(лава)         ( вулканічні бомби             ( га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попіл )                             водяна пара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цінка – 1 б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979280" y="1700280"/>
            <a:ext cx="158436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700280"/>
            <a:ext cx="7128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84720" y="1700280"/>
            <a:ext cx="136692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910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5641920"/>
            <a:ext cx="92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400" spc="-1" strike="noStrike">
                <a:solidFill>
                  <a:srgbClr val="ff0000"/>
                </a:solidFill>
                <a:latin typeface="Arial"/>
              </a:rPr>
              <a:t>лава</a:t>
            </a:r>
            <a:endParaRPr b="0" lang="en-US" sz="8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ВУЛКАН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ДІЮЧ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ЗГАСЛ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0" t="0" r="0" b="34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51120" y="5815080"/>
            <a:ext cx="9265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900" spc="-1" strike="noStrike">
                <a:solidFill>
                  <a:srgbClr val="ff0000"/>
                </a:solidFill>
                <a:latin typeface="Arial"/>
              </a:rPr>
              <a:t>виверження вулкану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РИГАДА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ЕЙСМІЧНІ ПОЯСИ ЗЕМЛ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Тихоокеанський              Атлантич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ередземноморсь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2205000"/>
            <a:ext cx="647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2276640"/>
            <a:ext cx="0" cy="158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563640" y="2205000"/>
            <a:ext cx="576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ЕРЕВІР СЕБ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Тихоокеанський   -   1, 4,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Середземноморський  -  2 ,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Атлантичний –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цінка – 1 б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Відгадай вулка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1. 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пд.ш., 6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з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2. 3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н.ш., 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н.ш., 16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д.ш., 3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5.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3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н.ш., 13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6.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4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н.ш., 1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еревір себ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Льюльяйлья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Ет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Ключевська Соп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Кіліманжа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Фудзія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Везуві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цінка – 3 б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ібратися разом – це початок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триматися разом – це прогрес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працювати разом – це успі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64480" cy="5641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602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Виверження вулкана Етна, Сицилі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73840" cy="5773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6165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Масив Кіліманджаро в Африц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137440" cy="6102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61657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ff0000"/>
                </a:solidFill>
                <a:latin typeface="Arial"/>
              </a:rPr>
              <a:t>Найбільша гора Фуджі в Японії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e3e3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Вулкани – вороги чи друзі людини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e3e3ff"/>
                </a:solidFill>
                <a:latin typeface="Arial"/>
              </a:rPr>
              <a:t>Післявулканічні явищ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ГАРЯЧІ ДЖЕРЕЛ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ГЕЙЗЕР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ГРЯЗЬОВІ ВУЛКАН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5573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гейзер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Таблиця порівнян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Arial"/>
              </a:rPr>
              <a:t>Гарячі джерела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uk-UA" sz="3600" spc="-1" strike="noStrike" u="sng">
                <a:solidFill>
                  <a:srgbClr val="ffffff"/>
                </a:solidFill>
                <a:uFillTx/>
                <a:latin typeface="Arial"/>
              </a:rPr>
              <a:t>Гейзер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ПІЛЬ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ІДМІННЕ                           ВІДМІН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ЕРЕВІР СЕБ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Гарячі джерела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Гейзе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утворюються післ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верження вулкан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-  вода має висо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емперату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покійно витікають                         фонтаную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цінка – 3 б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ОЧІКУВАНІ РЕЗУЛЬТА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ти причини утворення вулка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будову вулк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післявулканічні яв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сейсмічні пояси Земл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міти показувати на карті діючі та згаслі вулка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очитат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ідповідати на питання с. 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иконати практичні  завдання на контурній карті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дготувати інформацію “Грязьові вулкани України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еревір себ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АНТІ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АСТЕНО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АГ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АГМАТ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цінка – 2 ба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Arial"/>
              </a:rPr>
              <a:t>ДЯКУЮ ЗА РОБОТУ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РИГАДА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МАГМАТИЗ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?                 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916360" y="2276640"/>
            <a:ext cx="1511280" cy="165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2349360"/>
            <a:ext cx="12970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РИГАДА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МАГМАТИЗ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нутрішній 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овнішні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(поверхнев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Оцінка – 1 б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916360" y="2276640"/>
            <a:ext cx="1511280" cy="165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2349360"/>
            <a:ext cx="12970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0" r="0" b="-4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5486400"/>
            <a:ext cx="93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400" spc="-1" strike="noStrike">
                <a:solidFill>
                  <a:srgbClr val="ff0000"/>
                </a:solidFill>
                <a:latin typeface="Arial"/>
              </a:rPr>
              <a:t>вулкан</a:t>
            </a:r>
            <a:endParaRPr b="0" lang="en-US" sz="8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ЛІТОСФЕ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ВУЛКАНІЗМ І ВУЛКА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ГАРЯЧІ ДЖЕРЕЛА , ГЕЙЗЕ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Очікувані результа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ти причини утворення вулка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будову вулк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післявулканічні яв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сейсмічні пояси Земл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міти показувати на карті діючі та згаслі вулка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Утворення і будова вулк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ласифікація вулка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Географічне положення вулка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слявулканічні яв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8:16:09Z</dcterms:created>
  <dc:creator>jeka</dc:creator>
  <dc:description/>
  <dc:language>en-US</dc:language>
  <cp:lastModifiedBy>жека</cp:lastModifiedBy>
  <dcterms:modified xsi:type="dcterms:W3CDTF">2012-04-08T11:41:28Z</dcterms:modified>
  <cp:revision>39</cp:revision>
  <dc:subject/>
  <dc:title>ЗАГАЛЬНА ГЕОГРАФІ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7000000000001024140</vt:lpwstr>
  </property>
</Properties>
</file>