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F9B-6245-46B3-8C67-22D32ABF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57D-A89E-4396-BEF7-601A3CC7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DB5-4C7C-4549-8253-21F26482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921-5F08-4FDF-9792-F6F5337A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F7B90-095E-4F75-BE3D-8E671B5C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42BBB-E4E5-426F-8E35-3D26F3A8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8F729-3B32-4F41-B668-BD453FE6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2232B-8980-45A1-901D-506F3C8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682DF-8675-4E25-A9FB-CC2BDE67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C6090-F4F7-4EE0-B743-3087D052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CE69D-BE4A-43F6-BDA5-E26D8DB4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191-2CA9-4B5B-B6F4-E4747D7B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B6FB1-3C17-4BD2-9947-9714AAD1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60E59-EB9F-4F0B-ABAA-A82B834B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D1902-E853-4864-91A5-6DFEC0BF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65BB6-5C0B-4335-8746-8AE8710D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A32F5-661D-4F1D-8AF7-1345522B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AEF-3D13-4DC5-B6A0-95A53F04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BA1-BFDC-4C23-B562-90150C4B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140-8E5D-4632-AD17-BBE1040E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9AD-CE61-4BA2-B0C1-FF654BA8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66A-F899-4D12-879D-70C3FEAF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670-6B35-4768-B857-37DB303D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D11-A3E0-43C9-921F-58F22C55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CC68-D937-4C94-A6AA-45CCF5C8C3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7D68-6237-4177-A14A-AA261F3113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ЗАГАЛЬНА ГЕОГРАФ</a:t>
            </a:r>
            <a:r>
              <a:rPr b="0" lang="uk-UA" sz="5400" spc="-1" strike="noStrike">
                <a:solidFill>
                  <a:srgbClr val="e3e3ff"/>
                </a:solidFill>
                <a:latin typeface="Arial"/>
              </a:rPr>
              <a:t>І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6 кла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БУДОВА ВУЛКАНА</a:t>
            </a:r>
            <a:br>
              <a:rPr sz="4000"/>
            </a:br>
            <a:r>
              <a:rPr b="0" lang="uk-UA" sz="3200" spc="-1" strike="noStrike">
                <a:solidFill>
                  <a:srgbClr val="e3e3ff"/>
                </a:solidFill>
                <a:latin typeface="Arial"/>
              </a:rPr>
              <a:t>Встановіть правильну послідовніст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 кра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Б  л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 жер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Г осередок маг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 кон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1__, 2 __ ,3 __ , 4__ , 5 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Речовини, що вивергають вулкан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?                      ?                    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ідручник – с. 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1700280"/>
            <a:ext cx="158436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700280"/>
            <a:ext cx="7128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1700280"/>
            <a:ext cx="1366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Речовини, що вивергають вулкан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ідкі            тверді           газува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(лава)         ( вулканічні бомби             ( га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попіл )                             водяна пар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79280" y="1700280"/>
            <a:ext cx="158436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700280"/>
            <a:ext cx="7128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1700280"/>
            <a:ext cx="1366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1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5641920"/>
            <a:ext cx="92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400" spc="-1" strike="noStrike">
                <a:solidFill>
                  <a:srgbClr val="ff0000"/>
                </a:solidFill>
                <a:latin typeface="Arial"/>
              </a:rPr>
              <a:t>лава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ВУЛКАН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ДІЮЧ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ЗГАСЛ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0" r="0" b="34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51120" y="5815080"/>
            <a:ext cx="9265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900" spc="-1" strike="noStrike">
                <a:solidFill>
                  <a:srgbClr val="ff0000"/>
                </a:solidFill>
                <a:latin typeface="Arial"/>
              </a:rPr>
              <a:t>виверження вулкану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ихоокеанський              Атлантич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редземноморсь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205000"/>
            <a:ext cx="647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276640"/>
            <a:ext cx="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563640" y="220500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Тихоокеанський   -   1, 4,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ередземноморський  -  2 ,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тлантичний –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Відгадай вулк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. 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пд.ш., 6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з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. 3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6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д.ш., 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5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6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Льюльяйлья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Ет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Ключевська Соп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Кіліманжа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Фудзія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Везув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цінка – 3 б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ібратися разом – це початок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риматися разом – це прогре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рацювати разом – це успі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64480" cy="5641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Виверження вулкана Етна, Сицилі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3840" cy="5773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асив Кіліманджаро в Африц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10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6165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Arial"/>
              </a:rPr>
              <a:t>Найбільша гора Фуджі в Японії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улкани – вороги чи друзі людини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3e3ff"/>
                </a:solidFill>
                <a:latin typeface="Arial"/>
              </a:rPr>
              <a:t>Післявулканічні явищ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АРЯЧІ ДЖЕРЕ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ЕЙЗЕ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РЯЗЬОВІ ВУЛКА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гейзе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Таблиця порівнян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Гарячі джерела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Гейзе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ПІЛЬ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МІННЕ                           ВІДМІН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Гарячі джерела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Гейз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творюються піс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верження вулкан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  вода має вис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мперату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окійно витікають                         фонтаную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цінка – 3 б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ОЧІКУВАНІ РЕЗУЛЬТА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и причини утвор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будову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ти показувати на карті діючі та згаслі вул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читат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повідати на питання с. 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конати практичні  завдання на контурній кар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готувати інформацію “Грязьові вулкани Україн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НТ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СТЕНО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Г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цінка – 2 б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Arial"/>
              </a:rPr>
              <a:t>ДЯКУЮ ЗА РОБОТУ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?                 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916360" y="2276640"/>
            <a:ext cx="151128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234936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нутрішній 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овнішн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(поверхнев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16360" y="2276640"/>
            <a:ext cx="151128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234936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486400"/>
            <a:ext cx="93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400" spc="-1" strike="noStrike">
                <a:solidFill>
                  <a:srgbClr val="ff0000"/>
                </a:solidFill>
                <a:latin typeface="Arial"/>
              </a:rPr>
              <a:t>вулкан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ЛІТОСФ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УЛКАНІЗМ І ВУЛКА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ГАРЯЧІ ДЖЕРЕЛА , ГЕЙЗЕ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Очікувані результа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и причини утвор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будову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ти показувати на карті діючі та згаслі вул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творення і будова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ласифікаці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Географічне полож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8:16:09Z</dcterms:created>
  <dc:creator>jeka</dc:creator>
  <dc:description/>
  <dc:language>en-US</dc:language>
  <cp:lastModifiedBy>жека</cp:lastModifiedBy>
  <dcterms:modified xsi:type="dcterms:W3CDTF">2012-04-08T11:41:28Z</dcterms:modified>
  <cp:revision>39</cp:revision>
  <dc:subject/>
  <dc:title>ЗАГАЛЬНА ГЕОГРАФ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7000000000001024140</vt:lpwstr>
  </property>
</Properties>
</file>