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2A8A-C6B4-4F98-BCAC-90196EC52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C54C-7451-42D4-9767-301784FD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607A-3D34-4763-9C2D-FB733114C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281E-C79E-4D87-9AE4-D3A76189A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BDB56-5EB9-4FC9-B1A5-3B81E7AAE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9E4E4-DA77-402B-AE08-A479091A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15E4B-2D4B-47F6-8B8B-4E6B033D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640D2-5AED-49EB-AE0B-C8976AEB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4F623-C0AC-46E6-9763-FDA4ADFB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71016-B904-4B71-A2EF-DB0964B3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777B9-8C5C-45DB-A116-0CBE4DDA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2922-818E-4A82-8AD2-34240EC0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8E46C-71A1-477B-8B23-AC2A3CFC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04E96-B99C-49A2-BC95-3B654CE5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F2975-79B5-454A-A2BF-BF0B80C3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3D808-8E83-481E-97CF-E127090A5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90B16-5943-4E67-87C9-EAC271462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1C85-2284-4F06-8234-1391AA90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31FE-C5DC-4F1D-912F-FC37E81F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60B8-E122-4ED6-8214-0132789A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4A3F-C896-4A80-B5DC-65F2773C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CF3B-F766-4B43-905C-761B0A40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7979-DB73-4582-BB05-F026E13A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F3FB-F2CE-4042-979A-6FF7AF38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E592-7AEC-4F2D-B076-ADC8848EB6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5A51-3E4D-4B52-8E15-7A836E8C01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ЗАГАЛЬНА ГЕОГРАФ</a:t>
            </a:r>
            <a:r>
              <a:rPr b="0" lang="uk-UA" sz="5400" spc="-1" strike="noStrike">
                <a:solidFill>
                  <a:srgbClr val="e3e3ff"/>
                </a:solidFill>
                <a:latin typeface="Arial"/>
              </a:rPr>
              <a:t>ІЯ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6 кла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3e3ff"/>
                </a:solidFill>
                <a:latin typeface="Arial"/>
              </a:rPr>
              <a:t>БУДОВА ВУЛКАНА</a:t>
            </a:r>
            <a:br>
              <a:rPr sz="4000"/>
            </a:br>
            <a:r>
              <a:rPr b="0" lang="uk-UA" sz="3200" spc="-1" strike="noStrike">
                <a:solidFill>
                  <a:srgbClr val="e3e3ff"/>
                </a:solidFill>
                <a:latin typeface="Arial"/>
              </a:rPr>
              <a:t>Встановіть правильну послідовність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А крат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Б  ла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В жерл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Г осередок маг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Д кону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1__, 2 __ ,3 __ , 4__ , 5 __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3e3ff"/>
                </a:solidFill>
                <a:latin typeface="Arial"/>
              </a:rPr>
              <a:t>Речовини, що вивергають вулкан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?                      ?                    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Підручник – с. 9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979280" y="1700280"/>
            <a:ext cx="1584360" cy="165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1700280"/>
            <a:ext cx="71280" cy="165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84720" y="1700280"/>
            <a:ext cx="1366920" cy="165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3e3ff"/>
                </a:solidFill>
                <a:latin typeface="Arial"/>
              </a:rPr>
              <a:t>Речовини, що вивергають вулкан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рідкі            тверді           газуват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(лава)         ( вулканічні бомби             ( газ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попіл )                             водяна пара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Оцінка – 1 ба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979280" y="1700280"/>
            <a:ext cx="1584360" cy="165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1700280"/>
            <a:ext cx="71280" cy="165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84720" y="1700280"/>
            <a:ext cx="1366920" cy="165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13840" cy="69105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5641920"/>
            <a:ext cx="925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400" spc="-1" strike="noStrike">
                <a:solidFill>
                  <a:srgbClr val="ff0000"/>
                </a:solidFill>
                <a:latin typeface="Arial"/>
              </a:rPr>
              <a:t>лава</a:t>
            </a:r>
            <a:endParaRPr b="0" lang="en-US" sz="8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ВУЛКАН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ДІЮЧІ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ЗГАСЛІ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rcRect l="0" t="0" r="0" b="34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-51120" y="5815080"/>
            <a:ext cx="9265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900" spc="-1" strike="noStrike">
                <a:solidFill>
                  <a:srgbClr val="ff0000"/>
                </a:solidFill>
                <a:latin typeface="Arial"/>
              </a:rPr>
              <a:t>виверження вулкану</a:t>
            </a:r>
            <a:endParaRPr b="0" lang="en-US" sz="6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ПРИГАДА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ЕЙСМІЧНІ ПОЯСИ ЗЕМЛ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Тихоокеанський              Атлантич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ередземноморсь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19640" y="2205000"/>
            <a:ext cx="64764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2276640"/>
            <a:ext cx="0" cy="158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563640" y="2205000"/>
            <a:ext cx="576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ПЕРЕВІР СЕБ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Тихоокеанський   -   1, 4, 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Середземноморський  -  2 ,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Атлантичний –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Оцінка – 1 б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Відгадай вулкан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1. 2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пд.ш., 6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зх.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2. 3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пн.ш., 1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сх.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5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пн.ш., 16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сх.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4.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пд.ш., 3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сх.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5.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3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пн.ш., 13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сх.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6.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4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пн.ш., 14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сх.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Перевір себ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лк. Льюльяйльяк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лк. Ет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лк. Ключевська Соп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лк. Кіліманжар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лк. Фудзія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лк. Везуві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Оцінка – 3 ба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ібратися разом – це початок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триматися разом – це прогрес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працювати разом – це успіх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64480" cy="56419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6021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Виверження вулкана Етна, Сицилі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73840" cy="57736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6165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Масив Кіліманджаро в Африц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137440" cy="61023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616572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ff0000"/>
                </a:solidFill>
                <a:latin typeface="Arial"/>
              </a:rPr>
              <a:t>Найбільша гора Фуджі в Японії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e3e3ff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Вулкани – вороги чи друзі людини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e3e3ff"/>
                </a:solidFill>
                <a:latin typeface="Arial"/>
              </a:rPr>
              <a:t>Післявулканічні явища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ГАРЯЧІ ДЖЕРЕЛ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ГЕЙЗЕР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ГРЯЗЬОВІ ВУЛКАН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5573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гейзер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Таблиця порівнян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ffffff"/>
                </a:solidFill>
                <a:uFillTx/>
                <a:latin typeface="Arial"/>
              </a:rPr>
              <a:t>Гарячі джерела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uk-UA" sz="3600" spc="-1" strike="noStrike" u="sng">
                <a:solidFill>
                  <a:srgbClr val="ffffff"/>
                </a:solidFill>
                <a:uFillTx/>
                <a:latin typeface="Arial"/>
              </a:rPr>
              <a:t>Гейзер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ПІЛЬ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ІДМІННЕ                           ВІДМІН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ПЕРЕВІР СЕБ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ffffff"/>
                </a:solidFill>
                <a:uFillTx/>
                <a:latin typeface="Arial"/>
              </a:rPr>
              <a:t>Гарячі джерела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uk-UA" sz="3200" spc="-1" strike="noStrike" u="sng">
                <a:solidFill>
                  <a:srgbClr val="ffffff"/>
                </a:solidFill>
                <a:uFillTx/>
                <a:latin typeface="Arial"/>
              </a:rPr>
              <a:t>Гейзе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утворюються післ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иверження вулкані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-  вода має висо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температур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спокійно витікають                         фонтаную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Оцінка – 3 ба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ОЧІКУВАНІ РЕЗУЛЬТАТ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ти причини утворення вулкан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нати будову вулка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нати післявулканічні явищ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нати сейсмічні пояси Земл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міти показувати на карті діючі та згаслі вулка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Домашнє завданн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рочитат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ідповідати на питання с. 9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иконати практичні  завдання на контурній карті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ідготувати інформацію “Грязьові вулкани України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Перевір себ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МАНТІ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АСТЕНОСФ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МАГ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МАГМАТИ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Оцінка – 2 ба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ffffff"/>
                </a:solidFill>
                <a:latin typeface="Arial"/>
              </a:rPr>
              <a:t>ДЯКУЮ ЗА РОБОТУ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ПРИГАДА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МАГМАТИЗ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?                 ?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916360" y="2276640"/>
            <a:ext cx="1511280" cy="165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03640" y="2349360"/>
            <a:ext cx="129708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ПРИГАДА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МАГМАТИЗ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нутрішній  </a:t>
            </a: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овнішні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(поверхневи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Оцінка – 1 ба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916360" y="2276640"/>
            <a:ext cx="1511280" cy="165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03640" y="2349360"/>
            <a:ext cx="129708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0" t="0" r="0" b="-40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5486400"/>
            <a:ext cx="932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400" spc="-1" strike="noStrike">
                <a:solidFill>
                  <a:srgbClr val="ff0000"/>
                </a:solidFill>
                <a:latin typeface="Arial"/>
              </a:rPr>
              <a:t>вулкан</a:t>
            </a:r>
            <a:endParaRPr b="0" lang="en-US" sz="8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ЛІТОСФЕР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ВУЛКАНІЗМ І ВУЛКАН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ГАРЯЧІ ДЖЕРЕЛА , ГЕЙЗЕР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Очікувані результат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ти причини утворення вулкан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нати будову вулка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нати післявулканічні явищ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нати сейсмічні пояси Земл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міти показувати на карті діючі та згаслі вулка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Утворення і будова вулка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Класифікація вулкан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Географічне положення вулкан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іслявулканічні явищ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8:16:09Z</dcterms:created>
  <dc:creator>jeka</dc:creator>
  <dc:description/>
  <dc:language>en-US</dc:language>
  <cp:lastModifiedBy>жека</cp:lastModifiedBy>
  <dcterms:modified xsi:type="dcterms:W3CDTF">2012-04-08T11:41:28Z</dcterms:modified>
  <cp:revision>39</cp:revision>
  <dc:subject/>
  <dc:title>ЗАГАЛЬНА ГЕОГРАФІ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07000000000001024140</vt:lpwstr>
  </property>
</Properties>
</file>