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48D-4FDD-4E96-A872-89DA782C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D5A-D66B-4D72-AEF3-6730AA0C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B9C-1721-491C-ADBF-D5B25845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AF5-82CB-4FCF-88E8-694502AC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D577E-6771-477E-871A-F57A2C87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5D2D4-9FEC-4D28-BF51-FD38AC58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5B647-760D-4903-B6CF-3BC1C9C4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1FE1D-F14B-4117-8A98-5227D424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AB676-231C-4C4F-83A3-2850241B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382C0-316D-4ECC-A875-98429379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66906-0CAE-43C4-A600-B9111AF8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70E-FBA6-4E8A-B908-4F71E4CD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ABB85-345E-4506-9D98-4D4AC9E3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73248-E201-4E14-B26D-E150F1EB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239F4-4352-4CA1-8C7E-E239A4B9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5D59C-CAF7-4B19-A82A-1F03ECDD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97160-9D1F-4866-8FBA-FFEC38FF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0B0-C64F-4ABC-8A6A-57D04D00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069-E022-468B-ACB1-4D566778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83B-573F-4EF4-9DFC-CEA94FEA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2C9-8764-444F-990D-D9C9D18E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E60-90DE-4798-A4E2-A97CBC67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EF8-A9CF-48B3-99DF-A7316914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3CC-E8F7-4DAC-BE4D-BF586CFE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A835-9984-46FC-8203-8CF30F6DE6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62DB-C82C-4603-9085-E3AEEBDF24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ЗАГАЛЬНА ГЕОГРАФ</a:t>
            </a:r>
            <a:r>
              <a:rPr b="0" lang="uk-UA" sz="5400" spc="-1" strike="noStrike">
                <a:solidFill>
                  <a:srgbClr val="e3e3ff"/>
                </a:solidFill>
                <a:latin typeface="Arial"/>
              </a:rPr>
              <a:t>І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6 кла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БУДОВА ВУЛКАНА</a:t>
            </a:r>
            <a:br>
              <a:rPr sz="4000"/>
            </a:br>
            <a:r>
              <a:rPr b="0" lang="uk-UA" sz="3200" spc="-1" strike="noStrike">
                <a:solidFill>
                  <a:srgbClr val="e3e3ff"/>
                </a:solidFill>
                <a:latin typeface="Arial"/>
              </a:rPr>
              <a:t>Встановіть правильну послідовність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А кра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Б  л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 жерл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Г осередок маг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Д кон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1__, 2 __ ,3 __ , 4__ , 5 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Речовини, що вивергають вулкан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?                      ?                    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Підручник – с. 9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79280" y="1700280"/>
            <a:ext cx="158436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1700280"/>
            <a:ext cx="7128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1700280"/>
            <a:ext cx="136692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Речовини, що вивергають вулкан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рідкі            тверді           газува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(лава)         ( вулканічні бомби             ( га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попіл )                             водяна пара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цінка – 1 б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979280" y="1700280"/>
            <a:ext cx="158436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700280"/>
            <a:ext cx="7128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1700280"/>
            <a:ext cx="136692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910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5641920"/>
            <a:ext cx="92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400" spc="-1" strike="noStrike">
                <a:solidFill>
                  <a:srgbClr val="ff0000"/>
                </a:solidFill>
                <a:latin typeface="Arial"/>
              </a:rPr>
              <a:t>лава</a:t>
            </a:r>
            <a:endParaRPr b="0" lang="en-US" sz="8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ВУЛКАН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ДІЮЧ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ЗГАСЛ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0" r="0" b="34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51120" y="5815080"/>
            <a:ext cx="9265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900" spc="-1" strike="noStrike">
                <a:solidFill>
                  <a:srgbClr val="ff0000"/>
                </a:solidFill>
                <a:latin typeface="Arial"/>
              </a:rPr>
              <a:t>виверження вулкану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РИГАДА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ЕЙСМІЧНІ ПОЯСИ ЗЕМ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ихоокеанський              Атлантич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ередземноморсь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2205000"/>
            <a:ext cx="647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2276640"/>
            <a:ext cx="0" cy="158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563640" y="2205000"/>
            <a:ext cx="576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Тихоокеанський   -   1, 4,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ередземноморський  -  2 ,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Атлантичний –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цінка – 1 б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Відгадай вулк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. 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пд.ш., 6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з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2. 3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6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д.ш., 3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5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3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6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4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Льюльяйлья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Ет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Ключевська Соп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Кіліманжа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Фудзія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Везув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цінка – 3 б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ібратися разом – це початок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триматися разом – це прогрес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працювати разом – це успі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64480" cy="5641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Виверження вулкана Етна, Сицилі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73840" cy="5773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6165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Масив Кіліманджаро в Африц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102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61657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ff0000"/>
                </a:solidFill>
                <a:latin typeface="Arial"/>
              </a:rPr>
              <a:t>Найбільша гора Фуджі в Японії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Вулкани – вороги чи друзі людини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e3e3ff"/>
                </a:solidFill>
                <a:latin typeface="Arial"/>
              </a:rPr>
              <a:t>Післявулканічні явищ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ГАРЯЧІ ДЖЕРЕ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ГЕЙЗЕ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ГРЯЗЬОВІ ВУЛКАН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5573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гейзе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Таблиця порівнян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Arial"/>
              </a:rPr>
              <a:t>Гарячі джерела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uk-UA" sz="3600" spc="-1" strike="noStrike" u="sng">
                <a:solidFill>
                  <a:srgbClr val="ffffff"/>
                </a:solidFill>
                <a:uFillTx/>
                <a:latin typeface="Arial"/>
              </a:rPr>
              <a:t>Гейзе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ПІЛЬ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МІННЕ                           ВІДМІН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Гарячі джерела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Гейз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утворюються піс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верження вулкан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  вода має вис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мперату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покійно витікають                         фонтаную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цінка – 3 б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ОЧІКУВАНІ РЕЗУЛЬТА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и причини утворенн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будову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післявулканічні я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сейсмічні пояси Зем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міти показувати на карті діючі та згаслі вулк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очитат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повідати на питання с. 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конати практичні  завдання на контурній карт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дготувати інформацію “Грязьові вулкани України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АНТ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СТЕНО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АГ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АГМАТ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цінка – 2 б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Arial"/>
              </a:rPr>
              <a:t>ДЯКУЮ ЗА РОБОТУ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РИГАДА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МАГМАТИЗ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?                 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916360" y="2276640"/>
            <a:ext cx="1511280" cy="165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2349360"/>
            <a:ext cx="1297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РИГАДА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МАГМАТИЗ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нутрішній 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овнішн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(поверхнев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цінка – 1 б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916360" y="2276640"/>
            <a:ext cx="1511280" cy="165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2349360"/>
            <a:ext cx="1297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0" b="-4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5486400"/>
            <a:ext cx="93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400" spc="-1" strike="noStrike">
                <a:solidFill>
                  <a:srgbClr val="ff0000"/>
                </a:solidFill>
                <a:latin typeface="Arial"/>
              </a:rPr>
              <a:t>вулкан</a:t>
            </a:r>
            <a:endParaRPr b="0" lang="en-US" sz="8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ЛІТОСФ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ВУЛКАНІЗМ І ВУЛКА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ГАРЯЧІ ДЖЕРЕЛА , ГЕЙЗЕ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Очікувані результа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и причини утворенн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будову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післявулканічні я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сейсмічні пояси Зем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міти показувати на карті діючі та згаслі вулк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Утворення і будова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ласифікаці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Географічне положенн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слявулканічні я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8:16:09Z</dcterms:created>
  <dc:creator>jeka</dc:creator>
  <dc:description/>
  <dc:language>en-US</dc:language>
  <cp:lastModifiedBy>жека</cp:lastModifiedBy>
  <dcterms:modified xsi:type="dcterms:W3CDTF">2012-04-08T11:41:28Z</dcterms:modified>
  <cp:revision>39</cp:revision>
  <dc:subject/>
  <dc:title>ЗАГАЛЬНА ГЕОГРАФІ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7000000000001024140</vt:lpwstr>
  </property>
</Properties>
</file>