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856764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55280" y="4364280"/>
            <a:ext cx="856764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54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55280" y="4364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45480" y="4364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52200" y="1511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49120" y="1511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755280" y="4364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52200" y="4364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549120" y="4364280"/>
            <a:ext cx="2758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755280" y="1511280"/>
            <a:ext cx="85676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85676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418068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5480" y="1511280"/>
            <a:ext cx="418068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60520" y="167760"/>
            <a:ext cx="890424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511280"/>
            <a:ext cx="418068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280" y="4364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418068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54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45480" y="4364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2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5480" y="1511280"/>
            <a:ext cx="418068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55280" y="4364280"/>
            <a:ext cx="856764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"/>
          <p:cNvSpPr/>
          <p:nvPr/>
        </p:nvSpPr>
        <p:spPr>
          <a:xfrm rot="5400000">
            <a:off x="6424200" y="3486240"/>
            <a:ext cx="6048360" cy="1260360"/>
          </a:xfrm>
          <a:prstGeom prst="rect">
            <a:avLst/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2"/>
          <p:cNvSpPr/>
          <p:nvPr/>
        </p:nvSpPr>
        <p:spPr>
          <a:xfrm rot="5400000">
            <a:off x="4839120" y="2319840"/>
            <a:ext cx="399960" cy="1007892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3"/>
          <p:cNvSpPr/>
          <p:nvPr/>
        </p:nvSpPr>
        <p:spPr>
          <a:xfrm rot="5400000">
            <a:off x="4492800" y="-4493160"/>
            <a:ext cx="1092240" cy="1007892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5280" y="1511280"/>
            <a:ext cx="85676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1240" indent="-28404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0" y="1176480"/>
            <a:ext cx="8375760" cy="1908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8"/>
          <p:cNvSpPr/>
          <p:nvPr/>
        </p:nvSpPr>
        <p:spPr>
          <a:xfrm>
            <a:off x="0" y="1260360"/>
            <a:ext cx="8375760" cy="1908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оугольник 9"/>
          <p:cNvSpPr/>
          <p:nvPr/>
        </p:nvSpPr>
        <p:spPr>
          <a:xfrm>
            <a:off x="0" y="1344600"/>
            <a:ext cx="8375760" cy="1908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Прямоугольник 10"/>
          <p:cNvSpPr/>
          <p:nvPr/>
        </p:nvSpPr>
        <p:spPr>
          <a:xfrm>
            <a:off x="0" y="3633840"/>
            <a:ext cx="10078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0" y="7056360"/>
            <a:ext cx="8375760" cy="19080"/>
          </a:xfrm>
          <a:prstGeom prst="rect">
            <a:avLst/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Прямоугольник 12"/>
          <p:cNvSpPr/>
          <p:nvPr/>
        </p:nvSpPr>
        <p:spPr>
          <a:xfrm rot="5400000">
            <a:off x="6277680" y="-148320"/>
            <a:ext cx="2052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Прямоугольник 13"/>
          <p:cNvSpPr/>
          <p:nvPr/>
        </p:nvSpPr>
        <p:spPr>
          <a:xfrm rot="5400000">
            <a:off x="6278400" y="35532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Прямоугольник 14"/>
          <p:cNvSpPr/>
          <p:nvPr/>
        </p:nvSpPr>
        <p:spPr>
          <a:xfrm rot="5400000">
            <a:off x="6277680" y="859320"/>
            <a:ext cx="208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Прямоугольник 15"/>
          <p:cNvSpPr/>
          <p:nvPr/>
        </p:nvSpPr>
        <p:spPr>
          <a:xfrm rot="5400000">
            <a:off x="6278400" y="136368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Прямоугольник 16"/>
          <p:cNvSpPr/>
          <p:nvPr/>
        </p:nvSpPr>
        <p:spPr>
          <a:xfrm rot="5400000">
            <a:off x="6277680" y="1867680"/>
            <a:ext cx="2052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Прямоугольник 17"/>
          <p:cNvSpPr/>
          <p:nvPr/>
        </p:nvSpPr>
        <p:spPr>
          <a:xfrm rot="5400000">
            <a:off x="6278400" y="237168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Прямоугольник 18"/>
          <p:cNvSpPr/>
          <p:nvPr/>
        </p:nvSpPr>
        <p:spPr>
          <a:xfrm rot="5400000">
            <a:off x="6277680" y="2875680"/>
            <a:ext cx="2052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Прямоугольник 19"/>
          <p:cNvSpPr/>
          <p:nvPr/>
        </p:nvSpPr>
        <p:spPr>
          <a:xfrm rot="5400000">
            <a:off x="6278400" y="337968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Прямоугольник 20"/>
          <p:cNvSpPr/>
          <p:nvPr/>
        </p:nvSpPr>
        <p:spPr>
          <a:xfrm rot="5400000">
            <a:off x="6277680" y="3883680"/>
            <a:ext cx="2052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Прямоугольник 21"/>
          <p:cNvSpPr/>
          <p:nvPr/>
        </p:nvSpPr>
        <p:spPr>
          <a:xfrm rot="5400000">
            <a:off x="6278400" y="438768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Прямоугольник 22"/>
          <p:cNvSpPr/>
          <p:nvPr/>
        </p:nvSpPr>
        <p:spPr>
          <a:xfrm rot="5400000">
            <a:off x="6278400" y="489096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Прямоугольник 23"/>
          <p:cNvSpPr/>
          <p:nvPr/>
        </p:nvSpPr>
        <p:spPr>
          <a:xfrm rot="5400000">
            <a:off x="6278400" y="539568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Прямоугольник 24"/>
          <p:cNvSpPr/>
          <p:nvPr/>
        </p:nvSpPr>
        <p:spPr>
          <a:xfrm rot="5400000">
            <a:off x="6278400" y="5898960"/>
            <a:ext cx="19080" cy="2527200"/>
          </a:xfrm>
          <a:prstGeom prst="rect">
            <a:avLst/>
          </a:pr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539280"/>
            <a:ext cx="972036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0" spc="-1" strike="noStrike">
                <a:solidFill>
                  <a:srgbClr val="feeb9a"/>
                </a:solidFill>
                <a:latin typeface="Arial"/>
              </a:rPr>
              <a:t>Біловезька Пуща</a:t>
            </a:r>
            <a:endParaRPr b="1" lang="en-US" sz="80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50036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нученко Лідія Михайлівна, м. Сміла, ЗОШ І-ІІІ ступенів №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b9a"/>
                </a:solidFill>
                <a:latin typeface="Arial"/>
              </a:rPr>
              <a:t>Найчисленніша популяція зубрів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1511280"/>
            <a:ext cx="856764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 Narrow"/>
              </a:rPr>
              <a:t>Початок 20 ст. – близько 700 зубрів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 Narrow"/>
              </a:rPr>
              <a:t>Під час першої світової війни – повністю винищені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 Narrow"/>
              </a:rPr>
              <a:t>1941 р. – 19 голів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 Narrow"/>
              </a:rPr>
              <a:t>1959р. – 23 і 14 утримувалось в загорожі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 Narrow"/>
              </a:rPr>
              <a:t>В даний час в Біловезькій Пущі на волі живе близько 400 особин!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Володимир\Рабочий стол\Bialowieza01_seebox_800x532.39104829211.jpg"/>
          <p:cNvPicPr/>
          <p:nvPr/>
        </p:nvPicPr>
        <p:blipFill>
          <a:blip r:embed="rId1"/>
          <a:stretch/>
        </p:blipFill>
        <p:spPr>
          <a:xfrm>
            <a:off x="0" y="0"/>
            <a:ext cx="100933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54080" y="1564920"/>
            <a:ext cx="632628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b9a"/>
                </a:solidFill>
                <a:latin typeface="Arial"/>
              </a:rPr>
              <a:t>    </a:t>
            </a:r>
            <a:r>
              <a:rPr b="1" lang="nl-BE" sz="3600" spc="-1" strike="noStrike">
                <a:solidFill>
                  <a:srgbClr val="f2f2f2"/>
                </a:solidFill>
                <a:latin typeface="Arial"/>
              </a:rPr>
              <a:t>Близько 20 тис. чоловік щорічно відвідують Біловезьку Пущу та знайомляться з ц</a:t>
            </a:r>
            <a:r>
              <a:rPr b="1" lang="uk-UA" sz="3600" spc="-1" strike="noStrike">
                <a:solidFill>
                  <a:srgbClr val="f2f2f2"/>
                </a:solidFill>
                <a:latin typeface="Arial"/>
              </a:rPr>
              <a:t>іє</a:t>
            </a:r>
            <a:r>
              <a:rPr b="1" lang="nl-BE" sz="3600" spc="-1" strike="noStrike">
                <a:solidFill>
                  <a:srgbClr val="f2f2f2"/>
                </a:solidFill>
                <a:latin typeface="Arial"/>
              </a:rPr>
              <a:t>ю прекрасною та</a:t>
            </a:r>
            <a:r>
              <a:rPr b="1" lang="uk-UA" sz="3600" spc="-1" strike="noStrike">
                <a:solidFill>
                  <a:srgbClr val="f2f2f2"/>
                </a:solidFill>
                <a:latin typeface="Arial"/>
              </a:rPr>
              <a:t>ємнице</a:t>
            </a:r>
            <a:r>
              <a:rPr b="1" lang="nl-BE" sz="3600" spc="-1" strike="noStrike">
                <a:solidFill>
                  <a:srgbClr val="f2f2f2"/>
                </a:solidFill>
                <a:latin typeface="Arial"/>
              </a:rPr>
              <a:t>ю живої природи.</a:t>
            </a:r>
            <a:r>
              <a:rPr b="1" lang="uk-UA" sz="3600" spc="-1" strike="noStrike">
                <a:solidFill>
                  <a:srgbClr val="f2f2f2"/>
                </a:solidFill>
                <a:latin typeface="Arial"/>
              </a:rPr>
              <a:t>     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eeb9a"/>
                </a:solidFill>
                <a:latin typeface="Arial"/>
              </a:rPr>
              <a:t>Загальні відомості</a:t>
            </a:r>
            <a:endParaRPr b="1" lang="en-US" sz="44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5120" y="1511280"/>
            <a:ext cx="4935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Narrow"/>
              </a:rPr>
              <a:t>На заході на кордоні з Польщею,на території Брестської області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aeaea"/>
                </a:solidFill>
                <a:latin typeface="Arial Narrow"/>
              </a:rPr>
              <a:t>Назва походить від збудованої тут у 13 ст. Білої вежі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64" name="Picture 2" descr="C:\Documents and Settings\Володимир\Рабочий стол\img67112634.jpg"/>
          <p:cNvPicPr/>
          <p:nvPr/>
        </p:nvPicPr>
        <p:blipFill>
          <a:blip r:embed="rId3"/>
          <a:stretch/>
        </p:blipFill>
        <p:spPr>
          <a:xfrm>
            <a:off x="182520" y="1636560"/>
            <a:ext cx="47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eeb9a"/>
                </a:solidFill>
                <a:latin typeface="Arial"/>
              </a:rPr>
              <a:t>Історія заснування</a:t>
            </a:r>
            <a:endParaRPr b="1" lang="en-US" sz="44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80720" y="1360080"/>
            <a:ext cx="989964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1940 р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ік -</a:t>
            </a: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 Біловезька Пуща проголошена державним заповідником.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4316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1941 рі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к - </a:t>
            </a: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 під час Великої Вітчизняної війни німецькі загарбники вторглися у Біловезьку Пущу.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4316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1941-1944 — звільнення заповідника 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радянськими військами</a:t>
            </a: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lvl="1" marL="43164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31640"/>
                <a:tab algn="l" pos="1346040"/>
                <a:tab algn="l" pos="2260440"/>
                <a:tab algn="l" pos="3174840"/>
                <a:tab algn="l" pos="4089240"/>
                <a:tab algn="l" pos="5003640"/>
                <a:tab algn="l" pos="5918040"/>
                <a:tab algn="l" pos="6832440"/>
                <a:tab algn="l" pos="7746840"/>
                <a:tab algn="l" pos="8661240"/>
                <a:tab algn="l" pos="9575640"/>
                <a:tab algn="l" pos="10490040"/>
              </a:tabLst>
            </a:pP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1944 рі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к - </a:t>
            </a: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 Біловезька Пуща була розділена на 2  частини: західна відійшла до Польщі, а східна до Білорус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ії</a:t>
            </a:r>
            <a:r>
              <a:rPr b="0" lang="nl-BE" sz="3600" spc="-1" strike="noStrike">
                <a:solidFill>
                  <a:srgbClr val="eaeaea"/>
                </a:solidFill>
                <a:latin typeface="Arial Narrow"/>
                <a:ea typeface="HG Mincho Light J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Володимир\Рабочий стол\Belovejskaya_Pusha2.jpg"/>
          <p:cNvPicPr/>
          <p:nvPr/>
        </p:nvPicPr>
        <p:blipFill>
          <a:blip r:embed="rId1"/>
          <a:stretch/>
        </p:blipFill>
        <p:spPr>
          <a:xfrm>
            <a:off x="0" y="1422360"/>
            <a:ext cx="5254560" cy="5648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eeb9a"/>
                </a:solidFill>
                <a:latin typeface="Arial"/>
              </a:rPr>
              <a:t>Природні умови</a:t>
            </a:r>
            <a:endParaRPr b="1" lang="en-US" sz="44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51600" y="1260360"/>
            <a:ext cx="49291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Територія заповідника знаходиться між двома малими річками: Нарев і Ясельда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Рівнинний рельєф. Переважають піщані відклади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Клімат району заповідника більш теплий і вологий, ніж  в інших областях Білорусії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eeb9a"/>
                </a:solidFill>
                <a:latin typeface="Arial"/>
              </a:rPr>
              <a:t>Рослинність</a:t>
            </a:r>
            <a:endParaRPr b="1" lang="en-US" sz="44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1600" y="1079640"/>
            <a:ext cx="4929120" cy="57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Narrow"/>
              </a:rPr>
              <a:t>96% Пущі вкрито лісом.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Narrow"/>
              </a:rPr>
              <a:t>Тут росте 21 вид дерев  і більш як 800 видів вищих рослин. Гігантські ясени, клени, 700-літні дуби, 300-літні сосни, висотою до 50 метрів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72" name="Object 2" descr=""/>
          <p:cNvPicPr/>
          <p:nvPr/>
        </p:nvPicPr>
        <p:blipFill>
          <a:blip r:embed="rId3"/>
          <a:stretch/>
        </p:blipFill>
        <p:spPr>
          <a:xfrm>
            <a:off x="-2525760" y="5268960"/>
            <a:ext cx="30960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Documents and Settings\Володимир\Рабочий стол\00001712.jpeg"/>
          <p:cNvPicPr/>
          <p:nvPr/>
        </p:nvPicPr>
        <p:blipFill>
          <a:blip r:embed="rId4"/>
          <a:stretch/>
        </p:blipFill>
        <p:spPr>
          <a:xfrm>
            <a:off x="0" y="1351080"/>
            <a:ext cx="504036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Володимир\Рабочий стол\0033-023-Natsionalnyj-park-Belovezhskaja-puscha.jpg"/>
          <p:cNvPicPr/>
          <p:nvPr/>
        </p:nvPicPr>
        <p:blipFill>
          <a:blip r:embed="rId1"/>
          <a:stretch/>
        </p:blipFill>
        <p:spPr>
          <a:xfrm>
            <a:off x="0" y="3279600"/>
            <a:ext cx="10080720" cy="428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5280" y="564840"/>
            <a:ext cx="8567640" cy="69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. Ялина і чорна вільха досягають гігантських розмірів. Ялина — 40 метрів, чорна вільха — 25 метрів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-341280">
              <a:lnSpc>
                <a:spcPct val="103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Narrow"/>
              </a:rPr>
              <a:t>Дуби займають 5% лісової території. Половина дубів  має вік приблизно 600 років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Володимир\Рабочий стол\459.jpg"/>
          <p:cNvPicPr/>
          <p:nvPr/>
        </p:nvPicPr>
        <p:blipFill>
          <a:blip r:embed="rId1"/>
          <a:stretch/>
        </p:blipFill>
        <p:spPr>
          <a:xfrm>
            <a:off x="254160" y="1351080"/>
            <a:ext cx="4248000" cy="5803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eeb9a"/>
                </a:solidFill>
                <a:latin typeface="Arial"/>
              </a:rPr>
              <a:t>Тваринний світ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611600" y="135108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 всьому лісі цікаве тваринне життя. Тут налічується приблизно 200 видів птахів. Найпоширеніші з них тетері, рябчики, глухар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0520" y="167760"/>
            <a:ext cx="89042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eeb9a"/>
              </a:solidFill>
              <a:latin typeface="Arial"/>
            </a:endParaRPr>
          </a:p>
        </p:txBody>
      </p:sp>
      <p:pic>
        <p:nvPicPr>
          <p:cNvPr id="80" name="Picture 5" descr="C:\Documents and Settings\Володимир\Рабочий стол\000410_21392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066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183200" y="636480"/>
            <a:ext cx="503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  Біловезькій пущі проживає близько 40 пар бобрів, 2 тисячі кабанів, оленів, тарпані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Documents and Settings\Володимир\Рабочий стол\633px-Биловежскай_пуща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7120" y="279000"/>
            <a:ext cx="9363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 Narrow"/>
              </a:rPr>
              <a:t>              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</a:rPr>
              <a:t>Зубр – найбільший континентальний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1280"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 Narrow"/>
              </a:rPr>
              <a:t>                             </a:t>
            </a:r>
            <a:r>
              <a:rPr b="0" lang="uk-UA" sz="3600" spc="-1" strike="noStrike">
                <a:solidFill>
                  <a:srgbClr val="eaeaea"/>
                </a:solidFill>
                <a:latin typeface="Arial Narrow"/>
              </a:rPr>
              <a:t>ссавець Європи    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12:25Z</dcterms:created>
  <dc:creator>Володимир</dc:creator>
  <dc:description/>
  <dc:language>en-US</dc:language>
  <cp:lastModifiedBy> </cp:lastModifiedBy>
  <dcterms:modified xsi:type="dcterms:W3CDTF">2012-01-23T10:52:32Z</dcterms:modified>
  <cp:revision>12</cp:revision>
  <dc:subject/>
  <dc:title>Біловезька Пущ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 1">
    <vt:lpwstr/>
  </property>
  <property fmtid="{D5CDD505-2E9C-101B-9397-08002B2CF9AE}" pid="3" name="Info 2">
    <vt:lpwstr/>
  </property>
  <property fmtid="{D5CDD505-2E9C-101B-9397-08002B2CF9AE}" pid="4" name="Info 3">
    <vt:lpwstr/>
  </property>
  <property fmtid="{D5CDD505-2E9C-101B-9397-08002B2CF9AE}" pid="5" name="Info 4">
    <vt:lpwstr/>
  </property>
  <property fmtid="{D5CDD505-2E9C-101B-9397-08002B2CF9AE}" pid="6" name="NXTAG2">
    <vt:lpwstr>000800c813000000000001024140</vt:lpwstr>
  </property>
</Properties>
</file>