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9DA-03B1-4ED4-8ED9-A1B2679A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54C-D599-497A-9598-DE042918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907-CF14-49CA-9691-7A875303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A643-1D0D-487F-9C42-FF99BD47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EEBF-2218-4F04-94F2-895E5B9B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4F8B-01B0-4FC1-9C45-E4F5FB68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0678-82FE-423E-B70D-717DF37B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80CC-F3C0-4BD6-8ACD-287F2327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2171-1672-44BB-A344-F35507B3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E3D3-28DC-4712-BD01-449B06A1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BE3F-B48E-487B-A09A-426D6584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8925-2364-4D16-BA99-70071C44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1D2E-AEEA-470E-82A2-485930BC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C22F-3DB5-4EA8-A045-5E211888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07DB-472D-4553-91C9-D7506C3F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20C8-1034-43CE-8AFB-3F3BD137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B6B5-B69E-47D2-A970-239A5914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39F-07F8-45E0-B6E8-A2E9DF68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23F6-E56E-4B46-BA04-7696DC5D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EA5-BA25-4DE2-B3F0-F8841214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D7D-DCD0-45CC-86DF-9B3F5FEA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50C2-8A9A-4CEE-BCDD-4E83B55A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9EE2-84C5-43A2-A1AE-FBDD3AAB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DF2-6D5D-482B-A84E-FA356E16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36AA-AFC9-4CCE-BB21-94FA738ABDD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90DC-09F3-4616-AA05-93E17D6709C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upload.wikimedia.org/wikipedia/commons/e/ef/Limestone_on_shale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Тем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Паливні корисні копалини України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348000" y="3789360"/>
            <a:ext cx="2519280" cy="2189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0" t="0" r="-13" b="0"/>
          <a:stretch/>
        </p:blipFill>
        <p:spPr>
          <a:xfrm>
            <a:off x="826920" y="3141720"/>
            <a:ext cx="2519640" cy="2206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Файл:Limestone on shal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365720"/>
            <a:ext cx="2521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кон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читель ЗОШ№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м. Т.Г.Шевчен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.Запоріжж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наєва Наталя Миколаїв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35280" y="549000"/>
            <a:ext cx="4608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І непорушний лад у всім, співзвучність повна у  природі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Ф. Тютче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63374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Мінерально-сировинна ба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а теперішнього часу 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адрах України виявлен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іля 20 тис. родовищ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корисних копалин, з яки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ільш 7500 родовищ п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90 видам мінеральної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сировини маю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ромислове значенн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ромисловістю освоєн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3350 родовищ, щ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містять від 40 до 75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озвіданих запасі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ізноманітних виді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корисних копалин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4032360" cy="2159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859280" y="4149720"/>
            <a:ext cx="4032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Класифікація корисних копали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08000" y="1484280"/>
          <a:ext cx="9001080" cy="4694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220840"/>
                <a:gridCol w="2665440"/>
              </a:tblGrid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рисні копалин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аливн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еталев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металев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Хімічна сиров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удівельна сиров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ам'яне вугіл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лізна ру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ам'яна сі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апня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уре вугіл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арганцева руда</a:t>
                      </a: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алійна сіль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л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ор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ідна ру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осфор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іс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ф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ліметалева ру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ір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иродний га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лов'яна ру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Проблемне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пит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Чи є на Україні передумови для утворення паливних ресурсів? Доведіть ц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ecff"/>
                </a:solidFill>
                <a:latin typeface="Arial"/>
              </a:rPr>
              <a:t>Умови формування кам</a:t>
            </a: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’</a:t>
            </a:r>
            <a:r>
              <a:rPr b="1" i="1" lang="uk-UA" sz="4000" spc="-1" strike="noStrike">
                <a:solidFill>
                  <a:srgbClr val="ccecff"/>
                </a:solidFill>
                <a:latin typeface="Arial"/>
              </a:rPr>
              <a:t>яного вугілл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У кам'яновугільн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еріод палеозойської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ери моря неодноразо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аливали сучасн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територію Донбасу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начну частин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равобережжя 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лівобережжя Дніпр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Клімат тропічн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Температура на нижч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а +18. Повітря вологе 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адушлив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2865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Характеристика плаунових рослин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2196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лаунові рослини тоді бул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справжніми деревами у висоту д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30м і в обхваті 2м. На них не бул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ілок, тільки густа крона з тонког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 довгого хвойного листя (ц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лепідодендрони, які розмножувалис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спорами). Ще росли деревоподібні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хвощі, деревоподібні папороті, які щ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устрічаються у тропічному поясі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73480" y="1484280"/>
            <a:ext cx="4070520" cy="2185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971960" y="4076640"/>
            <a:ext cx="41720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Тектонічна карта Украї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-11" b="72"/>
          <a:stretch/>
        </p:blipFill>
        <p:spPr>
          <a:xfrm>
            <a:off x="0" y="1197000"/>
            <a:ext cx="9217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Карта корисних копали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16:10Z</dcterms:created>
  <dc:creator>Pavel</dc:creator>
  <dc:description/>
  <dc:language>en-US</dc:language>
  <cp:lastModifiedBy>Закуцкая и Маскаева</cp:lastModifiedBy>
  <dcterms:modified xsi:type="dcterms:W3CDTF">2011-10-07T04:59:47Z</dcterms:modified>
  <cp:revision>2</cp:revision>
  <dc:subject/>
  <dc:title>Тем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a000000000001024140</vt:lpwstr>
  </property>
</Properties>
</file>