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C3D-E6B8-4045-B823-C34C21C4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D71E-3AC6-4760-8264-21EFC197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5CAF-2306-4C1D-B6D8-9B5A91EB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93D-1E2F-4B9E-BCB2-083A432C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9ED6-CF39-40C1-9B1B-6D85F445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2555-2067-4B10-AD75-ACCE7826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0826-178E-435C-BAE4-7C6AC225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4D5A-13F3-4E8D-A2A3-D6FEC58A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8479-0BE8-40E5-880A-71F17740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0692-ED97-45D9-8A73-C65EF557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4DE3-74C9-4646-AF7F-2EF0C034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7F7-CA1F-448A-B15B-8F409B8D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3E7E-0369-4F03-8A64-4860F2E5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F6C2-D674-470A-A718-E71621D4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F93B-E569-42C7-8DC5-9B76E199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68E3-164F-403A-8072-E085260E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D86D-BB9D-4114-A2AE-D9C59F98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C0A-CED9-4B9F-8D9E-19E7FF19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825B-7EC3-4EC2-91B6-3D23D529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9844-80C3-4890-8E55-736EB958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5BB-307C-4D3D-AB31-011BE08D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289-8DBE-4D87-99AC-3E0AA2DA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826-CF46-4F52-B3E4-D8EEFB48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43D1-A3EC-41BD-A150-08916F8B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D2D5-77D9-4A32-9C78-F4DCAEC5EA6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6F41-4031-4675-8637-118C6BB7FC9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upload.wikimedia.org/wikipedia/commons/e/ef/Limestone_on_shale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.ua/imgres?imgurl=http://www.pismo-vlasti.net/i/AZS.650.650.gif&amp;imgrefurl=http://www.gorodkiev.com.ua/index.php%3Fnewsid%3D932&amp;usg=__6v-hmox_MqPZRe7l4ruu7Cxyo50=&amp;h=650&amp;w=650&amp;sz=119&amp;hl=ru&amp;start=16&amp;tbnid=ZVZEj4xlJPuIRM:&amp;tbnh=137&amp;tbnw=137&amp;prev=/images%3Fq%3D%25D0%25B1%25D0%25B5%25D0%25BD%25D0%25B7%25D0%25B8%25D0%25BD%26gbv%3D2%26hl%3Dru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.ua/imgres?imgurl=http://www.ashur.kz/UserFiles/Image/Kerosin_osvet_big.jpg&amp;imgrefurl=http://www.ashur.kz/ru/view_goods.php%3Fid_goods%3D60&amp;usg=__oCwScYzJvG0LLbMTpVhQRUpyc2s=&amp;h=800&amp;w=304&amp;sz=38&amp;hl=ru&amp;start=6&amp;tbnid=gNDxwudSTRraWM:&amp;tbnh=143&amp;tbnw=54&amp;prev=/images%3Fq%3D%25D0%25BA%25D0%25B5%25D1%2580%25D0%25BE%25D1%2581%25D0%25B8%25D0%25BD%26gbv%3D2%26hl%3Dru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uk/5/54/Donbass_peyzazh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Тем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Паливні корисні копалини України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348000" y="3789360"/>
            <a:ext cx="2519280" cy="2189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0" t="0" r="-13" b="0"/>
          <a:stretch/>
        </p:blipFill>
        <p:spPr>
          <a:xfrm>
            <a:off x="826920" y="3141720"/>
            <a:ext cx="2519640" cy="2206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Файл:Limestone on shal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365720"/>
            <a:ext cx="2521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Донецько-Дніпровська обла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219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онецько-Дніпровська обла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находиться на Лівобережжі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овжина 650-700км, ширина 80-150к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Чернігівська область - Прилуцьке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Ляляківське. Сумська область 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ибальське, Качанівське. Полтавськ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область - Сагайдачне, Зачепилівськ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 30-х років освоюється родовищ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азу. Глибина залягання 5000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одовища – Шебелинське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Хрестишинське, Качанівське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иканськ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8" b="72"/>
          <a:stretch/>
        </p:blipFill>
        <p:spPr>
          <a:xfrm>
            <a:off x="5148360" y="1700280"/>
            <a:ext cx="39956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1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4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0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6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2" dur="2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5" dur="20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8" dur="20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1" dur="20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4" dur="20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Причорноморско-Кримська обла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ричорноморсько 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Кримська облас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осереджується 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Криму, Миколаївській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Одеській, Херсонські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областях. Освоєно 2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родовищ газу і наф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Глибина заляганн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9000м - це мезозойськ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ідклади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4340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Використання наф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Нафту не можна використовувати у том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игляді, яку отримали внаслідок видобутку. 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неї отримують: рідке паливо, керосин, бензин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азелін, медичні препарати, мило, свічки.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50864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3500280"/>
            <a:ext cx="843120" cy="2232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4140360" y="4221000"/>
            <a:ext cx="2361960" cy="2202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6877080" y="3645000"/>
            <a:ext cx="14446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500"/>
                            </p:stCondLst>
                            <p:childTnLst>
                              <p:par>
                                <p:cTn id="4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2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Торф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Торф – тверде горюч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аливо, використовуєтьс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 електростанціях, я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обриво, газ дл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автомобілів, підстилка дл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худоби, торфоперегнійні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оршки, лікувальні ванн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Торф малокалорійне паливо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роте його добування 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орівнянні з іншими видам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начно дешевше.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4114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4000"/>
                            </p:stCondLst>
                            <p:childTnLst>
                              <p:par>
                                <p:cTn id="5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Використання торф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Торф – тверде горюче паливо, використовується на електростанціях, як добриво, газ для автомобілів, підстилка для худоби, торфоперегнійні горшки, лікувальні ванн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998720" cy="2663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763640" y="4292640"/>
            <a:ext cx="26053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Горючі сланц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За хімічним складом, теплопровідністю подібні до прибалтійських. Прогнозовані запаси 3,7млрд.т., зосереджені в Карпата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017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ecff"/>
                </a:solidFill>
                <a:latin typeface="Arial"/>
              </a:rPr>
              <a:t>Горючі корисні копалини в Запорізькій області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76424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Є у межах області запас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орючих корисних копалин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урого вугілля, природного газу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але поки великого значенн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в економіці вони не маю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приклад: Гуляйполе, Оріхів -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уре вугілля для побутови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отреб; Приазов'я – природн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аз.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643280" y="1916280"/>
            <a:ext cx="4187880" cy="4322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877080" y="3284640"/>
            <a:ext cx="216000" cy="209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451640" y="3213000"/>
            <a:ext cx="216000" cy="209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164360" y="3284640"/>
            <a:ext cx="216000" cy="209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7164360" y="4869000"/>
            <a:ext cx="276120" cy="276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6516720" y="501336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6000"/>
                            </p:stCondLst>
                            <p:childTnLst>
                              <p:par>
                                <p:cTn id="64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8000"/>
                            </p:stCondLst>
                            <p:childTnLst>
                              <p:par>
                                <p:cTn id="65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2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2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Екологічні пробле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дмірний розвиток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гірничодобувної промисловості став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ричиною порушенням природної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івноваги в природі. Порушив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роцес самоочищення, щ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ризвело до важких наслідків ( масов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захворювання дітей на гіпоплазію –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захворювання зубів, збільшення серцев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судинних захворювань, захворюванн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ерхніх дихальних шляхів). У воді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иявлені надлишки флору, плюмбуму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купруму, феруму, алюмінію, стронцію і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віть берилію, який є одним з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йшкідливіших токсичних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елементів. І таких прикладів можн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вести безліч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4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2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2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2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2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2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2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2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2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2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2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2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2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2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2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20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20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20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20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20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2000" fill="hold"/>
                                        <p:tgtEl>
                                          <p:spTgt spid="2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2000" fill="hold"/>
                                        <p:tgtEl>
                                          <p:spTgt spid="2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2000" fill="hold"/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Конституція Украї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95280" y="2491920"/>
            <a:ext cx="5364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Стаття 66 Конституці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України говорить: «Коже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зобов'язаний н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заподіювати шкод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природі, культурні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спадщині, відшкодовува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завдані ним збитки»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392436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000"/>
                            </p:stCondLst>
                            <p:childTnLst>
                              <p:par>
                                <p:cTn id="7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2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2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2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2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Висловлення дум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4957920"/>
            <a:ext cx="49068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І непорушний лад у всім, співзвучність повна у  природі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Ф. Тютче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795400" cy="2059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443640" y="4581360"/>
            <a:ext cx="2700360" cy="2027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348000" y="2565360"/>
            <a:ext cx="300672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4000"/>
                            </p:stCondLst>
                            <p:childTnLst>
                              <p:par>
                                <p:cTn id="8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6000"/>
                            </p:stCondLst>
                            <p:childTnLst>
                              <p:par>
                                <p:cTn id="8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8000"/>
                            </p:stCondLst>
                            <p:childTnLst>
                              <p:par>
                                <p:cTn id="8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Паливні корисні копали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иконавц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чні 8-А класу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гальноосвітньої школи І-ІІІ ст. №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м. Т.Г.Шевчен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.Запоріжж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9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Донецький кам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’</a:t>
            </a: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яно-вугільний басей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500364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онецький басейн –найстаріш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 Україні. Його запаси становля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50 млрд.т вугілля, вон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високоякісне, коксівне, антраци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либина залягання в середньом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становить 500-700 м, максимальн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1200 м. У басейні діє до 200 шахт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отужність пластів 0,5-2 м, 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либині 800-1200 м потужні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ільша, але шахти газонебезпечні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йглибша шахта – 1800 м.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4176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Проблеми донецького басейн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- потужні і доступні вугільні пласти вже вироблено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- залягання вугілля на великій глибині до 1200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- мала потужність пластів 0,5-2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-великий кут похилу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- велика газоносні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Файл:Donbass peyzaz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2060640"/>
            <a:ext cx="4284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ecff"/>
                </a:solidFill>
                <a:latin typeface="Arial"/>
              </a:rPr>
              <a:t>Відкриття Львівсько-Волинського басейн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У 1912р. першим, хт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исловив свою думку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що є кам'яне  вугіл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чений Тетяєв. У 194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1941р. геологами бу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ідтверджені виснов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ерших дослідників, ал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ійна завадила. В 1954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на Львівщині розпочалос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будівництво шахт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4248000" cy="28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Львівсько-Волинський басей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Львівсько-Волинсь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басейн має запаси до 1 млр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тон вугілля, глиби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алягання 300-700м, товщи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ластів 0,5-1,2м. У районі діє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10 Червоноградських і 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олинські шахти. Вугіл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икористовується я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енергетичне паливо 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для побутових потреб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435600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2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2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2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2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Дніпровський буро-вугільний басей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427280" y="2060640"/>
            <a:ext cx="471636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апаси складають 2,4 млрд. 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 них 0,5 млрд. т придатні дл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відкритої розроб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озміщуються родовища вздовж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ніпра. Максимальна потужні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ластів у середньому – 1-6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либина залягання -150-170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Вугілля малокалорійне і його н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можна перевозити на великі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відстані. Використовуєтьс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як місцеве палив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43560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9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20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20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Значення вугіл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Значення вугілл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залишається надзвичайн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великим незважаючи 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видобуток нафти та газу. Йог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використовують я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енергетичне паливо 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теплових станціях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використовують 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металургійній промисловості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Із кам'яновугільної смоли, я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утворюється під час виплавк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шляхом хімічної переробки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отримують фарби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синтетичні тканини, ліки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парфуми, вибухові речовини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нафталін.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2286000" cy="1490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659640" y="2637000"/>
            <a:ext cx="2305080" cy="1439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356000" y="4076640"/>
            <a:ext cx="2305080" cy="1511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659640" y="5345280"/>
            <a:ext cx="23112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2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2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2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2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2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2000"/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20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Карпатська нафтогазоносна провінці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У 1775р. розпочалос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идобування нафти, а у 1913р. газу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Більшість нафтових і газових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одовищ знаходиться 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рикарпатті. На території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Закарпатської, Чернівецької, Івано-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Франківської, Львівської областей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фта залягає на глибині 150-3000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одовища нафти: Битківсьбке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двірнянське, Волинськ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одовища газу: Угорське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Богородчанське, Солотвинськ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одовища нафти та газу на 70 і 90%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ідповідно вичерпані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ерспективними залишаютьс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айони Львівської області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42577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7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0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3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6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9" dur="2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2" dur="2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5" dur="2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8" dur="20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1" dur="2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4" dur="20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7" dur="2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0" dur="2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3" dur="20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6" dur="2000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17:43Z</dcterms:created>
  <dc:creator>Pavel</dc:creator>
  <dc:description/>
  <dc:language>en-US</dc:language>
  <cp:lastModifiedBy>Закуцкая и Маскаева</cp:lastModifiedBy>
  <dcterms:modified xsi:type="dcterms:W3CDTF">2011-10-07T04:57:04Z</dcterms:modified>
  <cp:revision>2</cp:revision>
  <dc:subject/>
  <dc:title>Тем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d000000000001024140</vt:lpwstr>
  </property>
</Properties>
</file>