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B71-39F2-4D4D-BAB1-64678630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656-7F7B-44F6-A22D-76B036D3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E68-D3E3-450D-A7E9-C5AE8AA1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794-A32A-4809-80D4-9D9EF0CC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9076-4036-4192-88C5-5FA36B36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7781-77D4-4CCD-A1CC-8F809883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74A8-E05E-49EF-A2E1-06ECBB24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CA49-7C72-47C1-873C-12C13568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B4A0-3434-4F34-83CF-36127002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41FB-16B6-4DDF-810C-9EFF9A40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B90E-4FCB-4F25-AD5D-44B75A83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789-BF73-4258-97E2-D9DEB450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250E-905A-4C98-9965-35084A78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5094-036C-4A21-B925-D4FC91B9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15B4-688F-4E63-A1F0-90C1822A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CA16-2A4D-4050-B79E-D716DEE9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2161-DB8C-4D83-9ABA-91C05F95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376-C2E9-4E85-875B-6417FD1D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030-0E15-4607-9B24-4581C4CE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685-FFDE-499D-ADB7-687136CB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85EF-60EB-4B8F-9D16-2F80A189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B82-9290-4968-AEC3-0DD1047B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4C4-BA47-41F2-A5F9-86F283B9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0B2-6F99-4E0D-AFE2-C9649896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8031-7378-4B61-8359-00DF3207EB3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0F86-017F-4F85-9E96-4F9061A8A0D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upload.wikimedia.org/wikipedia/commons/e/ef/Limestone_on_shale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.ua/imgres?imgurl=http://www.pismo-vlasti.net/i/AZS.650.650.gif&amp;imgrefurl=http://www.gorodkiev.com.ua/index.php%3Fnewsid%3D932&amp;usg=__6v-hmox_MqPZRe7l4ruu7Cxyo50=&amp;h=650&amp;w=650&amp;sz=119&amp;hl=ru&amp;start=16&amp;tbnid=ZVZEj4xlJPuIRM:&amp;tbnh=137&amp;tbnw=137&amp;prev=/images%3Fq%3D%25D0%25B1%25D0%25B5%25D0%25BD%25D0%25B7%25D0%25B8%25D0%25BD%26gbv%3D2%26hl%3Dru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.ua/imgres?imgurl=http://www.ashur.kz/UserFiles/Image/Kerosin_osvet_big.jpg&amp;imgrefurl=http://www.ashur.kz/ru/view_goods.php%3Fid_goods%3D60&amp;usg=__oCwScYzJvG0LLbMTpVhQRUpyc2s=&amp;h=800&amp;w=304&amp;sz=38&amp;hl=ru&amp;start=6&amp;tbnid=gNDxwudSTRraWM:&amp;tbnh=143&amp;tbnw=54&amp;prev=/images%3Fq%3D%25D0%25BA%25D0%25B5%25D1%2580%25D0%25BE%25D1%2581%25D0%25B8%25D0%25BD%26gbv%3D2%26hl%3Dru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uk/5/54/Donbass_peyzazh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Те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Паливні корисні копалини України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348000" y="3789360"/>
            <a:ext cx="2519280" cy="2189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0" t="0" r="-13" b="0"/>
          <a:stretch/>
        </p:blipFill>
        <p:spPr>
          <a:xfrm>
            <a:off x="826920" y="3141720"/>
            <a:ext cx="2519640" cy="2206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Файл:Limestone on shal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365720"/>
            <a:ext cx="2521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Донецько-Дніпровська обла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219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нецько-Дніпровська обла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находиться на Лівобережжі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вжина 650-700км, ширина 80-150к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Чернігівська область - Прилуцьке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Ляляківське. Сумська область 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ибальське, Качанівське. Полтавськ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область - Сагайдачне, Зачепилівськ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 30-х років освоюється родовищ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азу. Глибина залягання 5000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одовища – Шебелинське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Хрестишинське, Качанівське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иканськ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8" b="72"/>
          <a:stretch/>
        </p:blipFill>
        <p:spPr>
          <a:xfrm>
            <a:off x="5148360" y="1700280"/>
            <a:ext cx="39956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1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4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0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6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9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2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5" dur="20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8" dur="20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1" dur="20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4" dur="20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Причорноморско-Кримська облас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ричорноморсько 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Кримська област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осереджується 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Криму, Миколаївській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Одеській, Херсонські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областях. Освоєно 2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родовищ газу і наф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Глибина заляганн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9000м - це мезозойськ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ідклади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4340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Використання наф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Нафту не можна використовувати у тому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игляді, яку отримали внаслідок видобутку. 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неї отримують: рідке паливо, керосин, бензин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азелін, медичні препарати, мило, свічки.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50864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3500280"/>
            <a:ext cx="843120" cy="2232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4140360" y="4221000"/>
            <a:ext cx="2361960" cy="2202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6877080" y="3645000"/>
            <a:ext cx="1444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000"/>
                            </p:stCondLst>
                            <p:childTnLst>
                              <p:par>
                                <p:cTn id="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500"/>
                            </p:stCondLst>
                            <p:childTnLst>
                              <p:par>
                                <p:cTn id="4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2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Торф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Торф – тверде горюч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аливо, використовуєтьс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 електростанціях, я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бриво, газ д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автомобілів, підстилка д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худоби, торфоперегнійн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оршки, лікувальні ванн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Торф малокалорійне паливо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роте його добування 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орівнянні з іншими видам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начно дешевше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0" y="1700280"/>
            <a:ext cx="4114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5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Використання торф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Торф – тверде горюче паливо, використовується на електростанціях, як добриво, газ для автомобілів, підстилка для худоби, торфоперегнійні горшки, лікувальні ванн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98720" cy="266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763640" y="4292640"/>
            <a:ext cx="26053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Горючі сланц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а хімічним складом, теплопровідністю подібні до прибалтійських. Прогнозовані запаси 3,7млрд.т., зосереджені в Карпатах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4017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Горючі корисні копалини в Запорізькій області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476424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Є у межах області запас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орючих корисних копалин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урого вугілля, природного газу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але поки великого значенн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 економіці вони не мают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приклад: Гуляйполе, Оріхів -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уре вугілля для побутови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отреб; Приазов'я – природн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аз.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187880" cy="4322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877080" y="3284640"/>
            <a:ext cx="216000" cy="209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451640" y="3213000"/>
            <a:ext cx="216000" cy="209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164360" y="3284640"/>
            <a:ext cx="216000" cy="209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7164360" y="4869000"/>
            <a:ext cx="276120" cy="276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6516720" y="5013360"/>
            <a:ext cx="28728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000"/>
                            </p:stCondLst>
                            <p:childTnLst>
                              <p:par>
                                <p:cTn id="64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Екологічні проблем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дмірний розвиток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гірничодобувної промисловості став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ичиною порушенням природної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івноваги в природі. Порушивши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оцес самоочищення, щ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извело до важких наслідків ( масове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захворювання дітей на гіпоплазію –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захворювання зубів, збільшення серцево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судинних захворювань, захворюванн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ерхніх дихальних шляхів). У воді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иявлені надлишки флору, плюмбуму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купруму, феруму, алюмінію, стронцію і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віть берилію, який є одним з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йшкідливіших токсичних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елементів. І таких прикладів можн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вести безліч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0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4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2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2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2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2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2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20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2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2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2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20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2000" fill="hold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2000" fill="hold"/>
                                        <p:tgtEl>
                                          <p:spTgt spid="2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20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 fill="hold"/>
                                        <p:tgtEl>
                                          <p:spTgt spid="2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2000" fill="hold"/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2000" fill="hold"/>
                                        <p:tgtEl>
                                          <p:spTgt spid="2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 fill="hold"/>
                                        <p:tgtEl>
                                          <p:spTgt spid="2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Конституція Украї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95280" y="2491920"/>
            <a:ext cx="5364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Стаття 66 Конституці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України говорить: «Коже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обов'язаний 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аподіювати шко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природі, культурні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спадщині, відшкодовува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завдані ним збитки»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392436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000"/>
                            </p:stCondLst>
                            <p:childTnLst>
                              <p:par>
                                <p:cTn id="7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9" dur="2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2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2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2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Висловлення дум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4957920"/>
            <a:ext cx="49068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І непорушний лад у всім, співзвучність повна у  природі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uk-UA" sz="2800" spc="-1" strike="noStrike">
                <a:solidFill>
                  <a:srgbClr val="ffffff"/>
                </a:solidFill>
                <a:latin typeface="Arial"/>
              </a:rPr>
              <a:t>Ф. Тютче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795400" cy="2059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700360" cy="2027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348000" y="2565360"/>
            <a:ext cx="30067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000"/>
                            </p:stCondLst>
                            <p:childTnLst>
                              <p:par>
                                <p:cTn id="8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000"/>
                            </p:stCondLst>
                            <p:childTnLst>
                              <p:par>
                                <p:cTn id="8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6000"/>
                            </p:stCondLst>
                            <p:childTnLst>
                              <p:par>
                                <p:cTn id="8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3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8000"/>
                            </p:stCondLst>
                            <p:childTnLst>
                              <p:par>
                                <p:cTn id="8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Паливні корисні копали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иконавц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учні 8-А класу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гальноосвітньої школи І-ІІІ ст. №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ім. Т.Г.Шевчен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.Запоріжж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2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9" dur="2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2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Донецький кам</a:t>
            </a:r>
            <a:r>
              <a:rPr b="0" i="1" lang="en-US" sz="4000" spc="-1" strike="noStrike">
                <a:solidFill>
                  <a:srgbClr val="ccecff"/>
                </a:solidFill>
                <a:latin typeface="Arial"/>
              </a:rPr>
              <a:t>’</a:t>
            </a: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яно-вугільний басей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500364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онецький басейн –найстаріш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 Україні. Його запаси становля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50 млрд.т вугілля, воно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исокоякісне, коксівне, антраци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либина залягання в середньом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тановить 500-700 м, максимальн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1200 м. У басейні діє до 200 шахт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отужність пластів 0,5-2 м, 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либині 800-1200 м потужні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ільша, але шахти газонебезпечні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Найглибша шахта – 1800 м.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788000" y="2421000"/>
            <a:ext cx="4176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Проблеми донецького басейн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 потужні і доступні вугільні пласти вже вироблено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 залягання вугілля на великій глибині до 1200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 мала потужність пластів 0,5-2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великий кут похилу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- велика газоносні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Файл:Donbass peyzazh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2060640"/>
            <a:ext cx="4284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Відкриття Львівсько-Волинського басейн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У 1912р. першим, хт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исловив свою думку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що є кам'яне  вугіл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чений Тетяєв. У 194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1941р. геологами бу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ідтверджені висно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ерших дослідників, ал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ійна завадила. В 1954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на Львівщині розпочалос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будівництво шахт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4248000" cy="28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Львівсько-Волинський басей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Львівсько-Волинсь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басейн має запаси до 1 млрд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тон вугілля, глиби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залягання 300-700м, товщи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пластів 0,5-1,2м. У районі діє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10 Червоноградських і 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олинські шахти. Вугілл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використовується я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енергетичне паливо 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Arial"/>
              </a:rPr>
              <a:t>для побутових потреб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788000" y="2349360"/>
            <a:ext cx="435600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2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2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Дніпровський буро-вугільний басейн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27280" y="2060640"/>
            <a:ext cx="471636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апаси складають 2,4 млрд. 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з них 0,5 млрд. т придатні дл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ідкритої розробк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Розміщуються родовища вздовж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Дніпра. Максимальна потужніст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пластів у середньому – 1-6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Глибина залягання -150-170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угілля малокалорійне і його н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можна перевозити на великі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відстані. Використовуєтьс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як місцеве паливо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4356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20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Значення вугілл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Значення вугілл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залишається надзвичайн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великим незважаючи 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видобуток нафти та газу. Йог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використовують я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енергетичне паливо 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теплових станціях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використовують 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металургійній промисловості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Із кам'яновугільної смоли, як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утворюється під час виплавк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шляхом хімічної переробк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отримують фарб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синтетичні тканини, лік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парфуми, вибухові речовини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Arial"/>
              </a:rPr>
              <a:t>нафталін.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2286000" cy="1490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59640" y="2637000"/>
            <a:ext cx="2305080" cy="143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356000" y="4076640"/>
            <a:ext cx="2305080" cy="151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659640" y="5345280"/>
            <a:ext cx="23112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2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2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2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2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2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2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2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2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17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2000"/>
                                        <p:tgtEl>
                                          <p:spTgt spid="1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2000"/>
                                        <p:tgtEl>
                                          <p:spTgt spid="1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ccecff"/>
                </a:solidFill>
                <a:latin typeface="Arial"/>
              </a:rPr>
              <a:t>Карпатська нафтогазоносна провінці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У 1775р. розпочалос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идобування нафти, а у 1913р. газу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ільшість нафтових і газових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одовищ знаходиться у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рикарпатті. На території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Закарпатської, Чернівецької, Івано-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Франківської, Львівської областей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фта залягає на глибині 150-3000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одовища нафти: Битківсьбке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Надвірнянське, Волинськ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одовища газу: Угорське,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Богородчанське, Солотвинськ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одовища нафти та газу на 70 і 90%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відповідно вичерпані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Перспективними залишаються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ffffff"/>
                </a:solidFill>
                <a:latin typeface="Arial"/>
              </a:rPr>
              <a:t>райони Львівської області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42577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7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0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3" dur="2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6" dur="2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2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5" dur="2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8" dur="2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1" dur="2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4" dur="20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7" dur="2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0" dur="2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3" dur="2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6" dur="2000"/>
                                        <p:tgtEl>
                                          <p:spTgt spid="1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17:43Z</dcterms:created>
  <dc:creator>Pavel</dc:creator>
  <dc:description/>
  <dc:language>en-US</dc:language>
  <cp:lastModifiedBy>Закуцкая и Маскаева</cp:lastModifiedBy>
  <dcterms:modified xsi:type="dcterms:W3CDTF">2011-10-07T04:57:04Z</dcterms:modified>
  <cp:revision>2</cp:revision>
  <dc:subject/>
  <dc:title>Тем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d000000000001024140</vt:lpwstr>
  </property>
</Properties>
</file>