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4C8-4594-4EBB-B6F3-E708BFFC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992-B81A-4AA1-A63B-75A8BC6D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78A-767C-4544-869C-9A766707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B90-1725-453B-9A85-774FD872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BB22-B543-4C05-AFCD-76ED14A0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DCE6-840F-4E48-8C4E-589A0F8F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ADC4-1E54-4B4C-82AC-465DD013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5CC8-A33B-45AD-91F5-59902DD5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61DB-4412-4E91-8C93-AB63AB7A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FBD8-CD00-431A-B96D-1362C3F2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46C6-0706-408A-991C-E96913CE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733-AF01-4163-84D6-9ABFFE44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0E5B-60EE-408C-9648-DD694B4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FEF9-6F72-4400-933C-B2FDF753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42C1-7339-4688-A4DA-367D3BEA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37C9-DEA3-4A78-8942-C2B2CEAA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3C3E-EFD0-4A66-A4BC-7FCB7B04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11F-83D0-44B4-A11C-9DE05095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DA1-D39E-4042-AEDC-7D4F9B0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32C-3224-47AC-9698-23520D4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277-6964-46D8-9DE9-6FCEA786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48F-1DC6-4B15-9DA8-8D89BD47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AE3-0736-4B4D-AA97-FF59F6C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9E8-53E0-48B3-97F9-ABDA5E85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FC81-52E4-419A-8E2B-31B9040965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875D-BD20-4333-A275-B32421A8AD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commons/e/ef/Limestone_on_sha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pismo-vlasti.net/i/AZS.650.650.gif&amp;imgrefurl=http://www.gorodkiev.com.ua/index.php%3Fnewsid%3D932&amp;usg=__6v-hmox_MqPZRe7l4ruu7Cxyo50=&amp;h=650&amp;w=650&amp;sz=119&amp;hl=ru&amp;start=16&amp;tbnid=ZVZEj4xlJPuIRM:&amp;tbnh=137&amp;tbnw=137&amp;prev=/images%3Fq%3D%25D0%25B1%25D0%25B5%25D0%25BD%25D0%25B7%25D0%25B8%25D0%25BD%26gbv%3D2%26hl%3Dru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.ua/imgres?imgurl=http://www.ashur.kz/UserFiles/Image/Kerosin_osvet_big.jpg&amp;imgrefurl=http://www.ashur.kz/ru/view_goods.php%3Fid_goods%3D60&amp;usg=__oCwScYzJvG0LLbMTpVhQRUpyc2s=&amp;h=800&amp;w=304&amp;sz=38&amp;hl=ru&amp;start=6&amp;tbnid=gNDxwudSTRraWM:&amp;tbnh=143&amp;tbnw=54&amp;prev=/images%3Fq%3D%25D0%25BA%25D0%25B5%25D1%2580%25D0%25BE%25D1%2581%25D0%25B8%25D0%25BD%26gbv%3D2%26hl%3Dru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uk/5/54/Donbass_peyzazh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аливні корисні копалини України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192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-13" b="0"/>
          <a:stretch/>
        </p:blipFill>
        <p:spPr>
          <a:xfrm>
            <a:off x="826920" y="3141720"/>
            <a:ext cx="2519640" cy="2206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Файл:Limestone on s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65720"/>
            <a:ext cx="252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онецько-Дніпровська обла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1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нецько-Дніпровська обла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находиться на Лівобережжі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вжина 650-700км, ширина 80-150к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Чернігівська область - Прилуц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Ляляківське. Сумська область 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ибальське, Качанівське. Полтавсь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область - Сагайдачне, Зачепилівсь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 30-х років освоюється родовищ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азу. Глибина залягання 5000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довища – Шебелинс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рестишинське, Качанівс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икансь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8" b="72"/>
          <a:stretch/>
        </p:blipFill>
        <p:spPr>
          <a:xfrm>
            <a:off x="5148360" y="1700280"/>
            <a:ext cx="39956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6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5" dur="2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8" dur="2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Причорноморско-Кримська обла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ричорноморсько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римська обла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осереджується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риму, Миколаївській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Одеській, Херсонські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областях. Освоєно 2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родовищ газу і наф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Глибина заляганн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9000м - це мезозойськ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дклади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4340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користання наф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фту не можна використовувати у том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гляді, яку отримали внаслідок видобутку. 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еї отримують: рідке паливо, керосин, бензин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азелін, медичні препарати, мило, свічки.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50864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3500280"/>
            <a:ext cx="843120" cy="2232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140360" y="4221000"/>
            <a:ext cx="2361960" cy="220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877080" y="3645000"/>
            <a:ext cx="1444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Тор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орф – тверде горюч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аливо, використовуєть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 електростанціях, я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бриво, газ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втомобілів, підстилка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удоби, торфоперегній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оршки, лікувальні ван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орф малокалорійне паливо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те його добування 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рівнянні з іншими вида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начно дешевше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користання торф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орф – тверде горюче паливо, використовується на електростанціях, як добриво, газ для автомобілів, підстилка для худоби, торфоперегнійні горшки, лікувальні ван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9872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26053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Горючі слан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 хімічним складом, теплопровідністю подібні до прибалтійських. Прогнозовані запаси 3,7млрд.т., зосереджені в Карпат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017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Горючі корисні копалини в Запорізькій області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642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Є у межах області запас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орючих корисних копалин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урого вугілля, природного газу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ле поки великого значенн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 економіці вони не маю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приклад: Гуляйполе, Оріхів -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уре вугілля для побутов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треб; Приазов'я – природ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аз.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187880" cy="4322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451640" y="321300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164360" y="328464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164360" y="486900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6516720" y="5013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Екологічні пробле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дмірний розвиток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гірничодобувної промисловості ста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чиною порушенням природної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івноваги в природі. Порушив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оцес самоочищення, щ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звело до важких наслідків ( масов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хворювання дітей на гіпоплазію –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хворювання зубів, збільшення серцев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судинних захворювань, захворюванн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ерхніх дихальних шляхів). У воді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иявлені надлишки флору, плюмбуму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купруму, феруму, алюмінію, стронцію і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іть берилію, який є одним з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йшкідливіших токсичн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елементів. І таких прикладів мож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ести безліч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2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2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2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Конституція Украї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95280" y="2491920"/>
            <a:ext cx="5364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Стаття 66 Конститу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України говорить: «Коже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обов'язаний 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подіювати шко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природі, культурні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спадщині, відшкодовува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вдані ним збитки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39243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2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словлення дум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4957920"/>
            <a:ext cx="4906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І непорушний лад у всім, співзвучність повна у  природ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Ф. Тютч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795400" cy="2059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700360" cy="2027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348000" y="2565360"/>
            <a:ext cx="30067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8000"/>
                            </p:stCondLst>
                            <p:childTnLst>
                              <p:par>
                                <p:cTn id="8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аливні корисні копали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конав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чні 8-А клас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гальноосвітньої школи І-ІІІ ст. 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м. Т.Г.Шевчен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.Запоріжж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онецький кам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яно-вугільний басей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0036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нецький басейн –найстаріш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 Україні. Його запаси становля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50 млрд.т вугілля, во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исокоякісне, коксівне, антраци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а залягання в середньом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тановить 500-700 м, максималь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1200 м. У басейні діє до 200 шахт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тужність пластів 0,5-2 м, 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і 800-1200 м потужні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ьша, але шахти газонебезпечн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йглибша шахта – 1800 м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41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Проблеми донецького басей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потужні і доступні вугільні пласти вже вироблен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залягання вугілля на великій глибині до 1200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мала потужність пластів 0,5-2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великий кут похилу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велика газоносні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Файл:Donbass peyzaz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2060640"/>
            <a:ext cx="4284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Відкриття Львівсько-Волинського басей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 1912р. першим, хт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словив свою думк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що є кам'яне  вугіл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чений Тетяєв. У 194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1941р. геологами бу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ідтверджені висно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ерших дослідників, ал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йна завадила. В 1954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 Львівщині розпочалос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будівництво шахт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248000" cy="28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Львівсько-Волинський басей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ьвівсько-Волинсь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басейн має запаси до 1 млр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он вугілля, глиб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лягання 300-700м, товщ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ластів 0,5-1,2м. У районі діє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10 Червоноградських і 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олинські шахти. Вугіл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користовується я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енергетичне паливо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для побутових потреб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35600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ніпровський буро-вугільний басей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27280" y="2060640"/>
            <a:ext cx="47163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паси складають 2,4 млрд. 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 них 0,5 млрд. т придатні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ідкритої розроб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міщуються родовища вздовж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ніпра. Максимальна потужні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ластів у середньому – 1-6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а залягання -150-170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угілля малокалорійне і його 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ожна перевозити на велик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ідстані. Використовуєть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як місцеве пали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356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Значення вугіл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Значення вугілл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залишається надзвичайн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еликим незважаючи 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добуток нафти та газу. Й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користовують я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енергетичне паливо 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теплових станціях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користовують 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металургійній промисловості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Із кам'яновугільної смоли, я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творюється під час виплав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шляхом хімічної переробк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отримують фарб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синтетичні тканини, лік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парфуми, вибухові речовин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нафталін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2286000" cy="1490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59640" y="2637000"/>
            <a:ext cx="2305080" cy="143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356000" y="4076640"/>
            <a:ext cx="2305080" cy="151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659640" y="5345280"/>
            <a:ext cx="2311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2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20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Карпатська нафтогазоносна провінці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У 1775р. розпочало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идобування нафти, а у 1913р. газ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ільшість нафтових і газов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 знаходиться 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карпатті. На території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карпатської, Чернівецької, Івано-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Франківської, Львівської област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фта залягає на глибині 150-3000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нафти: Битківсьбк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двірнянське, Волинсь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газу: Угорськ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огородчанське, Солотвинсь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нафти та газу на 70 і 90%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ідповідно вичерпані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ерспективними залишають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айони Львівської області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2577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7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2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7" dur="2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0" dur="2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3" dur="2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20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17:43Z</dcterms:created>
  <dc:creator>Pavel</dc:creator>
  <dc:description/>
  <dc:language>en-US</dc:language>
  <cp:lastModifiedBy>Закуцкая и Маскаева</cp:lastModifiedBy>
  <dcterms:modified xsi:type="dcterms:W3CDTF">2011-10-07T04:57:04Z</dcterms:modified>
  <cp:revision>2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d000000000001024140</vt:lpwstr>
  </property>
</Properties>
</file>