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1DA-57F8-4ADC-AC61-23B5FA7B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0E7-2629-4F63-BE76-EFB68B3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0CF-9D19-44BB-AA80-108DD132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2BF-AAEA-421D-B486-DE86A6FB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DEF8-5BC0-4082-A134-981E8452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CAC-6750-446C-901E-F5AB9C7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F3ED-1604-48E3-963B-58CA424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6CB2-BE59-400B-B330-E9DDED26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7B8-472E-4FB0-B9CD-CFD0D1A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196-BB34-4AB2-94BA-28A707F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7E2C-A214-4C59-986D-D561823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5E2-77D9-46CD-8F60-7B6D66DB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CBAA-D392-4C77-9997-3EF947F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B996-0CC5-431D-97C5-C5A067E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D9A9-883B-48A3-B1D7-FB67AC10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7267-5C26-4DA8-A105-ABE20DB4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3498-1C2B-40AA-A0E1-7BDAC808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813-A78B-40DB-9AE5-733AB58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FAC-E870-413F-A8C1-9958960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34A-19E7-407D-9A37-1188000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CEB-BFCD-4ADA-85C6-5C2E9B0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2C5-3EC6-40D9-8AE6-C5CB69D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04C-54B3-4C40-9A45-86DFDA9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0CE-9CD5-492E-A43F-370C72D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B576-FED4-4518-AFDC-308A962484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EC6-3287-4809-96A6-24A72E0C88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к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читель ЗОШ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наєва Наталя Миколаї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35280" y="54900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Мінерально-сировинна б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теперішнього часу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драх України виявле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я 20 тис. родови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, з я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 7500 родовищ п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90 видам мінерально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ировини маю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е значе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істю освоє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350 родовищ, щ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істять від 40 до 7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іданих запас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ізноманітних вид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ласифікація корисних копал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1484280"/>
          <a:ext cx="9001080" cy="4694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220840"/>
                <a:gridCol w="266544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рисні копали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ал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іміч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дівель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ліз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а сі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апн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р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рганцева руда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лійна сіль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л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ід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і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ф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ліметалев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і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родний га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лов'я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роблемне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Чи є на Україні передумови для утворення паливних ресурсів? Доведіть 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Умови формування кам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яного вугіл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кам'яновугіль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іод палеозойсько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ри моря неоднораз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ивали сучас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риторію Донбас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начну части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авобережжя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івобережжя Дніп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лімат тропіч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мпература на нижч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 +18. Повітря вологе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душли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865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Характеристика плаунових рослин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унові рослини тоді бу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равжніми деревами у висоту д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0м і в обхваті 2м. На них не бул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ілок, тільки густа крона з тонког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довгого хвойного листя (ц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епідодендрони, які розмножували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орами). Ще росли деревоподіб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щі, деревоподібні папороті, які щ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стрічаються у тропічному пояс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3480" y="1484280"/>
            <a:ext cx="407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71960" y="4076640"/>
            <a:ext cx="417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ктонічна карта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-11" b="72"/>
          <a:stretch/>
        </p:blipFill>
        <p:spPr>
          <a:xfrm>
            <a:off x="0" y="1197000"/>
            <a:ext cx="9217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арта корисних копал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6:10Z</dcterms:created>
  <dc:creator>Pavel</dc:creator>
  <dc:description/>
  <dc:language>en-US</dc:language>
  <cp:lastModifiedBy>Закуцкая и Маскаева</cp:lastModifiedBy>
  <dcterms:modified xsi:type="dcterms:W3CDTF">2011-10-07T04:59:47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a000000000001024140</vt:lpwstr>
  </property>
</Properties>
</file>