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4A3-9393-4340-84F7-06E8038F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E17-5367-4626-97B2-2FD455B4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108A-C902-4471-9118-9729F32E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6F3-3D38-4C45-86F5-5CC54D65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D7BC-8852-4DD2-883B-F4AF9546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6366-7294-4794-94BC-4A653B30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ADA0-A1C4-4895-85E2-9CE0FC7F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AC74-9EF3-4F16-8DA1-03068E58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309D-6B55-4C5D-81B2-915536EB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E1FA-FDB0-4B9A-8D97-484F344D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27E-7AE6-4038-BF38-82C8E5D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72A-18AA-459D-B593-20269E3A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323F-33F0-4DEC-954D-D057EC99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E16C-3C33-4965-AA14-D323C6B3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5E91-6F12-424A-B5F0-D544907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0762-C2D8-4A36-B8C3-BE19467D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6C09-1300-4403-95AB-7BDAF9E3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9B0-7586-4F92-AB28-B5DF52E7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653C-0761-42FD-8ED3-0F60B6E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326F-8C74-4FD8-86A4-9A970410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71B-FFDA-4D0A-8CDD-1BE7E4F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2E-F9FE-46DB-9A46-AFACD9E5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8A31-25F4-4B71-B781-F7BB8B0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35F-A82D-45B2-BA0D-4CAA8795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AFB-2D0D-4199-B452-BE572191758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7A9C-D347-4232-8B0C-DA2F1AEAF6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ик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читель ЗОШ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унаєва Наталя Миколаїв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35280" y="549000"/>
            <a:ext cx="4608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63374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Мінерально-сировинна б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 теперішнього часу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драх України виявле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я 20 тис. родовищ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, з як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 7500 родовищ п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90 видам мінеральної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ировини маю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е значенн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мисловістю освоє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350 родовищ, щ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істять від 40 до 75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віданих запас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ізноманітних виді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корисних копалин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4032360" cy="215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4032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ласифікація корисних копали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8000" y="1484280"/>
          <a:ext cx="9001080" cy="46944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220840"/>
                <a:gridCol w="2665440"/>
              </a:tblGrid>
              <a:tr h="5205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орисні копалин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ал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металев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Хіміч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дівельна сиров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заліз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м'яна сі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апня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уре вугіл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арганцева руда</a:t>
                      </a: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алійна сіль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л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ор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ід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сфори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іс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ф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ліметалев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ір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родний га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лов'яна ру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роблемне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ит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Чи є на Україні передумови для утворення паливних ресурсів? Доведіть ц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Умови формування кам</a:t>
            </a: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яного вугілл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кам'яновугіль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іод палеозойської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ри моря неодноразов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ивали сучас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риторію Донбас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начну частин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авобережжя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івобережжя Дніп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лімат тропічни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емпература на нижч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 +18. Повітря вологе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душлив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2865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Характеристика плаунових рослин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унові рослини тоді бул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равжніми деревами у висоту д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30м і в обхваті 2м. На них не бул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ілок, тільки густа крона з тонког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довгого хвойного листя (ц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епідодендрони, які розмножували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порами). Ще росли деревоподіб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вощі, деревоподібні папороті, які щ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устрічаються у тропічному пояс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73480" y="1484280"/>
            <a:ext cx="4070520" cy="2185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971960" y="4076640"/>
            <a:ext cx="417204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ктонічна карта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0" r="-11" b="72"/>
          <a:stretch/>
        </p:blipFill>
        <p:spPr>
          <a:xfrm>
            <a:off x="0" y="1197000"/>
            <a:ext cx="9217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8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арта корисних копали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6:10Z</dcterms:created>
  <dc:creator>Pavel</dc:creator>
  <dc:description/>
  <dc:language>en-US</dc:language>
  <cp:lastModifiedBy>Закуцкая и Маскаева</cp:lastModifiedBy>
  <dcterms:modified xsi:type="dcterms:W3CDTF">2011-10-07T04:59:47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a000000000001024140</vt:lpwstr>
  </property>
</Properties>
</file>