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487-DB41-4752-8A61-D8570DCF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E63-B5A3-424A-95B7-A85CC0DB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1AB-C919-41F1-8FF2-0A323093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E91-CEA6-4076-9E8C-10E82C94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7240-A26F-428E-ACA7-548A14B5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60EA-FA88-4CB9-BBC5-AEBDBFDA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1069-633E-4A16-B098-6AAC10E4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9B28-FA33-460E-8E01-E113E8B8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D089-2C02-4E59-8A9E-7E01DD66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A6A9-E8CF-4D0B-BBB7-A29839DD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C910-630A-4A72-A810-724576F5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971-F2B0-4C32-AE91-1EA4606E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D13F-B776-4F50-9BB3-D2673457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A3DD-417A-49E1-AB0C-6CA8C43E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7F88-F3D1-4218-82BD-A7557894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90F5-7496-4436-9004-ADB53FD3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9285-044E-4501-AE4C-9C105C4C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C85-E04E-4524-BB52-706530A6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1E9-AA26-4145-A51A-71227B0E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6E4-54E9-4F2F-8C1B-5269EBA7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603-4478-4308-BEDB-4E355567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1FB-F4F1-482C-9902-ED0C266C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EE0-C7D1-4FCF-B1B6-9DC53DD0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C36-4711-436F-95F6-AE19B1F7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43B3-F3D1-448B-AB4E-B040685444B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7118-A657-4702-A1D3-15E9A487E22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upload.wikimedia.org/wikipedia/commons/e/ef/Limestone_on_shale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Те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Паливні корисні копалини України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251928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0" t="0" r="-13" b="0"/>
          <a:stretch/>
        </p:blipFill>
        <p:spPr>
          <a:xfrm>
            <a:off x="826920" y="3141720"/>
            <a:ext cx="2519640" cy="2206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Файл:Limestone on shal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365720"/>
            <a:ext cx="2521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кон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читель ЗОШ№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м. Т.Г.Шевчен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.Запоріжж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наєва Наталя Миколаї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35280" y="549000"/>
            <a:ext cx="4608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І непорушний лад у всім, співзвучність повна у  природі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Ф. Тютче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63374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Мінерально-сировинна ба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а теперішнього часу 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драх України виявлен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іля 20 тис. родовищ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орисних копалин, з яки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ільш 7500 родовищ п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90 видам мінеральної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ировини маю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ромислове значенн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ромисловістю освоєн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3350 родовищ, щ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містять від 40 до 75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озвіданих запасі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ізноманітних виді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орисних копалин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032360" cy="2159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403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Класифікація корисних копали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8000" y="1484280"/>
          <a:ext cx="9001080" cy="4694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220840"/>
                <a:gridCol w="2665440"/>
              </a:tblGrid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рисні копали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аливн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еталев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металев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імічна сиров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удівельна сиров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м'яне вугіл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лізна ру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м'яна сі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апня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уре вугіл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арганцева руда</a:t>
                      </a: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лійна сіль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л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ор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ідна ру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осфор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іс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ф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ліметалева ру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ір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родний га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лов'яна ру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Проблемне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пит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Чи є на Україні передумови для утворення паливних ресурсів? Доведіть ц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Умови формування кам</a:t>
            </a: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’</a:t>
            </a: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яного вугілл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У кам'яновугіль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еріод палеозойської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ери моря неодноразо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аливали сучасн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територію Донбасу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начну частин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равобережжя 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лівобережжя Дніпр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Клімат тропічн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Температура на нижч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а +18. Повітря вологе 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адушлив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2865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Характеристика плаунових рослин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2196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лаунові рослини тоді бул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правжніми деревами у висоту д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30м і в обхваті 2м. На них не бул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ілок, тільки густа крона з тонког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 довгого хвойного листя (ц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лепідодендрони, які розмножувалис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порами). Ще росли деревоподібн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хвощі, деревоподібні папороті, які щ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устрічаються у тропічному поясі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73480" y="1484280"/>
            <a:ext cx="4070520" cy="2185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971960" y="4076640"/>
            <a:ext cx="41720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Тектонічна карта Украї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-11" b="72"/>
          <a:stretch/>
        </p:blipFill>
        <p:spPr>
          <a:xfrm>
            <a:off x="0" y="1197000"/>
            <a:ext cx="9217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Карта корисних копал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16:10Z</dcterms:created>
  <dc:creator>Pavel</dc:creator>
  <dc:description/>
  <dc:language>en-US</dc:language>
  <cp:lastModifiedBy>Закуцкая и Маскаева</cp:lastModifiedBy>
  <dcterms:modified xsi:type="dcterms:W3CDTF">2011-10-07T04:59:47Z</dcterms:modified>
  <cp:revision>2</cp:revision>
  <dc:subject/>
  <dc:title>Тем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a000000000001024140</vt:lpwstr>
  </property>
</Properties>
</file>