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19.jpeg" ContentType="image/jpeg"/>
  <Override PartName="/ppt/media/image25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8DF7-082B-4CEE-8BE1-07A520EFA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B526-2448-4362-9D04-AC164BBEB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5CEF-4AF2-4E62-A984-C62D4153B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0698-F1B2-42DE-A06B-B644D474D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12234-7946-4F93-93DA-71528FF7C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0AB0D-DBDD-4EC3-A008-6188E7A84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A367F-7B91-4FBB-9D89-1D72E40A0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8F529-DB99-4D6A-B794-D9CEA8A98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C9AA7-614A-4804-A186-1857E2618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AC3DF-C3BB-41D8-A296-DB8DA210C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76F1B-4653-44C7-8135-8B6631DEC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59FE-696D-4A11-BE7E-EFACA0BBD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4F683-F771-4D05-9FDA-0F6BB3AE7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EC11F-1FF0-4BDD-A66B-F5D1AEAF8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A04D7-909F-413D-829B-F3F297BE2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69E17-4E6F-480C-89D1-38E1C2223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72508-A7B9-46EA-A129-90B13CA7A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BF8E-BA82-40DE-9462-4BA3BA770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0F8E-5C11-475A-8039-73BE0208D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BB70-0B85-4624-B2F3-2DAD5AD91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01FE-BA90-4FBD-9D7D-71E0F8B98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8006-9F55-4099-AA43-2F6971076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42B8-A626-4BC3-ABD3-79A4A733E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AAF0-8C35-4083-B15B-3163C9244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9B022-11C1-496B-A1AB-12CFFEE4727B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6FB98-C6F6-429D-885C-3E0FB412F0BE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http://upload.wikimedia.org/wikipedia/commons/e/ef/Limestone_on_shale.jpg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google.com.ua/imgres?imgurl=http://www.pismo-vlasti.net/i/AZS.650.650.gif&amp;imgrefurl=http://www.gorodkiev.com.ua/index.php%3Fnewsid%3D932&amp;usg=__6v-hmox_MqPZRe7l4ruu7Cxyo50=&amp;h=650&amp;w=650&amp;sz=119&amp;hl=ru&amp;start=16&amp;tbnid=ZVZEj4xlJPuIRM:&amp;tbnh=137&amp;tbnw=137&amp;prev=/images%3Fq%3D%25D0%25B1%25D0%25B5%25D0%25BD%25D0%25B7%25D0%25B8%25D0%25BD%26gbv%3D2%26hl%3Dru" TargetMode="External"/><Relationship Id="rId2" Type="http://schemas.openxmlformats.org/officeDocument/2006/relationships/image" Target="../media/image17.jpeg"/><Relationship Id="rId3" Type="http://schemas.openxmlformats.org/officeDocument/2006/relationships/hyperlink" Target="http://images.google.com.ua/imgres?imgurl=http://www.ashur.kz/UserFiles/Image/Kerosin_osvet_big.jpg&amp;imgrefurl=http://www.ashur.kz/ru/view_goods.php%3Fid_goods%3D60&amp;usg=__oCwScYzJvG0LLbMTpVhQRUpyc2s=&amp;h=800&amp;w=304&amp;sz=38&amp;hl=ru&amp;start=6&amp;tbnid=gNDxwudSTRraWM:&amp;tbnh=143&amp;tbnw=54&amp;prev=/images%3Fq%3D%25D0%25BA%25D0%25B5%25D1%2580%25D0%25BE%25D1%2581%25D0%25B8%25D0%25BD%26gbv%3D2%26hl%3Dru" TargetMode="External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26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7.jpe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uk/5/54/Donbass_peyzazh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>
                <a:solidFill>
                  <a:srgbClr val="ccecff"/>
                </a:solidFill>
                <a:latin typeface="Arial"/>
              </a:rPr>
              <a:t>Тема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11280" y="148392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5400" spc="-1" strike="noStrike">
                <a:solidFill>
                  <a:srgbClr val="ffffff"/>
                </a:solidFill>
                <a:latin typeface="Arial"/>
              </a:rPr>
              <a:t>Паливні корисні копалини України.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3348000" y="3789360"/>
            <a:ext cx="2519280" cy="21891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rcRect l="0" t="0" r="-13" b="0"/>
          <a:stretch/>
        </p:blipFill>
        <p:spPr>
          <a:xfrm>
            <a:off x="826920" y="3141720"/>
            <a:ext cx="2519640" cy="220644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Файл:Limestone on shale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867280" y="4365720"/>
            <a:ext cx="252108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4000"/>
                            </p:stCondLst>
                            <p:childTnLst>
                              <p:par>
                                <p:cTn id="1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6000"/>
                            </p:stCondLst>
                            <p:childTnLst>
                              <p:par>
                                <p:cTn id="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8000"/>
                            </p:stCondLst>
                            <p:childTnLst>
                              <p:par>
                                <p:cTn id="2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ccecff"/>
                </a:solidFill>
                <a:latin typeface="Arial"/>
              </a:rPr>
              <a:t>Донецько-Дніпровська область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5219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Донецько-Дніпровська область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знаходиться на Лівобережжі,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довжина 650-700км, ширина 80-150км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Чернігівська область - Прилуцьке,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Ляляківське. Сумська область -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Рибальське, Качанівське. Полтавська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область - Сагайдачне, Зачепилівське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З 30-х років освоюється родовища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газу. Глибина залягання 5000м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Родовища – Шебелинське,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Хрестишинське, Качанівське,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Диканське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rcRect l="0" t="0" r="8" b="72"/>
          <a:stretch/>
        </p:blipFill>
        <p:spPr>
          <a:xfrm>
            <a:off x="5148360" y="1700280"/>
            <a:ext cx="3995640" cy="37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0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93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2000"/>
                            </p:stCondLst>
                            <p:childTnLst>
                              <p:par>
                                <p:cTn id="39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7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01" dur="20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04" dur="20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07" dur="20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10" dur="20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13" dur="20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16" dur="2000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19" dur="2000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22" dur="2000"/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25" dur="2000"/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28" dur="2000"/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31" dur="2000"/>
                                        <p:tgtEl>
                                          <p:spTgt spid="1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34" dur="2000"/>
                                        <p:tgtEl>
                                          <p:spTgt spid="1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ccecff"/>
                </a:solidFill>
                <a:latin typeface="Arial"/>
              </a:rPr>
              <a:t>Причорноморско-Кримська область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Причорноморсько -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Кримська область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зосереджується в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Криму, Миколаївській,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Одеській, Херсонській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областях. Освоєно 20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родовищ газу і нафти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Глибина заляганн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9000м - це мезозойські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відклади.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539640" y="1916280"/>
            <a:ext cx="343404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0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4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2500"/>
                            </p:stCondLst>
                            <p:childTnLst>
                              <p:par>
                                <p:cTn id="44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9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2" dur="5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5" dur="5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8" dur="5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1" dur="5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4" dur="5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7" dur="5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0" dur="500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3" dur="500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6" dur="500"/>
                                        <p:tgtEl>
                                          <p:spTgt spid="1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ccecff"/>
                </a:solidFill>
                <a:latin typeface="Arial"/>
              </a:rPr>
              <a:t>Використання нафт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Нафту не можна використовувати у тому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вигляді, яку отримали внаслідок видобутку. З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неї отримують: рідке паливо, керосин, бензин,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вазелін, медичні препарати, мило, свічки.   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4508640"/>
            <a:ext cx="2158920" cy="215892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987640" y="3500280"/>
            <a:ext cx="843120" cy="22323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5"/>
          <a:stretch/>
        </p:blipFill>
        <p:spPr>
          <a:xfrm>
            <a:off x="4140360" y="4221000"/>
            <a:ext cx="2361960" cy="220212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6"/>
          <a:stretch/>
        </p:blipFill>
        <p:spPr>
          <a:xfrm>
            <a:off x="6877080" y="3645000"/>
            <a:ext cx="1444680" cy="188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0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3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2000"/>
                            </p:stCondLst>
                            <p:childTnLst>
                              <p:par>
                                <p:cTn id="48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2500"/>
                            </p:stCondLst>
                            <p:childTnLst>
                              <p:par>
                                <p:cTn id="48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3000"/>
                            </p:stCondLst>
                            <p:childTnLst>
                              <p:par>
                                <p:cTn id="4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3500"/>
                            </p:stCondLst>
                            <p:childTnLst>
                              <p:par>
                                <p:cTn id="49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4000"/>
                            </p:stCondLst>
                            <p:childTnLst>
                              <p:par>
                                <p:cTn id="50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4" dur="20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7" dur="20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0" dur="20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3" dur="20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ccecff"/>
                </a:solidFill>
                <a:latin typeface="Arial"/>
              </a:rPr>
              <a:t>Торф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Торф – тверде горюче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паливо, використовується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на електростанціях, як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добриво, газ для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автомобілів, підстилка для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худоби, торфоперегнійні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горшки, лікувальні ванни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Торф малокалорійне паливо,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проте його добування в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порівнянні з іншими видами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значно дешевше.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4572000" y="1700280"/>
            <a:ext cx="41148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0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20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2000"/>
                            </p:stCondLst>
                            <p:childTnLst>
                              <p:par>
                                <p:cTn id="52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4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4000"/>
                            </p:stCondLst>
                            <p:childTnLst>
                              <p:par>
                                <p:cTn id="52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20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20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20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20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20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20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20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20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20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20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20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20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20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20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20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20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20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20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20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20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20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20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20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20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20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20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20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20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20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20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20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20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2000" fill="hold"/>
                                        <p:tgtEl>
                                          <p:spTgt spid="1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2000" fill="hold"/>
                                        <p:tgtEl>
                                          <p:spTgt spid="1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2000" fill="hold"/>
                                        <p:tgtEl>
                                          <p:spTgt spid="1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2000" fill="hold"/>
                                        <p:tgtEl>
                                          <p:spTgt spid="1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2000" fill="hold"/>
                                        <p:tgtEl>
                                          <p:spTgt spid="1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2000" fill="hold"/>
                                        <p:tgtEl>
                                          <p:spTgt spid="1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2000" fill="hold"/>
                                        <p:tgtEl>
                                          <p:spTgt spid="1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2000" fill="hold"/>
                                        <p:tgtEl>
                                          <p:spTgt spid="1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ccecff"/>
                </a:solidFill>
                <a:latin typeface="Arial"/>
              </a:rPr>
              <a:t>Використання торфу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Торф – тверде горюче паливо, використовується на електростанціях, як добриво, газ для автомобілів, підстилка для худоби, торфоперегнійні горшки, лікувальні ванни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250920" y="1557360"/>
            <a:ext cx="1998720" cy="266364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1763640" y="4292640"/>
            <a:ext cx="2605320" cy="19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0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8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2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4000"/>
                            </p:stCondLst>
                            <p:childTnLst>
                              <p:par>
                                <p:cTn id="60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6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6000"/>
                            </p:stCondLst>
                            <p:childTnLst>
                              <p:par>
                                <p:cTn id="6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0" dur="2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>
                <a:solidFill>
                  <a:srgbClr val="ccecff"/>
                </a:solidFill>
                <a:latin typeface="Arial"/>
              </a:rPr>
              <a:t>Горючі сланці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i="1" lang="uk-UA" sz="2800" spc="-1" strike="noStrike">
                <a:solidFill>
                  <a:srgbClr val="ffffff"/>
                </a:solidFill>
                <a:latin typeface="Arial"/>
              </a:rPr>
              <a:t>За хімічним складом, теплопровідністю подібні до прибалтійських. Прогнозовані запаси 3,7млрд.т., зосереджені в Карпатах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179280" y="1484280"/>
            <a:ext cx="401796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0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7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2000"/>
                            </p:stCondLst>
                            <p:childTnLst>
                              <p:par>
                                <p:cTn id="61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1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4000"/>
                            </p:stCondLst>
                            <p:childTnLst>
                              <p:par>
                                <p:cTn id="62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5" dur="20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ccecff"/>
                </a:solidFill>
                <a:latin typeface="Arial"/>
              </a:rPr>
              <a:t>Горючі корисні копалини в Запорізькій області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0" y="1989000"/>
            <a:ext cx="4764240" cy="32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Є у межах області запаси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горючих корисних копалин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бурого вугілля, природного газу,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але поки великого значення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в економіці вони не мають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Наприклад: Гуляйполе, Оріхів -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буре вугілля для побутових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потреб; Приазов'я – природний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газ.   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4643280" y="1916280"/>
            <a:ext cx="4187880" cy="432252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6877080" y="3284640"/>
            <a:ext cx="216000" cy="20952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7451640" y="3213000"/>
            <a:ext cx="216000" cy="20952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7164360" y="3284640"/>
            <a:ext cx="216000" cy="2095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5"/>
          <a:stretch/>
        </p:blipFill>
        <p:spPr>
          <a:xfrm>
            <a:off x="7164360" y="4869000"/>
            <a:ext cx="276120" cy="27612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6"/>
          <a:stretch/>
        </p:blipFill>
        <p:spPr>
          <a:xfrm>
            <a:off x="6516720" y="5013360"/>
            <a:ext cx="287280" cy="2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fill="hold">
                      <p:stCondLst>
                        <p:cond delay="0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2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2000"/>
                            </p:stCondLst>
                            <p:childTnLst>
                              <p:par>
                                <p:cTn id="63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6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4000"/>
                            </p:stCondLst>
                            <p:childTnLst>
                              <p:par>
                                <p:cTn id="638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3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6000"/>
                            </p:stCondLst>
                            <p:childTnLst>
                              <p:par>
                                <p:cTn id="645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8000"/>
                            </p:stCondLst>
                            <p:childTnLst>
                              <p:par>
                                <p:cTn id="652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7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10000"/>
                            </p:stCondLst>
                            <p:childTnLst>
                              <p:par>
                                <p:cTn id="659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4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12000"/>
                            </p:stCondLst>
                            <p:childTnLst>
                              <p:par>
                                <p:cTn id="666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1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14000"/>
                            </p:stCondLst>
                            <p:childTnLst>
                              <p:par>
                                <p:cTn id="6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5" dur="20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8" dur="20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1" dur="200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4" dur="2000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7" dur="2000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0" dur="2000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3" dur="2000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6" dur="2000"/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9" dur="2000"/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>
                <a:solidFill>
                  <a:srgbClr val="ccecff"/>
                </a:solidFill>
                <a:latin typeface="Arial"/>
              </a:rPr>
              <a:t>Екологічні проблем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49568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i="1" lang="uk-UA" sz="1600" spc="-1" strike="noStrike">
                <a:solidFill>
                  <a:srgbClr val="ffffff"/>
                </a:solidFill>
                <a:latin typeface="Arial"/>
              </a:rPr>
              <a:t>Надмірний розвиток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ffffff"/>
                </a:solidFill>
                <a:latin typeface="Arial"/>
              </a:rPr>
              <a:t>гірничодобувної промисловості став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ffffff"/>
                </a:solidFill>
                <a:latin typeface="Arial"/>
              </a:rPr>
              <a:t>причиною порушенням природної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ffffff"/>
                </a:solidFill>
                <a:latin typeface="Arial"/>
              </a:rPr>
              <a:t>рівноваги в природі. Порушивши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ffffff"/>
                </a:solidFill>
                <a:latin typeface="Arial"/>
              </a:rPr>
              <a:t>процес самоочищення, що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ffffff"/>
                </a:solidFill>
                <a:latin typeface="Arial"/>
              </a:rPr>
              <a:t>призвело до важких наслідків ( масове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ffffff"/>
                </a:solidFill>
                <a:latin typeface="Arial"/>
              </a:rPr>
              <a:t>захворювання дітей на гіпоплазію –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ffffff"/>
                </a:solidFill>
                <a:latin typeface="Arial"/>
              </a:rPr>
              <a:t>захворювання зубів, збільшення серцево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ffffff"/>
                </a:solidFill>
                <a:latin typeface="Arial"/>
              </a:rPr>
              <a:t>судинних захворювань, захворювання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ffffff"/>
                </a:solidFill>
                <a:latin typeface="Arial"/>
              </a:rPr>
              <a:t>верхніх дихальних шляхів). У воді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ffffff"/>
                </a:solidFill>
                <a:latin typeface="Arial"/>
              </a:rPr>
              <a:t>виявлені надлишки флору, плюмбуму,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ffffff"/>
                </a:solidFill>
                <a:latin typeface="Arial"/>
              </a:rPr>
              <a:t>купруму, феруму, алюмінію, стронцію і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ffffff"/>
                </a:solidFill>
                <a:latin typeface="Arial"/>
              </a:rPr>
              <a:t>навіть берилію, який є одним з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ffffff"/>
                </a:solidFill>
                <a:latin typeface="Arial"/>
              </a:rPr>
              <a:t>найшкідливіших токсичних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ffffff"/>
                </a:solidFill>
                <a:latin typeface="Arial"/>
              </a:rPr>
              <a:t>елементів. І таких прикладів можна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ffffff"/>
                </a:solidFill>
                <a:latin typeface="Arial"/>
              </a:rPr>
              <a:t>навести безліч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4643280" y="1557360"/>
            <a:ext cx="403236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0" dur="indefinite" restart="never" nodeType="tmRoot">
          <p:childTnLst>
            <p:seq>
              <p:cTn id="701" dur="indefinite" nodeType="mainSeq">
                <p:childTnLst>
                  <p:par>
                    <p:cTn id="702" fill="hold">
                      <p:stCondLst>
                        <p:cond delay="0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6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2000"/>
                            </p:stCondLst>
                            <p:childTnLst>
                              <p:par>
                                <p:cTn id="70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4000"/>
                            </p:stCondLst>
                            <p:childTnLst>
                              <p:par>
                                <p:cTn id="7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2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2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20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20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20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20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20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20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20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20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2000" fill="hold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2000" fill="hold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2000" fill="hold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2000" fill="hold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2000" fill="hold"/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2000" fill="hold"/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2000" fill="hold"/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2000" fill="hold"/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2000" fill="hold"/>
                                        <p:tgtEl>
                                          <p:spTgt spid="2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2000" fill="hold"/>
                                        <p:tgtEl>
                                          <p:spTgt spid="2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2000" fill="hold"/>
                                        <p:tgtEl>
                                          <p:spTgt spid="2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2000" fill="hold"/>
                                        <p:tgtEl>
                                          <p:spTgt spid="2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2000" fill="hold"/>
                                        <p:tgtEl>
                                          <p:spTgt spid="2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2000" fill="hold"/>
                                        <p:tgtEl>
                                          <p:spTgt spid="2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2000" fill="hold"/>
                                        <p:tgtEl>
                                          <p:spTgt spid="2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2000" fill="hold"/>
                                        <p:tgtEl>
                                          <p:spTgt spid="2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2000" fill="hold"/>
                                        <p:tgtEl>
                                          <p:spTgt spid="21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2000" fill="hold"/>
                                        <p:tgtEl>
                                          <p:spTgt spid="21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2000" fill="hold"/>
                                        <p:tgtEl>
                                          <p:spTgt spid="21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2000" fill="hold"/>
                                        <p:tgtEl>
                                          <p:spTgt spid="21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2000" fill="hold"/>
                                        <p:tgtEl>
                                          <p:spTgt spid="21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2000" fill="hold"/>
                                        <p:tgtEl>
                                          <p:spTgt spid="21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>
                <a:solidFill>
                  <a:srgbClr val="ccecff"/>
                </a:solidFill>
                <a:latin typeface="Arial"/>
              </a:rPr>
              <a:t>Конституція Україн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995280" y="2491920"/>
            <a:ext cx="536436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uk-UA" sz="2800" spc="-1" strike="noStrike">
                <a:solidFill>
                  <a:srgbClr val="ffffff"/>
                </a:solidFill>
                <a:latin typeface="Arial"/>
              </a:rPr>
              <a:t>Стаття 66 Конституції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ffffff"/>
                </a:solidFill>
                <a:latin typeface="Arial"/>
              </a:rPr>
              <a:t>України говорить: «Кожен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ffffff"/>
                </a:solidFill>
                <a:latin typeface="Arial"/>
              </a:rPr>
              <a:t>зобов'язаний н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ffffff"/>
                </a:solidFill>
                <a:latin typeface="Arial"/>
              </a:rPr>
              <a:t>заподіювати шкоди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ffffff"/>
                </a:solidFill>
                <a:latin typeface="Arial"/>
              </a:rPr>
              <a:t>природі, культурні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ffffff"/>
                </a:solidFill>
                <a:latin typeface="Arial"/>
              </a:rPr>
              <a:t>спадщині, відшкодовувати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ffffff"/>
                </a:solidFill>
                <a:latin typeface="Arial"/>
              </a:rPr>
              <a:t>завдані ним збитки»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0" y="1916280"/>
            <a:ext cx="3924360" cy="34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9" dur="indefinite" restart="never" nodeType="tmRoot">
          <p:childTnLst>
            <p:seq>
              <p:cTn id="780" dur="indefinite" nodeType="mainSeq">
                <p:childTnLst>
                  <p:par>
                    <p:cTn id="781" fill="hold">
                      <p:stCondLst>
                        <p:cond delay="0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5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2000"/>
                            </p:stCondLst>
                            <p:childTnLst>
                              <p:par>
                                <p:cTn id="78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9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4000"/>
                            </p:stCondLst>
                            <p:childTnLst>
                              <p:par>
                                <p:cTn id="79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3" dur="20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6" dur="20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9" dur="20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2" dur="2000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5" dur="2000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8" dur="2000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1" dur="2000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ccecff"/>
                </a:solidFill>
                <a:latin typeface="Arial"/>
              </a:rPr>
              <a:t>Висловлення думк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0" y="4957920"/>
            <a:ext cx="4906800" cy="19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uk-UA" sz="2800" spc="-1" strike="noStrike">
                <a:solidFill>
                  <a:srgbClr val="ffffff"/>
                </a:solidFill>
                <a:latin typeface="Arial"/>
              </a:rPr>
              <a:t>І непорушний лад у всім, співзвучність повна у  природі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uk-UA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uk-UA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uk-UA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i="1" lang="uk-UA" sz="2800" spc="-1" strike="noStrike">
                <a:solidFill>
                  <a:srgbClr val="ffffff"/>
                </a:solidFill>
                <a:latin typeface="Arial"/>
              </a:rPr>
              <a:t>Ф. Тютчев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2795400" cy="20592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6443640" y="4581360"/>
            <a:ext cx="2700360" cy="202752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3348000" y="2565360"/>
            <a:ext cx="3006720" cy="22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2" dur="indefinite" restart="never" nodeType="tmRoot">
          <p:childTnLst>
            <p:seq>
              <p:cTn id="813" dur="indefinite" nodeType="mainSeq">
                <p:childTnLst>
                  <p:par>
                    <p:cTn id="814" fill="hold">
                      <p:stCondLst>
                        <p:cond delay="0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8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2000"/>
                            </p:stCondLst>
                            <p:childTnLst>
                              <p:par>
                                <p:cTn id="8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fill="hold">
                            <p:stCondLst>
                              <p:cond delay="4000"/>
                            </p:stCondLst>
                            <p:childTnLst>
                              <p:par>
                                <p:cTn id="82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29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fill="hold">
                            <p:stCondLst>
                              <p:cond delay="6000"/>
                            </p:stCondLst>
                            <p:childTnLst>
                              <p:par>
                                <p:cTn id="83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3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fill="hold">
                            <p:stCondLst>
                              <p:cond delay="8000"/>
                            </p:stCondLst>
                            <p:childTnLst>
                              <p:par>
                                <p:cTn id="83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7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0" dur="5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>
                <a:solidFill>
                  <a:srgbClr val="ccecff"/>
                </a:solidFill>
                <a:latin typeface="Arial"/>
              </a:rPr>
              <a:t>Паливні корисні копалин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cecff"/>
                </a:solidFill>
                <a:latin typeface="Arial"/>
              </a:rPr>
              <a:t>Виконавці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чні 8-А класу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гальноосвітньої школи І-ІІІ ст. №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м. Т.Г.Шевченк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.Запоріжж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fill="hold">
                      <p:stCondLst>
                        <p:cond delay="0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7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0" dur="20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3" dur="20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6" dur="20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9" dur="20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2" dur="20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ccecff"/>
                </a:solidFill>
                <a:latin typeface="Arial"/>
              </a:rPr>
              <a:t>Донецький кам</a:t>
            </a:r>
            <a:r>
              <a:rPr b="0" i="1" lang="en-US" sz="4000" spc="-1" strike="noStrike">
                <a:solidFill>
                  <a:srgbClr val="ccecff"/>
                </a:solidFill>
                <a:latin typeface="Arial"/>
              </a:rPr>
              <a:t>’</a:t>
            </a:r>
            <a:r>
              <a:rPr b="0" i="1" lang="uk-UA" sz="4000" spc="-1" strike="noStrike">
                <a:solidFill>
                  <a:srgbClr val="ccecff"/>
                </a:solidFill>
                <a:latin typeface="Arial"/>
              </a:rPr>
              <a:t>яно-вугільний басейн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-360" y="1557000"/>
            <a:ext cx="5003640" cy="34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Донецький басейн –найстаріший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на Україні. Його запаси становлять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50 млрд.т вугілля, воно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високоякісне, коксівне, антрацит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Глибина залягання в середньому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становить 500-700 м, максимальна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1200 м. У басейні діє до 200 шахт,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потужність пластів 0,5-2 м, на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глибині 800-1200 м потужність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більша, але шахти газонебезпечні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Найглибша шахта – 1800 м.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4788000" y="2421000"/>
            <a:ext cx="417672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2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4000"/>
                            </p:stCondLst>
                            <p:childTnLst>
                              <p:par>
                                <p:cTn id="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2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2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20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20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20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20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20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20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20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20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2000" fill="hold"/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2000" fill="hold"/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2000" fill="hold"/>
                                        <p:tgtEl>
                                          <p:spTgt spid="1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2000" fill="hold"/>
                                        <p:tgtEl>
                                          <p:spTgt spid="1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ccecff"/>
                </a:solidFill>
                <a:latin typeface="Arial"/>
              </a:rPr>
              <a:t>Проблеми донецького басейну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- потужні і доступні вугільні пласти вже вироблено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- залягання вугілля на великій глибині до 1200м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- мала потужність пластів 0,5-2м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-великий кут похилу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- велика газоносність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7" name="" descr="Файл:Donbass peyzazh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8000" y="2060640"/>
            <a:ext cx="428472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4000"/>
                            </p:stCondLst>
                            <p:childTnLst>
                              <p:par>
                                <p:cTn id="10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2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20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20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20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20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ccecff"/>
                </a:solidFill>
                <a:latin typeface="Arial"/>
              </a:rPr>
              <a:t>Відкриття Львівсько-Волинського басейну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4956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У 1912р. першим, хто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висловив свою думку,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що є кам'яне  вугілл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вчений Тетяєв. У 1940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1941р. геологами бул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підтверджені висновк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перших дослідників, але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війна завадила. В 1954р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на Львівщині розпочалось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будівництво шахт.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395280" y="2276640"/>
            <a:ext cx="4248000" cy="283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4000"/>
                            </p:stCondLst>
                            <p:childTnLst>
                              <p:par>
                                <p:cTn id="13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2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>
                <a:solidFill>
                  <a:srgbClr val="ccecff"/>
                </a:solidFill>
                <a:latin typeface="Arial"/>
              </a:rPr>
              <a:t>Львівсько-Волинський басейн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4932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Львівсько-Волинський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басейн має запаси до 1 млрд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тон вугілля, глибина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залягання 300-700м, товщина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пластів 0,5-1,2м. У районі діє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10 Червоноградських і 4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Волинські шахти. Вугілл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використовується як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енергетичне паливо і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для побутових потреб.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788000" y="2349360"/>
            <a:ext cx="4356000" cy="27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4000"/>
                            </p:stCondLst>
                            <p:childTnLst>
                              <p:par>
                                <p:cTn id="17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2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20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20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20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7" dur="20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2000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2000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6" dur="2000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2000"/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2000"/>
                                        <p:tgtEl>
                                          <p:spTgt spid="1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ccecff"/>
                </a:solidFill>
                <a:latin typeface="Arial"/>
              </a:rPr>
              <a:t>Дніпровський буро-вугільний басейн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427280" y="2060640"/>
            <a:ext cx="471636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Запаси складають 2,4 млрд. т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з них 0,5 млрд. т придатні для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відкритої розробки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Розміщуються родовища вздовж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Дніпра. Максимальна потужність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пластів у середньому – 1-6м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Глибина залягання -150-170м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Вугілля малокалорійне і його не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можна перевозити на великі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відстані. Використовується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як місцеве паливо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2276640"/>
            <a:ext cx="4356000" cy="26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3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4000"/>
                            </p:stCondLst>
                            <p:childTnLst>
                              <p:par>
                                <p:cTn id="21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7" dur="2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0" dur="2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3" dur="2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6" dur="2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9" dur="2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2" dur="2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5" dur="2000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8" dur="2000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1" dur="2000"/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4" dur="2000"/>
                                        <p:tgtEl>
                                          <p:spTgt spid="1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7" dur="2000"/>
                                        <p:tgtEl>
                                          <p:spTgt spid="1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>
                <a:solidFill>
                  <a:srgbClr val="ccecff"/>
                </a:solidFill>
                <a:latin typeface="Arial"/>
              </a:rPr>
              <a:t>Значення вугілл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uk-UA" sz="1800" spc="-1" strike="noStrike">
                <a:solidFill>
                  <a:srgbClr val="ffffff"/>
                </a:solidFill>
                <a:latin typeface="Arial"/>
              </a:rPr>
              <a:t>Значення вугілля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ffffff"/>
                </a:solidFill>
                <a:latin typeface="Arial"/>
              </a:rPr>
              <a:t>залишається надзвичайно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ffffff"/>
                </a:solidFill>
                <a:latin typeface="Arial"/>
              </a:rPr>
              <a:t>великим незважаючи на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ffffff"/>
                </a:solidFill>
                <a:latin typeface="Arial"/>
              </a:rPr>
              <a:t>видобуток нафти та газу. Його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ffffff"/>
                </a:solidFill>
                <a:latin typeface="Arial"/>
              </a:rPr>
              <a:t>використовують як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ffffff"/>
                </a:solidFill>
                <a:latin typeface="Arial"/>
              </a:rPr>
              <a:t>енергетичне паливо на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ffffff"/>
                </a:solidFill>
                <a:latin typeface="Arial"/>
              </a:rPr>
              <a:t>теплових станціях,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ffffff"/>
                </a:solidFill>
                <a:latin typeface="Arial"/>
              </a:rPr>
              <a:t>використовують в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ffffff"/>
                </a:solidFill>
                <a:latin typeface="Arial"/>
              </a:rPr>
              <a:t>металургійній промисловості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ffffff"/>
                </a:solidFill>
                <a:latin typeface="Arial"/>
              </a:rPr>
              <a:t>Із кам'яновугільної смоли, яка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ffffff"/>
                </a:solidFill>
                <a:latin typeface="Arial"/>
              </a:rPr>
              <a:t>утворюється під час виплавки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ffffff"/>
                </a:solidFill>
                <a:latin typeface="Arial"/>
              </a:rPr>
              <a:t>шляхом хімічної переробки,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ffffff"/>
                </a:solidFill>
                <a:latin typeface="Arial"/>
              </a:rPr>
              <a:t>отримують фарби,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ffffff"/>
                </a:solidFill>
                <a:latin typeface="Arial"/>
              </a:rPr>
              <a:t>синтетичні тканини, ліки,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ffffff"/>
                </a:solidFill>
                <a:latin typeface="Arial"/>
              </a:rPr>
              <a:t>парфуми, вибухові речовини,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ffffff"/>
                </a:solidFill>
                <a:latin typeface="Arial"/>
              </a:rPr>
              <a:t>нафталін.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4427640" y="1197000"/>
            <a:ext cx="2286000" cy="149076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6659640" y="2637000"/>
            <a:ext cx="2305080" cy="143964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4356000" y="4076640"/>
            <a:ext cx="2305080" cy="151128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4"/>
          <a:stretch/>
        </p:blipFill>
        <p:spPr>
          <a:xfrm>
            <a:off x="6659640" y="5345280"/>
            <a:ext cx="2311200" cy="15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8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4000"/>
                            </p:stCondLst>
                            <p:childTnLst>
                              <p:par>
                                <p:cTn id="26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2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6000"/>
                            </p:stCondLst>
                            <p:childTnLst>
                              <p:par>
                                <p:cTn id="2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8000"/>
                            </p:stCondLst>
                            <p:childTnLst>
                              <p:par>
                                <p:cTn id="26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0000"/>
                            </p:stCondLst>
                            <p:childTnLst>
                              <p:par>
                                <p:cTn id="27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8" dur="2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1" dur="20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4" dur="20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7" dur="20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0" dur="20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3" dur="2000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6" dur="2000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9" dur="2000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2" dur="2000"/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5" dur="2000"/>
                                        <p:tgtEl>
                                          <p:spTgt spid="1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8" dur="2000"/>
                                        <p:tgtEl>
                                          <p:spTgt spid="1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1" dur="2000"/>
                                        <p:tgtEl>
                                          <p:spTgt spid="1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4" dur="2000"/>
                                        <p:tgtEl>
                                          <p:spTgt spid="1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7" dur="2000"/>
                                        <p:tgtEl>
                                          <p:spTgt spid="17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0" dur="2000"/>
                                        <p:tgtEl>
                                          <p:spTgt spid="1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3" dur="2000"/>
                                        <p:tgtEl>
                                          <p:spTgt spid="17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ccecff"/>
                </a:solidFill>
                <a:latin typeface="Arial"/>
              </a:rPr>
              <a:t>Карпатська нафтогазоносна провінція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uk-UA" sz="1600" spc="-1" strike="noStrike">
                <a:solidFill>
                  <a:srgbClr val="ffffff"/>
                </a:solidFill>
                <a:latin typeface="Arial"/>
              </a:rPr>
              <a:t>У 1775р. розпочалося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ffffff"/>
                </a:solidFill>
                <a:latin typeface="Arial"/>
              </a:rPr>
              <a:t>видобування нафти, а у 1913р. газу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ffffff"/>
                </a:solidFill>
                <a:latin typeface="Arial"/>
              </a:rPr>
              <a:t>Більшість нафтових і газових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ffffff"/>
                </a:solidFill>
                <a:latin typeface="Arial"/>
              </a:rPr>
              <a:t>родовищ знаходиться у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ffffff"/>
                </a:solidFill>
                <a:latin typeface="Arial"/>
              </a:rPr>
              <a:t>Прикарпатті. На території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ffffff"/>
                </a:solidFill>
                <a:latin typeface="Arial"/>
              </a:rPr>
              <a:t>Закарпатської, Чернівецької, Івано-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ffffff"/>
                </a:solidFill>
                <a:latin typeface="Arial"/>
              </a:rPr>
              <a:t>Франківської, Львівської областей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ffffff"/>
                </a:solidFill>
                <a:latin typeface="Arial"/>
              </a:rPr>
              <a:t>Нафта залягає на глибині 150-3000м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ffffff"/>
                </a:solidFill>
                <a:latin typeface="Arial"/>
              </a:rPr>
              <a:t>Родовища нафти: Битківсьбке,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ffffff"/>
                </a:solidFill>
                <a:latin typeface="Arial"/>
              </a:rPr>
              <a:t>Надвірнянське, Волинське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ffffff"/>
                </a:solidFill>
                <a:latin typeface="Arial"/>
              </a:rPr>
              <a:t>Родовища газу: Угорське,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ffffff"/>
                </a:solidFill>
                <a:latin typeface="Arial"/>
              </a:rPr>
              <a:t>Богородчанське, Солотвинське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ffffff"/>
                </a:solidFill>
                <a:latin typeface="Arial"/>
              </a:rPr>
              <a:t>Родовища нафти та газу на 70 і 90%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ffffff"/>
                </a:solidFill>
                <a:latin typeface="Arial"/>
              </a:rPr>
              <a:t>відповідно вичерпані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ffffff"/>
                </a:solidFill>
                <a:latin typeface="Arial"/>
              </a:rPr>
              <a:t>Перспективними залишаються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ffffff"/>
                </a:solidFill>
                <a:latin typeface="Arial"/>
              </a:rPr>
              <a:t>райони Львівської області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2349360"/>
            <a:ext cx="425772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0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0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3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3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41" dur="2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44" dur="20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47" dur="20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50" dur="20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53" dur="200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56" dur="2000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59" dur="2000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62" dur="2000"/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65" dur="2000"/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68" dur="2000"/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71" dur="2000"/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74" dur="2000"/>
                                        <p:tgtEl>
                                          <p:spTgt spid="1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77" dur="2000"/>
                                        <p:tgtEl>
                                          <p:spTgt spid="1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0" dur="2000"/>
                                        <p:tgtEl>
                                          <p:spTgt spid="1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3" dur="2000"/>
                                        <p:tgtEl>
                                          <p:spTgt spid="1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6" dur="2000"/>
                                        <p:tgtEl>
                                          <p:spTgt spid="18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07:17:43Z</dcterms:created>
  <dc:creator>Pavel</dc:creator>
  <dc:description/>
  <dc:language>en-US</dc:language>
  <cp:lastModifiedBy>Закуцкая и Маскаева</cp:lastModifiedBy>
  <dcterms:modified xsi:type="dcterms:W3CDTF">2011-10-07T04:57:04Z</dcterms:modified>
  <cp:revision>2</cp:revision>
  <dc:subject/>
  <dc:title>Тема: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60d000000000001024140</vt:lpwstr>
  </property>
</Properties>
</file>