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Anthems%20-%20British%20National%20Anthem%20-%20Crown%20Imperial%20Anthem%20shortened.wav" ContentType="audio/x-wav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0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6C23-4472-4DB3-BF2D-ED1B54DD4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F0A7-BE19-4B63-B610-F251F514F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2FDC-FA0A-40C1-B612-587C0E958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98F3-3E8E-40FF-A663-A1328C306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F46B-CB8F-44D9-8B46-5838F69D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8B63-CD52-4E99-9ABF-77C85A43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90FD-4EC5-4887-9664-424A112B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3635-75CC-4883-AF98-8868AA170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040F-B60A-43FF-9BFA-A5EFF05A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B801-EF34-4B26-A576-11C44388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4FFD-827E-4BC5-9E7B-DFE28DA0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550A-AEB0-421D-B029-BE9D5EFB0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84E9-E40F-4BCF-8051-3ED82B108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2C14-2DF9-478A-98B6-D299B7892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750-316F-4D36-801B-8ACB1916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3CC2-5E66-4CD0-9750-64492B0D8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0769-01C1-490B-9906-5A941463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9BB-3020-40BE-A453-48420853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C30-3C0C-4A6E-BDB6-312E147E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2E9-3501-4760-9892-3EDB3E92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3DC-7AAE-44CA-83E6-EDAAAB4D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ED2-0423-4F7E-962A-911C46C2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06F5-62BB-4604-9D7C-95681D77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2E97-C76A-44E5-A147-8B33797F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408D-7B06-4B4A-9E11-229E05F8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4D90-6237-4279-8548-A818C15E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FAAF-AFD3-4777-AD1B-B6B40619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7DA9-9B61-472F-9D63-9B060255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F47-858B-4AD1-B073-A333E398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227C-C8CB-4FA4-8680-83CFE67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2D20-F9D3-4F38-83F2-3318BE94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5955-E0C1-4A63-ADC4-C7266B7D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CAE9-A677-49D3-9416-95F6A399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B47D-BEA7-49B6-98E6-8295FEAF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48A-B061-40DD-A154-BD3A1F81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D36-A1AF-4C17-A859-BFEAAB52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A96-D501-4425-B273-5DDC8FB7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E99-2111-4226-BFB8-473FD9C0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B18-3792-4AB9-986A-4AB93E75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F7A-31D8-4401-9F24-A7D9E852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C24-1C86-41C1-84A3-E88D0DE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440C-040D-4976-8934-B3B9F5CC579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2FE0-4563-422A-9AF0-3074A87B193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nthems%20-%20British%20National%20Anthem%20-%20Crown%20Imperial%20Anthem%20shorten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15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ність країн</a:t>
            </a:r>
            <a:br>
              <a:rPr sz="2800"/>
            </a:b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Франція                                 1. Токі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. Ізраїль                                   2. Париж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. Іспанія                                  3. Бразилі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. Турція                                   4. Тель-Авів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. Бразилія                                5. Анка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. Японія                                    6. Алжир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. Непал                                     7. Кит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. Монак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8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дрид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. Алжир                                    9. Катманду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. Перу                                    10. Монак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. Еквадор                               11.Лім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.Уругвай                                12. Канбе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. Іран                                       13.Монтевіде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. Австралія                            14. Тегеран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Flag_of_the_United_Kingdom"/>
          <p:cNvPicPr/>
          <p:nvPr/>
        </p:nvPicPr>
        <p:blipFill>
          <a:blip r:embed="rId2"/>
          <a:stretch/>
        </p:blipFill>
        <p:spPr>
          <a:xfrm>
            <a:off x="0" y="2060640"/>
            <a:ext cx="4427640" cy="27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Text Box 6"/>
          <p:cNvSpPr/>
          <p:nvPr/>
        </p:nvSpPr>
        <p:spPr>
          <a:xfrm>
            <a:off x="-181080" y="189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ПРАПОР ВЕЛИКОБРИТАН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15" descr=""/>
          <p:cNvPicPr/>
          <p:nvPr/>
        </p:nvPicPr>
        <p:blipFill>
          <a:blip r:embed="rId3"/>
          <a:stretch/>
        </p:blipFill>
        <p:spPr>
          <a:xfrm>
            <a:off x="914400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UK_Royal_Coat_of_Arms"/>
          <p:cNvPicPr/>
          <p:nvPr/>
        </p:nvPicPr>
        <p:blipFill>
          <a:blip r:embed="rId4"/>
          <a:stretch/>
        </p:blipFill>
        <p:spPr>
          <a:xfrm>
            <a:off x="5076720" y="1268280"/>
            <a:ext cx="3851280" cy="380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92720" y="2602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РОЛІВСЬКИЙ ГЕР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8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4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otpusk.com/mappics/29526100_1125665107.jpg"/>
          <p:cNvPicPr/>
          <p:nvPr/>
        </p:nvPicPr>
        <p:blipFill>
          <a:blip r:embed="rId2"/>
          <a:srcRect l="0" t="0" r="0" b="35"/>
          <a:stretch/>
        </p:blipFill>
        <p:spPr>
          <a:xfrm>
            <a:off x="250920" y="44280"/>
            <a:ext cx="5256000" cy="670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Прямоугольник 1"/>
          <p:cNvSpPr/>
          <p:nvPr/>
        </p:nvSpPr>
        <p:spPr>
          <a:xfrm>
            <a:off x="5580000" y="1413000"/>
            <a:ext cx="3475080" cy="31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Рельє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Рівнини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Мідленд, Лондонс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Гори (давні)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еннінські (700 м), Кембрійські, Північно-Шотландське нагір'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324000" y="260280"/>
            <a:ext cx="86598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орисні копал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м'яне вугілля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, північний-схід, південний Уельс, Шотландія, західний Мідленд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Нафта, газ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івнічн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Залізна руда: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східний Мідле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лійна та кам'яна сіль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56360" y="1341360"/>
            <a:ext cx="1008000" cy="8636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Трапеция 3"/>
          <p:cNvSpPr/>
          <p:nvPr/>
        </p:nvSpPr>
        <p:spPr>
          <a:xfrm>
            <a:off x="4076640" y="2457360"/>
            <a:ext cx="576360" cy="935280"/>
          </a:xfrm>
          <a:custGeom>
            <a:avLst/>
            <a:gdLst/>
            <a:ahLst/>
            <a:rect l="l" t="t" r="r" b="b"/>
            <a:pathLst>
              <a:path w="576263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3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758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Трапеция 5"/>
          <p:cNvSpPr/>
          <p:nvPr/>
        </p:nvSpPr>
        <p:spPr>
          <a:xfrm>
            <a:off x="5364000" y="2279520"/>
            <a:ext cx="576360" cy="935280"/>
          </a:xfrm>
          <a:custGeom>
            <a:avLst/>
            <a:gdLst/>
            <a:ahLst/>
            <a:rect l="l" t="t" r="r" b="b"/>
            <a:pathLst>
              <a:path w="576262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2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авнобедренный треугольник 4"/>
          <p:cNvSpPr/>
          <p:nvPr/>
        </p:nvSpPr>
        <p:spPr>
          <a:xfrm>
            <a:off x="5472000" y="3789360"/>
            <a:ext cx="1368360" cy="86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уб 6"/>
          <p:cNvSpPr/>
          <p:nvPr/>
        </p:nvSpPr>
        <p:spPr>
          <a:xfrm>
            <a:off x="2050920" y="5392800"/>
            <a:ext cx="1152720" cy="9698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уб 8"/>
          <p:cNvSpPr/>
          <p:nvPr/>
        </p:nvSpPr>
        <p:spPr>
          <a:xfrm>
            <a:off x="4486320" y="5276880"/>
            <a:ext cx="1152360" cy="9698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4460760" y="5532480"/>
            <a:ext cx="911520" cy="7542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423720" y="4653000"/>
            <a:ext cx="820908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лі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Морський, помір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Н.-З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3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2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Д.-С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5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6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6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694224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415800" y="3933720"/>
            <a:ext cx="29955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Bookman Old Style"/>
              </a:rPr>
              <a:t>Водні ресур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Річки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: Темза, Северн, Манчестерськи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65640" cy="2773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3"/>
          <a:stretch/>
        </p:blipFill>
        <p:spPr>
          <a:xfrm>
            <a:off x="4859280" y="246240"/>
            <a:ext cx="3746520" cy="2751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"/>
          <p:cNvPicPr/>
          <p:nvPr/>
        </p:nvPicPr>
        <p:blipFill>
          <a:blip r:embed="rId4"/>
          <a:stretch/>
        </p:blipFill>
        <p:spPr>
          <a:xfrm>
            <a:off x="3782880" y="3068640"/>
            <a:ext cx="47800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50920" y="836640"/>
            <a:ext cx="87138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І тип відтворенн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иродний приріст +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альдо міграції – додатне (робітники з Індії, Ірландії, Африки, Карибів, Пд. Європ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Багатонаціональна країна: 80% - англійці, 15% - шотландці, ірландці – 4%, ольстерці, валійці, ге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елігія – християнство (протестантизм, католицизм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ередня густота населення – 243,1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ксимальна – Англія – більше 350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імальна – Шотландія – до 2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вень урбанізації – 89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Великі міста – Великий Лондон (11 млн.), Великий Манчестер (2,7 млн.), Бірмінгем (2,6 млн.), Глазго (2 мл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егаполіс – Англійський (Лондон - Ліверпул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69840" y="189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5897"/>
                </a:solidFill>
                <a:latin typeface="Bookman Old Style"/>
              </a:rPr>
              <a:t>НАСЕ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Критерії для визначення рівн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оціально-економічного розвитку країн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ВНП та ВВП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Структура господарства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Галузі спеціалізації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Природний приріст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57200" y="189000"/>
            <a:ext cx="8229600" cy="6479640"/>
            <a:chOff x="457200" y="189000"/>
            <a:chExt cx="8229600" cy="6479640"/>
          </a:xfrm>
        </p:grpSpPr>
        <p:cxnSp>
          <p:nvCxnSpPr>
            <p:cNvPr id="162" name="_s75782"/>
            <p:cNvCxnSpPr>
              <a:stCxn id="163" idx="0"/>
              <a:endCxn id="164" idx="2"/>
            </p:cNvCxnSpPr>
            <p:nvPr/>
          </p:nvCxnSpPr>
          <p:spPr>
            <a:xfrm flipV="1">
              <a:off x="621792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75783"/>
            <p:cNvCxnSpPr>
              <a:stCxn id="166" idx="0"/>
              <a:endCxn id="167" idx="2"/>
            </p:cNvCxnSpPr>
            <p:nvPr/>
          </p:nvCxnSpPr>
          <p:spPr>
            <a:xfrm flipV="1">
              <a:off x="292680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75784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145980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75785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4340520" y="5510520"/>
              <a:ext cx="463320" cy="144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75786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722052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75787"/>
            <p:cNvCxnSpPr>
              <a:stCxn id="164" idx="1"/>
              <a:endCxn id="178" idx="2"/>
            </p:cNvCxnSpPr>
            <p:nvPr/>
          </p:nvCxnSpPr>
          <p:spPr>
            <a:xfrm rot="10800000">
              <a:off x="4571280" y="1113840"/>
              <a:ext cx="41184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75788"/>
            <p:cNvCxnSpPr>
              <a:stCxn id="167" idx="3"/>
              <a:endCxn id="178" idx="2"/>
            </p:cNvCxnSpPr>
            <p:nvPr/>
          </p:nvCxnSpPr>
          <p:spPr>
            <a:xfrm flipV="1">
              <a:off x="4159800" y="1113840"/>
              <a:ext cx="41220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75789"/>
            <p:cNvCxnSpPr>
              <a:stCxn id="176" idx="0"/>
              <a:endCxn id="178" idx="2"/>
            </p:cNvCxnSpPr>
            <p:nvPr/>
          </p:nvCxnSpPr>
          <p:spPr>
            <a:xfrm flipV="1" rot="16200000">
              <a:off x="4391640" y="129384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75790"/>
            <p:cNvCxnSpPr>
              <a:stCxn id="173" idx="0"/>
              <a:endCxn id="178" idx="2"/>
            </p:cNvCxnSpPr>
            <p:nvPr/>
          </p:nvCxnSpPr>
          <p:spPr>
            <a:xfrm flipV="1">
              <a:off x="4572000" y="1114200"/>
              <a:ext cx="1440" cy="324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75791"/>
            <p:cNvCxnSpPr>
              <a:stCxn id="170" idx="0"/>
              <a:endCxn id="178" idx="2"/>
            </p:cNvCxnSpPr>
            <p:nvPr/>
          </p:nvCxnSpPr>
          <p:spPr>
            <a:xfrm flipH="1" flipV="1" rot="5400000">
              <a:off x="1510560" y="129420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75792"/>
            <p:cNvSpPr/>
            <p:nvPr/>
          </p:nvSpPr>
          <p:spPr>
            <a:xfrm>
              <a:off x="3337200" y="18900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Групи краї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(за галузевою</a:t>
              </a: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 структурою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75793"/>
            <p:cNvSpPr/>
            <p:nvPr/>
          </p:nvSpPr>
          <p:spPr>
            <a:xfrm>
              <a:off x="45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о - 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75794"/>
            <p:cNvSpPr/>
            <p:nvPr/>
          </p:nvSpPr>
          <p:spPr>
            <a:xfrm>
              <a:off x="333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75795"/>
            <p:cNvSpPr/>
            <p:nvPr/>
          </p:nvSpPr>
          <p:spPr>
            <a:xfrm>
              <a:off x="621792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Пост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75796"/>
            <p:cNvSpPr/>
            <p:nvPr/>
          </p:nvSpPr>
          <p:spPr>
            <a:xfrm>
              <a:off x="1692720" y="157752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75797"/>
            <p:cNvSpPr/>
            <p:nvPr/>
          </p:nvSpPr>
          <p:spPr>
            <a:xfrm>
              <a:off x="4983120" y="157752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о-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75798"/>
            <p:cNvSpPr/>
            <p:nvPr/>
          </p:nvSpPr>
          <p:spPr>
            <a:xfrm>
              <a:off x="621900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фера послуг &gt;за матеріальну сфер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75799"/>
            <p:cNvSpPr/>
            <p:nvPr/>
          </p:nvSpPr>
          <p:spPr>
            <a:xfrm>
              <a:off x="3338640" y="574308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75800"/>
            <p:cNvSpPr/>
            <p:nvPr/>
          </p:nvSpPr>
          <p:spPr>
            <a:xfrm>
              <a:off x="45792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75801"/>
            <p:cNvSpPr/>
            <p:nvPr/>
          </p:nvSpPr>
          <p:spPr>
            <a:xfrm>
              <a:off x="1692720" y="296604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&gt;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75802"/>
            <p:cNvSpPr/>
            <p:nvPr/>
          </p:nvSpPr>
          <p:spPr>
            <a:xfrm>
              <a:off x="4983120" y="296604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≥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ЧАСТКА ВВП В ГАЛУЗЯХ ГОСПОДАРСТВА КРАЇН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981000"/>
          <a:ext cx="8229600" cy="5687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раїн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мисловість і будівництво, (%)</a:t>
                      </a:r>
                      <a:r>
                        <a:rPr b="1" lang="ru-RU" sz="20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/г, рибальство, лісове господарство,(%)</a:t>
                      </a: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фера послуг, (%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ликобритані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ранц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Італ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ос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краї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57200" y="260280"/>
            <a:ext cx="8229240" cy="6408360"/>
            <a:chOff x="457200" y="260280"/>
            <a:chExt cx="8229240" cy="6408360"/>
          </a:xfrm>
        </p:grpSpPr>
        <p:cxnSp>
          <p:nvCxnSpPr>
            <p:cNvPr id="186" name="_s187396"/>
            <p:cNvCxnSpPr>
              <a:stCxn id="187" idx="3"/>
              <a:endCxn id="188" idx="2"/>
            </p:cNvCxnSpPr>
            <p:nvPr/>
          </p:nvCxnSpPr>
          <p:spPr>
            <a:xfrm flipV="1">
              <a:off x="4267080" y="1424520"/>
              <a:ext cx="30564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87397"/>
            <p:cNvCxnSpPr>
              <a:stCxn id="190" idx="1"/>
              <a:endCxn id="188" idx="2"/>
            </p:cNvCxnSpPr>
            <p:nvPr/>
          </p:nvCxnSpPr>
          <p:spPr>
            <a:xfrm rot="10800000">
              <a:off x="4571640" y="1424520"/>
              <a:ext cx="30456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87398"/>
            <p:cNvCxnSpPr>
              <a:stCxn id="192" idx="3"/>
              <a:endCxn id="188" idx="2"/>
            </p:cNvCxnSpPr>
            <p:nvPr/>
          </p:nvCxnSpPr>
          <p:spPr>
            <a:xfrm flipV="1">
              <a:off x="4267080" y="1424880"/>
              <a:ext cx="30564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87399"/>
            <p:cNvCxnSpPr>
              <a:stCxn id="194" idx="0"/>
              <a:endCxn id="188" idx="2"/>
            </p:cNvCxnSpPr>
            <p:nvPr/>
          </p:nvCxnSpPr>
          <p:spPr>
            <a:xfrm flipV="1" rot="16200000">
              <a:off x="413316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87400"/>
            <p:cNvCxnSpPr>
              <a:stCxn id="196" idx="1"/>
              <a:endCxn id="188" idx="2"/>
            </p:cNvCxnSpPr>
            <p:nvPr/>
          </p:nvCxnSpPr>
          <p:spPr>
            <a:xfrm rot="10800000">
              <a:off x="4571640" y="1424520"/>
              <a:ext cx="30456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87401"/>
            <p:cNvCxnSpPr>
              <a:stCxn id="198" idx="0"/>
              <a:endCxn id="188" idx="2"/>
            </p:cNvCxnSpPr>
            <p:nvPr/>
          </p:nvCxnSpPr>
          <p:spPr>
            <a:xfrm flipV="1" rot="16200000">
              <a:off x="306612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87402"/>
            <p:cNvCxnSpPr>
              <a:stCxn id="200" idx="0"/>
              <a:endCxn id="188" idx="2"/>
            </p:cNvCxnSpPr>
            <p:nvPr/>
          </p:nvCxnSpPr>
          <p:spPr>
            <a:xfrm flipH="1" flipV="1" rot="5400000">
              <a:off x="199908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87403"/>
            <p:cNvCxnSpPr>
              <a:stCxn id="202" idx="0"/>
              <a:endCxn id="188" idx="2"/>
            </p:cNvCxnSpPr>
            <p:nvPr/>
          </p:nvCxnSpPr>
          <p:spPr>
            <a:xfrm flipH="1" flipV="1" rot="5400000">
              <a:off x="93240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187404"/>
            <p:cNvSpPr/>
            <p:nvPr/>
          </p:nvSpPr>
          <p:spPr>
            <a:xfrm>
              <a:off x="3656880" y="2602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Галузева структура господарства Великобрита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87405"/>
            <p:cNvSpPr/>
            <p:nvPr/>
          </p:nvSpPr>
          <p:spPr>
            <a:xfrm>
              <a:off x="45720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Машинобуд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87406"/>
            <p:cNvSpPr/>
            <p:nvPr/>
          </p:nvSpPr>
          <p:spPr>
            <a:xfrm>
              <a:off x="259092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Фармаце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ична пром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87407"/>
            <p:cNvSpPr/>
            <p:nvPr/>
          </p:nvSpPr>
          <p:spPr>
            <a:xfrm>
              <a:off x="472464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Деревооброб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а і Целюлозно-паперова промис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87408"/>
            <p:cNvSpPr/>
            <p:nvPr/>
          </p:nvSpPr>
          <p:spPr>
            <a:xfrm>
              <a:off x="4876200" y="37558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Кольорова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87409"/>
            <p:cNvSpPr/>
            <p:nvPr/>
          </p:nvSpPr>
          <p:spPr>
            <a:xfrm>
              <a:off x="6858360" y="55036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екстильна промисл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87410"/>
            <p:cNvSpPr/>
            <p:nvPr/>
          </p:nvSpPr>
          <p:spPr>
            <a:xfrm>
              <a:off x="243756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Черна 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87411"/>
            <p:cNvSpPr/>
            <p:nvPr/>
          </p:nvSpPr>
          <p:spPr>
            <a:xfrm>
              <a:off x="487620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Хімічна промис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87412"/>
            <p:cNvSpPr/>
            <p:nvPr/>
          </p:nvSpPr>
          <p:spPr>
            <a:xfrm>
              <a:off x="2437560" y="37558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Паливно-енергетичний компле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305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0920" y="0"/>
            <a:ext cx="8208720" cy="64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292929"/>
                </a:solidFill>
                <a:latin typeface="Arlekino"/>
              </a:rPr>
              <a:t>Великобританія</a:t>
            </a:r>
            <a:br>
              <a:rPr sz="8000"/>
            </a:br>
            <a:r>
              <a:rPr b="1" lang="en-GB" sz="7000" spc="-1" strike="noStrike">
                <a:solidFill>
                  <a:srgbClr val="292929"/>
                </a:solidFill>
                <a:latin typeface="Palatino Linotype"/>
              </a:rPr>
              <a:t> </a:t>
            </a:r>
            <a:br>
              <a:rPr sz="6000"/>
            </a:br>
            <a:r>
              <a:rPr b="0" lang="uk-UA" sz="4800" spc="-1" strike="noStrike">
                <a:solidFill>
                  <a:srgbClr val="2f5897"/>
                </a:solidFill>
                <a:latin typeface="Times New Roman"/>
              </a:rPr>
              <a:t>(Сполучене Королівство Великобританії та Північної Ірландії)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5959440" y="2114640"/>
            <a:ext cx="30970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остіндустріальна краї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Мала частка зайняти у сільському господарст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geography.su/atlas/item/f00/s00/z0000000/pic/map060.jpg"/>
          <p:cNvPicPr/>
          <p:nvPr/>
        </p:nvPicPr>
        <p:blipFill>
          <a:blip r:embed="rId2"/>
          <a:srcRect l="0" t="0" r="-25" b="-25"/>
          <a:stretch/>
        </p:blipFill>
        <p:spPr>
          <a:xfrm>
            <a:off x="395280" y="60480"/>
            <a:ext cx="532908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124000" y="44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977920" cy="2233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41120" y="1177920"/>
            <a:ext cx="58327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ЕК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 нафтовидобувна компанія «Брічіш Петроліум», 76% - ТЕС (Йоркшир, Великий Лондон), 23% - АЕС (узбережжя на зх., пд-сх.), 1% - ГЕС (Шотланді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Чорна та кольорова металургія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чавун, сталь, алюміній, мідь, цинк, олово та і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Машинобудування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акетобудування, точне,</a:t>
            </a: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літакобудування, автомобілебудування, верстатобудування, корабле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3" descr=""/>
          <p:cNvPicPr/>
          <p:nvPr/>
        </p:nvPicPr>
        <p:blipFill>
          <a:blip r:embed="rId3"/>
          <a:srcRect l="0" t="0" r="0" b="-99"/>
          <a:stretch/>
        </p:blipFill>
        <p:spPr>
          <a:xfrm>
            <a:off x="5724360" y="2870280"/>
            <a:ext cx="2405160" cy="13698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"/>
          <p:cNvPicPr/>
          <p:nvPr/>
        </p:nvPicPr>
        <p:blipFill>
          <a:blip r:embed="rId4"/>
          <a:stretch/>
        </p:blipFill>
        <p:spPr>
          <a:xfrm>
            <a:off x="141120" y="4286160"/>
            <a:ext cx="2873520" cy="1797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"/>
          <p:cNvPicPr/>
          <p:nvPr/>
        </p:nvPicPr>
        <p:blipFill>
          <a:blip r:embed="rId5"/>
          <a:stretch/>
        </p:blipFill>
        <p:spPr>
          <a:xfrm>
            <a:off x="3203640" y="4527720"/>
            <a:ext cx="2666880" cy="1495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"/>
          <p:cNvPicPr/>
          <p:nvPr/>
        </p:nvPicPr>
        <p:blipFill>
          <a:blip r:embed="rId6"/>
          <a:stretch/>
        </p:blipFill>
        <p:spPr>
          <a:xfrm>
            <a:off x="6084720" y="4359240"/>
            <a:ext cx="294012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141120" y="549360"/>
            <a:ext cx="58327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Хімічна промисловість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– пластмаси, СВ, парфуми, ліки (Великий Лондон), мінеральна добрива та сода (Йоркши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Текстиль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вовняні тканини (Йоркшир), бавовняні тканини (Ланкшир), Лляні тканини (Ольстер), трикотаж (Сх. Мідлен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молочне скотарство, свинарство, птахівництво (Сх., Пд-Сх. Англії), вівчарство, м'ясне скотарство (Шотландія, Уель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2"/>
          <a:srcRect l="0" t="0" r="0" b="56"/>
          <a:stretch/>
        </p:blipFill>
        <p:spPr>
          <a:xfrm>
            <a:off x="6156360" y="317520"/>
            <a:ext cx="2733480" cy="12034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"/>
          <p:cNvPicPr/>
          <p:nvPr/>
        </p:nvPicPr>
        <p:blipFill>
          <a:blip r:embed="rId3"/>
          <a:stretch/>
        </p:blipFill>
        <p:spPr>
          <a:xfrm>
            <a:off x="5983200" y="2421000"/>
            <a:ext cx="259560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"/>
          <p:cNvPicPr/>
          <p:nvPr/>
        </p:nvPicPr>
        <p:blipFill>
          <a:blip r:embed="rId4"/>
          <a:stretch/>
        </p:blipFill>
        <p:spPr>
          <a:xfrm>
            <a:off x="179280" y="3841920"/>
            <a:ext cx="3287880" cy="18334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"/>
          <p:cNvPicPr/>
          <p:nvPr/>
        </p:nvPicPr>
        <p:blipFill>
          <a:blip r:embed="rId5"/>
          <a:stretch/>
        </p:blipFill>
        <p:spPr>
          <a:xfrm>
            <a:off x="3552840" y="4110120"/>
            <a:ext cx="2448000" cy="2093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"/>
          <p:cNvPicPr/>
          <p:nvPr/>
        </p:nvPicPr>
        <p:blipFill>
          <a:blip r:embed="rId6"/>
          <a:stretch/>
        </p:blipFill>
        <p:spPr>
          <a:xfrm>
            <a:off x="6143760" y="4076640"/>
            <a:ext cx="2759040" cy="22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324000" y="765000"/>
            <a:ext cx="38163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ернові культури - ячмінь, овес, пшениця, цукровий буряк, кормові культури, садівництво (Сх., Пд-Сх. Англії), картоплярство (Ольсте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Пивовар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- пивоварний завод Б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2"/>
          <a:stretch/>
        </p:blipFill>
        <p:spPr>
          <a:xfrm>
            <a:off x="4427640" y="15228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3"/>
          <a:stretch/>
        </p:blipFill>
        <p:spPr>
          <a:xfrm>
            <a:off x="5580000" y="4508640"/>
            <a:ext cx="154296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560" y="130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cademyCTT"/>
              </a:rPr>
              <a:t>Зовнішня торгівля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50920" y="982800"/>
            <a:ext cx="871380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м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еральна сировина (залізна руда, марганцева руда, поліметалеві руди, алюмінієві руди та і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туральний каучу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одовольчі товар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Ек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ф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дкісні та кольорові мета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шини (верстати, літаки, автомобілі, ракети, електронік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ластмас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Лі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Характерні зміни в галузевій структурі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непад та відставання деяких традиційних галузей промисловості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ий розвиток багатогалузевого машинобудування, хімічної промисловост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омисловість країни працює на імпортній сировині. Ті орієнтована на зовнішній рино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овітні галузі виробництва – електроніка, верстатобудування, фармацевтична промисловіс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радиційні галуз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автомобілебудування, авіабудування, електротехніка, деревообробка (темпи розвитку знижуються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арі промислові галузі – гірничовідобувна, чорна металургія, текстиль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иси сучасної економіки Великобританії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илення ролі державно-монополістичного капіталу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никнення в економіку іноземних монополій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елику роль у розвитку економіки відіграє членство країни в ЄС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темпів росту ВВП ( на душу населення $ 22 2000)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обсягів капіталовкладень у галузі, що визначають НТП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в'язки з Україною.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ри міста України – Київ, Донецьк, Хар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мають міста-побратими Единбург, Белфаст, Лондон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Україні відкриті спільні підприємства в Черкасах та Горлівці («Стирол», «Азот»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країна підтримує торгівельні зв'язки з Великобританією – купує готовий одяг, медикамент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ж провідними вищими навчальними закладами існує обмін студентськими делегаціями; підтримуються зв'язки на рівні культурних програм та розвивається туриз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55280" y="-360"/>
            <a:ext cx="453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stounhendg3" descr=""/>
          <p:cNvPicPr/>
          <p:nvPr/>
        </p:nvPicPr>
        <p:blipFill>
          <a:blip r:embed="rId2"/>
          <a:stretch/>
        </p:blipFill>
        <p:spPr>
          <a:xfrm>
            <a:off x="0" y="836640"/>
            <a:ext cx="5040360" cy="3589200"/>
          </a:xfrm>
          <a:prstGeom prst="rect">
            <a:avLst/>
          </a:prstGeom>
          <a:ln w="0">
            <a:noFill/>
          </a:ln>
        </p:spPr>
      </p:pic>
      <p:pic>
        <p:nvPicPr>
          <p:cNvPr id="232" name="London_Eye1" descr=""/>
          <p:cNvPicPr/>
          <p:nvPr/>
        </p:nvPicPr>
        <p:blipFill>
          <a:blip r:embed="rId3"/>
          <a:stretch/>
        </p:blipFill>
        <p:spPr>
          <a:xfrm>
            <a:off x="5003640" y="3776760"/>
            <a:ext cx="4140360" cy="3081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651640" y="2205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ндонське о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ouses"/>
          <p:cNvPicPr/>
          <p:nvPr/>
        </p:nvPicPr>
        <p:blipFill>
          <a:blip r:embed="rId2"/>
          <a:stretch/>
        </p:blipFill>
        <p:spPr>
          <a:xfrm>
            <a:off x="0" y="0"/>
            <a:ext cx="5508720" cy="3730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79280" y="4437000"/>
            <a:ext cx="53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Вестмінстерськийпалацзізнаменитоюгодинноювежею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іг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ен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ТутзасідаєпарламентСполученогоКоролівства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big_ben" descr=""/>
          <p:cNvPicPr/>
          <p:nvPr/>
        </p:nvPicPr>
        <p:blipFill>
          <a:blip r:embed="rId3"/>
          <a:stretch/>
        </p:blipFill>
        <p:spPr>
          <a:xfrm>
            <a:off x="5543640" y="2249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формувати в учнів систему знань про особливості географічного положення, населення та господарства Великої Британії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досконалювати  навички складання комплексної економіко-географічної характеристики країни за допомогою карт атласа,  підручника та інших джерел географічних знан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глянути можливості співпраці  з Україною в майбутньом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ивати аналітичне мислення та навички системного аналіз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ховувати інтерес до географічних знань, до особливостей окремих країн світу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4936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ета уроку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Tower_of_London"/>
          <p:cNvPicPr/>
          <p:nvPr/>
        </p:nvPicPr>
        <p:blipFill>
          <a:blip r:embed="rId2"/>
          <a:stretch/>
        </p:blipFill>
        <p:spPr>
          <a:xfrm>
            <a:off x="0" y="0"/>
            <a:ext cx="4427640" cy="4049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4932360" y="476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ондонський Тауер   королівська фортеця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Tower"/>
          <p:cNvPicPr/>
          <p:nvPr/>
        </p:nvPicPr>
        <p:blipFill>
          <a:blip r:embed="rId3"/>
          <a:stretch/>
        </p:blipFill>
        <p:spPr>
          <a:xfrm>
            <a:off x="4427640" y="3546360"/>
            <a:ext cx="471636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StPaulsCathedralSouth"/>
          <p:cNvPicPr/>
          <p:nvPr/>
        </p:nvPicPr>
        <p:blipFill>
          <a:blip r:embed="rId2"/>
          <a:stretch/>
        </p:blipFill>
        <p:spPr>
          <a:xfrm>
            <a:off x="0" y="0"/>
            <a:ext cx="4471920" cy="4508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5076720" y="4762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обор святого Пав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St.Pauls_-300x300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464328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Buckingham_Palace_-_May_2006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4111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179280" y="404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лац Букінгемский  офіційна резиденція королівської сім'ї в Лондо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Buckingam_Palace" descr=""/>
          <p:cNvPicPr/>
          <p:nvPr/>
        </p:nvPicPr>
        <p:blipFill>
          <a:blip r:embed="rId3"/>
          <a:stretch/>
        </p:blipFill>
        <p:spPr>
          <a:xfrm>
            <a:off x="0" y="2610000"/>
            <a:ext cx="40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ritish_Museum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nside2-150x150" descr=""/>
          <p:cNvPicPr/>
          <p:nvPr/>
        </p:nvPicPr>
        <p:blipFill>
          <a:blip r:embed="rId3"/>
          <a:stretch/>
        </p:blipFill>
        <p:spPr>
          <a:xfrm>
            <a:off x="4500720" y="2214720"/>
            <a:ext cx="4643280" cy="46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59280" y="6915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ританський муз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289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 Пікаділі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adilly_Circus" descr=""/>
          <p:cNvPicPr/>
          <p:nvPr/>
        </p:nvPicPr>
        <p:blipFill>
          <a:blip r:embed="rId2"/>
          <a:stretch/>
        </p:blipFill>
        <p:spPr>
          <a:xfrm>
            <a:off x="0" y="1052640"/>
            <a:ext cx="4500720" cy="3716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rafalgar_square" descr=""/>
          <p:cNvPicPr/>
          <p:nvPr/>
        </p:nvPicPr>
        <p:blipFill>
          <a:blip r:embed="rId3"/>
          <a:stretch/>
        </p:blipFill>
        <p:spPr>
          <a:xfrm>
            <a:off x="4500720" y="314172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788000" y="155736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рафальга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8920" y="764640"/>
            <a:ext cx="3995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зер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х-Нес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Loch_Ness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3505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ouble-decker"/>
          <p:cNvPicPr/>
          <p:nvPr/>
        </p:nvPicPr>
        <p:blipFill>
          <a:blip r:embed="rId3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11280" y="4581360"/>
            <a:ext cx="37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Двоповерхові автоб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ідсумки уроку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сформували знання про сучасну Великобританію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довели, що Великобританія високорозвинена, постіндустріальна країна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визначили характерні риси розвитку економіки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розглянули можливості співпраці з Україною в майбутньому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92160" y="18432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ВЕЛИКОБРИТАНІЯ НА КАРТІ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world map uk brown"/>
          <p:cNvPicPr/>
          <p:nvPr/>
        </p:nvPicPr>
        <p:blipFill>
          <a:blip r:embed="rId2"/>
          <a:stretch/>
        </p:blipFill>
        <p:spPr>
          <a:xfrm>
            <a:off x="92160" y="1125360"/>
            <a:ext cx="8967600" cy="492768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3924360" y="907920"/>
            <a:ext cx="360360" cy="1152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great-britain brown"/>
          <p:cNvPicPr/>
          <p:nvPr/>
        </p:nvPicPr>
        <p:blipFill>
          <a:blip r:embed="rId3"/>
          <a:stretch/>
        </p:blipFill>
        <p:spPr>
          <a:xfrm>
            <a:off x="4716360" y="2205000"/>
            <a:ext cx="37242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395280" y="476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Столиця Великобританії </a:t>
            </a:r>
            <a:r>
              <a:rPr b="1" lang="en-GB" sz="3600" spc="-1" strike="noStrike">
                <a:solidFill>
                  <a:srgbClr val="000099"/>
                </a:solidFill>
                <a:latin typeface="AcademyCTT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708360" y="602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London_Skyline"/>
          <p:cNvPicPr/>
          <p:nvPr/>
        </p:nvPicPr>
        <p:blipFill>
          <a:blip r:embed="rId2"/>
          <a:stretch/>
        </p:blipFill>
        <p:spPr>
          <a:xfrm>
            <a:off x="3851280" y="2637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6012000" y="54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ЛОН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London_Landsat"/>
          <p:cNvPicPr/>
          <p:nvPr/>
        </p:nvPicPr>
        <p:blipFill>
          <a:blip r:embed="rId3"/>
          <a:stretch/>
        </p:blipFill>
        <p:spPr>
          <a:xfrm>
            <a:off x="324000" y="1844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3676680" y="1828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ь так він виглядає з космос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 flipH="1">
            <a:off x="3131640" y="1989000"/>
            <a:ext cx="57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39528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 ось так - з берега річки Тем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3059280" y="49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7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7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11280" y="168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cademyCTT"/>
              </a:rPr>
              <a:t>«Візитна картка Великобританії</a:t>
            </a: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08000" y="836640"/>
            <a:ext cx="89280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Площа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244,4 тис. км. к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Населе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9,5 млн. чолові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толиц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Державний лад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конституційна монархія (королівство), унітарна держа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клад регіону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92 адміністративні одиниці у складі 4-х історичних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Англія – 45 графств + Великий 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Уельс – 8 граф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Шотландія – 9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Ольстер (Північна Ірландія) – 1 обла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 острівних територі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Володі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13 територій (Гібралтар, острови Святої Єлени, Фолклендські острови, Бермудські острови, Ангілья та ін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Грошова одиниця: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 фунт стерлінг = 100 пенс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Elizabeth_II"/>
          <p:cNvPicPr/>
          <p:nvPr/>
        </p:nvPicPr>
        <p:blipFill>
          <a:blip r:embed="rId2"/>
          <a:stretch/>
        </p:blipFill>
        <p:spPr>
          <a:xfrm>
            <a:off x="6156360" y="1341360"/>
            <a:ext cx="263376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6284880" y="5300640"/>
            <a:ext cx="23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нація Єлизавети II в 1953 роц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16000" y="33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Гла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держави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- короле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Єлизавета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Queen wedding"/>
          <p:cNvPicPr/>
          <p:nvPr/>
        </p:nvPicPr>
        <p:blipFill>
          <a:blip r:embed="rId3"/>
          <a:stretch/>
        </p:blipFill>
        <p:spPr>
          <a:xfrm>
            <a:off x="384120" y="1341360"/>
            <a:ext cx="263844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lizabeth_II_80th"/>
          <p:cNvPicPr/>
          <p:nvPr/>
        </p:nvPicPr>
        <p:blipFill>
          <a:blip r:embed="rId4"/>
          <a:stretch/>
        </p:blipFill>
        <p:spPr>
          <a:xfrm>
            <a:off x="3238560" y="1962000"/>
            <a:ext cx="270180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3203640" y="580536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лева Єлизавета II на своє 80-річчя в 2006 ро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24000" y="530064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Весілля принцеси Єлизавети і графа Едінбурзького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1947 році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42920" y="566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evropa.org.ua/images/europe_map_f.jpg"/>
          <p:cNvPicPr/>
          <p:nvPr/>
        </p:nvPicPr>
        <p:blipFill>
          <a:blip r:embed="rId2"/>
          <a:srcRect l="0" t="0" r="-15" b="-32"/>
          <a:stretch/>
        </p:blipFill>
        <p:spPr>
          <a:xfrm>
            <a:off x="120600" y="255600"/>
            <a:ext cx="8902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uk-map plain"/>
          <p:cNvPicPr/>
          <p:nvPr/>
        </p:nvPicPr>
        <p:blipFill>
          <a:blip r:embed="rId2"/>
          <a:stretch/>
        </p:blipFill>
        <p:spPr>
          <a:xfrm>
            <a:off x="1784520" y="907920"/>
            <a:ext cx="5451480" cy="5616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453440" y="436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нг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4365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Шот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38036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е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79280" y="981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івнічна Ір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lag_of_England"/>
          <p:cNvPicPr/>
          <p:nvPr/>
        </p:nvPicPr>
        <p:blipFill>
          <a:blip r:embed="rId3"/>
          <a:stretch/>
        </p:blipFill>
        <p:spPr>
          <a:xfrm>
            <a:off x="7386480" y="4888080"/>
            <a:ext cx="1289160" cy="7729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3" name="Picture 8" descr="Flag_of_Scotland"/>
          <p:cNvPicPr/>
          <p:nvPr/>
        </p:nvPicPr>
        <p:blipFill>
          <a:blip r:embed="rId4"/>
          <a:stretch/>
        </p:blipFill>
        <p:spPr>
          <a:xfrm>
            <a:off x="322200" y="4869000"/>
            <a:ext cx="1225440" cy="74124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4" name="Picture 9" descr="Flag_of_Wales"/>
          <p:cNvPicPr/>
          <p:nvPr/>
        </p:nvPicPr>
        <p:blipFill>
          <a:blip r:embed="rId5"/>
          <a:stretch/>
        </p:blipFill>
        <p:spPr>
          <a:xfrm>
            <a:off x="7236000" y="1628640"/>
            <a:ext cx="1290600" cy="7747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5" name="Picture 10" descr="Flag_of_Northern_Ireland"/>
          <p:cNvPicPr/>
          <p:nvPr/>
        </p:nvPicPr>
        <p:blipFill>
          <a:blip r:embed="rId6"/>
          <a:stretch/>
        </p:blipFill>
        <p:spPr>
          <a:xfrm>
            <a:off x="395280" y="1700280"/>
            <a:ext cx="1295280" cy="64908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sp>
        <p:nvSpPr>
          <p:cNvPr id="136" name="Text Box 11"/>
          <p:cNvSpPr/>
          <p:nvPr/>
        </p:nvSpPr>
        <p:spPr>
          <a:xfrm>
            <a:off x="252360" y="260280"/>
            <a:ext cx="87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cademyCTT"/>
              </a:rPr>
              <a:t>ІСТОРИЧНІ ПРОВІНЦІЇ ВЕЛИКОБРИТАН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51:58Z</dcterms:created>
  <dc:creator>Robert Brundrett</dc:creator>
  <dc:description/>
  <dc:language>en-US</dc:language>
  <cp:lastModifiedBy>home</cp:lastModifiedBy>
  <dcterms:modified xsi:type="dcterms:W3CDTF">2011-11-19T19:56:36Z</dcterms:modified>
  <cp:revision>133</cp:revision>
  <dc:subject/>
  <dc:title>Great Britain  (United Kingdom of Great Britain and Northern Ireland)   Великобритания  (Соединенное Королевство Великобритании и Северной Ирланд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33000000000001024140</vt:lpwstr>
  </property>
</Properties>
</file>