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Anthems%20-%20British%20National%20Anthem%20-%20Crown%20Imperial%20Anthem%20shortened.wav" ContentType="audio/x-wav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0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7121-0DBC-4DE3-B352-D1C4FCC88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6336-A7FB-4C80-8CC2-870711E54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CB8B-6AB5-4ABC-BC05-509E0AAF7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DDA3-86DB-45A7-AD17-A4D8B7CCA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1001-3670-4E95-8E99-DBF930B05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E02D-E3D2-48F9-9CBA-FCE44E365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BF3D-3143-4B8E-AC37-3FCCB2886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7F6F-4FDC-41BD-8B36-290838C1F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0C61-0184-44EC-9F3B-E4908A0AE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9A40-EE4F-4904-BA19-83F99CF97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222B-015E-4B4D-8EBB-6EB0BB4A4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9A01-84B9-45DD-88F1-C3BA0D9DA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B6E3-D0D6-4FB2-AF8A-749DAAD69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0085-606C-4722-99D5-EBFE7BDC4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C132-2AC2-4082-A00D-34D5A2CA3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BB50-AA7E-4812-AD25-5AA6A081C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186F-0FA3-4904-B633-E7C35ECFC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762-0DD1-421C-9408-BFCA9CCD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79D-BDB8-4791-8412-D14B167A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1D5-4C1C-49C1-9FD0-625406E2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91B-8D4B-42B6-AB84-DA40C9DA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0DC1-059C-43F4-816E-01FA7AD1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9466-6529-4760-8766-61A9F0ED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A241-7B2C-4C3A-A3A4-CC8FDCA7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059F-5126-44A8-9947-2ADB8C2B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ACBF-F8A2-4E38-B3BA-BE682929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3805-4B6D-430C-BB77-A16B4371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14A3-5378-45F7-812E-11C14DCE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273-94E6-418D-B7E3-560C5F15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9CE9-479A-4F09-A14F-22B04EBB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0A49-F6E5-4061-986C-3BAE8413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F1BF-338A-49CB-82FE-1BF5E73F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FF70-7C79-42E4-9781-D524A113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A27B-A972-4571-AC93-0FEF790C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E0D-F254-4A66-B9CB-F78BD088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0C0D-B3B8-43C6-8F94-C0253CD6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CF3-4642-4519-837D-6291A1A8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0AD-A0AC-48E4-B0BF-A83E9F0E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2FF-C903-4D69-8DDF-EC234B27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799-AB38-4D09-A3B5-3A1344EC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6DE-AA1C-4D86-AE8B-6478E9A4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F307-29DB-4E2E-B5B3-2F4F2A74988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D2DA-176D-4BF8-B3A9-66E441E7889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Anthems%20-%20British%20National%20Anthem%20-%20Crown%20Imperial%20Anthem%20shortene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15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найти відповідність країн</a:t>
            </a:r>
            <a:br>
              <a:rPr sz="2800"/>
            </a:b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Франція                                 1. Токі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2. Ізраїль                                   2. Париж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. Іспанія                                  3. Бразилі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4. Турція                                   4. Тель-Авів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. Бразилія                                5. Анкар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. Японія                                    6. Алжир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7. Непал                                     7. Кит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. Монак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8.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адрид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9. Алжир                                    9. Катманду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0. Перу                                    10. Монак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1. Еквадор                               11.Лім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2.Уругвай                                12. Канбер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3. Іран                                       13.Монтевіде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4. Австралія                            14. Тегеран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Flag_of_the_United_Kingdom"/>
          <p:cNvPicPr/>
          <p:nvPr/>
        </p:nvPicPr>
        <p:blipFill>
          <a:blip r:embed="rId2"/>
          <a:stretch/>
        </p:blipFill>
        <p:spPr>
          <a:xfrm>
            <a:off x="0" y="2060640"/>
            <a:ext cx="4427640" cy="27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Text Box 6"/>
          <p:cNvSpPr/>
          <p:nvPr/>
        </p:nvSpPr>
        <p:spPr>
          <a:xfrm>
            <a:off x="-181080" y="18900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ПРАПОР ВЕЛИКОБРИТАН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ject 15" descr=""/>
          <p:cNvPicPr/>
          <p:nvPr/>
        </p:nvPicPr>
        <p:blipFill>
          <a:blip r:embed="rId3"/>
          <a:stretch/>
        </p:blipFill>
        <p:spPr>
          <a:xfrm>
            <a:off x="9144000" y="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UK_Royal_Coat_of_Arms"/>
          <p:cNvPicPr/>
          <p:nvPr/>
        </p:nvPicPr>
        <p:blipFill>
          <a:blip r:embed="rId4"/>
          <a:stretch/>
        </p:blipFill>
        <p:spPr>
          <a:xfrm>
            <a:off x="5076720" y="1268280"/>
            <a:ext cx="3851280" cy="380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292720" y="2602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ОРОЛІВСЬКИЙ ГЕР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8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8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49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www.otpusk.com/mappics/29526100_1125665107.jpg"/>
          <p:cNvPicPr/>
          <p:nvPr/>
        </p:nvPicPr>
        <p:blipFill>
          <a:blip r:embed="rId2"/>
          <a:srcRect l="0" t="0" r="0" b="35"/>
          <a:stretch/>
        </p:blipFill>
        <p:spPr>
          <a:xfrm>
            <a:off x="250920" y="44280"/>
            <a:ext cx="5256000" cy="670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3" name="Прямоугольник 1"/>
          <p:cNvSpPr/>
          <p:nvPr/>
        </p:nvSpPr>
        <p:spPr>
          <a:xfrm>
            <a:off x="5580000" y="1413000"/>
            <a:ext cx="3475080" cy="31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Рельє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Рівнини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Мідленд, Лондонс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Гори (давні)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еннінські (700 м), Кембрійські, Північно-Шотландське нагір'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324000" y="260280"/>
            <a:ext cx="86598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Корисні копали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Кам'яне вугілля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Йоркшир, північний-схід, південний Уельс, Шотландія, західний Мідленд та ін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Нафта, газ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івнічн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Залізна руда: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східний Мідле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Калійна та кам'яна сіль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Йоркш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6156360" y="1341360"/>
            <a:ext cx="1008000" cy="8636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Трапеция 3"/>
          <p:cNvSpPr/>
          <p:nvPr/>
        </p:nvSpPr>
        <p:spPr>
          <a:xfrm>
            <a:off x="4076640" y="2457360"/>
            <a:ext cx="576360" cy="935280"/>
          </a:xfrm>
          <a:custGeom>
            <a:avLst/>
            <a:gdLst/>
            <a:ahLst/>
            <a:rect l="l" t="t" r="r" b="b"/>
            <a:pathLst>
              <a:path w="576263" h="935038">
                <a:moveTo>
                  <a:pt x="0" y="935038"/>
                </a:moveTo>
                <a:lnTo>
                  <a:pt x="144066" y="0"/>
                </a:lnTo>
                <a:lnTo>
                  <a:pt x="432197" y="0"/>
                </a:lnTo>
                <a:lnTo>
                  <a:pt x="576263" y="935038"/>
                </a:lnTo>
                <a:lnTo>
                  <a:pt x="0" y="93503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758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Трапеция 5"/>
          <p:cNvSpPr/>
          <p:nvPr/>
        </p:nvSpPr>
        <p:spPr>
          <a:xfrm>
            <a:off x="5364000" y="2279520"/>
            <a:ext cx="576360" cy="935280"/>
          </a:xfrm>
          <a:custGeom>
            <a:avLst/>
            <a:gdLst/>
            <a:ahLst/>
            <a:rect l="l" t="t" r="r" b="b"/>
            <a:pathLst>
              <a:path w="576262" h="935038">
                <a:moveTo>
                  <a:pt x="0" y="935038"/>
                </a:moveTo>
                <a:lnTo>
                  <a:pt x="144066" y="0"/>
                </a:lnTo>
                <a:lnTo>
                  <a:pt x="432197" y="0"/>
                </a:lnTo>
                <a:lnTo>
                  <a:pt x="576262" y="935038"/>
                </a:lnTo>
                <a:lnTo>
                  <a:pt x="0" y="935038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Равнобедренный треугольник 4"/>
          <p:cNvSpPr/>
          <p:nvPr/>
        </p:nvSpPr>
        <p:spPr>
          <a:xfrm>
            <a:off x="5472000" y="3789360"/>
            <a:ext cx="1368360" cy="863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Куб 6"/>
          <p:cNvSpPr/>
          <p:nvPr/>
        </p:nvSpPr>
        <p:spPr>
          <a:xfrm>
            <a:off x="2050920" y="5392800"/>
            <a:ext cx="1152720" cy="9698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Куб 8"/>
          <p:cNvSpPr/>
          <p:nvPr/>
        </p:nvSpPr>
        <p:spPr>
          <a:xfrm>
            <a:off x="4486320" y="5276880"/>
            <a:ext cx="1152360" cy="9698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4460760" y="5532480"/>
            <a:ext cx="911520" cy="75420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423720" y="4653000"/>
            <a:ext cx="820908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Клім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Морський, помір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Н.-ЗХ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Температура січня - + 3,5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липня - +1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опади 20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Д.-СХ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Температура січня - + 5,5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липня - +16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опади 6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2" descr=""/>
          <p:cNvPicPr/>
          <p:nvPr/>
        </p:nvPicPr>
        <p:blipFill>
          <a:blip r:embed="rId2"/>
          <a:stretch/>
        </p:blipFill>
        <p:spPr>
          <a:xfrm>
            <a:off x="1187280" y="115920"/>
            <a:ext cx="694224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415800" y="3933720"/>
            <a:ext cx="29955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Bookman Old Style"/>
              </a:rPr>
              <a:t>Водні ресур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Річки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: Темза, Северн, Манчестерський 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265640" cy="27734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"/>
          <p:cNvPicPr/>
          <p:nvPr/>
        </p:nvPicPr>
        <p:blipFill>
          <a:blip r:embed="rId3"/>
          <a:stretch/>
        </p:blipFill>
        <p:spPr>
          <a:xfrm>
            <a:off x="4859280" y="246240"/>
            <a:ext cx="3746520" cy="27511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" descr=""/>
          <p:cNvPicPr/>
          <p:nvPr/>
        </p:nvPicPr>
        <p:blipFill>
          <a:blip r:embed="rId4"/>
          <a:stretch/>
        </p:blipFill>
        <p:spPr>
          <a:xfrm>
            <a:off x="3782880" y="3068640"/>
            <a:ext cx="47800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250920" y="836640"/>
            <a:ext cx="87138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І тип відтворенн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риродний приріст +1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Сальдо міграції – додатне (робітники з Індії, Ірландії, Африки, Карибів, Пд. Європ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Багатонаціональна країна: 80% - англійці, 15% - шотландці, ірландці – 4%, ольстерці, валійці, гел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елігія – християнство (протестантизм, католицизм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Середня густота населення – 243,1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аксимальна – Англія – більше 350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інімальна – Шотландія – до 2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івень урбанізації – 89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Великі міста – Великий Лондон (11 млн.), Великий Манчестер (2,7 млн.), Бірмінгем (2,6 млн.), Глазго (2 млн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егаполіс – Англійський (Лондон - Ліверпул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969840" y="18900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5897"/>
                </a:solidFill>
                <a:latin typeface="Bookman Old Style"/>
              </a:rPr>
              <a:t>НАСЕ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89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Критерії для визначення рівня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оціально-економічного розвитку країн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ВНП та ВВП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Структура господарства.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Галузі спеціалізації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Природний приріст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457200" y="189000"/>
            <a:ext cx="8229600" cy="6479640"/>
            <a:chOff x="457200" y="189000"/>
            <a:chExt cx="8229600" cy="6479640"/>
          </a:xfrm>
        </p:grpSpPr>
        <p:cxnSp>
          <p:nvCxnSpPr>
            <p:cNvPr id="162" name="_s75782"/>
            <p:cNvCxnSpPr>
              <a:stCxn id="163" idx="0"/>
              <a:endCxn id="164" idx="2"/>
            </p:cNvCxnSpPr>
            <p:nvPr/>
          </p:nvCxnSpPr>
          <p:spPr>
            <a:xfrm flipV="1">
              <a:off x="6217920" y="2502720"/>
              <a:ext cx="1440" cy="46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75783"/>
            <p:cNvCxnSpPr>
              <a:stCxn id="166" idx="0"/>
              <a:endCxn id="167" idx="2"/>
            </p:cNvCxnSpPr>
            <p:nvPr/>
          </p:nvCxnSpPr>
          <p:spPr>
            <a:xfrm flipV="1">
              <a:off x="2926800" y="2502720"/>
              <a:ext cx="1440" cy="46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75784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1459800" y="5510520"/>
              <a:ext cx="463320" cy="180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75785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4340520" y="5510520"/>
              <a:ext cx="463320" cy="144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75786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7220520" y="5510520"/>
              <a:ext cx="463320" cy="180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75787"/>
            <p:cNvCxnSpPr>
              <a:stCxn id="164" idx="1"/>
              <a:endCxn id="178" idx="2"/>
            </p:cNvCxnSpPr>
            <p:nvPr/>
          </p:nvCxnSpPr>
          <p:spPr>
            <a:xfrm rot="10800000">
              <a:off x="4571280" y="1113840"/>
              <a:ext cx="411840" cy="92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75788"/>
            <p:cNvCxnSpPr>
              <a:stCxn id="167" idx="3"/>
              <a:endCxn id="178" idx="2"/>
            </p:cNvCxnSpPr>
            <p:nvPr/>
          </p:nvCxnSpPr>
          <p:spPr>
            <a:xfrm flipV="1">
              <a:off x="4159800" y="1113840"/>
              <a:ext cx="412200" cy="92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75789"/>
            <p:cNvCxnSpPr>
              <a:stCxn id="176" idx="0"/>
              <a:endCxn id="178" idx="2"/>
            </p:cNvCxnSpPr>
            <p:nvPr/>
          </p:nvCxnSpPr>
          <p:spPr>
            <a:xfrm flipV="1" rot="16200000">
              <a:off x="4391640" y="1293840"/>
              <a:ext cx="3240720" cy="2880720"/>
            </a:xfrm>
            <a:prstGeom prst="bentConnector3">
              <a:avLst>
                <a:gd name="adj1" fmla="val 7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75790"/>
            <p:cNvCxnSpPr>
              <a:stCxn id="173" idx="0"/>
              <a:endCxn id="178" idx="2"/>
            </p:cNvCxnSpPr>
            <p:nvPr/>
          </p:nvCxnSpPr>
          <p:spPr>
            <a:xfrm flipV="1">
              <a:off x="4572000" y="1114200"/>
              <a:ext cx="1440" cy="324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75791"/>
            <p:cNvCxnSpPr>
              <a:stCxn id="170" idx="0"/>
              <a:endCxn id="178" idx="2"/>
            </p:cNvCxnSpPr>
            <p:nvPr/>
          </p:nvCxnSpPr>
          <p:spPr>
            <a:xfrm flipH="1" flipV="1" rot="5400000">
              <a:off x="1510560" y="1294200"/>
              <a:ext cx="3240720" cy="2880720"/>
            </a:xfrm>
            <a:prstGeom prst="bentConnector3">
              <a:avLst>
                <a:gd name="adj1" fmla="val 7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75792"/>
            <p:cNvSpPr/>
            <p:nvPr/>
          </p:nvSpPr>
          <p:spPr>
            <a:xfrm>
              <a:off x="3337200" y="18900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Групи краї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(за галузевою</a:t>
              </a: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 структурою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75793"/>
            <p:cNvSpPr/>
            <p:nvPr/>
          </p:nvSpPr>
          <p:spPr>
            <a:xfrm>
              <a:off x="45720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Індустріально - аграр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75794"/>
            <p:cNvSpPr/>
            <p:nvPr/>
          </p:nvSpPr>
          <p:spPr>
            <a:xfrm>
              <a:off x="333720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75795"/>
            <p:cNvSpPr/>
            <p:nvPr/>
          </p:nvSpPr>
          <p:spPr>
            <a:xfrm>
              <a:off x="621792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Пост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75796"/>
            <p:cNvSpPr/>
            <p:nvPr/>
          </p:nvSpPr>
          <p:spPr>
            <a:xfrm>
              <a:off x="1692720" y="157752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Аграр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75797"/>
            <p:cNvSpPr/>
            <p:nvPr/>
          </p:nvSpPr>
          <p:spPr>
            <a:xfrm>
              <a:off x="4983120" y="157752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Аграрно-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75798"/>
            <p:cNvSpPr/>
            <p:nvPr/>
          </p:nvSpPr>
          <p:spPr>
            <a:xfrm>
              <a:off x="6219000" y="574308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фера послуг &gt;за матеріальну сфер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75799"/>
            <p:cNvSpPr/>
            <p:nvPr/>
          </p:nvSpPr>
          <p:spPr>
            <a:xfrm>
              <a:off x="3338640" y="574308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≤ 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75800"/>
            <p:cNvSpPr/>
            <p:nvPr/>
          </p:nvSpPr>
          <p:spPr>
            <a:xfrm>
              <a:off x="457920" y="574308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≤ 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75801"/>
            <p:cNvSpPr/>
            <p:nvPr/>
          </p:nvSpPr>
          <p:spPr>
            <a:xfrm>
              <a:off x="1692720" y="296604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&gt;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75802"/>
            <p:cNvSpPr/>
            <p:nvPr/>
          </p:nvSpPr>
          <p:spPr>
            <a:xfrm>
              <a:off x="4983120" y="296604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≥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ЧАСТКА ВВП В ГАЛУЗЯХ ГОСПОДАРСТВА КРАЇН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981000"/>
          <a:ext cx="8229600" cy="5687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раїн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мисловість і будівництво, (%)</a:t>
                      </a:r>
                      <a:r>
                        <a:rPr b="1" lang="ru-RU" sz="2000" spc="-1" strike="noStrike">
                          <a:solidFill>
                            <a:srgbClr val="7f7f7f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/г, рибальство, лісове господарство,(%)</a:t>
                      </a: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фера послуг, (%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еликобритані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</a:t>
                      </a: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ранц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Італ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ос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країн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457200" y="260280"/>
            <a:ext cx="8229240" cy="6408360"/>
            <a:chOff x="457200" y="260280"/>
            <a:chExt cx="8229240" cy="6408360"/>
          </a:xfrm>
        </p:grpSpPr>
        <p:cxnSp>
          <p:nvCxnSpPr>
            <p:cNvPr id="186" name="_s187396"/>
            <p:cNvCxnSpPr>
              <a:stCxn id="187" idx="3"/>
              <a:endCxn id="188" idx="2"/>
            </p:cNvCxnSpPr>
            <p:nvPr/>
          </p:nvCxnSpPr>
          <p:spPr>
            <a:xfrm flipV="1">
              <a:off x="4267080" y="1424520"/>
              <a:ext cx="305640" cy="29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87397"/>
            <p:cNvCxnSpPr>
              <a:stCxn id="190" idx="1"/>
              <a:endCxn id="188" idx="2"/>
            </p:cNvCxnSpPr>
            <p:nvPr/>
          </p:nvCxnSpPr>
          <p:spPr>
            <a:xfrm rot="10800000">
              <a:off x="4571640" y="1424520"/>
              <a:ext cx="304560" cy="116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187398"/>
            <p:cNvCxnSpPr>
              <a:stCxn id="192" idx="3"/>
              <a:endCxn id="188" idx="2"/>
            </p:cNvCxnSpPr>
            <p:nvPr/>
          </p:nvCxnSpPr>
          <p:spPr>
            <a:xfrm flipV="1">
              <a:off x="4267080" y="1424880"/>
              <a:ext cx="305640" cy="116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87399"/>
            <p:cNvCxnSpPr>
              <a:stCxn id="194" idx="0"/>
              <a:endCxn id="188" idx="2"/>
            </p:cNvCxnSpPr>
            <p:nvPr/>
          </p:nvCxnSpPr>
          <p:spPr>
            <a:xfrm flipV="1" rot="16200000">
              <a:off x="4133160" y="1863360"/>
              <a:ext cx="4078800" cy="320148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87400"/>
            <p:cNvCxnSpPr>
              <a:stCxn id="196" idx="1"/>
              <a:endCxn id="188" idx="2"/>
            </p:cNvCxnSpPr>
            <p:nvPr/>
          </p:nvCxnSpPr>
          <p:spPr>
            <a:xfrm rot="10800000">
              <a:off x="4571640" y="1424520"/>
              <a:ext cx="304560" cy="29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87401"/>
            <p:cNvCxnSpPr>
              <a:stCxn id="198" idx="0"/>
              <a:endCxn id="188" idx="2"/>
            </p:cNvCxnSpPr>
            <p:nvPr/>
          </p:nvCxnSpPr>
          <p:spPr>
            <a:xfrm flipV="1" rot="16200000">
              <a:off x="3066120" y="2930400"/>
              <a:ext cx="4078800" cy="106740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87402"/>
            <p:cNvCxnSpPr>
              <a:stCxn id="200" idx="0"/>
              <a:endCxn id="188" idx="2"/>
            </p:cNvCxnSpPr>
            <p:nvPr/>
          </p:nvCxnSpPr>
          <p:spPr>
            <a:xfrm flipH="1" flipV="1" rot="5400000">
              <a:off x="1999080" y="2930400"/>
              <a:ext cx="4078800" cy="106740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187403"/>
            <p:cNvCxnSpPr>
              <a:stCxn id="202" idx="0"/>
              <a:endCxn id="188" idx="2"/>
            </p:cNvCxnSpPr>
            <p:nvPr/>
          </p:nvCxnSpPr>
          <p:spPr>
            <a:xfrm flipH="1" flipV="1" rot="5400000">
              <a:off x="932400" y="1863360"/>
              <a:ext cx="4078800" cy="320148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8" name="_s187404"/>
            <p:cNvSpPr/>
            <p:nvPr/>
          </p:nvSpPr>
          <p:spPr>
            <a:xfrm>
              <a:off x="3656880" y="2602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Галузева структура господарства Великобрита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ні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87405"/>
            <p:cNvSpPr/>
            <p:nvPr/>
          </p:nvSpPr>
          <p:spPr>
            <a:xfrm>
              <a:off x="45720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Машинобуду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87406"/>
            <p:cNvSpPr/>
            <p:nvPr/>
          </p:nvSpPr>
          <p:spPr>
            <a:xfrm>
              <a:off x="259092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Фармацев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тична пром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87407"/>
            <p:cNvSpPr/>
            <p:nvPr/>
          </p:nvSpPr>
          <p:spPr>
            <a:xfrm>
              <a:off x="472464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Деревооброб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на і Целюлозно-паперова промис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87408"/>
            <p:cNvSpPr/>
            <p:nvPr/>
          </p:nvSpPr>
          <p:spPr>
            <a:xfrm>
              <a:off x="4876200" y="3755880"/>
              <a:ext cx="182808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Кольорова металургі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87409"/>
            <p:cNvSpPr/>
            <p:nvPr/>
          </p:nvSpPr>
          <p:spPr>
            <a:xfrm>
              <a:off x="6858360" y="5503680"/>
              <a:ext cx="182808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Текстильна промисл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87410"/>
            <p:cNvSpPr/>
            <p:nvPr/>
          </p:nvSpPr>
          <p:spPr>
            <a:xfrm>
              <a:off x="2437560" y="200772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Черна  металургі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87411"/>
            <p:cNvSpPr/>
            <p:nvPr/>
          </p:nvSpPr>
          <p:spPr>
            <a:xfrm>
              <a:off x="4876200" y="200772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Хімічна промис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87412"/>
            <p:cNvSpPr/>
            <p:nvPr/>
          </p:nvSpPr>
          <p:spPr>
            <a:xfrm>
              <a:off x="2437560" y="37558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Паливно-енергетичний комплек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3050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50920" y="0"/>
            <a:ext cx="8208720" cy="648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292929"/>
                </a:solidFill>
                <a:latin typeface="Arlekino"/>
              </a:rPr>
              <a:t>Великобританія</a:t>
            </a:r>
            <a:br>
              <a:rPr sz="8000"/>
            </a:br>
            <a:r>
              <a:rPr b="1" lang="en-GB" sz="7000" spc="-1" strike="noStrike">
                <a:solidFill>
                  <a:srgbClr val="292929"/>
                </a:solidFill>
                <a:latin typeface="Palatino Linotype"/>
              </a:rPr>
              <a:t> </a:t>
            </a:r>
            <a:br>
              <a:rPr sz="6000"/>
            </a:br>
            <a:r>
              <a:rPr b="0" lang="uk-UA" sz="4800" spc="-1" strike="noStrike">
                <a:solidFill>
                  <a:srgbClr val="2f5897"/>
                </a:solidFill>
                <a:latin typeface="Times New Roman"/>
              </a:rPr>
              <a:t>(Сполучене Королівство Великобританії та Північної Ірландії)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5959440" y="2114640"/>
            <a:ext cx="30970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cademyCTT"/>
              </a:rPr>
              <a:t>ГОСПОД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остіндустріальна краї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Мала частка зайняти у сільському господарст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ttp://geography.su/atlas/item/f00/s00/z0000000/pic/map060.jpg"/>
          <p:cNvPicPr/>
          <p:nvPr/>
        </p:nvPicPr>
        <p:blipFill>
          <a:blip r:embed="rId2"/>
          <a:srcRect l="0" t="0" r="-25" b="-25"/>
          <a:stretch/>
        </p:blipFill>
        <p:spPr>
          <a:xfrm>
            <a:off x="395280" y="60480"/>
            <a:ext cx="5329080" cy="675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2124000" y="442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Госпо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" descr=""/>
          <p:cNvPicPr/>
          <p:nvPr/>
        </p:nvPicPr>
        <p:blipFill>
          <a:blip r:embed="rId2"/>
          <a:stretch/>
        </p:blipFill>
        <p:spPr>
          <a:xfrm>
            <a:off x="6012000" y="476280"/>
            <a:ext cx="2977920" cy="22334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141120" y="1177920"/>
            <a:ext cx="583272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ЕК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– нафтовидобувна компанія «Брічіш Петроліум», 76% - ТЕС (Йоркшир, Великий Лондон), 23% - АЕС (узбережжя на зх., пд-сх.), 1% - ГЕС (Шотланді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Чорна та кольорова металургія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– чавун, сталь, алюміній, мідь, цинк, олово та і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Машинобудування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ракетобудування, точне,</a:t>
            </a: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літакобудування, автомобілебудування, верстатобудування, кораблебуд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3" descr=""/>
          <p:cNvPicPr/>
          <p:nvPr/>
        </p:nvPicPr>
        <p:blipFill>
          <a:blip r:embed="rId3"/>
          <a:srcRect l="0" t="0" r="0" b="-99"/>
          <a:stretch/>
        </p:blipFill>
        <p:spPr>
          <a:xfrm>
            <a:off x="5724360" y="2870280"/>
            <a:ext cx="2405160" cy="13698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"/>
          <p:cNvPicPr/>
          <p:nvPr/>
        </p:nvPicPr>
        <p:blipFill>
          <a:blip r:embed="rId4"/>
          <a:stretch/>
        </p:blipFill>
        <p:spPr>
          <a:xfrm>
            <a:off x="141120" y="4286160"/>
            <a:ext cx="2873520" cy="17971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6" descr=""/>
          <p:cNvPicPr/>
          <p:nvPr/>
        </p:nvPicPr>
        <p:blipFill>
          <a:blip r:embed="rId5"/>
          <a:stretch/>
        </p:blipFill>
        <p:spPr>
          <a:xfrm>
            <a:off x="3203640" y="4527720"/>
            <a:ext cx="2666880" cy="14950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7" descr=""/>
          <p:cNvPicPr/>
          <p:nvPr/>
        </p:nvPicPr>
        <p:blipFill>
          <a:blip r:embed="rId6"/>
          <a:stretch/>
        </p:blipFill>
        <p:spPr>
          <a:xfrm>
            <a:off x="6084720" y="4359240"/>
            <a:ext cx="2940120" cy="19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3"/>
          <p:cNvSpPr/>
          <p:nvPr/>
        </p:nvSpPr>
        <p:spPr>
          <a:xfrm>
            <a:off x="141120" y="549360"/>
            <a:ext cx="583272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Хімічна промисловість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– пластмаси, СВ, парфуми, ліки (Великий Лондон), мінеральна добрива та сода (Йоркши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Текстильна промисловість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– вовняні тканини (Йоркшир), бавовняні тканини (Ланкшир), Лляні тканини (Ольстер), трикотаж (Сх. Мідлен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Сільське господарство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молочне скотарство, свинарство, птахівництво (Сх., Пд-Сх. Англії), вівчарство, м'ясне скотарство (Шотландія, Уель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2"/>
          <a:srcRect l="0" t="0" r="0" b="56"/>
          <a:stretch/>
        </p:blipFill>
        <p:spPr>
          <a:xfrm>
            <a:off x="6156360" y="317520"/>
            <a:ext cx="2733480" cy="12034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"/>
          <p:cNvPicPr/>
          <p:nvPr/>
        </p:nvPicPr>
        <p:blipFill>
          <a:blip r:embed="rId3"/>
          <a:stretch/>
        </p:blipFill>
        <p:spPr>
          <a:xfrm>
            <a:off x="5983200" y="2421000"/>
            <a:ext cx="259560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"/>
          <p:cNvPicPr/>
          <p:nvPr/>
        </p:nvPicPr>
        <p:blipFill>
          <a:blip r:embed="rId4"/>
          <a:stretch/>
        </p:blipFill>
        <p:spPr>
          <a:xfrm>
            <a:off x="179280" y="3841920"/>
            <a:ext cx="3287880" cy="18334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6" descr=""/>
          <p:cNvPicPr/>
          <p:nvPr/>
        </p:nvPicPr>
        <p:blipFill>
          <a:blip r:embed="rId5"/>
          <a:stretch/>
        </p:blipFill>
        <p:spPr>
          <a:xfrm>
            <a:off x="3552840" y="4110120"/>
            <a:ext cx="2448000" cy="2093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"/>
          <p:cNvPicPr/>
          <p:nvPr/>
        </p:nvPicPr>
        <p:blipFill>
          <a:blip r:embed="rId6"/>
          <a:stretch/>
        </p:blipFill>
        <p:spPr>
          <a:xfrm>
            <a:off x="6143760" y="4076640"/>
            <a:ext cx="2759040" cy="22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324000" y="765000"/>
            <a:ext cx="381636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Сільське господарство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зернові культури - ячмінь, овес, пшениця, цукровий буряк, кормові культури, садівництво (Сх., Пд-Сх. Англії), картоплярство (Ольсте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Пивоварна промисловість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 - пивоварний завод Б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1" descr=""/>
          <p:cNvPicPr/>
          <p:nvPr/>
        </p:nvPicPr>
        <p:blipFill>
          <a:blip r:embed="rId2"/>
          <a:stretch/>
        </p:blipFill>
        <p:spPr>
          <a:xfrm>
            <a:off x="4427640" y="152280"/>
            <a:ext cx="4105080" cy="41054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2" descr=""/>
          <p:cNvPicPr/>
          <p:nvPr/>
        </p:nvPicPr>
        <p:blipFill>
          <a:blip r:embed="rId3"/>
          <a:stretch/>
        </p:blipFill>
        <p:spPr>
          <a:xfrm>
            <a:off x="5580000" y="4508640"/>
            <a:ext cx="154296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3560" y="1303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cademyCTT"/>
              </a:rPr>
              <a:t>Зовнішня торгівля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50920" y="982800"/>
            <a:ext cx="871380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Ім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інеральна сировина (залізна руда, марганцева руда, поліметалеві руди, алюмінієві руди та ін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Натуральний каучук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родовольчі товар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Ек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нафт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ідкісні та кольорові метал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ашини (верстати, літаки, автомобілі, ракети, електронік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ластмас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Лі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Характерні зміни в галузевій структурі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непад та відставання деяких традиційних галузей промисловості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Швидкий розвиток багатогалузевого машинобудування, хімічної промисловост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омисловість країни працює на імпортній сировині. Ті орієнтована на зовнішній рино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овітні галузі виробництва – електроніка, верстатобудування, фармацевтична промисловіс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радиційні галуз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автомобілебудування, авіабудування, електротехніка, деревообробка (темпи розвитку знижуються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тарі промислові галузі – гірничовідобувна, чорна металургія, текстильн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Риси сучасної економіки Великобританії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силення ролі державно-монополістичного капіталу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никнення в економіку іноземних монополій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елику роль у розвитку економіки відіграє членство країни в ЄС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більшення темпів росту ВВП ( на душу населення $ 22 2000)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більшення обсягів капіталовкладень у галузі, що визначають НТП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Зв'язки з Україною.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ри міста України – Київ, Донецьк, Харкі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мають міста-побратими Единбург, Белфаст, Лондон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 Україні відкриті спільні підприємства в Черкасах та Горлівці («Стирол», «Азот»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країна підтримує торгівельні зв'язки з Великобританією – купує готовий одяг, медикамент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іж провідними вищими навчальними закладами існує обмін студентськими делегаціями; підтримуються зв'язки на рівні культурних програм та розвивається туриз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55280" y="-360"/>
            <a:ext cx="453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унхендж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stounhendg3" descr=""/>
          <p:cNvPicPr/>
          <p:nvPr/>
        </p:nvPicPr>
        <p:blipFill>
          <a:blip r:embed="rId2"/>
          <a:stretch/>
        </p:blipFill>
        <p:spPr>
          <a:xfrm>
            <a:off x="0" y="836640"/>
            <a:ext cx="5040360" cy="3589200"/>
          </a:xfrm>
          <a:prstGeom prst="rect">
            <a:avLst/>
          </a:prstGeom>
          <a:ln w="0">
            <a:noFill/>
          </a:ln>
        </p:spPr>
      </p:pic>
      <p:pic>
        <p:nvPicPr>
          <p:cNvPr id="232" name="London_Eye1" descr=""/>
          <p:cNvPicPr/>
          <p:nvPr/>
        </p:nvPicPr>
        <p:blipFill>
          <a:blip r:embed="rId3"/>
          <a:stretch/>
        </p:blipFill>
        <p:spPr>
          <a:xfrm>
            <a:off x="5003640" y="3776760"/>
            <a:ext cx="4140360" cy="3081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651640" y="22050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Лондонське ок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Houses"/>
          <p:cNvPicPr/>
          <p:nvPr/>
        </p:nvPicPr>
        <p:blipFill>
          <a:blip r:embed="rId2"/>
          <a:stretch/>
        </p:blipFill>
        <p:spPr>
          <a:xfrm>
            <a:off x="0" y="0"/>
            <a:ext cx="5508720" cy="37306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79280" y="4437000"/>
            <a:ext cx="53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Вестмінстерськийпалацзізнаменитоюгодинноювежею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Біг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Бен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ТутзасідаєпарламентСполученогоКоролівства</a:t>
            </a:r>
            <a:r>
              <a:rPr b="0" lang="uk-U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big_ben" descr=""/>
          <p:cNvPicPr/>
          <p:nvPr/>
        </p:nvPicPr>
        <p:blipFill>
          <a:blip r:embed="rId3"/>
          <a:stretch/>
        </p:blipFill>
        <p:spPr>
          <a:xfrm>
            <a:off x="5543640" y="2249640"/>
            <a:ext cx="360036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формувати в учнів систему знань про особливості географічного положення, населення та господарства Великої Британії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удосконалювати  навички складання комплексної економіко-географічної характеристики країни за допомогою карт атласа,  підручника та інших джерел географічних знань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глянути можливості співпраці  з Україною в майбутньому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вивати аналітичне мислення та навички системного аналізу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ховувати інтерес до географічних знань, до особливостей окремих країн світу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54936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ета уроку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Tower_of_London"/>
          <p:cNvPicPr/>
          <p:nvPr/>
        </p:nvPicPr>
        <p:blipFill>
          <a:blip r:embed="rId2"/>
          <a:stretch/>
        </p:blipFill>
        <p:spPr>
          <a:xfrm>
            <a:off x="0" y="0"/>
            <a:ext cx="4427640" cy="4049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4932360" y="47628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ондонський Тауер   королівська фортеця</a:t>
            </a:r>
            <a:r>
              <a:rPr b="0" lang="uk-U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Tower"/>
          <p:cNvPicPr/>
          <p:nvPr/>
        </p:nvPicPr>
        <p:blipFill>
          <a:blip r:embed="rId3"/>
          <a:stretch/>
        </p:blipFill>
        <p:spPr>
          <a:xfrm>
            <a:off x="4427640" y="3546360"/>
            <a:ext cx="471636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StPaulsCathedralSouth"/>
          <p:cNvPicPr/>
          <p:nvPr/>
        </p:nvPicPr>
        <p:blipFill>
          <a:blip r:embed="rId2"/>
          <a:stretch/>
        </p:blipFill>
        <p:spPr>
          <a:xfrm>
            <a:off x="0" y="0"/>
            <a:ext cx="4471920" cy="4508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5076720" y="47628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обор святого Пав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St.Pauls_-300x300" descr=""/>
          <p:cNvPicPr/>
          <p:nvPr/>
        </p:nvPicPr>
        <p:blipFill>
          <a:blip r:embed="rId3"/>
          <a:stretch/>
        </p:blipFill>
        <p:spPr>
          <a:xfrm>
            <a:off x="4500720" y="2781360"/>
            <a:ext cx="464328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Buckingham_Palace_-_May_2006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4111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179280" y="4046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алац Букінгемский  офіційна резиденція королівської сім'ї в Лондо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Buckingam_Palace" descr=""/>
          <p:cNvPicPr/>
          <p:nvPr/>
        </p:nvPicPr>
        <p:blipFill>
          <a:blip r:embed="rId3"/>
          <a:stretch/>
        </p:blipFill>
        <p:spPr>
          <a:xfrm>
            <a:off x="0" y="2610000"/>
            <a:ext cx="40672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British_Museum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4076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inside2-150x150" descr=""/>
          <p:cNvPicPr/>
          <p:nvPr/>
        </p:nvPicPr>
        <p:blipFill>
          <a:blip r:embed="rId3"/>
          <a:stretch/>
        </p:blipFill>
        <p:spPr>
          <a:xfrm>
            <a:off x="4500720" y="2214720"/>
            <a:ext cx="4643280" cy="4643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859280" y="6915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ританський муз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289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лоща Пікаділі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adilly_Circus" descr=""/>
          <p:cNvPicPr/>
          <p:nvPr/>
        </p:nvPicPr>
        <p:blipFill>
          <a:blip r:embed="rId2"/>
          <a:stretch/>
        </p:blipFill>
        <p:spPr>
          <a:xfrm>
            <a:off x="0" y="1052640"/>
            <a:ext cx="4500720" cy="37162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Trafalgar_square" descr=""/>
          <p:cNvPicPr/>
          <p:nvPr/>
        </p:nvPicPr>
        <p:blipFill>
          <a:blip r:embed="rId3"/>
          <a:stretch/>
        </p:blipFill>
        <p:spPr>
          <a:xfrm>
            <a:off x="4500720" y="3141720"/>
            <a:ext cx="4643280" cy="371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788000" y="1557360"/>
            <a:ext cx="41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рафальгарс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л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858920" y="764640"/>
            <a:ext cx="3995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зер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ох-Нес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Loch_Ness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3505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double-decker"/>
          <p:cNvPicPr/>
          <p:nvPr/>
        </p:nvPicPr>
        <p:blipFill>
          <a:blip r:embed="rId3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11280" y="4581360"/>
            <a:ext cx="37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Двоповерхові автоб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Підсумки уроку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сформували знання про сучасну Великобританію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довели, що Великобританія високорозвинена, постіндустріальна країна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визначили характерні риси розвитку економіки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розглянули можливості співпраці з Україною в майбутньому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92160" y="18432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ВЕЛИКОБРИТАНІЯ НА КАРТІ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world map uk brown"/>
          <p:cNvPicPr/>
          <p:nvPr/>
        </p:nvPicPr>
        <p:blipFill>
          <a:blip r:embed="rId2"/>
          <a:stretch/>
        </p:blipFill>
        <p:spPr>
          <a:xfrm>
            <a:off x="92160" y="1125360"/>
            <a:ext cx="8967600" cy="492768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3924360" y="907920"/>
            <a:ext cx="360360" cy="1152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great-britain brown"/>
          <p:cNvPicPr/>
          <p:nvPr/>
        </p:nvPicPr>
        <p:blipFill>
          <a:blip r:embed="rId3"/>
          <a:stretch/>
        </p:blipFill>
        <p:spPr>
          <a:xfrm>
            <a:off x="4716360" y="2205000"/>
            <a:ext cx="372420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1"/>
          <p:cNvSpPr/>
          <p:nvPr/>
        </p:nvSpPr>
        <p:spPr>
          <a:xfrm>
            <a:off x="395280" y="476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cademyCTT"/>
              </a:rPr>
              <a:t>Столиця Великобританії </a:t>
            </a:r>
            <a:r>
              <a:rPr b="1" lang="en-GB" sz="3600" spc="-1" strike="noStrike">
                <a:solidFill>
                  <a:srgbClr val="000099"/>
                </a:solidFill>
                <a:latin typeface="AcademyCTT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708360" y="6021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London_Skyline"/>
          <p:cNvPicPr/>
          <p:nvPr/>
        </p:nvPicPr>
        <p:blipFill>
          <a:blip r:embed="rId2"/>
          <a:stretch/>
        </p:blipFill>
        <p:spPr>
          <a:xfrm>
            <a:off x="3851280" y="2637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5"/>
          <p:cNvSpPr/>
          <p:nvPr/>
        </p:nvSpPr>
        <p:spPr>
          <a:xfrm>
            <a:off x="6012000" y="54936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cademyCTT"/>
              </a:rPr>
              <a:t>ЛОН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London_Landsat"/>
          <p:cNvPicPr/>
          <p:nvPr/>
        </p:nvPicPr>
        <p:blipFill>
          <a:blip r:embed="rId3"/>
          <a:stretch/>
        </p:blipFill>
        <p:spPr>
          <a:xfrm>
            <a:off x="324000" y="184464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8"/>
          <p:cNvSpPr/>
          <p:nvPr/>
        </p:nvSpPr>
        <p:spPr>
          <a:xfrm>
            <a:off x="3676680" y="18288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ь так він виглядає з космос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 flipH="1">
            <a:off x="3131640" y="1989000"/>
            <a:ext cx="57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395280" y="5084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 ось так - з берега річки Тем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3059280" y="494172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7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7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611280" y="1681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cademyCTT"/>
              </a:rPr>
              <a:t>«Візитна картка Великобританії</a:t>
            </a: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08000" y="836640"/>
            <a:ext cx="892800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Площа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244,4 тис. км. к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Населенн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59,5 млн. чолові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Столиц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Лонд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Державний лад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конституційна монархія (королівство), унітарна держа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Склад регіону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92 адміністративні одиниці у складі 4-х історичних област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Англія – 45 графств + Великий Лонд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Уельс – 8 графст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Шотландія – 9 област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Ольстер (Північна Ірландія) – 1 облас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5 острівних територі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Володінн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13 територій (Гібралтар, острови Святої Єлени, Фолклендські острови, Бермудські острови, Ангілья та ін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Грошова одиниця: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 фунт стерлінг = 100 пенсі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Elizabeth_II"/>
          <p:cNvPicPr/>
          <p:nvPr/>
        </p:nvPicPr>
        <p:blipFill>
          <a:blip r:embed="rId2"/>
          <a:stretch/>
        </p:blipFill>
        <p:spPr>
          <a:xfrm>
            <a:off x="6156360" y="1341360"/>
            <a:ext cx="2633760" cy="3600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6284880" y="5300640"/>
            <a:ext cx="237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Коронація Єлизавети II в 1953 роц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16000" y="333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Глава </a:t>
            </a:r>
            <a:r>
              <a:rPr b="1" lang="uk-UA" sz="3200" spc="-1" strike="noStrike">
                <a:solidFill>
                  <a:srgbClr val="2f5897"/>
                </a:solidFill>
                <a:latin typeface="Bookman Old Style"/>
              </a:rPr>
              <a:t>держави</a:t>
            </a: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 - королева </a:t>
            </a:r>
            <a:r>
              <a:rPr b="1" lang="uk-UA" sz="3200" spc="-1" strike="noStrike">
                <a:solidFill>
                  <a:srgbClr val="2f5897"/>
                </a:solidFill>
                <a:latin typeface="Bookman Old Style"/>
              </a:rPr>
              <a:t>Єлизавета</a:t>
            </a: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Queen wedding"/>
          <p:cNvPicPr/>
          <p:nvPr/>
        </p:nvPicPr>
        <p:blipFill>
          <a:blip r:embed="rId3"/>
          <a:stretch/>
        </p:blipFill>
        <p:spPr>
          <a:xfrm>
            <a:off x="384120" y="1341360"/>
            <a:ext cx="2638440" cy="360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lizabeth_II_80th"/>
          <p:cNvPicPr/>
          <p:nvPr/>
        </p:nvPicPr>
        <p:blipFill>
          <a:blip r:embed="rId4"/>
          <a:stretch/>
        </p:blipFill>
        <p:spPr>
          <a:xfrm>
            <a:off x="3238560" y="1962000"/>
            <a:ext cx="2701800" cy="3600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1"/>
          <p:cNvSpPr/>
          <p:nvPr/>
        </p:nvSpPr>
        <p:spPr>
          <a:xfrm>
            <a:off x="3203640" y="5805360"/>
            <a:ext cx="28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Королева Єлизавета II на своє 80-річчя в 2006 році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24000" y="5300640"/>
            <a:ext cx="26636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Весілля принцеси Єлизавети і графа Едінбурзького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1947 році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042920" y="5661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ягу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www.evropa.org.ua/images/europe_map_f.jpg"/>
          <p:cNvPicPr/>
          <p:nvPr/>
        </p:nvPicPr>
        <p:blipFill>
          <a:blip r:embed="rId2"/>
          <a:srcRect l="0" t="0" r="-15" b="-32"/>
          <a:stretch/>
        </p:blipFill>
        <p:spPr>
          <a:xfrm>
            <a:off x="120600" y="255600"/>
            <a:ext cx="890280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uk-map plain"/>
          <p:cNvPicPr/>
          <p:nvPr/>
        </p:nvPicPr>
        <p:blipFill>
          <a:blip r:embed="rId2"/>
          <a:stretch/>
        </p:blipFill>
        <p:spPr>
          <a:xfrm>
            <a:off x="1784520" y="907920"/>
            <a:ext cx="5451480" cy="5616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453440" y="4365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нгл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43657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Шотланд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380360" y="112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е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79280" y="981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івнічна Ірланд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Flag_of_England"/>
          <p:cNvPicPr/>
          <p:nvPr/>
        </p:nvPicPr>
        <p:blipFill>
          <a:blip r:embed="rId3"/>
          <a:stretch/>
        </p:blipFill>
        <p:spPr>
          <a:xfrm>
            <a:off x="7386480" y="4888080"/>
            <a:ext cx="1289160" cy="77292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3" name="Picture 8" descr="Flag_of_Scotland"/>
          <p:cNvPicPr/>
          <p:nvPr/>
        </p:nvPicPr>
        <p:blipFill>
          <a:blip r:embed="rId4"/>
          <a:stretch/>
        </p:blipFill>
        <p:spPr>
          <a:xfrm>
            <a:off x="322200" y="4869000"/>
            <a:ext cx="1225440" cy="74124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4" name="Picture 9" descr="Flag_of_Wales"/>
          <p:cNvPicPr/>
          <p:nvPr/>
        </p:nvPicPr>
        <p:blipFill>
          <a:blip r:embed="rId5"/>
          <a:stretch/>
        </p:blipFill>
        <p:spPr>
          <a:xfrm>
            <a:off x="7236000" y="1628640"/>
            <a:ext cx="1290600" cy="77472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5" name="Picture 10" descr="Flag_of_Northern_Ireland"/>
          <p:cNvPicPr/>
          <p:nvPr/>
        </p:nvPicPr>
        <p:blipFill>
          <a:blip r:embed="rId6"/>
          <a:stretch/>
        </p:blipFill>
        <p:spPr>
          <a:xfrm>
            <a:off x="395280" y="1700280"/>
            <a:ext cx="1295280" cy="64908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sp>
        <p:nvSpPr>
          <p:cNvPr id="136" name="Text Box 11"/>
          <p:cNvSpPr/>
          <p:nvPr/>
        </p:nvSpPr>
        <p:spPr>
          <a:xfrm>
            <a:off x="252360" y="260280"/>
            <a:ext cx="87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cademyCTT"/>
              </a:rPr>
              <a:t>ІСТОРИЧНІ ПРОВІНЦІЇ ВЕЛИКОБРИТАН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9:51:58Z</dcterms:created>
  <dc:creator>Robert Brundrett</dc:creator>
  <dc:description/>
  <dc:language>en-US</dc:language>
  <cp:lastModifiedBy>home</cp:lastModifiedBy>
  <dcterms:modified xsi:type="dcterms:W3CDTF">2011-11-19T19:56:36Z</dcterms:modified>
  <cp:revision>133</cp:revision>
  <dc:subject/>
  <dc:title>Great Britain  (United Kingdom of Great Britain and Northern Ireland)   Великобритания  (Соединенное Королевство Великобритании и Северной Ирланд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33000000000001024140</vt:lpwstr>
  </property>
</Properties>
</file>