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559-000D-4A38-AC3B-A563DDBB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AA9-AF79-4291-A6ED-2490679B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B1B-04BF-498E-B648-132B70BB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E17-FDDE-4A48-9B6D-570629B9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E0D7-C888-4229-B611-7345091A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29AB-D721-4EB7-9BEE-EA358F8C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0330-C184-4E57-A895-D1E61AEC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F2A1-8664-4C5B-BD82-BA26999E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E4F8-E610-4627-8C66-34BD168D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F500-2C38-4BAA-AD8F-BAE099A1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EA77-43FD-4A46-B8FF-C7BB5505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79B-C82F-4D94-96AA-68374E0A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624A-B6B9-4B0A-AA97-52F6E428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E36A-2D9D-48AD-9D34-FE555D51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28AA-FC2C-4D76-AA4C-31492C8D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78D8-7F30-4CB6-B4E3-CDE3091B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E263-AC9D-4C45-B233-ABD89AE8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794B-C355-4446-A683-D9F39A80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81A9-7487-431F-AC52-594FD5E6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CE44-53F5-4E8E-B143-B32EA3FE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4FE3-998C-45A8-BD3A-66B2CC98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DEFE-4EC7-4FB0-B951-2D254B23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6D5-C5EF-48D0-BE23-E3BF97EA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FFE0C-18B5-4CD6-8DC1-9C7F71E8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BE5FC-7C67-4569-BF60-36988E3E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A9B0C-B110-4C7B-BA34-CFB737CD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667E9-E964-49C3-91AF-EA72526C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30A1F-9F75-491E-926D-69CB8F7D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7171-5D81-4707-BABE-C58AA726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477AA-0080-4D21-A400-9363C8FF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1BA-A7A4-4764-98AA-CC25F17F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579-D591-499D-9D7D-9EDCF255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726-43F0-4B87-AA8A-2022DE86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018-965D-43B9-B2E8-E27666A6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BE1-16EE-4E2D-AAD3-AAC7DAB3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1C9-24AC-42C7-94F0-252569F5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3509-5E35-4459-B505-A9FA70AAEED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2F97-2EAE-4C5A-8AF1-B90303BEADD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4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ый треугольник 5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6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7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3C9B-99A9-4EF9-9923-EE4E5D6B643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400" y="2071800"/>
            <a:ext cx="807228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66"/>
                </a:solidFill>
                <a:latin typeface="Book Antiqua"/>
              </a:rPr>
              <a:t>Урок узагальнення </a:t>
            </a:r>
            <a:br>
              <a:rPr sz="4600"/>
            </a:br>
            <a:r>
              <a:rPr b="1" lang="uk-UA" sz="4600" spc="-1" strike="noStrike">
                <a:solidFill>
                  <a:srgbClr val="000066"/>
                </a:solidFill>
                <a:latin typeface="Book Antiqua"/>
              </a:rPr>
              <a:t>знань та вмінь з теми: </a:t>
            </a:r>
            <a:br>
              <a:rPr sz="4600"/>
            </a:br>
            <a:r>
              <a:rPr b="1" i="1" lang="uk-UA" sz="6900" spc="-1" strike="noStrike">
                <a:solidFill>
                  <a:srgbClr val="c00000"/>
                </a:solidFill>
                <a:latin typeface="Book Antiqua"/>
              </a:rPr>
              <a:t>“Населення України”</a:t>
            </a:r>
            <a:endParaRPr b="0" lang="en-US" sz="6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211640" y="259920"/>
            <a:ext cx="4672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00040" y="1285920"/>
            <a:ext cx="8215200" cy="1512720"/>
          </a:xfrm>
          <a:prstGeom prst="rect">
            <a:avLst/>
          </a:prstGeom>
          <a:noFill/>
          <a:ln w="9360">
            <a:solidFill>
              <a:srgbClr val="6bdbfa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Book Antiqua"/>
              </a:rPr>
              <a:t>Позначити за допомогою своїх умовних знаків на контурній карті етнічний склад населення визначених областей. Укажіть сім</a:t>
            </a:r>
            <a:r>
              <a:rPr b="1" i="1" lang="en-US" sz="2000" spc="-1" strike="noStrike">
                <a:solidFill>
                  <a:srgbClr val="000099"/>
                </a:solidFill>
                <a:latin typeface="Book Antiqua"/>
              </a:rPr>
              <a:t>’</a:t>
            </a:r>
            <a:r>
              <a:rPr b="1" i="1" lang="uk-UA" sz="2000" spc="-1" strike="noStrike">
                <a:solidFill>
                  <a:srgbClr val="000099"/>
                </a:solidFill>
                <a:latin typeface="Book Antiqua"/>
              </a:rPr>
              <a:t>ю, групу, національніс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Содержимое 2"/>
          <p:cNvSpPr/>
          <p:nvPr/>
        </p:nvSpPr>
        <p:spPr>
          <a:xfrm>
            <a:off x="428760" y="3000240"/>
            <a:ext cx="83581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1 пара </a:t>
            </a: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– Львівська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2 пара </a:t>
            </a: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– Луганська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3 пара </a:t>
            </a: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– Київська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4 пара </a:t>
            </a: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– автономна республіка Кр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одержимое 2"/>
          <p:cNvSpPr/>
          <p:nvPr/>
        </p:nvSpPr>
        <p:spPr>
          <a:xfrm>
            <a:off x="428760" y="4714920"/>
            <a:ext cx="84056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5 пара </a:t>
            </a: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– Одеська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6 пара </a:t>
            </a: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– Закарпатська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7 пара </a:t>
            </a: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– Харківська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8 пара </a:t>
            </a: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– Івано-Франківська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1"/>
          <p:cNvSpPr txBox="1"/>
          <p:nvPr/>
        </p:nvSpPr>
        <p:spPr>
          <a:xfrm>
            <a:off x="1500120" y="214200"/>
            <a:ext cx="60962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бота в парах з контурною картою</a:t>
            </a:r>
            <a:endParaRPr b="0" lang="en-US" sz="2000" spc="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837252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4000" spc="-1" strike="noStrike">
                <a:solidFill>
                  <a:srgbClr val="c00000"/>
                </a:solidFill>
                <a:latin typeface="Book Antiqua"/>
              </a:rPr>
              <a:t>Робота з діаграмою галузевої структури зайнятості населення :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2071800"/>
            <a:ext cx="8429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Calibri"/>
              </a:rPr>
              <a:t>вказати показник зайнятості для кожної галузі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Calibri"/>
              </a:rPr>
              <a:t>зробити висновок про рівень економічного розвитку країни, спираючись на наведені дані.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56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alibri"/>
              </a:rPr>
              <a:t>Творче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68360" y="1268280"/>
          <a:ext cx="8072280" cy="4802400"/>
        </p:xfrm>
        <a:graphic>
          <a:graphicData uri="http://schemas.openxmlformats.org/drawingml/2006/table">
            <a:tbl>
              <a:tblPr/>
              <a:tblGrid>
                <a:gridCol w="1852560"/>
                <a:gridCol w="6219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Основні пробл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Шляхи подол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Використання трудових ресурс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(1 груп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</a:tr>
              <a:tr h="85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Подолання безробіт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(2 груп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</a:tr>
              <a:tr h="172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Зміна несприятливої структури трудових ресурс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(3 груп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8840" y="857160"/>
            <a:ext cx="79563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alibri"/>
              </a:rPr>
              <a:t>Творче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00040" y="1285920"/>
          <a:ext cx="8072640" cy="5110200"/>
        </p:xfrm>
        <a:graphic>
          <a:graphicData uri="http://schemas.openxmlformats.org/drawingml/2006/table">
            <a:tbl>
              <a:tblPr/>
              <a:tblGrid>
                <a:gridCol w="1852560"/>
                <a:gridCol w="6220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Основні пробл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Шляхи подол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Використання трудових ресурс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(1 груп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Зміна структури зайнятості: збільшувати частку зайнятих у сфері послуг і промисловості; враховувати рівень освіти і професійну підготовку; збільшувати частку зайнятих жінок (легка і харчова промислові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В аграрно-індустріальних областях збільшувати частку зайнятих у сфері по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 промислових районах розвивати галузі для збільшення зайнятості жін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Подолання безробіт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(2 груп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Збільшення робочих місць шляхом розвитку дрібного і середнього бізне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Розвиток галузей сфери обслугов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Розвиток індивідуальних господар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</a:tr>
              <a:tr h="17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Зміна несприятливої структури трудових ресурс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(3 груп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Демографічна політика спрямована на підвищення народжува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Поліпшення медичного обслугов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Подолання еміграційних пото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Надання можливості одержати нову спеціальність, підвищити кваліфікаці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Розвиток служби, що допомагає безробітним шукати робот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7168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раціональне використання трудових ресурсів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належна оцінка висококваліфікованої інтелектуальної праці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високі темпи розвитку господарств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підвищення добробуту громадя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" name="Прямоугольник 3" descr=""/>
          <p:cNvPicPr/>
          <p:nvPr/>
        </p:nvPicPr>
        <p:blipFill>
          <a:blip r:embed="rId2"/>
          <a:stretch/>
        </p:blipFill>
        <p:spPr>
          <a:xfrm>
            <a:off x="2109960" y="298440"/>
            <a:ext cx="42717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11200" y="2327040"/>
            <a:ext cx="4060800" cy="36860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Book Antiqua"/>
              </a:rPr>
              <a:t>Область з найбільшою кількістю міського населенн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Book Antiqua"/>
              </a:rPr>
              <a:t>Процес швидкого зростання міського населенн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Book Antiqua"/>
              </a:rPr>
              <a:t>Переміщення людей з одного місця в інш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Book Antiqua"/>
              </a:rPr>
              <a:t>Вид безробітт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Book Antiqua"/>
              </a:rPr>
              <a:t>Головний центр української культури в Канаді, побратим Льво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Book Antiqua"/>
              </a:rPr>
              <a:t>Тип поселенн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Book Antiqua"/>
              </a:rPr>
              <a:t>Скупчення малих міст біля одного великог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Book Antiqua"/>
              </a:rPr>
              <a:t>Місто-міліоне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357800" y="1428840"/>
          <a:ext cx="4539960" cy="4546440"/>
        </p:xfrm>
        <a:graphic>
          <a:graphicData uri="http://schemas.openxmlformats.org/drawingml/2006/table">
            <a:tbl>
              <a:tblPr/>
              <a:tblGrid>
                <a:gridCol w="287280"/>
                <a:gridCol w="287280"/>
                <a:gridCol w="287280"/>
                <a:gridCol w="287280"/>
                <a:gridCol w="285840"/>
                <a:gridCol w="287280"/>
                <a:gridCol w="379440"/>
                <a:gridCol w="316080"/>
                <a:gridCol w="285480"/>
                <a:gridCol w="262080"/>
                <a:gridCol w="314280"/>
                <a:gridCol w="274680"/>
                <a:gridCol w="260280"/>
                <a:gridCol w="260280"/>
                <a:gridCol w="233640"/>
                <a:gridCol w="231480"/>
              </a:tblGrid>
              <a:tr h="280800"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gridSpan="3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grid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3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 rowSpan="3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Прямоугольник 11" descr=""/>
          <p:cNvPicPr/>
          <p:nvPr/>
        </p:nvPicPr>
        <p:blipFill>
          <a:blip r:embed="rId2"/>
          <a:stretch/>
        </p:blipFill>
        <p:spPr>
          <a:xfrm>
            <a:off x="208080" y="566640"/>
            <a:ext cx="42415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1303200"/>
          <a:ext cx="8643960" cy="5695920"/>
        </p:xfrm>
        <a:graphic>
          <a:graphicData uri="http://schemas.openxmlformats.org/drawingml/2006/table">
            <a:tbl>
              <a:tblPr/>
              <a:tblGrid>
                <a:gridCol w="547560"/>
                <a:gridCol w="546120"/>
                <a:gridCol w="547920"/>
                <a:gridCol w="547560"/>
                <a:gridCol w="544680"/>
                <a:gridCol w="545760"/>
                <a:gridCol w="721080"/>
                <a:gridCol w="603000"/>
                <a:gridCol w="544680"/>
                <a:gridCol w="496800"/>
                <a:gridCol w="600120"/>
                <a:gridCol w="522360"/>
                <a:gridCol w="495000"/>
                <a:gridCol w="497160"/>
                <a:gridCol w="441360"/>
                <a:gridCol w="442800"/>
              </a:tblGrid>
              <a:tr h="280080"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080"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040">
                <a:tc gridSpan="3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080"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040">
                <a:tc grid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040">
                <a:tc rowSpan="3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7А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 rowSpan="4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8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">
                <a:tc rowSpan="2"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 rowSpan="2">
                  <a:txBody>
                    <a:bodyPr lIns="78480" rIns="78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78480" rIns="78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8480" rIns="78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480" marR="78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Прямоугольник 5" descr=""/>
          <p:cNvPicPr/>
          <p:nvPr/>
        </p:nvPicPr>
        <p:blipFill>
          <a:blip r:embed="rId2"/>
          <a:stretch/>
        </p:blipFill>
        <p:spPr>
          <a:xfrm>
            <a:off x="96840" y="353880"/>
            <a:ext cx="896796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3" descr=""/>
          <p:cNvPicPr/>
          <p:nvPr/>
        </p:nvPicPr>
        <p:blipFill>
          <a:blip r:embed="rId2"/>
          <a:stretch/>
        </p:blipFill>
        <p:spPr>
          <a:xfrm>
            <a:off x="469800" y="1487520"/>
            <a:ext cx="8313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uk-UA" sz="4500" spc="-1" strike="noStrike">
                <a:solidFill>
                  <a:srgbClr val="c00000"/>
                </a:solidFill>
                <a:latin typeface="Calibri"/>
              </a:rPr>
              <a:t>ДОМАШНЄ ЗАВДАНН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400" y="2428920"/>
            <a:ext cx="842940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Повторити тему: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Населення України”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2. Розв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язати тести</a:t>
            </a:r>
            <a:r>
              <a:rPr b="0" lang="uk-UA" sz="3600" spc="-1" strike="noStrike">
                <a:solidFill>
                  <a:srgbClr val="000099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99"/>
                </a:solidFill>
                <a:latin typeface="Book Antiqua"/>
              </a:rPr>
              <a:t>перевірити рівень засвоєння учнями знань і практичних умінь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99"/>
                </a:solidFill>
                <a:latin typeface="Book Antiqua"/>
              </a:rPr>
              <a:t>удосконалити практичні навички роботи з картами й уміння систематизувати й аналізувати вивчений матеріал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99"/>
                </a:solidFill>
                <a:latin typeface="Book Antiqua"/>
              </a:rPr>
              <a:t>сформувати навички самоконтролю знань</a:t>
            </a:r>
            <a:r>
              <a:rPr b="1" lang="uk-UA" sz="2200" spc="-1" strike="noStrike">
                <a:solidFill>
                  <a:srgbClr val="ffff7d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250920" y="189000"/>
            <a:ext cx="26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А: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99"/>
                </a:solidFill>
                <a:latin typeface="Arial"/>
              </a:rPr>
              <a:t>Кількість населення. Природний рух населення. Міграції. Українська діаспор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99"/>
                </a:solidFill>
                <a:latin typeface="Arial"/>
              </a:rPr>
              <a:t>Статево-вікова структура населенн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99"/>
                </a:solidFill>
                <a:latin typeface="Constantia"/>
              </a:rPr>
              <a:t>Роз</a:t>
            </a:r>
            <a:r>
              <a:rPr b="0" lang="uk-UA" sz="2200" spc="-1" strike="noStrike">
                <a:solidFill>
                  <a:srgbClr val="000099"/>
                </a:solidFill>
                <a:latin typeface="Arial"/>
              </a:rPr>
              <a:t>міщення населення України. Урбанізаці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99"/>
                </a:solidFill>
                <a:latin typeface="Arial"/>
              </a:rPr>
              <a:t>Сільське населення. Типи сільських поселе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99"/>
                </a:solidFill>
                <a:latin typeface="Arial"/>
              </a:rPr>
              <a:t>Формування української нації. </a:t>
            </a:r>
            <a:r>
              <a:rPr b="0" lang="uk-UA" sz="2200" spc="-1" strike="noStrike">
                <a:solidFill>
                  <a:srgbClr val="000099"/>
                </a:solidFill>
                <a:latin typeface="Constantia"/>
              </a:rPr>
              <a:t>Н</a:t>
            </a:r>
            <a:r>
              <a:rPr b="0" lang="uk-UA" sz="2200" spc="-1" strike="noStrike">
                <a:solidFill>
                  <a:srgbClr val="000099"/>
                </a:solidFill>
                <a:latin typeface="Arial"/>
              </a:rPr>
              <a:t>аціональний та етнічний склад населенн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99"/>
                </a:solidFill>
                <a:latin typeface="Arial"/>
              </a:rPr>
              <a:t>Трудові ресурси і зайнятість населенн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2484360" y="549360"/>
            <a:ext cx="2879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Заголовок 1"/>
          <p:cNvSpPr/>
          <p:nvPr/>
        </p:nvSpPr>
        <p:spPr>
          <a:xfrm>
            <a:off x="2714760" y="4000680"/>
            <a:ext cx="15825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4714920" y="4071960"/>
            <a:ext cx="15825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6786720" y="4071960"/>
            <a:ext cx="15825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WordArt 6" descr=""/>
          <p:cNvPicPr/>
          <p:nvPr/>
        </p:nvPicPr>
        <p:blipFill>
          <a:blip r:embed="rId2"/>
          <a:stretch/>
        </p:blipFill>
        <p:spPr>
          <a:xfrm>
            <a:off x="201600" y="628560"/>
            <a:ext cx="88092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4643280" y="214200"/>
          <a:ext cx="2757600" cy="2103480"/>
        </p:xfrm>
        <a:graphic>
          <a:graphicData uri="http://schemas.openxmlformats.org/drawingml/2006/table">
            <a:tbl>
              <a:tblPr/>
              <a:tblGrid>
                <a:gridCol w="900360"/>
                <a:gridCol w="185724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і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ількість населення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лн. чо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7" name="Текст 6"/>
          <p:cNvSpPr/>
          <p:nvPr/>
        </p:nvSpPr>
        <p:spPr>
          <a:xfrm>
            <a:off x="0" y="0"/>
            <a:ext cx="6778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Arial"/>
              </a:rPr>
              <a:t>Робота в груп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28760" y="2214720"/>
          <a:ext cx="2757240" cy="2049480"/>
        </p:xfrm>
        <a:graphic>
          <a:graphicData uri="http://schemas.openxmlformats.org/drawingml/2006/table">
            <a:tbl>
              <a:tblPr/>
              <a:tblGrid>
                <a:gridCol w="900000"/>
                <a:gridCol w="1857240"/>
              </a:tblGrid>
              <a:tr h="32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і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іст насе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4f7dc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643720" y="4286160"/>
          <a:ext cx="2757240" cy="2049480"/>
        </p:xfrm>
        <a:graphic>
          <a:graphicData uri="http://schemas.openxmlformats.org/drawingml/2006/table">
            <a:tbl>
              <a:tblPr/>
              <a:tblGrid>
                <a:gridCol w="900000"/>
                <a:gridCol w="1857240"/>
              </a:tblGrid>
              <a:tr h="32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і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льдо міграції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9da92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50" name="Text Box 10"/>
          <p:cNvSpPr/>
          <p:nvPr/>
        </p:nvSpPr>
        <p:spPr>
          <a:xfrm>
            <a:off x="285840" y="642960"/>
            <a:ext cx="42148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1 гру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користавши дані таблиці, побудуйте графік динаміки кількості населення України за період 1990-2004рр. Зробіть висновок про тенденції в зміні кількості населення. Вкажіть прич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3357720" y="2786040"/>
            <a:ext cx="4860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2 гру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користавши дані таблиці, побудуйте графік динаміки природного приросту населення України за період 1985-1998рр. Зробіть висновок про тенденції в зміні зазначеного показника. Вкажіть прич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Текст 4"/>
          <p:cNvSpPr/>
          <p:nvPr/>
        </p:nvSpPr>
        <p:spPr>
          <a:xfrm>
            <a:off x="1071720" y="4929120"/>
            <a:ext cx="44575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 гру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Використавши дані таблиці, побудуйте графік міграційного приросту населення України за період 1989-1998рр. Зробіть висновок про тенденції міграційного приросту. Вкажіть прич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Диаграмма 4" descr=""/>
          <p:cNvPicPr/>
          <p:nvPr/>
        </p:nvPicPr>
        <p:blipFill>
          <a:blip r:embed="rId2"/>
          <a:stretch/>
        </p:blipFill>
        <p:spPr>
          <a:xfrm>
            <a:off x="493560" y="781200"/>
            <a:ext cx="4297680" cy="2369880"/>
          </a:xfrm>
          <a:prstGeom prst="rect">
            <a:avLst/>
          </a:prstGeom>
          <a:ln w="0">
            <a:noFill/>
          </a:ln>
        </p:spPr>
      </p:pic>
      <p:pic>
        <p:nvPicPr>
          <p:cNvPr id="154" name="Диаграмма 5" descr=""/>
          <p:cNvPicPr/>
          <p:nvPr/>
        </p:nvPicPr>
        <p:blipFill>
          <a:blip r:embed="rId3"/>
          <a:stretch/>
        </p:blipFill>
        <p:spPr>
          <a:xfrm>
            <a:off x="281160" y="3352680"/>
            <a:ext cx="4582800" cy="2756160"/>
          </a:xfrm>
          <a:prstGeom prst="rect">
            <a:avLst/>
          </a:prstGeom>
          <a:ln w="0">
            <a:noFill/>
          </a:ln>
        </p:spPr>
      </p:pic>
      <p:pic>
        <p:nvPicPr>
          <p:cNvPr id="155" name="Диаграмма 6" descr=""/>
          <p:cNvPicPr/>
          <p:nvPr/>
        </p:nvPicPr>
        <p:blipFill>
          <a:blip r:embed="rId4"/>
          <a:stretch/>
        </p:blipFill>
        <p:spPr>
          <a:xfrm>
            <a:off x="4705200" y="1852560"/>
            <a:ext cx="423072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c00000"/>
                </a:solidFill>
                <a:latin typeface="Book Antiqua"/>
              </a:rPr>
              <a:t>Фронтальне опитування: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28760" y="2086920"/>
            <a:ext cx="807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Що таке статево-віковий склад населен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Який відсоток становлять діти і підлітки до 14 років та особи віком 60 рокі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Чому саме на ці вікові категорії звертають ува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Яка середня тривалість життя на Україні для жінок та для чоловіків. Порівняти її з іншими країнами світу. Вказати прич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6"/>
          <p:cNvSpPr txBox="1"/>
          <p:nvPr/>
        </p:nvSpPr>
        <p:spPr>
          <a:xfrm>
            <a:off x="1908000" y="333360"/>
            <a:ext cx="49755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Цифровий дикта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97600" y="1785960"/>
            <a:ext cx="8553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Середня густота (щільність) населення Украї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Кількість населення м.Киє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Середня людність сільського населеного пунк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Частка міського насел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Найвищий рівень урбанізації в Украї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Яку кількість населення повинен мати населений пункт,щоб діс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статус мі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7. Кількість міст-мільйонерів в Украї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8. Частка сільського населення Украї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9. Максимальна густота насел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10. Кількість населення свого населеного пунк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11. Мінімальна густота насел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Заголовок 4"/>
          <p:cNvSpPr/>
          <p:nvPr/>
        </p:nvSpPr>
        <p:spPr>
          <a:xfrm>
            <a:off x="642960" y="6429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Book Antiqua"/>
              </a:rPr>
              <a:t>Дати визначення понять:</a:t>
            </a:r>
            <a:r>
              <a:rPr b="0" lang="uk-UA" sz="4400" spc="-1" strike="noStrike">
                <a:solidFill>
                  <a:srgbClr val="c00000"/>
                </a:solidFill>
                <a:latin typeface="Book Antiqu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714240" y="1857240"/>
            <a:ext cx="6786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901"/>
              </a:spcBef>
              <a:buClr>
                <a:srgbClr val="00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урбанізаці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субурбанізаці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агломераці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монофункціональне місто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поліфункціональне міс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0:43:09Z</dcterms:created>
  <dc:creator>User</dc:creator>
  <dc:description/>
  <dc:language>en-US</dc:language>
  <cp:lastModifiedBy>Admin</cp:lastModifiedBy>
  <dcterms:modified xsi:type="dcterms:W3CDTF">2011-11-16T09:26:43Z</dcterms:modified>
  <cp:revision>69</cp:revision>
  <dc:subject/>
  <dc:title>Фізична карта України. Загальний план будови поверхні,  простягання низовин, височин, гір, річкових долин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17000000000001024140</vt:lpwstr>
  </property>
</Properties>
</file>