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907-D572-4D52-B122-2E512060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60A-E858-4C5C-AD7D-4EC2D11E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A1B-A827-4FF5-8155-EAA3DDE3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4F8-9781-40C1-9F7A-7A5D1FB1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FD3F-937A-4664-BAC5-03F3F8CE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F8CB-A7A1-4F0F-A30D-B4F11D32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2326-B15C-4B67-A164-982ABC19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CEA8-885E-4510-A13E-0BAA0B2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2566-7904-4DAA-9C1F-C766FAD7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93EC-6D81-4844-870A-ED62CB99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F8CC-CAB4-4651-AB79-7C4EED4D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527-0817-408C-8172-225D9402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0C75-ABB2-4746-A053-57D6517A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13BE-07C2-4E5D-9B63-CBD6741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238-71A1-4128-BBB2-B0EDB92C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C3C2-40A8-4B1F-B5EF-1FEAE9F6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7D3E-14C6-4ABD-B4F8-2E4B4151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D3C5-9359-4A20-96A2-62900453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757F-A51D-47FC-8591-B9340F42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8009-D277-4080-8771-318FDD4F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520F-8CFE-41CC-9CC6-4A433D00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660A-B3D7-44CD-9306-0FCB6CB7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1C1-5EE2-472A-9C0A-12120F8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BC19-093E-4789-8C92-F196E871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86A3-9983-420B-B594-421E42D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1579-0791-4C71-8879-BB9A7B3B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8627-04C1-4515-A178-D3B0DDA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D253-51D4-4266-AEF9-B32614A5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13C4-CD9C-4915-A981-48F3AF70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4123-D75B-41AC-806D-CA28A1B2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E3DA-D925-4EB8-9EB6-88C4CFE6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CA00-5E60-4E5A-B7C1-EC9E8285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0834-5BA4-4BC8-9394-D7580457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6DCC-F959-49A1-B978-EA266F4F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F9098-A3A5-40EB-A498-0667C7C1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D668-6F04-42F6-8E3F-51B2BB3D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2F9F-DFE0-4EF2-A3EF-429CA4AA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6175-ECFC-41F2-A330-4B452063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9C39-75E0-4A9F-B14A-30139FD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59AF-B526-4D1B-B37F-54DFC7B4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C77C-E921-4E8E-AA18-6206B9F6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6BB5-E745-41EB-BB21-9317061F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DC0B-B35A-4926-BF0C-D2BB7835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2BF-3234-4FCA-9352-4851C3B8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288-E654-4323-9D2D-8B3F98EC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2E2-9FEF-43FD-B9B8-A197741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4D3-0C05-4FF4-A4AC-8F25601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F81-D277-48C3-909A-2310675E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09C0-3D0B-4063-9A37-EDB9E3B5BF3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011-99F0-42B3-9047-2AD832D0799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4AE5-9D50-47DB-A688-9781079890E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F36B-65E1-4C96-BBFB-23A19C750EC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278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Юрій Довгору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400" y="1214280"/>
            <a:ext cx="82580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Юрій 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вгорукий (бл.1090 — 1157), князь Ростово-Суздальський, згодом Великий князь Київський, шостий син Володимира 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номаха. Прізвище Довгорукий — «Довга рука», надано деякими літописцями після його смерті за постійні втручання із загарбницькою метою у справи Київського князів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C:\Documents and Settings\Admin\Рабочий стол\юююююю.jpg"/>
          <p:cNvPicPr/>
          <p:nvPr/>
        </p:nvPicPr>
        <p:blipFill>
          <a:blip r:embed="rId2"/>
          <a:stretch/>
        </p:blipFill>
        <p:spPr>
          <a:xfrm>
            <a:off x="4286160" y="2928960"/>
            <a:ext cx="279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dmin\Рабочий стол\1f49842a1e4a2.jpg"/>
          <p:cNvPicPr/>
          <p:nvPr/>
        </p:nvPicPr>
        <p:blipFill>
          <a:blip r:embed="rId2"/>
          <a:stretch/>
        </p:blipFill>
        <p:spPr>
          <a:xfrm>
            <a:off x="2500200" y="2643120"/>
            <a:ext cx="3929040" cy="3916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9680" y="152280"/>
            <a:ext cx="818676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Андрій Боголюбсь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999720"/>
            <a:ext cx="818676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На політичну сцену Андрій Боголюбський вийшов у середині 1140-х рокі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d0d0d"/>
                </a:solidFill>
                <a:latin typeface="Constantia"/>
              </a:rPr>
              <a:t>В 1169 р. захопив і зруйнував Киї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8358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Всеволод Юрійович-Всеволод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Велике Гніздо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(1176-1212 р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2960" y="2214720"/>
            <a:ext cx="80438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прийняв титул великого князя володимирського. За період його князювання Володимиро-Суздальська земля пережила часи економічного і культурного підйо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C:\Documents and Settings\Admin\Рабочий стол\Bolshoe_Gnezdo.JPG"/>
          <p:cNvPicPr/>
          <p:nvPr/>
        </p:nvPicPr>
        <p:blipFill>
          <a:blip r:embed="rId2"/>
          <a:stretch/>
        </p:blipFill>
        <p:spPr>
          <a:xfrm>
            <a:off x="785880" y="3916440"/>
            <a:ext cx="2071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дповіді тестів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 – в.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І - 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Б                                 1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Б                                 2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. В                                 3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. Б                                 4. Б,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. Б                                 5.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400" y="356760"/>
            <a:ext cx="825804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Форма правлі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         </a:t>
            </a:r>
            <a:r>
              <a:rPr b="0" lang="uk-UA" sz="2600" spc="-1" strike="noStrike">
                <a:solidFill>
                  <a:srgbClr val="002060"/>
                </a:solidFill>
                <a:latin typeface="Constantia"/>
              </a:rPr>
              <a:t>Монархія                                   Республі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лада однієї особи,                       Держава, якою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що передається у спадок             управляють люд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рані на певний ча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8" name="Прямая со стрелкой 4"/>
          <p:cNvCxnSpPr/>
          <p:nvPr/>
        </p:nvCxnSpPr>
        <p:spPr>
          <a:xfrm flipH="1">
            <a:off x="2642760" y="142776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Прямая со стрелкой 6"/>
          <p:cNvCxnSpPr/>
          <p:nvPr/>
        </p:nvCxnSpPr>
        <p:spPr>
          <a:xfrm>
            <a:off x="4786200" y="142848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9"/>
          <p:cNvCxnSpPr/>
          <p:nvPr/>
        </p:nvCxnSpPr>
        <p:spPr>
          <a:xfrm flipH="1">
            <a:off x="1784160" y="2714760"/>
            <a:ext cx="2160" cy="357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1" name="Прямая со стрелкой 10"/>
          <p:cNvCxnSpPr/>
          <p:nvPr/>
        </p:nvCxnSpPr>
        <p:spPr>
          <a:xfrm flipH="1">
            <a:off x="6357600" y="2786040"/>
            <a:ext cx="2160" cy="357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Завданн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400" y="1285560"/>
            <a:ext cx="82580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Які виборні посади існували в Новгороді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Які обов’язки були покладені на князя Новгород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Що таке віч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Яку роль у житті Новгорода відігравало віч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І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Чому Новгород називають боярською республіко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Олександр Невсь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Admin\Рабочий стол\0c06f1fb2abc0f80ff8ce6d7ab3ec724.jpeg"/>
          <p:cNvPicPr/>
          <p:nvPr/>
        </p:nvPicPr>
        <p:blipFill>
          <a:blip r:embed="rId2"/>
          <a:stretch/>
        </p:blipFill>
        <p:spPr>
          <a:xfrm>
            <a:off x="1785960" y="2143080"/>
            <a:ext cx="5500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400" y="1000080"/>
            <a:ext cx="825804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Дякую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за співпрацю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9-06T07:13:54Z</dcterms:modified>
  <cp:revision>5</cp:revision>
  <dc:subject/>
  <dc:title>Північно-Східна Рус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7000000000001024140</vt:lpwstr>
  </property>
</Properties>
</file>