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88C6-0CBE-4549-8F34-50668126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57A-F5E8-49B7-A6E0-A570E609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8D7-08F6-4424-AA81-F227EFAA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A4AB-08AB-4733-86BB-F12B8EB9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9CBB-4ACA-441B-A494-19D32845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0002-3EF8-4D37-AC50-BF3072D2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BA16-CB18-4F1B-BD33-A5145476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0C7B-BAF4-42C4-965E-4A0622B8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2B2B-B238-4028-B79F-11042E4B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FD68-EF5D-4419-B35B-9CFE3CA0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178E-1A4B-414D-B65E-EB56DFCA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28F8-4E72-4075-B17C-BBDF18B4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31C7-5C33-4B5F-BB95-28E41E0C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4DEF-B568-42E3-BDD2-51052F78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9F0B-5418-4583-B4E3-9365DB6D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9CBD-BB55-4C0F-A99F-584CA09E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BCBB-826E-41EC-A486-C51D5469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43D62-4AA6-406B-98B0-B9D1E4F5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D2795-9261-41C7-9811-A501D036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6A113-0681-4243-A763-7AAE85C8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9DD05-D0A9-4051-AFD2-DD19E40D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0A629-A67E-4DBF-9C96-F967D7E4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590C-6DCB-4B41-9D90-6327FE11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93212-D017-4579-AC22-1A1987A9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75B83-D375-453E-899D-265E3B4F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6A9C2-D683-4829-8F24-B70E3F53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6B62B-26C0-49FB-BD2E-486AD8C7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7E2D6-57C0-4B16-9756-EC349A18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9D394-BDD6-4642-B0D1-D583F193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EA6BC-D84D-4B2A-8DCA-B1C9DA2B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CE06C-C26A-4C8B-BD20-69B08854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ACD38-A33B-4E76-BAA4-4F8A9FA2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16334-24C4-4795-BB1A-7B7AA708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E35A-6532-4E2A-A907-D2ABE915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8AD09-4E6F-4FA8-9A6D-B6DAE073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F4079-65F1-491F-BE8E-02484038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7D2ED-6E7C-411E-BEC4-822E9DE9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C1FE4-79E0-4707-8687-DBC1A3E8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35255-78E5-42A8-B5B6-005D4734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61701-737B-43D0-BA45-DCC256A9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399F5-2DCC-4054-A338-79739740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AC70E-853A-420F-8787-213AD857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206E3-DB53-4521-9A5B-05B42867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AC8-9982-48AC-B0C2-B514B684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A1EC-3FAB-4190-8058-6D5DADAD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E2F0-7BE7-4F2E-817E-CDA2CAD4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19F1-6FE4-41D3-925B-C4593FA9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13B-C69E-4FA3-9114-B38318B7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06D8-802B-48CC-9F3F-114F1E6E34A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EFED-AABE-4A2F-9447-38A2D9B1A6B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9371-819D-4AF6-9C18-E9AA6424962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A714-BDE8-45F7-9341-80FEE57B842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2789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400" y="152280"/>
            <a:ext cx="825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Юрій Довгорук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28400" y="1214280"/>
            <a:ext cx="82580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Юрій </a:t>
            </a: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вгорукий (бл.1090 — 1157), князь Ростово-Суздальський, згодом Великий князь Київський, шостий син Володимира </a:t>
            </a: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номаха. Прізвище Довгорукий — «Довга рука», надано деякими літописцями після його смерті за постійні втручання із загарбницькою метою у справи Київського князівств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2" descr="C:\Documents and Settings\Admin\Рабочий стол\юююююю.jpg"/>
          <p:cNvPicPr/>
          <p:nvPr/>
        </p:nvPicPr>
        <p:blipFill>
          <a:blip r:embed="rId2"/>
          <a:stretch/>
        </p:blipFill>
        <p:spPr>
          <a:xfrm>
            <a:off x="4286160" y="2928960"/>
            <a:ext cx="2791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Admin\Рабочий стол\1f49842a1e4a2.jpg"/>
          <p:cNvPicPr/>
          <p:nvPr/>
        </p:nvPicPr>
        <p:blipFill>
          <a:blip r:embed="rId2"/>
          <a:stretch/>
        </p:blipFill>
        <p:spPr>
          <a:xfrm>
            <a:off x="2500200" y="2643120"/>
            <a:ext cx="3929040" cy="39164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9680" y="152280"/>
            <a:ext cx="818676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Андрій Боголюбськ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9680" y="999720"/>
            <a:ext cx="818676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На політичну сцену Андрій Боголюбський вийшов у середині 1140-х рокі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d0d0d"/>
                </a:solidFill>
                <a:latin typeface="Constantia"/>
              </a:rPr>
              <a:t>В 1169 р. захопив і зруйнував Киї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56760" y="152280"/>
            <a:ext cx="8358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Всеволод Юрійович-Всеволод</a:t>
            </a:r>
            <a:br>
              <a:rPr sz="4500"/>
            </a:b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Велике Гніздо</a:t>
            </a:r>
            <a:br>
              <a:rPr sz="4500"/>
            </a:b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(1176-1212 р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42960" y="2214720"/>
            <a:ext cx="804384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прийняв титул великого князя володимирського. За період його князювання Володимиро-Суздальська земля пережила часи економічного і культурного підйом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C:\Documents and Settings\Admin\Рабочий стол\Bolshoe_Gnezdo.JPG"/>
          <p:cNvPicPr/>
          <p:nvPr/>
        </p:nvPicPr>
        <p:blipFill>
          <a:blip r:embed="rId2"/>
          <a:stretch/>
        </p:blipFill>
        <p:spPr>
          <a:xfrm>
            <a:off x="785880" y="3916440"/>
            <a:ext cx="2071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ідповіді тестів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 – в.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І - 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. Б                                 1.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. Б                                 2.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. В                                 3.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. Б                                 4. Б,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5. Б                                 5.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28400" y="356760"/>
            <a:ext cx="8258040" cy="57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onstantia"/>
              </a:rPr>
              <a:t>Форма правлінн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         </a:t>
            </a:r>
            <a:r>
              <a:rPr b="0" lang="uk-UA" sz="2600" spc="-1" strike="noStrike">
                <a:solidFill>
                  <a:srgbClr val="002060"/>
                </a:solidFill>
                <a:latin typeface="Constantia"/>
              </a:rPr>
              <a:t>Монархія                                   Республі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лада однієї особи,                       Держава, якою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що передається у спадок             управляють люд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брані на певний ча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8" name="Прямая со стрелкой 4"/>
          <p:cNvCxnSpPr/>
          <p:nvPr/>
        </p:nvCxnSpPr>
        <p:spPr>
          <a:xfrm flipH="1">
            <a:off x="2642760" y="1427760"/>
            <a:ext cx="12153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9" name="Прямая со стрелкой 6"/>
          <p:cNvCxnSpPr/>
          <p:nvPr/>
        </p:nvCxnSpPr>
        <p:spPr>
          <a:xfrm>
            <a:off x="4786200" y="1428480"/>
            <a:ext cx="12153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Прямая со стрелкой 9"/>
          <p:cNvCxnSpPr/>
          <p:nvPr/>
        </p:nvCxnSpPr>
        <p:spPr>
          <a:xfrm flipH="1">
            <a:off x="1784160" y="2714760"/>
            <a:ext cx="2160" cy="357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1" name="Прямая со стрелкой 10"/>
          <p:cNvCxnSpPr/>
          <p:nvPr/>
        </p:nvCxnSpPr>
        <p:spPr>
          <a:xfrm flipH="1">
            <a:off x="6357600" y="2786040"/>
            <a:ext cx="2160" cy="357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400" y="152280"/>
            <a:ext cx="8258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Завданн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28400" y="1285560"/>
            <a:ext cx="825804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onstantia"/>
              </a:rPr>
              <a:t>І гру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. Які виборні посади існували в Новгороді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. Які обов’язки були покладені на князя Новгород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onstantia"/>
              </a:rPr>
              <a:t>ІІ гру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. Що таке віч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. Яку роль у житті Новгорода відігравало віч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onstantia"/>
              </a:rPr>
              <a:t>ІІІ гру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. Чому Новгород називають боярською республіко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Олександр Невськ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C:\Documents and Settings\Admin\Рабочий стол\0c06f1fb2abc0f80ff8ce6d7ab3ec724.jpeg"/>
          <p:cNvPicPr/>
          <p:nvPr/>
        </p:nvPicPr>
        <p:blipFill>
          <a:blip r:embed="rId2"/>
          <a:stretch/>
        </p:blipFill>
        <p:spPr>
          <a:xfrm>
            <a:off x="1785960" y="2143080"/>
            <a:ext cx="55008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28400" y="1000080"/>
            <a:ext cx="825804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nstantia"/>
              </a:rPr>
              <a:t>Дякую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nstantia"/>
              </a:rPr>
              <a:t>за співпрацю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9-06T07:13:54Z</dcterms:modified>
  <cp:revision>5</cp:revision>
  <dc:subject/>
  <dc:title>Північно-Східна Рус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7000000000001024140</vt:lpwstr>
  </property>
</Properties>
</file>