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87E-7E79-4CA2-B9C7-0424F05E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BBE-C927-44F5-9CFB-12505EC2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409-1845-436E-8F5D-94C174D2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ED0-5900-471F-A2BF-03F153F2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B621-E8B1-4CEC-9F3D-D9D84898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B646-50D9-40CE-A98C-8441914F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FA7A-5618-48B2-A052-31A0C52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6D5C-8673-47D0-A3A2-9D84BA33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0D3D-FCE2-4EE2-B26F-0010A494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7FCA-F6C3-437A-B64C-E694F53A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2F44-B333-4C04-9983-8F602E07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7A1-01BE-488A-84AC-50619667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7227-24BC-4629-9AFF-AC7C907E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4ED7-A974-4B0F-AAB2-C7004FC3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5841-C17E-4D8D-8D1E-AB72F4F8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CF03-E6F3-42B5-A836-7A612CB3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E92D-B658-4E9F-AB69-5379B4D7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A335-D439-4E7E-B611-8B23924C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6627-1721-4B81-AC52-AAE31051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1394-F288-4B0A-8E94-3E848A66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1211-7089-4E8A-A335-1B535A46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AA0F-9EF5-468D-A6AE-05E9A8AE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09D-94D2-4BBE-A9E9-DC39A62A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422D-417A-41F0-870D-C6DB308B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5C7F-C4F5-4741-93A4-E4E2497F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BCC0-9606-45AB-90CB-E4606275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620B-8CBA-40EF-9892-8BA45FB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E569-119F-4E53-AF62-8343ACFF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0FE7-51AB-4982-8E21-E28BDA57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97FD-B579-43F9-9F72-E18512EC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C99D-50C9-443D-B22C-3112630D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20172-46D3-46BA-9789-FBD8FA09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39984-C8FE-46D4-A2B2-3C0DCF6F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E10-E2A2-4806-9C2B-B217DB94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30D5-0893-4720-BCDA-95959CD6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9694-8973-4870-A637-B4EBC6B7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0CFC-30D7-4C73-823E-54AE8C7A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91F9-A3E1-4E5F-991C-95FB92B2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0B67-336C-4464-8743-222E67C2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B677-55A4-4892-921A-E7FEA5D7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2DB4E-14C1-4326-AD43-A5AD83E8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F949D-8853-463B-AF99-4B57A70E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AF925-E7BE-452A-880D-FA74C6CE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867-B2B9-4D32-B512-A012D417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EDF-2DDE-429C-9C7F-84B7A21C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914-31C3-48FB-971D-5C16FE8F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9AE-68D5-4CF5-A9C3-E5E5EF5C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9E7-EE20-48B4-9535-28B1C1FD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4407-A421-4D92-B1D6-5502D719C76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865-2FDF-4E2B-AA3B-C6BD6F28218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38A7-39C1-43F1-87BB-E716418E3A3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0465-678C-4930-B9B9-CC3F41B08E8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278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400" y="152280"/>
            <a:ext cx="825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Юрій Довгору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400" y="1214280"/>
            <a:ext cx="82580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Юрій 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вгорукий (бл.1090 — 1157), князь Ростово-Суздальський, згодом Великий князь Київський, шостий син Володимира 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номаха. Прізвище Довгорукий — «Довга рука», надано деякими літописцями після його смерті за постійні втручання із загарбницькою метою у справи Київського князів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C:\Documents and Settings\Admin\Рабочий стол\юююююю.jpg"/>
          <p:cNvPicPr/>
          <p:nvPr/>
        </p:nvPicPr>
        <p:blipFill>
          <a:blip r:embed="rId2"/>
          <a:stretch/>
        </p:blipFill>
        <p:spPr>
          <a:xfrm>
            <a:off x="4286160" y="2928960"/>
            <a:ext cx="2791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dmin\Рабочий стол\1f49842a1e4a2.jpg"/>
          <p:cNvPicPr/>
          <p:nvPr/>
        </p:nvPicPr>
        <p:blipFill>
          <a:blip r:embed="rId2"/>
          <a:stretch/>
        </p:blipFill>
        <p:spPr>
          <a:xfrm>
            <a:off x="2500200" y="2643120"/>
            <a:ext cx="3929040" cy="3916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9680" y="152280"/>
            <a:ext cx="818676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Андрій Боголюбсь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999720"/>
            <a:ext cx="818676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На політичну сцену Андрій Боголюбський вийшов у середині 1140-х рокі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d0d0d"/>
                </a:solidFill>
                <a:latin typeface="Constantia"/>
              </a:rPr>
              <a:t>В 1169 р. захопив і зруйнував Киї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8358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Всеволод Юрійович-Всеволод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Велике Гніздо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(1176-1212 р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2960" y="2214720"/>
            <a:ext cx="80438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прийняв титул великого князя володимирського. За період його князювання Володимиро-Суздальська земля пережила часи економічного і культурного підйо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C:\Documents and Settings\Admin\Рабочий стол\Bolshoe_Gnezdo.JPG"/>
          <p:cNvPicPr/>
          <p:nvPr/>
        </p:nvPicPr>
        <p:blipFill>
          <a:blip r:embed="rId2"/>
          <a:stretch/>
        </p:blipFill>
        <p:spPr>
          <a:xfrm>
            <a:off x="785880" y="3916440"/>
            <a:ext cx="2071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дповіді тестів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 – в.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І - 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Б                                 1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Б                                 2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. В                                 3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. Б                                 4. Б,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. Б                                 5.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400" y="356760"/>
            <a:ext cx="825804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Форма правлі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         </a:t>
            </a:r>
            <a:r>
              <a:rPr b="0" lang="uk-UA" sz="2600" spc="-1" strike="noStrike">
                <a:solidFill>
                  <a:srgbClr val="002060"/>
                </a:solidFill>
                <a:latin typeface="Constantia"/>
              </a:rPr>
              <a:t>Монархія                                   Республі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лада однієї особи,                       Держава, якою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що передається у спадок             управляють люд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рані на певний ча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8" name="Прямая со стрелкой 4"/>
          <p:cNvCxnSpPr/>
          <p:nvPr/>
        </p:nvCxnSpPr>
        <p:spPr>
          <a:xfrm flipH="1">
            <a:off x="2642760" y="1427760"/>
            <a:ext cx="12153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Прямая со стрелкой 6"/>
          <p:cNvCxnSpPr/>
          <p:nvPr/>
        </p:nvCxnSpPr>
        <p:spPr>
          <a:xfrm>
            <a:off x="4786200" y="1428480"/>
            <a:ext cx="12153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Прямая со стрелкой 9"/>
          <p:cNvCxnSpPr/>
          <p:nvPr/>
        </p:nvCxnSpPr>
        <p:spPr>
          <a:xfrm flipH="1">
            <a:off x="1784160" y="2714760"/>
            <a:ext cx="2160" cy="357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1" name="Прямая со стрелкой 10"/>
          <p:cNvCxnSpPr/>
          <p:nvPr/>
        </p:nvCxnSpPr>
        <p:spPr>
          <a:xfrm flipH="1">
            <a:off x="6357600" y="2786040"/>
            <a:ext cx="2160" cy="357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400" y="152280"/>
            <a:ext cx="8258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Завданн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8400" y="1285560"/>
            <a:ext cx="82580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Які виборні посади існували в Новгороді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Які обов’язки були покладені на князя Новгород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Що таке віч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Яку роль у житті Новгорода відігравало віч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І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Чому Новгород називають боярською республіко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Олександр Невсь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Admin\Рабочий стол\0c06f1fb2abc0f80ff8ce6d7ab3ec724.jpeg"/>
          <p:cNvPicPr/>
          <p:nvPr/>
        </p:nvPicPr>
        <p:blipFill>
          <a:blip r:embed="rId2"/>
          <a:stretch/>
        </p:blipFill>
        <p:spPr>
          <a:xfrm>
            <a:off x="1785960" y="2143080"/>
            <a:ext cx="5500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400" y="1000080"/>
            <a:ext cx="825804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Дякую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за співпрацю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9-06T07:13:54Z</dcterms:modified>
  <cp:revision>5</cp:revision>
  <dc:subject/>
  <dc:title>Північно-Східна Рус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7000000000001024140</vt:lpwstr>
  </property>
</Properties>
</file>