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png" ContentType="image/png"/>
  <Override PartName="/ppt/media/image7.jpeg" ContentType="image/jpeg"/>
  <Override PartName="/ppt/media/image8.jpeg" ContentType="image/jpeg"/>
  <Override PartName="/ppt/media/image10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EDA7-3420-482B-A2D4-44298CE06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742CD-F296-41DB-B88C-4B410C975D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4FD5F-910D-4D5C-AA67-BF5F21916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52194-987D-4485-A1EE-71EF30353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03A493-76EE-47C7-8A36-A69247842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B4DAC-E2E9-4E5F-99B2-10E5BDC90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D977-0386-4CAB-8799-1F77AFAF5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0741-15A9-400B-BB3A-5135368F4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35491E-2F87-4AC1-8386-E7EB546D9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83697-BBC4-4A21-87D7-274BCD838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950B-740D-4A36-A9C9-58469D36A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DBE1A-DECA-4276-82EA-C9143ABCE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EF55C-43FF-43F4-A732-B51E6B09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069F7-2AA5-41B3-A672-0E214718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DBC8A-9B8F-41E0-831E-F3F069286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37ACA-EC4B-4DC7-9CFF-D15BA8F08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D94E8-23DC-4D63-B388-B3D5F28E6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DA568F-DC47-4DC4-80B6-710F84BD8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CEC445-E2CE-4631-9BC9-1CE92628F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14BFE1-6C23-442C-9B5C-4E3573EF2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3C6EC-4335-4ACF-931F-F2567E9BD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F35431-BCAE-4A53-98FF-926F63DF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D9EF-B6D3-4645-8277-B5720560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64CC3-AC1D-46B3-959E-0D5266456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FFEDD9-CE1A-4A7D-8B42-8BA522731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9FB0F-CE19-4DFE-BE4F-941CD3C96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9A8BB9-EB9A-4069-9F3D-4EC9F43B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034337-2106-43DE-8BEF-15BD23C72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D9B4ED-4315-43E9-933F-0D9AB2E70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E8B232-1E10-438E-ADDD-FB143A08F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6B954F-8ADC-4E27-8812-977ECD7F06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466CE8-7943-4DBC-9356-D09C5D262B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83D628-685B-4652-9351-3BD29A28C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BED5-C722-46E8-B590-F68C5F878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D0EC8-71FD-4D0B-919E-479F4671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AA35C-F4B3-4D80-ACF8-78BA840EF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78E260-2708-486B-AC6E-6038864BF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06A64-7527-4B95-9225-28D34E3A9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A9B14-BC6B-4ED7-97B0-B22214AE1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40A5F-0C2C-4ABC-B7AD-37FC48201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5F2E2A-8CB7-47C1-A73E-9B430257A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5F6B73-02C8-4E93-9C79-408035A79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728231-347C-4E45-B04D-51B9259F4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0167-5F67-4EC9-BA40-32F32A2AD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969D0-B9B6-46FA-893F-F099B4C648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AE87-35AC-4190-9D2C-DB3611951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C326A-CA45-4671-B8AD-208B2FFC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59AF4-6F17-463A-A305-20070701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17BB3-9AF9-43A3-BDD3-810D8038AB4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7083E-4349-45C7-848F-87627D9564F2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DE620-7EEC-4B16-B718-5973C0713C56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8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1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9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0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A49D3-73A6-4A88-B69C-C02232D2E3A1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Заголовок 1" descr=""/>
          <p:cNvPicPr/>
          <p:nvPr/>
        </p:nvPicPr>
        <p:blipFill>
          <a:blip r:embed="rId2"/>
          <a:stretch/>
        </p:blipFill>
        <p:spPr>
          <a:xfrm>
            <a:off x="530280" y="1365120"/>
            <a:ext cx="8278920" cy="18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28400" y="152280"/>
            <a:ext cx="825804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Юрій Довгоруки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7" name=""/>
          <p:cNvSpPr txBox="1"/>
          <p:nvPr/>
        </p:nvSpPr>
        <p:spPr>
          <a:xfrm>
            <a:off x="428400" y="1214280"/>
            <a:ext cx="825804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Юрій </a:t>
            </a:r>
            <a:r>
              <a:rPr b="0" lang="en-CA" sz="2000" spc="-1" strike="noStrike">
                <a:solidFill>
                  <a:srgbClr val="000000"/>
                </a:solidFill>
                <a:latin typeface="Constantia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Довгорукий (бл.1090 — 1157), князь Ростово-Суздальський, згодом Великий князь Київський, шостий син Володимира </a:t>
            </a:r>
            <a:r>
              <a:rPr b="0" lang="en-CA" sz="2000" spc="-1" strike="noStrike">
                <a:solidFill>
                  <a:srgbClr val="000000"/>
                </a:solidFill>
                <a:latin typeface="Constantia"/>
              </a:rPr>
              <a:t>II </a:t>
            </a:r>
            <a:r>
              <a:rPr b="0" lang="ru-RU" sz="2000" spc="-1" strike="noStrike">
                <a:solidFill>
                  <a:srgbClr val="000000"/>
                </a:solidFill>
                <a:latin typeface="Constantia"/>
              </a:rPr>
              <a:t>Мономаха. Прізвище Довгорукий — «Довга рука», надано деякими літописцями після його смерті за постійні втручання із загарбницькою метою у справи Київського князівства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8" name="Picture 2" descr="C:\Documents and Settings\Admin\Рабочий стол\юююююю.jpg"/>
          <p:cNvPicPr/>
          <p:nvPr/>
        </p:nvPicPr>
        <p:blipFill>
          <a:blip r:embed="rId2"/>
          <a:stretch/>
        </p:blipFill>
        <p:spPr>
          <a:xfrm>
            <a:off x="4286160" y="2928960"/>
            <a:ext cx="279108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2" descr="C:\Documents and Settings\Admin\Рабочий стол\1f49842a1e4a2.jpg"/>
          <p:cNvPicPr/>
          <p:nvPr/>
        </p:nvPicPr>
        <p:blipFill>
          <a:blip r:embed="rId2"/>
          <a:stretch/>
        </p:blipFill>
        <p:spPr>
          <a:xfrm>
            <a:off x="2500200" y="2643120"/>
            <a:ext cx="3929040" cy="391644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99680" y="152280"/>
            <a:ext cx="8186760" cy="9194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Андрій Боголюбськи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99680" y="999720"/>
            <a:ext cx="8186760" cy="509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d0d0d"/>
                </a:solidFill>
                <a:latin typeface="Constantia"/>
              </a:rPr>
              <a:t>На політичну сцену Андрій Боголюбський вийшов у середині 1140-х рокі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d0d0d"/>
                </a:solidFill>
                <a:latin typeface="Constantia"/>
              </a:rPr>
              <a:t>В 1169 р. захопив і зруйнував Київ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56760" y="152280"/>
            <a:ext cx="8358120" cy="19195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Всеволод Юрійович-Всеволод</a:t>
            </a:r>
            <a:br>
              <a:rPr sz="4500"/>
            </a:b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Велике Гніздо</a:t>
            </a:r>
            <a:br>
              <a:rPr sz="4500"/>
            </a:br>
            <a:r>
              <a:rPr b="0" lang="uk-UA" sz="4500" spc="-1" strike="noStrike">
                <a:solidFill>
                  <a:srgbClr val="04617b"/>
                </a:solidFill>
                <a:latin typeface="Calibri"/>
              </a:rPr>
              <a:t>(1176-1212 р.)</a:t>
            </a:r>
            <a:endParaRPr b="0" lang="en-US" sz="45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42960" y="2214720"/>
            <a:ext cx="8043840" cy="41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Першим прийняв титул великого князя володимирського. За період його князювання Володимиро-Суздальська земля пережила часи економічного і культурного підйому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Picture 2" descr="C:\Documents and Settings\Admin\Рабочий стол\Bolshoe_Gnezdo.JPG"/>
          <p:cNvPicPr/>
          <p:nvPr/>
        </p:nvPicPr>
        <p:blipFill>
          <a:blip r:embed="rId2"/>
          <a:stretch/>
        </p:blipFill>
        <p:spPr>
          <a:xfrm>
            <a:off x="785880" y="3916440"/>
            <a:ext cx="207180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Відповіді тестів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І – в.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                       </a:t>
            </a:r>
            <a:r>
              <a:rPr b="1" lang="uk-UA" sz="2600" spc="-1" strike="noStrike">
                <a:solidFill>
                  <a:srgbClr val="000000"/>
                </a:solidFill>
                <a:latin typeface="Constantia"/>
              </a:rPr>
              <a:t>ІІ - в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. Б                                 1.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. Б                                 2.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3. В                                 3. 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4. Б                                 4. Б, 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5. Б                                 5. В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428400" y="356760"/>
            <a:ext cx="8258040" cy="573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onstantia"/>
              </a:rPr>
              <a:t>Форма правління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7030a0"/>
                </a:solidFill>
                <a:latin typeface="Constantia"/>
              </a:rPr>
              <a:t>         </a:t>
            </a:r>
            <a:r>
              <a:rPr b="0" lang="uk-UA" sz="2600" spc="-1" strike="noStrike">
                <a:solidFill>
                  <a:srgbClr val="002060"/>
                </a:solidFill>
                <a:latin typeface="Constantia"/>
              </a:rPr>
              <a:t>Монархія                                   Республі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Влада однієї особи,                       Держава, якою           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що передається у спадок             управляють люд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                                                          </a:t>
            </a: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обрані на певний час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cxnSp>
        <p:nvCxnSpPr>
          <p:cNvPr id="208" name="Прямая со стрелкой 4"/>
          <p:cNvCxnSpPr/>
          <p:nvPr/>
        </p:nvCxnSpPr>
        <p:spPr>
          <a:xfrm flipH="1">
            <a:off x="2642760" y="1427760"/>
            <a:ext cx="12153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09" name="Прямая со стрелкой 6"/>
          <p:cNvCxnSpPr/>
          <p:nvPr/>
        </p:nvCxnSpPr>
        <p:spPr>
          <a:xfrm>
            <a:off x="4786200" y="1428480"/>
            <a:ext cx="1215360" cy="500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0" name="Прямая со стрелкой 9"/>
          <p:cNvCxnSpPr/>
          <p:nvPr/>
        </p:nvCxnSpPr>
        <p:spPr>
          <a:xfrm flipH="1">
            <a:off x="1784160" y="2714760"/>
            <a:ext cx="2160" cy="357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  <p:cxnSp>
        <p:nvCxnSpPr>
          <p:cNvPr id="211" name="Прямая со стрелкой 10"/>
          <p:cNvCxnSpPr/>
          <p:nvPr/>
        </p:nvCxnSpPr>
        <p:spPr>
          <a:xfrm flipH="1">
            <a:off x="6357600" y="2786040"/>
            <a:ext cx="2160" cy="3578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28400" y="152280"/>
            <a:ext cx="8258040" cy="99072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0b0f0"/>
                </a:solidFill>
                <a:latin typeface="Calibri"/>
              </a:rPr>
              <a:t>Завдання: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428400" y="1285560"/>
            <a:ext cx="8258040" cy="480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onstantia"/>
              </a:rPr>
              <a:t>І груп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. Які виборні посади існували в Новгороді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. Які обов’язки були покладені на князя Новгорода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onstantia"/>
              </a:rPr>
              <a:t>ІІ груп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. Що таке віч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2. Яку роль у житті Новгорода відігравало віче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ffc000"/>
                </a:solidFill>
                <a:latin typeface="Constantia"/>
              </a:rPr>
              <a:t>ІІІ груп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600" spc="-1" strike="noStrike">
                <a:solidFill>
                  <a:srgbClr val="000000"/>
                </a:solidFill>
                <a:latin typeface="Constantia"/>
              </a:rPr>
              <a:t>1. Чому Новгород називають боярською республікою?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5000" spc="-1" strike="noStrike">
                <a:solidFill>
                  <a:srgbClr val="04617b"/>
                </a:solidFill>
                <a:latin typeface="Calibri"/>
              </a:rPr>
              <a:t>Олександр Невський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5" name="Picture 2" descr="C:\Documents and Settings\Admin\Рабочий стол\0c06f1fb2abc0f80ff8ce6d7ab3ec724.jpeg"/>
          <p:cNvPicPr/>
          <p:nvPr/>
        </p:nvPicPr>
        <p:blipFill>
          <a:blip r:embed="rId2"/>
          <a:stretch/>
        </p:blipFill>
        <p:spPr>
          <a:xfrm>
            <a:off x="1785960" y="2143080"/>
            <a:ext cx="5500800" cy="42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428400" y="1000080"/>
            <a:ext cx="8258040" cy="532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Constantia"/>
              </a:rPr>
              <a:t>Дякую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000000"/>
                </a:solidFill>
                <a:latin typeface="Constantia"/>
              </a:rPr>
              <a:t>за співпрацю!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3-09-06T07:13:54Z</dcterms:modified>
  <cp:revision>5</cp:revision>
  <dc:subject/>
  <dc:title>Північно-Східна Русь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407000000000001024140</vt:lpwstr>
  </property>
</Properties>
</file>