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A10-92D9-4811-AE8B-FD60A6D0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06B-CE3A-436E-A79C-75E2A18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921-15CB-434D-8BC9-4541F114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0A1-D8FB-4D81-A84A-C22560F9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DA0A-3939-4BCA-A400-516AEEA4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F58D-C476-4EEF-85B4-5EDE3C5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4DDA-3E00-43EC-A1F1-A3140C8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F932-B98C-48C6-89D3-392856F4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C8B2-6E0C-4392-8B11-0769F44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93E0-9F66-4AF0-BE1B-FEF3FCC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9D4-C51D-4C08-A537-F1D9974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281-51AC-4F35-8B4E-D1583575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8EB-BCC3-4F40-B13A-2B8F4D3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F42-B49E-4E37-93B9-B5DBED8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8E46-0EF2-4674-88B7-BB71727C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4EE-0F48-4550-A864-42EC8A49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3BE4-31CA-4281-BDAC-8BCA539F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795-884D-4951-884E-882CF65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27C-6876-4668-BF20-50F37D2D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AA7-371F-4EF0-B8CF-4CA86B3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3D5-B868-4E4D-9239-CE2BC0D7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5FA-B8A6-4753-811A-F2D1D585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26A-F369-4692-A598-6D08741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C28-484C-4596-BECB-22E4DF09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1CC-56D5-45FA-B916-A96E84BFFA5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4C04-0287-4324-A9DC-0188150960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Тема уроку:</a:t>
            </a:r>
            <a:br>
              <a:rPr sz="4000"/>
            </a:b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“Утворення та зміцнення Московської держави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Історичне дослідження становлення Московської держави у ХІ</a:t>
            </a:r>
            <a:r>
              <a:rPr b="1" lang="en-US" sz="2400" spc="-1" strike="noStrike">
                <a:solidFill>
                  <a:srgbClr val="3c3b05"/>
                </a:solidFill>
                <a:latin typeface="Arial"/>
              </a:rPr>
              <a:t>V </a:t>
            </a: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– Х</a:t>
            </a:r>
            <a:r>
              <a:rPr b="1" lang="en-US" sz="2400" spc="-1" strike="noStrike">
                <a:solidFill>
                  <a:srgbClr val="3c3b05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 столітті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її політичного, соціально-економічного та культурного розвит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Куликовська би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i-main-pic" descr="Картинка 9 из 6976"/>
          <p:cNvPicPr/>
          <p:nvPr/>
        </p:nvPicPr>
        <p:blipFill>
          <a:blip r:embed="rId1"/>
          <a:stretch/>
        </p:blipFill>
        <p:spPr>
          <a:xfrm>
            <a:off x="228600" y="1574640"/>
            <a:ext cx="7543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Дмитрій на чолі руського військ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2296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. Історики про Куликовську битв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2. Підготовка русичів до битв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3. Розташування війсь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4. Двобі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5. Атака татарської кінно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6. Удар «засадного полку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7. Блискуча перемог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Іван ІІІ ( 1462 – 1505 рр.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032000" y="1066320"/>
            <a:ext cx="3617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еликий князь московськ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начно розширив кордони московських володі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иріс міжнародний авторитет Руської держав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Скинуто монголо-татарське ярм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68280" y="152388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Софія Палеолог, племінниця останнього візантійського імператора, дружина Івана ІІІ</a:t>
            </a: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i-main-pic" descr="Картинка 1 из 113"/>
          <p:cNvPicPr/>
          <p:nvPr/>
        </p:nvPicPr>
        <p:blipFill>
          <a:blip r:embed="rId1"/>
          <a:stretch/>
        </p:blipFill>
        <p:spPr>
          <a:xfrm>
            <a:off x="457200" y="160020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2430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Московська експансі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63 р. – підкорення ярославських князі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78 р. – приєднання Новгорода («Вечевому колоколу в нашей державе не б</a:t>
            </a:r>
            <a:r>
              <a:rPr b="1" lang="ru-RU" sz="2800" spc="-1" strike="noStrike">
                <a:solidFill>
                  <a:srgbClr val="09372c"/>
                </a:solidFill>
                <a:latin typeface="Arial"/>
              </a:rPr>
              <a:t>ыть, посаднику не быть, а править нам, как в своэй вотчине»)</a:t>
            </a: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 та Карелії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72 р. - приєднання Пермі та верхів</a:t>
            </a:r>
            <a:r>
              <a:rPr b="1" lang="ru-RU" sz="2800" spc="-1" strike="noStrike">
                <a:solidFill>
                  <a:srgbClr val="09372c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я Ками; походи на Тобол, Іртиш, Об та підкорення хантів та мансі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85 р. – приєднання Твері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89 р. – московські війська здобули Хлинов (Вятку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Що вам відомо про Москву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Політики»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9140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Картка 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Московською державою впродовж ХІІІ – Х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толіть правив ______,  влада як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була _________, бо він спирався 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______   _______ та 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ван ІІІ запровадив при дворі ______  ______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та ________  _________ - _______ 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При дворі існував дорадчий орган – ________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___________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Наприкінці Х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століття  у Московські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державі  виникли _________ та  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удова влада над селянами належа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226800"/>
            <a:ext cx="55627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Економісти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49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ХІІІ–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олітті населення Московсько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ержави займалося _______________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а також _________ та 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емлю обробляли __________, які були залежн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ід __________ і не мали права полишити його, з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инятком 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нязі, бояри, монастирі володіли ____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еликими маєтками. «Діти боярські», середні 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рібні служилі люди, за службу у княз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тримували у тимчасове володіння 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 визначало, хто і на яку посад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оже бути призначений княз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истема васалітету у Московській державі _________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о всі служилі люди мали єдиного сеньйора – 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Руські міста заселяли ______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Соціологи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селення Північно-Східної Русі у ХІІІ–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олітт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кладалося з _______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нязі та бояри жили у ____________, городяни 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, бідняки – _____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Простий люд носив одяг пошитий з _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дяг знаті та заможних купців – 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Чоловіки носили ________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Жінки – _____________________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Їли __________________________________ тощ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_______ не зловживали, част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постили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Робота в групах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1295280"/>
          <a:ext cx="8686800" cy="4799160"/>
        </p:xfrm>
        <a:graphic>
          <a:graphicData uri="http://schemas.openxmlformats.org/drawingml/2006/table">
            <a:tbl>
              <a:tblPr/>
              <a:tblGrid>
                <a:gridCol w="444600"/>
                <a:gridCol w="1328760"/>
                <a:gridCol w="1274760"/>
                <a:gridCol w="1450800"/>
                <a:gridCol w="1492560"/>
                <a:gridCol w="1252440"/>
                <a:gridCol w="1442880"/>
              </a:tblGrid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Ім</a:t>
                      </a:r>
                      <a:r>
                        <a:rPr b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;’</a:t>
                      </a: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я учн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бота над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вдання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часть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говоренні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часть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боті класу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бота над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блем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итання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л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Культурознавці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ХІІІ столітті для письма використовували _______ чи ________, а з ХІ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століття – 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Руські мандрівники описали _________,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тверський купець _______ _________у своїй прац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____________ – Індію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род склав багато билин про _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о письмових джерел ХІ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століття належат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, ______________, 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Активно розвивалося у ХІІІ- 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столітт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удівництво – ________________, 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 цей час працюють видатні іконописці - 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Берестян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грамота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XII столітт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78080" y="1598760"/>
            <a:ext cx="33577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Ходіння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за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моря»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Афанасія Нікітіна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327400" y="1676520"/>
            <a:ext cx="360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Герої руських били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881000" cy="236232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12 из 242"/>
          <p:cNvPicPr/>
          <p:nvPr/>
        </p:nvPicPr>
        <p:blipFill>
          <a:blip r:embed="rId2"/>
          <a:stretch/>
        </p:blipFill>
        <p:spPr>
          <a:xfrm>
            <a:off x="304920" y="4114800"/>
            <a:ext cx="4419360" cy="2386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819520" y="1600200"/>
            <a:ext cx="3047760" cy="227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208480" y="4038480"/>
            <a:ext cx="1773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роїцький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літопис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. А князей имаше, изавиша и..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66680" y="1446120"/>
            <a:ext cx="6248520" cy="5232600"/>
          </a:xfrm>
          <a:prstGeom prst="rect">
            <a:avLst/>
          </a:prstGeom>
          <a:ln w="0">
            <a:noFill/>
          </a:ln>
        </p:spPr>
      </p:pic>
      <p:pic>
        <p:nvPicPr>
          <p:cNvPr id="248" name="il_fi" descr=""/>
          <p:cNvPicPr/>
          <p:nvPr/>
        </p:nvPicPr>
        <p:blipFill>
          <a:blip r:embed="rId2"/>
          <a:stretch/>
        </p:blipFill>
        <p:spPr>
          <a:xfrm>
            <a:off x="5715000" y="914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СПЕНСЬКИЙ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ОБОР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Московського Кремл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251160" cy="3962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308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роїце-Сергієвий монастир (Троїцький)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3" name="il_fi" descr=""/>
          <p:cNvPicPr/>
          <p:nvPr/>
        </p:nvPicPr>
        <p:blipFill>
          <a:blip r:embed="rId1"/>
          <a:stretch/>
        </p:blipFill>
        <p:spPr>
          <a:xfrm>
            <a:off x="2362320" y="1341360"/>
            <a:ext cx="36702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Андрій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убльов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, (XV ст.),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2941560" cy="4114800"/>
          </a:xfrm>
          <a:prstGeom prst="rect">
            <a:avLst/>
          </a:prstGeom>
          <a:ln w="0">
            <a:noFill/>
          </a:ln>
        </p:spPr>
      </p:pic>
      <p:pic>
        <p:nvPicPr>
          <p:cNvPr id="256" name="i-main-pic" descr="Картинка 17 из 20"/>
          <p:cNvPicPr/>
          <p:nvPr/>
        </p:nvPicPr>
        <p:blipFill>
          <a:blip r:embed="rId2"/>
          <a:stretch/>
        </p:blipFill>
        <p:spPr>
          <a:xfrm>
            <a:off x="5105520" y="2819520"/>
            <a:ext cx="3717720" cy="4038480"/>
          </a:xfrm>
          <a:prstGeom prst="rect">
            <a:avLst/>
          </a:prstGeom>
          <a:ln w="0">
            <a:noFill/>
          </a:ln>
        </p:spPr>
      </p:pic>
      <p:pic>
        <p:nvPicPr>
          <p:cNvPr id="257" name="i-main-pic" descr="Картинка 7 из 20"/>
          <p:cNvPicPr/>
          <p:nvPr/>
        </p:nvPicPr>
        <p:blipFill>
          <a:blip r:embed="rId3"/>
          <a:stretch/>
        </p:blipFill>
        <p:spPr>
          <a:xfrm>
            <a:off x="2971800" y="10666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Феофан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Грек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2219400" cy="297180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2 из 1578"/>
          <p:cNvPicPr/>
          <p:nvPr/>
        </p:nvPicPr>
        <p:blipFill>
          <a:blip r:embed="rId2"/>
          <a:stretch/>
        </p:blipFill>
        <p:spPr>
          <a:xfrm>
            <a:off x="2514600" y="2209680"/>
            <a:ext cx="2819520" cy="3810240"/>
          </a:xfrm>
          <a:prstGeom prst="rect">
            <a:avLst/>
          </a:prstGeom>
          <a:ln w="0">
            <a:noFill/>
          </a:ln>
        </p:spPr>
      </p:pic>
      <p:pic>
        <p:nvPicPr>
          <p:cNvPr id="261" name="i-main-pic" descr="Картинка 5 из 1578"/>
          <p:cNvPicPr/>
          <p:nvPr/>
        </p:nvPicPr>
        <p:blipFill>
          <a:blip r:embed="rId3"/>
          <a:stretch/>
        </p:blipFill>
        <p:spPr>
          <a:xfrm>
            <a:off x="5410080" y="1523880"/>
            <a:ext cx="2432160" cy="3200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60" y="464760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гоматір Донсь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4 ст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619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піння Богоматері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20240" y="472392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оанн Златоус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405 р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Проблемне питання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83808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Суспільно-політичний устрі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Московської держави більш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нагадував західно-європейсь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чи візантійський?</a:t>
            </a:r>
            <a:r>
              <a:rPr b="0" lang="uk-UA" sz="3200" spc="-1" strike="noStrike">
                <a:solidFill>
                  <a:srgbClr val="3132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Вислови свою думку за схемою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962520"/>
            <a:ext cx="7296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Я вважаю _______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тому, що ____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Наприклад, ________ 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Отже, _____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Тестова перевірк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Куликовська битва відбулася 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1378 р.   б) 1380 р. в) 1382 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2) “Стояння на Угрі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1480 р.   б) 1453 р. в) 1462 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3) Битва, що закріпила за Московським князівством провідну роль у боротьбі за політичну єдні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Невська б) Куликовська в) на р. Угрі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4) Установи відповідні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вотчина   б) помістя в) місництв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Боротьба за місце при княжому дворі в Московській державі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Родовий маєток пана, його власніс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Державна земля, надана в користування на період служб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5) Доповни речення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“ </a:t>
            </a: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Наприкінці Х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 ст в Московській державі виникли перші _____ - своєрідні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міністерства. З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явилися єдині для всієї країни закони - _______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6) Доповни схему: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562720"/>
            <a:ext cx="13716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f1311"/>
                </a:solidFill>
                <a:latin typeface="Times New Roman"/>
              </a:rPr>
              <a:t>Княз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563868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594360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594360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5791320"/>
            <a:ext cx="914400" cy="152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80920" y="5791320"/>
            <a:ext cx="228600" cy="759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657600" y="5638680"/>
            <a:ext cx="152280" cy="763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6248520"/>
            <a:ext cx="13716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6515280"/>
            <a:ext cx="13716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52680" y="5867280"/>
            <a:ext cx="533520" cy="3812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867280"/>
            <a:ext cx="381240" cy="6858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Добери подію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169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236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240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242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147 р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Що вам відомо про Москву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Проблемне питанн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Суспільно-політичний устрій Московської держави більше нагадував західно-європейський чи візантійський?</a:t>
            </a:r>
            <a:r>
              <a:rPr b="0" lang="uk-UA" sz="3200" spc="-1" strike="noStrike">
                <a:solidFill>
                  <a:srgbClr val="3132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Боротьба з ординцями</a:t>
            </a:r>
            <a:br>
              <a:rPr sz="3600"/>
            </a:b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 друга половина ХІ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V</a:t>
            </a: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 століття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i-main-pic" descr="Картинка 28 из 6976"/>
          <p:cNvPicPr/>
          <p:nvPr/>
        </p:nvPicPr>
        <p:blipFill>
          <a:blip r:embed="rId1"/>
          <a:stretch/>
        </p:blipFill>
        <p:spPr>
          <a:xfrm>
            <a:off x="219240" y="0"/>
            <a:ext cx="66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Двобій перед битвою між ченцем Олександром Пересвєтом </a:t>
            </a:r>
            <a:br>
              <a:rPr sz="2800"/>
            </a:b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та мурзою Челубеєм</a:t>
            </a: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1512720"/>
            <a:ext cx="80010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Розташування військ </a:t>
            </a:r>
            <a:br>
              <a:rPr sz="2800"/>
            </a:b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на Куликовському полі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i-main-pic" descr="Картинка 11 из 6976"/>
          <p:cNvPicPr/>
          <p:nvPr/>
        </p:nvPicPr>
        <p:blipFill>
          <a:blip r:embed="rId1"/>
          <a:stretch/>
        </p:blipFill>
        <p:spPr>
          <a:xfrm>
            <a:off x="380880" y="1509840"/>
            <a:ext cx="74678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LiK</cp:lastModifiedBy>
  <dcterms:modified xsi:type="dcterms:W3CDTF">2003-01-01T15:59:5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d000000000001024140</vt:lpwstr>
  </property>
  <property fmtid="{D5CDD505-2E9C-101B-9397-08002B2CF9AE}" pid="3" name="Version">
    <vt:r8>1</vt:r8>
  </property>
</Properties>
</file>