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4AD0-0C45-46CB-B546-D434A7D1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B4C-A98F-466A-BD94-DE5A9A1E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8EFC-F9E3-448B-B69B-9B1E0F10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5149-42BA-45E4-A1D1-3226EA16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03C6-389C-4D9D-9726-978CEE39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8805-59C0-4F1F-93E5-6ACE6583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FDAD-3348-449C-A21A-E35805A7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459E-585F-482F-A959-93679DA6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BB9D-9082-46CD-B593-76B3CA62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0FDE-5E5B-4FE3-8BBE-0182D5B3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9BA2-00F9-4319-8D4F-7EA36310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85C7-AF90-422A-A0C9-9B033440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895A-BB28-454E-A985-3076D3E6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2696-1EAD-45BF-A8B3-F893308C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C48A-A354-4238-AE07-FFBC5319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A653-0801-49B5-B914-ACBDAD0C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3AAF-919A-4F0B-A732-90073AF9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3D4-A07B-4E68-B8B7-F7909511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546-102F-4ED3-90E7-5F0E25B9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B652-16F3-4E0C-BEAD-C26F9EF0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DD8-DB7B-4585-AB80-0B11992A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C11-64CD-4D6B-AE3C-235C8D68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9104-2858-4919-9902-5EA77994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FFF1-F6D7-4D4C-B09F-A7EFD304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2F67-29C7-4D7D-B7BF-BE9EC5BBD3E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1807-DB42-4DA3-84EF-8AE90B8A4FA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Тема уроку:</a:t>
            </a:r>
            <a:br>
              <a:rPr sz="4000"/>
            </a:b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“Утворення та зміцнення Московської держави”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c3b05"/>
                </a:solidFill>
                <a:latin typeface="Arial"/>
              </a:rPr>
              <a:t>Історичне дослідження становлення Московської держави у ХІ</a:t>
            </a:r>
            <a:r>
              <a:rPr b="1" lang="en-US" sz="2400" spc="-1" strike="noStrike">
                <a:solidFill>
                  <a:srgbClr val="3c3b05"/>
                </a:solidFill>
                <a:latin typeface="Arial"/>
              </a:rPr>
              <a:t>V </a:t>
            </a:r>
            <a:r>
              <a:rPr b="1" lang="uk-UA" sz="2400" spc="-1" strike="noStrike">
                <a:solidFill>
                  <a:srgbClr val="3c3b05"/>
                </a:solidFill>
                <a:latin typeface="Arial"/>
              </a:rPr>
              <a:t>– Х</a:t>
            </a:r>
            <a:r>
              <a:rPr b="1" lang="en-US" sz="2400" spc="-1" strike="noStrike">
                <a:solidFill>
                  <a:srgbClr val="3c3b05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3c3b05"/>
                </a:solidFill>
                <a:latin typeface="Arial"/>
              </a:rPr>
              <a:t> столітті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c3b05"/>
                </a:solidFill>
                <a:latin typeface="Arial"/>
              </a:rPr>
              <a:t>її політичного, соціально-економічного та культурного розвитк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Куликовська би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i-main-pic" descr="Картинка 9 из 6976"/>
          <p:cNvPicPr/>
          <p:nvPr/>
        </p:nvPicPr>
        <p:blipFill>
          <a:blip r:embed="rId1"/>
          <a:stretch/>
        </p:blipFill>
        <p:spPr>
          <a:xfrm>
            <a:off x="228600" y="1574640"/>
            <a:ext cx="7543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Дмитрій на чолі руського війська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920" y="1538280"/>
            <a:ext cx="82296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. Історики про Куликовську битв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2. Підготовка русичів до битв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3. Розташування війсь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4. Двобі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5. Атака татарської кіннот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6. Удар «засадного полку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7. Блискуча перемог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Іван ІІІ ( 1462 – 1505 рр.)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032000" y="1066320"/>
            <a:ext cx="3617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Великий князь московськ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Значно розширив кордони московських володінь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Виріс міжнародний авторитет Руської держав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Скинуто монголо-татарське ярмо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68280" y="1523880"/>
            <a:ext cx="3352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Софія Палеолог, племінниця останнього візантійського імператора, дружина Івана ІІІ</a:t>
            </a:r>
            <a:r>
              <a:rPr b="0" lang="uk-UA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i-main-pic" descr="Картинка 1 из 113"/>
          <p:cNvPicPr/>
          <p:nvPr/>
        </p:nvPicPr>
        <p:blipFill>
          <a:blip r:embed="rId1"/>
          <a:stretch/>
        </p:blipFill>
        <p:spPr>
          <a:xfrm>
            <a:off x="457200" y="1600200"/>
            <a:ext cx="3200400" cy="3809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2430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Московська експансі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14300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9372c"/>
                </a:solidFill>
                <a:latin typeface="Arial"/>
              </a:rPr>
              <a:t>1463 р. – підкорення ярославських князі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9372c"/>
                </a:solidFill>
                <a:latin typeface="Arial"/>
              </a:rPr>
              <a:t>1478 р. – приєднання Новгорода («Вечевому колоколу в нашей державе не б</a:t>
            </a:r>
            <a:r>
              <a:rPr b="1" lang="ru-RU" sz="2800" spc="-1" strike="noStrike">
                <a:solidFill>
                  <a:srgbClr val="09372c"/>
                </a:solidFill>
                <a:latin typeface="Arial"/>
              </a:rPr>
              <a:t>ыть, посаднику не быть, а править нам, как в своэй вотчине»)</a:t>
            </a:r>
            <a:r>
              <a:rPr b="1" lang="uk-UA" sz="2800" spc="-1" strike="noStrike">
                <a:solidFill>
                  <a:srgbClr val="09372c"/>
                </a:solidFill>
                <a:latin typeface="Arial"/>
              </a:rPr>
              <a:t> та Карелії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9372c"/>
                </a:solidFill>
                <a:latin typeface="Arial"/>
              </a:rPr>
              <a:t>1472 р. - приєднання Пермі та верхів</a:t>
            </a:r>
            <a:r>
              <a:rPr b="1" lang="ru-RU" sz="2800" spc="-1" strike="noStrike">
                <a:solidFill>
                  <a:srgbClr val="09372c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9372c"/>
                </a:solidFill>
                <a:latin typeface="Arial"/>
              </a:rPr>
              <a:t>я Ками; походи на Тобол, Іртиш, Об та підкорення хантів та мансі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9372c"/>
                </a:solidFill>
                <a:latin typeface="Arial"/>
              </a:rPr>
              <a:t>1485 р. – приєднання Твері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9372c"/>
                </a:solidFill>
                <a:latin typeface="Arial"/>
              </a:rPr>
              <a:t>1489 р. – московські війська здобули Хлинов (Вятку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Що вам відомо про Москву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«Політики»</a:t>
            </a: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9140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Картка 1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Московською державою впродовж ХІІІ – Х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століть правив ______,  влада яког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була _________, бо він спирався 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______   _______ та __________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Іван ІІІ запровадив при дворі ______  ______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та ________  _________ - _______ 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При дворі існував дорадчий орган – ________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___________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Наприкінці Х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 століття  у Московські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державі  виникли _________ та  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Судова влада над селянами належал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f1311"/>
                </a:solidFill>
                <a:latin typeface="Arial"/>
              </a:rPr>
              <a:t>____________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226800"/>
            <a:ext cx="55627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«Економісти»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849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У ХІІІ–Х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столітті населення Московської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держави займалося ________________________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а також _________ та _________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Землю обробляли __________, які були залежні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від __________ і не мали права полишити його, з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винятком _________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Князі, бояри, монастирі володіли _____________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великими маєтками. «Діти боярські», середні 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дрібні служилі люди, за службу у княз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отримували у тимчасове володіння _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_____________ визначало, хто і на яку посад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може бути призначений князе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Система васалітету у Московській державі _________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бо всі служилі люди мали єдиного сеньйора – _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Руські міста заселяли _______________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«Соціологи»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Населення Північно-Східної Русі у ХІІІ–Х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столітті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складалося з ________________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Князі та бояри жили у ____________, городяни –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____________, бідняки – ___________________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Простий люд носив одяг пошитий з __________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одяг знаті та заможних купців – _____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Чоловіки носили _________________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Жінки – ___________________________________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Їли __________________________________ тощ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_____________________ не зловживали, част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постилис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Робота в групах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80880" y="1295280"/>
          <a:ext cx="8686800" cy="4799160"/>
        </p:xfrm>
        <a:graphic>
          <a:graphicData uri="http://schemas.openxmlformats.org/drawingml/2006/table">
            <a:tbl>
              <a:tblPr/>
              <a:tblGrid>
                <a:gridCol w="444600"/>
                <a:gridCol w="1328760"/>
                <a:gridCol w="1274760"/>
                <a:gridCol w="1450800"/>
                <a:gridCol w="1492560"/>
                <a:gridCol w="1252440"/>
                <a:gridCol w="1442880"/>
              </a:tblGrid>
              <a:tr h="1216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Ім</a:t>
                      </a:r>
                      <a:r>
                        <a:rPr b="1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;’</a:t>
                      </a: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я учня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обота над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авданням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Участь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бговоренні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Участь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оботі класу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обота над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облемм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итанням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агальний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бал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«Культурознавці»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14300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У ХІІІ столітті для письма використовували _______ чи ________, а з ХІ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століття – 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Руські мандрівники описали _________, 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тверський купець _______ _________у своїй праці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__________________________ – Індію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Народ склав багато билин про _______________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До письмових джерел ХІ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-Х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століття належать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______________, ______________, ___________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Активно розвивалося у ХІІІ- Х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століття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будівництво – ________________, _________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______________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В цей час працюють видатні іконописці - _______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______________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Берестян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грамота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XII столітт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278080" y="1598760"/>
            <a:ext cx="33577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«Ходіння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за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три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моря»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Афанасія Нікітіна 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327400" y="1676520"/>
            <a:ext cx="360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Герої руських били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1881000" cy="2362320"/>
          </a:xfrm>
          <a:prstGeom prst="rect">
            <a:avLst/>
          </a:prstGeom>
          <a:ln w="0">
            <a:noFill/>
          </a:ln>
        </p:spPr>
      </p:pic>
      <p:pic>
        <p:nvPicPr>
          <p:cNvPr id="243" name="i-main-pic" descr="Картинка 12 из 242"/>
          <p:cNvPicPr/>
          <p:nvPr/>
        </p:nvPicPr>
        <p:blipFill>
          <a:blip r:embed="rId2"/>
          <a:stretch/>
        </p:blipFill>
        <p:spPr>
          <a:xfrm>
            <a:off x="304920" y="4114800"/>
            <a:ext cx="4419360" cy="2386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819520" y="1600200"/>
            <a:ext cx="3047760" cy="227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5208480" y="4038480"/>
            <a:ext cx="1773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Троїцький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літопис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. А князей имаше, изавиша и..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066680" y="1446120"/>
            <a:ext cx="6248520" cy="5232600"/>
          </a:xfrm>
          <a:prstGeom prst="rect">
            <a:avLst/>
          </a:prstGeom>
          <a:ln w="0">
            <a:noFill/>
          </a:ln>
        </p:spPr>
      </p:pic>
      <p:pic>
        <p:nvPicPr>
          <p:cNvPr id="248" name="il_fi" descr=""/>
          <p:cNvPicPr/>
          <p:nvPr/>
        </p:nvPicPr>
        <p:blipFill>
          <a:blip r:embed="rId2"/>
          <a:stretch/>
        </p:blipFill>
        <p:spPr>
          <a:xfrm>
            <a:off x="5715000" y="914400"/>
            <a:ext cx="1905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УСПЕНСЬКИЙ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СОБОР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Московського Кремл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3251160" cy="3962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343400" y="2209680"/>
            <a:ext cx="3084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роїце-Сергієвий монастир (Троїцький)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3" name="il_fi" descr=""/>
          <p:cNvPicPr/>
          <p:nvPr/>
        </p:nvPicPr>
        <p:blipFill>
          <a:blip r:embed="rId1"/>
          <a:stretch/>
        </p:blipFill>
        <p:spPr>
          <a:xfrm>
            <a:off x="2362320" y="1341360"/>
            <a:ext cx="36702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Андрій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Рубльов</a:t>
            </a: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, (XV ст.),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2941560" cy="4114800"/>
          </a:xfrm>
          <a:prstGeom prst="rect">
            <a:avLst/>
          </a:prstGeom>
          <a:ln w="0">
            <a:noFill/>
          </a:ln>
        </p:spPr>
      </p:pic>
      <p:pic>
        <p:nvPicPr>
          <p:cNvPr id="256" name="i-main-pic" descr="Картинка 17 из 20"/>
          <p:cNvPicPr/>
          <p:nvPr/>
        </p:nvPicPr>
        <p:blipFill>
          <a:blip r:embed="rId2"/>
          <a:stretch/>
        </p:blipFill>
        <p:spPr>
          <a:xfrm>
            <a:off x="5105520" y="2819520"/>
            <a:ext cx="3717720" cy="4038480"/>
          </a:xfrm>
          <a:prstGeom prst="rect">
            <a:avLst/>
          </a:prstGeom>
          <a:ln w="0">
            <a:noFill/>
          </a:ln>
        </p:spPr>
      </p:pic>
      <p:pic>
        <p:nvPicPr>
          <p:cNvPr id="257" name="i-main-pic" descr="Картинка 7 из 20"/>
          <p:cNvPicPr/>
          <p:nvPr/>
        </p:nvPicPr>
        <p:blipFill>
          <a:blip r:embed="rId3"/>
          <a:stretch/>
        </p:blipFill>
        <p:spPr>
          <a:xfrm>
            <a:off x="2971800" y="106668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Феофан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Грек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2219400" cy="2971800"/>
          </a:xfrm>
          <a:prstGeom prst="rect">
            <a:avLst/>
          </a:prstGeom>
          <a:ln w="0">
            <a:noFill/>
          </a:ln>
        </p:spPr>
      </p:pic>
      <p:pic>
        <p:nvPicPr>
          <p:cNvPr id="260" name="i-main-pic" descr="Картинка 2 из 1578"/>
          <p:cNvPicPr/>
          <p:nvPr/>
        </p:nvPicPr>
        <p:blipFill>
          <a:blip r:embed="rId2"/>
          <a:stretch/>
        </p:blipFill>
        <p:spPr>
          <a:xfrm>
            <a:off x="2514600" y="2209680"/>
            <a:ext cx="2819520" cy="3810240"/>
          </a:xfrm>
          <a:prstGeom prst="rect">
            <a:avLst/>
          </a:prstGeom>
          <a:ln w="0">
            <a:noFill/>
          </a:ln>
        </p:spPr>
      </p:pic>
      <p:pic>
        <p:nvPicPr>
          <p:cNvPr id="261" name="i-main-pic" descr="Картинка 5 из 1578"/>
          <p:cNvPicPr/>
          <p:nvPr/>
        </p:nvPicPr>
        <p:blipFill>
          <a:blip r:embed="rId3"/>
          <a:stretch/>
        </p:blipFill>
        <p:spPr>
          <a:xfrm>
            <a:off x="5410080" y="1523880"/>
            <a:ext cx="2432160" cy="32004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960" y="4647600"/>
            <a:ext cx="21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огоматір Донсь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4 ст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6880" y="61938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піння Богоматері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20240" y="472392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Иоанн Златоус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1405 р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7d47d"/>
                </a:solidFill>
                <a:latin typeface="Arial"/>
              </a:rPr>
              <a:t>Проблемне питання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520" y="838080"/>
            <a:ext cx="7386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1320e"/>
                </a:solidFill>
                <a:latin typeface="Arial"/>
              </a:rPr>
              <a:t>Суспільно-політичний устрі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1320e"/>
                </a:solidFill>
                <a:latin typeface="Arial"/>
              </a:rPr>
              <a:t>Московської держави більш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1320e"/>
                </a:solidFill>
                <a:latin typeface="Arial"/>
              </a:rPr>
              <a:t>нагадував західно-європейськ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1320e"/>
                </a:solidFill>
                <a:latin typeface="Arial"/>
              </a:rPr>
              <a:t>чи візантійський?</a:t>
            </a:r>
            <a:r>
              <a:rPr b="0" lang="uk-UA" sz="3200" spc="-1" strike="noStrike">
                <a:solidFill>
                  <a:srgbClr val="3132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Вислови свою думку за схемою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962520"/>
            <a:ext cx="7296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1311"/>
                </a:solidFill>
                <a:latin typeface="Arial"/>
              </a:rPr>
              <a:t>Я вважаю _______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1311"/>
                </a:solidFill>
                <a:latin typeface="Arial"/>
              </a:rPr>
              <a:t>тому, що ___________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2f1311"/>
                </a:solidFill>
                <a:latin typeface="Arial"/>
              </a:rPr>
              <a:t>Наприклад, ________ 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1311"/>
                </a:solidFill>
                <a:latin typeface="Arial"/>
              </a:rPr>
              <a:t>Отже, _____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Тестова перевірка: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Куликовська битва відбулася у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а) 1378 р.   б) 1380 р. в) 1382 р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2) “Стояння на Угрі”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а) 1480 р.   б) 1453 р. в) 1462 р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3) Битва, що закріпила за Московським князівством провідну роль у боротьбі за політичну єдність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а) Невська б) Куликовська в) на р. Угрі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4) Установи відповідність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а) вотчина   б) помістя в) місництв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Боротьба за місце при княжому дворі в Московській державі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Родовий маєток пана, його власність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Державна земля, надана в користування на період служб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5) Доповни речення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“ </a:t>
            </a: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Наприкінці Х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 ст в Московській державі виникли перші _____ - своєрідні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міністерства. З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явилися єдині для всієї країни закони - _______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f1311"/>
                </a:solidFill>
                <a:latin typeface="Arial"/>
              </a:rPr>
              <a:t>6) Доповни схему:              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562720"/>
            <a:ext cx="13716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f1311"/>
                </a:solidFill>
                <a:latin typeface="Times New Roman"/>
              </a:rPr>
              <a:t>Князь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5638680"/>
            <a:ext cx="13716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5943600"/>
            <a:ext cx="13716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62720" y="5943600"/>
            <a:ext cx="13716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81480" y="5791320"/>
            <a:ext cx="914400" cy="152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580920" y="5791320"/>
            <a:ext cx="228600" cy="759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657600" y="5638680"/>
            <a:ext cx="152280" cy="763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6248520"/>
            <a:ext cx="13716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6515280"/>
            <a:ext cx="13716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52680" y="5867280"/>
            <a:ext cx="533520" cy="3812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5867280"/>
            <a:ext cx="381240" cy="6858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Добери подію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1169 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1236 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1240 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1242 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1147 р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Що вам відомо про Москву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Проблемне питання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31320e"/>
                </a:solidFill>
                <a:latin typeface="Arial"/>
              </a:rPr>
              <a:t>Суспільно-політичний устрій Московської держави більше нагадував західно-європейський чи візантійський?</a:t>
            </a:r>
            <a:r>
              <a:rPr b="0" lang="uk-UA" sz="3200" spc="-1" strike="noStrike">
                <a:solidFill>
                  <a:srgbClr val="3132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7d47d"/>
                </a:solidFill>
                <a:latin typeface="Arial"/>
              </a:rPr>
              <a:t>Боротьба з ординцями</a:t>
            </a:r>
            <a:br>
              <a:rPr sz="3600"/>
            </a:br>
            <a:r>
              <a:rPr b="0" lang="uk-UA" sz="3600" spc="-1" strike="noStrike">
                <a:solidFill>
                  <a:srgbClr val="f7d47d"/>
                </a:solidFill>
                <a:latin typeface="Arial"/>
              </a:rPr>
              <a:t> друга половина ХІ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V</a:t>
            </a:r>
            <a:r>
              <a:rPr b="0" lang="uk-UA" sz="3600" spc="-1" strike="noStrike">
                <a:solidFill>
                  <a:srgbClr val="f7d47d"/>
                </a:solidFill>
                <a:latin typeface="Arial"/>
              </a:rPr>
              <a:t> століття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i-main-pic" descr="Картинка 28 из 6976"/>
          <p:cNvPicPr/>
          <p:nvPr/>
        </p:nvPicPr>
        <p:blipFill>
          <a:blip r:embed="rId1"/>
          <a:stretch/>
        </p:blipFill>
        <p:spPr>
          <a:xfrm>
            <a:off x="219240" y="0"/>
            <a:ext cx="66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Двобій перед битвою між ченцем Олександром Пересвєтом </a:t>
            </a:r>
            <a:br>
              <a:rPr sz="2800"/>
            </a:b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та мурзою Челубеєм</a:t>
            </a:r>
            <a:r>
              <a:rPr b="0" lang="uk-UA" sz="3600" spc="-1" strike="noStrike">
                <a:solidFill>
                  <a:srgbClr val="f7d47d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1512720"/>
            <a:ext cx="80010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Розташування військ </a:t>
            </a:r>
            <a:br>
              <a:rPr sz="2800"/>
            </a:br>
            <a:r>
              <a:rPr b="0" lang="uk-UA" sz="2800" spc="-1" strike="noStrike">
                <a:solidFill>
                  <a:srgbClr val="f7d47d"/>
                </a:solidFill>
                <a:latin typeface="Arial"/>
              </a:rPr>
              <a:t>на Куликовському полі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i-main-pic" descr="Картинка 11 из 6976"/>
          <p:cNvPicPr/>
          <p:nvPr/>
        </p:nvPicPr>
        <p:blipFill>
          <a:blip r:embed="rId1"/>
          <a:stretch/>
        </p:blipFill>
        <p:spPr>
          <a:xfrm>
            <a:off x="380880" y="1509840"/>
            <a:ext cx="746784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LiK</cp:lastModifiedBy>
  <dcterms:modified xsi:type="dcterms:W3CDTF">2003-01-01T15:59:5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d000000000001024140</vt:lpwstr>
  </property>
  <property fmtid="{D5CDD505-2E9C-101B-9397-08002B2CF9AE}" pid="3" name="Version">
    <vt:r8>1</vt:r8>
  </property>
</Properties>
</file>