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A746-A1D8-42ED-94F2-3D6915BD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7A3-161A-450E-B94B-A00C1BA1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840-7599-4842-B4E6-BCAFCA0A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E1C-76F4-4E8F-ACE7-BCADA8C6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5EE-C639-4359-90D9-C4C6EC3F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A9EC-14BE-4F8A-A6EC-C24BDB37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14B-0363-4F35-AD53-1C10074E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2288-3101-4E58-8D7E-88E7A38E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13C-608C-426D-966A-B94DE040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78E-8BEE-4333-B518-C5D3054B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CA4-947C-4415-A028-15F71E3F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75BD-8998-40E6-9F98-B5E51F14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793A-D3A7-40CD-9F7C-01C154102C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63280" y="5805360"/>
            <a:ext cx="5472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ільгельм І Гогенцоллерн (1797-188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ранко-прусська війна. Бій під Седаном 1870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8064360" cy="47815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258920" y="6541920"/>
            <a:ext cx="640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03280" y="5516640"/>
            <a:ext cx="6337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ісмарк розмовляє з полоненим Наполеоном ІІІ. 1870 рі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3454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3200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імецька штаб-квартира у Версалі. 1871 рі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495600" y="2130480"/>
            <a:ext cx="2151000" cy="1469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7920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Проголошення імперії. </a:t>
            </a:r>
            <a:br>
              <a:rPr sz="3600"/>
            </a:b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18 березня 1871 р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692360" y="3789360"/>
            <a:ext cx="5688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69780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8728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олона Перемоги у Берліні  (187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05080" y="189000"/>
            <a:ext cx="4054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3200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огиня Ніка – символ перемог Пруссії у трьох війн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4514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1128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Сучасний Берлін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84216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64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Житло працівників корпорації “Даймлер Крайслер”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124000" y="3213000"/>
            <a:ext cx="53294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42920" y="328680"/>
            <a:ext cx="734544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340000" y="5393520"/>
            <a:ext cx="46800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89160" y="260280"/>
            <a:ext cx="48308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763280" y="4372920"/>
            <a:ext cx="626436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39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Будівля Північних Посольств у Берліні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71640" y="614520"/>
            <a:ext cx="7488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00360" y="4753440"/>
            <a:ext cx="3672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734080"/>
            <a:ext cx="64087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тто фон Бісмарк – канцлер Німеччини (1862-18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745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112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Будівля уряду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8850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508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Рейхстаг (1884-1894). Архітектор Пауль Валлот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835280" y="4084920"/>
            <a:ext cx="417672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56144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Кафедральний собор (1894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76000" y="2997360"/>
            <a:ext cx="583236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Кафедральний собор</a:t>
            </a:r>
            <a:br>
              <a:rPr sz="3600"/>
            </a:b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 (внутрішній вигляд)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92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561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544464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ам'ятник Бісмарку у Гамбурзі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484000" y="4365720"/>
            <a:ext cx="432108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46324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5589360"/>
            <a:ext cx="74851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ам'ятник Бісмарку в Бремені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627280" y="4744440"/>
            <a:ext cx="3889440" cy="2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96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ам'ятник Бісмарку в Любеку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522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Меморіал Бісмарку в Берліні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27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Атлант тримає земну кулю, що символізує німецький вплив у світі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00876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3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99"/>
                </a:solidFill>
                <a:latin typeface="Arial"/>
              </a:rPr>
              <a:t>Зігфрид кує меч – символ промислової і військової могутності Німеччин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47280" y="3212640"/>
            <a:ext cx="604044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63120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32000" y="5660640"/>
            <a:ext cx="640872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учасний Шлезві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7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Германіа придавила пантеру - символ повстань і сварок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488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Сивілла читає історичну книгу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547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99"/>
                </a:solidFill>
                <a:latin typeface="Arial"/>
              </a:rPr>
              <a:t>Башти Бісмарка будувались в пам’ять про “залізного канцлера” (1869-1934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484360" y="4436640"/>
            <a:ext cx="373536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ам'ятна монета із зображенням Бісмарка (1916 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632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258920" y="558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летіння ланцюжка “Бісмарк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978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522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99"/>
                </a:solidFill>
                <a:latin typeface="Arial"/>
              </a:rPr>
              <a:t>Лінкор “Бісмарк” – найбільший військовий корабель на дні Атлантики</a:t>
            </a: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834920" y="3789000"/>
            <a:ext cx="582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21828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2133360"/>
            <a:ext cx="8280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резентацію підготували вчитель історії Савицька А.В. та учні 9 – Б ЗОШ № 3</a:t>
            </a:r>
            <a:br>
              <a:rPr sz="4000"/>
            </a:br>
            <a:br>
              <a:rPr sz="4000"/>
            </a:b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Використані репродукції і фото з мережі 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Internet</a:t>
            </a: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 та особистого архіву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396360" y="5100840"/>
            <a:ext cx="20080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русська армія готується до наступу на Австрію. 1866 р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98508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08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Бій під Кеніггретцем. 1866 р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4764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4544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26560" y="5373360"/>
            <a:ext cx="77058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Засідання парламенту Північнонімецького союзу. 1867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84216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797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рапор Північнонімецького союзу (1866-1871 рр.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76360" y="2852280"/>
            <a:ext cx="568800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771480"/>
            <a:ext cx="676728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5444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ранко-прусська війна. Бій під Марс-ла-Туром. 1870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985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ранко-пруська вій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755640" y="522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Франко-пруська війна 1870-1871 р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05816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9:55:41Z</dcterms:created>
  <dc:creator>Customer</dc:creator>
  <dc:description/>
  <dc:language>en-US</dc:language>
  <cp:lastModifiedBy>Customer</cp:lastModifiedBy>
  <dcterms:modified xsi:type="dcterms:W3CDTF">2013-12-25T19:44:47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18000000000001024140</vt:lpwstr>
  </property>
</Properties>
</file>