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053-605D-4F31-B32B-6395FA68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6D1-2FAF-42D2-8CD3-B10E99C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404-9638-43E8-968B-10AA6B8C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C9A-1029-4347-A8B8-BCF0D895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C00-7D48-487A-AAA2-2DCF1A40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132-C2E6-42C0-821C-67AFFA5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1CE-3D0D-498E-9C5F-1BB20B6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45C-1AE0-42FA-9E2F-7EE9FC9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7F5-8493-4F09-A735-E571202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13F-61B9-42BB-89B5-00515EA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A27-2311-4B23-A86E-A5968C9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2AD-9C15-453B-8A02-173467A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5716-622A-4383-AADE-5E4A3A13E0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63280" y="5805360"/>
            <a:ext cx="547236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льгельм І Гогенцоллерн (1797-188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Седаном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4781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58920" y="6541920"/>
            <a:ext cx="6408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5516640"/>
            <a:ext cx="6337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смарк розмовляє з полоненим Наполеоном ІІІ. 1870 рі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3454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мецька штаб-квартира у Версалі. 1871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5600" y="2130480"/>
            <a:ext cx="2151000" cy="146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20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Проголошення імперії. 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18 березня 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5688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978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8728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она Перемоги у Берліні  (187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189000"/>
            <a:ext cx="405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огиня Ніка – символ перемог Пруссії у трьох війн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1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1128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Сучасний Берлін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Житло працівників корпорації “Даймлер Крайслер”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4000" y="3213000"/>
            <a:ext cx="5329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340000" y="5393520"/>
            <a:ext cx="4680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89160" y="260280"/>
            <a:ext cx="4830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63280" y="4372920"/>
            <a:ext cx="626436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удівля Північних Посольств у Берлі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614520"/>
            <a:ext cx="7488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360" y="4753440"/>
            <a:ext cx="3672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8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то фон Бісмарк – канцлер Німеччини (1862-18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745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Будівля уря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85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Рейхстаг (1884-1894). Архітектор Пауль Валло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4084920"/>
            <a:ext cx="417672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5614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Кафедральний собор (1894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000" y="2997360"/>
            <a:ext cx="583236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Кафедральний собор</a:t>
            </a:r>
            <a:br>
              <a:rPr sz="36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(внутрішній вигляд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561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544464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у Гамбурз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84000" y="4365720"/>
            <a:ext cx="43210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32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4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Бремені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744440"/>
            <a:ext cx="3889440" cy="2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96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ам'ятник Бісмарку в Любе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Меморіал Бісмарку в Берліні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Атлант тримає земну кулю, що символізує німецький вплив у світі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00876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Зігфрид кує меч – символ промислової і військової могутності Німеччин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4044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31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40872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часний Шлезві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Германіа придавила пантеру - символ повстань і сварок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Сивілла читає історичну книг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Башти Бісмарка будувались в пам’ять про “залізного канцлера” (1869-1934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84360" y="4436640"/>
            <a:ext cx="3735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608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м'ятна монета із зображенням Бісмарка (1916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92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етіння ланцюжка “Бісмарк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97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99"/>
                </a:solidFill>
                <a:latin typeface="Arial"/>
              </a:rPr>
              <a:t>Лінкор “Бісмарк” – найбільший військовий корабель на дні Атлантики</a:t>
            </a: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34920" y="3789000"/>
            <a:ext cx="582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2182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280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езентацію підготували вчитель історії Савицька А.В. та учні 9 – Б ЗОШ № 3</a:t>
            </a:r>
            <a:br>
              <a:rPr sz="4000"/>
            </a:br>
            <a:br>
              <a:rPr sz="4000"/>
            </a:b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Використані репродукції і фото з мережі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nternet</a:t>
            </a: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 та особистого архів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396360" y="5100840"/>
            <a:ext cx="20080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усська армія готується до наступу на Австрію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985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Бій під Кеніггретцем. 1866 р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6560" y="5373360"/>
            <a:ext cx="7705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сідання парламенту Північнонімецького союзу. 186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2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Прапор Північнонімецького союзу (1866-1871 рр.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56880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771480"/>
            <a:ext cx="6767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544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ська війна. Бій під Марс-ла-Туром. 1870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ранко-пруська ві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5640" y="522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99"/>
                </a:solidFill>
                <a:latin typeface="Arial"/>
              </a:rPr>
              <a:t>Франко-пруська війна 1870-1871 р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581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9:55:41Z</dcterms:created>
  <dc:creator>Customer</dc:creator>
  <dc:description/>
  <dc:language>en-US</dc:language>
  <cp:lastModifiedBy>Customer</cp:lastModifiedBy>
  <dcterms:modified xsi:type="dcterms:W3CDTF">2013-12-25T19:44:47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8000000000001024140</vt:lpwstr>
  </property>
</Properties>
</file>