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EC4-6278-4D5D-8287-CC1C3A79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D4B-E49E-4402-B0C5-B04BCD35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24E-F6E4-4558-B14B-98807259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664-8A22-40F4-9C2F-FC39E0E2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8DF-4E66-4130-B0E8-4DB6636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873-0E85-4582-A213-5B5882D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89A-347E-4BFA-9084-CF87CF8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D5F-9B9F-4242-826B-C2AB48D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2CC-F25B-442E-B011-DD31BDA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FDE-D10B-4239-9856-223C224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B34-F28A-404D-A19D-6F783343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085-0240-41F9-BFAC-884B0BE0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ED4-6D0D-4AE3-B560-ECAD4ADBC4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280" y="5805360"/>
            <a:ext cx="5472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льгельм І Гогенцоллерн (1797-18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Седаном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58920" y="6541920"/>
            <a:ext cx="640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337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смарк розмовляє з полоненим Наполеоном ІІІ. 1870 р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45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мецька штаб-квартира у Версалі. 1871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5600" y="2130480"/>
            <a:ext cx="2151000" cy="146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20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Проголошення імперії. 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18 березня 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688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87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она Перемоги у Берліні  (18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189000"/>
            <a:ext cx="405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огиня Ніка – символ перемог Пруссії у трьох вій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1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Сучасний Берлі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Житло працівників корпорації “Даймлер Крайслер”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213000"/>
            <a:ext cx="5329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5393520"/>
            <a:ext cx="4680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260280"/>
            <a:ext cx="4830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63280" y="4372920"/>
            <a:ext cx="6264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удівля Північних Посольств у Берлі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614520"/>
            <a:ext cx="7488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360" y="4753440"/>
            <a:ext cx="3672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8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то фон Бісмарк – канцлер Німеччини (1862-18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Будівля уря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85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Рейхстаг (1884-1894). Архітектор Пауль Валло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4084920"/>
            <a:ext cx="41767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Кафедральний собор (1894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583236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Кафедральний собор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(внутрішній вигляд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54446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у Гамбурз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000" y="4365720"/>
            <a:ext cx="43210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2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4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Бреме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744440"/>
            <a:ext cx="388944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Любе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еморіал Бісмарку в Берліні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Атлант тримає земну кулю, що символізує німецький вплив у світ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0876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Зігфрид кує меч – символ промислової і військової могутності Німеччин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404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31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40872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часний Шлезві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Германіа придавила пантеру - символ повстань і сварок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Сивілла читає історичну книг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Башти Бісмарка будувались в пам’ять про “залізного канцлера” (1869-1934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84360" y="4436640"/>
            <a:ext cx="3735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м'ятна монета із зображенням Бісмарка (1916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етіння ланцюжка “Бісмар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Лінкор “Бісмарк” – найбільший військовий корабель на дні Атлантики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34920" y="3789000"/>
            <a:ext cx="582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82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280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езентацію підготували вчитель історії Савицька А.В. та учні 9 – Б ЗОШ № 3</a:t>
            </a:r>
            <a:br>
              <a:rPr sz="4000"/>
            </a:br>
            <a:br>
              <a:rPr sz="40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Використані репродукції і фото з мережі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ternet</a:t>
            </a: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та особистого архів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396360" y="5100840"/>
            <a:ext cx="20080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усська армія готується до наступу на Австрію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85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ій під Кеніггретцем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5373360"/>
            <a:ext cx="7705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ідання парламенту Північнонімецького союзу. 186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апор Північнонімецького союзу (1866-1871 рр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56880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771480"/>
            <a:ext cx="6767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Марс-ла-Туром.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ька ві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Франко-пруська війна 1870-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55:41Z</dcterms:created>
  <dc:creator>Customer</dc:creator>
  <dc:description/>
  <dc:language>en-US</dc:language>
  <cp:lastModifiedBy>Customer</cp:lastModifiedBy>
  <dcterms:modified xsi:type="dcterms:W3CDTF">2013-12-25T19:44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8000000000001024140</vt:lpwstr>
  </property>
</Properties>
</file>