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8.png" ContentType="image/png"/>
  <Override PartName="/ppt/media/image14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9.jpeg" ContentType="image/jpeg"/>
  <Override PartName="/ppt/media/image31.jpeg" ContentType="image/jpeg"/>
  <Override PartName="/ppt/media/image41.png" ContentType="image/png"/>
  <Override PartName="/ppt/media/image42.png" ContentType="image/png"/>
  <Override PartName="/ppt/media/image45.jpeg" ContentType="image/jpeg"/>
  <Override PartName="/ppt/media/image46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6.jpeg" ContentType="image/jpeg"/>
  <Override PartName="/ppt/media/image27.png" ContentType="image/png"/>
  <Override PartName="/ppt/media/image33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5.png" ContentType="image/png"/>
  <Override PartName="/ppt/media/image3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107F-B1C9-4C82-9225-69C85000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A812-D55C-4741-81FE-16B876D0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D90-1959-4DD5-8F6A-342A734D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0E7F-5CEB-42EB-B346-3A5CE526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E04E6-2048-4D75-A9BD-B68D9F02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27ACA-42E2-418F-B471-C552EAE8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9205C-3769-4FCE-B363-CD81C679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AFCCC-194B-42BE-873F-397E0A1A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3E600-F0AF-4DB0-B7AB-5847E0CC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9489A-0946-4561-9F6A-53C3B573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79EF7-13E0-4A59-970A-348E3CD6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F437-50C0-46FE-AFCE-5312CD2B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10A4C-727E-4CBB-95DB-5A582400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EA550-D255-4768-82BF-552A01DD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53E95-F24D-4924-8E14-1070F2E7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6DCC6-34CF-4C32-8741-BC5DB276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BE568-1055-49AF-8597-55226E9B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A17DA-DFCA-48AE-810A-7E1111A1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300E7-E3F1-434E-AE25-2D299178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1A0D6-27E6-46DD-942C-116D7F11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2B241-2CD0-4289-9A93-F16D5367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10F37-B74D-4CDB-89CB-4BFADACC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8B0-5AA1-444A-BFCF-B4852C19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428C5-19C5-4268-AABB-9E6302FA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67227-C8BC-4FEF-9350-B2B20CD4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BC66-E776-472C-AB68-56CC50AE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14C3B-5D7A-4279-81BE-5EB5E335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1745C-3F70-4D3F-B29C-9A412030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44E2-7013-4E24-B355-08192E3C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CA4E6-3225-4989-9341-3E99DBAD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284F85-5C5E-42E9-A6B5-89A8B99E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A38081-4C8A-443B-8BB8-600B49B0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71F0A8-5213-411B-8666-F778526D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FB5-E354-404C-852D-6A0994E9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B0C34B-BB6D-4DD8-B3E5-413D0B79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04A38-6084-4456-A40C-D8983894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16C019-2B55-4EAF-9D67-51AC30A6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CC5DE3-34B1-4C8E-BA82-56097393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592FC1-A1C6-4B11-97A1-FFFB1E7C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501633-CE88-4C54-AC42-E2B0CB3E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C200DC-A08F-493D-8FF2-91B01DD1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16835E-BFD4-4C15-BB54-7F733B40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DE12F1-C9C6-4858-B967-39805817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61869-F23E-4F2F-BE83-439DBF62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71F-58E5-4B59-B865-4774D643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913DF-35D8-4628-88F0-93143E05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1AA59-42B6-4A68-A94A-23397B4B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57905-D52D-41D1-9990-3552BEB9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57E7F-8BF2-41D2-9A7D-2228AD97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BA32A-FB97-4C9B-9B07-1B1C9C65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6250D-C8A3-42A8-84C1-C06EA43F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326D8-A25F-4A9B-AEA1-86FE01C8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B8DF9-F3C7-40E7-AD5A-DC7465E2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97C3B-2757-4E5E-A970-E6CC662F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45C4D-D5C7-4D8E-ACA6-E1FED579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2207-67C4-45C8-9250-EE611AAB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8A23F-B9BD-476F-8B9A-3490B19F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A65EA-E99A-4FC2-AA08-F4D3E77C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8A53D-F7BA-4A53-B568-D7B4F826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2ACFB-C4B7-4FCD-B270-B1115964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63AB9-4347-48EC-8A8E-A64AB469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0486C-AB4E-465C-8B58-BE4B9998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51894-4A04-425A-BB37-21FCC608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75D74-EA43-45A2-AAB7-191B3EAD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F51E5-8D9B-4423-9589-D5FD2BE0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3A7F7-3375-4892-A6AC-A0DA8ED1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20E-163E-490A-9CA7-0DA2F587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16687-3199-4816-AC0C-3CB43FE6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26A3C-0FFD-469F-88ED-AA1E48BA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6FC68-F369-45FB-B851-29B5A26F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40C42-6F95-4C9D-BC79-A928D301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DF270-1D6B-4D34-8D07-C74E03C6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F72C3-861D-4132-A736-2A399CDC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79B96-E471-4F05-8404-8362915E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8099D-A0A0-438B-A14A-66D74BD5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891EA-A825-4CF4-A88D-A5CD0AB6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B2C9B-6E7C-48D1-872A-C9B95897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5AF-CFB9-4C80-BABE-899726EB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458BA-1092-441C-99C6-E72BDACC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94A7F-1E5B-4777-94BF-23E71CD1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B7B12-F19B-4891-BBD9-A0EE6A77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0D1D4-C8B0-434F-A3A4-2796D347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98F91-C61E-447F-9F3A-4117E39C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F02B8-844A-417C-B16C-53821CC6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95802-D9C9-46D0-ACF7-B2A760FE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9B351-54CD-4405-A506-55CB53F4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A7295-3951-4461-AE24-C78D804D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5047B-8B72-4C85-8CE8-C7A123BB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DFE-D150-4B9F-BED7-ED8BB72A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CB3D4-3269-4066-BAAE-D82CDCB4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36C8E-D975-4F02-BE60-F6555AA6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E5AAA-65BB-4EAD-964D-7B5875B1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12016-6FB2-45F3-8AA5-4F5DD5D1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2B651-DDD2-4D16-A607-0993DF06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54D26-ACB2-4A12-9432-683B5292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19E25-A15F-4192-9BBC-3ED707B1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F738-4E1B-44F9-9F19-C75722A221F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9F19-8424-477C-9EEC-D70BB05C9DE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7400-CD17-4DF0-9664-A91003DBF59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1915-EA3B-4452-BD29-9790E22CD1C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FE48-1D2D-4F55-B7AB-205C621C814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B982-6BD3-46F7-B8B8-1C0A656E7E7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7E91-A393-42A8-8B1B-6953B3C31F2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8D68-7910-4600-94EB-CEB338915F3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42920" y="3213000"/>
            <a:ext cx="885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Урок з всесвітньої історії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10 клас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Волотка Ольга Сергіїв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вчитель історії та правознавств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Краматорської загальноосвітньої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школи І-ІІІ ступенів № 30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378000" y="1341360"/>
            <a:ext cx="8662680" cy="26146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2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23800" y="1700280"/>
            <a:ext cx="7991640" cy="50166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1"/>
          <p:cNvSpPr/>
          <p:nvPr/>
        </p:nvSpPr>
        <p:spPr>
          <a:xfrm>
            <a:off x="250920" y="1189080"/>
            <a:ext cx="8713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Орієнтуємось в історичному просторі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2843280" y="-149400"/>
            <a:ext cx="3456000" cy="2116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3471840" cy="56768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1" i="1" lang="uk-UA" sz="3600" spc="-1" strike="noStrike">
                <a:solidFill>
                  <a:srgbClr val="000000"/>
                </a:solidFill>
                <a:latin typeface="Constantia"/>
              </a:rPr>
              <a:t>Віктор Еммануїл </a:t>
            </a: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III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Король Італії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Час на посаді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29 липня 1900 —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9 травня 1946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9" descr="http://upravlenie.ucoz.ru/_fr/8/s7858977.jpg"/>
          <p:cNvPicPr/>
          <p:nvPr/>
        </p:nvPicPr>
        <p:blipFill>
          <a:blip r:embed="rId1"/>
          <a:stretch/>
        </p:blipFill>
        <p:spPr>
          <a:xfrm>
            <a:off x="76320" y="260280"/>
            <a:ext cx="4524120" cy="6438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3851280" y="3571920"/>
            <a:ext cx="55800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600" spc="-1" strike="noStrike">
                <a:solidFill>
                  <a:srgbClr val="fefac9"/>
                </a:solidFill>
                <a:latin typeface="Constantia"/>
              </a:rPr>
              <a:t>  </a:t>
            </a:r>
            <a:r>
              <a:rPr b="1" i="1" lang="uk-UA" sz="4000" spc="-1" strike="noStrike">
                <a:solidFill>
                  <a:srgbClr val="c00000"/>
                </a:solidFill>
                <a:latin typeface="Constantia"/>
              </a:rPr>
              <a:t>Історія одного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Constantia"/>
              </a:rPr>
              <a:t>диктатор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2"/>
          <a:stretch/>
        </p:blipFill>
        <p:spPr>
          <a:xfrm>
            <a:off x="1547640" y="165240"/>
            <a:ext cx="7956720" cy="28033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3"/>
          <a:stretch/>
        </p:blipFill>
        <p:spPr>
          <a:xfrm>
            <a:off x="5076720" y="47512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1" descr="n02_02_1"/>
          <p:cNvPicPr/>
          <p:nvPr/>
        </p:nvPicPr>
        <p:blipFill>
          <a:blip r:embed="rId1"/>
          <a:stretch/>
        </p:blipFill>
        <p:spPr>
          <a:xfrm>
            <a:off x="6588000" y="333360"/>
            <a:ext cx="2433600" cy="2952720"/>
          </a:xfrm>
          <a:prstGeom prst="rect">
            <a:avLst/>
          </a:prstGeom>
          <a:ln w="0">
            <a:noFill/>
          </a:ln>
        </p:spPr>
      </p:pic>
      <p:pic>
        <p:nvPicPr>
          <p:cNvPr id="369" name="Rectangle 18" descr=""/>
          <p:cNvPicPr/>
          <p:nvPr/>
        </p:nvPicPr>
        <p:blipFill>
          <a:blip r:embed="rId2"/>
          <a:stretch/>
        </p:blipFill>
        <p:spPr>
          <a:xfrm>
            <a:off x="36360" y="334800"/>
            <a:ext cx="8442360" cy="11224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213840" y="1356840"/>
            <a:ext cx="4281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onstantia"/>
              </a:rPr>
              <a:t>На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родився 29 липня 1883 року , в Дов</a:t>
            </a:r>
            <a:r>
              <a:rPr b="1" lang="uk-UA" sz="3000" spc="-1" strike="noStrike">
                <a:solidFill>
                  <a:srgbClr val="000000"/>
                </a:solidFill>
                <a:latin typeface="Constantia"/>
              </a:rPr>
              <a:t>і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а.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Батько був кузнем, а мати —вчителем початкової школи.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Після  закінчення гімназії в 1901 році  отримав  диплом викладача початкових класів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1" name="Picture 29" descr="Image:Casa Natale Benito Mussolini.jpg"/>
          <p:cNvPicPr/>
          <p:nvPr/>
        </p:nvPicPr>
        <p:blipFill>
          <a:blip r:embed="rId3"/>
          <a:stretch/>
        </p:blipFill>
        <p:spPr>
          <a:xfrm>
            <a:off x="4572000" y="3573360"/>
            <a:ext cx="4321080" cy="288000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25"/>
          <p:cNvSpPr/>
          <p:nvPr/>
        </p:nvSpPr>
        <p:spPr>
          <a:xfrm>
            <a:off x="0" y="38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857840" y="714240"/>
            <a:ext cx="42861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1903 році Беніто вступив до Італійської соціалістичної партії (ІСП). Служив  у армії, був  викладачем 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 початку 1910-х роках він активно приймав участь в акціях соціалістичного руху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ймався журналістикою, декілька разів був арештований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6" name="i-main-pic" descr="Картинка 29 из 1427"/>
          <p:cNvPicPr/>
          <p:nvPr/>
        </p:nvPicPr>
        <p:blipFill>
          <a:blip r:embed="rId1"/>
          <a:stretch/>
        </p:blipFill>
        <p:spPr>
          <a:xfrm>
            <a:off x="1027080" y="214200"/>
            <a:ext cx="2473200" cy="34290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395280" y="360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0" name="Picture 3" descr="C:\Users\Владик\Desktop\бенито\Benito_Mussolini_mugshot_1903.jpg"/>
          <p:cNvPicPr/>
          <p:nvPr/>
        </p:nvPicPr>
        <p:blipFill>
          <a:blip r:embed="rId2"/>
          <a:stretch/>
        </p:blipFill>
        <p:spPr>
          <a:xfrm>
            <a:off x="214200" y="3714840"/>
            <a:ext cx="4660920" cy="294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i-main-pic" descr="Картинка 178 из 7070"/>
          <p:cNvPicPr/>
          <p:nvPr/>
        </p:nvPicPr>
        <p:blipFill>
          <a:blip r:embed="rId1"/>
          <a:stretch/>
        </p:blipFill>
        <p:spPr>
          <a:xfrm>
            <a:off x="2771640" y="0"/>
            <a:ext cx="6516720" cy="5229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0" y="32860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1914 р. – почалась Перша світова вій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начале 1-й мировой войны Муссолини призывал к вступлению Италии в войну на стороне Антанты. В связи с этим он был исключен из партии и оставил пост редактора газеты ИСП «Аванти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ле вступления Италии в войну (1915) Муссолини был призван в армию, участвовал в военных действиях, был ране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3" name="Picture 16" descr="MkVIII_3"/>
          <p:cNvPicPr/>
          <p:nvPr/>
        </p:nvPicPr>
        <p:blipFill>
          <a:blip r:embed="rId2"/>
          <a:stretch/>
        </p:blipFill>
        <p:spPr>
          <a:xfrm>
            <a:off x="0" y="0"/>
            <a:ext cx="367992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фото Бенито Муссолини"/>
          <p:cNvPicPr/>
          <p:nvPr/>
        </p:nvPicPr>
        <p:blipFill>
          <a:blip r:embed="rId1"/>
          <a:stretch/>
        </p:blipFill>
        <p:spPr>
          <a:xfrm>
            <a:off x="5572080" y="2714760"/>
            <a:ext cx="3357720" cy="43513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2857680" y="285840"/>
            <a:ext cx="62863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1915 р. – початок служби в італійській армії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1917- демобілізація в чині старшого капрал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6" name="Picture 2" descr="C:\Users\Владик\Desktop\бенито\170px-Benito_Mussolini_1917.jpg"/>
          <p:cNvPicPr/>
          <p:nvPr/>
        </p:nvPicPr>
        <p:blipFill>
          <a:blip r:embed="rId2"/>
          <a:stretch/>
        </p:blipFill>
        <p:spPr>
          <a:xfrm>
            <a:off x="214200" y="214200"/>
            <a:ext cx="2357640" cy="3591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C:\Users\Владик\Desktop\бенито\327318_10.jpg"/>
          <p:cNvPicPr/>
          <p:nvPr/>
        </p:nvPicPr>
        <p:blipFill>
          <a:blip r:embed="rId3"/>
          <a:stretch/>
        </p:blipFill>
        <p:spPr>
          <a:xfrm>
            <a:off x="2428920" y="2933640"/>
            <a:ext cx="32036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9" descr="Изображение:Fasces lictoriae.sv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5715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ed4226c1239e"/>
          <p:cNvPicPr/>
          <p:nvPr/>
        </p:nvPicPr>
        <p:blipFill>
          <a:blip r:embed="rId2"/>
          <a:stretch/>
        </p:blipFill>
        <p:spPr>
          <a:xfrm>
            <a:off x="0" y="0"/>
            <a:ext cx="2557440" cy="388764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le 4" descr=""/>
          <p:cNvPicPr/>
          <p:nvPr/>
        </p:nvPicPr>
        <p:blipFill>
          <a:blip r:embed="rId3"/>
          <a:stretch/>
        </p:blipFill>
        <p:spPr>
          <a:xfrm>
            <a:off x="2408400" y="212760"/>
            <a:ext cx="5662440" cy="13604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2571480" y="1341360"/>
            <a:ext cx="5529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1919 р. – м. Мілан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Фашіо ді           комбаттіменто</a:t>
            </a:r>
            <a:r>
              <a:rPr b="1" lang="uk-UA" sz="40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2" name="Picture 10" descr="tmpF943-14"/>
          <p:cNvPicPr/>
          <p:nvPr/>
        </p:nvPicPr>
        <p:blipFill>
          <a:blip r:embed="rId4"/>
          <a:stretch/>
        </p:blipFill>
        <p:spPr>
          <a:xfrm>
            <a:off x="1571760" y="3357720"/>
            <a:ext cx="51973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9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0357"/>
          <p:cNvPicPr/>
          <p:nvPr/>
        </p:nvPicPr>
        <p:blipFill>
          <a:blip r:embed="rId1"/>
          <a:stretch/>
        </p:blipFill>
        <p:spPr>
          <a:xfrm>
            <a:off x="6829560" y="3676680"/>
            <a:ext cx="2314440" cy="31813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921 р. –  вибори до парламенту. Фашисти здобувають 35 місц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Курс на захоплення влади . Створення сквадрі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Або нас добровільно допустять до управління , або ми захопимо владу….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9.10.1922- король призначає                                   Муссоліні прем'єр - міністро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Mussd"/>
          <p:cNvPicPr/>
          <p:nvPr/>
        </p:nvPicPr>
        <p:blipFill>
          <a:blip r:embed="rId1"/>
          <a:stretch/>
        </p:blipFill>
        <p:spPr>
          <a:xfrm>
            <a:off x="3848040" y="0"/>
            <a:ext cx="5295960" cy="3786120"/>
          </a:xfrm>
          <a:prstGeom prst="rect">
            <a:avLst/>
          </a:prstGeom>
          <a:ln w="0">
            <a:noFill/>
          </a:ln>
        </p:spPr>
      </p:pic>
      <p:pic>
        <p:nvPicPr>
          <p:cNvPr id="397" name="Rectangle 2" descr=""/>
          <p:cNvPicPr/>
          <p:nvPr/>
        </p:nvPicPr>
        <p:blipFill>
          <a:blip r:embed="rId2"/>
          <a:stretch/>
        </p:blipFill>
        <p:spPr>
          <a:xfrm>
            <a:off x="0" y="212760"/>
            <a:ext cx="3859200" cy="2371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-360" y="3786120"/>
            <a:ext cx="89298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ts val="20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8 жовтня 1922 року  фашисти організували  демонстративний «Марш  на Рим», внаслідок чого  італійський король Віктор 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Мануїл ІІІ запросив Беніто Муссоліні сформувати новий уряд. 31 жовтня 1922 року Муссоліні став наймолодшим прем'єр-міністром в історії Італії. Запровадив жорстку цензуру та змінив виборчі методи так, що протягом 1925—1926 років зміг зібрати в своїх руках диктаторські повноваження та розпустити всі інші партії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Constantia"/>
              </a:rPr>
              <a:t>Бесіда за запитаннями: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Якими були форма правління і державний устрій Італії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2.На боці якого воєнно-політичного блоку воювала Італія у Першій світовій війні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3.Наведіть факти, що характеризують участь Італії у Першій світовій війні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4.Назвіть характерні риси тоталітарних режимі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5.Наведіть приклади країн та їх керівників, де існували тоталітарні режим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0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2595600" cy="26985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2857680" y="428400"/>
            <a:ext cx="6000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ts val="2500"/>
              </a:lnSpc>
              <a:spcBef>
                <a:spcPts val="15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Фашизм - від слова fasces (Фасції - зв'язка прутів, яку несли ліктори перед римськими магістратами і яка була символом державної влади)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ts val="25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ts val="2299"/>
              </a:lnSpc>
              <a:spcBef>
                <a:spcPts val="1199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рганізувався  фашизм 23 березня 1919 року, коли в Мілані пройшла зустріч фашистської партії. У 1921 р. проходить до парламенту ставши членом правого крила.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7 листопада 1921 р. Італійський союз боротьби перетворений в Національну фашистську партію.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1" name="Прямоугольник 5"/>
          <p:cNvSpPr/>
          <p:nvPr/>
        </p:nvSpPr>
        <p:spPr>
          <a:xfrm>
            <a:off x="214200" y="3143160"/>
            <a:ext cx="26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0000"/>
                </a:solidFill>
                <a:latin typeface="Times New Roman"/>
              </a:rPr>
              <a:t>Герб фашистської парті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2" name="Прямоугольник 6" descr=""/>
          <p:cNvPicPr/>
          <p:nvPr/>
        </p:nvPicPr>
        <p:blipFill>
          <a:blip r:embed="rId2"/>
          <a:stretch/>
        </p:blipFill>
        <p:spPr>
          <a:xfrm>
            <a:off x="1500120" y="4767120"/>
            <a:ext cx="81615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1712880" y="36360"/>
            <a:ext cx="7004160" cy="18288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85480" y="1785600"/>
            <a:ext cx="1110924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Constantia"/>
              </a:rPr>
              <a:t>                    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ОДНОПАРТІЙНІСТЬ І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ЗНИЩЕННЯ ОПОЗИЦІЇ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85840" y="3573000"/>
            <a:ext cx="8858160" cy="21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«Парламент – це чума, що отруюює кров        нації.Її треба знищити. » Опозиційні партії закриті, критики режиму арештовані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99080" indent="-19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творена таємна поліція   ( ОВРА) та Особливий трибунал.                                                          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«Наша програма проста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199080" indent="-199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Ми хочемо управляти Італією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199080" indent="-19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6" name="Picture 4" descr="99_12658"/>
          <p:cNvPicPr/>
          <p:nvPr/>
        </p:nvPicPr>
        <p:blipFill>
          <a:blip r:embed="rId2"/>
          <a:stretch/>
        </p:blipFill>
        <p:spPr>
          <a:xfrm>
            <a:off x="0" y="0"/>
            <a:ext cx="2627280" cy="364500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10"/>
          <p:cNvSpPr/>
          <p:nvPr/>
        </p:nvSpPr>
        <p:spPr>
          <a:xfrm>
            <a:off x="2214720" y="0"/>
            <a:ext cx="1014120" cy="428760"/>
          </a:xfrm>
          <a:custGeom>
            <a:avLst/>
            <a:gdLst>
              <a:gd name="textAreaLeft" fmla="*/ 253440 w 1014120"/>
              <a:gd name="textAreaRight" fmla="*/ 760680 w 1014120"/>
              <a:gd name="textAreaTop" fmla="*/ 5364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i-main-pic" descr="Картинка 216 из 1426"/>
          <p:cNvPicPr/>
          <p:nvPr/>
        </p:nvPicPr>
        <p:blipFill>
          <a:blip r:embed="rId1"/>
          <a:stretch/>
        </p:blipFill>
        <p:spPr>
          <a:xfrm>
            <a:off x="5014800" y="3780000"/>
            <a:ext cx="4129200" cy="307800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8"/>
          <p:cNvSpPr/>
          <p:nvPr/>
        </p:nvSpPr>
        <p:spPr>
          <a:xfrm>
            <a:off x="1440" y="169452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0" y="516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0"/>
            <a:ext cx="8391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УЗУРПАЦІЯ    ВЛАДИ.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Вищий орган влади  –    Велика фашистська      рад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Всі закони та рішення  приймаються на мітингах     фашистів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Два державних  гімни –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короля і фашисті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469800" y="-103320"/>
            <a:ext cx="8229600" cy="1225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benito"/>
          <p:cNvPicPr/>
          <p:nvPr/>
        </p:nvPicPr>
        <p:blipFill>
          <a:blip r:embed="rId2"/>
          <a:stretch/>
        </p:blipFill>
        <p:spPr>
          <a:xfrm>
            <a:off x="214200" y="1125360"/>
            <a:ext cx="2870280" cy="45309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259__6_1"/>
          <p:cNvPicPr/>
          <p:nvPr/>
        </p:nvPicPr>
        <p:blipFill>
          <a:blip r:embed="rId3"/>
          <a:stretch/>
        </p:blipFill>
        <p:spPr>
          <a:xfrm>
            <a:off x="6935760" y="189000"/>
            <a:ext cx="2208240" cy="2871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2785680" y="1000080"/>
            <a:ext cx="4449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“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Уряд – це я”. З 1929 р. –  Дуче   очолює  8  із  13  міністерст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Поеми і пісні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Кінофільми   і скульптур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0" i="1" lang="uk-UA" sz="3200" spc="-1" strike="noStrike">
                <a:solidFill>
                  <a:srgbClr val="ff0000"/>
                </a:solidFill>
                <a:latin typeface="Constantia"/>
              </a:rPr>
              <a:t>Італійці , будьте спокійні .Я буду вести вас  все вище і далі..”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39640" y="191628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Новий моральний і фізичний тип італійця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Дитячі і молодіжні організації-Італійська лікторська молод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Вирішення “римського питання “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Латеранська  угода 1929р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49120" y="-73080"/>
            <a:ext cx="8340840" cy="2109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Пий XI - папа Римский, сотрудничавший с Муссолини"/>
          <p:cNvPicPr/>
          <p:nvPr/>
        </p:nvPicPr>
        <p:blipFill>
          <a:blip r:embed="rId2"/>
          <a:stretch/>
        </p:blipFill>
        <p:spPr>
          <a:xfrm>
            <a:off x="6948360" y="3933720"/>
            <a:ext cx="2195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Масові ритуали - “фашистські весілля”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Сім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я – основа суспільства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Шкільні програми 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дус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і фашизму</a:t>
            </a: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901800" y="281160"/>
            <a:ext cx="7785000" cy="146844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4"/>
          <p:cNvSpPr/>
          <p:nvPr/>
        </p:nvSpPr>
        <p:spPr>
          <a:xfrm>
            <a:off x="250920" y="214200"/>
            <a:ext cx="1214280" cy="4287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5364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" name="i-main-pic" descr="Картинка 29 из 1427"/>
          <p:cNvPicPr/>
          <p:nvPr/>
        </p:nvPicPr>
        <p:blipFill>
          <a:blip r:embed="rId2"/>
          <a:stretch/>
        </p:blipFill>
        <p:spPr>
          <a:xfrm>
            <a:off x="5003640" y="3573360"/>
            <a:ext cx="3810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77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770" fill="hold"/>
                                        <p:tgtEl>
                                          <p:spTgt spid="4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7" descr=""/>
          <p:cNvPicPr/>
          <p:nvPr/>
        </p:nvPicPr>
        <p:blipFill>
          <a:blip r:embed="rId1"/>
          <a:stretch/>
        </p:blipFill>
        <p:spPr>
          <a:xfrm>
            <a:off x="755640" y="122400"/>
            <a:ext cx="8217000" cy="15112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Стадіони і палаци спорт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Особистий приклад -  Дуч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фашистські суботи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5" name="Picture 6" descr="342b"/>
          <p:cNvPicPr/>
          <p:nvPr/>
        </p:nvPicPr>
        <p:blipFill>
          <a:blip r:embed="rId2"/>
          <a:stretch/>
        </p:blipFill>
        <p:spPr>
          <a:xfrm>
            <a:off x="4281480" y="2781360"/>
            <a:ext cx="486252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914400" y="476280"/>
            <a:ext cx="8229600" cy="1449360"/>
          </a:xfrm>
          <a:prstGeom prst="rect">
            <a:avLst/>
          </a:prstGeom>
          <a:ln w="0">
            <a:noFill/>
          </a:ln>
        </p:spPr>
      </p:pic>
      <p:grpSp>
        <p:nvGrpSpPr>
          <p:cNvPr id="427" name="Organization Chart 31"/>
          <p:cNvGrpSpPr/>
          <p:nvPr/>
        </p:nvGrpSpPr>
        <p:grpSpPr>
          <a:xfrm>
            <a:off x="2627280" y="3068640"/>
            <a:ext cx="5916240" cy="3025440"/>
            <a:chOff x="2627280" y="3068640"/>
            <a:chExt cx="5916240" cy="3025440"/>
          </a:xfrm>
        </p:grpSpPr>
        <p:cxnSp>
          <p:nvCxnSpPr>
            <p:cNvPr id="428" name="_s1028"/>
            <p:cNvCxnSpPr>
              <a:stCxn id="429" idx="0"/>
              <a:endCxn id="430" idx="3"/>
            </p:cNvCxnSpPr>
            <p:nvPr/>
          </p:nvCxnSpPr>
          <p:spPr>
            <a:xfrm flipV="1" rot="16200000">
              <a:off x="6318000" y="3508200"/>
              <a:ext cx="605520" cy="2145600"/>
            </a:xfrm>
            <a:prstGeom prst="bentConnector3">
              <a:avLst>
                <a:gd name="adj1" fmla="val 35693"/>
              </a:avLst>
            </a:prstGeom>
            <a:ln w="28440">
              <a:solidFill>
                <a:srgbClr val="cccc99"/>
              </a:solidFill>
              <a:miter/>
            </a:ln>
          </p:spPr>
        </p:cxnSp>
        <p:cxnSp>
          <p:nvCxnSpPr>
            <p:cNvPr id="431" name="_s1029"/>
            <p:cNvCxnSpPr>
              <a:stCxn id="432" idx="0"/>
              <a:endCxn id="430" idx="3"/>
            </p:cNvCxnSpPr>
            <p:nvPr/>
          </p:nvCxnSpPr>
          <p:spPr>
            <a:xfrm flipV="1" rot="16200000">
              <a:off x="5282280" y="4543920"/>
              <a:ext cx="605520" cy="74520"/>
            </a:xfrm>
            <a:prstGeom prst="bentConnector3">
              <a:avLst>
                <a:gd name="adj1" fmla="val 35693"/>
              </a:avLst>
            </a:prstGeom>
            <a:ln w="28440">
              <a:solidFill>
                <a:srgbClr val="cccc99"/>
              </a:solidFill>
              <a:miter/>
            </a:ln>
          </p:spPr>
        </p:cxnSp>
        <p:cxnSp>
          <p:nvCxnSpPr>
            <p:cNvPr id="433" name="_s1030"/>
            <p:cNvCxnSpPr>
              <a:stCxn id="434" idx="0"/>
              <a:endCxn id="430" idx="3"/>
            </p:cNvCxnSpPr>
            <p:nvPr/>
          </p:nvCxnSpPr>
          <p:spPr>
            <a:xfrm flipH="1" flipV="1" rot="5400000">
              <a:off x="4247280" y="3582720"/>
              <a:ext cx="605520" cy="1997280"/>
            </a:xfrm>
            <a:prstGeom prst="bentConnector3">
              <a:avLst>
                <a:gd name="adj1" fmla="val 35693"/>
              </a:avLst>
            </a:prstGeom>
            <a:ln w="28440">
              <a:solidFill>
                <a:srgbClr val="cccc99"/>
              </a:solidFill>
              <a:miter/>
            </a:ln>
          </p:spPr>
        </p:cxnSp>
        <p:sp>
          <p:nvSpPr>
            <p:cNvPr id="430" name="_s1031"/>
            <p:cNvSpPr/>
            <p:nvPr/>
          </p:nvSpPr>
          <p:spPr>
            <a:xfrm>
              <a:off x="4698000" y="3068640"/>
              <a:ext cx="1774800" cy="121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7cd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7c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0000"/>
                  </a:solidFill>
                  <a:latin typeface="Times New Roman"/>
                </a:rPr>
                <a:t>КОРПОРАЦІЇ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_s1032"/>
            <p:cNvSpPr/>
            <p:nvPr/>
          </p:nvSpPr>
          <p:spPr>
            <a:xfrm>
              <a:off x="2627280" y="4883760"/>
              <a:ext cx="1774800" cy="121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6e0e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МЕТА СТВОРЕНН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_s1033"/>
            <p:cNvSpPr/>
            <p:nvPr/>
          </p:nvSpPr>
          <p:spPr>
            <a:xfrm>
              <a:off x="4698000" y="4883760"/>
              <a:ext cx="1774800" cy="121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6e0e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КЕРІВНИЦТВО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_s1034"/>
            <p:cNvSpPr/>
            <p:nvPr/>
          </p:nvSpPr>
          <p:spPr>
            <a:xfrm>
              <a:off x="6768720" y="4883760"/>
              <a:ext cx="1774800" cy="121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6e0e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РЕГУЛЮВАЛ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 txBox="1"/>
          <p:nvPr/>
        </p:nvSpPr>
        <p:spPr>
          <a:xfrm>
            <a:off x="250920" y="177300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1934 р. – курс     на створення    кооперативної    держави - альтернатива демократії і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соціалізм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22 національні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корпорації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108000" y="214200"/>
            <a:ext cx="1214280" cy="4287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5364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9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9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4000" spc="-1" strike="noStrike">
                <a:solidFill>
                  <a:srgbClr val="ff0000"/>
                </a:solidFill>
                <a:latin typeface="Constantia"/>
              </a:rPr>
              <a:t>Корпоративна держава.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nstantia"/>
              </a:rPr>
              <a:t>В 1930 р. фашисти законодавчо закріпили функції національної Ради корпорацій.  Її основний документ - «Хартія праці»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nstantia"/>
              </a:rPr>
              <a:t>Всього було створено 22 корпорації за напрямками - зерно, ліс, металургія, будівництво, туризм  та інші. В керівництві в  рівних кількостях були присутні представники власників, профспілок, кооперативів, фашистської партії 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nstantia"/>
              </a:rPr>
              <a:t>Главою всіх корпорацій вважався сам Муссоліні, тому критика корпорацій розглядалась як його особисто, а значить всієї корпоративної, а отже фашистської держав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242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684360" y="1483920"/>
            <a:ext cx="8208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Щоб нація залишалась здоровою, вона повинна воювати…”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51055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1936 - захоплення Ефіопії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1939 – Албанії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0" y="0"/>
            <a:ext cx="1214280" cy="35712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4464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Picture 5" descr="Italian_empire_1940"/>
          <p:cNvPicPr/>
          <p:nvPr/>
        </p:nvPicPr>
        <p:blipFill>
          <a:blip r:embed="rId2"/>
          <a:stretch/>
        </p:blipFill>
        <p:spPr>
          <a:xfrm>
            <a:off x="147600" y="2708280"/>
            <a:ext cx="48560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77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9" dur="770" fill="hold"/>
                                        <p:tgtEl>
                                          <p:spTgt spid="4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3" dur="77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324000" y="1817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onstantia"/>
              </a:rPr>
              <a:t>Багато вважають, що фашизм - це щось на зразок радикального націоналізму і расизму. Багато вважають, що фашизм придумав Гітлер. Багато вважають, що фашизм, концтабори і гестапо - синоніми. Багато вважають, що фашизм мертвий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 u="sng">
                <a:solidFill>
                  <a:srgbClr val="000000"/>
                </a:solidFill>
                <a:uFillTx/>
                <a:latin typeface="Constantia"/>
              </a:rPr>
              <a:t>Всі вони сильно помиляються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250560" y="1052640"/>
            <a:ext cx="5545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1939 - Сталевий па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1940 – вступ Італії у Другу світову війн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Вересень 1943 – відставка і ареш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Вересень 1943- квітітень 1945 - республіка Сал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28.04.45 – арешт і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розстріл італійськи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партизана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06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Mussolini%208"/>
          <p:cNvPicPr/>
          <p:nvPr/>
        </p:nvPicPr>
        <p:blipFill>
          <a:blip r:embed="rId2"/>
          <a:stretch/>
        </p:blipFill>
        <p:spPr>
          <a:xfrm>
            <a:off x="4676760" y="3689280"/>
            <a:ext cx="44672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1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3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5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8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nstantia"/>
              </a:rPr>
              <a:t>Проблемне питання: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nstantia"/>
              </a:rPr>
              <a:t>«Чи була альтернатива встановленню фашистської диктатури в Італії?»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7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50560" y="907560"/>
            <a:ext cx="87138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Я вважаю, що ..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висловіть свою думку, поясніть, у чому полягає ваша точка зору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тому, що ..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наведіть причину появи цієї думки, тобто на чому ґрунтуються докази на підтримку вашої позиції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наприклад ..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наведіть факти, які демонструють ваші докази, вони зміцнять вашу позицію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тому ..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узагальніть свою думку, зробіть висновок про те, що необхідно робити; тобто, це заклик прийняти вашу позицію)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396720" y="201600"/>
            <a:ext cx="8229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8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0" descr=""/>
          <p:cNvPicPr/>
          <p:nvPr/>
        </p:nvPicPr>
        <p:blipFill>
          <a:blip r:embed="rId1"/>
          <a:stretch/>
        </p:blipFill>
        <p:spPr>
          <a:xfrm>
            <a:off x="193680" y="439560"/>
            <a:ext cx="3243240" cy="33465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285720" y="1643040"/>
            <a:ext cx="5643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1624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Constantia"/>
              </a:rPr>
              <a:t>Муссоліні завжди залишився фанатичним прихильником прямої дії, що не обмежувалась ніякими моральними перепонами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1624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Constantia"/>
              </a:rPr>
              <a:t>Формули й теорії, за його переконаннями, мали значення лише після здійснення акту насильства, слугували його виправданню, а пріоритет   дії завжди був абсолютним та універсальним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Прямоугольник 4"/>
          <p:cNvSpPr/>
          <p:nvPr/>
        </p:nvSpPr>
        <p:spPr>
          <a:xfrm>
            <a:off x="3429000" y="357120"/>
            <a:ext cx="535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«Колесо історії повертається лише кров'ю»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Прямоугольник 5"/>
          <p:cNvSpPr/>
          <p:nvPr/>
        </p:nvSpPr>
        <p:spPr>
          <a:xfrm>
            <a:off x="577080" y="3929040"/>
            <a:ext cx="257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Ж. Дотторі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«Портрет дуче». 1933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250560" y="1112760"/>
            <a:ext cx="8569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рацювати §16, відповісти на питання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обовязково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ивчити дати, нові понятт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обовязково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иконати завдання І та ІІ на стор.168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достатній рівень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вір-мініатюра за темою на вибір  «Місце Муссоліні в історії», « Чому Італія стала першою з країн Європи, в якій фашистській партії вдалося прийти до влади?»,  «Особливості італійського фашизму», «Етапи фашизації Італії. Структура  управління державою, що була створена фашистами»,  «Неофашизм  сьогодення»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високий рівень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ипереджальне завдання для творчої групи учнів: підготувати повідомлення про Мустафа Кемаль Ататюрка, Сунь Ясена, Махатму Ганді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індивід. завд.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Прямоугольник 1"/>
          <p:cNvSpPr/>
          <p:nvPr/>
        </p:nvSpPr>
        <p:spPr>
          <a:xfrm>
            <a:off x="826920" y="40464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Домашнє  завданн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42920" y="3213000"/>
            <a:ext cx="885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Урок з всесвітньої історії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10 клас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378000" y="1341360"/>
            <a:ext cx="8662680" cy="26146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"/>
          <p:cNvPicPr/>
          <p:nvPr/>
        </p:nvPicPr>
        <p:blipFill>
          <a:blip r:embed="rId2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42920" y="3213000"/>
            <a:ext cx="885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682560" y="1341360"/>
            <a:ext cx="8047080" cy="22431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2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1"/>
          <p:cNvSpPr/>
          <p:nvPr/>
        </p:nvSpPr>
        <p:spPr>
          <a:xfrm>
            <a:off x="160200" y="1274760"/>
            <a:ext cx="882180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Очікувані результати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ходу уроку та після нього ви зможет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яснювати і застосовувати нові поняття та термін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овити і проаналізувати взаємозв’язок  між наслідками війни і причинами встановлення фашистської диктатур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изначити основні ідеї фашизм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ати характеристику і власну оцінку діяльності  Б. Муссоліні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исати прояви фашизації Італії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казати на карті результати територіальних домагань Італії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исловлювати свою думку щодо неминучості воє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іставляти факти, критично аналізувати інформацію, отриману з різних джерел, брати участь у дискусії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42920" y="3213000"/>
            <a:ext cx="885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682560" y="1341360"/>
            <a:ext cx="8047080" cy="2243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2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1"/>
          <p:cNvSpPr/>
          <p:nvPr/>
        </p:nvSpPr>
        <p:spPr>
          <a:xfrm>
            <a:off x="1187280" y="1413000"/>
            <a:ext cx="6767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Основні терміни та понятт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ьтернати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ктату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уч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рпораці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ібераліз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ілітариз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ціаліз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зурпаці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асції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8000" y="162828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Constantia"/>
              </a:rPr>
              <a:t>Основні дати: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0-1921 рр.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рвоне дворіччя»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2 р. -­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ід фашистів до влади в Італії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9 р. -­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орення держави Ватикан,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5­-1936 рр. ­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тало-ефіопська війна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травня 1936 р.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олошення Італії імперією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9 р. ­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талевий пакт" між Італією та Німеччиною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3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nstantia"/>
              </a:rPr>
              <a:t>Проблемне питання: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nstantia"/>
              </a:rPr>
              <a:t>«Чи була альтернатива встановленню фашистської диктатури в Італії?»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Constantia"/>
              </a:rPr>
              <a:t>План уроку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Наслідки Першої світової війн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Б. Муссоліні. Встановлення фашистської диктатур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Основні риси фашизму. Фашизація країн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7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8:39:04Z</dcterms:created>
  <dc:creator>LUBOV3001</dc:creator>
  <dc:description/>
  <dc:language>en-US</dc:language>
  <cp:lastModifiedBy>Root</cp:lastModifiedBy>
  <dcterms:modified xsi:type="dcterms:W3CDTF">2013-06-03T09:12:54Z</dcterms:modified>
  <cp:revision>53</cp:revision>
  <dc:subject/>
  <dc:title>БЕНІТО МУССОЛІН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3b000000000001024140</vt:lpwstr>
  </property>
</Properties>
</file>