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C209E-C4F7-408B-85C8-83A597A98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05839-7C04-445C-B18E-296B53EC0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15C1A-CD2E-437B-8987-AC9A85393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A6C73-27DF-462C-9134-009EB7731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27EA5-DFDF-4780-9B67-86A4D43A6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59C4A-41C8-40D2-812C-F15CF3560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7F177-A620-4B2C-95ED-68560A27F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9569D-FED5-4D7D-A26E-C31BD5E37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7648C-D5EF-4AE7-89AE-919EEA4D5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C31E4-653B-4A66-82CF-BCF7B5B69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B0BC9-C956-48FE-99C7-56AAB533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C7945-66EC-43D8-8D3C-0AA570FC0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D3CBB-8914-490A-9442-92BE7BE64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55E95-D2E5-4738-AB0E-C5576D972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FD7D1-BAC9-46B1-BE1F-6EF75A8C5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3E457-C7AB-462B-BC7E-A8B0EDED4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6F005-978E-4A6C-B22A-8575777A6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3E0C0-984E-4816-9B2D-C1DDC4A41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40EC3-6D91-4F31-8FB4-5F8ABEE71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F9605-7E3F-4E70-969B-D4F6817EA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DD621-F0C9-47D8-B361-CE57CC99C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93661-9EC5-4F9B-A086-CC8827003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5852B-34A0-417E-BED7-8E045344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A0387-9C6D-4231-BF1E-E3F73588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D69C2-590C-48D8-A776-2DA2A07368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6F59A-68CA-4AF3-B9EB-3A4EE795804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800" spc="-1" strike="noStrike">
                <a:solidFill>
                  <a:srgbClr val="ffffff"/>
                </a:solidFill>
                <a:latin typeface="Garamond"/>
              </a:rPr>
              <a:t>ТЕСТ - КОНТРОЛЬ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9.  На думку Муссоліні - більше населення -…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Garamond"/>
              </a:rPr>
              <a:t>А ) Більше солдат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Garamond"/>
              </a:rPr>
              <a:t>Б ) Більше солдат-більше могутності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Garamond"/>
              </a:rPr>
              <a:t>В ) Більше турбот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Політика нарощення озброєння це</a:t>
            </a: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 -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Garamond"/>
              </a:rPr>
              <a:t>А ) протекціонізм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Garamond"/>
              </a:rPr>
              <a:t>Б ) лібералізм 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Garamond"/>
              </a:rPr>
              <a:t>В ) мілітаризм 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1.Італія вступила у Першу світову війну 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Garamond"/>
              </a:rPr>
              <a:t>А) в 1914 р. на боці Антанти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Garamond"/>
              </a:rPr>
              <a:t>Б ) в 1915 р. на боці Троїстого союзу 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Garamond"/>
              </a:rPr>
              <a:t>В ) в 1915 р. на боці Антанти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2. Після війни вона отримала такі території як…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1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Garamond"/>
              </a:rPr>
              <a:t>А ) Істрію, Далмацію, м. Трієст 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1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Garamond"/>
              </a:rPr>
              <a:t>Б  ) Тіроль , Істрію, колонії в Африці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1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ff"/>
                </a:solidFill>
                <a:latin typeface="Garamond"/>
              </a:rPr>
              <a:t>В ) Далмацію, Тіроль, Албанію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3. Термін фашизм походить </a:t>
            </a:r>
            <a:br>
              <a:rPr sz="4000"/>
            </a:b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від слова , що в перекладі означає.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ff"/>
                </a:solidFill>
                <a:latin typeface="Garamond"/>
              </a:rPr>
              <a:t>А  ) Велика сила 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5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ff"/>
                </a:solidFill>
                <a:latin typeface="Garamond"/>
              </a:rPr>
              <a:t>Б ) Зв'язка, пучок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5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ff"/>
                </a:solidFill>
                <a:latin typeface="Garamond"/>
              </a:rPr>
              <a:t>В ) Здобути перемогу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e5e5ff"/>
                </a:solidFill>
                <a:latin typeface="Garamond"/>
              </a:rPr>
              <a:t>4.Цей термін означає</a:t>
            </a:r>
            <a:br>
              <a:rPr sz="4800"/>
            </a:br>
            <a:r>
              <a:rPr b="1" lang="uk-UA" sz="4800" spc="-1" strike="noStrike">
                <a:solidFill>
                  <a:srgbClr val="e5e5ff"/>
                </a:solidFill>
                <a:latin typeface="Garamond"/>
              </a:rPr>
              <a:t>політичну владу не обмежену законами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ff"/>
                </a:solidFill>
                <a:latin typeface="Garamond"/>
              </a:rPr>
              <a:t>А ) Диктатура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5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ff"/>
                </a:solidFill>
                <a:latin typeface="Garamond"/>
              </a:rPr>
              <a:t>Б ) Лібералізм 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5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ff"/>
                </a:solidFill>
                <a:latin typeface="Garamond"/>
              </a:rPr>
              <a:t>В ) Тоталітаризм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8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5. Муссоліні починав свою трудову</a:t>
            </a:r>
            <a:br>
              <a:rPr sz="4000"/>
            </a:b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діяльність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ff"/>
                </a:solidFill>
                <a:latin typeface="Garamond"/>
              </a:rPr>
              <a:t>А ) вчителем 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5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ff"/>
                </a:solidFill>
                <a:latin typeface="Garamond"/>
              </a:rPr>
              <a:t>Б ) залізничником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5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ff"/>
                </a:solidFill>
                <a:latin typeface="Garamond"/>
              </a:rPr>
              <a:t>В ) журналістом 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6. “Революція у спальному вагоні” це-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Garamond"/>
              </a:rPr>
              <a:t>А ) виселення Муссоліні за межі Швейцарії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Garamond"/>
              </a:rPr>
              <a:t>Б) похід фашистів на Рим у       1922 р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Garamond"/>
              </a:rPr>
              <a:t>В ) реформа в галузі залізничного     будівництва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77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1" dur="770" fill="hold"/>
                                        <p:tgtEl>
                                          <p:spTgt spid="1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3" dur="77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5" dur="77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7. Лютеранський пакт був підписаний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Garamond"/>
              </a:rPr>
              <a:t>А )з Німеччиною в 1935 р.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Garamond"/>
              </a:rPr>
              <a:t>Б ) з Швейцарією в 1925 р.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1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ff"/>
                </a:solidFill>
                <a:latin typeface="Garamond"/>
              </a:rPr>
              <a:t>В ) з Ватиканом в 1929 р.</a:t>
            </a:r>
            <a:r>
              <a:rPr b="1" lang="uk-UA" sz="5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1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8. До керівництва корпорацій входили представник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uk-UA" sz="4400" spc="-1" strike="noStrike">
                <a:solidFill>
                  <a:srgbClr val="ffffff"/>
                </a:solidFill>
                <a:latin typeface="Garamond"/>
              </a:rPr>
              <a:t>А ) робітників, фашистської партії, торгівців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Garamond"/>
              </a:rPr>
              <a:t>Б ) профспілок, фашистської партії, підприємці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uk-UA" sz="4400" spc="-1" strike="noStrike">
                <a:solidFill>
                  <a:srgbClr val="ffffff"/>
                </a:solidFill>
                <a:latin typeface="Garamond"/>
              </a:rPr>
              <a:t>В ) фашистської партії,  військові, профспілки,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22:44:47Z</dcterms:created>
  <dc:creator>LUBOV3001</dc:creator>
  <dc:description/>
  <dc:language>en-US</dc:language>
  <cp:lastModifiedBy>Root</cp:lastModifiedBy>
  <dcterms:modified xsi:type="dcterms:W3CDTF">2013-06-03T06:18:19Z</dcterms:modified>
  <cp:revision>3</cp:revision>
  <dc:subject/>
  <dc:title>1.Італія вступила у Першу світову війну 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204000000000001024140</vt:lpwstr>
  </property>
</Properties>
</file>