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8.png" ContentType="image/png"/>
  <Override PartName="/ppt/media/image14.jpeg" ContentType="image/jpeg"/>
  <Override PartName="/ppt/media/image34.jpeg" ContentType="image/jpeg"/>
  <Override PartName="/ppt/media/image37.png" ContentType="image/png"/>
  <Override PartName="/ppt/media/image36.jpeg" ContentType="image/jpeg"/>
  <Override PartName="/ppt/media/image9.jpeg" ContentType="image/jpeg"/>
  <Override PartName="/ppt/media/image31.jpeg" ContentType="image/jpeg"/>
  <Override PartName="/ppt/media/image41.png" ContentType="image/png"/>
  <Override PartName="/ppt/media/image42.png" ContentType="image/png"/>
  <Override PartName="/ppt/media/image45.jpeg" ContentType="image/jpeg"/>
  <Override PartName="/ppt/media/image46.png" ContentType="image/png"/>
  <Override PartName="/ppt/media/image30.jpeg" ContentType="image/jpeg"/>
  <Override PartName="/ppt/media/image43.png" ContentType="image/png"/>
  <Override PartName="/ppt/media/image47.jpeg" ContentType="image/jpeg"/>
  <Override PartName="/ppt/media/image6.jpeg" ContentType="image/jpeg"/>
  <Override PartName="/ppt/media/image27.png" ContentType="image/png"/>
  <Override PartName="/ppt/media/image33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5.png" ContentType="image/png"/>
  <Override PartName="/ppt/media/image3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EAF-F9EB-4951-8243-D5F6AC92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F716-C6C4-4C66-9AF6-00787EEB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6C3A-D5EB-4128-93A2-9A721B02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CBAD-2B39-4F54-8AB2-0496C9CB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050A19-D96E-4F2A-B55D-6AE56D22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A876E-85DB-4312-97C6-4CAAD1A9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4A375-78D5-4868-A328-4D752601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98CB2-5421-4BDB-BA19-66AE5EAB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374DD-181C-434D-9283-BB2A8C97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E0B1A-FCD1-4D76-855D-4E74509C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37DD4-00A8-43E6-A50A-89140309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B0A-1C21-47AF-82BE-9D868314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9D09E-014D-4843-A657-EB04B7A5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CCD7A-A211-4BE8-B2EA-D41D909D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E63D7-1FDA-480A-A59D-C5B80F78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22427-29C5-4F8E-BC21-287FC9EE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5741B-C6EF-4234-AA0C-C67569CE9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55637-FADB-4D13-A97E-10C335D7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E13C1-553C-4DE7-B2B5-C0FBC90E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B88AD-0035-4E6A-BC8A-9BF3F98C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DFC1A-6D3E-49BE-A480-508A2029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21CCB-C3B0-4819-A058-F005AE69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A00B-69C0-416D-80B6-B026E169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395AA-0617-47A9-BEEE-C2DE9C60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1038F-EE25-437D-9CAB-AD6D87FF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08674-13AE-4FC1-AB11-3FF7B68F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11045-73B2-4601-A32C-4AAB4523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3B565-114B-44A3-8147-60EF2752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DE857-CBD0-47F5-8DAE-81921BBA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B8A8E-E06E-4E09-8590-1C79840C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511DCE-1036-4125-A1A4-A3CA9D02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DE0929-BDA1-47BD-81AC-DDC11E56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8B345F-3404-471F-8168-6B66C937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DB2-2797-4E6E-BA53-CBF18458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03D223-4967-460B-B968-7A22D468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52E09D-905C-4CF4-8069-1EC5DE70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9DD5F0-BB8E-42D2-BE92-68805B97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FFC4BD-D29C-485F-B3C8-D850F271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93D770-4C5A-404B-97C7-72F4CB24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2190B4-8680-4967-9134-14CE933F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056050-2C9D-4957-9522-A5FBD0C1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3F5836-FF16-41CB-AD74-6080115E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32C1B5-2B27-49A5-99C0-2384C5DA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97EFC-03DA-44C6-BF18-C1362E005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0580-6A44-4AB9-97D5-9F030B17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32E7A-9EAC-463A-84FF-A23DE002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8A75A-272E-4222-9F5C-9E7B6801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DFC4A-0363-4948-AFDE-24A23641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55FFF-7CA6-4D97-B7B2-2E89D8EF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AC717-47BF-48CE-A70B-2C582061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3BB35-02F1-478B-98C5-C89B5C76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7CCCF-A052-46CA-8D96-AEB55C3F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3922B-CB69-4099-9B3B-51FBC38B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B7088-C2A1-4710-B349-F463D448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417C4-CBCE-455C-AE88-4DABE37B6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5CCF-7B29-4506-9EE2-728318BA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610C4-46EF-4CCD-A4FE-7516B8F4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F103A-7C3B-4B5E-BCA6-5EF688AB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827D5-FCBC-4C28-9305-AD3B96CF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22FAD-05CA-4FDF-9BEE-2B232F06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93B80-A5DB-4AB1-8DD2-4FBA0492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FB324-9D78-4CC0-BF50-FA322B13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76DCA-5525-4238-8042-F47972DF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B4AC6-843D-4E18-9662-22491272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0C576-CF15-4DBC-A88F-E627379C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34185-340E-4C06-A5D8-80C021DC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855-C6DE-4F82-9692-1B29443B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CDA5E-D6DE-4395-9D38-8F550FA1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156B3-8DC8-433F-8F35-AE301561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AFA28-40C6-455F-B345-1981C05E2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00AD7-8606-4167-9591-4CB9D4F5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02DB77-2C54-44E6-B968-4D57792C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B833F-4B3B-4BE5-97FE-DEBF4EDE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08FDF-84C2-4F0D-B9ED-83FC9E13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66EF2-4238-4C5E-91A7-86E5C4C5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20DB2-522A-4306-B65B-1CC95A68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DB1A6-4274-4E77-B900-67433DBC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E045-08F7-44A5-A8EA-71FF89DD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7265E-D1D4-400F-A6F4-29EBF624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D6DB8-EED7-4BFC-8749-49610F05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C758D-48C1-42D0-A9CB-D92832E1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10480-4BE6-4D6D-9758-BE6F63E0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BD19D-FA56-40D5-9220-01911944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30F4E-473E-4F0E-AB55-FC904D70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A383E-DB48-4F3D-AD80-9264F668C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158C6-3704-4549-BE8D-343B13D9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1AC4C-E852-40C4-AD13-2FD49A79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4655D-5888-4067-A7F0-6B46317B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4D00-37EE-43D4-B5DE-4C1DEE17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14EFD-6042-4DD1-B9B7-55D66D9A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0E8B7-C542-4FF6-A1F5-FFD0036D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B15EC-2C81-481B-96B0-149FCA57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3A4A6-1219-4AE6-8E38-0EA3A3DD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6F73A-3FAC-4C4A-A078-AA7547E8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2F67D-FE2E-4034-B03B-6836AA48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7E7BF-70B2-4EAB-B6CB-D6A987E6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2583-7A49-4C9B-898A-C2C0314DC2B0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08F6E-9A77-4FD5-8378-31BF8560277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4DE9-CEC5-4FE9-B2BB-E5B454F239C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B12B-573F-4FEB-BE46-635330CE8D0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B790-3BE4-4212-A1DC-E0B834791DE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76A4-8725-4D19-B826-7D569AD8DF3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92D9-DB37-4D47-9154-2413D6AAE6C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2AE9-9241-49CD-9940-B4A6CDD7CD7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42920" y="3213000"/>
            <a:ext cx="885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Урок з всесвітньої історії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10 клас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Волотка Ольга Сергіївн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вчитель історії та правознавств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Краматорської загальноосвітньої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школи І-ІІІ ступенів № 30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378000" y="1341360"/>
            <a:ext cx="8662680" cy="26146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2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523800" y="1700280"/>
            <a:ext cx="7991640" cy="50166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"/>
          <p:cNvPicPr/>
          <p:nvPr/>
        </p:nvPicPr>
        <p:blipFill>
          <a:blip r:embed="rId2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1"/>
          <p:cNvSpPr/>
          <p:nvPr/>
        </p:nvSpPr>
        <p:spPr>
          <a:xfrm>
            <a:off x="250920" y="1189080"/>
            <a:ext cx="87138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Орієнтуємось в історичному просторі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2843280" y="-149400"/>
            <a:ext cx="3456000" cy="21164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3471840" cy="56768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1" i="1" lang="uk-UA" sz="3600" spc="-1" strike="noStrike">
                <a:solidFill>
                  <a:srgbClr val="000000"/>
                </a:solidFill>
                <a:latin typeface="Constantia"/>
              </a:rPr>
              <a:t>Віктор Еммануїл </a:t>
            </a:r>
            <a:r>
              <a:rPr b="1" i="1" lang="en-US" sz="3600" spc="-1" strike="noStrike">
                <a:solidFill>
                  <a:srgbClr val="000000"/>
                </a:solidFill>
                <a:latin typeface="Constantia"/>
              </a:rPr>
              <a:t>III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Король Італії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Час на посаді: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29 липня 1900 —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9 травня 1946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9" descr="http://upravlenie.ucoz.ru/_fr/8/s7858977.jpg"/>
          <p:cNvPicPr/>
          <p:nvPr/>
        </p:nvPicPr>
        <p:blipFill>
          <a:blip r:embed="rId1"/>
          <a:stretch/>
        </p:blipFill>
        <p:spPr>
          <a:xfrm>
            <a:off x="76320" y="260280"/>
            <a:ext cx="4524120" cy="6438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3851280" y="3571920"/>
            <a:ext cx="55800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6600" spc="-1" strike="noStrike">
                <a:solidFill>
                  <a:srgbClr val="fefac9"/>
                </a:solidFill>
                <a:latin typeface="Constantia"/>
              </a:rPr>
              <a:t>  </a:t>
            </a:r>
            <a:r>
              <a:rPr b="1" i="1" lang="uk-UA" sz="4000" spc="-1" strike="noStrike">
                <a:solidFill>
                  <a:srgbClr val="c00000"/>
                </a:solidFill>
                <a:latin typeface="Constantia"/>
              </a:rPr>
              <a:t>Історія одного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Constantia"/>
              </a:rPr>
              <a:t>диктатор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66" name="Rectangle 2" descr=""/>
          <p:cNvPicPr/>
          <p:nvPr/>
        </p:nvPicPr>
        <p:blipFill>
          <a:blip r:embed="rId2"/>
          <a:stretch/>
        </p:blipFill>
        <p:spPr>
          <a:xfrm>
            <a:off x="1547640" y="165240"/>
            <a:ext cx="7956720" cy="28033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"/>
          <p:cNvPicPr/>
          <p:nvPr/>
        </p:nvPicPr>
        <p:blipFill>
          <a:blip r:embed="rId3"/>
          <a:stretch/>
        </p:blipFill>
        <p:spPr>
          <a:xfrm>
            <a:off x="5076720" y="47512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1" descr="n02_02_1"/>
          <p:cNvPicPr/>
          <p:nvPr/>
        </p:nvPicPr>
        <p:blipFill>
          <a:blip r:embed="rId1"/>
          <a:stretch/>
        </p:blipFill>
        <p:spPr>
          <a:xfrm>
            <a:off x="6588000" y="333360"/>
            <a:ext cx="2433600" cy="2952720"/>
          </a:xfrm>
          <a:prstGeom prst="rect">
            <a:avLst/>
          </a:prstGeom>
          <a:ln w="0">
            <a:noFill/>
          </a:ln>
        </p:spPr>
      </p:pic>
      <p:pic>
        <p:nvPicPr>
          <p:cNvPr id="369" name="Rectangle 18" descr=""/>
          <p:cNvPicPr/>
          <p:nvPr/>
        </p:nvPicPr>
        <p:blipFill>
          <a:blip r:embed="rId2"/>
          <a:stretch/>
        </p:blipFill>
        <p:spPr>
          <a:xfrm>
            <a:off x="36360" y="334800"/>
            <a:ext cx="8442360" cy="112248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213840" y="1356840"/>
            <a:ext cx="4281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onstantia"/>
              </a:rPr>
              <a:t>На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родився 29 липня 1883 року , в Дов</a:t>
            </a:r>
            <a:r>
              <a:rPr b="1" lang="uk-UA" sz="3000" spc="-1" strike="noStrike">
                <a:solidFill>
                  <a:srgbClr val="000000"/>
                </a:solidFill>
                <a:latin typeface="Constantia"/>
              </a:rPr>
              <a:t>і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а.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Батько був кузнем, а мати —вчителем початкової школи.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Після  закінчення гімназії в 1901 році  отримав  диплом викладача початкових класів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1" name="Picture 29" descr="Image:Casa Natale Benito Mussolini.jpg"/>
          <p:cNvPicPr/>
          <p:nvPr/>
        </p:nvPicPr>
        <p:blipFill>
          <a:blip r:embed="rId3"/>
          <a:stretch/>
        </p:blipFill>
        <p:spPr>
          <a:xfrm>
            <a:off x="4572000" y="3573360"/>
            <a:ext cx="4321080" cy="288000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25"/>
          <p:cNvSpPr/>
          <p:nvPr/>
        </p:nvSpPr>
        <p:spPr>
          <a:xfrm>
            <a:off x="0" y="38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857840" y="714240"/>
            <a:ext cx="428616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1903 році Беніто вступив до Італійської соціалістичної партії (ІСП). Служив  у армії, був  викладачем 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 початку 1910-х роках він активно приймав участь в акціях соціалістичного руху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ймався журналістикою, декілька разів був арештований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76" name="i-main-pic" descr="Картинка 29 из 1427"/>
          <p:cNvPicPr/>
          <p:nvPr/>
        </p:nvPicPr>
        <p:blipFill>
          <a:blip r:embed="rId1"/>
          <a:stretch/>
        </p:blipFill>
        <p:spPr>
          <a:xfrm>
            <a:off x="1027080" y="214200"/>
            <a:ext cx="2473200" cy="34290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12"/>
          <p:cNvSpPr/>
          <p:nvPr/>
        </p:nvSpPr>
        <p:spPr>
          <a:xfrm>
            <a:off x="395280" y="3606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0" name="Picture 3" descr="C:\Users\Владик\Desktop\бенито\Benito_Mussolini_mugshot_1903.jpg"/>
          <p:cNvPicPr/>
          <p:nvPr/>
        </p:nvPicPr>
        <p:blipFill>
          <a:blip r:embed="rId2"/>
          <a:stretch/>
        </p:blipFill>
        <p:spPr>
          <a:xfrm>
            <a:off x="214200" y="3714840"/>
            <a:ext cx="4660920" cy="294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i-main-pic" descr="Картинка 178 из 7070"/>
          <p:cNvPicPr/>
          <p:nvPr/>
        </p:nvPicPr>
        <p:blipFill>
          <a:blip r:embed="rId1"/>
          <a:stretch/>
        </p:blipFill>
        <p:spPr>
          <a:xfrm>
            <a:off x="2771640" y="0"/>
            <a:ext cx="6516720" cy="5229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0" y="328608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1914 р. – почалась Перша світова війн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начале 1-й мировой войны Муссолини призывал к вступлению Италии в войну на стороне Антанты. В связи с этим он был исключен из партии и оставил пост редактора газеты ИСП «Аванти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ле вступления Италии в войну (1915) Муссолини был призван в армию, участвовал в военных действиях, был ранен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3" name="Picture 16" descr="MkVIII_3"/>
          <p:cNvPicPr/>
          <p:nvPr/>
        </p:nvPicPr>
        <p:blipFill>
          <a:blip r:embed="rId2"/>
          <a:stretch/>
        </p:blipFill>
        <p:spPr>
          <a:xfrm>
            <a:off x="0" y="0"/>
            <a:ext cx="367992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фото Бенито Муссолини"/>
          <p:cNvPicPr/>
          <p:nvPr/>
        </p:nvPicPr>
        <p:blipFill>
          <a:blip r:embed="rId1"/>
          <a:stretch/>
        </p:blipFill>
        <p:spPr>
          <a:xfrm>
            <a:off x="5572080" y="2714760"/>
            <a:ext cx="3357720" cy="43513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2857680" y="285840"/>
            <a:ext cx="62863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1915 р. – початок служби в італійській армії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1917- демобілізація в чині старшого капрал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86" name="Picture 2" descr="C:\Users\Владик\Desktop\бенито\170px-Benito_Mussolini_1917.jpg"/>
          <p:cNvPicPr/>
          <p:nvPr/>
        </p:nvPicPr>
        <p:blipFill>
          <a:blip r:embed="rId2"/>
          <a:stretch/>
        </p:blipFill>
        <p:spPr>
          <a:xfrm>
            <a:off x="214200" y="214200"/>
            <a:ext cx="2357640" cy="3591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C:\Users\Владик\Desktop\бенито\327318_10.jpg"/>
          <p:cNvPicPr/>
          <p:nvPr/>
        </p:nvPicPr>
        <p:blipFill>
          <a:blip r:embed="rId3"/>
          <a:stretch/>
        </p:blipFill>
        <p:spPr>
          <a:xfrm>
            <a:off x="2428920" y="2933640"/>
            <a:ext cx="32036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9" descr="Изображение:Fasces lictoriae.sv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57150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ed4226c1239e"/>
          <p:cNvPicPr/>
          <p:nvPr/>
        </p:nvPicPr>
        <p:blipFill>
          <a:blip r:embed="rId2"/>
          <a:stretch/>
        </p:blipFill>
        <p:spPr>
          <a:xfrm>
            <a:off x="0" y="0"/>
            <a:ext cx="2557440" cy="388764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le 4" descr=""/>
          <p:cNvPicPr/>
          <p:nvPr/>
        </p:nvPicPr>
        <p:blipFill>
          <a:blip r:embed="rId3"/>
          <a:stretch/>
        </p:blipFill>
        <p:spPr>
          <a:xfrm>
            <a:off x="2408400" y="212760"/>
            <a:ext cx="5662440" cy="13604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2571480" y="1341360"/>
            <a:ext cx="5529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1919 р. – м. Мілан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“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Фашіо ді           комбаттіменто</a:t>
            </a:r>
            <a:r>
              <a:rPr b="1" lang="uk-UA" sz="4000" spc="-1" strike="noStrike">
                <a:solidFill>
                  <a:srgbClr val="ffffff"/>
                </a:solidFill>
                <a:latin typeface="Constantia"/>
              </a:rPr>
              <a:t>”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2" name="Picture 10" descr="tmpF943-14"/>
          <p:cNvPicPr/>
          <p:nvPr/>
        </p:nvPicPr>
        <p:blipFill>
          <a:blip r:embed="rId4"/>
          <a:stretch/>
        </p:blipFill>
        <p:spPr>
          <a:xfrm>
            <a:off x="1571760" y="3357720"/>
            <a:ext cx="51973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9" dur="2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4" descr="0357"/>
          <p:cNvPicPr/>
          <p:nvPr/>
        </p:nvPicPr>
        <p:blipFill>
          <a:blip r:embed="rId1"/>
          <a:stretch/>
        </p:blipFill>
        <p:spPr>
          <a:xfrm>
            <a:off x="6829560" y="3676680"/>
            <a:ext cx="2314440" cy="31813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1921 р. –  вибори до парламенту. Фашисти здобувають 35 місц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Курс на захоплення влади . Створення сквадрі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Або нас добровільно допустять до управління , або ми захопимо владу….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29.10.1922- король призначає                                   Муссоліні прем'єр - міністром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5" name="Rectangle 2" descr=""/>
          <p:cNvPicPr/>
          <p:nvPr/>
        </p:nvPicPr>
        <p:blipFill>
          <a:blip r:embed="rId2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Mussd"/>
          <p:cNvPicPr/>
          <p:nvPr/>
        </p:nvPicPr>
        <p:blipFill>
          <a:blip r:embed="rId1"/>
          <a:stretch/>
        </p:blipFill>
        <p:spPr>
          <a:xfrm>
            <a:off x="3848040" y="0"/>
            <a:ext cx="5295960" cy="3786120"/>
          </a:xfrm>
          <a:prstGeom prst="rect">
            <a:avLst/>
          </a:prstGeom>
          <a:ln w="0">
            <a:noFill/>
          </a:ln>
        </p:spPr>
      </p:pic>
      <p:pic>
        <p:nvPicPr>
          <p:cNvPr id="397" name="Rectangle 2" descr=""/>
          <p:cNvPicPr/>
          <p:nvPr/>
        </p:nvPicPr>
        <p:blipFill>
          <a:blip r:embed="rId2"/>
          <a:stretch/>
        </p:blipFill>
        <p:spPr>
          <a:xfrm>
            <a:off x="0" y="212760"/>
            <a:ext cx="3859200" cy="2371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-360" y="3786120"/>
            <a:ext cx="892980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ts val="2098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Constantia"/>
              </a:rPr>
              <a:t>   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8 жовтня 1922 року  фашисти організували  демонстративний «Марш  на Рим», внаслідок чого  італійський король Віктор 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Мануїл ІІІ запросив Беніто Муссоліні сформувати новий уряд. 31 жовтня 1922 року Муссоліні став наймолодшим прем'єр-міністром в історії Італії. Запровадив жорстку цензуру та змінив виборчі методи так, що протягом 1925—1926 років зміг зібрати в своїх руках диктаторські повноваження та розпустити всі інші партії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Constantia"/>
              </a:rPr>
              <a:t>Бесіда за запитаннями: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Якими були форма правління і державний устрій Італії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2.На боці якого воєнно-політичного блоку воювала Італія у Першій світовій війні?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3.Наведіть факти, що характеризують участь Італії у Першій світовій війні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4.Назвіть характерні риси тоталітарних режимів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nstantia"/>
              </a:rPr>
              <a:t>5.Наведіть приклади країн та їх керівників, де існували тоталітарні режими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0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2595600" cy="26985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2857680" y="428400"/>
            <a:ext cx="6000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ts val="2500"/>
              </a:lnSpc>
              <a:spcBef>
                <a:spcPts val="15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Фашизм - від слова fasces (Фасції - зв'язка прутів, яку несли ліктори перед римськими магістратами і яка була символом державної влади)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just">
              <a:lnSpc>
                <a:spcPts val="2500"/>
              </a:lnSpc>
              <a:spcBef>
                <a:spcPts val="4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just">
              <a:lnSpc>
                <a:spcPts val="2299"/>
              </a:lnSpc>
              <a:spcBef>
                <a:spcPts val="1199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рганізувався  фашизм 23 березня 1919 року, коли в Мілані пройшла зустріч фашистської партії. У 1921 р. проходить до парламенту ставши членом правого крила. 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7 листопада 1921 р. Італійський союз боротьби перетворений в Національну фашистську партію.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1" name="Прямоугольник 5"/>
          <p:cNvSpPr/>
          <p:nvPr/>
        </p:nvSpPr>
        <p:spPr>
          <a:xfrm>
            <a:off x="214200" y="3143160"/>
            <a:ext cx="26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c00000"/>
                </a:solidFill>
                <a:latin typeface="Times New Roman"/>
              </a:rPr>
              <a:t>Герб фашистської парті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2" name="Прямоугольник 6" descr=""/>
          <p:cNvPicPr/>
          <p:nvPr/>
        </p:nvPicPr>
        <p:blipFill>
          <a:blip r:embed="rId2"/>
          <a:stretch/>
        </p:blipFill>
        <p:spPr>
          <a:xfrm>
            <a:off x="1500120" y="4767120"/>
            <a:ext cx="81615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1712880" y="36360"/>
            <a:ext cx="7004160" cy="182880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85480" y="1785600"/>
            <a:ext cx="1110924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Constantia"/>
              </a:rPr>
              <a:t>                    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ОДНОПАРТІЙНІСТЬ І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                   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ЗНИЩЕННЯ ОПОЗИЦІЇ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85840" y="3573000"/>
            <a:ext cx="8858160" cy="21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99080" indent="-19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«Парламент – це чума, що отруюює кров        нації.Її треба знищити. » Опозиційні партії закриті, критики режиму арештовані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199080" indent="-19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творена таємна поліція   ( ОВРА) та Особливий трибунал.                                                                                               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«Наша програма проста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199080" indent="-199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Ми хочемо управляти Італією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199080" indent="-199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06" name="Picture 4" descr="99_12658"/>
          <p:cNvPicPr/>
          <p:nvPr/>
        </p:nvPicPr>
        <p:blipFill>
          <a:blip r:embed="rId2"/>
          <a:stretch/>
        </p:blipFill>
        <p:spPr>
          <a:xfrm>
            <a:off x="0" y="0"/>
            <a:ext cx="2627280" cy="364500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10"/>
          <p:cNvSpPr/>
          <p:nvPr/>
        </p:nvSpPr>
        <p:spPr>
          <a:xfrm>
            <a:off x="2214720" y="0"/>
            <a:ext cx="1014120" cy="428760"/>
          </a:xfrm>
          <a:custGeom>
            <a:avLst/>
            <a:gdLst>
              <a:gd name="textAreaLeft" fmla="*/ 253440 w 1014120"/>
              <a:gd name="textAreaRight" fmla="*/ 760680 w 1014120"/>
              <a:gd name="textAreaTop" fmla="*/ 5364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i-main-pic" descr="Картинка 216 из 1426"/>
          <p:cNvPicPr/>
          <p:nvPr/>
        </p:nvPicPr>
        <p:blipFill>
          <a:blip r:embed="rId1"/>
          <a:stretch/>
        </p:blipFill>
        <p:spPr>
          <a:xfrm>
            <a:off x="5014800" y="3780000"/>
            <a:ext cx="4129200" cy="307800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8"/>
          <p:cNvSpPr/>
          <p:nvPr/>
        </p:nvSpPr>
        <p:spPr>
          <a:xfrm>
            <a:off x="1440" y="169452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9"/>
          <p:cNvSpPr/>
          <p:nvPr/>
        </p:nvSpPr>
        <p:spPr>
          <a:xfrm>
            <a:off x="0" y="516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0" y="0"/>
            <a:ext cx="8391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Constantia"/>
              </a:rPr>
              <a:t>УЗУРПАЦІЯ    ВЛАДИ.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Вищий орган влади  –    Велика фашистська      рада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Всі закони та рішення  приймаються на мітингах     фашистів</a:t>
            </a: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Два державних  гімни –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короля і фашисті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469800" y="-103320"/>
            <a:ext cx="8229600" cy="1225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benito"/>
          <p:cNvPicPr/>
          <p:nvPr/>
        </p:nvPicPr>
        <p:blipFill>
          <a:blip r:embed="rId2"/>
          <a:stretch/>
        </p:blipFill>
        <p:spPr>
          <a:xfrm>
            <a:off x="214200" y="1125360"/>
            <a:ext cx="2870280" cy="45309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259__6_1"/>
          <p:cNvPicPr/>
          <p:nvPr/>
        </p:nvPicPr>
        <p:blipFill>
          <a:blip r:embed="rId3"/>
          <a:stretch/>
        </p:blipFill>
        <p:spPr>
          <a:xfrm>
            <a:off x="6935760" y="189000"/>
            <a:ext cx="2208240" cy="2871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2785680" y="1000080"/>
            <a:ext cx="4449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“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Уряд – це я”. З 1929 р. –  Дуче   очолює  8  із  13  міністерств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Поеми і пісні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Кінофільми   і скульптур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0000"/>
                </a:solidFill>
                <a:latin typeface="Constantia"/>
              </a:rPr>
              <a:t>“</a:t>
            </a:r>
            <a:r>
              <a:rPr b="0" i="1" lang="uk-UA" sz="3200" spc="-1" strike="noStrike">
                <a:solidFill>
                  <a:srgbClr val="ff0000"/>
                </a:solidFill>
                <a:latin typeface="Constantia"/>
              </a:rPr>
              <a:t>Італійці , будьте спокійні .Я буду вести вас  все вище і далі..”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39640" y="191628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Новий моральний і фізичний тип італійця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Дитячі і молодіжні організації-Італійська лікторська молод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Вирішення “римського питання “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Латеранська  угода 1929р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249120" y="-73080"/>
            <a:ext cx="8340840" cy="2109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Пий XI - папа Римский, сотрудничавший с Муссолини"/>
          <p:cNvPicPr/>
          <p:nvPr/>
        </p:nvPicPr>
        <p:blipFill>
          <a:blip r:embed="rId2"/>
          <a:stretch/>
        </p:blipFill>
        <p:spPr>
          <a:xfrm>
            <a:off x="6948360" y="3933720"/>
            <a:ext cx="2195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Масові ритуали - “фашистські весілля”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Сім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’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я – основа суспільства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Шкільні програми 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дус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і фашизму</a:t>
            </a:r>
            <a:r>
              <a:rPr b="1" lang="uk-UA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901800" y="281160"/>
            <a:ext cx="7785000" cy="1468440"/>
          </a:xfrm>
          <a:prstGeom prst="rect">
            <a:avLst/>
          </a:prstGeom>
          <a:ln w="0">
            <a:noFill/>
          </a:ln>
        </p:spPr>
      </p:pic>
      <p:sp>
        <p:nvSpPr>
          <p:cNvPr id="421" name="AutoShape 4"/>
          <p:cNvSpPr/>
          <p:nvPr/>
        </p:nvSpPr>
        <p:spPr>
          <a:xfrm>
            <a:off x="250920" y="214200"/>
            <a:ext cx="1214280" cy="4287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5364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" name="i-main-pic" descr="Картинка 29 из 1427"/>
          <p:cNvPicPr/>
          <p:nvPr/>
        </p:nvPicPr>
        <p:blipFill>
          <a:blip r:embed="rId2"/>
          <a:stretch/>
        </p:blipFill>
        <p:spPr>
          <a:xfrm>
            <a:off x="5003640" y="3573360"/>
            <a:ext cx="3810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77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770" fill="hold"/>
                                        <p:tgtEl>
                                          <p:spTgt spid="4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4" dur="77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7" descr=""/>
          <p:cNvPicPr/>
          <p:nvPr/>
        </p:nvPicPr>
        <p:blipFill>
          <a:blip r:embed="rId1"/>
          <a:stretch/>
        </p:blipFill>
        <p:spPr>
          <a:xfrm>
            <a:off x="755640" y="122400"/>
            <a:ext cx="8217000" cy="15112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Стадіони і палаци спорт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Особистий приклад -  Дуч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фашистські суботи”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25" name="Picture 6" descr="342b"/>
          <p:cNvPicPr/>
          <p:nvPr/>
        </p:nvPicPr>
        <p:blipFill>
          <a:blip r:embed="rId2"/>
          <a:stretch/>
        </p:blipFill>
        <p:spPr>
          <a:xfrm>
            <a:off x="4281480" y="2781360"/>
            <a:ext cx="486252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914400" y="476280"/>
            <a:ext cx="8229600" cy="1449360"/>
          </a:xfrm>
          <a:prstGeom prst="rect">
            <a:avLst/>
          </a:prstGeom>
          <a:ln w="0">
            <a:noFill/>
          </a:ln>
        </p:spPr>
      </p:pic>
      <p:grpSp>
        <p:nvGrpSpPr>
          <p:cNvPr id="427" name="Organization Chart 31"/>
          <p:cNvGrpSpPr/>
          <p:nvPr/>
        </p:nvGrpSpPr>
        <p:grpSpPr>
          <a:xfrm>
            <a:off x="2627280" y="3068640"/>
            <a:ext cx="5916240" cy="3025440"/>
            <a:chOff x="2627280" y="3068640"/>
            <a:chExt cx="5916240" cy="3025440"/>
          </a:xfrm>
        </p:grpSpPr>
        <p:cxnSp>
          <p:nvCxnSpPr>
            <p:cNvPr id="428" name="_s1028"/>
            <p:cNvCxnSpPr>
              <a:stCxn id="429" idx="0"/>
              <a:endCxn id="430" idx="3"/>
            </p:cNvCxnSpPr>
            <p:nvPr/>
          </p:nvCxnSpPr>
          <p:spPr>
            <a:xfrm flipV="1" rot="16200000">
              <a:off x="6318000" y="3508200"/>
              <a:ext cx="605520" cy="2145600"/>
            </a:xfrm>
            <a:prstGeom prst="bentConnector3">
              <a:avLst>
                <a:gd name="adj1" fmla="val 35693"/>
              </a:avLst>
            </a:prstGeom>
            <a:ln w="28440">
              <a:solidFill>
                <a:srgbClr val="cccc99"/>
              </a:solidFill>
              <a:miter/>
            </a:ln>
          </p:spPr>
        </p:cxnSp>
        <p:cxnSp>
          <p:nvCxnSpPr>
            <p:cNvPr id="431" name="_s1029"/>
            <p:cNvCxnSpPr>
              <a:stCxn id="432" idx="0"/>
              <a:endCxn id="430" idx="3"/>
            </p:cNvCxnSpPr>
            <p:nvPr/>
          </p:nvCxnSpPr>
          <p:spPr>
            <a:xfrm flipV="1" rot="16200000">
              <a:off x="5282280" y="4543920"/>
              <a:ext cx="605520" cy="74520"/>
            </a:xfrm>
            <a:prstGeom prst="bentConnector3">
              <a:avLst>
                <a:gd name="adj1" fmla="val 35693"/>
              </a:avLst>
            </a:prstGeom>
            <a:ln w="28440">
              <a:solidFill>
                <a:srgbClr val="cccc99"/>
              </a:solidFill>
              <a:miter/>
            </a:ln>
          </p:spPr>
        </p:cxnSp>
        <p:cxnSp>
          <p:nvCxnSpPr>
            <p:cNvPr id="433" name="_s1030"/>
            <p:cNvCxnSpPr>
              <a:stCxn id="434" idx="0"/>
              <a:endCxn id="430" idx="3"/>
            </p:cNvCxnSpPr>
            <p:nvPr/>
          </p:nvCxnSpPr>
          <p:spPr>
            <a:xfrm flipH="1" flipV="1" rot="5400000">
              <a:off x="4247280" y="3582720"/>
              <a:ext cx="605520" cy="1997280"/>
            </a:xfrm>
            <a:prstGeom prst="bentConnector3">
              <a:avLst>
                <a:gd name="adj1" fmla="val 35693"/>
              </a:avLst>
            </a:prstGeom>
            <a:ln w="28440">
              <a:solidFill>
                <a:srgbClr val="cccc99"/>
              </a:solidFill>
              <a:miter/>
            </a:ln>
          </p:spPr>
        </p:cxnSp>
        <p:sp>
          <p:nvSpPr>
            <p:cNvPr id="430" name="_s1031"/>
            <p:cNvSpPr/>
            <p:nvPr/>
          </p:nvSpPr>
          <p:spPr>
            <a:xfrm>
              <a:off x="4698000" y="3068640"/>
              <a:ext cx="1774800" cy="121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7cd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7c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0000"/>
                  </a:solidFill>
                  <a:latin typeface="Times New Roman"/>
                </a:rPr>
                <a:t>КОРПОРАЦІЇ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_s1032"/>
            <p:cNvSpPr/>
            <p:nvPr/>
          </p:nvSpPr>
          <p:spPr>
            <a:xfrm>
              <a:off x="2627280" y="4883760"/>
              <a:ext cx="1774800" cy="121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6e0e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МЕТА СТВОРЕННЯ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_s1033"/>
            <p:cNvSpPr/>
            <p:nvPr/>
          </p:nvSpPr>
          <p:spPr>
            <a:xfrm>
              <a:off x="4698000" y="4883760"/>
              <a:ext cx="1774800" cy="121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6e0e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КЕРІВНИЦТВО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_s1034"/>
            <p:cNvSpPr/>
            <p:nvPr/>
          </p:nvSpPr>
          <p:spPr>
            <a:xfrm>
              <a:off x="6768720" y="4883760"/>
              <a:ext cx="1774800" cy="121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d6e0e0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d6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Times New Roman"/>
                </a:rPr>
                <a:t>РЕГУЛЮВАЛИ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 txBox="1"/>
          <p:nvPr/>
        </p:nvSpPr>
        <p:spPr>
          <a:xfrm>
            <a:off x="250920" y="177300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1934 р. – курс     на створення    кооперативної    держави - альтернатива демократії і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соціалізм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22 національні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корпорації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6" name="AutoShape 4"/>
          <p:cNvSpPr/>
          <p:nvPr/>
        </p:nvSpPr>
        <p:spPr>
          <a:xfrm>
            <a:off x="108000" y="214200"/>
            <a:ext cx="1214280" cy="4287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5364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9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9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uk-UA" sz="4000" spc="-1" strike="noStrike">
                <a:solidFill>
                  <a:srgbClr val="ff0000"/>
                </a:solidFill>
                <a:latin typeface="Constantia"/>
              </a:rPr>
              <a:t>Корпоративна держава.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nstantia"/>
              </a:rPr>
              <a:t>В 1930 р. фашисти законодавчо закріпили функції національної Ради корпорацій.  Її основний документ - «Хартія праці»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nstantia"/>
              </a:rPr>
              <a:t>Всього було створено 22 корпорації за напрямками - зерно, ліс, металургія, будівництво, туризм  та інші. В керівництві в  рівних кількостях були присутні представники власників, профспілок, кооперативів, фашистської партії 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nstantia"/>
              </a:rPr>
              <a:t>Главою всіх корпорацій вважався сам Муссоліні, тому критика корпорацій розглядалась як його особисто, а значить всієї корпоративної, а отже фашистської держав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cover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5242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684360" y="1483920"/>
            <a:ext cx="820872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“</a:t>
            </a: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Щоб нація залишалась здоровою, вона повинна воювати…”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5105520" y="23270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1936 - захоплення Ефіопії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Constantia"/>
              </a:rPr>
              <a:t>1939 – Албанії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AutoShape 4"/>
          <p:cNvSpPr/>
          <p:nvPr/>
        </p:nvSpPr>
        <p:spPr>
          <a:xfrm>
            <a:off x="0" y="0"/>
            <a:ext cx="1214280" cy="35712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4464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Picture 5" descr="Italian_empire_1940"/>
          <p:cNvPicPr/>
          <p:nvPr/>
        </p:nvPicPr>
        <p:blipFill>
          <a:blip r:embed="rId2"/>
          <a:stretch/>
        </p:blipFill>
        <p:spPr>
          <a:xfrm>
            <a:off x="147600" y="2708280"/>
            <a:ext cx="48560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77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9" dur="770" fill="hold"/>
                                        <p:tgtEl>
                                          <p:spTgt spid="4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3" dur="77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324000" y="1817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Constantia"/>
              </a:rPr>
              <a:t>Багато вважають, що фашизм - це щось на зразок радикального націоналізму і расизму. Багато вважають, що фашизм придумав Гітлер. Багато вважають, що фашизм, концтабори і гестапо - синоніми. Багато вважають, що фашизм мертвий.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 u="sng">
                <a:solidFill>
                  <a:srgbClr val="000000"/>
                </a:solidFill>
                <a:uFillTx/>
                <a:latin typeface="Constantia"/>
              </a:rPr>
              <a:t>Всі вони сильно помиляються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250560" y="1052640"/>
            <a:ext cx="5545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1939 - Сталевий пак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1940 – вступ Італії у Другу світову війн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Вересень 1943 – відставка і ареш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Вересень 1943- квітітень 1945 - республіка Сал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28.04.45 – арешт і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розстріл італійськи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lang="uk-UA" sz="2600" spc="-1" strike="noStrike">
                <a:solidFill>
                  <a:srgbClr val="ffffff"/>
                </a:solidFill>
                <a:latin typeface="Constantia"/>
              </a:rPr>
              <a:t>партизана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06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Mussolini%208"/>
          <p:cNvPicPr/>
          <p:nvPr/>
        </p:nvPicPr>
        <p:blipFill>
          <a:blip r:embed="rId2"/>
          <a:stretch/>
        </p:blipFill>
        <p:spPr>
          <a:xfrm>
            <a:off x="4676760" y="3689280"/>
            <a:ext cx="44672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1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3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5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8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6" dur="8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7" dur="8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8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4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nstantia"/>
              </a:rPr>
              <a:t>Проблемне питання: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nstantia"/>
              </a:rPr>
              <a:t>«Чи була альтернатива встановленню фашистської диктатури в Італії?»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7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250560" y="907560"/>
            <a:ext cx="87138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Я вважаю, що ..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висловіть свою думку, поясніть, у чому полягає ваша точка зору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тому, що ..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наведіть причину появи цієї думки, тобто на чому ґрунтуються докази на підтримку вашої позиції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наприклад ..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наведіть факти, які демонструють ваші докази, вони зміцнять вашу позицію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тому ..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(узагальніть свою думку, зробіть висновок про те, що необхідно робити; тобто, це заклик прийняти вашу позицію)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9" name="Заголовок 1" descr=""/>
          <p:cNvPicPr/>
          <p:nvPr/>
        </p:nvPicPr>
        <p:blipFill>
          <a:blip r:embed="rId1"/>
          <a:stretch/>
        </p:blipFill>
        <p:spPr>
          <a:xfrm>
            <a:off x="396720" y="201600"/>
            <a:ext cx="82296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80"/>
                                        <p:tgtEl>
                                          <p:spTgt spid="4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4" dur="8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80"/>
                                        <p:tgtEl>
                                          <p:spTgt spid="4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4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4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0" descr=""/>
          <p:cNvPicPr/>
          <p:nvPr/>
        </p:nvPicPr>
        <p:blipFill>
          <a:blip r:embed="rId1"/>
          <a:stretch/>
        </p:blipFill>
        <p:spPr>
          <a:xfrm>
            <a:off x="193680" y="439560"/>
            <a:ext cx="3243240" cy="33465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285720" y="1643040"/>
            <a:ext cx="5643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1624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Constantia"/>
              </a:rPr>
              <a:t>Муссоліні завжди залишився фанатичним прихильником прямої дії, що не обмежувалась ніякими моральними перепонами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1624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ffffff"/>
                </a:solidFill>
                <a:latin typeface="Constantia"/>
              </a:rPr>
              <a:t>Формули й теорії, за його переконаннями, мали значення лише після здійснення акту насильства, слугували його виправданню, а пріоритет   дії завжди був абсолютним та універсальним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5520" indent="-2455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Прямоугольник 4"/>
          <p:cNvSpPr/>
          <p:nvPr/>
        </p:nvSpPr>
        <p:spPr>
          <a:xfrm>
            <a:off x="3429000" y="357120"/>
            <a:ext cx="535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«Колесо історії повертається лише кров'ю»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Прямоугольник 5"/>
          <p:cNvSpPr/>
          <p:nvPr/>
        </p:nvSpPr>
        <p:spPr>
          <a:xfrm>
            <a:off x="577080" y="3929040"/>
            <a:ext cx="257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Ж. Дотторі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ffff"/>
                </a:solidFill>
                <a:latin typeface="Times New Roman"/>
              </a:rPr>
              <a:t>«Портрет дуче». 1933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250560" y="1112760"/>
            <a:ext cx="8569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працювати §16, відповісти на питання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обовязково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ивчити дати, нові поняття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обовязково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иконати завдання І та ІІ на стор.168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достатній рівень)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вір-мініатюра за темою на вибір  «Місце Муссоліні в історії», « Чому Італія стала першою з країн Європи, в якій фашистській партії вдалося прийти до влади?»,  «Особливості італійського фашизму», «Етапи фашизації Італії. Структура  управління державою, що була створена фашистами»,  «Неофашизм  сьогодення»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високий рівень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ипереджальне завдання для творчої групи учнів: підготувати повідомлення про Мустафа Кемаль Ататюрка, Сунь Ясена, Махатму Ганді.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індивід. завд.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37240" indent="-2372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Прямоугольник 1"/>
          <p:cNvSpPr/>
          <p:nvPr/>
        </p:nvSpPr>
        <p:spPr>
          <a:xfrm>
            <a:off x="826920" y="40464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Домашнє  завдання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42920" y="3213000"/>
            <a:ext cx="885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Урок з всесвітньої історії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10 клас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378000" y="1341360"/>
            <a:ext cx="8662680" cy="26146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"/>
          <p:cNvPicPr/>
          <p:nvPr/>
        </p:nvPicPr>
        <p:blipFill>
          <a:blip r:embed="rId2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42920" y="3213000"/>
            <a:ext cx="885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682560" y="1341360"/>
            <a:ext cx="8047080" cy="22431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"/>
          <p:cNvPicPr/>
          <p:nvPr/>
        </p:nvPicPr>
        <p:blipFill>
          <a:blip r:embed="rId2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1"/>
          <p:cNvSpPr/>
          <p:nvPr/>
        </p:nvSpPr>
        <p:spPr>
          <a:xfrm>
            <a:off x="160200" y="1274760"/>
            <a:ext cx="882180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Очікувані результати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ходу уроку та після нього ви зможете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яснювати і застосовувати нові поняття та термін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становити і проаналізувати взаємозв’язок  між наслідками війни і причинами встановлення фашистської диктатур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изначити основні ідеї фашизм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ати характеристику і власну оцінку діяльності  Б. Муссоліні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писати прояви фашизації Італії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казати на карті результати територіальних домагань Італії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исловлювати свою думку щодо неминучості воє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іставляти факти, критично аналізувати інформацію, отриману з різних джерел, брати участь у дискусії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42920" y="3213000"/>
            <a:ext cx="885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49" name="Rectangle 2" descr=""/>
          <p:cNvPicPr/>
          <p:nvPr/>
        </p:nvPicPr>
        <p:blipFill>
          <a:blip r:embed="rId1"/>
          <a:stretch/>
        </p:blipFill>
        <p:spPr>
          <a:xfrm>
            <a:off x="682560" y="1341360"/>
            <a:ext cx="8047080" cy="2243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2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1"/>
          <p:cNvSpPr/>
          <p:nvPr/>
        </p:nvSpPr>
        <p:spPr>
          <a:xfrm>
            <a:off x="1187280" y="1413000"/>
            <a:ext cx="6767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Основні терміни та поняття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ьтернати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ктату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уч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рпораці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ібераліз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ілітариз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ціаліз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зурпаці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асції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8000" y="1628280"/>
            <a:ext cx="8928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Constantia"/>
              </a:rPr>
              <a:t>Основні дати: 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0-1921 рр.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ервоне дворіччя»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2 р. -­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ід фашистів до влади в Італії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9 р. -­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орення держави Ватикан,    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5­-1936 рр. ­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тало-ефіопська війна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травня 1936 р. –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олошення Італії імперією,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9 р. ­-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талевий пакт" між Італією та Німеччиною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3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nstantia"/>
              </a:rPr>
              <a:t>Проблемне питання: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nstantia"/>
              </a:rPr>
              <a:t>«Чи була альтернатива встановленню фашистської диктатури в Італії?»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c00000"/>
                </a:solidFill>
                <a:latin typeface="Constantia"/>
              </a:rPr>
              <a:t>План уроку: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Наслідки Першої світової війн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Б. Муссоліні. Встановлення фашистської диктатур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Constantia"/>
              </a:rPr>
              <a:t>Основні риси фашизму. Фашизація країн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7" name="Picture 5" descr=""/>
          <p:cNvPicPr/>
          <p:nvPr/>
        </p:nvPicPr>
        <p:blipFill>
          <a:blip r:embed="rId1"/>
          <a:stretch/>
        </p:blipFill>
        <p:spPr>
          <a:xfrm>
            <a:off x="2843280" y="-46080"/>
            <a:ext cx="34560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8:39:04Z</dcterms:created>
  <dc:creator>LUBOV3001</dc:creator>
  <dc:description/>
  <dc:language>en-US</dc:language>
  <cp:lastModifiedBy>Root</cp:lastModifiedBy>
  <dcterms:modified xsi:type="dcterms:W3CDTF">2013-06-03T09:12:54Z</dcterms:modified>
  <cp:revision>53</cp:revision>
  <dc:subject/>
  <dc:title>БЕНІТО МУССОЛІН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3b000000000001024140</vt:lpwstr>
  </property>
</Properties>
</file>