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74F79-D712-4301-8D72-248571FCD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9B8A2-BDA8-4080-AB3C-5C4162F5F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97C0B-8075-4718-8E19-798F482B3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6BD1D-2485-4B8C-93DE-AC815FD45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5EF2B-B881-4AF6-A5D0-B4E7A6823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62309-D3F5-4715-BED7-428D20315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78D6B-EE19-48DD-9044-F9BEA7533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7D506-B78C-497F-8674-537A1E588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67B76-AAC3-40DA-BF8F-686BD471C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8A2C9-EB73-42F1-9989-FEF5CEA33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ABD5F-CF18-4199-B212-D077A2C7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E6655-BCEF-4BDF-A3F8-93C3C3D0C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863CF-B277-427A-8A89-F3672A9B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3256F-12C5-44E9-9A3F-A00CEC11A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10C1B-2C65-45D2-9A97-D8E5B4653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6E7ED-76D4-4FBA-8FFC-D0F3126C2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20DEC-E4CC-4A91-97B8-037DAC82E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8731F-C80D-4AB2-845F-715F3E1EA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07F5B-349B-4905-9FF8-A13816FAA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18BE9-9CE6-4FDD-9C64-6493B7207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CA737-D10E-4D2C-9A71-4D4A369E0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8AA88-1CE3-429D-A7A7-C35D0161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34BBF-28C4-47E8-9CA1-9469D57B2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E77DC-058C-4538-B083-28DD7619B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88E3F-AF54-4977-8ED2-787761DFD4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8ECC0-BB9B-4133-9B59-DD85E5EDB1D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800" spc="-1" strike="noStrike">
                <a:solidFill>
                  <a:srgbClr val="ffffff"/>
                </a:solidFill>
                <a:latin typeface="Garamond"/>
              </a:rPr>
              <a:t>ТЕСТ - КОНТРОЛЬ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9.  На думку Муссоліні - більше населення -…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Garamond"/>
              </a:rPr>
              <a:t>А ) Більше солдат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Garamond"/>
              </a:rPr>
              <a:t>Б ) Більше солдат-більше могутності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Garamond"/>
              </a:rPr>
              <a:t>В ) Більше турбот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Політика нарощення озброєння це</a:t>
            </a: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 -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Garamond"/>
              </a:rPr>
              <a:t>А ) протекціонізм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Garamond"/>
              </a:rPr>
              <a:t>Б ) лібералізм 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Garamond"/>
              </a:rPr>
              <a:t>В ) мілітаризм 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1.Італія вступила у Першу світову війну 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Garamond"/>
              </a:rPr>
              <a:t>А) в 1914 р. на боці Антанти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Garamond"/>
              </a:rPr>
              <a:t>Б ) в 1915 р. на боці Троїстого союзу 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Garamond"/>
              </a:rPr>
              <a:t>В ) в 1915 р. на боці Антанти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2. Після війни вона отримала такі території як…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1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Garamond"/>
              </a:rPr>
              <a:t>А ) Істрію, Далмацію, м. Трієст 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1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Garamond"/>
              </a:rPr>
              <a:t>Б  ) Тіроль , Істрію, колонії в Африці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1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Garamond"/>
              </a:rPr>
              <a:t>В ) Далмацію, Тіроль, Албанію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3. Термін фашизм походить </a:t>
            </a:r>
            <a:br>
              <a:rPr sz="4000"/>
            </a:b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від слова , що в перекладі означає.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ff"/>
                </a:solidFill>
                <a:latin typeface="Garamond"/>
              </a:rPr>
              <a:t>А  ) Велика сила 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5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ff"/>
                </a:solidFill>
                <a:latin typeface="Garamond"/>
              </a:rPr>
              <a:t>Б ) Зв'язка, пучок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5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ff"/>
                </a:solidFill>
                <a:latin typeface="Garamond"/>
              </a:rPr>
              <a:t>В ) Здобути перемогу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e5e5ff"/>
                </a:solidFill>
                <a:latin typeface="Garamond"/>
              </a:rPr>
              <a:t>4.Цей термін означає</a:t>
            </a:r>
            <a:br>
              <a:rPr sz="4800"/>
            </a:br>
            <a:r>
              <a:rPr b="1" lang="uk-UA" sz="4800" spc="-1" strike="noStrike">
                <a:solidFill>
                  <a:srgbClr val="e5e5ff"/>
                </a:solidFill>
                <a:latin typeface="Garamond"/>
              </a:rPr>
              <a:t>політичну владу не обмежену законами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ff"/>
                </a:solidFill>
                <a:latin typeface="Garamond"/>
              </a:rPr>
              <a:t>А ) Диктатура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5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ff"/>
                </a:solidFill>
                <a:latin typeface="Garamond"/>
              </a:rPr>
              <a:t>Б ) Лібералізм 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5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ff"/>
                </a:solidFill>
                <a:latin typeface="Garamond"/>
              </a:rPr>
              <a:t>В ) Тоталітаризм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8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5. Муссоліні починав свою трудову</a:t>
            </a:r>
            <a:br>
              <a:rPr sz="4000"/>
            </a:b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діяльність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ff"/>
                </a:solidFill>
                <a:latin typeface="Garamond"/>
              </a:rPr>
              <a:t>А ) вчителем 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5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ff"/>
                </a:solidFill>
                <a:latin typeface="Garamond"/>
              </a:rPr>
              <a:t>Б ) залізничником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5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ff"/>
                </a:solidFill>
                <a:latin typeface="Garamond"/>
              </a:rPr>
              <a:t>В ) журналістом 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6. “Революція у спальному вагоні” це-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Garamond"/>
              </a:rPr>
              <a:t>А ) виселення Муссоліні за межі Швейцарії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Garamond"/>
              </a:rPr>
              <a:t>Б) похід фашистів на Рим у       1922 р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Garamond"/>
              </a:rPr>
              <a:t>В ) реформа в галузі залізничного     будівництва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77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1" dur="770" fill="hold"/>
                                        <p:tgtEl>
                                          <p:spTgt spid="1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3" dur="77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5" dur="77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7. Лютеранський пакт був підписаний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Garamond"/>
              </a:rPr>
              <a:t>А )з Німеччиною в 1935 р.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Garamond"/>
              </a:rPr>
              <a:t>Б ) з Швейцарією в 1925 р.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1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Garamond"/>
              </a:rPr>
              <a:t>В ) з Ватиканом в 1929 р.</a:t>
            </a:r>
            <a:r>
              <a:rPr b="1" lang="uk-UA" sz="5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1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8. До керівництва корпорацій входили представник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uk-UA" sz="4400" spc="-1" strike="noStrike">
                <a:solidFill>
                  <a:srgbClr val="ffffff"/>
                </a:solidFill>
                <a:latin typeface="Garamond"/>
              </a:rPr>
              <a:t>А ) робітників, фашистської партії, торгівців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Garamond"/>
              </a:rPr>
              <a:t>Б ) профспілок, фашистської партії, підприємці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uk-UA" sz="4400" spc="-1" strike="noStrike">
                <a:solidFill>
                  <a:srgbClr val="ffffff"/>
                </a:solidFill>
                <a:latin typeface="Garamond"/>
              </a:rPr>
              <a:t>В ) фашистської партії,  військові, профспілки,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22:44:47Z</dcterms:created>
  <dc:creator>LUBOV3001</dc:creator>
  <dc:description/>
  <dc:language>en-US</dc:language>
  <cp:lastModifiedBy>Root</cp:lastModifiedBy>
  <dcterms:modified xsi:type="dcterms:W3CDTF">2013-06-03T06:18:19Z</dcterms:modified>
  <cp:revision>3</cp:revision>
  <dc:subject/>
  <dc:title>1.Італія вступила у Першу світову війну 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204000000000001024140</vt:lpwstr>
  </property>
</Properties>
</file>