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8.png" ContentType="image/png"/>
  <Override PartName="/ppt/media/image14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9.jpeg" ContentType="image/jpeg"/>
  <Override PartName="/ppt/media/image31.jpeg" ContentType="image/jpeg"/>
  <Override PartName="/ppt/media/image41.png" ContentType="image/png"/>
  <Override PartName="/ppt/media/image42.png" ContentType="image/png"/>
  <Override PartName="/ppt/media/image45.jpeg" ContentType="image/jpeg"/>
  <Override PartName="/ppt/media/image46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6.jpeg" ContentType="image/jpeg"/>
  <Override PartName="/ppt/media/image27.png" ContentType="image/png"/>
  <Override PartName="/ppt/media/image3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5.png" ContentType="image/png"/>
  <Override PartName="/ppt/media/image3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762-CEAB-4B83-8B00-3BAC4082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505-BB7E-4D4E-A663-0D6795C7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96BF-6F81-44AC-BA09-3EB0DB24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B15-7972-4A59-9DB7-FE8FC733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45373-266D-48FC-BE61-9B1F35F8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F5685-13FA-4838-919F-1D57ED24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C2F4C-2271-4CDB-8F9D-A27D91CD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CA533-91F2-421E-A189-CEF36FCF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2A779-7567-4146-A8AE-8C4BFD38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40CD4-CDE6-47E2-AD84-BCF66605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E66A7-9500-4449-9FEB-2101702A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97A-6D5C-42BE-812C-4928D549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AE987-A76C-40B2-A0D8-488E3703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B36D6-6631-42D4-9AA3-1DA9B184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82454-2252-490B-8BDF-3732EAF9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C3F3F-B2C1-456F-BA94-96239480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69E7E-5F82-415F-B51B-E97168CB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DE63D-8F41-4E35-952E-94A918FF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5528-8BFE-4076-B265-D814A192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9067C-235B-4B30-8755-27807B10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AB5DB-2A8E-4039-8BB9-232DCD7E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CB62-C237-4D97-99A2-F73385E7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053-B58C-4690-9769-2ED4DCC7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1B26E-E03E-497F-A584-D6A41668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74DAD-5174-4391-93BE-9026F5B6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67795-984A-4957-9C89-FF152664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31AB-711F-4FF4-8706-9E49D0D7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8BFFE-F379-4F07-B153-0AA4FC20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8A82B-4868-473D-A46F-A396FB41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D5423-C99B-4450-B382-C34F4DC2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41F9A0-51C0-4AAA-9E17-4ACA7538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6E524B-6F38-40E6-9EB9-E91797FC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13026-1884-4366-BB24-1511782E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39F-25EE-405A-9800-C19707CE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CF7452-16FD-4760-9F0E-C9000C84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232F57-CBD9-4FCA-BACB-3728894B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29C559-F647-4C9C-BCF5-EAD3CECD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F4D1D6-5DDB-466F-A87D-8E663D8A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68F34D-6914-438A-A3A9-4E715D80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D59F02-5F6E-4159-B5AE-767C54FB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881254-D2F8-4827-B89D-78DFB4BE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878419-82C8-45D8-8547-4EED14EB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87E2C5-9E23-45ED-B48F-490FC1A8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CD89A-7BE8-42C6-8C50-9C93C2A1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28D-5DB2-48CF-9915-1C539DE9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E748B-3FB6-4BD4-9BDF-66D377DE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FD034-27C8-4118-82A2-1DAB870E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58EDA-C26A-4EC0-8486-C4EFB8B2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A4E86-8E20-4842-BEEB-5AF9F222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7E003-F4FE-4F93-8330-0BF1058E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1C207-A572-4A66-A586-E81CAE78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D3803-076A-4B5D-A011-81C96C08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B3079-668D-473A-A1EA-8876C891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32FD1-4CC6-40FB-B957-63A5F67F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9825C-22E8-471F-B754-FE5EDD0F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418-B7EA-4814-8DAD-2DC450D8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C6D2B-47D4-4641-858D-2D81377F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5D4C6-DC51-4924-9310-6D27E11B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D6D8E-22A9-4543-8DD5-B3A13532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E0105-FC83-48B3-A80D-B2D79AF1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076E4-73B0-42DD-9D9D-D37EAA35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44D6C-256C-474D-9786-8A5ECB1B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2856D-FF3C-48EE-BF29-EC0B69AC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7C452-FAC3-4D15-8BA1-4C2FF1A5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B904A-D50B-4AD5-9EB0-EBA02E1C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D056E-4230-486B-909C-5F604BEA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F60-9DF9-48FF-98A3-A81B5AFB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0092F-51D3-4E16-B5FE-8B28C9FB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B3976-6DCB-49C2-9EE4-7D2A1492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D5CA5-3128-4274-B2A9-4B3BA80C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8073A-8691-4D38-A49F-1E55EC16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21FCB-7AE3-4B04-A0A3-31542BC2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D3DB1-223E-4219-9B0C-F02C14B2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86FAA-89DE-4E4A-ACE5-381F9615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89076-65D6-436A-8D93-AEDC3EC6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98E00-FEDD-4849-AF1B-46FE5302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B7531-7577-41C3-AE8E-4A76B75E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57A-6CE8-4504-B733-0FA95AAF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D8CEC-14B2-4250-ACB6-400C4D93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AA81A-E1EC-4CCF-9878-ADDBFE60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791AB-0A64-4F46-A9CE-B1795C7B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BFA1F-469D-4660-AC54-C95C9DAD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DCE15-DEC2-4361-9563-FBADD805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7248D-9D41-4554-81D1-8F7AC693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10CCA-B94D-4033-AD76-B76D072E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80A65-06E9-45EA-A987-AC5D2C38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C43D5-55EF-4E33-9388-E03CF512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DFE58-5509-4C09-AB8B-57338CCB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7F4-C510-4B54-8D5D-92675A9C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C08DA-1935-4CF9-8FF9-E99D6684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6156C-7099-4EA6-8A0B-11E8C2E9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FCA2B-C4A0-4BA8-A875-2D30FC20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5CBDB-C3A2-4D5A-93D3-CC0815C5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316DF-82C0-4332-9E65-9EDAE126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EDD78-4953-4728-BAFA-0FE1D0E8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28106-BFA5-442D-8C53-37DE8696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20A0-ECD2-4F4D-ADDD-A365B6B2E83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2367-C60F-4CFD-9CBC-6FE93485C30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4DAC-8CDA-4A73-840A-1F14210F806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C000-70EE-4CBC-A9B9-5429A27E983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46D2-70F7-4CF9-AEB7-DBFD41FD958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1D4F-EED2-4678-ABD3-AE7FD5BE90F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BCAC-9867-45FB-BA6C-1FE72E58C0A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D7A9-F33F-490E-AEFB-C66BAAD6D67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42920" y="3213000"/>
            <a:ext cx="885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Урок з всесвітньої історії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10 клас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олотка Ольга Сергіїв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читель історії та правознавств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Краматорської загальноосвітньої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школи І-ІІІ ступенів № 30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378000" y="1341360"/>
            <a:ext cx="8662680" cy="26146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23800" y="1700280"/>
            <a:ext cx="7991640" cy="50166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1"/>
          <p:cNvSpPr/>
          <p:nvPr/>
        </p:nvSpPr>
        <p:spPr>
          <a:xfrm>
            <a:off x="250920" y="1189080"/>
            <a:ext cx="8713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Орієнтуємось в історичному просторі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2843280" y="-149400"/>
            <a:ext cx="3456000" cy="2116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3471840" cy="56768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1" i="1" lang="uk-UA" sz="3600" spc="-1" strike="noStrike">
                <a:solidFill>
                  <a:srgbClr val="000000"/>
                </a:solidFill>
                <a:latin typeface="Constantia"/>
              </a:rPr>
              <a:t>Віктор Еммануїл </a:t>
            </a: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III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Король Італії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Час на посаді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29 липня 1900 —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9 травня 1946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9" descr="http://upravlenie.ucoz.ru/_fr/8/s7858977.jpg"/>
          <p:cNvPicPr/>
          <p:nvPr/>
        </p:nvPicPr>
        <p:blipFill>
          <a:blip r:embed="rId1"/>
          <a:stretch/>
        </p:blipFill>
        <p:spPr>
          <a:xfrm>
            <a:off x="76320" y="260280"/>
            <a:ext cx="4524120" cy="6438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3851280" y="3571920"/>
            <a:ext cx="55800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600" spc="-1" strike="noStrike">
                <a:solidFill>
                  <a:srgbClr val="fefac9"/>
                </a:solidFill>
                <a:latin typeface="Constantia"/>
              </a:rPr>
              <a:t>  </a:t>
            </a: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Історія одного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диктатор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2"/>
          <a:stretch/>
        </p:blipFill>
        <p:spPr>
          <a:xfrm>
            <a:off x="1547640" y="165240"/>
            <a:ext cx="7956720" cy="28033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3"/>
          <a:stretch/>
        </p:blipFill>
        <p:spPr>
          <a:xfrm>
            <a:off x="5076720" y="47512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1" descr="n02_02_1"/>
          <p:cNvPicPr/>
          <p:nvPr/>
        </p:nvPicPr>
        <p:blipFill>
          <a:blip r:embed="rId1"/>
          <a:stretch/>
        </p:blipFill>
        <p:spPr>
          <a:xfrm>
            <a:off x="6588000" y="333360"/>
            <a:ext cx="2433600" cy="2952720"/>
          </a:xfrm>
          <a:prstGeom prst="rect">
            <a:avLst/>
          </a:prstGeom>
          <a:ln w="0">
            <a:noFill/>
          </a:ln>
        </p:spPr>
      </p:pic>
      <p:pic>
        <p:nvPicPr>
          <p:cNvPr id="369" name="Rectangle 18" descr=""/>
          <p:cNvPicPr/>
          <p:nvPr/>
        </p:nvPicPr>
        <p:blipFill>
          <a:blip r:embed="rId2"/>
          <a:stretch/>
        </p:blipFill>
        <p:spPr>
          <a:xfrm>
            <a:off x="36360" y="334800"/>
            <a:ext cx="8442360" cy="11224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213840" y="1356840"/>
            <a:ext cx="4281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onstantia"/>
              </a:rPr>
              <a:t>На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родився 29 липня 1883 року , в Дов</a:t>
            </a:r>
            <a:r>
              <a:rPr b="1" lang="uk-UA" sz="3000" spc="-1" strike="noStrike">
                <a:solidFill>
                  <a:srgbClr val="000000"/>
                </a:solidFill>
                <a:latin typeface="Constantia"/>
              </a:rPr>
              <a:t>і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а.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Батько був кузнем, а мати —вчителем початкової школи.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Після  закінчення гімназії в 1901 році  отримав  диплом викладача початкових класів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1" name="Picture 29" descr="Image:Casa Natale Benito Mussolini.jpg"/>
          <p:cNvPicPr/>
          <p:nvPr/>
        </p:nvPicPr>
        <p:blipFill>
          <a:blip r:embed="rId3"/>
          <a:stretch/>
        </p:blipFill>
        <p:spPr>
          <a:xfrm>
            <a:off x="4572000" y="3573360"/>
            <a:ext cx="4321080" cy="288000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25"/>
          <p:cNvSpPr/>
          <p:nvPr/>
        </p:nvSpPr>
        <p:spPr>
          <a:xfrm>
            <a:off x="0" y="38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857840" y="714240"/>
            <a:ext cx="42861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1903 році Беніто вступив до Італійської соціалістичної партії (ІСП). Служив  у армії, був  викладачем 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початку 1910-х роках він активно приймав участь в акціях соціалістичного руху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ймався журналістикою, декілька разів був арештований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6" name="i-main-pic" descr="Картинка 29 из 1427"/>
          <p:cNvPicPr/>
          <p:nvPr/>
        </p:nvPicPr>
        <p:blipFill>
          <a:blip r:embed="rId1"/>
          <a:stretch/>
        </p:blipFill>
        <p:spPr>
          <a:xfrm>
            <a:off x="1027080" y="214200"/>
            <a:ext cx="2473200" cy="34290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395280" y="360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0" name="Picture 3" descr="C:\Users\Владик\Desktop\бенито\Benito_Mussolini_mugshot_1903.jpg"/>
          <p:cNvPicPr/>
          <p:nvPr/>
        </p:nvPicPr>
        <p:blipFill>
          <a:blip r:embed="rId2"/>
          <a:stretch/>
        </p:blipFill>
        <p:spPr>
          <a:xfrm>
            <a:off x="214200" y="3714840"/>
            <a:ext cx="4660920" cy="294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i-main-pic" descr="Картинка 178 из 7070"/>
          <p:cNvPicPr/>
          <p:nvPr/>
        </p:nvPicPr>
        <p:blipFill>
          <a:blip r:embed="rId1"/>
          <a:stretch/>
        </p:blipFill>
        <p:spPr>
          <a:xfrm>
            <a:off x="2771640" y="0"/>
            <a:ext cx="6516720" cy="5229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0" y="32860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1914 р. – почалась Перша світова вій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начале 1-й мировой войны Муссолини призывал к вступлению Италии в войну на стороне Антанты. В связи с этим он был исключен из партии и оставил пост редактора газеты ИСП «Аванти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ле вступления Италии в войну (1915) Муссолини был призван в армию, участвовал в военных действиях, был ране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3" name="Picture 16" descr="MkVIII_3"/>
          <p:cNvPicPr/>
          <p:nvPr/>
        </p:nvPicPr>
        <p:blipFill>
          <a:blip r:embed="rId2"/>
          <a:stretch/>
        </p:blipFill>
        <p:spPr>
          <a:xfrm>
            <a:off x="0" y="0"/>
            <a:ext cx="367992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фото Бенито Муссолини"/>
          <p:cNvPicPr/>
          <p:nvPr/>
        </p:nvPicPr>
        <p:blipFill>
          <a:blip r:embed="rId1"/>
          <a:stretch/>
        </p:blipFill>
        <p:spPr>
          <a:xfrm>
            <a:off x="5572080" y="2714760"/>
            <a:ext cx="3357720" cy="43513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2857680" y="285840"/>
            <a:ext cx="62863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1915 р. – початок служби в італійській армії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1917- демобілізація в чині старшого капрал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6" name="Picture 2" descr="C:\Users\Владик\Desktop\бенито\170px-Benito_Mussolini_1917.jpg"/>
          <p:cNvPicPr/>
          <p:nvPr/>
        </p:nvPicPr>
        <p:blipFill>
          <a:blip r:embed="rId2"/>
          <a:stretch/>
        </p:blipFill>
        <p:spPr>
          <a:xfrm>
            <a:off x="214200" y="214200"/>
            <a:ext cx="2357640" cy="3591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Users\Владик\Desktop\бенито\327318_10.jpg"/>
          <p:cNvPicPr/>
          <p:nvPr/>
        </p:nvPicPr>
        <p:blipFill>
          <a:blip r:embed="rId3"/>
          <a:stretch/>
        </p:blipFill>
        <p:spPr>
          <a:xfrm>
            <a:off x="2428920" y="2933640"/>
            <a:ext cx="32036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9" descr="Изображение:Fasces lictoriae.sv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5715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ed4226c1239e"/>
          <p:cNvPicPr/>
          <p:nvPr/>
        </p:nvPicPr>
        <p:blipFill>
          <a:blip r:embed="rId2"/>
          <a:stretch/>
        </p:blipFill>
        <p:spPr>
          <a:xfrm>
            <a:off x="0" y="0"/>
            <a:ext cx="2557440" cy="388764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4" descr=""/>
          <p:cNvPicPr/>
          <p:nvPr/>
        </p:nvPicPr>
        <p:blipFill>
          <a:blip r:embed="rId3"/>
          <a:stretch/>
        </p:blipFill>
        <p:spPr>
          <a:xfrm>
            <a:off x="2408400" y="212760"/>
            <a:ext cx="5662440" cy="13604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2571480" y="1341360"/>
            <a:ext cx="5529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1919 р. – м. Мілан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Фашіо ді           комбаттіменто</a:t>
            </a:r>
            <a:r>
              <a:rPr b="1" lang="uk-UA" sz="40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2" name="Picture 10" descr="tmpF943-14"/>
          <p:cNvPicPr/>
          <p:nvPr/>
        </p:nvPicPr>
        <p:blipFill>
          <a:blip r:embed="rId4"/>
          <a:stretch/>
        </p:blipFill>
        <p:spPr>
          <a:xfrm>
            <a:off x="1571760" y="3357720"/>
            <a:ext cx="51973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0357"/>
          <p:cNvPicPr/>
          <p:nvPr/>
        </p:nvPicPr>
        <p:blipFill>
          <a:blip r:embed="rId1"/>
          <a:stretch/>
        </p:blipFill>
        <p:spPr>
          <a:xfrm>
            <a:off x="6829560" y="3676680"/>
            <a:ext cx="2314440" cy="31813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921 р. –  вибори до парламенту. Фашисти здобувають 35 місц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Курс на захоплення влади . Створення сквадрі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Або нас добровільно допустять до управління , або ми захопимо владу….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9.10.1922- король призначає                                   Муссоліні прем'єр - міністро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Mussd"/>
          <p:cNvPicPr/>
          <p:nvPr/>
        </p:nvPicPr>
        <p:blipFill>
          <a:blip r:embed="rId1"/>
          <a:stretch/>
        </p:blipFill>
        <p:spPr>
          <a:xfrm>
            <a:off x="3848040" y="0"/>
            <a:ext cx="5295960" cy="3786120"/>
          </a:xfrm>
          <a:prstGeom prst="rect">
            <a:avLst/>
          </a:prstGeom>
          <a:ln w="0">
            <a:noFill/>
          </a:ln>
        </p:spPr>
      </p:pic>
      <p:pic>
        <p:nvPicPr>
          <p:cNvPr id="397" name="Rectangle 2" descr=""/>
          <p:cNvPicPr/>
          <p:nvPr/>
        </p:nvPicPr>
        <p:blipFill>
          <a:blip r:embed="rId2"/>
          <a:stretch/>
        </p:blipFill>
        <p:spPr>
          <a:xfrm>
            <a:off x="0" y="212760"/>
            <a:ext cx="3859200" cy="2371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-360" y="3786120"/>
            <a:ext cx="89298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ts val="20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8 жовтня 1922 року  фашисти організували  демонстративний «Марш  на Рим», внаслідок чого  італійський король Віктор 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Мануїл ІІІ запросив Беніто Муссоліні сформувати новий уряд. 31 жовтня 1922 року Муссоліні став наймолодшим прем'єр-міністром в історії Італії. Запровадив жорстку цензуру та змінив виборчі методи так, що протягом 1925—1926 років зміг зібрати в своїх руках диктаторські повноваження та розпустити всі інші партії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Бесіда за запитаннями: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Якими були форма правління і державний устрій Італії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2.На боці якого воєнно-політичного блоку воювала Італія у Першій світовій війні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3.Наведіть факти, що характеризують участь Італії у Першій світовій війні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4.Назвіть характерні риси тоталітарних режимі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5.Наведіть приклади країн та їх керівників, де існували тоталітарні режим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0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2595600" cy="26985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2857680" y="428400"/>
            <a:ext cx="6000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ts val="2500"/>
              </a:lnSpc>
              <a:spcBef>
                <a:spcPts val="15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Фашизм - від слова fasces (Фасції - зв'язка прутів, яку несли ліктори перед римськими магістратами і яка була символом державної влади)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ts val="25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ts val="2299"/>
              </a:lnSpc>
              <a:spcBef>
                <a:spcPts val="1199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рганізувався  фашизм 23 березня 1919 року, коли в Мілані пройшла зустріч фашистської партії. У 1921 р. проходить до парламенту ставши членом правого крила.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7 листопада 1921 р. Італійський союз боротьби перетворений в Національну фашистську партію.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1" name="Прямоугольник 5"/>
          <p:cNvSpPr/>
          <p:nvPr/>
        </p:nvSpPr>
        <p:spPr>
          <a:xfrm>
            <a:off x="214200" y="3143160"/>
            <a:ext cx="26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0000"/>
                </a:solidFill>
                <a:latin typeface="Times New Roman"/>
              </a:rPr>
              <a:t>Герб фашистської парті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Прямоугольник 6" descr=""/>
          <p:cNvPicPr/>
          <p:nvPr/>
        </p:nvPicPr>
        <p:blipFill>
          <a:blip r:embed="rId2"/>
          <a:stretch/>
        </p:blipFill>
        <p:spPr>
          <a:xfrm>
            <a:off x="1500120" y="4767120"/>
            <a:ext cx="81615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1712880" y="36360"/>
            <a:ext cx="7004160" cy="18288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85480" y="1785600"/>
            <a:ext cx="1110924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Constantia"/>
              </a:rPr>
              <a:t>                   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ОДНОПАРТІЙНІСТЬ І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ЗНИЩЕННЯ ОПОЗИЦІЇ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85840" y="3573000"/>
            <a:ext cx="8858160" cy="21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«Парламент – це чума, що отруюює кров        нації.Її треба знищити. » Опозиційні партії закриті, критики режиму арештовані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99080" indent="-19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творена таємна поліція   ( ОВРА) та Особливий трибунал.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«Наша програма прост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199080" indent="-199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Ми хочемо управляти Італією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199080" indent="-19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6" name="Picture 4" descr="99_12658"/>
          <p:cNvPicPr/>
          <p:nvPr/>
        </p:nvPicPr>
        <p:blipFill>
          <a:blip r:embed="rId2"/>
          <a:stretch/>
        </p:blipFill>
        <p:spPr>
          <a:xfrm>
            <a:off x="0" y="0"/>
            <a:ext cx="2627280" cy="364500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10"/>
          <p:cNvSpPr/>
          <p:nvPr/>
        </p:nvSpPr>
        <p:spPr>
          <a:xfrm>
            <a:off x="2214720" y="0"/>
            <a:ext cx="1014120" cy="428760"/>
          </a:xfrm>
          <a:custGeom>
            <a:avLst/>
            <a:gdLst>
              <a:gd name="textAreaLeft" fmla="*/ 253440 w 1014120"/>
              <a:gd name="textAreaRight" fmla="*/ 760680 w 1014120"/>
              <a:gd name="textAreaTop" fmla="*/ 5364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i-main-pic" descr="Картинка 216 из 1426"/>
          <p:cNvPicPr/>
          <p:nvPr/>
        </p:nvPicPr>
        <p:blipFill>
          <a:blip r:embed="rId1"/>
          <a:stretch/>
        </p:blipFill>
        <p:spPr>
          <a:xfrm>
            <a:off x="5014800" y="3780000"/>
            <a:ext cx="4129200" cy="30780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8"/>
          <p:cNvSpPr/>
          <p:nvPr/>
        </p:nvSpPr>
        <p:spPr>
          <a:xfrm>
            <a:off x="1440" y="169452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0" y="51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0"/>
            <a:ext cx="8391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УЗУРПАЦІЯ    ВЛАДИ.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Вищий орган влади  –    Велика фашистська      рад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Всі закони та рішення  приймаються на мітингах     фашистів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Два державних  гімни –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короля і фашисті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469800" y="-103320"/>
            <a:ext cx="8229600" cy="1225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benito"/>
          <p:cNvPicPr/>
          <p:nvPr/>
        </p:nvPicPr>
        <p:blipFill>
          <a:blip r:embed="rId2"/>
          <a:stretch/>
        </p:blipFill>
        <p:spPr>
          <a:xfrm>
            <a:off x="214200" y="1125360"/>
            <a:ext cx="2870280" cy="45309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259__6_1"/>
          <p:cNvPicPr/>
          <p:nvPr/>
        </p:nvPicPr>
        <p:blipFill>
          <a:blip r:embed="rId3"/>
          <a:stretch/>
        </p:blipFill>
        <p:spPr>
          <a:xfrm>
            <a:off x="6935760" y="189000"/>
            <a:ext cx="2208240" cy="2871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2785680" y="1000080"/>
            <a:ext cx="4449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“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Уряд – це я”. З 1929 р. –  Дуче   очолює  8  із  13  міністерст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Поеми і пісні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Кінофільми   і скульптур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0" i="1" lang="uk-UA" sz="3200" spc="-1" strike="noStrike">
                <a:solidFill>
                  <a:srgbClr val="ff0000"/>
                </a:solidFill>
                <a:latin typeface="Constantia"/>
              </a:rPr>
              <a:t>Італійці , будьте спокійні .Я буду вести вас  все вище і далі..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39640" y="191628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Новий моральний і фізичний тип італійця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Дитячі і молодіжні організації-Італійська лікторська молод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Вирішення “римського питання “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Латеранська  угода 1929р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49120" y="-73080"/>
            <a:ext cx="8340840" cy="2109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Пий XI - папа Римский, сотрудничавший с Муссолини"/>
          <p:cNvPicPr/>
          <p:nvPr/>
        </p:nvPicPr>
        <p:blipFill>
          <a:blip r:embed="rId2"/>
          <a:stretch/>
        </p:blipFill>
        <p:spPr>
          <a:xfrm>
            <a:off x="6948360" y="3933720"/>
            <a:ext cx="2195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Масові ритуали - “фашистські весілля”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Сім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я – основа суспільства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Шкільні програми 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дус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і фашизму</a:t>
            </a: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901800" y="281160"/>
            <a:ext cx="7785000" cy="146844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4"/>
          <p:cNvSpPr/>
          <p:nvPr/>
        </p:nvSpPr>
        <p:spPr>
          <a:xfrm>
            <a:off x="250920" y="214200"/>
            <a:ext cx="1214280" cy="4287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5364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i-main-pic" descr="Картинка 29 из 1427"/>
          <p:cNvPicPr/>
          <p:nvPr/>
        </p:nvPicPr>
        <p:blipFill>
          <a:blip r:embed="rId2"/>
          <a:stretch/>
        </p:blipFill>
        <p:spPr>
          <a:xfrm>
            <a:off x="5003640" y="3573360"/>
            <a:ext cx="3810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77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770" fill="hold"/>
                                        <p:tgtEl>
                                          <p:spTgt spid="4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7" descr=""/>
          <p:cNvPicPr/>
          <p:nvPr/>
        </p:nvPicPr>
        <p:blipFill>
          <a:blip r:embed="rId1"/>
          <a:stretch/>
        </p:blipFill>
        <p:spPr>
          <a:xfrm>
            <a:off x="755640" y="122400"/>
            <a:ext cx="8217000" cy="15112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Стадіони і палаци спорт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Особистий приклад -  Дуч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фашистські суботи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5" name="Picture 6" descr="342b"/>
          <p:cNvPicPr/>
          <p:nvPr/>
        </p:nvPicPr>
        <p:blipFill>
          <a:blip r:embed="rId2"/>
          <a:stretch/>
        </p:blipFill>
        <p:spPr>
          <a:xfrm>
            <a:off x="4281480" y="2781360"/>
            <a:ext cx="486252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914400" y="476280"/>
            <a:ext cx="8229600" cy="1449360"/>
          </a:xfrm>
          <a:prstGeom prst="rect">
            <a:avLst/>
          </a:prstGeom>
          <a:ln w="0">
            <a:noFill/>
          </a:ln>
        </p:spPr>
      </p:pic>
      <p:grpSp>
        <p:nvGrpSpPr>
          <p:cNvPr id="427" name="Organization Chart 31"/>
          <p:cNvGrpSpPr/>
          <p:nvPr/>
        </p:nvGrpSpPr>
        <p:grpSpPr>
          <a:xfrm>
            <a:off x="2627280" y="3068640"/>
            <a:ext cx="5916240" cy="3025440"/>
            <a:chOff x="2627280" y="3068640"/>
            <a:chExt cx="5916240" cy="3025440"/>
          </a:xfrm>
        </p:grpSpPr>
        <p:cxnSp>
          <p:nvCxnSpPr>
            <p:cNvPr id="428" name="_s1028"/>
            <p:cNvCxnSpPr>
              <a:stCxn id="429" idx="0"/>
              <a:endCxn id="430" idx="3"/>
            </p:cNvCxnSpPr>
            <p:nvPr/>
          </p:nvCxnSpPr>
          <p:spPr>
            <a:xfrm flipV="1" rot="16200000">
              <a:off x="6318000" y="3508200"/>
              <a:ext cx="605520" cy="2145600"/>
            </a:xfrm>
            <a:prstGeom prst="bentConnector3">
              <a:avLst>
                <a:gd name="adj1" fmla="val 35693"/>
              </a:avLst>
            </a:prstGeom>
            <a:ln w="28440">
              <a:solidFill>
                <a:srgbClr val="cccc99"/>
              </a:solidFill>
              <a:miter/>
            </a:ln>
          </p:spPr>
        </p:cxnSp>
        <p:cxnSp>
          <p:nvCxnSpPr>
            <p:cNvPr id="431" name="_s1029"/>
            <p:cNvCxnSpPr>
              <a:stCxn id="432" idx="0"/>
              <a:endCxn id="430" idx="3"/>
            </p:cNvCxnSpPr>
            <p:nvPr/>
          </p:nvCxnSpPr>
          <p:spPr>
            <a:xfrm flipV="1" rot="16200000">
              <a:off x="5282280" y="4543920"/>
              <a:ext cx="605520" cy="74520"/>
            </a:xfrm>
            <a:prstGeom prst="bentConnector3">
              <a:avLst>
                <a:gd name="adj1" fmla="val 35693"/>
              </a:avLst>
            </a:prstGeom>
            <a:ln w="28440">
              <a:solidFill>
                <a:srgbClr val="cccc99"/>
              </a:solidFill>
              <a:miter/>
            </a:ln>
          </p:spPr>
        </p:cxnSp>
        <p:cxnSp>
          <p:nvCxnSpPr>
            <p:cNvPr id="433" name="_s1030"/>
            <p:cNvCxnSpPr>
              <a:stCxn id="434" idx="0"/>
              <a:endCxn id="430" idx="3"/>
            </p:cNvCxnSpPr>
            <p:nvPr/>
          </p:nvCxnSpPr>
          <p:spPr>
            <a:xfrm flipH="1" flipV="1" rot="5400000">
              <a:off x="4247280" y="3582720"/>
              <a:ext cx="605520" cy="1997280"/>
            </a:xfrm>
            <a:prstGeom prst="bentConnector3">
              <a:avLst>
                <a:gd name="adj1" fmla="val 35693"/>
              </a:avLst>
            </a:prstGeom>
            <a:ln w="28440">
              <a:solidFill>
                <a:srgbClr val="cccc99"/>
              </a:solidFill>
              <a:miter/>
            </a:ln>
          </p:spPr>
        </p:cxnSp>
        <p:sp>
          <p:nvSpPr>
            <p:cNvPr id="430" name="_s1031"/>
            <p:cNvSpPr/>
            <p:nvPr/>
          </p:nvSpPr>
          <p:spPr>
            <a:xfrm>
              <a:off x="4698000" y="3068640"/>
              <a:ext cx="1774800" cy="121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7cd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7c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Times New Roman"/>
                </a:rPr>
                <a:t>КОРПОРАЦІЇ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_s1032"/>
            <p:cNvSpPr/>
            <p:nvPr/>
          </p:nvSpPr>
          <p:spPr>
            <a:xfrm>
              <a:off x="2627280" y="4883760"/>
              <a:ext cx="1774800" cy="121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МЕТА СТВОРЕНН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_s1033"/>
            <p:cNvSpPr/>
            <p:nvPr/>
          </p:nvSpPr>
          <p:spPr>
            <a:xfrm>
              <a:off x="4698000" y="4883760"/>
              <a:ext cx="1774800" cy="121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КЕРІВНИЦТВО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_s1034"/>
            <p:cNvSpPr/>
            <p:nvPr/>
          </p:nvSpPr>
          <p:spPr>
            <a:xfrm>
              <a:off x="6768720" y="4883760"/>
              <a:ext cx="1774800" cy="121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РЕГУЛЮВАЛ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 txBox="1"/>
          <p:nvPr/>
        </p:nvSpPr>
        <p:spPr>
          <a:xfrm>
            <a:off x="250920" y="177300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1934 р. – курс     на створення    кооперативної    держави - альтернатива демократії і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соціалізм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22 національні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корпорації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108000" y="214200"/>
            <a:ext cx="1214280" cy="4287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5364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9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4000" spc="-1" strike="noStrike">
                <a:solidFill>
                  <a:srgbClr val="ff0000"/>
                </a:solidFill>
                <a:latin typeface="Constantia"/>
              </a:rPr>
              <a:t>Корпоративна держава.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nstantia"/>
              </a:rPr>
              <a:t>В 1930 р. фашисти законодавчо закріпили функції національної Ради корпорацій.  Її основний документ - «Хартія праці»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nstantia"/>
              </a:rPr>
              <a:t>Всього було створено 22 корпорації за напрямками - зерно, ліс, металургія, будівництво, туризм  та інші. В керівництві в  рівних кількостях були присутні представники власників, профспілок, кооперативів, фашистської партії 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nstantia"/>
              </a:rPr>
              <a:t>Главою всіх корпорацій вважався сам Муссоліні, тому критика корпорацій розглядалась як його особисто, а значить всієї корпоративної, а отже фашистської держав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242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684360" y="1483920"/>
            <a:ext cx="8208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Щоб нація залишалась здоровою, вона повинна воювати…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51055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1936 - захоплення Ефіопії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1939 – Албанії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0" y="0"/>
            <a:ext cx="1214280" cy="35712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4464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Picture 5" descr="Italian_empire_1940"/>
          <p:cNvPicPr/>
          <p:nvPr/>
        </p:nvPicPr>
        <p:blipFill>
          <a:blip r:embed="rId2"/>
          <a:stretch/>
        </p:blipFill>
        <p:spPr>
          <a:xfrm>
            <a:off x="147600" y="2708280"/>
            <a:ext cx="48560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77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9" dur="770" fill="hold"/>
                                        <p:tgtEl>
                                          <p:spTgt spid="4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3" dur="77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324000" y="1817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onstantia"/>
              </a:rPr>
              <a:t>Багато вважають, що фашизм - це щось на зразок радикального націоналізму і расизму. Багато вважають, що фашизм придумав Гітлер. Багато вважають, що фашизм, концтабори і гестапо - синоніми. Багато вважають, що фашизм мертвий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 u="sng">
                <a:solidFill>
                  <a:srgbClr val="000000"/>
                </a:solidFill>
                <a:uFillTx/>
                <a:latin typeface="Constantia"/>
              </a:rPr>
              <a:t>Всі вони сильно помиляються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250560" y="1052640"/>
            <a:ext cx="5545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1939 - Сталевий па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1940 – вступ Італії у Другу світову війн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Вересень 1943 – відставка і ареш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Вересень 1943- квітітень 1945 - республіка Сал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28.04.45 – арешт і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розстріл італійськи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партизана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06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Mussolini%208"/>
          <p:cNvPicPr/>
          <p:nvPr/>
        </p:nvPicPr>
        <p:blipFill>
          <a:blip r:embed="rId2"/>
          <a:stretch/>
        </p:blipFill>
        <p:spPr>
          <a:xfrm>
            <a:off x="4676760" y="3689280"/>
            <a:ext cx="44672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1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3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8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nstantia"/>
              </a:rPr>
              <a:t>Проблемне питання: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nstantia"/>
              </a:rPr>
              <a:t>«Чи була альтернатива встановленню фашистської диктатури в Італії?»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7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50560" y="907560"/>
            <a:ext cx="87138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Я вважаю, що ..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висловіть свою думку, поясніть, у чому полягає ваша точка зору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тому, що ..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наведіть причину появи цієї думки, тобто на чому ґрунтуються докази на підтримку вашої позиції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априклад ..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наведіть факти, які демонструють ваші докази, вони зміцнять вашу позицію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тому ..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узагальніть свою думку, зробіть висновок про те, що необхідно робити; тобто, це заклик прийняти вашу позицію)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396720" y="201600"/>
            <a:ext cx="8229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8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0" descr=""/>
          <p:cNvPicPr/>
          <p:nvPr/>
        </p:nvPicPr>
        <p:blipFill>
          <a:blip r:embed="rId1"/>
          <a:stretch/>
        </p:blipFill>
        <p:spPr>
          <a:xfrm>
            <a:off x="193680" y="439560"/>
            <a:ext cx="3243240" cy="33465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285720" y="1643040"/>
            <a:ext cx="5643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1624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Constantia"/>
              </a:rPr>
              <a:t>Муссоліні завжди залишився фанатичним прихильником прямої дії, що не обмежувалась ніякими моральними перепонами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1624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Constantia"/>
              </a:rPr>
              <a:t>Формули й теорії, за його переконаннями, мали значення лише після здійснення акту насильства, слугували його виправданню, а пріоритет   дії завжди був абсолютним та універсальним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Прямоугольник 4"/>
          <p:cNvSpPr/>
          <p:nvPr/>
        </p:nvSpPr>
        <p:spPr>
          <a:xfrm>
            <a:off x="3429000" y="357120"/>
            <a:ext cx="535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«Колесо історії повертається лише кров'ю»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Прямоугольник 5"/>
          <p:cNvSpPr/>
          <p:nvPr/>
        </p:nvSpPr>
        <p:spPr>
          <a:xfrm>
            <a:off x="577080" y="3929040"/>
            <a:ext cx="257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Ж. Дотторі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«Портрет дуче». 1933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250560" y="1112760"/>
            <a:ext cx="8569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рацювати §16, відповісти на питання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обовязково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ивчити дати, нові понятт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обовязково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иконати завдання І та ІІ на стор.168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достатній рівень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вір-мініатюра за темою на вибір  «Місце Муссоліні в історії», « Чому Італія стала першою з країн Європи, в якій фашистській партії вдалося прийти до влади?»,  «Особливості італійського фашизму», «Етапи фашизації Італії. Структура  управління державою, що була створена фашистами»,  «Неофашизм  сьогодення»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високий рівень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ипереджальне завдання для творчої групи учнів: підготувати повідомлення про Мустафа Кемаль Ататюрка, Сунь Ясена, Махатму Ганді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індивід. завд.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Прямоугольник 1"/>
          <p:cNvSpPr/>
          <p:nvPr/>
        </p:nvSpPr>
        <p:spPr>
          <a:xfrm>
            <a:off x="826920" y="40464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Домашнє  завданн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42920" y="3213000"/>
            <a:ext cx="885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Урок з всесвітньої історії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10 клас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378000" y="1341360"/>
            <a:ext cx="8662680" cy="26146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42920" y="3213000"/>
            <a:ext cx="885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682560" y="1341360"/>
            <a:ext cx="8047080" cy="22431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1"/>
          <p:cNvSpPr/>
          <p:nvPr/>
        </p:nvSpPr>
        <p:spPr>
          <a:xfrm>
            <a:off x="160200" y="1274760"/>
            <a:ext cx="882180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Очікувані результати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ходу уроку та після нього ви зможет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яснювати і застосовувати нові поняття та термін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овити і проаналізувати взаємозв’язок  між наслідками війни і причинами встановлення фашистської диктатур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изначити основні ідеї фашизм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ати характеристику і власну оцінку діяльності  Б. Муссоліні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исати прояви фашизації Італії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казати на карті результати територіальних домагань Італії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исловлювати свою думку щодо неминучості воє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іставляти факти, критично аналізувати інформацію, отриману з різних джерел, брати участь у дискусії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42920" y="3213000"/>
            <a:ext cx="885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682560" y="1341360"/>
            <a:ext cx="8047080" cy="2243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1"/>
          <p:cNvSpPr/>
          <p:nvPr/>
        </p:nvSpPr>
        <p:spPr>
          <a:xfrm>
            <a:off x="1187280" y="1413000"/>
            <a:ext cx="6767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Основні терміни та понятт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ьтернати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ктату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уч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рпораці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ібераліз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ілітариз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ціаліз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зурпаці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асції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8000" y="162828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Основні дати: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0-1921 рр.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рвоне дворіччя»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2 р. -­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ід фашистів до влади в Італії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9 р. -­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орення держави Ватикан,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5­-1936 рр. ­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тало-ефіопська війна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травня 1936 р.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олошення Італії імперією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9 р. ­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талевий пакт" між Італією та Німеччиною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3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nstantia"/>
              </a:rPr>
              <a:t>Проблемне питання: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nstantia"/>
              </a:rPr>
              <a:t>«Чи була альтернатива встановленню фашистської диктатури в Італії?»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План уроку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Наслідки Першої світової війн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Б. Муссоліні. Встановлення фашистської диктатур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Основні риси фашизму. Фашизація країн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7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8:39:04Z</dcterms:created>
  <dc:creator>LUBOV3001</dc:creator>
  <dc:description/>
  <dc:language>en-US</dc:language>
  <cp:lastModifiedBy>Root</cp:lastModifiedBy>
  <dcterms:modified xsi:type="dcterms:W3CDTF">2013-06-03T09:12:54Z</dcterms:modified>
  <cp:revision>53</cp:revision>
  <dc:subject/>
  <dc:title>БЕНІТО МУССОЛІН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3b000000000001024140</vt:lpwstr>
  </property>
</Properties>
</file>