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F207C-A23C-48D9-8B8D-4AB942DE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FA4C3-10BB-49BA-9FEA-9CA8302B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1710F-0A48-4C9E-88F2-0785046F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1CE1-E53A-40D0-A53D-E6A189AC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01CE-F7B6-4D06-974C-138F6987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8F59-46CE-4333-A63A-7D3A652C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890E-8BA8-4D46-B2ED-FE6EC8C3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2EF0-57A7-4745-A9D0-1E15D1D1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E9DB-555A-4C4C-8507-08984C0B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A1E3-02DC-4ADE-AAB1-23302027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87F6-87A8-472E-AB60-B80F3A88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EE8F-CA4B-455D-8776-C44E6EFE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39F1-DE89-4890-8EBB-AC21E14E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06EE-9752-4B9E-9B83-1EF61F42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9C69-24B4-4584-B38B-B57109D0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685B-84D6-49D0-9877-FCA858F0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AAEC-D95F-4F2B-81A2-34E9F9B2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5C86F-949D-4666-A8B0-EBA233DC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F96EC-0FF0-4C8D-B0AA-AAAFD83C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FB52-1EB7-4D39-936A-71F818D5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9D2C0-51CC-48FA-8F83-CF9843F8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B8C3-D5AA-4005-8FA2-E8CAC15A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FC873-7C98-433E-9707-835AED9A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0D53-19B2-4E4C-AD16-84FA0B38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8A6F-8319-4B33-8188-AB521CBF3A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7726-029A-427D-8D67-E35FE26E87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ff"/>
                </a:solidFill>
                <a:latin typeface="Garamond"/>
              </a:rPr>
              <a:t>ТЕСТ - КОНТРОЛЬ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9.  На думку Муссоліні - більше населення -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А ) Більше солдат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Б ) Більше солдат-більше могутності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В ) Більше турбо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олітика нарощення озброєння це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 -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А ) протекціонізм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Б ) лібералізм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В ) мілітаризм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1.Італія вступила у Першу світову війну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А) в 1914 р. на боці Антанти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Б ) в 1915 р. на боці Троїстого союзу 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В ) в 1915 р. на боці Антанти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2. Після війни вона отримала такі території як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А ) Істрію, Далмацію, м. Трієст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Б  ) Тіроль , Істрію, колонії в Африці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В ) Далмацію, Тіроль, Албанію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3. Термін фашизм походить </a:t>
            </a:r>
            <a:br>
              <a:rPr sz="4000"/>
            </a:b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від слова , що в перекладі означає.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А  ) Велика сила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Б ) Зв'язка, пучок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В ) Здобути перемогу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5e5ff"/>
                </a:solidFill>
                <a:latin typeface="Garamond"/>
              </a:rPr>
              <a:t>4.Цей термін означає</a:t>
            </a:r>
            <a:br>
              <a:rPr sz="4800"/>
            </a:br>
            <a:r>
              <a:rPr b="1" lang="uk-UA" sz="4800" spc="-1" strike="noStrike">
                <a:solidFill>
                  <a:srgbClr val="e5e5ff"/>
                </a:solidFill>
                <a:latin typeface="Garamond"/>
              </a:rPr>
              <a:t>політичну владу не обмежену законами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А ) Диктатур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Б ) Лібералізм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В ) Тоталітаризм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5. Муссоліні починав свою трудову</a:t>
            </a:r>
            <a:br>
              <a:rPr sz="4000"/>
            </a:b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діяльність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А ) вчителем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Б ) залізничником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В ) журналістом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6. “Революція у спальному вагоні” це-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А ) виселення Муссоліні за межі Швейцарії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Б) похід фашистів на Рим у       1922 р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В ) реформа в галузі залізничного     будівництва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7. Лютеранський пакт був підписан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А )з Німеччиною в 1935 р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Б ) з Швейцарією в 1925 р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В ) з Ватиканом в 1929 р.</a:t>
            </a: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8. До керівництва корпорацій входили представни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Garamond"/>
              </a:rPr>
              <a:t>А ) робітників, фашистської партії, торгівців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Garamond"/>
              </a:rPr>
              <a:t>Б ) профспілок, фашистської партії, підприємці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Garamond"/>
              </a:rPr>
              <a:t>В ) фашистської партії,  військові, профспілки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2:44:47Z</dcterms:created>
  <dc:creator>LUBOV3001</dc:creator>
  <dc:description/>
  <dc:language>en-US</dc:language>
  <cp:lastModifiedBy>Root</cp:lastModifiedBy>
  <dcterms:modified xsi:type="dcterms:W3CDTF">2013-06-03T06:18:19Z</dcterms:modified>
  <cp:revision>3</cp:revision>
  <dc:subject/>
  <dc:title>1.Італія вступила у Першу світову війну 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4000000000001024140</vt:lpwstr>
  </property>
</Properties>
</file>