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ACA-C042-4296-8486-98C3A7CB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020-8BEB-4E5D-B6EA-F38A211B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131-AFE8-4F10-85F7-A3C56073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B1A-FF42-48FF-B6D6-1E6EE9FC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BFDB4-7FED-4C5B-BAFA-A804D7BF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ABE06-BF3B-4650-9684-DD7AFEE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F838F-BCC4-4ADD-8E06-A7A03CE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719A3-9BEB-4274-B82A-DC892AF7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2D6AB-26C7-4D0D-B80B-C1656A6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8D89F-BF90-4BEB-B5A6-ECC2F7E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67E98-70E0-4C58-86CC-5FCC2C7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AB2-E8C7-4541-8315-5BB3B1A9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92181-2F41-4388-AFAE-19F67F2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0F7C-4C00-48B8-9E13-AA6720A5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841A2-EF85-44EB-94BC-E98F101A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F6854-590C-4F8F-8601-63EE1A8B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8A2CE-E894-4AD4-AB2B-8899B94A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F9E7-264B-42C1-AA73-160B227E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BD63B-CB7C-4BFF-A8DA-B23B4CD9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BF7A-F027-4914-B167-DD686037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808B-A6FE-4185-9470-4F19A614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C9B0-1646-4CD3-8769-074CA056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ABD-8AB7-4ABB-AB77-3808E6D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4BE7-F602-432B-B4B3-22C55CE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68EF-5B7A-4EFD-83B0-45EF2747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2DDC-2182-4793-8BD4-B9A017F4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4604-EA82-48F0-9F0E-7673006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E09A-E4E0-4F2A-A5E4-676D9F3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2043-84D9-40F3-9480-33092D5C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89C6-639F-4191-A46A-B3676F95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FBFFD-ECBC-457B-8A1B-2FFD4E24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CA557-AB07-4A49-BC46-239251F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27937-A5B1-4426-ADBF-89093823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DB1-3C3C-468D-B1AC-BAC86330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4687C-3695-4227-9F8B-2BF659A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FE093-B21E-4027-B839-B58591F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F8346-C3EE-49DD-A66F-857D5AB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6EF49-D54B-42BB-8749-0B4CADA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F5C9C-7FF1-4EEF-A660-A3521C0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70B67-5CBA-42A1-A6B6-A4CEEDE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EE9FE-0FB6-449B-854B-85B58349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049EDC-6132-4EF1-9BF2-47AA8040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4418D-830E-4665-ACF0-0325A302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0701-4AAE-4941-83FB-EF773C0A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32A-B735-4595-A536-786FEB85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70EA-9E85-4C2F-937A-55721D1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C813A-5F10-4FDE-8561-BC708C1D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D59E-A88C-463A-85CA-E6D9AA9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03416-3A96-425E-85D0-8C43D477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33E4-702F-4CEF-B941-2F705ABA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79BE-091F-4C22-A90C-5AC3EE1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E4BE-C7B9-44BD-A729-6D54B05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2566-CAEE-46AD-A91C-E50F75E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FC95-FAE5-46A2-97CE-4D37949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58101-B437-49DE-9063-BDC57F51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C81-5CB0-4284-B156-7128C62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EE8A-97F0-426F-87FD-024EC28B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52D4-48DA-451E-B493-B6F3909A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A039-6328-4A97-9146-70C79FF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7B38-1C18-411D-92E8-AA4FF6CE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69979-FC0E-4894-A2F7-464A7BF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DF30-9554-40A3-879E-A5ED8BF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CAFB-4534-4D5F-AB9F-9129AF1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13A16-CDD7-47CE-AC71-0AA00DA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3E743-445F-43C3-934A-8B100B9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06C8-19D3-4E16-8346-56C2584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416-816A-4CDC-9A2A-B674527C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E015-2791-4B36-A7FB-7EE8CC4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8D28-F3CA-438A-87CB-886ECD5B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A8EF3-2423-4F3B-9FA6-0D82D944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AF1B-9025-4573-B9D4-175CA9D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D2AA9-B84C-4FE0-9B7C-DF2B11E2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FD0F-B6EE-4BDF-B815-5805857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5B37-171F-4BA8-AE5F-D30E1A6B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793B-4701-4115-978A-E1A57E59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701A9-7CB1-461F-B769-3666EF19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4E542-3AA3-4AF7-B9DD-AB4F880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F8A-22B8-416D-A363-516B7F7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338C8-967B-4E1C-9A1C-7ACDD3D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E1BAB-A957-4478-A2D9-35874AD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D144-16C4-4941-853F-3721F04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A82A-FA1D-4AC8-93ED-2F478069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CF0C-3824-4DB1-BFCA-34AD18C2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ED623-3520-4172-A5EE-849D3E10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BE29-9F4A-47C9-AA3F-FE35ED6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7C78-E14F-4A0C-A5B8-515315DA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E6CC9-967A-4ABA-AAA6-BA900EBE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8984-13BF-49CC-87D2-A981890A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C5A-DE15-4D80-8CD4-5F2F69D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90598-6270-4E51-85C8-424FA7D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1B2DF-6EA4-4660-84D2-DA9280A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05DF-1D33-4306-8E9F-84BBC37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DD35C-44B4-4547-9553-64D77A8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BAFA-EA7F-4C2D-9EC5-9C275EC0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9A311-2186-4D1C-9281-814CBD61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A9EA7-D21B-4FB1-8447-1FA059EB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559C-FD5E-4091-8DF5-883F730B843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7EF-EC12-45D5-A99F-DB87AD079B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238B-94D1-415F-B126-B778C0A4C8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BB30-CBED-49FA-B292-A66E305D97D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B82F-9552-4201-A1A0-D993E8C573D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60C1-C4D5-4FF6-A882-55108416ED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EC7-3E6F-4419-8171-C645854F6A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FF91-983A-4EC0-8B74-F2F20CACF5B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лотка Ольга Сергії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читель історії та правознавст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раматорської загальноосвітньої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школи І-ІІІ ступенів № 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23800" y="1700280"/>
            <a:ext cx="7991640" cy="5016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"/>
          <p:cNvSpPr/>
          <p:nvPr/>
        </p:nvSpPr>
        <p:spPr>
          <a:xfrm>
            <a:off x="250920" y="1189080"/>
            <a:ext cx="8713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рієнтуємось в історичному просторі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843280" y="-149400"/>
            <a:ext cx="3456000" cy="2116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71840" cy="5676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Віктор Еммануїл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Король Італії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ас на поса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9 липня 1900 —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9 травня 194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http://upravlenie.ucoz.ru/_fr/8/s7858977.jpg"/>
          <p:cNvPicPr/>
          <p:nvPr/>
        </p:nvPicPr>
        <p:blipFill>
          <a:blip r:embed="rId1"/>
          <a:stretch/>
        </p:blipFill>
        <p:spPr>
          <a:xfrm>
            <a:off x="76320" y="260280"/>
            <a:ext cx="4524120" cy="6438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851280" y="3571920"/>
            <a:ext cx="558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Історія одног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диктато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7956720" cy="2803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5076720" y="47512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1" descr="n02_02_1"/>
          <p:cNvPicPr/>
          <p:nvPr/>
        </p:nvPicPr>
        <p:blipFill>
          <a:blip r:embed="rId1"/>
          <a:stretch/>
        </p:blipFill>
        <p:spPr>
          <a:xfrm>
            <a:off x="6588000" y="33336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18" descr=""/>
          <p:cNvPicPr/>
          <p:nvPr/>
        </p:nvPicPr>
        <p:blipFill>
          <a:blip r:embed="rId2"/>
          <a:stretch/>
        </p:blipFill>
        <p:spPr>
          <a:xfrm>
            <a:off x="36360" y="334800"/>
            <a:ext cx="8442360" cy="11224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4281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одився 29 липня 1883 року , в Дов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а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Батько був кузнем, а мати —вчителем початкової школ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ісля  закінчення гімназії в 1901 році  отримав  диплом викладача початкових класів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Picture 29" descr="Image:Casa Natale Benito Mussolini.jpg"/>
          <p:cNvPicPr/>
          <p:nvPr/>
        </p:nvPicPr>
        <p:blipFill>
          <a:blip r:embed="rId3"/>
          <a:stretch/>
        </p:blipFill>
        <p:spPr>
          <a:xfrm>
            <a:off x="4572000" y="357336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25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57840" y="714240"/>
            <a:ext cx="4286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903 році Беніто вступив до Італійської соціалістичної партії (ІСП). Служив  у армії, був  викладачем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початку 1910-х роках він активно приймав участь в акціях соціалістичного руху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ймався журналістикою, декілька разів був арештован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i-main-pic" descr="Картинка 29 из 1427"/>
          <p:cNvPicPr/>
          <p:nvPr/>
        </p:nvPicPr>
        <p:blipFill>
          <a:blip r:embed="rId1"/>
          <a:stretch/>
        </p:blipFill>
        <p:spPr>
          <a:xfrm>
            <a:off x="1027080" y="214200"/>
            <a:ext cx="2473200" cy="3429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95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3" descr="C:\Users\Владик\Desktop\бенито\Benito_Mussolini_mugshot_1903.jpg"/>
          <p:cNvPicPr/>
          <p:nvPr/>
        </p:nvPicPr>
        <p:blipFill>
          <a:blip r:embed="rId2"/>
          <a:stretch/>
        </p:blipFill>
        <p:spPr>
          <a:xfrm>
            <a:off x="214200" y="3714840"/>
            <a:ext cx="466092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-main-pic" descr="Картинка 178 из 7070"/>
          <p:cNvPicPr/>
          <p:nvPr/>
        </p:nvPicPr>
        <p:blipFill>
          <a:blip r:embed="rId1"/>
          <a:stretch/>
        </p:blipFill>
        <p:spPr>
          <a:xfrm>
            <a:off x="2771640" y="0"/>
            <a:ext cx="6516720" cy="5229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1914 р. – почалась Перша світова вій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1-й мировой войны Муссолини призывал к вступлению Италии в войну на стороне Антанты. В связи с этим он был исключен из партии и оставил пост редактора газеты ИСП «Аванти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вступления Италии в войну (1915) Муссолини был призван в армию, участвовал в военных действиях, был ране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3" name="Picture 16" descr="MkVIII_3"/>
          <p:cNvPicPr/>
          <p:nvPr/>
        </p:nvPicPr>
        <p:blipFill>
          <a:blip r:embed="rId2"/>
          <a:stretch/>
        </p:blipFill>
        <p:spPr>
          <a:xfrm>
            <a:off x="0" y="0"/>
            <a:ext cx="3679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фото Бенито Муссолини"/>
          <p:cNvPicPr/>
          <p:nvPr/>
        </p:nvPicPr>
        <p:blipFill>
          <a:blip r:embed="rId1"/>
          <a:stretch/>
        </p:blipFill>
        <p:spPr>
          <a:xfrm>
            <a:off x="5572080" y="2714760"/>
            <a:ext cx="3357720" cy="4351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857680" y="285840"/>
            <a:ext cx="62863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5 р. – початок служби в італійській армії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7- демобілізація в чині старшого капра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6" name="Picture 2" descr="C:\Users\Владик\Desktop\бенито\170px-Benito_Mussolini_1917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3591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Владик\Desktop\бенито\327318_10.jpg"/>
          <p:cNvPicPr/>
          <p:nvPr/>
        </p:nvPicPr>
        <p:blipFill>
          <a:blip r:embed="rId3"/>
          <a:stretch/>
        </p:blipFill>
        <p:spPr>
          <a:xfrm>
            <a:off x="2428920" y="2933640"/>
            <a:ext cx="3203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Изображение:Fasces lictoriae.sv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571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ed4226c1239e"/>
          <p:cNvPicPr/>
          <p:nvPr/>
        </p:nvPicPr>
        <p:blipFill>
          <a:blip r:embed="rId2"/>
          <a:stretch/>
        </p:blipFill>
        <p:spPr>
          <a:xfrm>
            <a:off x="0" y="0"/>
            <a:ext cx="2557440" cy="38876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4" descr=""/>
          <p:cNvPicPr/>
          <p:nvPr/>
        </p:nvPicPr>
        <p:blipFill>
          <a:blip r:embed="rId3"/>
          <a:stretch/>
        </p:blipFill>
        <p:spPr>
          <a:xfrm>
            <a:off x="2408400" y="212760"/>
            <a:ext cx="5662440" cy="1360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71480" y="1341360"/>
            <a:ext cx="5529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1919 р. – м. Міла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Фашіо ді           комбаттіменто</a:t>
            </a: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Picture 10" descr="tmpF943-14"/>
          <p:cNvPicPr/>
          <p:nvPr/>
        </p:nvPicPr>
        <p:blipFill>
          <a:blip r:embed="rId4"/>
          <a:stretch/>
        </p:blipFill>
        <p:spPr>
          <a:xfrm>
            <a:off x="1571760" y="3357720"/>
            <a:ext cx="5197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0357"/>
          <p:cNvPicPr/>
          <p:nvPr/>
        </p:nvPicPr>
        <p:blipFill>
          <a:blip r:embed="rId1"/>
          <a:stretch/>
        </p:blipFill>
        <p:spPr>
          <a:xfrm>
            <a:off x="6829560" y="3676680"/>
            <a:ext cx="2314440" cy="318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1 р. –  вибори до парламенту. Фашисти здобувають 35 місц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урс на захоплення влади . Створення сквадр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Або нас добровільно допустять до управління , або ми захопимо владу…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9.10.1922- король призначає                                   Муссоліні прем'єр - міністр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Mussd"/>
          <p:cNvPicPr/>
          <p:nvPr/>
        </p:nvPicPr>
        <p:blipFill>
          <a:blip r:embed="rId1"/>
          <a:stretch/>
        </p:blipFill>
        <p:spPr>
          <a:xfrm>
            <a:off x="3848040" y="0"/>
            <a:ext cx="5295960" cy="37861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0" y="212760"/>
            <a:ext cx="3859200" cy="2371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3786120"/>
            <a:ext cx="8929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ts val="20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8 жовтня 1922 року  фашисти організували  демонстративний «Марш  на Рим», внаслідок чого  італійський король Віктор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Мануїл ІІІ запросив Беніто Муссоліні сформувати новий уряд. 31 жовтня 1922 року Муссоліні став наймолодшим прем'єр-міністром в історії Італії. Запровадив жорстку цензуру та змінив виборчі методи так, що протягом 1925—1926 років зміг зібрати в своїх руках диктаторські повноваження та розпустити всі інші партії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Бесіда за запитаннями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Якими були форма правління і державний устрій Італії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2.На боці якого воєнно-політичного блоку воювала Італія у Першій світовій війн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3.Наведіть факти, що характеризують участь Італії у Першій світовій війні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4.Назвіть характерні риси тоталітарних режим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5.Наведіть приклади країн та їх керівників, де існували тоталітарні режим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595600" cy="2698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857680" y="428400"/>
            <a:ext cx="6000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2500"/>
              </a:lnSpc>
              <a:spcBef>
                <a:spcPts val="15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ашизм - від слова fasces (Фасції - зв'язка прутів, яку несли ліктори перед римськими магістратами і яка була символом державної влади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ts val="25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ts val="2299"/>
              </a:lnSpc>
              <a:spcBef>
                <a:spcPts val="1199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ізувався  фашизм 23 березня 1919 року, коли в Мілані пройшла зустріч фашистської партії. У 1921 р. проходить до парламенту ставши членом правого крила.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7 листопада 1921 р. Італійський союз боротьби перетворений в Національну фашистську партію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214200" y="31431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Герб фашистської парті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4767120"/>
            <a:ext cx="8161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712880" y="36360"/>
            <a:ext cx="7004160" cy="182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111092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ОДНОПАРТІЙНІСТЬ І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ЗНИЩЕННЯ ОПОЗИЦ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5840" y="3573000"/>
            <a:ext cx="885816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Парламент – це чума, що отруюює кров        нації.Її треба знищити. » Опозиційні партії закриті, критики режиму арештовані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творена таємна поліція   ( ОВРА) та Особливий трибунал.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«Наша програма прос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и хочемо управляти Італією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4" descr="99_12658"/>
          <p:cNvPicPr/>
          <p:nvPr/>
        </p:nvPicPr>
        <p:blipFill>
          <a:blip r:embed="rId2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2214720" y="0"/>
            <a:ext cx="1014120" cy="42876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-main-pic" descr="Картинка 216 из 1426"/>
          <p:cNvPicPr/>
          <p:nvPr/>
        </p:nvPicPr>
        <p:blipFill>
          <a:blip r:embed="rId1"/>
          <a:stretch/>
        </p:blipFill>
        <p:spPr>
          <a:xfrm>
            <a:off x="5014800" y="3780000"/>
            <a:ext cx="4129200" cy="30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440" y="16945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8391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УЗУРПАЦІЯ    ВЛАДИ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ищий орган влади  –    Велика фашистська      рад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сі закони та рішення  приймаються на мітингах     фашистів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Два державних  гімни –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ороля і фашист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69800" y="-103320"/>
            <a:ext cx="8229600" cy="1225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benito"/>
          <p:cNvPicPr/>
          <p:nvPr/>
        </p:nvPicPr>
        <p:blipFill>
          <a:blip r:embed="rId2"/>
          <a:stretch/>
        </p:blipFill>
        <p:spPr>
          <a:xfrm>
            <a:off x="214200" y="1125360"/>
            <a:ext cx="2870280" cy="4530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259__6_1"/>
          <p:cNvPicPr/>
          <p:nvPr/>
        </p:nvPicPr>
        <p:blipFill>
          <a:blip r:embed="rId3"/>
          <a:stretch/>
        </p:blipFill>
        <p:spPr>
          <a:xfrm>
            <a:off x="6935760" y="189000"/>
            <a:ext cx="2208240" cy="2871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785680" y="1000080"/>
            <a:ext cx="4449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Уряд – це я”. З 1929 р. –  Дуче   очолює  8  із  13  міністер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Поеми і пісн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інофільми   і скульптур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Італійці , будьте спокійні .Я буду вести вас  все вище і далі..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39640" y="1916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Новий моральний і фізичний тип італійця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Дитячі і молодіжні організації-Італійська лікторська молод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ирішення “римського питання “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Латеранська  угода 1929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-73080"/>
            <a:ext cx="8340840" cy="2109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Пий XI - папа Римский, сотрудничавший с Муссолини"/>
          <p:cNvPicPr/>
          <p:nvPr/>
        </p:nvPicPr>
        <p:blipFill>
          <a:blip r:embed="rId2"/>
          <a:stretch/>
        </p:blipFill>
        <p:spPr>
          <a:xfrm>
            <a:off x="6948360" y="3933720"/>
            <a:ext cx="21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Масові ритуали - “фашистські весілля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ім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я – основа суспільст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Шкільні програми 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ус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і фашизму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46844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4"/>
          <p:cNvSpPr/>
          <p:nvPr/>
        </p:nvSpPr>
        <p:spPr>
          <a:xfrm>
            <a:off x="25092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i-main-pic" descr="Картинка 29 из 1427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7" descr=""/>
          <p:cNvPicPr/>
          <p:nvPr/>
        </p:nvPicPr>
        <p:blipFill>
          <a:blip r:embed="rId1"/>
          <a:stretch/>
        </p:blipFill>
        <p:spPr>
          <a:xfrm>
            <a:off x="755640" y="122400"/>
            <a:ext cx="8217000" cy="15112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тадіони і палаци спор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Особистий приклад -  Дуч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фашистські суботи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Picture 6" descr="342b"/>
          <p:cNvPicPr/>
          <p:nvPr/>
        </p:nvPicPr>
        <p:blipFill>
          <a:blip r:embed="rId2"/>
          <a:stretch/>
        </p:blipFill>
        <p:spPr>
          <a:xfrm>
            <a:off x="4281480" y="2781360"/>
            <a:ext cx="48625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14400" y="476280"/>
            <a:ext cx="82296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427" name="Organization Chart 31"/>
          <p:cNvGrpSpPr/>
          <p:nvPr/>
        </p:nvGrpSpPr>
        <p:grpSpPr>
          <a:xfrm>
            <a:off x="2627280" y="3068640"/>
            <a:ext cx="5916240" cy="3025440"/>
            <a:chOff x="2627280" y="3068640"/>
            <a:chExt cx="5916240" cy="3025440"/>
          </a:xfrm>
        </p:grpSpPr>
        <p:cxnSp>
          <p:nvCxnSpPr>
            <p:cNvPr id="428" name="_s1028"/>
            <p:cNvCxnSpPr>
              <a:stCxn id="429" idx="0"/>
              <a:endCxn id="430" idx="3"/>
            </p:cNvCxnSpPr>
            <p:nvPr/>
          </p:nvCxnSpPr>
          <p:spPr>
            <a:xfrm flipV="1" rot="16200000">
              <a:off x="6318000" y="3508200"/>
              <a:ext cx="605520" cy="214560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1" name="_s1029"/>
            <p:cNvCxnSpPr>
              <a:stCxn id="432" idx="0"/>
              <a:endCxn id="430" idx="3"/>
            </p:cNvCxnSpPr>
            <p:nvPr/>
          </p:nvCxnSpPr>
          <p:spPr>
            <a:xfrm flipV="1" rot="16200000">
              <a:off x="5282280" y="4543920"/>
              <a:ext cx="605520" cy="7452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3" name="_s1030"/>
            <p:cNvCxnSpPr>
              <a:stCxn id="434" idx="0"/>
              <a:endCxn id="430" idx="3"/>
            </p:cNvCxnSpPr>
            <p:nvPr/>
          </p:nvCxnSpPr>
          <p:spPr>
            <a:xfrm flipH="1" flipV="1" rot="5400000">
              <a:off x="4247280" y="3582720"/>
              <a:ext cx="605520" cy="199728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430" name="_s1031"/>
            <p:cNvSpPr/>
            <p:nvPr/>
          </p:nvSpPr>
          <p:spPr>
            <a:xfrm>
              <a:off x="4698000" y="306864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Times New Roman"/>
                </a:rPr>
                <a:t>КОРПОРАЦІЇ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_s1032"/>
            <p:cNvSpPr/>
            <p:nvPr/>
          </p:nvSpPr>
          <p:spPr>
            <a:xfrm>
              <a:off x="262728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А СТВОРЕНН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469800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ЕРІВНИЦТВО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_s1034"/>
            <p:cNvSpPr/>
            <p:nvPr/>
          </p:nvSpPr>
          <p:spPr>
            <a:xfrm>
              <a:off x="676872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ЕГУЛЮВА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250920" y="177300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4 р. – курс     на створення    кооперативної    держави - альтернатива демократії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оціалізм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2 національні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корпорації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0800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4000" spc="-1" strike="noStrike">
                <a:solidFill>
                  <a:srgbClr val="ff0000"/>
                </a:solidFill>
                <a:latin typeface="Constantia"/>
              </a:rPr>
              <a:t>Корпоративна держав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 1930 р. фашисти законодавчо закріпили функції національної Ради корпорацій.  Її основний документ - «Хартія праці»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сього було створено 22 корпорації за напрямками - зерно, ліс, металургія, будівництво, туризм  та інші. В керівництві в  рівних кількостях були присутні представники власників, профспілок, кооперативів, фашистської партії 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Главою всіх корпорацій вважався сам Муссоліні, тому критика корпорацій розглядалась як його особисто, а значить всієї корпоративної, а отже фашистської держа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684360" y="1483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Щоб нація залишалась здоровою, вона повинна воювати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6 - захоплення Ефіоп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9 – Албан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0" y="0"/>
            <a:ext cx="1214280" cy="357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4464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5" descr="Italian_empire_1940"/>
          <p:cNvPicPr/>
          <p:nvPr/>
        </p:nvPicPr>
        <p:blipFill>
          <a:blip r:embed="rId2"/>
          <a:stretch/>
        </p:blipFill>
        <p:spPr>
          <a:xfrm>
            <a:off x="147600" y="270828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24000" y="1817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Багато вважають, що фашизм - це щось на зразок радикального націоналізму і расизму. Багато вважають, що фашизм придумав Гітлер. Багато вважають, що фашизм, концтабори і гестапо - синоніми. Багато вважають, що фашизм мертвий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000000"/>
                </a:solidFill>
                <a:uFillTx/>
                <a:latin typeface="Constantia"/>
              </a:rPr>
              <a:t>Всі вони сильно помиляютьс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0560" y="1052640"/>
            <a:ext cx="5545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9 - Сталевий п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40 – вступ Італії у Другу світову вій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 – відставка і ареш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- квітітень 1945 - республіка Са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8.04.45 – арешт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розстріл італійськи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партизан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Mussolini%208"/>
          <p:cNvPicPr/>
          <p:nvPr/>
        </p:nvPicPr>
        <p:blipFill>
          <a:blip r:embed="rId2"/>
          <a:stretch/>
        </p:blipFill>
        <p:spPr>
          <a:xfrm>
            <a:off x="4676760" y="3689280"/>
            <a:ext cx="4467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90756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 вважаю, що ..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висловіть свою думку, поясніть, у чому полягає ваша точка зору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, що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причину появи цієї думки, тобто на чому ґрунтуються докази на підтримку вашої позиції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приклад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факти, які демонструють ваші докази, вони зміцнять вашу позицію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узагальніть свою думку, зробіть висновок про те, що необхідно робити; тобто, це заклик прийняти вашу позицію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" descr=""/>
          <p:cNvPicPr/>
          <p:nvPr/>
        </p:nvPicPr>
        <p:blipFill>
          <a:blip r:embed="rId1"/>
          <a:stretch/>
        </p:blipFill>
        <p:spPr>
          <a:xfrm>
            <a:off x="193680" y="439560"/>
            <a:ext cx="3243240" cy="334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285720" y="16430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Муссоліні завжди залишився фанатичним прихильником прямої дії, що не обмежувалась ніякими моральними перепо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Формули й теорії, за його переконаннями, мали значення лише після здійснення акту насильства, слугували його виправданню, а пріоритет   дії завжди був абсолютним та універсальни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3429000" y="35712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Колесо історії повертається лише кров'ю»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577080" y="3929040"/>
            <a:ext cx="257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Ж. Дотторі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«Портрет дуче». 193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50560" y="111276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ацювати §16, відповісти на питання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вчити дати, нові понятт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конати завдання І та ІІ на стор.168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достатній рівень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ір-мініатюра за темою на вибір  «Місце Муссоліні в історії», « Чому Італія стала першою з країн Європи, в якій фашистській партії вдалося прийти до влади?»,  «Особливості італійського фашизму», «Етапи фашизації Італії. Структура  управління державою, що була створена фашистами»,  «Неофашизм  сьогодення»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исокий рівень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переджальне завдання для творчої групи учнів: підготувати повідомлення про Мустафа Кемаль Ататюрка, Сунь Ясена, Махатму Ганді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індивід. завд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Прямоугольник 1"/>
          <p:cNvSpPr/>
          <p:nvPr/>
        </p:nvSpPr>
        <p:spPr>
          <a:xfrm>
            <a:off x="826920" y="404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Домашнє  завданн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160200" y="1274760"/>
            <a:ext cx="8821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чікувані результат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оду уроку та після нього ви зможет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ювати і застосовувати нові поняття та термі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овити і проаналізувати взаємозв’язок  між наслідками війни і причинами встановлення фашистської диктатур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значити основні ідеї фашиз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ти характеристику і власну оцінку діяльності  Б. Муссолін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ти прояви фашизації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ати на карті результати територіальних домагань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словлювати свою думку щодо неминучості воє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іставляти факти, критично аналізувати інформацію, отриману з різних джерел, брати участь у дискусії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1187280" y="1413000"/>
            <a:ext cx="676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сновні терміни та понятт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тернат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т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у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пораці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ібер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ілітар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і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зурпаці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сці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Основні дати: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21 р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оне дворіччя»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ід фашистів до влади в Італії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орення держави Ватикан,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5­-1936 р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ало-ефіопська вій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травня 1936 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лошення Італії імперією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9 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левий пакт" між Італією та Німеччино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План урок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Наслідки Першої світової вій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Б. Муссоліні. Встановлення фашистської диктату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Основні риси фашизму. Фашизація краї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39:04Z</dcterms:created>
  <dc:creator>LUBOV3001</dc:creator>
  <dc:description/>
  <dc:language>en-US</dc:language>
  <cp:lastModifiedBy>Root</cp:lastModifiedBy>
  <dcterms:modified xsi:type="dcterms:W3CDTF">2013-06-03T09:12:54Z</dcterms:modified>
  <cp:revision>53</cp:revision>
  <dc:subject/>
  <dc:title>БЕНІТО МУССОЛІН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b000000000001024140</vt:lpwstr>
  </property>
</Properties>
</file>