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B064-768E-44BE-B46E-BA80182D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B937-83CA-4D36-85EA-E86BB90A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A740-806F-4CD0-B88D-BF05BCC3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D30B-6C83-42DB-B1C2-0FFD2299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6104-AEFD-4EB6-BA94-FE671402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079C-4684-4E43-AD46-F09BCD69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1289-74A5-4C0F-A191-AC810A5C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BBF1-A43F-471C-ABC2-D39B67AC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264A-BFED-434C-83C0-AA0CF707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BBFE-A00A-476B-B50E-33471A4C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F0C6-1C21-472E-837A-D84170E8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E07DC-94D1-4A01-B254-9B42DD7D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812D-DB2D-4029-AA7E-DB170526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D388-D4FD-48BF-BE4D-047B8DF3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CCC2-7E94-4445-B941-660DC60F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7483-3F44-45FF-9B94-E95F248E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2112-BDDD-4837-998A-FA7CFA47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84CF-9AE7-4497-8BDA-9C40CC01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2114-7E71-4D80-993D-7BB36F50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CFE10-30CF-42B4-95BE-DCBF2A14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0B255-15ED-4D02-AADF-A7D042E4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4DB6-F776-4627-8C92-4A20EC13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722D-3761-4AA2-B37B-ECBCD94B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6768-2C1D-4C3A-86CC-83EA1CE7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FE88-E17A-4055-AA6B-4ECE21DE7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7578-3937-4CFD-A630-B283D09918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ff"/>
                </a:solidFill>
                <a:latin typeface="Garamond"/>
              </a:rPr>
              <a:t>ТЕСТ - КОНТРОЛЬ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9.  На думку Муссоліні - більше населення -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 ) Більше солдат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 ) Більше солдат-більше могутності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Більше турбо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олітика нарощення озброєння це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 -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А ) протекціонізм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Б ) лібералізм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В ) мілітаризм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.Італія вступила у Першу світову війну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) в 1914 р. на боці Антант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 ) в 1915 р. на боці Троїстого союзу 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в 1915 р. на боці Антант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2. Після війни вона отримала такі території як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А ) Істрію, Далмацію, м. Трієст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Б  ) Тіроль , Істрію, колонії в Африці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В ) Далмацію, Тіроль, Албанію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3. Термін фашизм походить </a:t>
            </a:r>
            <a:br>
              <a:rPr sz="4000"/>
            </a:b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від слова , що в перекладі означає.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А  ) Велика сила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Б ) Зв'язка, пучок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В ) Здобути перемогу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5e5ff"/>
                </a:solidFill>
                <a:latin typeface="Garamond"/>
              </a:rPr>
              <a:t>4.Цей термін означає</a:t>
            </a:r>
            <a:br>
              <a:rPr sz="4800"/>
            </a:br>
            <a:r>
              <a:rPr b="1" lang="uk-UA" sz="4800" spc="-1" strike="noStrike">
                <a:solidFill>
                  <a:srgbClr val="e5e5ff"/>
                </a:solidFill>
                <a:latin typeface="Garamond"/>
              </a:rPr>
              <a:t>політичну владу не обмежену законам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А ) Диктатур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Б ) Лібералізм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В ) Тоталітариз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5. Муссоліні починав свою трудову</a:t>
            </a:r>
            <a:br>
              <a:rPr sz="4000"/>
            </a:b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діяльніст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А ) вчителем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Б ) залізничнико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В ) журналістом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6. “Революція у спальному вагоні” це-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 ) виселення Муссоліні за межі Швейцарії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) похід фашистів на Рим у       1922 р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реформа в галузі залізничного     будівництв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7. Лютеранський пакт був підписан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 )з Німеччиною в 1935 р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 ) з Швейцарією в 1925 р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з Ватиканом в 1929 р.</a:t>
            </a: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8. До керівництва корпорацій входили представн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А ) робітників, фашистської партії, торгівці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Б ) профспілок, фашистської партії, підприємці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В ) фашистської партії,  військові, профспілки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2:44:47Z</dcterms:created>
  <dc:creator>LUBOV3001</dc:creator>
  <dc:description/>
  <dc:language>en-US</dc:language>
  <cp:lastModifiedBy>Root</cp:lastModifiedBy>
  <dcterms:modified xsi:type="dcterms:W3CDTF">2013-06-03T06:18:19Z</dcterms:modified>
  <cp:revision>3</cp:revision>
  <dc:subject/>
  <dc:title>1.Італія вступила у Першу світову війну 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4000000000001024140</vt:lpwstr>
  </property>
</Properties>
</file>