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2CEC-5EC4-4353-A346-96D7EF73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8B5-0792-4FDF-8659-6ABFB96A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2D7F-1100-48FF-9A34-89E96D31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76D-4B0D-4B42-87F4-0D299873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9A21-AF4A-48A0-BF13-44C2A34F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B5B3-6874-455A-B621-80680906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15DE-DEC8-4802-9578-8698B7C6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3E67-10E4-4AE4-931B-3705C542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79BB-A232-4A88-9BC8-3616F729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FB02-27F4-4705-86DA-31CA17CB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BBB8-28B9-4A2A-B8D2-CF07409D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CFC8-821B-4EF6-9D6B-735B65B5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2879-F584-45D2-82E9-5D65978E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B84C-854A-4843-A5BF-B4CA94CC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338E-B787-4A96-8A67-B87953FB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445E-7875-40CF-BC89-BFA48F595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85D0-15B6-4374-93B8-4E75617A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D01F-7B0D-4973-A2B8-EB7089C5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4B52-D46B-48B9-B6E7-0FE7EE34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E252-286A-43D6-9184-AE1765D7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EA1A-46FE-41B1-B871-6C565F9A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9343-AAB8-4829-A1A4-49F43FEC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40AC-92A8-45BE-92B1-A18482F0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48E4-A4CC-4D9D-B135-66E56876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B7CF-A265-4DB2-9D0A-5A28F15735F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30F2-982E-4BF1-8624-13CCE5BC745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2789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Тема: Господарське і повсякденне життя Стародавнього Єгипту. Суспільство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9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Підготувал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09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учитель історії                                                      Конельськопопівської                                                                           загальноосвітньої                                                                           школи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 ступенів                                                                           Жашківської районної ради                                                                           Черкаської області                                                                           Дяченко Інна Миколаїв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Єгипетські хлібороб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70400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Невтомний Ніл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52680" y="1600200"/>
            <a:ext cx="60386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59767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Єгипетське поселенн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28840" y="1600200"/>
            <a:ext cx="6284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      </a:t>
            </a: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У пекарні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73040" y="1600200"/>
            <a:ext cx="63961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8244000" cy="60228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4546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       </a:t>
            </a: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Ткацтво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Раби у Давньому Єгипті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84280" y="1600200"/>
            <a:ext cx="6174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12:48:13Z</dcterms:created>
  <dc:creator>WiZaRd</dc:creator>
  <dc:description/>
  <dc:language>en-US</dc:language>
  <cp:lastModifiedBy>WiZaRd</cp:lastModifiedBy>
  <dcterms:modified xsi:type="dcterms:W3CDTF">2014-02-09T13:53:39Z</dcterms:modified>
  <cp:revision>11</cp:revision>
  <dc:subject/>
  <dc:title>Тема: Господарське і повсякденне життя Стародавнього Єгипту. Суспільств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c05000000000001024140</vt:lpwstr>
  </property>
</Properties>
</file>