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5C6-CAD9-4115-B528-05E5CB3F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547-151E-43D1-A3E7-979A0A37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523-09E1-463B-9CB6-3FDCF8F3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12F-C601-4409-905B-0D56B8BE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C165-5A41-420F-872A-C1F3C815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7305-8DC6-4C7C-8BD7-4DFB6935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535E-8C54-4A7E-8658-7DFCF539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0833-64A4-4929-84F3-7E83FA92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B978-50EA-4A9A-9157-C7B8F74E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C466-2538-42F1-9344-0A181F18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520A-A392-4D67-92DF-C0D316D4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DC2-6AD5-4D4A-A947-F25DF919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29AE-374C-4BDE-BEC4-634572A1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2A2B-DB62-4B52-879D-9FDA9CD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BEAC-E188-4E29-944F-075AA65E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1109-AAC4-47CD-AE2B-FCFDC415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9AF1-A327-4B35-B8C2-B0C30486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349-07DB-4B2B-B9A3-1EA15290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7B1-600B-4611-9842-C1FF8492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6B6-FF05-4F23-ADA5-026FAD12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28D-33E6-4433-9C90-ECCF8101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0F6-8E1F-48F9-A948-AD311096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D3A-912C-4145-845E-E91CC08E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77A-474A-4E61-AE11-AC63747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F880-1B1F-47BB-AC56-B1C90EF572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501B-99D8-437D-A971-66ED219B84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789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ема: Господарське і повсякденне життя Стародавнього Єгипту. Суспільств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9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Підготува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учитель історії                                                      Конельськопопівської                                                                           загальноосвітньої                                                                           школи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ступенів                                                                           Жашківської районної ради                                                                           Черкаської області                                                                           Дяченко Інна Миколаї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Єгипетські хлібороб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Невтомний Ніл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9767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Єгипетське поселен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28840" y="1600200"/>
            <a:ext cx="6284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      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У пекарні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3040" y="1600200"/>
            <a:ext cx="6396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8244000" cy="6022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546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       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кацтв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Раби у Давньому Єгипті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84280" y="1600200"/>
            <a:ext cx="6174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2:48:13Z</dcterms:created>
  <dc:creator>WiZaRd</dc:creator>
  <dc:description/>
  <dc:language>en-US</dc:language>
  <cp:lastModifiedBy>WiZaRd</cp:lastModifiedBy>
  <dcterms:modified xsi:type="dcterms:W3CDTF">2014-02-09T13:53:39Z</dcterms:modified>
  <cp:revision>11</cp:revision>
  <dc:subject/>
  <dc:title>Тема: Господарське і повсякденне життя Стародавнього Єгипту. Суспіль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5000000000001024140</vt:lpwstr>
  </property>
</Properties>
</file>