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2.gif" ContentType="image/gif"/>
  <Override PartName="/ppt/media/image17.jpeg" ContentType="image/jpeg"/>
  <Override PartName="/ppt/media/image16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9BF-1279-4ABD-8576-72957ACF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3CD-D87E-4B84-874B-4EDCCDA0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8E91B-F387-4CF8-A7ED-F744C077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255E0-85C8-4ADF-89E9-731DD9E8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FA339-22E0-4F32-A7A2-2B91E34C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9985D-EF27-410A-83CF-2A2303DE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A7977-E182-4470-8A2C-B431D573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75050-9E64-4B34-81D8-0449765F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1DCC0-FD67-4BFB-AB38-62354858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FF428-9175-4A05-80A5-15CDC6F6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84CFB-12D9-4658-95CA-252283AE1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327-294F-4BED-B229-CB42DC16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6DA0-6B10-427C-9BEA-0119A6C7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524A-8ADB-4AFE-9352-6251CADB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9FD9-BF54-4B02-9642-6B72FBFA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8BFA-1CA0-42A7-A487-A920E123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A07E-8519-4C79-974F-36B55E26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ED4E-1271-49B5-96E0-B0D65BF6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B64DB-AE9E-4D1D-8F4E-1EB2C5A9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1BB6-2812-457D-B3D5-7482A0D6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464C-A3DB-46A6-8EA6-4E206649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B2BA-43CA-4AE4-B868-447CC5D7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E0EB-B6D9-4648-A86E-679E792A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FC91-EA02-4A02-827F-44FBDFA1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F395-B394-4605-A365-D92E9D28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DD78-C8DB-4A7D-B411-7BEE8A896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4A09D-423F-4EB8-8372-627344F2D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AED8D-7F01-4FE3-80E5-A0DD088F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C0E1E6-6B90-4BA5-B69C-C28043FA6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DF0E3-7EAD-4AE3-967F-6345F54C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E1FEE-41C1-43E4-BB6A-BC7C65BF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4852-8FDB-4362-96CB-35819732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7BCE90-D41E-47BF-86BA-49CE492A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C5542-7E8E-4CB6-9881-B5F05A3B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2F6B5-CE8A-4CF1-9097-48E0BED0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90ECBB-9019-4570-A427-98774290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D380D7-8820-4486-95BD-2FFBBDE7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E9BB25-ADA1-4593-9CAB-52E27D178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C958C8-C56A-4BF6-9370-3EFD6414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4FAEE-E783-4D22-B461-02A8E52D1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46BB8-09A8-44B4-B2A0-9A4174A2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D7C6E6-C121-4249-AEDA-19239D3B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41F-A694-4EE7-B8A5-73C4AD30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B1B369-4EC9-4622-8DFB-0B05ACF8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5E47A-3520-40AC-AB2A-C57BF5A0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036043-E95A-46A1-B7E0-56C05077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84CAD-58A3-4CCD-BD9C-EB040F2E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3BC15-8D00-4924-B609-B7921F5D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49862D-BDDB-4B62-9A45-45088219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42D25-368F-43D2-9BBB-B5E72DB8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BA72E-81B3-48D8-B8A5-09506677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8DDFB0-D73E-41BC-81AB-548480729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F2F92-4613-48C1-873A-BFA71B87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B92-B7D3-42BD-AAA5-C6E39163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7B7424-11B3-4D9E-A876-A7B278429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3D833-EA25-4F83-983A-619290DA2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EBAA2E-27AB-479D-BD31-C2CA6E37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F7F2C1-9127-44C7-BDF0-A51A381F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E4618-643D-4A51-9EA1-1C005E6F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677912-41A8-4838-831E-1B5C64A5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5F2E4B-1A18-494F-ADC6-FFEA5E11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53643-FCD6-4A5E-9221-289319E5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D7A98-5399-4145-B83D-271C6CD2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8704A3-A3C8-45D7-AE8B-6E08AAE5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8A4-0787-4ECF-AA57-38993615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863C7-42CD-4A9B-AC5D-3E78478F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4C55C-C93F-46AC-AA8F-6BC2AFB4E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56B91-7B88-472C-8B56-7F197F2A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CD817-8961-4ADE-A1AD-0D8ADDB0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5F5B7-BC70-4272-806F-C2CB91BC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CA91E-1884-4AA5-B132-21C15490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ED6FF-A9FC-4DC2-9273-EB1CDEC5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0A8D1-6AFD-4E6A-985F-E1E3D365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BC55F-E366-494F-911E-D8005BC5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3F88F-BC08-4E94-B5CD-020FC8A2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8F0C-8653-415A-A331-680804AA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5F217-42C4-4EDA-8612-7703FD3D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9A2A4-A8BA-4EE7-826A-D99899A88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6531C-E4AE-40E3-B2C6-206A4B41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1BE67F-15CD-4C7A-BB69-4F87D3F1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842479-3227-47EB-BD6C-86D342F8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76A6BA-1FC6-45A9-B159-27CBA4D0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5F195D-13F0-4556-8168-563F8931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E7A000-EE6B-4F8E-808C-341DF663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D2C504-C52F-4F81-9CED-801E4061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A3A36A-125C-4A62-9D3D-5ECD5CAE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CDA-F285-4182-A120-3271D4F5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E369FD-D2F4-42F5-ACB6-83A1E2FE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CC47C-E8D2-4BDF-A92B-77EC6803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2D19F2-82C9-4653-8522-1CD5E6C1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0F4015-226A-4E26-85E3-185F2B47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C3297-389E-4AFC-8A21-53766916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894A9-696E-4B59-B898-D541AF75B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0FF01-D284-4EC2-BA77-63A39217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3ECE9-AF12-4138-959E-18B5CCF7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20CBC-2A76-49FD-A000-7F11F7B7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A7F68-E255-4A04-8FCB-B853D7B6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72FD-779B-4483-A84B-F4F55AE0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60699-2EB1-40D9-9FE4-19FDAFAA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BC2DA-615A-4680-99B5-C5F98A3C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C2370-9851-4928-A292-7625181A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3CC1F-377F-49ED-8B54-8CAFF02C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8FD43-0CF8-40BD-9E8C-10C510F9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62B10-9293-43AA-B756-72ED2D4A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97DBB-4B96-4552-A4AB-3DEB509A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08C3B-6959-4DCC-B079-531C6056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7BAD4-307E-468F-B440-59E3A9795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F522C0-EF36-47D5-BFDA-E7258AD1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FBB6-B852-42C3-9E39-B7E236B154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E9841889-1556-498B-926B-E7B65E808B35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1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2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2C73C-3835-48EE-A1E7-CD40550B5175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1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2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431B-FDCF-4700-B949-1064DDC3BCE2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F7F75CF-BD66-4EC0-9684-801501E355E0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3319-EFE7-41C2-94AC-40AC04B9799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55B99FE3-A215-42ED-9ADD-AAF3C2B395A4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D0FD-459C-49C4-8A4F-FEDA0A0605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CB4E-835B-4740-8717-1072651BC2C1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11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12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CB4D-D5D9-408E-B7AF-06BC9EFF3083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1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12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E012-AC49-4CB4-9438-052AA44CB9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27" descr="Sansbvcbdsfstitre-1sdfsfs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8"/>
          <p:cNvSpPr/>
          <p:nvPr/>
        </p:nvSpPr>
        <p:spPr>
          <a:xfrm>
            <a:off x="755136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age </a:t>
            </a:r>
            <a:fld id="{F89F7948-9937-4445-8636-98C3F6F2E6B7}" type="slidenum">
              <a:rPr b="1" lang="fr-F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471D-5CB0-4214-B85F-6C9E190CBBD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7.jpeg"/><Relationship Id="rId4" Type="http://schemas.openxmlformats.org/officeDocument/2006/relationships/image" Target="../media/image21.jpeg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7"/>
          <p:cNvSpPr/>
          <p:nvPr/>
        </p:nvSpPr>
        <p:spPr>
          <a:xfrm>
            <a:off x="2643120" y="1515240"/>
            <a:ext cx="650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лан урок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66"/>
              </a:buClr>
              <a:buFont typeface="Arial"/>
              <a:buAutoNum type="arabicPeriod"/>
              <a:tabLst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Географічне положення та природа Давньо</a:t>
            </a:r>
            <a:r>
              <a:rPr b="1" lang="uk-UA" sz="2400" spc="-1" strike="noStrike">
                <a:solidFill>
                  <a:srgbClr val="ff0066"/>
                </a:solidFill>
                <a:latin typeface="Arial"/>
              </a:rPr>
              <a:t>ї</a:t>
            </a: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 Гре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2. Основні заняття насе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. Мінойська палацова цивілізаці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5"/>
          <p:cNvSpPr/>
          <p:nvPr/>
        </p:nvSpPr>
        <p:spPr>
          <a:xfrm>
            <a:off x="1143000" y="2142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ція в І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—першій половині І тис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6"/>
          <p:cNvSpPr/>
          <p:nvPr/>
        </p:nvSpPr>
        <p:spPr>
          <a:xfrm>
            <a:off x="2928960" y="642960"/>
            <a:ext cx="535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й населення Давньої Гре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9" name=""/>
          <p:cNvGraphicFramePr/>
          <p:nvPr/>
        </p:nvGraphicFramePr>
        <p:xfrm>
          <a:off x="71280" y="357120"/>
          <a:ext cx="8858520" cy="92880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928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аї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ографічн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ташуванн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чки, гори, пустел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і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рисні копа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71280" y="1357200"/>
          <a:ext cx="8858520" cy="357192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3571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реці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івдень Європи, Балканський пів-ов.Омивається морями: Егейським, Іонічним, Критським, Середземним. Велика кількість островів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ерегова смуга створює безліч заток, бухт, прото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ічки — бурхливі восени і взимку, а навесні переси-хаю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Балканські гор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емля - кам’яниста, неродюч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котний, посушли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алізо, мідь, срібло та г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71280" y="4929120"/>
          <a:ext cx="8858520" cy="1857600"/>
        </p:xfrm>
        <a:graphic>
          <a:graphicData uri="http://schemas.openxmlformats.org/drawingml/2006/table">
            <a:tbl>
              <a:tblPr/>
              <a:tblGrid>
                <a:gridCol w="928800"/>
                <a:gridCol w="2571840"/>
                <a:gridCol w="2428920"/>
                <a:gridCol w="1714320"/>
                <a:gridCol w="1214640"/>
              </a:tblGrid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Єгип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івнічний схі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фрики. На півночі омивається Середземним море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овноводна річка — Ніл. Волога, родюча земля після розливу Нілу. Пуст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ах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пекотне, сухе  повітря, гарячі вітри, відсутність дощі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амі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0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3840" y="142920"/>
            <a:ext cx="8643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                                                    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Єгипет</a:t>
            </a: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3" name="Прямоугольник 7"/>
          <p:cNvSpPr/>
          <p:nvPr/>
        </p:nvSpPr>
        <p:spPr>
          <a:xfrm>
            <a:off x="285840" y="4786200"/>
            <a:ext cx="8572320" cy="13575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Яка  відмінність вплинула на заняття населення Давньої Греції? Доведіть свою точку з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1"/>
          <p:cNvSpPr/>
          <p:nvPr/>
        </p:nvSpPr>
        <p:spPr>
          <a:xfrm>
            <a:off x="3143160" y="2000160"/>
            <a:ext cx="285768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мін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2"/>
          <p:cNvSpPr/>
          <p:nvPr/>
        </p:nvSpPr>
        <p:spPr>
          <a:xfrm>
            <a:off x="3143160" y="642960"/>
            <a:ext cx="2857680" cy="4856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піль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3"/>
          <p:cNvSpPr/>
          <p:nvPr/>
        </p:nvSpPr>
        <p:spPr>
          <a:xfrm>
            <a:off x="2428920" y="1143000"/>
            <a:ext cx="4286160" cy="843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Жаркий кліма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рідко йдуть дощ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оугольник 14"/>
          <p:cNvSpPr/>
          <p:nvPr/>
        </p:nvSpPr>
        <p:spPr>
          <a:xfrm>
            <a:off x="214200" y="2571840"/>
            <a:ext cx="5572080" cy="214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У Греції немає повноводних рі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– гірська 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Земля – кам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яниста, неродю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Греція – морська краї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Має запаси корисних копа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9"/>
          <p:cNvSpPr/>
          <p:nvPr/>
        </p:nvSpPr>
        <p:spPr>
          <a:xfrm>
            <a:off x="1785960" y="214200"/>
            <a:ext cx="5572080" cy="3574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риродно – кліматичні ум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1357200" cy="1701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" descr=""/>
          <p:cNvPicPr/>
          <p:nvPr/>
        </p:nvPicPr>
        <p:blipFill>
          <a:blip r:embed="rId2"/>
          <a:stretch/>
        </p:blipFill>
        <p:spPr>
          <a:xfrm>
            <a:off x="7929720" y="0"/>
            <a:ext cx="1214280" cy="16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 repeatCount="100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 repeatCount="100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няття населення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0" y="3428640"/>
            <a:ext cx="9144000" cy="3429000"/>
          </a:xfrm>
          <a:prstGeom prst="rect">
            <a:avLst/>
          </a:prstGeom>
          <a:solidFill>
            <a:srgbClr val="558bb8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емлеробство – у долинах річок вирощували зернові й овочі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отарство - на схилах пагорбів та гір влаштовували тераси, де зростав виноград, оливкові дерева, випасали кіз, овець, корів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месло – металургія, ковальство, гончарство, ткацтво, ювелірна справа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иболовство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Кораблебудування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еплавство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609480" indent="-609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орська торгівля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3" name="Picture 5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1" descr="Рисунок1"/>
          <p:cNvPicPr/>
          <p:nvPr/>
        </p:nvPicPr>
        <p:blipFill>
          <a:blip r:embed="rId1"/>
          <a:stretch/>
        </p:blipFill>
        <p:spPr>
          <a:xfrm>
            <a:off x="3186000" y="0"/>
            <a:ext cx="5958000" cy="685800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3" descr=""/>
          <p:cNvPicPr/>
          <p:nvPr/>
        </p:nvPicPr>
        <p:blipFill>
          <a:blip r:embed="rId2"/>
          <a:stretch/>
        </p:blipFill>
        <p:spPr>
          <a:xfrm>
            <a:off x="4857840" y="2786040"/>
            <a:ext cx="725400" cy="392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" descr=""/>
          <p:cNvPicPr/>
          <p:nvPr/>
        </p:nvPicPr>
        <p:blipFill>
          <a:blip r:embed="rId3"/>
          <a:stretch/>
        </p:blipFill>
        <p:spPr>
          <a:xfrm>
            <a:off x="4857840" y="4000680"/>
            <a:ext cx="714240" cy="30132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213840" y="285480"/>
            <a:ext cx="2786040" cy="601668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У давнину греки плавали головним чином вздовж східного берега і не виходили у відкрите море. Як ви це можете пояснити ?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89" name="Picture 6" descr="Рисунок3"/>
          <p:cNvPicPr/>
          <p:nvPr/>
        </p:nvPicPr>
        <p:blipFill>
          <a:blip r:embed="rId4"/>
          <a:stretch/>
        </p:blipFill>
        <p:spPr>
          <a:xfrm>
            <a:off x="285840" y="4143240"/>
            <a:ext cx="1860480" cy="1040040"/>
          </a:xfrm>
          <a:prstGeom prst="rect">
            <a:avLst/>
          </a:prstGeom>
          <a:ln w="0">
            <a:noFill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</p:pic>
      <p:pic>
        <p:nvPicPr>
          <p:cNvPr id="490" name="Picture 7" descr="Рисунок4"/>
          <p:cNvPicPr/>
          <p:nvPr/>
        </p:nvPicPr>
        <p:blipFill>
          <a:blip r:embed="rId5"/>
          <a:stretch/>
        </p:blipFill>
        <p:spPr>
          <a:xfrm>
            <a:off x="285840" y="5286240"/>
            <a:ext cx="1857240" cy="986040"/>
          </a:xfrm>
          <a:prstGeom prst="rect">
            <a:avLst/>
          </a:prstGeom>
          <a:ln w="0">
            <a:noFill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</p:pic>
      <p:sp>
        <p:nvSpPr>
          <p:cNvPr id="491" name="Прямоугольник 8"/>
          <p:cNvSpPr/>
          <p:nvPr/>
        </p:nvSpPr>
        <p:spPr>
          <a:xfrm>
            <a:off x="142920" y="0"/>
            <a:ext cx="2928960" cy="52149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Егейське море має хвилясту берегову смугу й густо розкидані ост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Відстань між ними не більше 50 км і гори видно здал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Грецькі кораблі були  невеликими,  легкими, не витримували штормів; великій команді не вистачало запасів їжі та води; у греків не було компа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2.96296E-006 C 0.00938 -0.00324 0.00574 -0.00532 0.01216 -0.01227 C 0.01806 -0.01852 0.02431 -0.02454 0.03039 -0.03032 C 0.03525 -0.03495 0.04063 -0.0382 0.04549 -0.04259 C 0.04706 -0.04398 0.05001 -0.04653 0.05001 -0.04653 C 0.06372 -0.04583 0.07744 -0.04583 0.09098 -0.04445 C 0.09601 -0.04398 0.10608 -0.04051 0.10608 -0.04051 C 0.11077 -0.03426 0.11338 -0.02639 0.11824 -0.02037 C 0.12015 -0.01296 0.12258 -0.00648 0.1257 2.96296E-006 C 0.12692 0.01134 0.12588 0.02338 0.12883 0.03426 C 0.129 0.03449 0.13768 0.03819 0.13785 0.03819 C 0.14185 0.03958 0.15001 0.04236 0.15001 0.04236 C 0.15504 0.0618 0.14792 0.03241 0.15313 0.08264 C 0.15331 0.08472 0.15417 0.0787 0.15452 0.07662 C 0.15574 0.06805 0.1566 0.05926 0.15765 0.05046 C 0.15643 0.04143 0.15574 0.02546 0.15157 0.01597 C 0.14862 0.00926 0.13785 0.00185 0.13785 0.00185 C 0.13629 -0.02107 0.13699 -0.04421 0.13334 -0.06667 C 0.13265 -0.0706 0.12831 -0.07107 0.1257 -0.07292 C 0.10608 -0.08657 0.09792 -0.09352 0.07883 -0.09907 C 0.07674 -0.10046 0.0731 -0.10023 0.07275 -0.10324 C 0.0724 -0.10648 0.07518 -0.10949 0.07726 -0.11111 C 0.08039 -0.11366 0.08438 -0.11366 0.08785 -0.11528 C 0.0981 -0.11991 0.10713 -0.12546 0.11824 -0.12546 E">
                                      <p:cBhvr>
                                        <p:cTn id="290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7037E-006 C 0.00503 0.00463 0.00764 0.01042 0.01198 0.0162 C 0.01406 0.02708 0.01545 0.03403 0.02257 0.04051 C 0.02517 0.05023 0.02847 0.05694 0.03472 0.06273 C 0.03715 0.07222 0.03993 0.08148 0.04236 0.09097 C 0.04288 0.10232 0.04201 0.11412 0.04392 0.12523 C 0.04427 0.12732 0.04687 0.12662 0.04844 0.12732 C 0.05087 0.12847 0.05347 0.12963 0.0559 0.13125 C 0.06267 0.13565 0.06823 0.14097 0.07569 0.14352 C 0.07691 0.14792 0.0816 0.17014 0.08333 0.17176 C 0.08628 0.17431 0.09045 0.17315 0.09392 0.17384 C 0.11406 0.17176 0.13455 0.17222 0.15451 0.16759 C 0.15642 0.16713 0.15486 0.16204 0.1559 0.15972 C 0.16007 0.14954 0.16562 0.13843 0.17118 0.1294 C 0.17517 0.11181 0.17292 0.10046 0.17118 0.08287 C 0.16528 0.02384 0.17673 0.0412 0.16198 0.02222 C 0.16094 0.01944 0.1592 0.01713 0.15903 0.01412 C 0.15833 0.00671 0.16493 0.00046 0.1559 0.01204 C 0.15486 0.00995 0.15295 0.00833 0.15295 0.00602 C 0.15295 -0.00185 0.16614 -0.00995 0.16962 -0.01204 C 0.18351 -0.02037 0.17708 -0.02014 0.18333 -0.02014 E">
                                      <p:cBhvr>
                                        <p:cTn id="294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У ІІІ тис. до н.е. на півострові Пелопоннес, островах Егейського моря виникла цивілізація з центром на острові Крит. Жителів Крита називали пелазгами. </a:t>
            </a: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93" name="Picture 8" descr="Рисунок9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960800" y="1500120"/>
            <a:ext cx="4183200" cy="5143680"/>
          </a:xfrm>
          <a:prstGeom prst="rect">
            <a:avLst/>
          </a:prstGeom>
          <a:ln w="76320">
            <a:solidFill>
              <a:srgbClr val="775f55"/>
            </a:solidFill>
            <a:miter/>
          </a:ln>
        </p:spPr>
      </p:pic>
      <p:sp>
        <p:nvSpPr>
          <p:cNvPr id="494" name=""/>
          <p:cNvSpPr txBox="1"/>
          <p:nvPr/>
        </p:nvSpPr>
        <p:spPr>
          <a:xfrm>
            <a:off x="214200" y="1213920"/>
            <a:ext cx="4500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іфи – джерело знань з історії Давньої Греції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5" name="Picture 13" descr="ar41"/>
          <p:cNvPicPr/>
          <p:nvPr/>
        </p:nvPicPr>
        <p:blipFill>
          <a:blip r:embed="rId2"/>
          <a:stretch/>
        </p:blipFill>
        <p:spPr>
          <a:xfrm>
            <a:off x="5143680" y="557208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496" name="Прямоугольник 6"/>
          <p:cNvSpPr/>
          <p:nvPr/>
        </p:nvSpPr>
        <p:spPr>
          <a:xfrm>
            <a:off x="214200" y="3286080"/>
            <a:ext cx="4500720" cy="32148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Ознайомтеся зі змістом міфа про Тесея та Мінотав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Чи є міф про Тесея та Мінотавра лише легендою, фантастичним оповідання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Поясніть, що означає крилатий висл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Нитка Аріадни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10"/>
          <p:cNvSpPr/>
          <p:nvPr/>
        </p:nvSpPr>
        <p:spPr>
          <a:xfrm>
            <a:off x="214200" y="2000160"/>
            <a:ext cx="4500720" cy="11430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Міфи - розповіді про богів, героїв, що відбивають фантастичні уявлення давніх людей про світ, природу і людське житт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uk-UA" sz="2800" spc="-1" strike="noStrike">
                <a:solidFill>
                  <a:srgbClr val="ff0000"/>
                </a:solidFill>
                <a:latin typeface="Calibri"/>
              </a:rPr>
              <a:t>Міфи – джерело знань з історії Давньої Греції 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428720" y="785880"/>
            <a:ext cx="47149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-60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іф про Тесея та Мінотавра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рит – острів, який лежить на південь від Греції, в Середземному морі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Кносс – столиця Криту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с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(син бога Зевса) –цар острова Крит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ріадна – дочка царя Мінос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Лабіринт –палац із чисельними кімнатами та заплутаною системою переходів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інотавр – чудовисько, напівлюдина – напівбик, яке Мінос поселив у Лабіринті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Афіни – місто  в Аттиці (область Середньої Греції)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Егей – правитель Афін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Тесей – син Еге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60480" indent="-6048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0" name="Объект 4" descr=""/>
          <p:cNvPicPr/>
          <p:nvPr/>
        </p:nvPicPr>
        <p:blipFill>
          <a:blip r:embed="rId1"/>
          <a:stretch/>
        </p:blipFill>
        <p:spPr>
          <a:xfrm>
            <a:off x="142920" y="1143000"/>
            <a:ext cx="1957320" cy="271476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14"/>
          <p:cNvSpPr/>
          <p:nvPr/>
        </p:nvSpPr>
        <p:spPr>
          <a:xfrm>
            <a:off x="2357280" y="1143000"/>
            <a:ext cx="2000520" cy="25718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3"/>
          <a:stretch/>
        </p:blipFill>
        <p:spPr>
          <a:xfrm>
            <a:off x="1357200" y="4000680"/>
            <a:ext cx="1928880" cy="2517480"/>
          </a:xfrm>
          <a:prstGeom prst="rect">
            <a:avLst/>
          </a:prstGeom>
          <a:ln w="0">
            <a:noFill/>
          </a:ln>
        </p:spPr>
      </p:pic>
      <p:sp>
        <p:nvSpPr>
          <p:cNvPr id="503" name="Прямоугольник 16"/>
          <p:cNvSpPr/>
          <p:nvPr/>
        </p:nvSpPr>
        <p:spPr>
          <a:xfrm>
            <a:off x="4714920" y="5072040"/>
            <a:ext cx="4214880" cy="12715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У міфі про Тесея та Мінотавра описуються історичні поді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8"/>
          <p:cNvSpPr/>
          <p:nvPr/>
        </p:nvSpPr>
        <p:spPr>
          <a:xfrm>
            <a:off x="4714920" y="5072040"/>
            <a:ext cx="4214880" cy="134316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Могутнє Критське царство підкорило сусідні острови і деякі області Балканського півострова. Підкорені народи сплачували Криту дан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Робота з підручником </a:t>
            </a:r>
            <a:r>
              <a:rPr b="1" lang="en-US" sz="2800" spc="-1" strike="noStrike">
                <a:solidFill>
                  <a:srgbClr val="ff0000"/>
                </a:solidFill>
                <a:latin typeface="Tw Cen MT"/>
                <a:ea typeface="Times New Roman"/>
              </a:rPr>
              <a:t>§</a:t>
            </a:r>
            <a:r>
              <a:rPr b="1" lang="uk-UA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25, п.2,3 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6760" y="928800"/>
            <a:ext cx="808668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Хто і коли відкрив цивілізацію на острові Крит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Яку  назву  отримала ця цивілізація. Чому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одовжіть речення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Час існування цивілізації на острові Крит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еріод розквіту цивілізації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заняття жителів Криту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- Наведіть приклади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культурних досягнень на Криті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Що дозволило Криту стати володарем над усіма державами Східного Середземномор’я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Як загинула цивілізація на острові Крит?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285800" y="285840"/>
            <a:ext cx="43578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4960" indent="96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́ртур Е́ванс —      британський археолог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 період 1899—1930 рр. (з перервами) вів розкопки на острові </a:t>
            </a:r>
            <a:r>
              <a:rPr b="1" lang="ru-RU" sz="2400" spc="-1" strike="noStrike">
                <a:solidFill>
                  <a:srgbClr val="775f55"/>
                </a:solidFill>
                <a:latin typeface="Calibri"/>
                <a:ea typeface="Times New Roman"/>
              </a:rPr>
              <a:t>Крит,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е відкрив залишки палацу в Кноссі (Лаб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инту) і детально вивчив культуру епохи бронзи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відому до того культуру назвав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804960" indent="9684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08" name="Picture 2" descr="C:\Documents and Settings\User\Рабочий стол\Греція\загруженное.jpg"/>
          <p:cNvPicPr/>
          <p:nvPr/>
        </p:nvPicPr>
        <p:blipFill>
          <a:blip r:embed="rId1"/>
          <a:stretch/>
        </p:blipFill>
        <p:spPr>
          <a:xfrm>
            <a:off x="0" y="357120"/>
            <a:ext cx="4000680" cy="5214960"/>
          </a:xfrm>
          <a:prstGeom prst="rect">
            <a:avLst/>
          </a:prstGeom>
          <a:ln w="0">
            <a:noFill/>
          </a:ln>
        </p:spPr>
      </p:pic>
      <p:sp>
        <p:nvSpPr>
          <p:cNvPr id="509" name="Прямоугольник 3"/>
          <p:cNvSpPr/>
          <p:nvPr/>
        </p:nvSpPr>
        <p:spPr>
          <a:xfrm>
            <a:off x="5429160" y="5286240"/>
            <a:ext cx="3429000" cy="92880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Мінойською палацов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цивілізаціє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0.06522 L 0.00625 -0.23312 E">
                                      <p:cBhvr>
                                        <p:cTn id="340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-360" y="428400"/>
            <a:ext cx="428148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Час існування цивілізації на острові Крит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еріод розквіту цивілізації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Основні заняття жителів Криту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603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Прямоугольник 5"/>
          <p:cNvSpPr/>
          <p:nvPr/>
        </p:nvSpPr>
        <p:spPr>
          <a:xfrm>
            <a:off x="5857920" y="428760"/>
            <a:ext cx="307188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3500-1100 рр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6"/>
          <p:cNvSpPr/>
          <p:nvPr/>
        </p:nvSpPr>
        <p:spPr>
          <a:xfrm>
            <a:off x="5857920" y="1214280"/>
            <a:ext cx="314316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w Cen MT"/>
              </a:rPr>
              <a:t>XVI –XV</a:t>
            </a: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 ст. до н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8"/>
          <p:cNvSpPr/>
          <p:nvPr/>
        </p:nvSpPr>
        <p:spPr>
          <a:xfrm>
            <a:off x="4429080" y="2571840"/>
            <a:ext cx="4714920" cy="1928880"/>
          </a:xfrm>
          <a:prstGeom prst="rect">
            <a:avLst/>
          </a:prstGeom>
          <a:solidFill>
            <a:srgbClr val="ffffff"/>
          </a:solidFill>
          <a:ln w="324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емлеробство, ремесло, будівництво, кораблебудування, мореплав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морська торгів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84 0.04417 L -0.29271 0.05458 E">
                                      <p:cBhvr>
                                        <p:cTn id="352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302 0.02405 L -0.3125 0.04209 E">
                                      <p:cBhvr>
                                        <p:cTn id="362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4236 -0.01549 L -0.32101 -0.01549 E">
                                      <p:cBhvr>
                                        <p:cTn id="372" dur="2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609120" y="4214880"/>
            <a:ext cx="3319560" cy="18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5" name="Содержимое 7" descr="12.jpg"/>
          <p:cNvPicPr/>
          <p:nvPr/>
        </p:nvPicPr>
        <p:blipFill>
          <a:blip r:embed="rId1"/>
          <a:stretch/>
        </p:blipFill>
        <p:spPr>
          <a:xfrm>
            <a:off x="4929120" y="192888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285840" y="214200"/>
            <a:ext cx="4039920" cy="150048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775f55"/>
                </a:solidFill>
                <a:latin typeface="Calibri"/>
              </a:rPr>
              <a:t>Міста: Кносс, Фест, Малія, Закро.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900" spc="-1" strike="noStrike">
                <a:solidFill>
                  <a:srgbClr val="775f55"/>
                </a:solidFill>
                <a:latin typeface="Calibri"/>
              </a:rPr>
              <a:t>Розвинені архітектура (палаци), живопис (мозаїка)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14560" y="214200"/>
            <a:ext cx="4041720" cy="150048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Розвинена система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писемності – письмо “А”,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75f55"/>
                </a:solidFill>
                <a:latin typeface="Calibri"/>
              </a:rPr>
              <a:t>Письмо “Б”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18" name="Picture 4" descr="дворец миноса 1"/>
          <p:cNvPicPr/>
          <p:nvPr/>
        </p:nvPicPr>
        <p:blipFill>
          <a:blip r:embed="rId2"/>
          <a:stretch/>
        </p:blipFill>
        <p:spPr>
          <a:xfrm>
            <a:off x="285840" y="1928880"/>
            <a:ext cx="3500280" cy="46432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Крит 024"/>
          <p:cNvPicPr/>
          <p:nvPr/>
        </p:nvPicPr>
        <p:blipFill>
          <a:blip r:embed="rId3"/>
          <a:stretch/>
        </p:blipFill>
        <p:spPr>
          <a:xfrm>
            <a:off x="285840" y="19288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" descr="knossos[1]"/>
          <p:cNvPicPr/>
          <p:nvPr/>
        </p:nvPicPr>
        <p:blipFill>
          <a:blip r:embed="rId4"/>
          <a:stretch/>
        </p:blipFill>
        <p:spPr>
          <a:xfrm>
            <a:off x="285840" y="1928880"/>
            <a:ext cx="3714840" cy="4714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" descr="1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285840" y="1928880"/>
            <a:ext cx="3643200" cy="47149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fr_pro[1]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85840" y="1857240"/>
            <a:ext cx="3714840" cy="47865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1f18e921f2f1[1]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285840" y="1857240"/>
            <a:ext cx="37148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7"/>
          <p:cNvSpPr/>
          <p:nvPr/>
        </p:nvSpPr>
        <p:spPr>
          <a:xfrm>
            <a:off x="2843280" y="124452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733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5"/>
          <p:cNvSpPr/>
          <p:nvPr/>
        </p:nvSpPr>
        <p:spPr>
          <a:xfrm>
            <a:off x="3071880" y="642960"/>
            <a:ext cx="5857920" cy="62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ва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рті територію Давньої Греці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начат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плив географічного положення та природних умов на життя людей на Балканському півострові та островах Егейського мор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осовувати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 </a:t>
            </a: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ти 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икладах поняття і терміни: “античність”, “елліни”, “грецькі міфи”, “цивілізація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одити приклади 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их досягнень на Криті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снюват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ідомі крилаті висл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досконалит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іння працювати з підручником, аналізувати та порівнювати, історичні факти, висловлювати власну думку, критично мислити.</a:t>
            </a:r>
            <a:r>
              <a:rPr b="1" lang="uk-U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5"/>
          <p:cNvSpPr/>
          <p:nvPr/>
        </p:nvSpPr>
        <p:spPr>
          <a:xfrm>
            <a:off x="2857680" y="14292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Після  цього  уроку ви зможе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775f55"/>
                </a:solidFill>
                <a:latin typeface="Calibri"/>
              </a:rPr>
              <a:t>Що дозволило Криту стати володарем над усіма державами Східного Середземномор’я?</a:t>
            </a:r>
            <a:br>
              <a:rPr sz="4000"/>
            </a:br>
            <a:endParaRPr b="0" lang="en-US" sz="2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6" name="Прямоугольник 3"/>
          <p:cNvSpPr/>
          <p:nvPr/>
        </p:nvSpPr>
        <p:spPr>
          <a:xfrm>
            <a:off x="714240" y="4429080"/>
            <a:ext cx="3571920" cy="214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На Криті існувала могутня держава, яка міцніла й багатіла завдяки праці поневолених народ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" descr=""/>
          <p:cNvPicPr/>
          <p:nvPr/>
        </p:nvPicPr>
        <p:blipFill>
          <a:blip r:embed="rId1"/>
          <a:stretch/>
        </p:blipFill>
        <p:spPr>
          <a:xfrm>
            <a:off x="5108400" y="3071880"/>
            <a:ext cx="3821400" cy="3286080"/>
          </a:xfrm>
          <a:prstGeom prst="rect">
            <a:avLst/>
          </a:prstGeom>
          <a:ln w="0">
            <a:noFill/>
          </a:ln>
        </p:spPr>
      </p:pic>
      <p:sp>
        <p:nvSpPr>
          <p:cNvPr id="528" name="Прямоугольник 5"/>
          <p:cNvSpPr/>
          <p:nvPr/>
        </p:nvSpPr>
        <p:spPr>
          <a:xfrm>
            <a:off x="5500800" y="4214880"/>
            <a:ext cx="3286080" cy="105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4b6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Бойовий флот, який захищав прибрежні води Кр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6"/>
          <p:cNvSpPr/>
          <p:nvPr/>
        </p:nvSpPr>
        <p:spPr>
          <a:xfrm>
            <a:off x="642960" y="4429080"/>
            <a:ext cx="3643200" cy="21430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цей час  народи Євро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жили первісним лад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м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жави,  законів, писемност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-0.01573 L 0.00226 -0.34875 E">
                                      <p:cBhvr>
                                        <p:cTn id="464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27567E-006 L -1.38889E-006 -0.33303 E">
                                      <p:cBhvr>
                                        <p:cTn id="480" dur="2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808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Загибель  Критської цивілізації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5000400" y="1500120"/>
            <a:ext cx="3887640" cy="4608720"/>
          </a:xfrm>
          <a:prstGeom prst="rect">
            <a:avLst/>
          </a:prstGeom>
          <a:solidFill>
            <a:srgbClr val="558bb8"/>
          </a:solidFill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XV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т. до н.е.  -виверження вулкану на острові Фера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торгнення  племен ахейців, що мешкали на півдні Балкан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2" name="Picture 5" descr="1"/>
          <p:cNvPicPr/>
          <p:nvPr/>
        </p:nvPicPr>
        <p:blipFill>
          <a:blip r:embed="rId1"/>
          <a:stretch/>
        </p:blipFill>
        <p:spPr>
          <a:xfrm>
            <a:off x="214200" y="1143000"/>
            <a:ext cx="4429080" cy="5500800"/>
          </a:xfrm>
          <a:prstGeom prst="rect">
            <a:avLst/>
          </a:prstGeom>
          <a:ln w="76320">
            <a:solidFill>
              <a:srgbClr val="775f55"/>
            </a:solidFill>
            <a:miter/>
          </a:ln>
        </p:spPr>
      </p:pic>
      <p:pic>
        <p:nvPicPr>
          <p:cNvPr id="533" name="EXPL1954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mediacall" presetID="2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2" dur="1" fill="hold"/>
                                        <p:tgtEl>
                                          <p:spTgt spid="5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Деякі  дослідники  історії Давньої  Греції вважають, що «Море цивілізувало греків». Чи згодні ви з цим твердженням? Свою відповідь поясніть, спираючись на історичні факти.</a:t>
            </a:r>
            <a:br>
              <a:rPr sz="28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12720" y="1928520"/>
            <a:ext cx="815328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Родючої землі у Греції мало, повноводних річок немає, тому створити іригаційну систему, як у країнах Сходу, було неможливо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Багатством Греції були моря: зручні бухти, чисельні острови, що розташовувалися недалеко один від одного, створювали умови для розвитку мореплавства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Ставши мореплавцями, греки створили розвинені цивілізації. 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Прикладом є найдавніша  цивілізація  в  Європі, що виникла на острові Крит</a:t>
            </a:r>
            <a:r>
              <a:rPr b="1" i="1" lang="uk-U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53640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0" y="0"/>
          <a:ext cx="5000760" cy="6842160"/>
        </p:xfrm>
        <a:graphic>
          <a:graphicData uri="http://schemas.openxmlformats.org/drawingml/2006/table">
            <a:tbl>
              <a:tblPr/>
              <a:tblGrid>
                <a:gridCol w="500076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еція розташована н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вострів омивається морями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и поділяють країну на частин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вища гор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78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вні греки називали свою країну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авніша цивілізація в Європі виникла н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давніша цивілізація в Європі  була відкрита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іод розквіту найдавнішої цивілізації  в Європі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537" name="Прямоугольник 2"/>
          <p:cNvSpPr/>
          <p:nvPr/>
        </p:nvSpPr>
        <p:spPr>
          <a:xfrm>
            <a:off x="5643720" y="285840"/>
            <a:ext cx="3500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Балканському півостров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3"/>
          <p:cNvSpPr/>
          <p:nvPr/>
        </p:nvSpPr>
        <p:spPr>
          <a:xfrm>
            <a:off x="5214960" y="928800"/>
            <a:ext cx="37861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Егейським, Іонічним, Критським, Середзем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5"/>
          <p:cNvSpPr/>
          <p:nvPr/>
        </p:nvSpPr>
        <p:spPr>
          <a:xfrm>
            <a:off x="5214960" y="1857240"/>
            <a:ext cx="3929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Північну, Середню, Пелопонн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6"/>
          <p:cNvSpPr/>
          <p:nvPr/>
        </p:nvSpPr>
        <p:spPr>
          <a:xfrm>
            <a:off x="5214960" y="2786040"/>
            <a:ext cx="3786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Олім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7"/>
          <p:cNvSpPr/>
          <p:nvPr/>
        </p:nvSpPr>
        <p:spPr>
          <a:xfrm>
            <a:off x="5214960" y="3429000"/>
            <a:ext cx="37861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Елл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8"/>
          <p:cNvSpPr/>
          <p:nvPr/>
        </p:nvSpPr>
        <p:spPr>
          <a:xfrm>
            <a:off x="5357880" y="4643280"/>
            <a:ext cx="35002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Крит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9"/>
          <p:cNvSpPr/>
          <p:nvPr/>
        </p:nvSpPr>
        <p:spPr>
          <a:xfrm>
            <a:off x="5357880" y="5286240"/>
            <a:ext cx="3500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Артуром Еван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10"/>
          <p:cNvSpPr/>
          <p:nvPr/>
        </p:nvSpPr>
        <p:spPr>
          <a:xfrm>
            <a:off x="5286240" y="6286680"/>
            <a:ext cx="3714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XVI – XV </a:t>
            </a:r>
            <a:r>
              <a:rPr b="1" lang="uk-UA" sz="2000" spc="-1" strike="noStrike">
                <a:solidFill>
                  <a:srgbClr val="ff0000"/>
                </a:solidFill>
                <a:latin typeface="Times New Roman"/>
              </a:rPr>
              <a:t>ст. до н.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2 0.00208 L -0.21407 0.00416 E">
                                      <p:cBhvr>
                                        <p:cTn id="528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08 0.00277 L -0.1592 0.00277 E">
                                      <p:cBhvr>
                                        <p:cTn id="538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052 -0.00162 L -0.07587 -0.00162 E">
                                      <p:cBhvr>
                                        <p:cTn id="548" dur="2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809 -0.00579 L -0.35608 -0.00579 E">
                                      <p:cBhvr>
                                        <p:cTn id="558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96 0.00023 L -0.23004 0.00023 E">
                                      <p:cBhvr>
                                        <p:cTn id="568" dur="2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969 -0.00902 L -0.37969 -0.00902 E">
                                      <p:cBhvr>
                                        <p:cTn id="57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667 0.00231 L -0.31667 0.00231 E">
                                      <p:cBhvr>
                                        <p:cTn id="588" dur="20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066 0.00347 L -0.32066 0.00347 E">
                                      <p:cBhvr>
                                        <p:cTn id="598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0" y="5661000"/>
            <a:ext cx="91440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3"/>
          <p:cNvSpPr/>
          <p:nvPr/>
        </p:nvSpPr>
        <p:spPr>
          <a:xfrm>
            <a:off x="2643120" y="1143000"/>
            <a:ext cx="6143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Продовжіть реченн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ьогодні на уроці я дізнав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Я не вмів, тепер я вмію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ні потрібно навчитис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ені потрібно повторит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5661000"/>
            <a:ext cx="9144000" cy="43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  <a:p>
            <a:pPr marL="194400" indent="0" algn="ctr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2643120" y="1576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є завдання: прочита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4, 2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конати завдання контурної кар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* виконати завдання 11, с.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57120" y="155520"/>
            <a:ext cx="83296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Що таке цивілізація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Де виникли перші цивілізації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Які природні умови цьому сприяли?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Назвіть основні заняття людей у давнину.</a:t>
            </a:r>
            <a:br>
              <a:rPr sz="22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14" name="Picture 4" descr=""/>
          <p:cNvPicPr/>
          <p:nvPr/>
        </p:nvPicPr>
        <p:blipFill>
          <a:blip r:embed="rId1"/>
          <a:stretch/>
        </p:blipFill>
        <p:spPr>
          <a:xfrm>
            <a:off x="0" y="1714680"/>
            <a:ext cx="4929120" cy="5143320"/>
          </a:xfrm>
          <a:prstGeom prst="rect">
            <a:avLst/>
          </a:prstGeom>
          <a:ln w="0">
            <a:noFill/>
          </a:ln>
        </p:spPr>
      </p:pic>
      <p:sp>
        <p:nvSpPr>
          <p:cNvPr id="415" name="Прямоугольник 4"/>
          <p:cNvSpPr/>
          <p:nvPr/>
        </p:nvSpPr>
        <p:spPr>
          <a:xfrm>
            <a:off x="5000760" y="1928880"/>
            <a:ext cx="4143240" cy="2857320"/>
          </a:xfrm>
          <a:prstGeom prst="rect">
            <a:avLst/>
          </a:prstGeom>
          <a:solidFill>
            <a:srgbClr val="94b6d2"/>
          </a:solidFill>
          <a:ln w="10080">
            <a:solidFill>
              <a:srgbClr val="94b6d2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Цивілізація – рівень розвитку суспільства, на якому  утворюютьс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держав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иникають міста, писемні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7" descr="двуречье в 4-3 тысячелетии до н э"/>
          <p:cNvPicPr/>
          <p:nvPr/>
        </p:nvPicPr>
        <p:blipFill>
          <a:blip r:embed="rId2"/>
          <a:stretch/>
        </p:blipFill>
        <p:spPr>
          <a:xfrm>
            <a:off x="0" y="1722600"/>
            <a:ext cx="4857840" cy="513540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pic>
        <p:nvPicPr>
          <p:cNvPr id="417" name="Picture 1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0" y="1785960"/>
            <a:ext cx="4857840" cy="507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18" name="Picture 3" descr=""/>
          <p:cNvPicPr/>
          <p:nvPr/>
        </p:nvPicPr>
        <p:blipFill>
          <a:blip r:embed="rId4">
            <a:lum bright="-10000"/>
          </a:blip>
          <a:stretch/>
        </p:blipFill>
        <p:spPr>
          <a:xfrm>
            <a:off x="0" y="1714680"/>
            <a:ext cx="4857840" cy="5143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Лежнина Юлия Викторовна 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МБОУ Троицкая СОШ (Московская обл., Чеховский р-н) </a:t>
            </a: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6"/>
          <p:cNvSpPr/>
          <p:nvPr/>
        </p:nvSpPr>
        <p:spPr>
          <a:xfrm>
            <a:off x="2286000" y="189360"/>
            <a:ext cx="68580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роблемні питанн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авні греки говорили: «Гори захищають і розділяють, а море поєднує».  Що це означа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еякі  дослідники історії Давньої Греції вважають, що «Море цивілізувало греків». Чи згодні ви з цим твердженням?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ю відповідь поясніть, спираючись на історичні фак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реція – країна гір та морів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4" name="Рисунок 2" descr="23385908_gora.jpg"/>
          <p:cNvPicPr/>
          <p:nvPr/>
        </p:nvPicPr>
        <p:blipFill>
          <a:blip r:embed="rId1"/>
          <a:stretch/>
        </p:blipFill>
        <p:spPr>
          <a:xfrm>
            <a:off x="4643280" y="857160"/>
            <a:ext cx="4286520" cy="25005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repphoto_644_3651[1]"/>
          <p:cNvPicPr/>
          <p:nvPr/>
        </p:nvPicPr>
        <p:blipFill>
          <a:blip r:embed="rId2"/>
          <a:stretch/>
        </p:blipFill>
        <p:spPr>
          <a:xfrm>
            <a:off x="4643280" y="350028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4" descr=""/>
          <p:cNvPicPr/>
          <p:nvPr/>
        </p:nvPicPr>
        <p:blipFill>
          <a:blip r:embed="rId3"/>
          <a:stretch/>
        </p:blipFill>
        <p:spPr>
          <a:xfrm>
            <a:off x="214200" y="3500280"/>
            <a:ext cx="4286520" cy="2571840"/>
          </a:xfrm>
          <a:prstGeom prst="rect">
            <a:avLst/>
          </a:prstGeom>
          <a:ln w="0">
            <a:noFill/>
          </a:ln>
        </p:spPr>
      </p:pic>
      <p:pic>
        <p:nvPicPr>
          <p:cNvPr id="427" name="Рисунок 1" descr="1238764715_837039.jpg"/>
          <p:cNvPicPr/>
          <p:nvPr/>
        </p:nvPicPr>
        <p:blipFill>
          <a:blip r:embed="rId4"/>
          <a:stretch/>
        </p:blipFill>
        <p:spPr>
          <a:xfrm>
            <a:off x="214200" y="857160"/>
            <a:ext cx="428652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"/>
          <p:cNvGraphicFramePr/>
          <p:nvPr/>
        </p:nvGraphicFramePr>
        <p:xfrm>
          <a:off x="71280" y="1643040"/>
          <a:ext cx="8786880" cy="1000080"/>
        </p:xfrm>
        <a:graphic>
          <a:graphicData uri="http://schemas.openxmlformats.org/drawingml/2006/table">
            <a:tbl>
              <a:tblPr/>
              <a:tblGrid>
                <a:gridCol w="1357560"/>
                <a:gridCol w="2201760"/>
                <a:gridCol w="2155680"/>
                <a:gridCol w="1571760"/>
                <a:gridCol w="1500120"/>
              </a:tblGrid>
              <a:tr h="100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раї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Г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еографічн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озташув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ічки, гори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устел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ліма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Корисні копал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155160"/>
            <a:ext cx="8715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Calibri"/>
              </a:rPr>
              <a:t>Робота з підручником </a:t>
            </a:r>
            <a:r>
              <a:rPr b="1" lang="en-US" sz="3200" spc="-1" strike="noStrike">
                <a:solidFill>
                  <a:srgbClr val="ff0000"/>
                </a:solidFill>
                <a:latin typeface="Tw Cen M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§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24, п.1 </a:t>
            </a:r>
            <a:br>
              <a:rPr sz="32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Визначте географічне положення Греції та Єгипту. 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Порівняйте  природно – кліматичні умови Греції та Єгипту.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апишіть висновки у таблицю. </a:t>
            </a:r>
            <a:endParaRPr b="0" lang="en-US" sz="2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71280" y="2500200"/>
          <a:ext cx="8786880" cy="1554120"/>
        </p:xfrm>
        <a:graphic>
          <a:graphicData uri="http://schemas.openxmlformats.org/drawingml/2006/table">
            <a:tbl>
              <a:tblPr/>
              <a:tblGrid>
                <a:gridCol w="1357560"/>
                <a:gridCol w="2214360"/>
                <a:gridCol w="2143080"/>
                <a:gridCol w="1571760"/>
                <a:gridCol w="1500120"/>
              </a:tblGrid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ец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71280" y="4071960"/>
          <a:ext cx="8786880" cy="1714320"/>
        </p:xfrm>
        <a:graphic>
          <a:graphicData uri="http://schemas.openxmlformats.org/drawingml/2006/table">
            <a:tbl>
              <a:tblPr/>
              <a:tblGrid>
                <a:gridCol w="1357560"/>
                <a:gridCol w="2243160"/>
                <a:gridCol w="2114280"/>
                <a:gridCol w="1571760"/>
                <a:gridCol w="1500120"/>
              </a:tblGrid>
              <a:tr h="1714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Єгип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</a:tbl>
          </a:graphicData>
        </a:graphic>
      </p:graphicFrame>
      <p:sp>
        <p:nvSpPr>
          <p:cNvPr id="432" name="Прямоугольник 7"/>
          <p:cNvSpPr/>
          <p:nvPr/>
        </p:nvSpPr>
        <p:spPr>
          <a:xfrm>
            <a:off x="0" y="5643720"/>
            <a:ext cx="8858160" cy="12142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вні греки говорили: «Гори захищають і розділяють, а море поєднує».  Що це означає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4" descr=""/>
          <p:cNvPicPr/>
          <p:nvPr/>
        </p:nvPicPr>
        <p:blipFill>
          <a:blip r:embed="rId1"/>
          <a:stretch/>
        </p:blipFill>
        <p:spPr>
          <a:xfrm>
            <a:off x="1643040" y="4071960"/>
            <a:ext cx="1143000" cy="157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7" descr="Drevnyaya_Gretciya_7_v_do_n_e.jpg"/>
          <p:cNvPicPr/>
          <p:nvPr/>
        </p:nvPicPr>
        <p:blipFill>
          <a:blip r:embed="rId2"/>
          <a:stretch/>
        </p:blipFill>
        <p:spPr>
          <a:xfrm>
            <a:off x="1643040" y="257184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286240" y="213840"/>
            <a:ext cx="3857760" cy="307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Південь Європи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Балканський півострів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Іонічн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Егейськ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Критськ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Середземне море</a:t>
            </a:r>
            <a:br>
              <a:rPr sz="2200"/>
            </a:br>
            <a:r>
              <a:rPr b="1" lang="uk-UA" sz="2200" spc="-1" strike="noStrike">
                <a:solidFill>
                  <a:srgbClr val="ff0000"/>
                </a:solidFill>
                <a:latin typeface="Calibri"/>
              </a:rPr>
              <a:t> Балканські гори (найвища – гора Олімп)</a:t>
            </a:r>
            <a:br>
              <a:rPr sz="1800"/>
            </a:br>
            <a:endParaRPr b="0" lang="en-US" sz="2200" spc="-1" strike="noStrike">
              <a:solidFill>
                <a:srgbClr val="775f55"/>
              </a:solidFill>
              <a:latin typeface="Tw Cen MT"/>
            </a:endParaRPr>
          </a:p>
        </p:txBody>
      </p:sp>
      <p:cxnSp>
        <p:nvCxnSpPr>
          <p:cNvPr id="437" name="Прямая со стрелкой 10"/>
          <p:cNvCxnSpPr/>
          <p:nvPr/>
        </p:nvCxnSpPr>
        <p:spPr>
          <a:xfrm flipH="1">
            <a:off x="1071360" y="928800"/>
            <a:ext cx="4143600" cy="17150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8" name="Прямая со стрелкой 12"/>
          <p:cNvCxnSpPr/>
          <p:nvPr/>
        </p:nvCxnSpPr>
        <p:spPr>
          <a:xfrm flipH="1">
            <a:off x="356760" y="1213200"/>
            <a:ext cx="4858560" cy="3001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39" name="Прямая со стрелкой 14"/>
          <p:cNvCxnSpPr/>
          <p:nvPr/>
        </p:nvCxnSpPr>
        <p:spPr>
          <a:xfrm flipH="1">
            <a:off x="3071160" y="1570680"/>
            <a:ext cx="2143800" cy="1786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0" name="Прямая со стрелкой 21"/>
          <p:cNvCxnSpPr/>
          <p:nvPr/>
        </p:nvCxnSpPr>
        <p:spPr>
          <a:xfrm flipH="1">
            <a:off x="2714040" y="2000160"/>
            <a:ext cx="2500920" cy="3572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1" name="Прямая со стрелкой 23"/>
          <p:cNvCxnSpPr/>
          <p:nvPr/>
        </p:nvCxnSpPr>
        <p:spPr>
          <a:xfrm flipH="1">
            <a:off x="2499480" y="2286000"/>
            <a:ext cx="2786760" cy="42156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42" name="Прямая со стрелкой 25"/>
          <p:cNvCxnSpPr/>
          <p:nvPr/>
        </p:nvCxnSpPr>
        <p:spPr>
          <a:xfrm flipH="1" flipV="1">
            <a:off x="1713960" y="2642400"/>
            <a:ext cx="34297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443" name="Picture 4" descr="j0213508"/>
          <p:cNvPicPr/>
          <p:nvPr/>
        </p:nvPicPr>
        <p:blipFill>
          <a:blip r:embed="rId2"/>
          <a:stretch/>
        </p:blipFill>
        <p:spPr>
          <a:xfrm>
            <a:off x="8215200" y="214200"/>
            <a:ext cx="928800" cy="8668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4"/>
          <p:cNvSpPr/>
          <p:nvPr/>
        </p:nvSpPr>
        <p:spPr>
          <a:xfrm>
            <a:off x="5715000" y="4071960"/>
            <a:ext cx="2143080" cy="357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Середня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5715000" y="4572000"/>
            <a:ext cx="2143080" cy="357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лопонн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5"/>
          <p:cNvSpPr/>
          <p:nvPr/>
        </p:nvSpPr>
        <p:spPr>
          <a:xfrm>
            <a:off x="5715000" y="3571920"/>
            <a:ext cx="2143080" cy="342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івнічн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36"/>
          <p:cNvSpPr/>
          <p:nvPr/>
        </p:nvSpPr>
        <p:spPr>
          <a:xfrm>
            <a:off x="5715000" y="5072040"/>
            <a:ext cx="2214720" cy="42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Острівн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7"/>
          <p:cNvSpPr/>
          <p:nvPr/>
        </p:nvSpPr>
        <p:spPr>
          <a:xfrm>
            <a:off x="5715000" y="5643720"/>
            <a:ext cx="2214720" cy="42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3812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Іонійська Гре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1713 L -0.63594 -0.2243 E">
                                      <p:cBhvr>
                                        <p:cTn id="118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15 0.00648 L -0.62813 -0.1301 E">
                                      <p:cBhvr>
                                        <p:cTn id="122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632 -0.0037 L -0.57292 -0.03518 E">
                                      <p:cBhvr>
                                        <p:cTn id="126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Рисунок 7" descr="Drevnyaya_Gretciya_7_v_do_n_e.jpg"/>
          <p:cNvPicPr/>
          <p:nvPr/>
        </p:nvPicPr>
        <p:blipFill>
          <a:blip r:embed="rId1"/>
          <a:stretch/>
        </p:blipFill>
        <p:spPr>
          <a:xfrm>
            <a:off x="0" y="0"/>
            <a:ext cx="5180040" cy="685800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3"/>
          <p:cNvSpPr/>
          <p:nvPr/>
        </p:nvSpPr>
        <p:spPr>
          <a:xfrm>
            <a:off x="5000760" y="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Гори захищають і розділяють, а море поєднує».  Що це означає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2" descr=""/>
          <p:cNvPicPr/>
          <p:nvPr/>
        </p:nvPicPr>
        <p:blipFill>
          <a:blip r:embed="rId2"/>
          <a:stretch/>
        </p:blipFill>
        <p:spPr>
          <a:xfrm>
            <a:off x="5429160" y="785880"/>
            <a:ext cx="3286080" cy="285732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52" name="Прямоугольник 5"/>
          <p:cNvSpPr/>
          <p:nvPr/>
        </p:nvSpPr>
        <p:spPr>
          <a:xfrm>
            <a:off x="5429160" y="785880"/>
            <a:ext cx="3286080" cy="2857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Балканські гори захищаю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країну від холодних  вітр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оділяють Грецію  на  3 частини  (Північну, Середн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івденну – півостр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лопоннес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500280" cy="28116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5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Іонічне, Егейсь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Критсь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ередзем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Берегова сму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івостр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створює безлі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аток,бухт,прото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ручних для стоя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кораблів. Це допомог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грекам навчити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мореплав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3"/>
          <p:cNvSpPr/>
          <p:nvPr/>
        </p:nvSpPr>
        <p:spPr>
          <a:xfrm>
            <a:off x="5429160" y="785880"/>
            <a:ext cx="3357720" cy="28573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івнічна та Середня Греці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єднані єдиною дорого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прокладено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Фермопільською ущелин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Середня Греці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з</a:t>
            </a:r>
            <a:r>
              <a:rPr b="1" lang="en-US" sz="2000" spc="-1" strike="noStrike">
                <a:solidFill>
                  <a:srgbClr val="ff0000"/>
                </a:solidFill>
                <a:latin typeface="Tw Cen MT"/>
              </a:rPr>
              <a:t>`</a:t>
            </a: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єднана з Південною Коринфським переший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Равнобедренный треугольник 14"/>
          <p:cNvSpPr/>
          <p:nvPr/>
        </p:nvSpPr>
        <p:spPr>
          <a:xfrm>
            <a:off x="1500120" y="3429000"/>
            <a:ext cx="285840" cy="1429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Прямая со стрелкой 16"/>
          <p:cNvCxnSpPr/>
          <p:nvPr/>
        </p:nvCxnSpPr>
        <p:spPr>
          <a:xfrm flipV="1">
            <a:off x="1785960" y="2071080"/>
            <a:ext cx="4215600" cy="1500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459" name="Прямая со стрелкой 18"/>
          <p:cNvCxnSpPr/>
          <p:nvPr/>
        </p:nvCxnSpPr>
        <p:spPr>
          <a:xfrm flipH="1">
            <a:off x="1999800" y="3356640"/>
            <a:ext cx="3501360" cy="857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460" name="Равнобедренный треугольник 21"/>
          <p:cNvSpPr/>
          <p:nvPr/>
        </p:nvSpPr>
        <p:spPr>
          <a:xfrm>
            <a:off x="1785960" y="4214880"/>
            <a:ext cx="285840" cy="12852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5"/>
          <p:cNvSpPr/>
          <p:nvPr/>
        </p:nvSpPr>
        <p:spPr>
          <a:xfrm>
            <a:off x="5357880" y="3786120"/>
            <a:ext cx="3500280" cy="2857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Морський шлях сполучає Балканський півострів з островами Середземномор'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0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6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2999880" y="2643120"/>
            <a:ext cx="3000600" cy="250056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родно-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ліматичні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мови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0" y="142920"/>
            <a:ext cx="278604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6215040" y="142920"/>
            <a:ext cx="292896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5" name="Picture 2" descr=""/>
          <p:cNvPicPr/>
          <p:nvPr/>
        </p:nvPicPr>
        <p:blipFill>
          <a:blip r:embed="rId3"/>
          <a:stretch/>
        </p:blipFill>
        <p:spPr>
          <a:xfrm>
            <a:off x="2928960" y="142920"/>
            <a:ext cx="3071880" cy="235728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6" name="Picture 2" descr=""/>
          <p:cNvPicPr/>
          <p:nvPr/>
        </p:nvPicPr>
        <p:blipFill>
          <a:blip r:embed="rId4"/>
          <a:stretch/>
        </p:blipFill>
        <p:spPr>
          <a:xfrm>
            <a:off x="0" y="2714760"/>
            <a:ext cx="2928960" cy="2457360"/>
          </a:xfrm>
          <a:prstGeom prst="rect">
            <a:avLst/>
          </a:prstGeom>
          <a:ln w="9360">
            <a:solidFill>
              <a:srgbClr val="94b6d2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67" name="Picture 4" descr="nature_127"/>
          <p:cNvPicPr/>
          <p:nvPr/>
        </p:nvPicPr>
        <p:blipFill>
          <a:blip r:embed="rId5"/>
          <a:stretch/>
        </p:blipFill>
        <p:spPr>
          <a:xfrm>
            <a:off x="6072120" y="2643120"/>
            <a:ext cx="3071880" cy="250056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9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720" rIns="90000" tIns="91440" bIns="46800" anchor="ctr">
            <a:noAutofit/>
          </a:bodyPr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лімат спекотний, посушли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Схили гір вкриті кущами та низькорослими дере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емля кам’яниста, неродюч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агата на корисні копалини 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(залізо , мідь, срібло,гли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ори поділили країну на долини, якими течуть річк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урхливі восени і взимку, навесні пересихаю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120" indent="-318960" algn="ctr">
              <a:lnSpc>
                <a:spcPct val="100000"/>
              </a:lnSpc>
              <a:buClr>
                <a:srgbClr val="94b6d2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>Image credit to Francesco Marino / FreeDigitalPhotos.net </dc:description>
  <dc:language>en-US</dc:language>
  <cp:lastModifiedBy>User</cp:lastModifiedBy>
  <dcterms:modified xsi:type="dcterms:W3CDTF">2014-02-08T16:53:26Z</dcterms:modified>
  <cp:revision>261</cp:revision>
  <dc:subject/>
  <dc:title>Blue Water 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27000000000001024140</vt:lpwstr>
  </property>
</Properties>
</file>