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2.gif" ContentType="image/gif"/>
  <Override PartName="/ppt/media/image17.jpeg" ContentType="image/jpeg"/>
  <Override PartName="/ppt/media/image16.gif" ContentType="image/gif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9.jpeg" ContentType="image/jpeg"/>
  <Override PartName="/ppt/media/image31.gif" ContentType="image/gif"/>
  <Override PartName="/ppt/media/image1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5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E36E-98F8-4CF0-ABDF-CED6F708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EC40-D119-42B2-8000-80675E9A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E1A99-3D12-4B1F-A294-709D4644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ACAE0-6F0D-4112-8ADD-DB5CDA05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57DE7-AE29-4526-963B-8843F2EF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D4657-178C-41D1-AF9A-2BFD99B2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537EC-6D1D-4A91-992B-97A37071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A1278-8C71-4A40-AD6D-CB5E2EBB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08DD7-D1C4-4F8E-B32A-996714CB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2DFCF-D4CE-441E-AF7D-01C47C31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DB516-4E9E-488E-91BC-FB4A21F8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157-8BCA-46E3-A514-086BF918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955-7E47-4D29-8564-D2D54021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C082-DAE7-48A6-BEBE-C12A4C43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B05C-5A93-4743-84DC-9A847E00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5791-A357-4017-88A9-8C4DC11F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5340-C83F-4402-895D-CCC2E980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2861-3423-41EF-83E5-19B3DF91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CE0F-F72B-448D-85A7-8DFE52AF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2A5F-FC99-4F38-A03E-DC48162F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B9DF-69D6-4654-9CD8-41461D56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5C96-B02F-4BA2-8AA3-E9791AB5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5265-87B7-4D3E-B5CC-996325CD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1E14-2964-4ED7-9C0A-DE994EE1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3E78-632F-4730-BB9E-C66D3B37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CAD9-18FA-43D9-8A78-96036DB3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C3B9B-A20F-4161-9946-3D1BF653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CECB1C-1901-4D8F-AE13-3B2D776E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7846D6-2E3A-43F9-9F44-02C16F25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64FF7-ED2E-4576-ABF0-06DB933E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58291-050F-47E6-8E3E-C38DCBD3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0814-9EDB-4214-AFA1-7ACEB5FC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D017C-DCDD-4AB1-B492-31F91677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19BF7-1ACF-4A0D-8728-4EB54E61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8E137-A39E-4559-A4C6-18EE648D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59561F-AF9F-414C-8E5B-85E4B500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CF9A3-4DD6-4818-83DC-AE168A4E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9313A-E1B9-4B93-BB51-4FF2BB1C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A5510-D499-4CBF-A256-A040CC4C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643383-4C0F-4C1F-B917-CBC44079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957544-96B0-4A04-99C9-D489E8E4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EE57AF-070F-4458-878C-D20F3D1C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DB8-D7AC-4AEE-A456-6AC9D162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9F8E0B-EE25-41BE-996D-957F3861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15AEF3-A9F8-46BB-B35F-8E28325D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C9AB15-E1B0-4E0D-B73F-B64E4C7E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3551CE-8608-43FF-8F58-461EC7BA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83CF11-0CD4-4FBC-95AC-0A98C649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C5EBED-672C-4DDB-B90B-02B40C18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8B969E-A764-4FDC-AAA4-E3627656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C2C308-C72D-43F4-83D1-F2E8F82C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E2156E-2B9C-4E34-8B4A-EF93146F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3CFB15-1A54-4545-8CAD-79ED732E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137C-EE3A-41A6-86A8-B09B686D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F590B5-E2B4-44AA-9C3D-A0C22859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EA288E-3D95-4992-8E50-633527C8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37CB64-EBA9-4632-A544-326B3B06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198FAB-A14D-46F4-A5E6-BADC0993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9EC2D7-7CF8-45FA-A572-9B4D7FA9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8A6989-68BE-456B-A801-BA21A76B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29B59C-289C-4FB3-BAFA-ED1FF175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8BC3FB-5507-4CE2-A007-39DCD7A9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3E34CD-75D5-4363-B7F8-F0AF7820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63B81E-B87F-450F-B984-64DD6482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6135-77E8-4549-B0F1-9817ECBE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44164C-7B91-401C-856D-E4ACCF25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61166-7F67-458F-8B51-4FF76BF9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D7D97-7A46-4359-B785-94827A84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E3620-D669-4123-A80E-47BD1A2B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09334-B411-4304-9A37-DFE783BB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FE0D1-86CA-442F-81E8-6BB40064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4D3EC-E3B6-4552-B4A1-4B6A9334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9211C-E6B1-4F05-B5C4-9652EB6F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1009B-A637-424D-A32C-9CF8DD69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D1088-D10D-4A3A-9038-1C0EC567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36CE-052E-49F0-84F5-993271C6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FC3AE-B1DB-43CB-8B5D-806C81DA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96DA3-38F7-4CCE-BD7E-D077427B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ABE8B-F755-41F0-90AF-08089862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5F2EB2-8E7B-45A9-AE00-80A7F2B2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AAFBD3-960F-4501-BD78-9EBF52CC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12C410-6D3C-4CFC-9736-BDDADA4E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C5F3F8-0FAF-4B61-A41A-BD12B31A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A3C2E1-1D07-447B-9740-11CC1163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0F0F96-1530-4C29-8A18-2C478315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483AEE-EBFF-4C7F-A9A5-370EC050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5A0C-0A28-4529-8472-01A46AE8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AEA7F4-0AEF-4A93-8B50-8F377987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446729-4995-4801-95C8-16B1E1CA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76B2ED-8728-4343-804C-2AF1C106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9EBCF5-A950-48C5-B82E-89B3B5FF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952C7E-7EF7-40F0-90D8-2FD32135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A3971-53B2-4C09-8A3E-663F6CB3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41C8D-BF28-47A8-86D5-0984F4F4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1A1DF-5D13-49BD-9837-66A357F8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AFAC4-CC70-4362-8766-D290E2B0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61A13-6D06-4047-90AA-51E8DCE9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5E12-18BB-41EE-97B9-EC8FA1DF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19E57-E6F6-412D-BAF1-F1BFE73F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2B6BF-6281-4519-8340-594800C9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A954F-8C2E-445C-B2F6-B7D3630E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B3F26-4467-49D0-963F-1757317C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15085-5EC2-4D5B-AC2B-B1D10BF0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79806-1919-4F34-9382-AFE41C3B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F42C0-40DA-4951-BADC-66784221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3F847-68D7-4F80-910F-8D4055A9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7A34E-9E13-425C-8350-FD0518C2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B69F9-2397-4CA8-A3AB-B00DA1D5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C28E-B967-4D73-A055-EC0F401E61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17B2BFE3-EA14-42EE-B253-AFEAA3F8C061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6A74-0606-49ED-9062-D3020C08F7CD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4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4348-7575-4688-8E0B-052CE9DE9510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E54DD10F-46CE-438C-890C-F2AEC3733E4F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D33E-6E54-4282-91A7-2EC2F9C93F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3F9C8DC5-93F4-4C77-9A4C-B400547DCACA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12B1-BF99-48CB-99FA-9B44ECBD46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91A3-7DC6-4C0E-9E11-75C8FB9F9AF7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4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1B50-9CA8-4028-A01C-B09542067BA0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1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1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14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B408-3D88-49CA-A6A9-A67799F3AE4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CDA7A8A2-2F75-44C1-BF94-65E7384E1E86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CB53-18B2-4973-B605-ADD95697DBD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7.jpeg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7"/>
          <p:cNvSpPr/>
          <p:nvPr/>
        </p:nvSpPr>
        <p:spPr>
          <a:xfrm>
            <a:off x="2643120" y="1515240"/>
            <a:ext cx="650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лан урок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66"/>
              </a:buClr>
              <a:buFont typeface="Arial"/>
              <a:buAutoNum type="arabicPeriod"/>
              <a:tabLst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Географічне положення та природа Давньо</a:t>
            </a:r>
            <a:r>
              <a:rPr b="1" lang="uk-UA" sz="2400" spc="-1" strike="noStrike">
                <a:solidFill>
                  <a:srgbClr val="ff0066"/>
                </a:solidFill>
                <a:latin typeface="Arial"/>
              </a:rPr>
              <a:t>ї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Грец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2. Основні заняття насел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. Мінойська палацова цивілізаці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5"/>
          <p:cNvSpPr/>
          <p:nvPr/>
        </p:nvSpPr>
        <p:spPr>
          <a:xfrm>
            <a:off x="1143000" y="21420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ція в І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—першій половині І тис. до н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6"/>
          <p:cNvSpPr/>
          <p:nvPr/>
        </p:nvSpPr>
        <p:spPr>
          <a:xfrm>
            <a:off x="2928960" y="642960"/>
            <a:ext cx="53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й населення Давньої Гре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71280" y="357120"/>
          <a:ext cx="8858520" cy="928800"/>
        </p:xfrm>
        <a:graphic>
          <a:graphicData uri="http://schemas.openxmlformats.org/drawingml/2006/table">
            <a:tbl>
              <a:tblPr/>
              <a:tblGrid>
                <a:gridCol w="928800"/>
                <a:gridCol w="2571840"/>
                <a:gridCol w="2428920"/>
                <a:gridCol w="1714320"/>
                <a:gridCol w="1214640"/>
              </a:tblGrid>
              <a:tr h="928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раї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ографічн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зташу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ічки, гори, пустел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лім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рисні копал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71280" y="1357200"/>
          <a:ext cx="8858520" cy="3571920"/>
        </p:xfrm>
        <a:graphic>
          <a:graphicData uri="http://schemas.openxmlformats.org/drawingml/2006/table">
            <a:tbl>
              <a:tblPr/>
              <a:tblGrid>
                <a:gridCol w="928800"/>
                <a:gridCol w="2571840"/>
                <a:gridCol w="2428920"/>
                <a:gridCol w="1714320"/>
                <a:gridCol w="1214640"/>
              </a:tblGrid>
              <a:tr h="357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ец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івдень Європи, Балканський пів-ов.Омивається морями: Егейським, Іонічним, Критським, Середземним. Велика кількість островів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ерегова смуга створює безліч заток, бухт, прот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ічки — бурхливі восени і взимку, а навесні переси-хають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лканські гор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емля - кам’яниста, неродю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екотний, посушли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лізо, мідь, срібло та г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71280" y="4929120"/>
          <a:ext cx="8858520" cy="1857600"/>
        </p:xfrm>
        <a:graphic>
          <a:graphicData uri="http://schemas.openxmlformats.org/drawingml/2006/table">
            <a:tbl>
              <a:tblPr/>
              <a:tblGrid>
                <a:gridCol w="928800"/>
                <a:gridCol w="2571840"/>
                <a:gridCol w="2428920"/>
                <a:gridCol w="1714320"/>
                <a:gridCol w="1214640"/>
              </a:tblGrid>
              <a:tr h="18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Єгип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івнічний схі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фрики. На півночі омивається Середземним мор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вноводна річка — Ніл. Волога, родюча земля після розливу Нілу. Пустел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ах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екотне, сухе  повітря, гарячі вітри, відсутність дощ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мі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Греція </a:t>
            </a:r>
            <a:r>
              <a:rPr b="0" lang="uk-UA" sz="2800" spc="-1" strike="noStrike">
                <a:solidFill>
                  <a:srgbClr val="ff0000"/>
                </a:solidFill>
                <a:latin typeface="Calibri"/>
              </a:rPr>
              <a:t>                                                    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Єгипет</a:t>
            </a:r>
            <a:r>
              <a:rPr b="0" lang="uk-UA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3" name="Прямоугольник 7"/>
          <p:cNvSpPr/>
          <p:nvPr/>
        </p:nvSpPr>
        <p:spPr>
          <a:xfrm>
            <a:off x="285840" y="4786200"/>
            <a:ext cx="8572320" cy="13575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Яка  відмінність вплинула на заняття населення Давньої Греції? Доведіть свою точку з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11"/>
          <p:cNvSpPr/>
          <p:nvPr/>
        </p:nvSpPr>
        <p:spPr>
          <a:xfrm>
            <a:off x="3143160" y="2000160"/>
            <a:ext cx="285768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ідмін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12"/>
          <p:cNvSpPr/>
          <p:nvPr/>
        </p:nvSpPr>
        <p:spPr>
          <a:xfrm>
            <a:off x="3143160" y="642960"/>
            <a:ext cx="2857680" cy="48564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Спіль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13"/>
          <p:cNvSpPr/>
          <p:nvPr/>
        </p:nvSpPr>
        <p:spPr>
          <a:xfrm>
            <a:off x="2428920" y="1143000"/>
            <a:ext cx="4286160" cy="843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Жаркий кліма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рідко йдуть дощ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14"/>
          <p:cNvSpPr/>
          <p:nvPr/>
        </p:nvSpPr>
        <p:spPr>
          <a:xfrm>
            <a:off x="214200" y="2571840"/>
            <a:ext cx="5572080" cy="214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У Греції немає повноводних річ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Греція – гірська краї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Земля – кам</a:t>
            </a:r>
            <a:r>
              <a:rPr b="1" lang="en-US" sz="2800" spc="-1" strike="noStrike">
                <a:solidFill>
                  <a:srgbClr val="ff0000"/>
                </a:solidFill>
                <a:latin typeface="Tw Cen MT"/>
              </a:rPr>
              <a:t>`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яниста, неродю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Греція – морська краї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Має запаси корисних копа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9"/>
          <p:cNvSpPr/>
          <p:nvPr/>
        </p:nvSpPr>
        <p:spPr>
          <a:xfrm>
            <a:off x="1785960" y="214200"/>
            <a:ext cx="5572080" cy="3574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риродно – кліматичні умо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Рисунок 7" descr="Drevnyaya_Gretciya_7_v_do_n_e.jpg"/>
          <p:cNvPicPr/>
          <p:nvPr/>
        </p:nvPicPr>
        <p:blipFill>
          <a:blip r:embed="rId1"/>
          <a:stretch/>
        </p:blipFill>
        <p:spPr>
          <a:xfrm>
            <a:off x="0" y="0"/>
            <a:ext cx="1357200" cy="17017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" descr=""/>
          <p:cNvPicPr/>
          <p:nvPr/>
        </p:nvPicPr>
        <p:blipFill>
          <a:blip r:embed="rId2"/>
          <a:stretch/>
        </p:blipFill>
        <p:spPr>
          <a:xfrm>
            <a:off x="7929720" y="0"/>
            <a:ext cx="121428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 repeatCount="100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2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 repeatCount="100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2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аняття населення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0" y="3428640"/>
            <a:ext cx="9144000" cy="3429000"/>
          </a:xfrm>
          <a:prstGeom prst="rect">
            <a:avLst/>
          </a:prstGeom>
          <a:solidFill>
            <a:srgbClr val="558bb8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емлеробство – у долинах річок вирощували зернові й овочі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отарство - на схилах пагорбів та гір влаштовували тераси, де зростав виноград, оливкові дерева, випасали кіз, овець, корів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месло – металургія, ковальство, гончарство, ткацтво, ювелірна справ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иболовство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Кораблебудування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реплавство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рська торгівля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3" name="Picture 5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1" descr="Рисунок1"/>
          <p:cNvPicPr/>
          <p:nvPr/>
        </p:nvPicPr>
        <p:blipFill>
          <a:blip r:embed="rId1"/>
          <a:stretch/>
        </p:blipFill>
        <p:spPr>
          <a:xfrm>
            <a:off x="3186000" y="0"/>
            <a:ext cx="5958000" cy="685800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3" descr=""/>
          <p:cNvPicPr/>
          <p:nvPr/>
        </p:nvPicPr>
        <p:blipFill>
          <a:blip r:embed="rId2"/>
          <a:stretch/>
        </p:blipFill>
        <p:spPr>
          <a:xfrm>
            <a:off x="4857840" y="2786040"/>
            <a:ext cx="725400" cy="3920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3" descr=""/>
          <p:cNvPicPr/>
          <p:nvPr/>
        </p:nvPicPr>
        <p:blipFill>
          <a:blip r:embed="rId3"/>
          <a:stretch/>
        </p:blipFill>
        <p:spPr>
          <a:xfrm>
            <a:off x="4857840" y="4000680"/>
            <a:ext cx="714240" cy="30132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213840" y="285480"/>
            <a:ext cx="2786040" cy="601668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У давнину греки плавали головним чином вздовж східного берега і не виходили у відкрите море. Як ви це можете пояснити ?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9" name="Picture 6" descr="Рисунок3"/>
          <p:cNvPicPr/>
          <p:nvPr/>
        </p:nvPicPr>
        <p:blipFill>
          <a:blip r:embed="rId4"/>
          <a:stretch/>
        </p:blipFill>
        <p:spPr>
          <a:xfrm>
            <a:off x="285840" y="4143240"/>
            <a:ext cx="1860480" cy="1040040"/>
          </a:xfrm>
          <a:prstGeom prst="rect">
            <a:avLst/>
          </a:prstGeom>
          <a:ln w="0">
            <a:noFill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</p:pic>
      <p:pic>
        <p:nvPicPr>
          <p:cNvPr id="490" name="Picture 7" descr="Рисунок4"/>
          <p:cNvPicPr/>
          <p:nvPr/>
        </p:nvPicPr>
        <p:blipFill>
          <a:blip r:embed="rId5"/>
          <a:stretch/>
        </p:blipFill>
        <p:spPr>
          <a:xfrm>
            <a:off x="285840" y="5286240"/>
            <a:ext cx="1857240" cy="986040"/>
          </a:xfrm>
          <a:prstGeom prst="rect">
            <a:avLst/>
          </a:prstGeom>
          <a:ln w="0">
            <a:noFill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491" name="Прямоугольник 8"/>
          <p:cNvSpPr/>
          <p:nvPr/>
        </p:nvSpPr>
        <p:spPr>
          <a:xfrm>
            <a:off x="142920" y="0"/>
            <a:ext cx="2928960" cy="52149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Егейське море має хвилясту берегову смугу й густо розкидані ост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Відстань між ними не більше 50 км і гори видно здал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Грецькі кораблі були  невеликими,  легкими, не витримували штормів; великій команді не вистачало запасів їжі та води; у греків не було компа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2.96296E-006 C 0.00938 -0.00324 0.00574 -0.00532 0.01216 -0.01227 C 0.01806 -0.01852 0.02431 -0.02454 0.03039 -0.03032 C 0.03525 -0.03495 0.04063 -0.0382 0.04549 -0.04259 C 0.04706 -0.04398 0.05001 -0.04653 0.05001 -0.04653 C 0.06372 -0.04583 0.07744 -0.04583 0.09098 -0.04445 C 0.09601 -0.04398 0.10608 -0.04051 0.10608 -0.04051 C 0.11077 -0.03426 0.11338 -0.02639 0.11824 -0.02037 C 0.12015 -0.01296 0.12258 -0.00648 0.1257 2.96296E-006 C 0.12692 0.01134 0.12588 0.02338 0.12883 0.03426 C 0.129 0.03449 0.13768 0.03819 0.13785 0.03819 C 0.14185 0.03958 0.15001 0.04236 0.15001 0.04236 C 0.15504 0.0618 0.14792 0.03241 0.15313 0.08264 C 0.15331 0.08472 0.15417 0.0787 0.15452 0.07662 C 0.15574 0.06805 0.1566 0.05926 0.15765 0.05046 C 0.15643 0.04143 0.15574 0.02546 0.15157 0.01597 C 0.14862 0.00926 0.13785 0.00185 0.13785 0.00185 C 0.13629 -0.02107 0.13699 -0.04421 0.13334 -0.06667 C 0.13265 -0.0706 0.12831 -0.07107 0.1257 -0.07292 C 0.10608 -0.08657 0.09792 -0.09352 0.07883 -0.09907 C 0.07674 -0.10046 0.0731 -0.10023 0.07275 -0.10324 C 0.0724 -0.10648 0.07518 -0.10949 0.07726 -0.11111 C 0.08039 -0.11366 0.08438 -0.11366 0.08785 -0.11528 C 0.0981 -0.11991 0.10713 -0.12546 0.11824 -0.12546 E">
                                      <p:cBhvr>
                                        <p:cTn id="290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7037E-006 C 0.00503 0.00463 0.00764 0.01042 0.01198 0.0162 C 0.01406 0.02708 0.01545 0.03403 0.02257 0.04051 C 0.02517 0.05023 0.02847 0.05694 0.03472 0.06273 C 0.03715 0.07222 0.03993 0.08148 0.04236 0.09097 C 0.04288 0.10232 0.04201 0.11412 0.04392 0.12523 C 0.04427 0.12732 0.04687 0.12662 0.04844 0.12732 C 0.05087 0.12847 0.05347 0.12963 0.0559 0.13125 C 0.06267 0.13565 0.06823 0.14097 0.07569 0.14352 C 0.07691 0.14792 0.0816 0.17014 0.08333 0.17176 C 0.08628 0.17431 0.09045 0.17315 0.09392 0.17384 C 0.11406 0.17176 0.13455 0.17222 0.15451 0.16759 C 0.15642 0.16713 0.15486 0.16204 0.1559 0.15972 C 0.16007 0.14954 0.16562 0.13843 0.17118 0.1294 C 0.17517 0.11181 0.17292 0.10046 0.17118 0.08287 C 0.16528 0.02384 0.17673 0.0412 0.16198 0.02222 C 0.16094 0.01944 0.1592 0.01713 0.15903 0.01412 C 0.15833 0.00671 0.16493 0.00046 0.1559 0.01204 C 0.15486 0.00995 0.15295 0.00833 0.15295 0.00602 C 0.15295 -0.00185 0.16614 -0.00995 0.16962 -0.01204 C 0.18351 -0.02037 0.17708 -0.02014 0.18333 -0.02014 E">
                                      <p:cBhvr>
                                        <p:cTn id="294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У ІІІ тис. до н.е. на півострові Пелопоннес, островах Егейського моря виникла цивілізація з центром на острові Крит. Жителів Крита називали пелазгами. </a:t>
            </a:r>
            <a:endParaRPr b="0" lang="en-US" sz="2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93" name="Picture 8" descr="Рисунок9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960800" y="1500120"/>
            <a:ext cx="4183200" cy="5143680"/>
          </a:xfrm>
          <a:prstGeom prst="rect">
            <a:avLst/>
          </a:prstGeom>
          <a:ln w="76320">
            <a:solidFill>
              <a:srgbClr val="775f55"/>
            </a:solidFill>
            <a:miter/>
          </a:ln>
        </p:spPr>
      </p:pic>
      <p:sp>
        <p:nvSpPr>
          <p:cNvPr id="494" name=""/>
          <p:cNvSpPr txBox="1"/>
          <p:nvPr/>
        </p:nvSpPr>
        <p:spPr>
          <a:xfrm>
            <a:off x="214200" y="1213920"/>
            <a:ext cx="45007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Міфи – джерело знань з історії Давньої Греції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5" name="Picture 13" descr="ar41"/>
          <p:cNvPicPr/>
          <p:nvPr/>
        </p:nvPicPr>
        <p:blipFill>
          <a:blip r:embed="rId2"/>
          <a:stretch/>
        </p:blipFill>
        <p:spPr>
          <a:xfrm>
            <a:off x="5143680" y="557208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496" name="Прямоугольник 6"/>
          <p:cNvSpPr/>
          <p:nvPr/>
        </p:nvSpPr>
        <p:spPr>
          <a:xfrm>
            <a:off x="214200" y="3286080"/>
            <a:ext cx="4500720" cy="32148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Ознайомтеся зі змістом міфа про Тесея та Мінотав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Чи є міф про Тесея та Мінотавра лише легендою, фантастичним оповідання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оясніть, що означає крилатий висл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Нитка Аріадни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10"/>
          <p:cNvSpPr/>
          <p:nvPr/>
        </p:nvSpPr>
        <p:spPr>
          <a:xfrm>
            <a:off x="214200" y="2000160"/>
            <a:ext cx="4500720" cy="11430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Міфи - розповіді про богів, героїв, що відбивають фантастичні уявлення давніх людей про світ, природу і людське житт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0000"/>
                </a:solidFill>
                <a:latin typeface="Calibri"/>
              </a:rPr>
              <a:t>Міфи – джерело знань з історії Давньої Греції </a:t>
            </a:r>
            <a:br>
              <a:rPr sz="40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428720" y="785880"/>
            <a:ext cx="47149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-60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Міф про Тесея та Мінотавр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рит – острів, який лежить на південь від Греції, в Середземному морі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носс – столиця Криту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ос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(син бога Зевса) –цар острова Крит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ріадна – дочка царя Міноса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Лабіринт –палац із чисельними кімнатами та заплутаною системою переходів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Мінотавр – чудовисько, напівлюдина – напівбик, яке Мінос поселив у Лабіринті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фіни – місто  в Аттиці (область Середньої Греції)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Егей – правитель Афін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Тесей – син Егея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0" name="Объект 4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1957320" cy="2714760"/>
          </a:xfrm>
          <a:prstGeom prst="rect">
            <a:avLst/>
          </a:prstGeom>
          <a:ln w="0">
            <a:noFill/>
          </a:ln>
        </p:spPr>
      </p:pic>
      <p:sp>
        <p:nvSpPr>
          <p:cNvPr id="501" name="Прямоугольник 14"/>
          <p:cNvSpPr/>
          <p:nvPr/>
        </p:nvSpPr>
        <p:spPr>
          <a:xfrm>
            <a:off x="2357280" y="1143000"/>
            <a:ext cx="2000520" cy="2571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3"/>
          <a:stretch/>
        </p:blipFill>
        <p:spPr>
          <a:xfrm>
            <a:off x="1357200" y="4000680"/>
            <a:ext cx="1928880" cy="2517480"/>
          </a:xfrm>
          <a:prstGeom prst="rect">
            <a:avLst/>
          </a:prstGeom>
          <a:ln w="0">
            <a:noFill/>
          </a:ln>
        </p:spPr>
      </p:pic>
      <p:sp>
        <p:nvSpPr>
          <p:cNvPr id="503" name="Прямоугольник 16"/>
          <p:cNvSpPr/>
          <p:nvPr/>
        </p:nvSpPr>
        <p:spPr>
          <a:xfrm>
            <a:off x="4714920" y="5072040"/>
            <a:ext cx="4214880" cy="12715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У міфі про Тесея та Мінотавра описуються історичні под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8"/>
          <p:cNvSpPr/>
          <p:nvPr/>
        </p:nvSpPr>
        <p:spPr>
          <a:xfrm>
            <a:off x="4714920" y="5072040"/>
            <a:ext cx="4214880" cy="13431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Могутнє Критське царство підкорило сусідні острови і деякі області Балканського півострова. Підкорені народи сплачували Криту дан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Робота з підручником </a:t>
            </a:r>
            <a:r>
              <a:rPr b="1" lang="en-US" sz="2800" spc="-1" strike="noStrike">
                <a:solidFill>
                  <a:srgbClr val="ff0000"/>
                </a:solidFill>
                <a:latin typeface="Tw Cen MT"/>
                <a:ea typeface="Times New Roman"/>
              </a:rPr>
              <a:t>§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25, п.2,3 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56760" y="928800"/>
            <a:ext cx="808668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Хто і коли відкрив цивілізацію на острові Крит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Яку  назву  отримала ця цивілізація. Чому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родовжіть речення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Час існування цивілізації на острові Крит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еріод розквіту цивілізації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Основні заняття жителів Криту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- Наведіть приклади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культурних досягнень на Криті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Що дозволило Криту стати володарем над усіма державами Східного Середземномор’я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Як загинула цивілізація на острові Крит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4285800" y="285840"/>
            <a:ext cx="43578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4960" indent="96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́ртур Е́ванс —      британський археолог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 період 1899—1930 рр. (з перервами) вів розкопки на острові </a:t>
            </a:r>
            <a:r>
              <a:rPr b="1" lang="ru-RU" sz="2400" spc="-1" strike="noStrike">
                <a:solidFill>
                  <a:srgbClr val="775f55"/>
                </a:solidFill>
                <a:latin typeface="Calibri"/>
                <a:ea typeface="Times New Roman"/>
              </a:rPr>
              <a:t>Крит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де відкрив залишки палацу в Кноссі (Лаб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нту) і детально вивчив культуру епохи бронзи.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відому до того культуру назвав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8" name="Picture 2" descr="C:\Documents and Settings\User\Рабочий стол\Греція\загруженное.jpg"/>
          <p:cNvPicPr/>
          <p:nvPr/>
        </p:nvPicPr>
        <p:blipFill>
          <a:blip r:embed="rId1"/>
          <a:stretch/>
        </p:blipFill>
        <p:spPr>
          <a:xfrm>
            <a:off x="0" y="357120"/>
            <a:ext cx="4000680" cy="5214960"/>
          </a:xfrm>
          <a:prstGeom prst="rect">
            <a:avLst/>
          </a:prstGeom>
          <a:ln w="0">
            <a:noFill/>
          </a:ln>
        </p:spPr>
      </p:pic>
      <p:sp>
        <p:nvSpPr>
          <p:cNvPr id="509" name="Прямоугольник 3"/>
          <p:cNvSpPr/>
          <p:nvPr/>
        </p:nvSpPr>
        <p:spPr>
          <a:xfrm>
            <a:off x="5429160" y="5286240"/>
            <a:ext cx="3429000" cy="9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Мінойською палацов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цивілізаціє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-0.06522 L 0.00625 -0.23312 E">
                                      <p:cBhvr>
                                        <p:cTn id="340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-360" y="428400"/>
            <a:ext cx="428148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Час існування цивілізації на острові Крит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60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еріод розквіту цивілізації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60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Основні заняття жителів Криту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60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603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Прямоугольник 5"/>
          <p:cNvSpPr/>
          <p:nvPr/>
        </p:nvSpPr>
        <p:spPr>
          <a:xfrm>
            <a:off x="5857920" y="428760"/>
            <a:ext cx="307188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3500-1100 рр. до н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6"/>
          <p:cNvSpPr/>
          <p:nvPr/>
        </p:nvSpPr>
        <p:spPr>
          <a:xfrm>
            <a:off x="5857920" y="1214280"/>
            <a:ext cx="314316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w Cen MT"/>
              </a:rPr>
              <a:t>XVI –XV</a:t>
            </a: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 ст. до н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8"/>
          <p:cNvSpPr/>
          <p:nvPr/>
        </p:nvSpPr>
        <p:spPr>
          <a:xfrm>
            <a:off x="4429080" y="2571840"/>
            <a:ext cx="4714920" cy="1928880"/>
          </a:xfrm>
          <a:prstGeom prst="rect">
            <a:avLst/>
          </a:prstGeom>
          <a:solidFill>
            <a:srgbClr val="ffffff"/>
          </a:solidFill>
          <a:ln w="324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землеробство, ремесло, будівництво, кораблебудування, мореплавст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морська торгів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684 0.04417 L -0.29271 0.05458 E">
                                      <p:cBhvr>
                                        <p:cTn id="352" dur="2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302 0.02405 L -0.3125 0.04209 E">
                                      <p:cBhvr>
                                        <p:cTn id="362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236 -0.01549 L -0.32101 -0.01549 E">
                                      <p:cBhvr>
                                        <p:cTn id="372" dur="2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609120" y="4214880"/>
            <a:ext cx="331956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5" name="Содержимое 7" descr="12.jpg"/>
          <p:cNvPicPr/>
          <p:nvPr/>
        </p:nvPicPr>
        <p:blipFill>
          <a:blip r:embed="rId1"/>
          <a:stretch/>
        </p:blipFill>
        <p:spPr>
          <a:xfrm>
            <a:off x="4929120" y="192888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285840" y="214200"/>
            <a:ext cx="4039920" cy="150048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775f55"/>
                </a:solidFill>
                <a:latin typeface="Calibri"/>
              </a:rPr>
              <a:t>Міста: Кносс, Фест, Малія, Закро.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775f55"/>
                </a:solidFill>
                <a:latin typeface="Calibri"/>
              </a:rPr>
              <a:t>Розвинені архітектура (палаци), живопис (мозаїка)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714560" y="214200"/>
            <a:ext cx="4041720" cy="150048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75f55"/>
                </a:solidFill>
                <a:latin typeface="Calibri"/>
              </a:rPr>
              <a:t>Розвинена система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75f55"/>
                </a:solidFill>
                <a:latin typeface="Calibri"/>
              </a:rPr>
              <a:t>писемності – письмо “А”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75f55"/>
                </a:solidFill>
                <a:latin typeface="Calibri"/>
              </a:rPr>
              <a:t>Письмо “Б”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8" name="Picture 4" descr="дворец миноса 1"/>
          <p:cNvPicPr/>
          <p:nvPr/>
        </p:nvPicPr>
        <p:blipFill>
          <a:blip r:embed="rId2"/>
          <a:stretch/>
        </p:blipFill>
        <p:spPr>
          <a:xfrm>
            <a:off x="285840" y="1928880"/>
            <a:ext cx="3500280" cy="4643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Крит 024"/>
          <p:cNvPicPr/>
          <p:nvPr/>
        </p:nvPicPr>
        <p:blipFill>
          <a:blip r:embed="rId3"/>
          <a:stretch/>
        </p:blipFill>
        <p:spPr>
          <a:xfrm>
            <a:off x="285840" y="1928880"/>
            <a:ext cx="3643200" cy="47149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knossos[1]"/>
          <p:cNvPicPr/>
          <p:nvPr/>
        </p:nvPicPr>
        <p:blipFill>
          <a:blip r:embed="rId4"/>
          <a:stretch/>
        </p:blipFill>
        <p:spPr>
          <a:xfrm>
            <a:off x="285840" y="1928880"/>
            <a:ext cx="3714840" cy="47149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4" descr="1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285840" y="1928880"/>
            <a:ext cx="3643200" cy="47149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4" descr="fr_pro[1]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85840" y="1857240"/>
            <a:ext cx="3714840" cy="47865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1f18e921f2f1[1]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285840" y="1857240"/>
            <a:ext cx="37148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7"/>
          <p:cNvSpPr/>
          <p:nvPr/>
        </p:nvSpPr>
        <p:spPr>
          <a:xfrm>
            <a:off x="2843280" y="1244520"/>
            <a:ext cx="63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5"/>
          <p:cNvSpPr/>
          <p:nvPr/>
        </p:nvSpPr>
        <p:spPr>
          <a:xfrm>
            <a:off x="3071880" y="642960"/>
            <a:ext cx="5857920" cy="62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ва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рті територію Давньої Греції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ат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плив географічного положення та природних умов на життя людей на Балканському півострові та островах Егейського мор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осовувати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 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ювати 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икладах поняття і терміни: “античність”, “елліни”, “грецькі міфи”, “цивілізація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одити приклади 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них досягнень на Крит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юват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ідомі крилаті висл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сконалит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іння працювати з підручником, аналізувати та порівнювати, історичні факти, висловлювати власну думку, критично мислити.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5"/>
          <p:cNvSpPr/>
          <p:nvPr/>
        </p:nvSpPr>
        <p:spPr>
          <a:xfrm>
            <a:off x="2857680" y="14292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Після  цього  уроку ви зможе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775f55"/>
                </a:solidFill>
                <a:latin typeface="Calibri"/>
              </a:rPr>
              <a:t>Що дозволило Криту стати володарем над усіма державами Східного Середземномор’я?</a:t>
            </a:r>
            <a:br>
              <a:rPr sz="4000"/>
            </a:b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Прямоугольник 3"/>
          <p:cNvSpPr/>
          <p:nvPr/>
        </p:nvSpPr>
        <p:spPr>
          <a:xfrm>
            <a:off x="714240" y="4429080"/>
            <a:ext cx="3571920" cy="214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На Криті існувала могутня держава, яка міцніла й багатіла завдяки праці поневолених народ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10" descr=""/>
          <p:cNvPicPr/>
          <p:nvPr/>
        </p:nvPicPr>
        <p:blipFill>
          <a:blip r:embed="rId1"/>
          <a:stretch/>
        </p:blipFill>
        <p:spPr>
          <a:xfrm>
            <a:off x="5108400" y="3071880"/>
            <a:ext cx="3821400" cy="3286080"/>
          </a:xfrm>
          <a:prstGeom prst="rect">
            <a:avLst/>
          </a:prstGeom>
          <a:ln w="0">
            <a:noFill/>
          </a:ln>
        </p:spPr>
      </p:pic>
      <p:sp>
        <p:nvSpPr>
          <p:cNvPr id="528" name="Прямоугольник 5"/>
          <p:cNvSpPr/>
          <p:nvPr/>
        </p:nvSpPr>
        <p:spPr>
          <a:xfrm>
            <a:off x="5500800" y="4214880"/>
            <a:ext cx="3286080" cy="105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Бойовий флот, який захищав прибрежні води Кри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6"/>
          <p:cNvSpPr/>
          <p:nvPr/>
        </p:nvSpPr>
        <p:spPr>
          <a:xfrm>
            <a:off x="642960" y="4429080"/>
            <a:ext cx="3643200" cy="21430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цей час  народи Євро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или первісним лад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м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ржави,  законів, писемност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-0.01573 L 0.00226 -0.34875 E">
                                      <p:cBhvr>
                                        <p:cTn id="464" dur="2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7567E-006 L -1.38889E-006 -0.33303 E">
                                      <p:cBhvr>
                                        <p:cTn id="480" dur="2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агибель  Критської цивілізації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000400" y="1500120"/>
            <a:ext cx="3887640" cy="4608720"/>
          </a:xfrm>
          <a:prstGeom prst="rect">
            <a:avLst/>
          </a:prstGeom>
          <a:solidFill>
            <a:srgbClr val="558bb8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ст. до н.е.  -виверження вулкану на острові Фера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вторгнення  племен ахейців, що мешкали на півдні Балкан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2" name="Picture 5" descr="1"/>
          <p:cNvPicPr/>
          <p:nvPr/>
        </p:nvPicPr>
        <p:blipFill>
          <a:blip r:embed="rId1"/>
          <a:stretch/>
        </p:blipFill>
        <p:spPr>
          <a:xfrm>
            <a:off x="214200" y="1143000"/>
            <a:ext cx="4429080" cy="5500800"/>
          </a:xfrm>
          <a:prstGeom prst="rect">
            <a:avLst/>
          </a:prstGeom>
          <a:ln w="76320">
            <a:solidFill>
              <a:srgbClr val="775f55"/>
            </a:solidFill>
            <a:miter/>
          </a:ln>
        </p:spPr>
      </p:pic>
      <p:pic>
        <p:nvPicPr>
          <p:cNvPr id="533" name="EXPL195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2" dur="1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Деякі  дослідники  історії Давньої  Греції вважають, що «Море цивілізувало греків». Чи згодні ви з цим твердженням? Свою відповідь поясніть, спираючись на історичні факти.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12720" y="1928520"/>
            <a:ext cx="815328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Родючої землі у Греції мало, повноводних річок немає, тому створити іригаційну систему, як у країнах Сходу, було неможливо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Багатством Греції були моря: зручні бухти, чисельні острови, що розташовувалися недалеко один від одного, створювали умови для розвитку мореплавства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тавши мореплавцями, греки створили розвинені цивілізації.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рикладом є найдавніша  цивілізація  в  Європі, що виникла на острові Крит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536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"/>
          <p:cNvGraphicFramePr/>
          <p:nvPr/>
        </p:nvGraphicFramePr>
        <p:xfrm>
          <a:off x="0" y="0"/>
          <a:ext cx="5000760" cy="6842160"/>
        </p:xfrm>
        <a:graphic>
          <a:graphicData uri="http://schemas.openxmlformats.org/drawingml/2006/table">
            <a:tbl>
              <a:tblPr/>
              <a:tblGrid>
                <a:gridCol w="500076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еція розташована на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вострів омивається морями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и поділяють країну на частин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вища гора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ні греки називали свою країну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давніша цивілізація в Європі виникла на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давніша цивілізація в Європі  була відкрита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іод розквіту найдавнішої цивілізації  в Європі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537" name="Прямоугольник 2"/>
          <p:cNvSpPr/>
          <p:nvPr/>
        </p:nvSpPr>
        <p:spPr>
          <a:xfrm>
            <a:off x="5643720" y="285840"/>
            <a:ext cx="3500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Балканському півостро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3"/>
          <p:cNvSpPr/>
          <p:nvPr/>
        </p:nvSpPr>
        <p:spPr>
          <a:xfrm>
            <a:off x="5214960" y="928800"/>
            <a:ext cx="3786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Егейським, Іонічним, Критським, Середзем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5"/>
          <p:cNvSpPr/>
          <p:nvPr/>
        </p:nvSpPr>
        <p:spPr>
          <a:xfrm>
            <a:off x="5214960" y="1857240"/>
            <a:ext cx="3929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Північну, Середню, Пелопонн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6"/>
          <p:cNvSpPr/>
          <p:nvPr/>
        </p:nvSpPr>
        <p:spPr>
          <a:xfrm>
            <a:off x="5214960" y="2786040"/>
            <a:ext cx="3786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Олім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7"/>
          <p:cNvSpPr/>
          <p:nvPr/>
        </p:nvSpPr>
        <p:spPr>
          <a:xfrm>
            <a:off x="5214960" y="3429000"/>
            <a:ext cx="3786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Елл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5357880" y="4643280"/>
            <a:ext cx="3500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Кри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9"/>
          <p:cNvSpPr/>
          <p:nvPr/>
        </p:nvSpPr>
        <p:spPr>
          <a:xfrm>
            <a:off x="5357880" y="5286240"/>
            <a:ext cx="3500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Артуром Еван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10"/>
          <p:cNvSpPr/>
          <p:nvPr/>
        </p:nvSpPr>
        <p:spPr>
          <a:xfrm>
            <a:off x="5286240" y="6286680"/>
            <a:ext cx="3714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VI – XV </a:t>
            </a: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ст. до н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2 0.00208 L -0.21407 0.00416 E">
                                      <p:cBhvr>
                                        <p:cTn id="528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8 0.00277 L -0.1592 0.00277 E">
                                      <p:cBhvr>
                                        <p:cTn id="538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052 -0.00162 L -0.07587 -0.00162 E">
                                      <p:cBhvr>
                                        <p:cTn id="548" dur="2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09 -0.00579 L -0.35608 -0.00579 E">
                                      <p:cBhvr>
                                        <p:cTn id="558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96 0.00023 L -0.23004 0.00023 E">
                                      <p:cBhvr>
                                        <p:cTn id="568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69 -0.00902 L -0.37969 -0.00902 E">
                                      <p:cBhvr>
                                        <p:cTn id="578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67 0.00231 L -0.31667 0.00231 E">
                                      <p:cBhvr>
                                        <p:cTn id="588" dur="2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66 0.00347 L -0.32066 0.00347 E">
                                      <p:cBhvr>
                                        <p:cTn id="598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0" y="5661000"/>
            <a:ext cx="914400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Лежнина Юлия Викторовна 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МБОУ Троицкая СОШ (Московская обл., Чеховский р-н) 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Прямоугольник 3"/>
          <p:cNvSpPr/>
          <p:nvPr/>
        </p:nvSpPr>
        <p:spPr>
          <a:xfrm>
            <a:off x="2643120" y="1143000"/>
            <a:ext cx="6143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Продовжіть рече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Сьогодні на уроці я дізнав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Я не вмів, тепер я вмію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ені потрібно навчити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ені потрібно повторит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5661000"/>
            <a:ext cx="914400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Лежнина Юлия Викторовна 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МБОУ Троицкая СОШ (Московская обл., Чеховский р-н) 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5"/>
          <p:cNvSpPr/>
          <p:nvPr/>
        </p:nvSpPr>
        <p:spPr>
          <a:xfrm>
            <a:off x="2643120" y="157608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є завдання: прочита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4, 25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иконати завдання контурної кар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* виконати завдання 11, с.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57120" y="155520"/>
            <a:ext cx="832968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Що таке цивілізація?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Де виникли перші цивілізації?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Які природні умови цьому сприяли?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Назвіть основні заняття людей у давнину.</a:t>
            </a:r>
            <a:br>
              <a:rPr sz="2200"/>
            </a:br>
            <a:endParaRPr b="0" lang="en-US" sz="2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714680"/>
            <a:ext cx="4929120" cy="514332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4"/>
          <p:cNvSpPr/>
          <p:nvPr/>
        </p:nvSpPr>
        <p:spPr>
          <a:xfrm>
            <a:off x="5000760" y="1928880"/>
            <a:ext cx="4143240" cy="285732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Цивілізація – рівень розвитку суспільства, на якому  утворюютьс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держав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виникають міста, писемні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7" descr="двуречье в 4-3 тысячелетии до н э"/>
          <p:cNvPicPr/>
          <p:nvPr/>
        </p:nvPicPr>
        <p:blipFill>
          <a:blip r:embed="rId2"/>
          <a:stretch/>
        </p:blipFill>
        <p:spPr>
          <a:xfrm>
            <a:off x="0" y="1722600"/>
            <a:ext cx="4857840" cy="51354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417" name="Picture 1" descr="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0" y="1785960"/>
            <a:ext cx="485784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8" name="Picture 3" descr="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0" y="1714680"/>
            <a:ext cx="4857840" cy="514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Лежнина Юлия Викторовна </a:t>
            </a: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МБОУ Троицкая СОШ (Московская обл., Чеховский р-н) </a:t>
            </a: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6"/>
          <p:cNvSpPr/>
          <p:nvPr/>
        </p:nvSpPr>
        <p:spPr>
          <a:xfrm>
            <a:off x="2286000" y="189360"/>
            <a:ext cx="6858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П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роблемні пит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вні греки говорили: «Гори захищають і розділяють, а море поєднує».  Що це означає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еякі  дослідники історії Давньої Греції вважають, що «Море цивілізувало греків». Чи згодні ви з цим твердженням?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ю відповідь поясніть, спираючись на історичні фак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реція – країна гір та морів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4" name="Рисунок 2" descr="23385908_gora.jpg"/>
          <p:cNvPicPr/>
          <p:nvPr/>
        </p:nvPicPr>
        <p:blipFill>
          <a:blip r:embed="rId1"/>
          <a:stretch/>
        </p:blipFill>
        <p:spPr>
          <a:xfrm>
            <a:off x="4643280" y="857160"/>
            <a:ext cx="4286520" cy="25005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repphoto_644_3651[1]"/>
          <p:cNvPicPr/>
          <p:nvPr/>
        </p:nvPicPr>
        <p:blipFill>
          <a:blip r:embed="rId2"/>
          <a:stretch/>
        </p:blipFill>
        <p:spPr>
          <a:xfrm>
            <a:off x="4643280" y="3500280"/>
            <a:ext cx="4286520" cy="25718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"/>
          <p:cNvPicPr/>
          <p:nvPr/>
        </p:nvPicPr>
        <p:blipFill>
          <a:blip r:embed="rId3"/>
          <a:stretch/>
        </p:blipFill>
        <p:spPr>
          <a:xfrm>
            <a:off x="214200" y="3500280"/>
            <a:ext cx="4286520" cy="257184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1" descr="1238764715_837039.jpg"/>
          <p:cNvPicPr/>
          <p:nvPr/>
        </p:nvPicPr>
        <p:blipFill>
          <a:blip r:embed="rId4"/>
          <a:stretch/>
        </p:blipFill>
        <p:spPr>
          <a:xfrm>
            <a:off x="214200" y="857160"/>
            <a:ext cx="42865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71280" y="1643040"/>
          <a:ext cx="8786880" cy="1000080"/>
        </p:xfrm>
        <a:graphic>
          <a:graphicData uri="http://schemas.openxmlformats.org/drawingml/2006/table">
            <a:tbl>
              <a:tblPr/>
              <a:tblGrid>
                <a:gridCol w="1357560"/>
                <a:gridCol w="2201760"/>
                <a:gridCol w="2155680"/>
                <a:gridCol w="1571760"/>
                <a:gridCol w="1500120"/>
              </a:tblGrid>
              <a:tr h="100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раї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ографічн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зташув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ічки, гори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устел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лім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рисні копали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4200" y="155160"/>
            <a:ext cx="8715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libri"/>
              </a:rPr>
              <a:t>Робота з підручником </a:t>
            </a: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§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24, п.1 </a:t>
            </a:r>
            <a:br>
              <a:rPr sz="3200"/>
            </a:b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Визначте географічне положення Греції та Єгипту. </a:t>
            </a:r>
            <a:br>
              <a:rPr sz="2400"/>
            </a:b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Порівняйте  природно – кліматичні умови Греції та Єгипту.</a:t>
            </a:r>
            <a:br>
              <a:rPr sz="2400"/>
            </a:b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Запишіть висновки у таблицю. 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71280" y="2500200"/>
          <a:ext cx="8786880" cy="1554120"/>
        </p:xfrm>
        <a:graphic>
          <a:graphicData uri="http://schemas.openxmlformats.org/drawingml/2006/table">
            <a:tbl>
              <a:tblPr/>
              <a:tblGrid>
                <a:gridCol w="1357560"/>
                <a:gridCol w="2214360"/>
                <a:gridCol w="2143080"/>
                <a:gridCol w="1571760"/>
                <a:gridCol w="150012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е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71280" y="4071960"/>
          <a:ext cx="8786880" cy="1714320"/>
        </p:xfrm>
        <a:graphic>
          <a:graphicData uri="http://schemas.openxmlformats.org/drawingml/2006/table">
            <a:tbl>
              <a:tblPr/>
              <a:tblGrid>
                <a:gridCol w="1357560"/>
                <a:gridCol w="2243160"/>
                <a:gridCol w="2114280"/>
                <a:gridCol w="1571760"/>
                <a:gridCol w="1500120"/>
              </a:tblGrid>
              <a:tr h="1714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Єгип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sp>
        <p:nvSpPr>
          <p:cNvPr id="432" name="Прямоугольник 7"/>
          <p:cNvSpPr/>
          <p:nvPr/>
        </p:nvSpPr>
        <p:spPr>
          <a:xfrm>
            <a:off x="0" y="5643720"/>
            <a:ext cx="8858160" cy="12142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вні греки говорили: «Гори захищають і розділяють, а море поєднує».  Що це означає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4" descr=""/>
          <p:cNvPicPr/>
          <p:nvPr/>
        </p:nvPicPr>
        <p:blipFill>
          <a:blip r:embed="rId1"/>
          <a:stretch/>
        </p:blipFill>
        <p:spPr>
          <a:xfrm>
            <a:off x="1643040" y="4071960"/>
            <a:ext cx="1143000" cy="157176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7" descr="Drevnyaya_Gretciya_7_v_do_n_e.jpg"/>
          <p:cNvPicPr/>
          <p:nvPr/>
        </p:nvPicPr>
        <p:blipFill>
          <a:blip r:embed="rId2"/>
          <a:stretch/>
        </p:blipFill>
        <p:spPr>
          <a:xfrm>
            <a:off x="1643040" y="2571840"/>
            <a:ext cx="1143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Рисунок 7" descr="Drevnyaya_Gretciya_7_v_do_n_e.jpg"/>
          <p:cNvPicPr/>
          <p:nvPr/>
        </p:nvPicPr>
        <p:blipFill>
          <a:blip r:embed="rId1"/>
          <a:stretch/>
        </p:blipFill>
        <p:spPr>
          <a:xfrm>
            <a:off x="0" y="0"/>
            <a:ext cx="518004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286240" y="213840"/>
            <a:ext cx="385776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Південь Європи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Балканський півострів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Іонічне море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Егейське море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Критське море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Середземне море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 Балканські гори (найвища – гора Олімп)</a:t>
            </a:r>
            <a:br>
              <a:rPr sz="1800"/>
            </a:br>
            <a:endParaRPr b="0" lang="en-US" sz="2200" spc="-1" strike="noStrike">
              <a:solidFill>
                <a:srgbClr val="775f55"/>
              </a:solidFill>
              <a:latin typeface="Tw Cen MT"/>
            </a:endParaRPr>
          </a:p>
        </p:txBody>
      </p:sp>
      <p:cxnSp>
        <p:nvCxnSpPr>
          <p:cNvPr id="437" name="Прямая со стрелкой 10"/>
          <p:cNvCxnSpPr/>
          <p:nvPr/>
        </p:nvCxnSpPr>
        <p:spPr>
          <a:xfrm flipH="1">
            <a:off x="1071360" y="928800"/>
            <a:ext cx="4143600" cy="1715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38" name="Прямая со стрелкой 12"/>
          <p:cNvCxnSpPr/>
          <p:nvPr/>
        </p:nvCxnSpPr>
        <p:spPr>
          <a:xfrm flipH="1">
            <a:off x="356760" y="1213200"/>
            <a:ext cx="4858560" cy="3001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39" name="Прямая со стрелкой 14"/>
          <p:cNvCxnSpPr/>
          <p:nvPr/>
        </p:nvCxnSpPr>
        <p:spPr>
          <a:xfrm flipH="1">
            <a:off x="3071160" y="1570680"/>
            <a:ext cx="2143800" cy="1786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40" name="Прямая со стрелкой 21"/>
          <p:cNvCxnSpPr/>
          <p:nvPr/>
        </p:nvCxnSpPr>
        <p:spPr>
          <a:xfrm flipH="1">
            <a:off x="2714040" y="2000160"/>
            <a:ext cx="2500920" cy="3572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41" name="Прямая со стрелкой 23"/>
          <p:cNvCxnSpPr/>
          <p:nvPr/>
        </p:nvCxnSpPr>
        <p:spPr>
          <a:xfrm flipH="1">
            <a:off x="2499480" y="2286000"/>
            <a:ext cx="2786760" cy="4215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42" name="Прямая со стрелкой 25"/>
          <p:cNvCxnSpPr/>
          <p:nvPr/>
        </p:nvCxnSpPr>
        <p:spPr>
          <a:xfrm flipH="1" flipV="1">
            <a:off x="1713960" y="2642400"/>
            <a:ext cx="34297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443" name="Picture 4" descr="j0213508"/>
          <p:cNvPicPr/>
          <p:nvPr/>
        </p:nvPicPr>
        <p:blipFill>
          <a:blip r:embed="rId2"/>
          <a:stretch/>
        </p:blipFill>
        <p:spPr>
          <a:xfrm>
            <a:off x="8215200" y="214200"/>
            <a:ext cx="928800" cy="86688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4"/>
          <p:cNvSpPr/>
          <p:nvPr/>
        </p:nvSpPr>
        <p:spPr>
          <a:xfrm>
            <a:off x="5715000" y="4071960"/>
            <a:ext cx="2143080" cy="357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Середня Гре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5715000" y="4572000"/>
            <a:ext cx="2143080" cy="357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елопон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35"/>
          <p:cNvSpPr/>
          <p:nvPr/>
        </p:nvSpPr>
        <p:spPr>
          <a:xfrm>
            <a:off x="5715000" y="3571920"/>
            <a:ext cx="2143080" cy="342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івнічна Гре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36"/>
          <p:cNvSpPr/>
          <p:nvPr/>
        </p:nvSpPr>
        <p:spPr>
          <a:xfrm>
            <a:off x="5715000" y="5072040"/>
            <a:ext cx="2214720" cy="42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Острівна Гре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37"/>
          <p:cNvSpPr/>
          <p:nvPr/>
        </p:nvSpPr>
        <p:spPr>
          <a:xfrm>
            <a:off x="5715000" y="5643720"/>
            <a:ext cx="2214720" cy="42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Іонійська Гре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15 0.01713 L -0.63594 -0.2243 E">
                                      <p:cBhvr>
                                        <p:cTn id="118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15 0.00648 L -0.62813 -0.1301 E">
                                      <p:cBhvr>
                                        <p:cTn id="122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32 -0.0037 L -0.57292 -0.03518 E">
                                      <p:cBhvr>
                                        <p:cTn id="126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Рисунок 7" descr="Drevnyaya_Gretciya_7_v_do_n_e.jpg"/>
          <p:cNvPicPr/>
          <p:nvPr/>
        </p:nvPicPr>
        <p:blipFill>
          <a:blip r:embed="rId1"/>
          <a:stretch/>
        </p:blipFill>
        <p:spPr>
          <a:xfrm>
            <a:off x="0" y="0"/>
            <a:ext cx="518004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3"/>
          <p:cNvSpPr/>
          <p:nvPr/>
        </p:nvSpPr>
        <p:spPr>
          <a:xfrm>
            <a:off x="5000760" y="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ори захищають і розділяють, а море поєднує».  Що це означає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2"/>
          <a:stretch/>
        </p:blipFill>
        <p:spPr>
          <a:xfrm>
            <a:off x="5429160" y="785880"/>
            <a:ext cx="3286080" cy="2857320"/>
          </a:xfrm>
          <a:prstGeom prst="rect">
            <a:avLst/>
          </a:prstGeom>
          <a:ln w="9360">
            <a:solidFill>
              <a:srgbClr val="94b6d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52" name="Прямоугольник 5"/>
          <p:cNvSpPr/>
          <p:nvPr/>
        </p:nvSpPr>
        <p:spPr>
          <a:xfrm>
            <a:off x="5429160" y="785880"/>
            <a:ext cx="3286080" cy="28573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Балканські гори захищаю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країну від холодних  вітр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оділяють Грецію  на  3 частини  (Північну, Середн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івденну – півостр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елопоннес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"/>
          <p:cNvPicPr/>
          <p:nvPr/>
        </p:nvPicPr>
        <p:blipFill>
          <a:blip r:embed="rId3"/>
          <a:stretch/>
        </p:blipFill>
        <p:spPr>
          <a:xfrm>
            <a:off x="5357880" y="3786120"/>
            <a:ext cx="3500280" cy="281160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5"/>
          <p:cNvSpPr/>
          <p:nvPr/>
        </p:nvSpPr>
        <p:spPr>
          <a:xfrm>
            <a:off x="5357880" y="3786120"/>
            <a:ext cx="3500280" cy="285768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ор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Іонічне, Егейсь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сь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Середзем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5357880" y="3786120"/>
            <a:ext cx="3500280" cy="285768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Берегова сму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півостр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створює безлі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заток,бухт,прот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зручних для стоя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кораблів. Це допомог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грекам навчити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мореплав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3"/>
          <p:cNvSpPr/>
          <p:nvPr/>
        </p:nvSpPr>
        <p:spPr>
          <a:xfrm>
            <a:off x="5429160" y="785880"/>
            <a:ext cx="3357720" cy="28573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Північна та Середня Грец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з</a:t>
            </a:r>
            <a:r>
              <a:rPr b="1" lang="en-US" sz="2000" spc="-1" strike="noStrike">
                <a:solidFill>
                  <a:srgbClr val="ff0000"/>
                </a:solidFill>
                <a:latin typeface="Tw Cen MT"/>
              </a:rPr>
              <a:t>`</a:t>
            </a: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єднані єдиною дорого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прокладен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Фермопільською ущелин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Середня Греці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з</a:t>
            </a:r>
            <a:r>
              <a:rPr b="1" lang="en-US" sz="2000" spc="-1" strike="noStrike">
                <a:solidFill>
                  <a:srgbClr val="ff0000"/>
                </a:solidFill>
                <a:latin typeface="Tw Cen MT"/>
              </a:rPr>
              <a:t>`</a:t>
            </a: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єднана з Південною Коринфським переший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Равнобедренный треугольник 14"/>
          <p:cNvSpPr/>
          <p:nvPr/>
        </p:nvSpPr>
        <p:spPr>
          <a:xfrm>
            <a:off x="1500120" y="3429000"/>
            <a:ext cx="285840" cy="1429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Прямая со стрелкой 16"/>
          <p:cNvCxnSpPr/>
          <p:nvPr/>
        </p:nvCxnSpPr>
        <p:spPr>
          <a:xfrm flipV="1">
            <a:off x="1785960" y="2071080"/>
            <a:ext cx="421560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459" name="Прямая со стрелкой 18"/>
          <p:cNvCxnSpPr/>
          <p:nvPr/>
        </p:nvCxnSpPr>
        <p:spPr>
          <a:xfrm flipH="1">
            <a:off x="1999800" y="3356640"/>
            <a:ext cx="350136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60" name="Равнобедренный треугольник 21"/>
          <p:cNvSpPr/>
          <p:nvPr/>
        </p:nvSpPr>
        <p:spPr>
          <a:xfrm>
            <a:off x="1785960" y="4214880"/>
            <a:ext cx="285840" cy="1285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5"/>
          <p:cNvSpPr/>
          <p:nvPr/>
        </p:nvSpPr>
        <p:spPr>
          <a:xfrm>
            <a:off x="5357880" y="3786120"/>
            <a:ext cx="3500280" cy="2857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Морський шлях сполучає Балканський півострів з островами Середземномор'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6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2999880" y="2643120"/>
            <a:ext cx="3000600" cy="25005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родно-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іматичні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мови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2786040" cy="2357280"/>
          </a:xfrm>
          <a:prstGeom prst="rect">
            <a:avLst/>
          </a:prstGeom>
          <a:ln w="9360">
            <a:solidFill>
              <a:srgbClr val="94b6d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6215040" y="142920"/>
            <a:ext cx="2928960" cy="2357280"/>
          </a:xfrm>
          <a:prstGeom prst="rect">
            <a:avLst/>
          </a:prstGeom>
          <a:ln w="9360">
            <a:solidFill>
              <a:srgbClr val="94b6d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65" name="Picture 2" descr=""/>
          <p:cNvPicPr/>
          <p:nvPr/>
        </p:nvPicPr>
        <p:blipFill>
          <a:blip r:embed="rId3"/>
          <a:stretch/>
        </p:blipFill>
        <p:spPr>
          <a:xfrm>
            <a:off x="2928960" y="142920"/>
            <a:ext cx="3071880" cy="2357280"/>
          </a:xfrm>
          <a:prstGeom prst="rect">
            <a:avLst/>
          </a:prstGeom>
          <a:ln w="9360">
            <a:solidFill>
              <a:srgbClr val="94b6d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66" name="Picture 2" descr=""/>
          <p:cNvPicPr/>
          <p:nvPr/>
        </p:nvPicPr>
        <p:blipFill>
          <a:blip r:embed="rId4"/>
          <a:stretch/>
        </p:blipFill>
        <p:spPr>
          <a:xfrm>
            <a:off x="0" y="2714760"/>
            <a:ext cx="2928960" cy="2457360"/>
          </a:xfrm>
          <a:prstGeom prst="rect">
            <a:avLst/>
          </a:prstGeom>
          <a:ln w="9360">
            <a:solidFill>
              <a:srgbClr val="94b6d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67" name="Picture 4" descr="nature_127"/>
          <p:cNvPicPr/>
          <p:nvPr/>
        </p:nvPicPr>
        <p:blipFill>
          <a:blip r:embed="rId5"/>
          <a:stretch/>
        </p:blipFill>
        <p:spPr>
          <a:xfrm>
            <a:off x="6072120" y="2643120"/>
            <a:ext cx="3071880" cy="250056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9"/>
          <p:cNvSpPr/>
          <p:nvPr/>
        </p:nvSpPr>
        <p:spPr>
          <a:xfrm>
            <a:off x="0" y="4786200"/>
            <a:ext cx="9144000" cy="20718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90000" tIns="91440" bIns="46800" anchor="ctr">
            <a:noAutofit/>
          </a:bodyPr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лімат спекотний, посушли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Схили гір вкриті кущами та низькорослими дере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емля кам’яниста, неродюч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агата на корисні копалини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(залізо , мідь, срібло,гли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ри поділили країну на долини, якими течуть річ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урхливі восени і взимку, навесні пересихаю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ancesco Marino / FreeDigitalPhotos.net </dc:description>
  <dc:language>en-US</dc:language>
  <cp:lastModifiedBy>User</cp:lastModifiedBy>
  <dcterms:modified xsi:type="dcterms:W3CDTF">2014-02-08T16:53:26Z</dcterms:modified>
  <cp:revision>261</cp:revision>
  <dc:subject/>
  <dc:title>Blue Water 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27000000000001024140</vt:lpwstr>
  </property>
</Properties>
</file>