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2.gif" ContentType="image/gif"/>
  <Override PartName="/ppt/media/image17.jpeg" ContentType="image/jpeg"/>
  <Override PartName="/ppt/media/image16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BBA-EAE5-4CBE-BC14-6A3C7144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E32-2F0F-451B-8EDF-FA8610ED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C44B0-3D92-4DE6-9C05-CF54DC87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39334-4D57-4529-910C-8361ADC5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084B8-A5E8-4FA2-AC6E-227AC573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807CB-809B-460A-B715-EFF5EAA8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CA241-DF31-46FA-8061-805CDCB3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ED47B-D615-4448-8F02-5A826312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6BEB8-2C6E-415C-8B62-B8F0A342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3FBA6-3454-42EF-854C-2512A28A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A58D2-2898-4807-80D0-009408EC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275-1BBE-40B5-9648-C45AAD1D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8CA-E5D2-4973-BAE6-CE59C4EB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2489-0C2A-4535-9C70-1835E77F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6B3B-A99A-4B9D-9E32-0D8D2780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CB35-B2D8-416E-A5BE-31329A21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A4A0-CC69-4554-B228-EB841940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24AF-9BC0-47C9-ABD2-D13F7EBD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A576-1497-4C44-8E9D-D5F2ECE9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CD53-00C1-478B-9E5C-E4CD3A15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EE2-0F66-44BC-A0C1-2DE27DF4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C7F3-7AE7-49D8-BFEA-CBCACFE7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29A0-3CDC-4E30-A5CC-2F838AA2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7B18-D557-4C79-9F07-A9B15E31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1CFF-A646-4EF2-8236-929C3C8D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2AD7-C00D-402F-93C5-519E3402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D36BC-7041-4075-9079-5EA2EBF0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36871-4898-4440-B825-C19BA947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234F2-CACD-47C6-9782-9ED9575E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E1F4E-64BF-4DB7-AAD6-05942F61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E130D-306D-4F06-89E0-A9B47C1F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04C-E10F-48D0-ACFC-F6AA8D8B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9DE2E-7CBF-4739-920B-49CE68BE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D1EEF-1C8F-425E-8DFD-D23FB90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92F13-D3F5-48BE-915E-97D65CA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877BA-CF74-406B-BA19-9ABF2D08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87612-2959-4E6C-917E-9F031232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C29CE-38E0-4DCB-B00F-C63A2457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6BB8E-3875-42D3-BD77-7E0BEC39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EA94A-3C9B-4F80-8604-73FB2863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085E5-FF49-4D57-95C2-C3CA7139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A759A-BD82-445C-BBF3-500455D6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1C8-07CC-4F9D-8651-DE0AF8B4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2DE76-95A3-4E31-96A0-D0168C73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CFFA2-0402-4E47-8BFB-3C8A45A0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30DBF-CAB0-4407-93F3-DF365CB5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9324B-6677-4625-8476-0265E2A4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8FA97-B397-4A6C-8FE7-33813DD8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E0978-1631-457F-BBF7-E5D05D89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06F2F-1B65-4DA5-9D40-F9D2A59B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7D4F8-064E-4BA7-BB18-B2093910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E6B9B3-F293-4169-AEE8-1EE55180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1FBC8-C439-436A-A6EF-762A615F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ABB-3FFD-4C58-9714-E62AD39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68A27-9FF1-4597-980E-C8C2630D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BA955-9A9D-4939-8070-55FFECB4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4A2B2-10C9-4216-BE8E-CAE5AF31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37469-754B-4B79-8CBC-4ED74D3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0E802-3AE6-43CC-89D6-0E1D7217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3630A-EB9C-492F-A77F-F5576FFF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58993-F6F0-4EFF-BE97-1F9A509D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38C7A-B1BA-4A29-87D3-CD9FFAD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5ACA9-12DB-41F1-95E0-5BD65353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B7B15-E598-4D40-8B1A-82724316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694-4132-4B44-87C5-27DDB2CA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BEFB8-5DB9-4804-A828-4520C307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B3C82-A756-43DD-B3F9-8050FF34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E901D-74F1-4365-9138-AECAA3F4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BADC0-395C-41C4-928C-490D4BBC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4FE09-75C1-44DC-BBEF-027E01E9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86F33-6EBE-4769-A5C5-5D9EF47F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A6186-8CC9-4988-BEEF-5C8ED29C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D7B41-0720-4808-B866-43AF9733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23FCA-5D9C-4957-B0A1-B8A4721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85E3C-A5B8-4219-A285-9AC252ED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0C8-98A1-44F7-BA45-8E427513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9104-4E24-40AB-A8C1-C1F63E35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2F8B3-4F69-418E-B01F-A7CAE5EE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4332E-787B-495A-834E-BF157C1E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FDF46-FD5E-4245-B2D6-8154E508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63A78-E369-4DAF-B76D-D7B26D3C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CA926-FB19-4A1F-AA50-4A87AF2E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671A3-1E64-45A6-ACDB-7970EAA6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85627-965D-43B4-B594-712805CF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39B49-6A20-4C7A-8BF8-C7718C23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8F727-D1A0-422A-AA07-5C0353E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BB5-30C2-40CD-9C9F-ACC47658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A3CE5-1BB3-47FB-A6A9-0E46C68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D6429-8B93-4A08-A8F2-E7602A89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30FE99-622F-468D-BF16-4DF156D8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6E3B8-D103-48C2-9AFC-8D7A937F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37551-293D-4779-A1A2-E2A6A1C2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D33B0-3017-4AC8-AA78-69D52351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EC694-E2CC-4753-890C-28F2F8B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E30B2-D174-4AE4-8E3F-88619611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FAABA-A8D4-4037-BEAA-2F690C7C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F489B-DBE1-4E97-A9FB-EE8F0A77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D5D-CC83-4EF5-81AE-CAEB8175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E7208-D24C-4BEB-BE1F-78FC852A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F3F76-121E-4874-BEC8-7A4C85ED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18590-0D35-485B-A345-4CCEE2CE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120CE-E3AD-445A-97EA-42BB7664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A1998-E252-4008-A35B-248B05F5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D8D30-2979-4F86-831B-7D7C6FAF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A68A0-EC2F-4A21-A1F8-BD04BEE8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2FF54-210A-4A76-9102-5F35C4AE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A2A5E-0DCA-463B-9981-EB40DCCA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8E0C5-7DF1-4DBF-B36D-CC8BDB73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9BC0-38C7-4842-BFD9-65549A6395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9A0AD012-7B76-44B3-AEDC-3B521BB68CD2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75F2-C85E-4BC4-A850-47EB008AFBF7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2FDE-149C-4967-8C33-03904E3C961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CDF47C6-8F24-4A38-BD4D-24F920846617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B34F-01D1-40AF-B44D-8FE9397404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DED909E7-BCBC-4833-8B54-A2BDB609E99B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4357-CA05-4EF8-A481-99A6727278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4B3E-C7A2-43CE-AD4D-58D61567F92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EA93-5ADB-461C-BBDE-16D0EC7E196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3210-69EC-40FE-B680-3CD211D6F1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109048CF-C129-4BC2-BA41-70D475753373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B0F3-529F-4F3B-9F82-E46D82CF65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7.jpe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2643120" y="1515240"/>
            <a:ext cx="65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лан урок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еографічне положення та природа Давньо</a:t>
            </a:r>
            <a:r>
              <a:rPr b="1" lang="uk-UA" sz="2400" spc="-1" strike="noStrike">
                <a:solidFill>
                  <a:srgbClr val="ff0066"/>
                </a:solidFill>
                <a:latin typeface="Arial"/>
              </a:rPr>
              <a:t>ї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Гре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. Основні заняття насе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. Мінойська палацова цивілізаці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1143000" y="2142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ція в І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першій половині І тис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2928960" y="642960"/>
            <a:ext cx="53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й населення Давньої Гре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71280" y="357120"/>
          <a:ext cx="8858520" cy="92880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928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аї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ографіч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таш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чки, гори, пуст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і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рисні копа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71280" y="1357200"/>
          <a:ext cx="8858520" cy="357192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357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е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івдень Європи, Балканський пів-ов.Омивається морями: Егейським, Іонічним, Критським, Середземним. Велика кількість острові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ерегова смуга створює безліч заток, бухт, прот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ічки — бурхливі восени і взимку, а навесні переси-хаю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лканські гор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емля - кам’яниста, неродю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котний, посушли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лізо, мідь, срібло та г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71280" y="4929120"/>
          <a:ext cx="8858520" cy="185760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Єгип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івнічний схі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фрики. На півночі омивається Середземним мор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новодна річка — Ніл. Волога, родюча земля після розливу Нілу. Пуст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х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котне, сухе  повітря, гарячі вітри, відсутність дощ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мі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Єгипет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Прямоугольник 7"/>
          <p:cNvSpPr/>
          <p:nvPr/>
        </p:nvSpPr>
        <p:spPr>
          <a:xfrm>
            <a:off x="285840" y="4786200"/>
            <a:ext cx="8572320" cy="13575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Яка  відмінність вплинула на заняття населення Давньої Греції? Доведіть свою точку з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1"/>
          <p:cNvSpPr/>
          <p:nvPr/>
        </p:nvSpPr>
        <p:spPr>
          <a:xfrm>
            <a:off x="3143160" y="2000160"/>
            <a:ext cx="285768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мін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2"/>
          <p:cNvSpPr/>
          <p:nvPr/>
        </p:nvSpPr>
        <p:spPr>
          <a:xfrm>
            <a:off x="3143160" y="642960"/>
            <a:ext cx="2857680" cy="4856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піль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3"/>
          <p:cNvSpPr/>
          <p:nvPr/>
        </p:nvSpPr>
        <p:spPr>
          <a:xfrm>
            <a:off x="2428920" y="1143000"/>
            <a:ext cx="4286160" cy="84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Жаркий клім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рідко йдуть до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14"/>
          <p:cNvSpPr/>
          <p:nvPr/>
        </p:nvSpPr>
        <p:spPr>
          <a:xfrm>
            <a:off x="214200" y="2571840"/>
            <a:ext cx="5572080" cy="214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У Греції немає повноводних рі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– гірська 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Земля – кам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яниста, неродю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– морська 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Має запаси корисних коп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9"/>
          <p:cNvSpPr/>
          <p:nvPr/>
        </p:nvSpPr>
        <p:spPr>
          <a:xfrm>
            <a:off x="1785960" y="214200"/>
            <a:ext cx="5572080" cy="3574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иродно – кліматичні ум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1357200" cy="1701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 repeatCount="100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 repeatCount="100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няття населення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3428640"/>
            <a:ext cx="9144000" cy="3429000"/>
          </a:xfrm>
          <a:prstGeom prst="rect">
            <a:avLst/>
          </a:prstGeom>
          <a:solidFill>
            <a:srgbClr val="558bb8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емлеробство – у долинах річок вирощували зернові й овочі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тарство - на схилах пагорбів та гір влаштовували тераси, де зростав виноград, оливкові дерева, випасали кіз, овець, корів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месло – металургія, ковальство, гончарство, ткацтво, ювелірна справ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иболовство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Кораблебудування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еплавство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ська торгівл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3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1" descr="Рисунок1"/>
          <p:cNvPicPr/>
          <p:nvPr/>
        </p:nvPicPr>
        <p:blipFill>
          <a:blip r:embed="rId1"/>
          <a:stretch/>
        </p:blipFill>
        <p:spPr>
          <a:xfrm>
            <a:off x="318600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2"/>
          <a:stretch/>
        </p:blipFill>
        <p:spPr>
          <a:xfrm>
            <a:off x="4857840" y="2786040"/>
            <a:ext cx="725400" cy="392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"/>
          <p:cNvPicPr/>
          <p:nvPr/>
        </p:nvPicPr>
        <p:blipFill>
          <a:blip r:embed="rId3"/>
          <a:stretch/>
        </p:blipFill>
        <p:spPr>
          <a:xfrm>
            <a:off x="4857840" y="4000680"/>
            <a:ext cx="714240" cy="3013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2786040" cy="60166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У давнину греки плавали головним чином вздовж східного берега і не виходили у відкрите море. Як ви це можете пояснити ?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9" name="Picture 6" descr="Рисунок3"/>
          <p:cNvPicPr/>
          <p:nvPr/>
        </p:nvPicPr>
        <p:blipFill>
          <a:blip r:embed="rId4"/>
          <a:stretch/>
        </p:blipFill>
        <p:spPr>
          <a:xfrm>
            <a:off x="285840" y="4143240"/>
            <a:ext cx="1860480" cy="1040040"/>
          </a:xfrm>
          <a:prstGeom prst="rect">
            <a:avLst/>
          </a:prstGeom>
          <a:ln w="0">
            <a:noFill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490" name="Picture 7" descr="Рисунок4"/>
          <p:cNvPicPr/>
          <p:nvPr/>
        </p:nvPicPr>
        <p:blipFill>
          <a:blip r:embed="rId5"/>
          <a:stretch/>
        </p:blipFill>
        <p:spPr>
          <a:xfrm>
            <a:off x="285840" y="5286240"/>
            <a:ext cx="1857240" cy="986040"/>
          </a:xfrm>
          <a:prstGeom prst="rect">
            <a:avLst/>
          </a:prstGeom>
          <a:ln w="0">
            <a:noFill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491" name="Прямоугольник 8"/>
          <p:cNvSpPr/>
          <p:nvPr/>
        </p:nvSpPr>
        <p:spPr>
          <a:xfrm>
            <a:off x="142920" y="0"/>
            <a:ext cx="2928960" cy="5214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Егейське море має хвилясту берегову смугу й густо розкидані ост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ідстань між ними не більше 50 км і гори видно здал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Грецькі кораблі були  невеликими,  легкими, не витримували штормів; великій команді не вистачало запасів їжі та води; у греків не було комп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96296E-006 C 0.00938 -0.00324 0.00574 -0.00532 0.01216 -0.01227 C 0.01806 -0.01852 0.02431 -0.02454 0.03039 -0.03032 C 0.03525 -0.03495 0.04063 -0.0382 0.04549 -0.04259 C 0.04706 -0.04398 0.05001 -0.04653 0.05001 -0.04653 C 0.06372 -0.04583 0.07744 -0.04583 0.09098 -0.04445 C 0.09601 -0.04398 0.10608 -0.04051 0.10608 -0.04051 C 0.11077 -0.03426 0.11338 -0.02639 0.11824 -0.02037 C 0.12015 -0.01296 0.12258 -0.00648 0.1257 2.96296E-006 C 0.12692 0.01134 0.12588 0.02338 0.12883 0.03426 C 0.129 0.03449 0.13768 0.03819 0.13785 0.03819 C 0.14185 0.03958 0.15001 0.04236 0.15001 0.04236 C 0.15504 0.0618 0.14792 0.03241 0.15313 0.08264 C 0.15331 0.08472 0.15417 0.0787 0.15452 0.07662 C 0.15574 0.06805 0.1566 0.05926 0.15765 0.05046 C 0.15643 0.04143 0.15574 0.02546 0.15157 0.01597 C 0.14862 0.00926 0.13785 0.00185 0.13785 0.00185 C 0.13629 -0.02107 0.13699 -0.04421 0.13334 -0.06667 C 0.13265 -0.0706 0.12831 -0.07107 0.1257 -0.07292 C 0.10608 -0.08657 0.09792 -0.09352 0.07883 -0.09907 C 0.07674 -0.10046 0.0731 -0.10023 0.07275 -0.10324 C 0.0724 -0.10648 0.07518 -0.10949 0.07726 -0.11111 C 0.08039 -0.11366 0.08438 -0.11366 0.08785 -0.11528 C 0.0981 -0.11991 0.10713 -0.12546 0.11824 -0.12546 E">
                                      <p:cBhvr>
                                        <p:cTn id="290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C 0.00503 0.00463 0.00764 0.01042 0.01198 0.0162 C 0.01406 0.02708 0.01545 0.03403 0.02257 0.04051 C 0.02517 0.05023 0.02847 0.05694 0.03472 0.06273 C 0.03715 0.07222 0.03993 0.08148 0.04236 0.09097 C 0.04288 0.10232 0.04201 0.11412 0.04392 0.12523 C 0.04427 0.12732 0.04687 0.12662 0.04844 0.12732 C 0.05087 0.12847 0.05347 0.12963 0.0559 0.13125 C 0.06267 0.13565 0.06823 0.14097 0.07569 0.14352 C 0.07691 0.14792 0.0816 0.17014 0.08333 0.17176 C 0.08628 0.17431 0.09045 0.17315 0.09392 0.17384 C 0.11406 0.17176 0.13455 0.17222 0.15451 0.16759 C 0.15642 0.16713 0.15486 0.16204 0.1559 0.15972 C 0.16007 0.14954 0.16562 0.13843 0.17118 0.1294 C 0.17517 0.11181 0.17292 0.10046 0.17118 0.08287 C 0.16528 0.02384 0.17673 0.0412 0.16198 0.02222 C 0.16094 0.01944 0.1592 0.01713 0.15903 0.01412 C 0.15833 0.00671 0.16493 0.00046 0.1559 0.01204 C 0.15486 0.00995 0.15295 0.00833 0.15295 0.00602 C 0.15295 -0.00185 0.16614 -0.00995 0.16962 -0.01204 C 0.18351 -0.02037 0.17708 -0.02014 0.18333 -0.02014 E">
                                      <p:cBhvr>
                                        <p:cTn id="29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У ІІІ тис. до н.е. на півострові Пелопоннес, островах Егейського моря виникла цивілізація з центром на острові Крит. Жителів Крита називали пелазгами. </a:t>
            </a: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3" name="Picture 8" descr="Рисунок9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960800" y="1500120"/>
            <a:ext cx="4183200" cy="5143680"/>
          </a:xfrm>
          <a:prstGeom prst="rect">
            <a:avLst/>
          </a:prstGeom>
          <a:ln w="76320">
            <a:solidFill>
              <a:srgbClr val="775f55"/>
            </a:solidFill>
            <a:miter/>
          </a:ln>
        </p:spPr>
      </p:pic>
      <p:sp>
        <p:nvSpPr>
          <p:cNvPr id="494" name=""/>
          <p:cNvSpPr txBox="1"/>
          <p:nvPr/>
        </p:nvSpPr>
        <p:spPr>
          <a:xfrm>
            <a:off x="214200" y="1213920"/>
            <a:ext cx="4500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іфи – джерело знань з історії Давньої Греції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5" name="Picture 13" descr="ar41"/>
          <p:cNvPicPr/>
          <p:nvPr/>
        </p:nvPicPr>
        <p:blipFill>
          <a:blip r:embed="rId2"/>
          <a:stretch/>
        </p:blipFill>
        <p:spPr>
          <a:xfrm>
            <a:off x="5143680" y="557208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6"/>
          <p:cNvSpPr/>
          <p:nvPr/>
        </p:nvSpPr>
        <p:spPr>
          <a:xfrm>
            <a:off x="214200" y="3286080"/>
            <a:ext cx="4500720" cy="3214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знайомтеся зі змістом міфа про Тесея та Мінотав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Чи є міф про Тесея та Мінотавра лише легендою, фантастичним оповідання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оясніть, що означає крилатий вис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итка Аріадн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0"/>
          <p:cNvSpPr/>
          <p:nvPr/>
        </p:nvSpPr>
        <p:spPr>
          <a:xfrm>
            <a:off x="214200" y="2000160"/>
            <a:ext cx="4500720" cy="11430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іфи - розповіді про богів, героїв, що відбивають фантастичні уявлення давніх людей про світ, природу і людське житт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Міфи – джерело знань з історії Давньої Греції 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428720" y="785880"/>
            <a:ext cx="4714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-60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іф про Тесея та Мінотавр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ит – острів, який лежить на південь від Греції, в Середземному морі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носс – столиця Криту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с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(син бога Зевса) –цар острова Крит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ріадна – дочка царя Мінос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Лабіринт –палац із чисельними кімнатами та заплутаною системою переходів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інотавр – чудовисько, напівлюдина – напівбик, яке Мінос поселив у Лабіринті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фіни – місто  в Аттиці (область Середньої Греції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Егей – правитель Афін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есей – син Еге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0" name="Объект 4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1957320" cy="271476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14"/>
          <p:cNvSpPr/>
          <p:nvPr/>
        </p:nvSpPr>
        <p:spPr>
          <a:xfrm>
            <a:off x="2357280" y="1143000"/>
            <a:ext cx="2000520" cy="2571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3"/>
          <a:stretch/>
        </p:blipFill>
        <p:spPr>
          <a:xfrm>
            <a:off x="1357200" y="4000680"/>
            <a:ext cx="1928880" cy="251748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16"/>
          <p:cNvSpPr/>
          <p:nvPr/>
        </p:nvSpPr>
        <p:spPr>
          <a:xfrm>
            <a:off x="4714920" y="5072040"/>
            <a:ext cx="4214880" cy="12715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У міфі про Тесея та Мінотавра описуються історичні под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8"/>
          <p:cNvSpPr/>
          <p:nvPr/>
        </p:nvSpPr>
        <p:spPr>
          <a:xfrm>
            <a:off x="4714920" y="5072040"/>
            <a:ext cx="4214880" cy="13431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огутнє Критське царство підкорило сусідні острови і деякі області Балканського півострова. Підкорені народи сплачували Криту дан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Робота з підручником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  <a:ea typeface="Times New Roman"/>
              </a:rPr>
              <a:t>§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25, п.2,3 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6760" y="928800"/>
            <a:ext cx="808668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Хто і коли відкрив цивілізацію на острові Крит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Яку  назву  отримала ця цивілізація. Чому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одовжіть речення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Час існування цивілізації на острові Крит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еріод розквіту цивілізації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заняття жителів Криту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- Наведіть приклади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культурних досягнень на Криті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Що дозволило Криту стати володарем над усіма державами Східного Середземномор’я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Як загинула цивілізація на острові Крит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285800" y="285840"/>
            <a:ext cx="4357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96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́ртур Е́ванс —      британський археолог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період 1899—1930 рр. (з перервами) вів розкопки на острові </a:t>
            </a:r>
            <a:r>
              <a:rPr b="1" lang="ru-RU" sz="2400" spc="-1" strike="noStrike">
                <a:solidFill>
                  <a:srgbClr val="775f55"/>
                </a:solidFill>
                <a:latin typeface="Calibri"/>
                <a:ea typeface="Times New Roman"/>
              </a:rPr>
              <a:t>Крит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е відкрив залишки палацу в Кноссі (Лаб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нту) і детально вивчив культуру епохи бронзи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відому до того культуру назвав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8" name="Picture 2" descr="C:\Documents and Settings\User\Рабочий стол\Греція\загруженное.jpg"/>
          <p:cNvPicPr/>
          <p:nvPr/>
        </p:nvPicPr>
        <p:blipFill>
          <a:blip r:embed="rId1"/>
          <a:stretch/>
        </p:blipFill>
        <p:spPr>
          <a:xfrm>
            <a:off x="0" y="357120"/>
            <a:ext cx="4000680" cy="521496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3"/>
          <p:cNvSpPr/>
          <p:nvPr/>
        </p:nvSpPr>
        <p:spPr>
          <a:xfrm>
            <a:off x="5429160" y="5286240"/>
            <a:ext cx="342900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Мінойською палацо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цивілізаціє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0.06522 L 0.00625 -0.23312 E">
                                      <p:cBhvr>
                                        <p:cTn id="340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-360" y="4284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Час існування цивілізації на острові Крит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еріод розквіту цивілізації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заняття жителів Криту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Прямоугольник 5"/>
          <p:cNvSpPr/>
          <p:nvPr/>
        </p:nvSpPr>
        <p:spPr>
          <a:xfrm>
            <a:off x="5857920" y="428760"/>
            <a:ext cx="30718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3500-1100 рр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6"/>
          <p:cNvSpPr/>
          <p:nvPr/>
        </p:nvSpPr>
        <p:spPr>
          <a:xfrm>
            <a:off x="5857920" y="1214280"/>
            <a:ext cx="314316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w Cen MT"/>
              </a:rPr>
              <a:t>XVI –XV</a:t>
            </a: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ст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8"/>
          <p:cNvSpPr/>
          <p:nvPr/>
        </p:nvSpPr>
        <p:spPr>
          <a:xfrm>
            <a:off x="4429080" y="2571840"/>
            <a:ext cx="4714920" cy="1928880"/>
          </a:xfrm>
          <a:prstGeom prst="rect">
            <a:avLst/>
          </a:prstGeom>
          <a:solidFill>
            <a:srgbClr val="ffffff"/>
          </a:solidFill>
          <a:ln w="324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емлеробство, ремесло, будівництво, кораблебудування, мореплав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морська торгів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84 0.04417 L -0.29271 0.05458 E">
                                      <p:cBhvr>
                                        <p:cTn id="352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02 0.02405 L -0.3125 0.04209 E">
                                      <p:cBhvr>
                                        <p:cTn id="362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236 -0.01549 L -0.32101 -0.01549 E">
                                      <p:cBhvr>
                                        <p:cTn id="372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09120" y="4214880"/>
            <a:ext cx="331956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Содержимое 7" descr="12.jpg"/>
          <p:cNvPicPr/>
          <p:nvPr/>
        </p:nvPicPr>
        <p:blipFill>
          <a:blip r:embed="rId1"/>
          <a:stretch/>
        </p:blipFill>
        <p:spPr>
          <a:xfrm>
            <a:off x="4929120" y="192888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85840" y="214200"/>
            <a:ext cx="4039920" cy="15004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775f55"/>
                </a:solidFill>
                <a:latin typeface="Calibri"/>
              </a:rPr>
              <a:t>Міста: Кносс, Фест, Малія, Закро.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775f55"/>
                </a:solidFill>
                <a:latin typeface="Calibri"/>
              </a:rPr>
              <a:t>Розвинені архітектура (палаци), живопис (мозаїка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14560" y="214200"/>
            <a:ext cx="4041720" cy="150048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Розвинена систем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писемності – письмо “А”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Письмо “Б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8" name="Picture 4" descr="дворец миноса 1"/>
          <p:cNvPicPr/>
          <p:nvPr/>
        </p:nvPicPr>
        <p:blipFill>
          <a:blip r:embed="rId2"/>
          <a:stretch/>
        </p:blipFill>
        <p:spPr>
          <a:xfrm>
            <a:off x="285840" y="1928880"/>
            <a:ext cx="3500280" cy="4643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Крит 024"/>
          <p:cNvPicPr/>
          <p:nvPr/>
        </p:nvPicPr>
        <p:blipFill>
          <a:blip r:embed="rId3"/>
          <a:stretch/>
        </p:blipFill>
        <p:spPr>
          <a:xfrm>
            <a:off x="285840" y="19288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knossos[1]"/>
          <p:cNvPicPr/>
          <p:nvPr/>
        </p:nvPicPr>
        <p:blipFill>
          <a:blip r:embed="rId4"/>
          <a:stretch/>
        </p:blipFill>
        <p:spPr>
          <a:xfrm>
            <a:off x="285840" y="1928880"/>
            <a:ext cx="3714840" cy="4714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1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285840" y="19288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fr_pro[1]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85840" y="1857240"/>
            <a:ext cx="3714840" cy="47865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1f18e921f2f1[1]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285840" y="1857240"/>
            <a:ext cx="37148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2843280" y="124452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3071880" y="642960"/>
            <a:ext cx="5857920" cy="62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ва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і територію Давньої Грец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ат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плив географічного положення та природних умов на життя людей на Балканському півострові та островах Егейського мор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овувати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 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ти 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кладах поняття і терміни: “античність”, “елліни”, “грецькі міфи”, “цивілізація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ити приклади 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их досягнень на Кри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т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ідомі крилаті висл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сконалит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іння працювати з підручником, аналізувати та порівнювати, історичні факти, висловлювати власну думку, критично мислити.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2857680" y="14292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Після  цього  уроку ви зможе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775f55"/>
                </a:solidFill>
                <a:latin typeface="Calibri"/>
              </a:rPr>
              <a:t>Що дозволило Криту стати володарем над усіма державами Східного Середземномор’я?</a:t>
            </a:r>
            <a:br>
              <a:rPr sz="4000"/>
            </a:b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Прямоугольник 3"/>
          <p:cNvSpPr/>
          <p:nvPr/>
        </p:nvSpPr>
        <p:spPr>
          <a:xfrm>
            <a:off x="714240" y="4429080"/>
            <a:ext cx="3571920" cy="214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 Криті існувала могутня держава, яка міцніла й багатіла завдяки праці поневолених народ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" descr=""/>
          <p:cNvPicPr/>
          <p:nvPr/>
        </p:nvPicPr>
        <p:blipFill>
          <a:blip r:embed="rId1"/>
          <a:stretch/>
        </p:blipFill>
        <p:spPr>
          <a:xfrm>
            <a:off x="5108400" y="3071880"/>
            <a:ext cx="3821400" cy="3286080"/>
          </a:xfrm>
          <a:prstGeom prst="rect">
            <a:avLst/>
          </a:prstGeom>
          <a:ln w="0">
            <a:noFill/>
          </a:ln>
        </p:spPr>
      </p:pic>
      <p:sp>
        <p:nvSpPr>
          <p:cNvPr id="528" name="Прямоугольник 5"/>
          <p:cNvSpPr/>
          <p:nvPr/>
        </p:nvSpPr>
        <p:spPr>
          <a:xfrm>
            <a:off x="5500800" y="4214880"/>
            <a:ext cx="3286080" cy="105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Бойовий флот, який захищав прибрежні води Кр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6"/>
          <p:cNvSpPr/>
          <p:nvPr/>
        </p:nvSpPr>
        <p:spPr>
          <a:xfrm>
            <a:off x="642960" y="4429080"/>
            <a:ext cx="3643200" cy="21430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цей час  народи Євр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ли первісним лад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м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жави,  законів, писемност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1573 L 0.00226 -0.34875 E">
                                      <p:cBhvr>
                                        <p:cTn id="464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7567E-006 L -1.38889E-006 -0.33303 E">
                                      <p:cBhvr>
                                        <p:cTn id="480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гибель  Критської цивілізації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000400" y="1500120"/>
            <a:ext cx="3887640" cy="4608720"/>
          </a:xfrm>
          <a:prstGeom prst="rect">
            <a:avLst/>
          </a:prstGeom>
          <a:solidFill>
            <a:srgbClr val="558bb8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т. до н.е.  -виверження вулкану на острові Фера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торгнення  племен ахейців, що мешкали на півдні Балкан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2" name="Picture 5" descr="1"/>
          <p:cNvPicPr/>
          <p:nvPr/>
        </p:nvPicPr>
        <p:blipFill>
          <a:blip r:embed="rId1"/>
          <a:stretch/>
        </p:blipFill>
        <p:spPr>
          <a:xfrm>
            <a:off x="214200" y="1143000"/>
            <a:ext cx="4429080" cy="5500800"/>
          </a:xfrm>
          <a:prstGeom prst="rect">
            <a:avLst/>
          </a:prstGeom>
          <a:ln w="76320">
            <a:solidFill>
              <a:srgbClr val="775f55"/>
            </a:solidFill>
            <a:miter/>
          </a:ln>
        </p:spPr>
      </p:pic>
      <p:pic>
        <p:nvPicPr>
          <p:cNvPr id="533" name="EXPL195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2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еякі  дослідники  історії Давньої  Греції вважають, що «Море цивілізувало греків». Чи згодні ви з цим твердженням? Свою відповідь поясніть, спираючись на історичні факти.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2720" y="1928520"/>
            <a:ext cx="815328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дючої землі у Греції мало, повноводних річок немає, тому створити іригаційну систему, як у країнах Сходу, було неможливо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Багатством Греції були моря: зручні бухти, чисельні острови, що розташовувалися недалеко один від одного, створювали умови для розвитку мореплавства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тавши мореплавцями, греки створили розвинені цивілізації.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икладом є найдавніша  цивілізація  в  Європі, що виникла на острові Крит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536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0" y="0"/>
          <a:ext cx="5000760" cy="6842160"/>
        </p:xfrm>
        <a:graphic>
          <a:graphicData uri="http://schemas.openxmlformats.org/drawingml/2006/table">
            <a:tbl>
              <a:tblPr/>
              <a:tblGrid>
                <a:gridCol w="500076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еція розташована н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вострів омивається морями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и поділяють країну на частин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вища гор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ні греки називали свою країну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авніша цивілізація в Європі виникла н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авніша цивілізація в Європі  була відкрит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 розквіту найдавнішої цивілізації  в Європі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537" name="Прямоугольник 2"/>
          <p:cNvSpPr/>
          <p:nvPr/>
        </p:nvSpPr>
        <p:spPr>
          <a:xfrm>
            <a:off x="5643720" y="285840"/>
            <a:ext cx="3500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Балканському півостр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3"/>
          <p:cNvSpPr/>
          <p:nvPr/>
        </p:nvSpPr>
        <p:spPr>
          <a:xfrm>
            <a:off x="5214960" y="928800"/>
            <a:ext cx="3786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Егейським, Іонічним, Критським, Середзем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5"/>
          <p:cNvSpPr/>
          <p:nvPr/>
        </p:nvSpPr>
        <p:spPr>
          <a:xfrm>
            <a:off x="5214960" y="1857240"/>
            <a:ext cx="3929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Північну, Середню, Пелопон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5214960" y="2786040"/>
            <a:ext cx="378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Олі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5214960" y="3429000"/>
            <a:ext cx="378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Елл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5357880" y="4643280"/>
            <a:ext cx="3500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Кри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9"/>
          <p:cNvSpPr/>
          <p:nvPr/>
        </p:nvSpPr>
        <p:spPr>
          <a:xfrm>
            <a:off x="5357880" y="5286240"/>
            <a:ext cx="3500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Артуром Еван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0"/>
          <p:cNvSpPr/>
          <p:nvPr/>
        </p:nvSpPr>
        <p:spPr>
          <a:xfrm>
            <a:off x="5286240" y="6286680"/>
            <a:ext cx="3714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VI – XV 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ст. до н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0.00208 L -0.21407 0.00416 E">
                                      <p:cBhvr>
                                        <p:cTn id="52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0277 L -0.1592 0.00277 E">
                                      <p:cBhvr>
                                        <p:cTn id="538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052 -0.00162 L -0.07587 -0.00162 E">
                                      <p:cBhvr>
                                        <p:cTn id="548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09 -0.00579 L -0.35608 -0.00579 E">
                                      <p:cBhvr>
                                        <p:cTn id="558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6 0.00023 L -0.23004 0.00023 E">
                                      <p:cBhvr>
                                        <p:cTn id="568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69 -0.00902 L -0.37969 -0.00902 E">
                                      <p:cBhvr>
                                        <p:cTn id="57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67 0.00231 L -0.31667 0.00231 E">
                                      <p:cBhvr>
                                        <p:cTn id="588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66 0.00347 L -0.32066 0.00347 E">
                                      <p:cBhvr>
                                        <p:cTn id="598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0" y="5661000"/>
            <a:ext cx="91440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3"/>
          <p:cNvSpPr/>
          <p:nvPr/>
        </p:nvSpPr>
        <p:spPr>
          <a:xfrm>
            <a:off x="2643120" y="1143000"/>
            <a:ext cx="614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Продовжіть реч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ьогодні на уроці я дізнав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Я не вмів, тепер я вмію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ні потрібно навчити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ні потрібно повторит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5661000"/>
            <a:ext cx="91440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2643120" y="1576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є завдання: прочита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, 2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конати завдання контурної кар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* виконати завдання 11, с.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7120" y="155520"/>
            <a:ext cx="83296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Що таке цивілізація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Де виникли перші цивілізації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Які природні умови цьому сприяли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Назвіть основні заняття людей у давнину.</a:t>
            </a:r>
            <a:br>
              <a:rPr sz="22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714680"/>
            <a:ext cx="4929120" cy="514332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5000760" y="1928880"/>
            <a:ext cx="4143240" cy="28573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Цивілізація – рівень розвитку суспільства, на якому  утворюють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держа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иникають міста, писемні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двуречье в 4-3 тысячелетии до н э"/>
          <p:cNvPicPr/>
          <p:nvPr/>
        </p:nvPicPr>
        <p:blipFill>
          <a:blip r:embed="rId2"/>
          <a:stretch/>
        </p:blipFill>
        <p:spPr>
          <a:xfrm>
            <a:off x="0" y="1722600"/>
            <a:ext cx="4857840" cy="5135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17" name="Picture 1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0" y="1785960"/>
            <a:ext cx="485784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8" name="Picture 3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0" y="1714680"/>
            <a:ext cx="4857840" cy="514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2286000" y="189360"/>
            <a:ext cx="6858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роблемні пит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вні греки говорили: «Гори захищають і розділяють, а море поєднує».  Що це означа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еякі  дослідники історії Давньої Греції вважають, що «Море цивілізувало греків». Чи згодні ви з цим твердженням?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ю відповідь поясніть, спираючись на історичні фа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реція – країна гір та морів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4" name="Рисунок 2" descr="23385908_gora.jpg"/>
          <p:cNvPicPr/>
          <p:nvPr/>
        </p:nvPicPr>
        <p:blipFill>
          <a:blip r:embed="rId1"/>
          <a:stretch/>
        </p:blipFill>
        <p:spPr>
          <a:xfrm>
            <a:off x="4643280" y="857160"/>
            <a:ext cx="4286520" cy="2500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repphoto_644_3651[1]"/>
          <p:cNvPicPr/>
          <p:nvPr/>
        </p:nvPicPr>
        <p:blipFill>
          <a:blip r:embed="rId2"/>
          <a:stretch/>
        </p:blipFill>
        <p:spPr>
          <a:xfrm>
            <a:off x="4643280" y="350028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214200" y="350028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1" descr="1238764715_837039.jpg"/>
          <p:cNvPicPr/>
          <p:nvPr/>
        </p:nvPicPr>
        <p:blipFill>
          <a:blip r:embed="rId4"/>
          <a:stretch/>
        </p:blipFill>
        <p:spPr>
          <a:xfrm>
            <a:off x="214200" y="857160"/>
            <a:ext cx="4286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71280" y="1643040"/>
          <a:ext cx="8786880" cy="1000080"/>
        </p:xfrm>
        <a:graphic>
          <a:graphicData uri="http://schemas.openxmlformats.org/drawingml/2006/table">
            <a:tbl>
              <a:tblPr/>
              <a:tblGrid>
                <a:gridCol w="1357560"/>
                <a:gridCol w="2201760"/>
                <a:gridCol w="2155680"/>
                <a:gridCol w="1571760"/>
                <a:gridCol w="1500120"/>
              </a:tblGrid>
              <a:tr h="100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аї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ографічн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ташув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чки, гор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усте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і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рисні копал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155160"/>
            <a:ext cx="8715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Робота з підручником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§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4, п.1 </a:t>
            </a:r>
            <a:br>
              <a:rPr sz="32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Визначте географічне положення Греції та Єгипту. 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Порівняйте  природно – кліматичні умови Греції та Єгипту.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апишіть висновки у таблицю. 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1280" y="2500200"/>
          <a:ext cx="8786880" cy="1554120"/>
        </p:xfrm>
        <a:graphic>
          <a:graphicData uri="http://schemas.openxmlformats.org/drawingml/2006/table">
            <a:tbl>
              <a:tblPr/>
              <a:tblGrid>
                <a:gridCol w="1357560"/>
                <a:gridCol w="2214360"/>
                <a:gridCol w="2143080"/>
                <a:gridCol w="1571760"/>
                <a:gridCol w="150012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е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71280" y="4071960"/>
          <a:ext cx="8786880" cy="1714320"/>
        </p:xfrm>
        <a:graphic>
          <a:graphicData uri="http://schemas.openxmlformats.org/drawingml/2006/table">
            <a:tbl>
              <a:tblPr/>
              <a:tblGrid>
                <a:gridCol w="1357560"/>
                <a:gridCol w="2243160"/>
                <a:gridCol w="2114280"/>
                <a:gridCol w="1571760"/>
                <a:gridCol w="1500120"/>
              </a:tblGrid>
              <a:tr h="1714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гип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32" name="Прямоугольник 7"/>
          <p:cNvSpPr/>
          <p:nvPr/>
        </p:nvSpPr>
        <p:spPr>
          <a:xfrm>
            <a:off x="0" y="5643720"/>
            <a:ext cx="8858160" cy="12142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вні греки говорили: «Гори захищають і розділяють, а море поєднує».  Що це означа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1643040" y="407196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7" descr="Drevnyaya_Gretciya_7_v_do_n_e.jpg"/>
          <p:cNvPicPr/>
          <p:nvPr/>
        </p:nvPicPr>
        <p:blipFill>
          <a:blip r:embed="rId2"/>
          <a:stretch/>
        </p:blipFill>
        <p:spPr>
          <a:xfrm>
            <a:off x="1643040" y="257184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86240" y="213840"/>
            <a:ext cx="385776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Південь Європи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Балканський півострів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Іонічн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Егейськ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Критськ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Середземн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 Балканські гори (найвища – гора Олімп)</a:t>
            </a:r>
            <a:br>
              <a:rPr sz="18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cxnSp>
        <p:nvCxnSpPr>
          <p:cNvPr id="437" name="Прямая со стрелкой 10"/>
          <p:cNvCxnSpPr/>
          <p:nvPr/>
        </p:nvCxnSpPr>
        <p:spPr>
          <a:xfrm flipH="1">
            <a:off x="1071360" y="928800"/>
            <a:ext cx="4143600" cy="1715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8" name="Прямая со стрелкой 12"/>
          <p:cNvCxnSpPr/>
          <p:nvPr/>
        </p:nvCxnSpPr>
        <p:spPr>
          <a:xfrm flipH="1">
            <a:off x="356760" y="1213200"/>
            <a:ext cx="4858560" cy="3001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9" name="Прямая со стрелкой 14"/>
          <p:cNvCxnSpPr/>
          <p:nvPr/>
        </p:nvCxnSpPr>
        <p:spPr>
          <a:xfrm flipH="1">
            <a:off x="3071160" y="1570680"/>
            <a:ext cx="2143800" cy="1786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0" name="Прямая со стрелкой 21"/>
          <p:cNvCxnSpPr/>
          <p:nvPr/>
        </p:nvCxnSpPr>
        <p:spPr>
          <a:xfrm flipH="1">
            <a:off x="2714040" y="2000160"/>
            <a:ext cx="2500920" cy="3572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1" name="Прямая со стрелкой 23"/>
          <p:cNvCxnSpPr/>
          <p:nvPr/>
        </p:nvCxnSpPr>
        <p:spPr>
          <a:xfrm flipH="1">
            <a:off x="2499480" y="2286000"/>
            <a:ext cx="2786760" cy="4215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2" name="Прямая со стрелкой 25"/>
          <p:cNvCxnSpPr/>
          <p:nvPr/>
        </p:nvCxnSpPr>
        <p:spPr>
          <a:xfrm flipH="1" flipV="1">
            <a:off x="1713960" y="2642400"/>
            <a:ext cx="34297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43" name="Picture 4" descr="j0213508"/>
          <p:cNvPicPr/>
          <p:nvPr/>
        </p:nvPicPr>
        <p:blipFill>
          <a:blip r:embed="rId2"/>
          <a:stretch/>
        </p:blipFill>
        <p:spPr>
          <a:xfrm>
            <a:off x="8215200" y="214200"/>
            <a:ext cx="928800" cy="8668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5715000" y="4071960"/>
            <a:ext cx="2143080" cy="357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Середня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715000" y="4572000"/>
            <a:ext cx="2143080" cy="357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лопон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5"/>
          <p:cNvSpPr/>
          <p:nvPr/>
        </p:nvSpPr>
        <p:spPr>
          <a:xfrm>
            <a:off x="5715000" y="3571920"/>
            <a:ext cx="2143080" cy="342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івнічн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6"/>
          <p:cNvSpPr/>
          <p:nvPr/>
        </p:nvSpPr>
        <p:spPr>
          <a:xfrm>
            <a:off x="5715000" y="5072040"/>
            <a:ext cx="2214720" cy="42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Острівн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7"/>
          <p:cNvSpPr/>
          <p:nvPr/>
        </p:nvSpPr>
        <p:spPr>
          <a:xfrm>
            <a:off x="5715000" y="5643720"/>
            <a:ext cx="2214720" cy="42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Іонійськ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1713 L -0.63594 -0.2243 E">
                                      <p:cBhvr>
                                        <p:cTn id="118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0648 L -0.62813 -0.1301 E">
                                      <p:cBhvr>
                                        <p:cTn id="122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32 -0.0037 L -0.57292 -0.03518 E">
                                      <p:cBhvr>
                                        <p:cTn id="126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3"/>
          <p:cNvSpPr/>
          <p:nvPr/>
        </p:nvSpPr>
        <p:spPr>
          <a:xfrm>
            <a:off x="5000760" y="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ри захищають і розділяють, а море поєднує».  Що це означає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2"/>
          <a:stretch/>
        </p:blipFill>
        <p:spPr>
          <a:xfrm>
            <a:off x="5429160" y="785880"/>
            <a:ext cx="3286080" cy="285732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52" name="Прямоугольник 5"/>
          <p:cNvSpPr/>
          <p:nvPr/>
        </p:nvSpPr>
        <p:spPr>
          <a:xfrm>
            <a:off x="5429160" y="785880"/>
            <a:ext cx="3286080" cy="2857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Балканські гори захищаю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країну від холодних  ві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оділяють Грецію  на  3 частини  (Північну, Середн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івденну – півост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лопонне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500280" cy="28116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5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Іонічне, Егейсь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сь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ередзе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Берегова сму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івостр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створює безлі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аток,бухт,про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ручних для стоя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кораблів. Це допомог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грекам навчит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ореплав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3"/>
          <p:cNvSpPr/>
          <p:nvPr/>
        </p:nvSpPr>
        <p:spPr>
          <a:xfrm>
            <a:off x="5429160" y="785880"/>
            <a:ext cx="3357720" cy="2857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івнічна та Середня Гре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єднані єдиною дорог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рокладен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Фермопільською ущелин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Середня Гре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єднана з Південною Коринфським переший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Равнобедренный треугольник 14"/>
          <p:cNvSpPr/>
          <p:nvPr/>
        </p:nvSpPr>
        <p:spPr>
          <a:xfrm>
            <a:off x="1500120" y="3429000"/>
            <a:ext cx="285840" cy="142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Прямая со стрелкой 16"/>
          <p:cNvCxnSpPr/>
          <p:nvPr/>
        </p:nvCxnSpPr>
        <p:spPr>
          <a:xfrm flipV="1">
            <a:off x="1785960" y="2071080"/>
            <a:ext cx="4215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H="1">
            <a:off x="1999800" y="3356640"/>
            <a:ext cx="350136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0" name="Равнобедренный треугольник 21"/>
          <p:cNvSpPr/>
          <p:nvPr/>
        </p:nvSpPr>
        <p:spPr>
          <a:xfrm>
            <a:off x="1785960" y="4214880"/>
            <a:ext cx="285840" cy="128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5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Морський шлях сполучає Балканський півострів з островами Середземномор'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999880" y="2643120"/>
            <a:ext cx="3000600" cy="25005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родно-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іматичні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ови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278604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6215040" y="142920"/>
            <a:ext cx="292896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2928960" y="142920"/>
            <a:ext cx="307188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6" name="Picture 2" descr=""/>
          <p:cNvPicPr/>
          <p:nvPr/>
        </p:nvPicPr>
        <p:blipFill>
          <a:blip r:embed="rId4"/>
          <a:stretch/>
        </p:blipFill>
        <p:spPr>
          <a:xfrm>
            <a:off x="0" y="2714760"/>
            <a:ext cx="2928960" cy="245736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7" name="Picture 4" descr="nature_127"/>
          <p:cNvPicPr/>
          <p:nvPr/>
        </p:nvPicPr>
        <p:blipFill>
          <a:blip r:embed="rId5"/>
          <a:stretch/>
        </p:blipFill>
        <p:spPr>
          <a:xfrm>
            <a:off x="6072120" y="2643120"/>
            <a:ext cx="3071880" cy="25005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9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90000" tIns="91440" bIns="46800" anchor="ctr">
            <a:noAutofit/>
          </a:bodyPr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імат спекотний, посушли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хили гір вкриті кущами та низькорослими дере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ля кам’яниста, неродюч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гата на корисні копалини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залізо , мідь, срібло,гли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и поділили країну на долини, якими течуть річ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рхливі восени і взимку, навесні пересихаю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 </dc:description>
  <dc:language>en-US</dc:language>
  <cp:lastModifiedBy>User</cp:lastModifiedBy>
  <dcterms:modified xsi:type="dcterms:W3CDTF">2014-02-08T16:53:26Z</dcterms:modified>
  <cp:revision>261</cp:revision>
  <dc:subject/>
  <dc:title>Blue Water 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7000000000001024140</vt:lpwstr>
  </property>
</Properties>
</file>