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148-1C5B-413F-AD41-9286D66E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8F5-18C4-4A93-B3B1-205E502C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4A4-CA7F-47C8-BF49-32DC3896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CA8-1E96-4E78-BC61-DC4E3A6C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32003-EF45-4D10-A572-052C07B4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B8738-10AB-460C-BD7C-B771C76B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0B801-716D-4709-962A-3EF6C4C0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2E2C9-FF60-487B-AB83-C893B404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29D09-8355-4B6B-87F4-3F40F43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4FDE3-551F-40CD-8507-069BCFAA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7EC90-D807-4664-BDD9-3BA37B33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81D-4F9B-4566-A82E-EABEF751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47306-E273-47E0-A1D2-BA9EDA8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2B765-CA28-4CCF-AC9F-AC6059C1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115C-7A68-4D50-9910-44BC077D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1B1C5-ED74-437E-9E0B-4F4E167B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D496C-769D-432E-8479-B8654963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7D9A-BA34-4E8A-9017-6D524DB9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C787-978F-4660-A120-4C8FAA64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7A8D-8185-40AF-AF3F-7BD4CB36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5895-C76B-4573-99A5-76C6B17A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37A9-A5EE-4F0E-8384-DF397C30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6C9-4A1C-467A-85EF-BFE5A8B7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6BAF-6C8A-4D9F-BF64-ECA98701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4E21-F1B5-4A7E-A299-D20A338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A44E-3ADD-4AE3-8CC1-A70AF342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AC90-76B0-4D6D-9C12-871089E6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3E3C-E63F-4EBB-8668-FAB5CBC5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1B49-8D15-4E29-A33D-9B315910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5391-1BC6-40A5-80AB-376B65FE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A9CF4-BBBC-44D3-A70F-079A2B7B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BE439-3009-494E-9DEA-BC4F00DB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7AFC49-AD65-46B2-9CBA-1C92C952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C7E-FE3D-4F16-9624-87B1039B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B13A8-8426-4BF9-AB06-E0EA4281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1A9D9-43B0-4558-B5D9-DC6B2CDC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48FF2-33E3-4C2E-B43A-4CE9E29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B142B-38A6-48D0-B3D6-9405AA33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1D990-8561-42C5-91A0-CD65F8A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818DB-2356-4BAB-BC69-4E7AC2E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7B041-0BBC-4148-BEB9-0CC81B0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08BBC-CEE3-467E-BDD1-65F881C4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1D8C3-BE56-4156-83C8-0C5771EA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89F3D-A90D-408C-8613-4E8FE9F3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EB2-8ED6-4AD6-8314-4FFDA07A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9825F-2D61-48B4-A84D-3326BBC2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5939F-BD45-4E53-97A3-5EBF3CD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30D78-D042-4422-9988-9911B91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E4A58-49C2-4A45-919F-A88D7746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18655-64CE-4A28-B7FE-C0FA9B1F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F23E3-8FE5-41CF-BB6C-FBDBD40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CBDE2-C1B9-414B-8E8D-270430B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98978-D735-4F1B-8948-9D981EAE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7D9FE-49A8-4C16-AD86-EA267433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F0BDC-12A3-4D9A-8D9F-3A6C7E2C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4B3-1505-4C72-956C-CE81252B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78DCE-C3D6-4C79-BCC7-DA4F4C3E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31DC8-CCEA-4309-9BBD-53AFAF2A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65D57-E210-47FF-959C-E942ADE5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770D9-C254-4BB7-8EEA-CAB6699D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6B597-026E-46C8-8A0A-6B3920EE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65840-4188-40F1-A487-7AB6F55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090FD-5FE8-42AC-B03B-CE1A298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32FE6-A9BA-4BDA-8604-1044957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24558-CC94-49FA-8B59-213F388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0E1CE-7BA3-447C-A6A2-5B723463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0AF-912A-4535-B96F-BA988204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41C7D-172D-45E2-A521-21F01015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2DDB7-48D7-4008-BB57-24DDCD01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8F68F-5931-4006-AB0C-C4DC3185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3F9-9B21-4E96-80C9-DC5351AF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725-0963-426F-8076-87B61103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CB95-68F4-4F97-B63A-AF16CE99482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5C04-5E3A-43E8-9476-7D80903D00C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8360-D2F3-4291-B4BF-EF728FC859F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8F38-7DBA-4AF7-9996-B3F905A58AD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516D-2839-4DCB-A70A-C38406F367A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295-964B-4DC1-ADCD-200E416E680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0d0d"/>
                </a:solidFill>
                <a:latin typeface="Constantia"/>
              </a:rPr>
              <a:t>Урок всесвітньої історії в 10 клас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65040" y="262080"/>
            <a:ext cx="8589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6836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Примусове звільнення неарійських держслужбовців (за винятком військових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1.04.1933р.– прийняття «арійського параграфа» (інструкції, що визначала, кого нацисти вважали євреям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5.04.1933р.– запровадження процентних норм для євреїв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0.05.1933р.– публічне спалення книжок «неарійських» авторів (серед яких  були кращі твори світової класичної літератури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09.1933р. – «Нюрнберзькі закони» – євреї позбавлялися громадянських  прав (брати участь у будь-яких громадсько-політичних заходах, брати шлюб із повноправними громадянами рейху, вивішувати поряд зі своїми будинками німецький прапор тощо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6.11.1937р. – заборона видавати євреям закордонні паспорт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938р. – скасування всіх податкових пільг для єврейських підприємст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2.07.1938р. – зобо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євреїв носити спеціальні посвідченн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07-09. 1938р. – позбавлення євреїв-лікарів та юристів права на практик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З 5.10.1938р. – паспорти євреїв маркувалися літерою «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0.1938р. – вислання з Німеччини 17 тис. польських  євреїв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9-10.11.1938р. – «Кришталева ніч» – єврейські погроми по всій Німеччині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15.11-08.12.1938р. – припинення навчання єврейських дітей у школах та університета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8.11.1938р.—запровадження комендантської години для євреїв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20.01.1942р. – проголошення на партійній конференції НСДАП антисемітизму метою власної політики, спрямованої на остаточне розв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Constantia"/>
              </a:rPr>
              <a:t>язання « єврейського питання», що призвело до ГОЛОКОСТ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ПП – Чи можна було не допустити нацистів до влади?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2" descr=""/>
          <p:cNvPicPr/>
          <p:nvPr/>
        </p:nvPicPr>
        <p:blipFill>
          <a:blip r:embed="rId2"/>
          <a:stretch/>
        </p:blipFill>
        <p:spPr>
          <a:xfrm>
            <a:off x="324000" y="23760"/>
            <a:ext cx="8600760" cy="135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Users\acer\Desktop\Изображение 045.jpg"/>
          <p:cNvPicPr/>
          <p:nvPr/>
        </p:nvPicPr>
        <p:blipFill>
          <a:blip r:embed="rId3"/>
          <a:stretch/>
        </p:blipFill>
        <p:spPr>
          <a:xfrm>
            <a:off x="1619280" y="1484280"/>
            <a:ext cx="63309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працювати матеріали презентації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ідготувати історичне повідомлення «Кришталева ніч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ясувати причини встановлення нацистської диктатури в Німеччині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глянути програму нацистської партії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прослідкувати хронологію просування нацистів до влад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малювати історичний портрет Адольфа Гітлер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сформувати поняття «антисемітизм»,розглянути основні етапи антисемітської політики нацисті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озвивати навики логічного висловлюванн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иховувати пацифістські та антифашистські настрої в середовищі учні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Економічна криз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ромислове виробництво скоротилося на 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ість безробітних сягнула 4,5 млн.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реальна заробітна плата знизилася на 25-40%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кілька тисяч дрібних підприємств збанкрутіл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еляни-бауери масово розоряли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спроможність правлячих кіл Німеччини керувати країною парламентськими методам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ростання соціальних суперечностей під час економічної криз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Посилення прагнення до сильної влади, здатної навести порядок у країні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Слабкість Веймарської республі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Відсутність єдності серед партій веймарської коаліції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езадоволення умовами Версальського мир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творена у 1919р. Німецька робітнича парт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0р.—Націонал-соціалістична робітнича партія Німеччи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цистську партію підтримувал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робіт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еля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безробітн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рібна і середня буржуаз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фінансово-промислова верхів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«Суть фашистського світогляду полягала в тому, що: нація – це цілісний організм, єдина надособистість, наділена надрозумом; історія людства являє собою боротьбу різних націй за виживання (слабший гине чи підкоряється, сильніший виживає і панує); всі навколишні народи – потенційні сьогоднішні чи завтрашні вороги; найвища цінність для кожної людини – його нація; людська особистість має цінність лише настільки, наскільки вона є частиною цієї спільності; цінність кожної конкретної людини визначається її внеском у велич і благополуччя нації; виразник інтересів і волі нації – держава («все для держави, нічого проти держави, нікого поза державою»); глава держави є уособленням нації; нація має бути єдиною та згуртованою, а всякий , хто роздуває  внутрішні конфлікти, -- національний зрадник; усі протиріччя усередині нації вирішуються тільки велінням держави і вожд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Об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єднання всіх німців у «Велику Німеччину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ідмова від дотримання умов Версальського договор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Боротьба за нові території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збавлення політичних прав і громадянства осіб «неарійського походження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вільнення трудівників від «свавілля монополій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Націоналізація тресті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Спільне користування поміщицькими земля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Поліпшення системи осві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Державне матеріальне забезпечення людей похилого ві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Захист інтересів матерів і діте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Users\acer\Desktop\Изображение 046.jpg"/>
          <p:cNvPicPr/>
          <p:nvPr/>
        </p:nvPicPr>
        <p:blipFill>
          <a:blip r:embed="rId3"/>
          <a:stretch/>
        </p:blipFill>
        <p:spPr>
          <a:xfrm>
            <a:off x="426960" y="1603440"/>
            <a:ext cx="2475000" cy="469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Users\acer\Desktop\Изображение 043.jpg"/>
          <p:cNvPicPr/>
          <p:nvPr/>
        </p:nvPicPr>
        <p:blipFill>
          <a:blip r:embed="rId4"/>
          <a:stretch/>
        </p:blipFill>
        <p:spPr>
          <a:xfrm>
            <a:off x="5967360" y="1603440"/>
            <a:ext cx="3060720" cy="4657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Users\acer\Desktop\Изображение 044.jpg"/>
          <p:cNvPicPr/>
          <p:nvPr/>
        </p:nvPicPr>
        <p:blipFill>
          <a:blip r:embed="rId5"/>
          <a:stretch/>
        </p:blipFill>
        <p:spPr>
          <a:xfrm>
            <a:off x="3005280" y="1603440"/>
            <a:ext cx="2968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1 липня 1932р.-на виборах до рейхстагу нацисти одержали 37,4% голосів виборців і 230 із 608 місц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ерпня 1932р. –Германа Герінга обрано головою рейхстагу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0 січня 1933р. – Гітлер призначений рейхсканцлер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3 березня 1933р. – рейхстаг прийняв закон про надання Гітлерові надзвичайних повноважень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серпня 1934р. (після смерті Гінденбурга) – Гітлеру присвоєно довічні звання фюрера та рейхсканцле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8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антисемітизм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анти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проти) +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emici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(назва етнічної групи, до якої належать євреї)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одна із форм расового шовінізму, яка проявляється у нетерпимому ставленні до осіб єврейської  національності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00000"/>
                </a:solidFill>
                <a:latin typeface="Constantia"/>
              </a:rPr>
              <a:t>Форми прояву антисемітизм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едоброзичливе ставлення в побуті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Правова дискримінаці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Єврейські погро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онфіскація май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Геноци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06:36:29Z</dcterms:created>
  <dc:creator>acer</dc:creator>
  <dc:description/>
  <dc:language>en-US</dc:language>
  <cp:lastModifiedBy>Admin</cp:lastModifiedBy>
  <dcterms:modified xsi:type="dcterms:W3CDTF">2014-04-23T15:06:57Z</dcterms:modified>
  <cp:revision>16</cp:revision>
  <dc:subject/>
  <dc:title>Встановлення нацистської диктатури в Німеччині. Політика гітлерівського режиму. Антисемітиз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2e000000000001024140</vt:lpwstr>
  </property>
</Properties>
</file>