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441-3360-4FB8-9798-E2A7E212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D59-8C64-4ED6-B666-D9CC5F9F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012-285C-4C4E-B99E-604C5037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885-0A19-4534-8CDA-3F4B4686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A9DAB-4AC3-4FA3-9132-B0347AD8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ABE20-42BF-4BC3-A89D-49306F41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957F8-CDCC-4BEF-AC85-025FB96D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2AD0B-5DC9-4195-91DB-3279EC87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825F4-0BF7-45DC-8E1F-9888ED79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5F296-C339-4553-8487-239FAD76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7C56B-6A78-4F9C-8DC6-11427B9F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1DC-8393-404E-818B-1F8F63FA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A9213-732C-4819-8680-163A3DCD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7F2BC-36BE-4C6C-B2AB-24DFA10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A1E68-AE75-45D4-BA00-2E1648D3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3E562-55C7-4255-BE6D-A4E8ED72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62654-61FE-4910-A46B-658AF6D7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C8B7-2956-4550-B3C5-F67E5BC2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0653-B200-4088-A39B-9589A48E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1F743-E73C-45AC-961C-25CA7D5C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F0AAA-63DD-49D2-9B87-BC2BCC0A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C530-16F6-44C7-866A-640602EE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58E-3FA2-4D7A-BAEE-85956284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6416-F565-4DD4-8D0F-6FD2298A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0326-C105-4914-A389-62A8AF0D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BE855-3DD4-439F-AE52-8F672AF6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9C25-FC82-4FB1-9862-39F0002E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F139-1E6B-446B-ABD5-EC2805D5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23F0-1077-4A74-B816-E7369D35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D132-279A-4C62-966B-6E71A5DE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D4F8D-CEE6-4C8A-B59A-DA0810E0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93675-FCE1-4849-B110-A575B53A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35503-4E57-44E0-9CE7-1F80E611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94B-A6FB-4669-8AFA-C9D1C129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352BA-670C-4B15-9EA2-21A52FC4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84307-090F-4EB4-8C02-DD37142B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36E85-B4DA-453A-A1F1-692F7CEE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D2A1B-40FF-4BD3-A285-8991C639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A3FD6-C8C8-4935-B453-64388DB8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C68C2C-A05E-4D38-9608-ECB9596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13389E-449E-44A2-A811-B397E79A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CF630-504D-4E10-B2D3-A0955FFF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44406-D51B-40EB-B70F-BE129EBB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EA3E1-F046-4BF3-8C3D-31C3B482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6B6-E45F-4FE3-BE5B-716AE26D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54585-4155-4040-9ABD-7E17B731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6E155-DEFD-4127-874C-B3E57720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74188-108E-48B9-92C6-D1A853FB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AC5D5-F230-493A-B40B-8D3AC9D3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B943C-5A64-4963-8EB6-D5AF0155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7CB98-9E43-4664-90E6-40400743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11D6C-F4E6-44CA-937D-78A1F5A1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2C802-36D5-4E00-A2E0-8AEFF6B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967E0-96D8-4BB6-8429-90C771B7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0B029-691D-4FC8-8E09-AF6981C3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537-948F-43F3-B0B1-2B5DC5EF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D36B4-9366-4B9C-9BA4-E55D1488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66A9C-DE1A-4D47-95A3-3E8699CF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E8F39-EA88-43FE-94CD-D94063AF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7A2521-C6F2-4DC7-B78F-328040EF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9476A-5CA5-40FC-8D8B-2C6957E9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A7FAA-6660-48AA-85FB-90A4DB2E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CC281-B682-4235-950E-BF3DF3B7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10DD5-17F6-4FC8-A5CE-0700E04F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B6692-A006-4921-A3BF-A5D392B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CE633-99F2-4179-A63F-E380C989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CED-42F4-4504-806B-2D980D9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F94CB-E291-40B7-B376-6E072773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95FBF-BE7F-4822-91FB-E60886F7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9F8E3-73D6-4373-8CA9-E9CBB273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8C3-F99B-4FC2-92AE-8BA7CF1C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C41-9BF5-4992-8C88-DF6D805A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A679-5EA0-4689-A9E0-EE24B343B6D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C2EF-7189-47C8-8975-EF0FF7BE1C7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9197-3FF0-476B-8B81-9D0CB23C8D4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E43A-4EEE-4255-938A-F6A1ACF2226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4792-8917-4869-A1C3-4EB3C137398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415F-7D80-43D8-A599-88650395B15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d0d0d"/>
                </a:solidFill>
                <a:latin typeface="Constantia"/>
              </a:rPr>
              <a:t>Урок всесвітньої історії в 10 класі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365040" y="262080"/>
            <a:ext cx="8589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6836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Примусове звільнення неарійських держслужбовців (за винятком військових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1.04.1933р.– прийняття «арійського параграфа» (інструкції, що визначала, кого нацисти вважали євреям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5.04.1933р.– запровадження процентних норм для євреїв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0.05.1933р.– публічне спалення книжок «неарійських» авторів (серед яких  були кращі твори світової класичної літератур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09.1933р. – «Нюрнберзькі закони» – євреї позбавлялися громадянських  прав (брати участь у будь-яких громадсько-політичних заходах, брати шлюб із повноправними громадянами рейху, вивішувати поряд зі своїми будинками німецький прапор тощо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6.11.1937р. – заборона видавати євреям закордонні паспорт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938р. – скасування всіх податкових пільг для єврейських підприємст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2.07.1938р. – зобо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євреїв носити спеціальні посвідченн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07-09. 1938р. – позбавлення євреїв-лікарів та юристів права на практик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З 5.10.1938р. – паспорти євреїв маркувалися літерою «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0.1938р. – вислання з Німеччини 17 тис. польських  євреїв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9-10.11.1938р. – «Кришталева ніч» – єврейські погроми по всій Німеччині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11-08.12.1938р. – припинення навчання єврейських дітей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1.1938р.—запровадження комендантської години для євреї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0.01.1942р. – проголошення на партійній конференції НСДАП антисемітизму метою власної політики, спрямованої на остаточне роз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« єврейського питання», що призвело до ГОЛОКОСТУ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ПП – Чи можна було не допустити нацистів до влади?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2" descr=""/>
          <p:cNvPicPr/>
          <p:nvPr/>
        </p:nvPicPr>
        <p:blipFill>
          <a:blip r:embed="rId2"/>
          <a:stretch/>
        </p:blipFill>
        <p:spPr>
          <a:xfrm>
            <a:off x="324000" y="23760"/>
            <a:ext cx="8600760" cy="135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Users\acer\Desktop\Изображение 045.jpg"/>
          <p:cNvPicPr/>
          <p:nvPr/>
        </p:nvPicPr>
        <p:blipFill>
          <a:blip r:embed="rId3"/>
          <a:stretch/>
        </p:blipFill>
        <p:spPr>
          <a:xfrm>
            <a:off x="1619280" y="1484280"/>
            <a:ext cx="63309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працювати матеріали презентації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ідготувати історичне повідомлення «Кришталева ніч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ясувати причини встановлення нацистської диктатури в Німеччині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глянути програму нацистської партії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прослідкувати хронологію просування нацистів до влад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сформувати поняття «антисемітизм»,розглянути основні етапи антисемітської політики нацисті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вивати навики логічного висловлюванн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иховувати пацифістські та антифашистські настрої в середовищі учні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Економічна криз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ромислове виробництво скоротилося на 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ість безробітних сягнула 4,5 млн.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реальна заробітна плата знизилася на 25-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а тисяч дрібних підприємств збанкрутіл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еляни-бауери масово розоряли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спроможність правлячих кіл Німеччини керувати країною парламентськими методам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ростання соціальних суперечностей під час економічної криз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осилення прагнення до сильної влади, здатної навести порядок у країні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лабкість Веймарської республік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Відсутність єдності серед партій веймарської коаліції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задоволення умовами Версальського мир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творена у 1919р. Німецька робітнича парт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920р.—Націонал-соціалістична робітнича партія Німеччи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цистську партію підтримувал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біт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еля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безробітн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рібна і середня буржуаз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фінансово-промислова верхів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«Суть фашистського світогляду полягала в тому, що: нація – це цілісний організм, єдина надособистість, наділена надрозумом; історія людства являє собою боротьбу різних націй за виживання (слабший гине чи підкоряється, сильніший виживає і панує); всі навколишні народи – потенційні сьогоднішні чи завтрашні вороги; найвища цінність для кожної людини – його нація; людська особистість має цінність лише настільки, наскільки вона є частиною цієї спільності; цінність кожної конкретної людини визначається її внеском у велич і благополуччя нації; виразник інтересів і волі нації – держава («все для держави, нічого проти держави, нікого поза державою»); глава держави є уособленням нації; нація має бути єдиною та згуртованою, а всякий , хто роздуває  внутрішні конфлікти, -- національний зрадник; усі протиріччя усередині нації вирішуються тільки велінням держави і вожд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Об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єднання всіх німців у «Велику Німеччину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ідмова від дотримання умов Версальського договор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Боротьба за нові території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збавлення політичних прав і громадянства осіб «неарійського походженн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вільнення трудівників від «свавілля монополій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Націоналізація тресті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Спільне користування поміщицькими земля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ліпшення системи осві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Державне матеріальне забезпечення людей похилого вік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ахист інтересів матерів і діте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Users\acer\Desktop\Изображение 046.jpg"/>
          <p:cNvPicPr/>
          <p:nvPr/>
        </p:nvPicPr>
        <p:blipFill>
          <a:blip r:embed="rId3"/>
          <a:stretch/>
        </p:blipFill>
        <p:spPr>
          <a:xfrm>
            <a:off x="426960" y="1603440"/>
            <a:ext cx="2475000" cy="4694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Users\acer\Desktop\Изображение 043.jpg"/>
          <p:cNvPicPr/>
          <p:nvPr/>
        </p:nvPicPr>
        <p:blipFill>
          <a:blip r:embed="rId4"/>
          <a:stretch/>
        </p:blipFill>
        <p:spPr>
          <a:xfrm>
            <a:off x="5967360" y="1603440"/>
            <a:ext cx="3060720" cy="4657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Users\acer\Desktop\Изображение 044.jpg"/>
          <p:cNvPicPr/>
          <p:nvPr/>
        </p:nvPicPr>
        <p:blipFill>
          <a:blip r:embed="rId5"/>
          <a:stretch/>
        </p:blipFill>
        <p:spPr>
          <a:xfrm>
            <a:off x="3005280" y="1603440"/>
            <a:ext cx="2968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1 липня 1932р.-на виборах до рейхстагу нацисти одержали 37,4% голосів виборців і 230 із 608 місц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ерпня 1932р. –Германа Герінга обрано головою рейхстагу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ічня 1933р. – Гітлер призначений рейхсканцлеро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3 березня 1933р. – рейхстаг прийняв закон про надання Гітлерові надзвичайних повноважен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серпня 1934р. (після смерті Гінденбурга) – Гітлеру присвоєно довічні звання фюрера та рейхсканцле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8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антисемітизм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анти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проти) + лат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emici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назва етнічної групи, до якої належать євреї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дна із форм расового шовінізму, яка проявляється у нетерпимому ставленні до осіб єврейської  національності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Форми прояву антисемітизм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едоброзичливе ставлення в побут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дискримінац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Єврейські погро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Конфіскація май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еноци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06:36:29Z</dcterms:created>
  <dc:creator>acer</dc:creator>
  <dc:description/>
  <dc:language>en-US</dc:language>
  <cp:lastModifiedBy>Admin</cp:lastModifiedBy>
  <dcterms:modified xsi:type="dcterms:W3CDTF">2014-04-23T15:06:57Z</dcterms:modified>
  <cp:revision>16</cp:revision>
  <dc:subject/>
  <dc:title>Встановлення нацистської диктатури в Німеччині. Політика гітлерівського режиму. Антисемітиз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2e000000000001024140</vt:lpwstr>
  </property>
</Properties>
</file>