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E55-F586-4B71-AA30-C7EF2D51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51F-E1D2-43B7-8C68-B874B1A3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7DF-35E1-48A8-ADB8-27BD42E0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3CB-E7B7-479D-ACFE-6C202B77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D51EA-7E17-4EA3-8880-192B6CDD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A8668-EB0B-427C-916A-8D2BB6A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EE191-DFAC-4370-8938-2B9D347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D8CF0-8B00-4196-8866-528ACBA1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BEF9-5E99-4070-9BD5-FFDD41E7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2983A-EBDC-4AD7-8A59-6A92608B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C8854-95D0-432A-893F-D1EBAAD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667-240C-4498-A317-8EB586A3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3ACA2-7CC9-43FE-A13E-1437AF0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52FB9-AA7D-4C2A-BCBF-36C9B48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DB51F-CB95-4BD8-A7BF-F2638DA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52D8-0AF2-4BDF-A1FC-F4092422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75539-F384-4EEE-8DF8-1F3B6D0F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00C4-EB8B-4C57-BDAD-E466C0F5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1723-C76B-49AD-A6C5-CD811E3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874C-8C21-4D8B-9066-E4A35E6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3B53-D380-4582-A3EA-90C627E9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C468-507A-44EE-B1CF-5176701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B0E-7311-436E-9584-F8A1EBC6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B119-1750-4F17-8ABF-DE2FF40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CD2C-F489-48C2-A55E-A86FF16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A00D-A9B3-4C87-84D4-3592710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C460-B97A-4F7E-9469-4F81432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99BC-2BD1-4600-80AE-39463C3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FCB3-5043-4E58-9165-A452CE9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AB81-297F-4D15-A6A9-308ECE9F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B3E70-E8B0-4D49-95BC-1E464B7E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D145E-C76C-45AA-9E5B-432219E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E8D8C-6FF3-48E8-A9B7-BA6F7A3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636-C8CB-4649-B968-9FAE13D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FBD12-C4A5-4285-8900-B4002A8B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55F4F-B083-48C9-BEA0-5B3ADBF9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26E45-E6B8-459A-95B9-63325666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91F10-4513-433E-81BA-A4A0B3B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E070E-3DC4-42DA-8255-DC8FBF7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B89E3-127A-41E2-9FEF-195195E1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406FC-961F-4A52-BBD1-04684F4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79DB3-83F4-44C7-89E0-BFB06C3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2EF6B-E1E8-4309-9A4D-1D49770B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3270B-6563-4BEC-8C30-264CD386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BBC-60B6-4DC6-A6B8-D514C96B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99ECA-BEC6-486C-A856-68290086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2CB11-8CB9-4ED6-84B8-739F9CF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DC168-6F24-48AD-B09B-4213687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40D1C-16A2-4A9F-A6C8-B70A0AB7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84BCF-7448-4B86-B31F-74E5F38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E62F4-D012-456E-9A0A-6EB0F8D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0E52E-828A-460D-83A5-54F2E5C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481FC-06EE-47C3-9EDB-6719392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66464-88CD-43E1-8D84-15FBD840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EB117-441E-49A2-BC81-0B3747BB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4A2-C366-4560-BE48-9011EB9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571BB-303B-4EA4-8D06-D96BBAFE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55E81-FFD3-401D-A7E9-52A8CD1A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FBB4C-6EF4-40A1-8530-53B48EBB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2AF57-345C-40A9-9D9F-BFCF84D7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1A5B6-17CD-4174-9899-5714D495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054EE-79C3-4362-9DEE-01E43AF8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F27D0-2E0C-4B9C-8E69-E2B7162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010C0-2DA2-4C76-BD4D-EB527E4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0EF37-22C0-402B-9EE4-FEAAC6A3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093C1-C5D6-45B8-9ED8-DF145F7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B4B-624C-48C3-8F8E-9803A3EF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E6EFD-B424-4DD7-BE35-5DD4AD37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DEDD9-BB35-4B7F-A1E3-F9B9F7A4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D694F-9EE9-46E3-AE6E-8F4FCD7A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07A-8917-4A46-8753-8689404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950-65C3-4063-99E8-E16421C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C95-11F2-450B-A323-71738A86FCE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6AF2-CCF3-45DD-A3BC-2A98B85E5EB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A6AA-8927-4DEF-969B-495CD5FD19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9C2C-B325-418B-8B5A-F2EFEC35FEF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40A-F8EA-4BDE-AEF3-BBB6A2C0271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546-F0F9-4817-9453-16288C2E0EB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d0d"/>
                </a:solidFill>
                <a:latin typeface="Constantia"/>
              </a:rPr>
              <a:t>Урок всесвітньої історії в 10 клас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589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836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Примусове звільнення неарійських держслужбовців (за винятком військових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1.04.1933р.– прийняття «арійського параграфа» (інструкції, що визначала, кого нацисти вважали євреям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5.04.1933р.– запровадження процентних норм для євреїв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0.05.1933р.– публічне спалення книжок «неарійських» авторів (серед яких  були кращі твори світової класичної літератур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09.1933р. – «Нюрнберзькі закони» – євреї позбавлялися громадянських  прав (брати участь у будь-яких громадсько-політичних заходах, брати шлюб із повноправними громадянами рейху, вивішувати поряд зі своїми будинками німецький прапор тощо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6.11.1937р. – заборона видавати євреям закордонні паспорт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938р. – скасування всіх податкових пільг для єврейських підприємст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2.07.1938р. – зобо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євреїв носити спеціальні посвідченн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07-09. 1938р. – позбавлення євреїв-лікарів та юристів права на практик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З 5.10.1938р. – паспорти євреїв маркувалися літерою «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0.1938р. – вислання з Німеччини 17 тис. польських  євреїв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9-10.11.1938р. – «Кришталева ніч» – єврейські погроми по всій Німеччині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11-08.12.1938р. – припинення навчання єврейських дітей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1.1938р.—запровадження комендантської години для євреї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0.01.1942р. – проголошення на партійній конференції НСДАП антисемітизму метою власної політики, спрямованої на остаточне роз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« єврейського питання», що призвело до ГОЛОКОСТ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ПП – Чи можна було не допустити нацистів до влади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2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600760" cy="135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Users\acer\Desktop\Изображение 045.jpg"/>
          <p:cNvPicPr/>
          <p:nvPr/>
        </p:nvPicPr>
        <p:blipFill>
          <a:blip r:embed="rId3"/>
          <a:stretch/>
        </p:blipFill>
        <p:spPr>
          <a:xfrm>
            <a:off x="1619280" y="1484280"/>
            <a:ext cx="633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працювати матеріали презентації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ідготувати історичне повідомлення «Кришталева ніч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ясувати причини встановлення нацистської диктатури в Німеччині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глянути програму нацистської партії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прослідкувати хронологію просування нацистів до влад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формувати поняття «антисемітизм»,розглянути основні етапи антисемітської політики нацисті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вивати навики логічного висловлюванн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иховувати пацифістські та антифашистські настрої в середовищі учні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Економічна криз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ромислове виробництво скоротилося на 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ість безробітних сягнула 4,5 млн.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реальна заробітна плата знизилася на 25-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а тисяч дрібних підприємств збанкрутіл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еляни-бауери масово розоряли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спроможність правлячих кіл Німеччини керувати країною парламентськими метода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ростання соціальних суперечностей під час економічної криз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осилення прагнення до сильної влади, здатної навести порядок у країні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лабкість Веймарської республі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Відсутність єдності серед партій веймарської коаліції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задоволення умовами Версальського ми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творена у 1919р. Німецька робітнича парт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0р.—Націонал-соціалістична робітнича партія Німеччи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цистську партію підтримув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біт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еля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безробітн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рібна і середня буржуаз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фінансово-промислова верхів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«Суть фашистського світогляду полягала в тому, що: нація – це цілісний організм, єдина надособистість, наділена надрозумом; історія людства являє собою боротьбу різних націй за виживання (слабший гине чи підкоряється, сильніший виживає і панує); всі навколишні народи – потенційні сьогоднішні чи завтрашні вороги; найвища цінність для кожної людини – його нація; людська особистість має цінність лише настільки, наскільки вона є частиною цієї спільності; цінність кожної конкретної людини визначається її внеском у велич і благополуччя нації; виразник інтересів і волі нації – держава («все для держави, нічого проти держави, нікого поза державою»); глава держави є уособленням нації; нація має бути єдиною та згуртованою, а всякий , хто роздуває  внутрішні конфлікти, -- національний зрадник; усі протиріччя усередині нації вирішуються тільки велінням держави і вожд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Об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єднання всіх німців у «Велику Німеччину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ідмова від дотримання умов Версальського договор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Боротьба за нові території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збавлення політичних прав і громадянства осіб «неарійського походженн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вільнення трудівників від «свавілля монополій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Націоналізація тресті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Спільне користування поміщицькими зем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ліпшення системи осві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Державне матеріальне забезпечення людей похилого ві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хист інтересів матерів і ді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acer\Desktop\Изображение 046.jpg"/>
          <p:cNvPicPr/>
          <p:nvPr/>
        </p:nvPicPr>
        <p:blipFill>
          <a:blip r:embed="rId3"/>
          <a:stretch/>
        </p:blipFill>
        <p:spPr>
          <a:xfrm>
            <a:off x="426960" y="1603440"/>
            <a:ext cx="2475000" cy="469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acer\Desktop\Изображение 043.jpg"/>
          <p:cNvPicPr/>
          <p:nvPr/>
        </p:nvPicPr>
        <p:blipFill>
          <a:blip r:embed="rId4"/>
          <a:stretch/>
        </p:blipFill>
        <p:spPr>
          <a:xfrm>
            <a:off x="5967360" y="1603440"/>
            <a:ext cx="3060720" cy="465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acer\Desktop\Изображение 044.jpg"/>
          <p:cNvPicPr/>
          <p:nvPr/>
        </p:nvPicPr>
        <p:blipFill>
          <a:blip r:embed="rId5"/>
          <a:stretch/>
        </p:blipFill>
        <p:spPr>
          <a:xfrm>
            <a:off x="3005280" y="1603440"/>
            <a:ext cx="2968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1 липня 1932р.-на виборах до рейхстагу нацисти одержали 37,4% голосів виборців і 230 із 608 місц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ерпня 1932р. –Германа Герінга обрано головою рейхстагу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ічня 1933р. – Гітлер призначений рейхсканцлер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3 березня 1933р. – рейхстаг прийняв закон про надання Гітлерові надзвичайних повноважен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серпня 1934р. (після смерті Гінденбурга) – Гітлеру присвоєно довічні звання фюрера та рейхсканцле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8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антисемітизм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анти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проти) +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emici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назва етнічної групи, до якої належать євреї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дна із форм расового шовінізму, яка проявляється у нетерпимому ставленні до осіб єврейської  національності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Форми прояву антисемітиз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едоброзичливе ставлення в побут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дискримінац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Єврейські погро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онфіскація май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еноц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6:36:29Z</dcterms:created>
  <dc:creator>acer</dc:creator>
  <dc:description/>
  <dc:language>en-US</dc:language>
  <cp:lastModifiedBy>Admin</cp:lastModifiedBy>
  <dcterms:modified xsi:type="dcterms:W3CDTF">2014-04-23T15:06:57Z</dcterms:modified>
  <cp:revision>16</cp:revision>
  <dc:subject/>
  <dc:title>Встановлення нацистської диктатури в Німеччині. Політика гітлерівського режиму. Антисемітиз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2e000000000001024140</vt:lpwstr>
  </property>
</Properties>
</file>