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FE09-FB82-46AC-AC22-A6C0A216D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202C-8D22-4639-9258-27280581B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C3C0-B7D5-42CE-AEB3-6B0C41584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4665-7128-42E2-80B4-C877BB4EB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34BB44-CC8B-4942-B27F-906C0D415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CE0CFC-CAAA-456E-BF41-2B47D1C7B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CE4182-D2F6-4307-9F27-CCDECCD13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73B9D3-FBB2-4F30-A8BA-337D695C4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775720-D9E6-4089-9374-13140417C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74276B-22B5-4F01-9004-8188F9515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01E3A9-2FA9-4397-A303-E4013FDB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15A0-D0FF-45A8-91E2-A2EA0215D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B7943A-4D74-4426-AB7E-EF007BE2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587931-60C0-4F8A-9FA7-39A3CD61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89C392-55F3-4F99-AE73-B863F2042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2565D3-4030-42C4-B1B8-0EC90CFB0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CD33B3-C83B-4295-B7E3-8572A77D8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C6427-B24C-46A5-9E91-91361EDA9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F355E-BC73-4829-8149-FAB5C13E2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33439-0AA6-4AC0-AB56-81C875F13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ADF27-246F-46D7-9C7B-4948E9F3C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EF7F2-2C08-4FE3-A2C9-622839E3F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10D9-EDD3-49CA-95FC-2626C1DBE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06BBE-DF7E-445C-9EBC-F90D4341B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B1C49-474F-4C2E-96F8-55B909A8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F8299-4B67-47DC-B0E5-A8E40E05D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A0FF2-34C6-4487-B9FB-95F94CCE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D6EEF-8BD9-483F-9100-2F3B2BF29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F3368-4FE8-4E50-9931-A1850E2AD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1642E-F6B4-452C-B115-4E213FA97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1D73CF-329C-4B31-AA21-F01C8D1C7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F918EC-07FA-45DA-B632-707D9C7AD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AE4BC8-A679-43E9-94DC-50A503A4C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E8A4-EB3A-460D-A85C-A72C3DFB8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C3B7F5-82A0-4856-AC41-34EB77D0F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52B186-B793-45F4-BE3F-6DC1A9D9B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F8F75E-C1CC-485C-AB59-D24843915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2DB7FA-7985-4099-968A-B3CA602C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F7ECF9-2D83-42D1-B357-CF27C97A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C46D81-62D7-4923-A92E-52022070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7D50E8-AECC-4063-BBE4-1D4FE8840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FEEA54-9880-402C-A792-7378C1B99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32D6CB-B600-4C55-BF3D-774232D81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F8382B-FAB6-4D1D-A97C-8F4F17E13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B604-FAD7-4FEB-9D99-FEFA76D56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32EE6F-D813-4287-B5D5-CC8C69433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2ED6C7-E5E3-4952-AE93-5887D9B5F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7EBABE-4769-4B05-B69A-A529C33CF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5F8D8C-B561-4CFF-AC78-42F80B558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17636C-B4F3-4EAC-8F15-BA37FEBB3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1A213E-A22E-41AE-92CE-5C5E1CD3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1720A9-BD08-414B-BCE2-4CC79B14F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43B6A0-92A8-4D37-AD02-FF7D95070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173751-6F07-47D8-A02D-606D4E49C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EBD692-C565-474B-AC1A-01499E9EF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2A76-7ED9-4C1C-81A3-32C0BDC78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B1F756-264F-40E3-83F3-AB587C619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CA66DE-8242-486A-8545-5C8499B11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7C5816-1D17-4503-A11E-0E51D1E10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7975EF-0106-4ED0-9A16-B65F47815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837CAC-CE80-49EC-A5FF-992FF9ABA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ECC05F-C7CD-491B-84D3-873F8E7EC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A4581C-CE0A-4428-8B86-AEC220C52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63C5F9-A9BC-483F-8058-9A4760C2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06E30E-FA6A-4544-B7E6-68A0821E2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CCF415-89FD-4875-A46B-5991AC917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2DF0-A4F7-4601-9B84-54BA115E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91A5AC-08A3-4E4E-B0B0-766A7D88E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474E19-E488-4A78-A058-BBAAF3622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F6B4CC-B0D4-4642-930B-3FE35F395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3B52-629E-4124-869A-C7B39C724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EB0E-B382-40D8-BD43-9CC78400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DC8C8-6F86-4997-AAB5-9F0D138D4347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7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Прямая соединительная линия 12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Овал 13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E4300-C7B7-4764-94E1-12BC0F899D54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6235B-ADF7-4DD5-99E0-E5051FB5BFBC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9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Прямая соединительная линия 16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49C9D-A12A-4A46-B323-74938A7992A3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321FC-F8AB-492F-A470-14F577D19A40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44A5B-8D81-4082-9CCE-749412898D5C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d0d0d"/>
                </a:solidFill>
                <a:latin typeface="Constantia"/>
              </a:rPr>
              <a:t>Урок всесвітньої історії в 10 класі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3" name="Заголовок 1" descr=""/>
          <p:cNvPicPr/>
          <p:nvPr/>
        </p:nvPicPr>
        <p:blipFill>
          <a:blip r:embed="rId2"/>
          <a:stretch/>
        </p:blipFill>
        <p:spPr>
          <a:xfrm>
            <a:off x="365040" y="262080"/>
            <a:ext cx="8589960" cy="31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468360" y="155700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Constantia"/>
              </a:rPr>
              <a:t>Примусове звільнення неарійських держслужбовців (за винятком військових)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Constantia"/>
              </a:rPr>
              <a:t>11.04.1933р.– прийняття «арійського параграфа» (інструкції, що визначала, кого нацисти вважали євреями)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Constantia"/>
              </a:rPr>
              <a:t>25.04.1933р.– запровадження процентних норм для євреїв у школах та університетах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Constantia"/>
              </a:rPr>
              <a:t>10.05.1933р.– публічне спалення книжок «неарійських» авторів (серед яких  були кращі твори світової класичної літератури)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Constantia"/>
              </a:rPr>
              <a:t>15.09.1933р. – «Нюрнберзькі закони» – євреї позбавлялися громадянських  прав (брати участь у будь-яких громадсько-політичних заходах, брати шлюб із повноправними громадянами рейху, вивішувати поряд зі своїми будинками німецький прапор тощо)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Constantia"/>
              </a:rPr>
              <a:t>16.11.1937р. – заборона видавати євреям закордонні паспорти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Constantia"/>
              </a:rPr>
              <a:t>1938р. – скасування всіх податкових пільг для єврейських підприємств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Constantia"/>
              </a:rPr>
              <a:t>22.07.1938р. – зобов</a:t>
            </a: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’</a:t>
            </a:r>
            <a:r>
              <a:rPr b="1" lang="uk-UA" sz="1400" spc="-1" strike="noStrike">
                <a:solidFill>
                  <a:srgbClr val="000000"/>
                </a:solidFill>
                <a:latin typeface="Constantia"/>
              </a:rPr>
              <a:t>язання євреїв носити спеціальні посвідчення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Constantia"/>
              </a:rPr>
              <a:t>07-09. 1938р. – позбавлення євреїв-лікарів та юристів права на практику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Constantia"/>
              </a:rPr>
              <a:t>З 5.10.1938р. – паспорти євреїв маркувалися літерою «</a:t>
            </a: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J</a:t>
            </a:r>
            <a:r>
              <a:rPr b="1" lang="uk-UA" sz="1400" spc="-1" strike="noStrike">
                <a:solidFill>
                  <a:srgbClr val="000000"/>
                </a:solidFill>
                <a:latin typeface="Constantia"/>
              </a:rPr>
              <a:t>»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Constantia"/>
              </a:rPr>
              <a:t>28.10.1938р. – вислання з Німеччини 17 тис. польських  євреїв 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Constantia"/>
              </a:rPr>
              <a:t>9-10.11.1938р. – «Кришталева ніч» – єврейські погроми по всій Німеччині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Constantia"/>
              </a:rPr>
              <a:t>15.11-08.12.1938р. – припинення навчання єврейських дітей у школах та університетах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Constantia"/>
              </a:rPr>
              <a:t>28.11.1938р.—запровадження комендантської години для євреїв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Constantia"/>
              </a:rPr>
              <a:t>20.01.1942р. – проголошення на партійній конференції НСДАП антисемітизму метою власної політики, спрямованої на остаточне розв</a:t>
            </a: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’</a:t>
            </a:r>
            <a:r>
              <a:rPr b="1" lang="uk-UA" sz="1400" spc="-1" strike="noStrike">
                <a:solidFill>
                  <a:srgbClr val="000000"/>
                </a:solidFill>
                <a:latin typeface="Constantia"/>
              </a:rPr>
              <a:t>язання « єврейського питання», що призвело до ГОЛОКОСТУ 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3" name="Заголовок 2" descr=""/>
          <p:cNvPicPr/>
          <p:nvPr/>
        </p:nvPicPr>
        <p:blipFill>
          <a:blip r:embed="rId2"/>
          <a:stretch/>
        </p:blipFill>
        <p:spPr>
          <a:xfrm>
            <a:off x="450720" y="23760"/>
            <a:ext cx="824256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Constantia"/>
              </a:rPr>
              <a:t>ПП – Чи можна було не допустити нацистів до влади?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5" name="Заголовок 2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Заголовок 2" descr=""/>
          <p:cNvPicPr/>
          <p:nvPr/>
        </p:nvPicPr>
        <p:blipFill>
          <a:blip r:embed="rId2"/>
          <a:stretch/>
        </p:blipFill>
        <p:spPr>
          <a:xfrm>
            <a:off x="324000" y="23760"/>
            <a:ext cx="8600760" cy="13543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3" descr="C:\Users\acer\Desktop\Изображение 045.jpg"/>
          <p:cNvPicPr/>
          <p:nvPr/>
        </p:nvPicPr>
        <p:blipFill>
          <a:blip r:embed="rId3"/>
          <a:stretch/>
        </p:blipFill>
        <p:spPr>
          <a:xfrm>
            <a:off x="1619280" y="1484280"/>
            <a:ext cx="63309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Опрацювати матеріали презентації,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змалювати історичний портрет Адольфа Гітлера,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підготувати історичне повідомлення «Кришталева ніч»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9" name="Заголовок 2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 algn="just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nstantia"/>
              </a:rPr>
              <a:t>з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’</a:t>
            </a:r>
            <a:r>
              <a:rPr b="1" lang="uk-UA" sz="2400" spc="-1" strike="noStrike">
                <a:solidFill>
                  <a:srgbClr val="000000"/>
                </a:solidFill>
                <a:latin typeface="Constantia"/>
              </a:rPr>
              <a:t>ясувати причини встановлення нацистської диктатури в Німеччині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 algn="just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nstantia"/>
              </a:rPr>
              <a:t>розглянути програму нацистської партії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 algn="just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nstantia"/>
              </a:rPr>
              <a:t>прослідкувати хронологію просування нацистів до влади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 algn="just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nstantia"/>
              </a:rPr>
              <a:t>змалювати історичний портрет Адольфа Гітлера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 algn="just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nstantia"/>
              </a:rPr>
              <a:t>сформувати поняття «антисемітизм»,розглянути основні етапи антисемітської політики нацистів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 algn="just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nstantia"/>
              </a:rPr>
              <a:t>розвивати навики логічного висловлювання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 algn="just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nstantia"/>
              </a:rPr>
              <a:t>виховувати пацифістські та антифашистські настрої в середовищі учнів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5" name="Заголовок 1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Економічна криза: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промислове виробництво скоротилося на 40%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кількість безробітних сягнула 4,5 млн.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реальна заробітна плата знизилася на 25-40%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кілька тисяч дрібних підприємств збанкрутіли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селяни-бауери масово розорялися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Неспроможність правлячих кіл Німеччини керувати країною парламентськими методами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Зростання соціальних суперечностей під час економічної кризи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Посилення прагнення до сильної влади, здатної навести порядок у країні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Слабкість Веймарської республіки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Відсутність єдності серед партій веймарської коаліції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Незадоволення умовами Версальського миру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7" name="Заголовок 2" descr=""/>
          <p:cNvPicPr/>
          <p:nvPr/>
        </p:nvPicPr>
        <p:blipFill>
          <a:blip r:embed="rId2"/>
          <a:stretch/>
        </p:blipFill>
        <p:spPr>
          <a:xfrm>
            <a:off x="450720" y="23760"/>
            <a:ext cx="824256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Створена у 1919р. Німецька робітнича парті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1920р.—Націонал-соціалістична робітнича партія Німеччин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Нацистську партію підтримували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робітник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селян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безробітні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дрібна і середня буржуазі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фінансово-промислова верхівк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9" name="Заголовок 2" descr=""/>
          <p:cNvPicPr/>
          <p:nvPr/>
        </p:nvPicPr>
        <p:blipFill>
          <a:blip r:embed="rId2"/>
          <a:stretch/>
        </p:blipFill>
        <p:spPr>
          <a:xfrm>
            <a:off x="450720" y="23760"/>
            <a:ext cx="824256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457200" y="1523520"/>
            <a:ext cx="8229600" cy="50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onstantia"/>
              </a:rPr>
              <a:t>«Суть фашистського світогляду полягала в тому, що: нація – це цілісний організм, єдина надособистість, наділена надрозумом; історія людства являє собою боротьбу різних націй за виживання (слабший гине чи підкоряється, сильніший виживає і панує); всі навколишні народи – потенційні сьогоднішні чи завтрашні вороги; найвища цінність для кожної людини – його нація; людська особистість має цінність лише настільки, наскільки вона є частиною цієї спільності; цінність кожної конкретної людини визначається її внеском у велич і благополуччя нації; виразник інтересів і волі нації – держава («все для держави, нічого проти держави, нікого поза державою»); глава держави є уособленням нації; нація має бути єдиною та згуртованою, а всякий , хто роздуває  внутрішні конфлікти, -- національний зрадник; усі протиріччя усередині нації вирішуються тільки велінням держави і вождя»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1" name="Заголовок 2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onstantia"/>
              </a:rPr>
              <a:t>Об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’</a:t>
            </a:r>
            <a:r>
              <a:rPr b="1" lang="uk-UA" sz="2200" spc="-1" strike="noStrike">
                <a:solidFill>
                  <a:srgbClr val="000000"/>
                </a:solidFill>
                <a:latin typeface="Constantia"/>
              </a:rPr>
              <a:t>єднання всіх німців у «Велику Німеччину»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onstantia"/>
              </a:rPr>
              <a:t>Відмова від дотримання умов Версальського договору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onstantia"/>
              </a:rPr>
              <a:t>Боротьба за нові території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onstantia"/>
              </a:rPr>
              <a:t>Позбавлення політичних прав і громадянства осіб «неарійського походження»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onstantia"/>
              </a:rPr>
              <a:t>Звільнення трудівників від «свавілля монополій»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onstantia"/>
              </a:rPr>
              <a:t>Націоналізація трестів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onstantia"/>
              </a:rPr>
              <a:t>Спільне користування поміщицькими землями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onstantia"/>
              </a:rPr>
              <a:t>Поліпшення системи освіти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onstantia"/>
              </a:rPr>
              <a:t>Державне матеріальне забезпечення людей похилого віку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onstantia"/>
              </a:rPr>
              <a:t>Захист інтересів матерів і дітей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3" name="Заголовок 2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Заголовок 2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C:\Users\acer\Desktop\Изображение 046.jpg"/>
          <p:cNvPicPr/>
          <p:nvPr/>
        </p:nvPicPr>
        <p:blipFill>
          <a:blip r:embed="rId3"/>
          <a:stretch/>
        </p:blipFill>
        <p:spPr>
          <a:xfrm>
            <a:off x="426960" y="1603440"/>
            <a:ext cx="2475000" cy="46940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3" descr="C:\Users\acer\Desktop\Изображение 043.jpg"/>
          <p:cNvPicPr/>
          <p:nvPr/>
        </p:nvPicPr>
        <p:blipFill>
          <a:blip r:embed="rId4"/>
          <a:stretch/>
        </p:blipFill>
        <p:spPr>
          <a:xfrm>
            <a:off x="5967360" y="1603440"/>
            <a:ext cx="3060720" cy="46576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4" descr="C:\Users\acer\Desktop\Изображение 044.jpg"/>
          <p:cNvPicPr/>
          <p:nvPr/>
        </p:nvPicPr>
        <p:blipFill>
          <a:blip r:embed="rId5"/>
          <a:stretch/>
        </p:blipFill>
        <p:spPr>
          <a:xfrm>
            <a:off x="3005280" y="1603440"/>
            <a:ext cx="296856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31 липня 1932р.-на виборах до рейхстагу нацисти одержали 37,4% голосів виборців і 230 із 608 місць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30 серпня 1932р. –Германа Герінга обрано головою рейхстагу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30 січня 1933р. – Гітлер призначений рейхсканцлером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23 березня 1933р. – рейхстаг прийняв закон про надання Гітлерові надзвичайних повноважень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 серпня 1934р. (після смерті Гінденбурга) – Гітлеру присвоєно довічні звання фюрера та рейхсканцлер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9" name="Заголовок 2" descr=""/>
          <p:cNvPicPr/>
          <p:nvPr/>
        </p:nvPicPr>
        <p:blipFill>
          <a:blip r:embed="rId2"/>
          <a:stretch/>
        </p:blipFill>
        <p:spPr>
          <a:xfrm>
            <a:off x="450720" y="23760"/>
            <a:ext cx="824868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c00000"/>
                </a:solidFill>
                <a:latin typeface="Constantia"/>
              </a:rPr>
              <a:t>антисемітизм</a:t>
            </a: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 =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анти</a:t>
            </a: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 (проти) + лат. 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semici</a:t>
            </a: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 (назва етнічної групи, до якої належать євреї)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= </a:t>
            </a: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одна із форм расового шовінізму, яка проявляється у нетерпимому ставленні до осіб єврейської  національності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c00000"/>
                </a:solidFill>
                <a:latin typeface="Constantia"/>
              </a:rPr>
              <a:t>Форми прояву антисемітизму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Недоброзичливе ставлення в побуті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Правова дискримінаці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Єврейські погром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Конфіскація майн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Геноцид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1" name="Заголовок 2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30T06:36:29Z</dcterms:created>
  <dc:creator>acer</dc:creator>
  <dc:description/>
  <dc:language>en-US</dc:language>
  <cp:lastModifiedBy>Admin</cp:lastModifiedBy>
  <dcterms:modified xsi:type="dcterms:W3CDTF">2014-04-23T15:06:57Z</dcterms:modified>
  <cp:revision>16</cp:revision>
  <dc:subject/>
  <dc:title>Встановлення нацистської диктатури в Німеччині. Політика гітлерівського режиму. Антисемітизм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a2e000000000001024140</vt:lpwstr>
  </property>
</Properties>
</file>