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5282-B3D8-4E78-9887-F968D087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1549-3760-4BB2-8ABA-962BDF69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F84-5B5E-411A-BE26-B789AA39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043D-8A62-4092-BB81-E6EDA123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FA32E-5AAE-402F-87B2-30CFF7EB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86FB7-A732-460F-80BA-EC8DFAF3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B2616-CB50-433E-8427-8038F624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40318-08B1-4EE6-8857-D050EC66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AC70C-AF42-4FF5-BE91-A6093D69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BA05D-2883-4599-ACA7-6CFEAF49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63C23-FF42-47F1-B749-8897B36C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9ACB-30E3-4D36-A2FB-DAF1EDB2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AFBF9-81EB-4DB2-A483-536BC2A2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97853-5EC3-463F-9CCF-F253BE25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0C488-EC8E-4177-90C3-DFE38EAD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1071B-1DD6-43BA-96AE-6D0E49220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7C0A7-648A-4E33-BA9D-ED863DEE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D3202-970A-4693-BF17-C75252DF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ACBA0-4B38-4E87-856C-966BF5BF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6CEFB-10E0-4217-BD46-5D2F287B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27C7E-EB72-42B6-A56F-ED39772C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4FC90-4A0F-4F56-A69F-BE074A18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D86A-E117-4FEB-867D-8721F652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89C14-E99F-468D-B1D9-FC5D2977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54818-D0BF-4D81-82D7-269AC610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3F329-0157-4A58-9FB3-052E51C0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F1DEA-EC88-4494-B8A5-E100E6D2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36007-DA7F-4041-B882-899C0884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D993F-BBB2-473F-90D5-F78E9487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DA18B-9D95-43AB-B5B4-D924BDBB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610519-9C48-4162-A403-11852985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FA2607-4744-47EA-B242-B6560274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A9401A-D6AB-4D4D-8135-1FFAF7E5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82D9-2CA0-42AC-A735-8922A8E6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21B190-F85D-4E06-81A3-D49E484A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2D5C72-269B-45C0-AA6C-C2CAD5AB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BA708B-5F11-456D-84C5-3F05D4CF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CE2960-5BBC-4B64-96FA-D55848FF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6E60C5-2BC2-4E2D-A71A-1CB0355E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CB3544-6455-40B4-BE91-026867D3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033067-2A07-44D0-B778-A2CDD050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376156-D7C2-40CD-A873-7CEDAC23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2606CE-9A2B-41B0-9F03-ACDDF603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CD8483-6F43-4AB6-87F7-E8B3ECFA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77B2-25F4-4B0E-A9CC-51F59CB2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CBE907-B046-46F6-A4CA-B1BC4A49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E27883-CCDE-4670-A4DD-03717A97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6C804D-C041-438F-9FFD-C7E494EB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D94DCC-C4D4-494C-8703-1BD870A5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69523A-B7F4-4372-9C80-E19B8D80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C17691-E2D2-4A75-8E09-2A3791A8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E7D0D7-51E4-41B6-A3E2-E9E8EE75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9454B6-DEAE-481B-80ED-430ADCD5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BAE58A-E28D-4AE0-BD9C-A4076814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A0D78B-5CC3-4553-B285-A2B58853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6466-9496-4079-887D-39AA8DD5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7D694B-E29B-4CE1-A33A-103E2FAA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C77C12-60B2-46EC-8D17-072676D5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BCC675-4D28-4D11-80E5-88AC5989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88A100-A045-4F4C-8015-DCCE8AF4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344473-E0CD-4F34-8EE8-C8712EE7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0837D1-1282-48B2-813A-6DB1E2B8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4BE5E6-3923-47D9-9B3E-05792D10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8EF780-D43F-4C64-9662-AF89D465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655B72-7238-4616-9A93-8D7B7145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8C80A5-CDCF-4BBA-A841-6425971F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68A-2126-4238-8A8B-7A20FDAB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CDEFD9-F2A0-493F-8671-A59BE46B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E6C853-468C-4A9A-8E2D-57A07A77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61C936-B19D-4353-B309-62ED1EFA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C63C-B126-475C-A775-B5285982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368B-15CC-4F74-A5A1-4B6486AA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1DD5-B94E-40DF-B3EE-2AB0E707699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9CE3-6E9B-4759-AEBC-C0FC6294AAD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DE87-313B-455A-B928-A011171CADF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965B-70A2-49FA-86E9-B4E933400A2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7578-C3A3-41D9-B361-C96BF44EC2D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DC72-4DDF-4193-9D1F-5F63BA53723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d0d0d"/>
                </a:solidFill>
                <a:latin typeface="Constantia"/>
              </a:rPr>
              <a:t>Урок всесвітньої історії в 10 класі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2"/>
          <a:stretch/>
        </p:blipFill>
        <p:spPr>
          <a:xfrm>
            <a:off x="365040" y="262080"/>
            <a:ext cx="85899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68360" y="155700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Примусове звільнення неарійських держслужбовців (за винятком військових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11.04.1933р.– прийняття «арійського параграфа» (інструкції, що визначала, кого нацисти вважали євреями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25.04.1933р.– запровадження процентних норм для євреїв у школах та університетах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10.05.1933р.– публічне спалення книжок «неарійських» авторів (серед яких  були кращі твори світової класичної літератури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15.09.1933р. – «Нюрнберзькі закони» – євреї позбавлялися громадянських  прав (брати участь у будь-яких громадсько-політичних заходах, брати шлюб із повноправними громадянами рейху, вивішувати поряд зі своїми будинками німецький прапор тощо)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16.11.1937р. – заборона видавати євреям закордонні паспорти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1938р. – скасування всіх податкових пільг для єврейських підприємств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22.07.1938р. – зобов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язання євреїв носити спеціальні посвідчення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07-09. 1938р. – позбавлення євреїв-лікарів та юристів права на практику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З 5.10.1938р. – паспорти євреїв маркувалися літерою «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J</a:t>
            </a: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28.10.1938р. – вислання з Німеччини 17 тис. польських  євреїв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9-10.11.1938р. – «Кришталева ніч» – єврейські погроми по всій Німеччині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15.11-08.12.1938р. – припинення навчання єврейських дітей у школах та університетах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28.11.1938р.—запровадження комендантської години для євреїв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20.01.1942р. – проголошення на партійній конференції НСДАП антисемітизму метою власної політики, спрямованої на остаточне розв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язання « єврейського питання», що призвело до ГОЛОКОСТУ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3" name="Заголовок 2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onstantia"/>
              </a:rPr>
              <a:t>ПП – Чи можна було не допустити нацистів до влади?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5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2" descr=""/>
          <p:cNvPicPr/>
          <p:nvPr/>
        </p:nvPicPr>
        <p:blipFill>
          <a:blip r:embed="rId2"/>
          <a:stretch/>
        </p:blipFill>
        <p:spPr>
          <a:xfrm>
            <a:off x="324000" y="23760"/>
            <a:ext cx="8600760" cy="1354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C:\Users\acer\Desktop\Изображение 045.jpg"/>
          <p:cNvPicPr/>
          <p:nvPr/>
        </p:nvPicPr>
        <p:blipFill>
          <a:blip r:embed="rId3"/>
          <a:stretch/>
        </p:blipFill>
        <p:spPr>
          <a:xfrm>
            <a:off x="1619280" y="1484280"/>
            <a:ext cx="63309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Опрацювати матеріали презентації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малювати історичний портрет Адольфа Гітлера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підготувати історичне повідомлення «Кришталева ніч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9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з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ясувати причини встановлення нацистської диктатури в Німеччині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розглянути програму нацистської партії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прослідкувати хронологію просування нацистів до влади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змалювати історичний портрет Адольфа Гітлера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сформувати поняття «антисемітизм»,розглянути основні етапи антисемітської політики нацистів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розвивати навики логічного висловлювання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виховувати пацифістські та антифашистські настрої в середовищі учні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Заголовок 1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Економічна криза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промислове виробництво скоротилося на 40%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кількість безробітних сягнула 4,5 млн.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реальна заробітна плата знизилася на 25-40%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кілька тисяч дрібних підприємств збанкрутіли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селяни-бауери масово розорялис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Неспроможність правлячих кіл Німеччини керувати країною парламентськими методам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Зростання соціальних суперечностей під час економічної криз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Посилення прагнення до сильної влади, здатної навести порядок у країні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Слабкість Веймарської республік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Відсутність єдності серед партій веймарської коаліції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Незадоволення умовами Версальського миру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Заголовок 2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Створена у 1919р. Німецька робітнича парті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1920р.—Націонал-соціалістична робітнича партія Німеччин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ацистську партію підтримувал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робітн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селян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безробітні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дрібна і середня буржуазі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фінансово-промислова верхів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Заголовок 2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52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«Суть фашистського світогляду полягала в тому, що: нація – це цілісний організм, єдина надособистість, наділена надрозумом; історія людства являє собою боротьбу різних націй за виживання (слабший гине чи підкоряється, сильніший виживає і панує); всі навколишні народи – потенційні сьогоднішні чи завтрашні вороги; найвища цінність для кожної людини – його нація; людська особистість має цінність лише настільки, наскільки вона є частиною цієї спільності; цінність кожної конкретної людини визначається її внеском у велич і благополуччя нації; виразник інтересів і волі нації – держава («все для держави, нічого проти держави, нікого поза державою»); глава держави є уособленням нації; нація має бути єдиною та згуртованою, а всякий , хто роздуває  внутрішні конфлікти, -- національний зрадник; усі протиріччя усередині нації вирішуються тільки велінням держави і вождя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Об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єднання всіх німців у «Велику Німеччину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Відмова від дотримання умов Версальського договор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Боротьба за нові території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Позбавлення політичних прав і громадянства осіб «неарійського походження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Звільнення трудівників від «свавілля монополій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Націоналізація трестів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Спільне користування поміщицькими землям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Поліпшення системи освіт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Державне матеріальне забезпечення людей похилого вік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Захист інтересів матерів і дітей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3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C:\Users\acer\Desktop\Изображение 046.jpg"/>
          <p:cNvPicPr/>
          <p:nvPr/>
        </p:nvPicPr>
        <p:blipFill>
          <a:blip r:embed="rId3"/>
          <a:stretch/>
        </p:blipFill>
        <p:spPr>
          <a:xfrm>
            <a:off x="426960" y="1603440"/>
            <a:ext cx="2475000" cy="4694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C:\Users\acer\Desktop\Изображение 043.jpg"/>
          <p:cNvPicPr/>
          <p:nvPr/>
        </p:nvPicPr>
        <p:blipFill>
          <a:blip r:embed="rId4"/>
          <a:stretch/>
        </p:blipFill>
        <p:spPr>
          <a:xfrm>
            <a:off x="5967360" y="1603440"/>
            <a:ext cx="3060720" cy="4657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C:\Users\acer\Desktop\Изображение 044.jpg"/>
          <p:cNvPicPr/>
          <p:nvPr/>
        </p:nvPicPr>
        <p:blipFill>
          <a:blip r:embed="rId5"/>
          <a:stretch/>
        </p:blipFill>
        <p:spPr>
          <a:xfrm>
            <a:off x="3005280" y="1603440"/>
            <a:ext cx="29685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1 липня 1932р.-на виборах до рейхстагу нацисти одержали 37,4% голосів виборців і 230 із 608 місць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0 серпня 1932р. –Германа Герінга обрано головою рейхстагу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0 січня 1933р. – Гітлер призначений рейхсканцлером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3 березня 1933р. – рейхстаг прийняв закон про надання Гітлерові надзвичайних повноважень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 серпня 1934р. (після смерті Гінденбурга) – Гітлеру присвоєно довічні звання фюрера та рейхсканцле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9" name="Заголовок 2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8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c00000"/>
                </a:solidFill>
                <a:latin typeface="Constantia"/>
              </a:rPr>
              <a:t>антисемітизм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анти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(проти) + лат.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semici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(назва етнічної групи, до якої належать євреї)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одна із форм расового шовінізму, яка проявляється у нетерпимому ставленні до осіб єврейської  національності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c00000"/>
                </a:solidFill>
                <a:latin typeface="Constantia"/>
              </a:rPr>
              <a:t>Форми прояву антисемітизму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едоброзичливе ставлення в побуті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Правова дискримінаці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Єврейські погро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Конфіскація май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Геноци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1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30T06:36:29Z</dcterms:created>
  <dc:creator>acer</dc:creator>
  <dc:description/>
  <dc:language>en-US</dc:language>
  <cp:lastModifiedBy>Admin</cp:lastModifiedBy>
  <dcterms:modified xsi:type="dcterms:W3CDTF">2014-04-23T15:06:57Z</dcterms:modified>
  <cp:revision>16</cp:revision>
  <dc:subject/>
  <dc:title>Встановлення нацистської диктатури в Німеччині. Політика гітлерівського режиму. Антисемітизм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2e000000000001024140</vt:lpwstr>
  </property>
</Properties>
</file>