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E17-1AB3-47F2-BCE4-6C607731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B54-A2C7-454A-BAB8-08D32CDA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1FE-1839-4E84-8CDC-A5F61DB1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AC4-115C-4F3B-8016-405772B6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0A85-1FA0-42A2-864C-0A743CA0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AD46-C2E7-4941-B71D-163CDB3B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6B3B-9D16-46FA-9BE1-5321BFE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2BF0-80FA-4CE9-B471-D5FD4F19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39BA-A07C-449D-9DF2-165C091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34A8-2E7F-4ACF-9A87-580D3EE9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AD9A-4401-4EAF-A9EE-5C5F274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6AB-4BCD-4C20-88A4-72D9931B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59C1-C844-43EC-AF03-B6C280D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433-81C6-407F-8BF9-9C4F0EA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0343-3403-4FC6-954E-DA75EFFC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D7A6-0BF6-4FC0-A261-E0F3C3DD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7694-FBE4-444B-A916-4A38A2D4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4262-4E8D-48CA-B902-A372237D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9F79-C68B-4C3A-865F-9318C340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46D4-8DFC-430C-9F75-89E4797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DF29-D6F7-4A56-962A-8F75D7A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4D8C-F471-4CE9-B13C-2F878938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441-3972-4CA9-99FD-1C624AB5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AECC-9775-4C9A-83B7-FA2521B8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C2F8-74CD-4309-930B-9FE414B6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17DA-6884-4EB1-840E-6C78496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D0A3-1C79-4CC6-8770-65135B1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E981-3900-4B23-8866-BD18ACF0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D062-C63E-46E1-8001-DF33CFA0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F7B1-4BAA-4CEF-AAE2-E48979F1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F1F4-6E48-4F14-BF0F-A9DA9924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B4F38-215E-4174-86BF-D3EE2E3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1545F-EBF1-4C28-966C-86C87721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EC5-7F38-4B06-9F1C-893352BC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BB42-31EB-4A87-ACFD-9A869424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F0F2-9627-4B97-B1A2-67174218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1A92-8DF6-441C-A1B7-D5C92389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4D64-BB00-49B3-A43B-9687DA10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F4D2-672C-4761-876F-E1F84FD2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BD76-CE9A-489D-99B5-46A6CB8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EAED3-E1AE-42EE-A95D-3D65B74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3ECF-5A1A-4150-8CB1-9EE6EDAD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E273-DC5A-47B9-A7A3-4B61B38E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6C5-07C3-4801-AC93-BDD63CA8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3A3-97F6-4311-BB95-5CBFCD4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1F3-AB40-4E38-B11B-CD5F238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3CD-A7AA-40D9-B7F2-BB59275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7D0-25D3-43F3-9DF2-CC7EF17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2A1-B5ED-495E-A70F-7FF61456C5A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7A74-D34B-4A13-9E2C-93C91795B3B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FA99-5EE1-420B-AA61-A027E5A58F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A7BA-0657-4DD1-ADEB-131F554525D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7" descr=""/>
          <p:cNvPicPr/>
          <p:nvPr/>
        </p:nvPicPr>
        <p:blipFill>
          <a:blip r:embed="rId3"/>
          <a:stretch/>
        </p:blipFill>
        <p:spPr>
          <a:xfrm>
            <a:off x="-304920" y="-189000"/>
            <a:ext cx="7491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Світова держав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- велика країна, до складу якої входили десятки завойованих плем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Фараон реформатор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72 – 1354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Ехнатон (Аменхотеп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4617b"/>
                </a:solidFill>
                <a:latin typeface="Constantia"/>
              </a:rPr>
              <a:t>Дружина Ехнатона  Ніфертіті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Админ\Pictures\ехнатон.jpeg"/>
          <p:cNvPicPr/>
          <p:nvPr/>
        </p:nvPicPr>
        <p:blipFill>
          <a:blip r:embed="rId2"/>
          <a:stretch/>
        </p:blipFill>
        <p:spPr>
          <a:xfrm>
            <a:off x="1332000" y="2637000"/>
            <a:ext cx="2376360" cy="40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Админ\Pictures\Nefertiti.jpg"/>
          <p:cNvPicPr/>
          <p:nvPr/>
        </p:nvPicPr>
        <p:blipFill>
          <a:blip r:embed="rId3"/>
          <a:stretch/>
        </p:blipFill>
        <p:spPr>
          <a:xfrm>
            <a:off x="5222880" y="2514600"/>
            <a:ext cx="28861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Рамзес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Великий  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301 – 1235 рр. до н.е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C:\Users\Админ\Pictures\Рамзес другий.jpeg"/>
          <p:cNvPicPr/>
          <p:nvPr/>
        </p:nvPicPr>
        <p:blipFill>
          <a:blip r:embed="rId2"/>
          <a:srcRect l="0" t="0" r="-236" b="0"/>
          <a:stretch/>
        </p:blipFill>
        <p:spPr>
          <a:xfrm>
            <a:off x="1619280" y="2060640"/>
            <a:ext cx="583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йсько єгиптя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Колісниці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Піх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Админ\Pictures\піхота.jpeg"/>
          <p:cNvPicPr/>
          <p:nvPr/>
        </p:nvPicPr>
        <p:blipFill>
          <a:blip r:embed="rId2"/>
          <a:stretch/>
        </p:blipFill>
        <p:spPr>
          <a:xfrm>
            <a:off x="4572000" y="2708280"/>
            <a:ext cx="4356000" cy="3313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Админ\Pictures\колісниці.jpeg"/>
          <p:cNvPicPr/>
          <p:nvPr/>
        </p:nvPicPr>
        <p:blipFill>
          <a:blip r:embed="rId3"/>
          <a:stretch/>
        </p:blipFill>
        <p:spPr>
          <a:xfrm>
            <a:off x="468360" y="278136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55640" y="1125360"/>
          <a:ext cx="7920000" cy="5112000"/>
        </p:xfrm>
        <a:graphic>
          <a:graphicData uri="http://schemas.openxmlformats.org/drawingml/2006/table">
            <a:tbl>
              <a:tblPr/>
              <a:tblGrid>
                <a:gridCol w="966960"/>
                <a:gridCol w="2338200"/>
                <a:gridCol w="461484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гнання гіксосів з Єгипту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цариці Хатшепсу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V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 фараона Тутмоса І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V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Ехнат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І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іння фараона Рамзеса І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І ст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и завоювали Єгип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з‘ясувати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Яка політика мирна чи завойовницька сприяє розвитку держави?  Обгрунтуйте вашу дум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Опрацювати § 1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Дати відповіді на питання ст. 5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Опрацювати  контурну карту на ст…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Історія розвивається по синусоїд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 періодом розквіту обов'язково буде період занепаду, а потім знову розквіт і так до безкінечності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олилиния 4"/>
          <p:cNvSpPr/>
          <p:nvPr/>
        </p:nvSpPr>
        <p:spPr>
          <a:xfrm>
            <a:off x="484200" y="3430440"/>
            <a:ext cx="8493120" cy="2319480"/>
          </a:xfrm>
          <a:custGeom>
            <a:avLst/>
            <a:gdLst/>
            <a:ahLst/>
            <a:rect l="l" t="t" r="r" b="b"/>
            <a:pathLst>
              <a:path w="8492836" h="2318327">
                <a:moveTo>
                  <a:pt x="0" y="2193636"/>
                </a:moveTo>
                <a:cubicBezTo>
                  <a:pt x="213591" y="1401618"/>
                  <a:pt x="427182" y="609600"/>
                  <a:pt x="734291" y="586509"/>
                </a:cubicBezTo>
                <a:cubicBezTo>
                  <a:pt x="1041400" y="563418"/>
                  <a:pt x="1512455" y="2004291"/>
                  <a:pt x="1842655" y="2055091"/>
                </a:cubicBezTo>
                <a:cubicBezTo>
                  <a:pt x="2172855" y="2105891"/>
                  <a:pt x="2378364" y="921327"/>
                  <a:pt x="2715491" y="891309"/>
                </a:cubicBezTo>
                <a:cubicBezTo>
                  <a:pt x="3052618" y="861291"/>
                  <a:pt x="3389745" y="2022764"/>
                  <a:pt x="3865418" y="1874982"/>
                </a:cubicBezTo>
                <a:cubicBezTo>
                  <a:pt x="4341091" y="1727200"/>
                  <a:pt x="5144654" y="0"/>
                  <a:pt x="5569527" y="4618"/>
                </a:cubicBezTo>
                <a:cubicBezTo>
                  <a:pt x="5994400" y="9236"/>
                  <a:pt x="6089073" y="1877291"/>
                  <a:pt x="6414655" y="1902691"/>
                </a:cubicBezTo>
                <a:cubicBezTo>
                  <a:pt x="6740237" y="1928091"/>
                  <a:pt x="7178964" y="99291"/>
                  <a:pt x="7523018" y="157018"/>
                </a:cubicBezTo>
                <a:cubicBezTo>
                  <a:pt x="7867072" y="214745"/>
                  <a:pt x="8478982" y="2249055"/>
                  <a:pt x="8478982" y="2249055"/>
                </a:cubicBezTo>
                <a:lnTo>
                  <a:pt x="8478982" y="2249055"/>
                </a:lnTo>
                <a:lnTo>
                  <a:pt x="8492836" y="2318327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вдання уроку з'ясува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  Особливості правління єгипетських фараонів Хатшепсут, Тутмо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Ехнато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амзес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 Що призвело до розквіту держа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 Що спричинило її зане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 Чи є розквіт і занепад закономірними процеса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 Чи всі світові держави приречені на розкві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6 Яка політика мирна чи завойовницька сприяє розвитку держав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Записати до словнич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Гіксоси - кочові плем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6093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Хронологічна таблиц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935000"/>
          <a:ext cx="8435880" cy="4373640"/>
        </p:xfrm>
        <a:graphic>
          <a:graphicData uri="http://schemas.openxmlformats.org/drawingml/2006/table">
            <a:tbl>
              <a:tblPr/>
              <a:tblGrid>
                <a:gridCol w="749160"/>
                <a:gridCol w="2583000"/>
                <a:gridCol w="510372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981000"/>
          <a:ext cx="8435880" cy="5256360"/>
        </p:xfrm>
        <a:graphic>
          <a:graphicData uri="http://schemas.openxmlformats.org/drawingml/2006/table">
            <a:tbl>
              <a:tblPr/>
              <a:tblGrid>
                <a:gridCol w="749160"/>
                <a:gridCol w="2805120"/>
                <a:gridCol w="488160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воювання Єгипту  гіксос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V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І ст. до н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игнання гіксосів з Єгипт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Хатшепсут - “перша серед найвродливіших ” 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1489 – 1468 рр.до.н.е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Users\Админ\Pictures\хатшепсут.jpg"/>
          <p:cNvPicPr/>
          <p:nvPr/>
        </p:nvPicPr>
        <p:blipFill>
          <a:blip r:embed="rId2"/>
          <a:stretch/>
        </p:blipFill>
        <p:spPr>
          <a:xfrm>
            <a:off x="2484360" y="1947960"/>
            <a:ext cx="403236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Усипальниця цариці в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                               Дейр-ель-Бахр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C:\Users\Админ\Pictures\усипальниця хатшепсут.jpeg"/>
          <p:cNvPicPr/>
          <p:nvPr/>
        </p:nvPicPr>
        <p:blipFill>
          <a:blip r:embed="rId2"/>
          <a:stretch/>
        </p:blipFill>
        <p:spPr>
          <a:xfrm>
            <a:off x="900000" y="2021040"/>
            <a:ext cx="76327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Тутмос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II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– завойовник. Єгипет став світовою державою.</a:t>
            </a:r>
            <a:r>
              <a:rPr b="0" i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 1504 – 1450 рр. до н.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Users\Админ\Pictures\тутмос третій.jpg"/>
          <p:cNvPicPr/>
          <p:nvPr/>
        </p:nvPicPr>
        <p:blipFill>
          <a:blip r:embed="rId2"/>
          <a:srcRect l="0" t="0" r="0" b="-52"/>
          <a:stretch/>
        </p:blipFill>
        <p:spPr>
          <a:xfrm>
            <a:off x="1763640" y="1916280"/>
            <a:ext cx="49341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8:25:23Z</dcterms:created>
  <dc:creator>Админ</dc:creator>
  <dc:description/>
  <dc:language>en-US</dc:language>
  <cp:lastModifiedBy>Admin</cp:lastModifiedBy>
  <dcterms:modified xsi:type="dcterms:W3CDTF">2014-05-05T07:55:04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b000000000001024140</vt:lpwstr>
  </property>
</Properties>
</file>