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DC7-2686-44B9-8D9D-BBAAB151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699-C16E-4887-BE5B-469544FD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A9E-7EA7-4DBC-9A5A-9A9F0C9A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F6E-9B34-4F60-9A71-4762DB9E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6799-5F7E-42EA-B369-ECC9C637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E311-8794-4294-8FF7-FEFCDA74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8BE4-8635-448B-8A2A-2A7B3C02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A4BE-8B40-498E-9918-3018756E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7468-6A5A-4AD8-8DE3-7B9AF018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3B5B-244F-445E-AE71-17DD87DA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A32A-B29B-40A0-89D8-B1227047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F9F-2D26-464F-B367-F3736374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2C16-5718-4E8E-A489-6427A0A3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1F39-0B9C-404C-BD58-B99A3F5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93B9-51FC-4F0D-A40A-80FD9D7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6107-E48F-4005-91B9-7F25CAD5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7A09-4407-48C1-B73A-9C4A7E94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B9CB-3AA8-4F1A-B84D-BD09C802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5CA8-59E5-46B1-865D-254CFC76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945D7-2FBC-4A13-B203-6B856F54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3BA5D-3F85-4078-90B0-27BFC4C7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AB83-BFD9-47CF-A357-EA6DB288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3DF-FEF5-43CC-A8A7-C0AC04BE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F068-279A-4C2D-99CA-39D3EFD7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2940-58D6-457D-AFD0-A0EAE166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B78B-F465-4676-8B88-C7EEB7CF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F99E-D889-4105-AE82-383C261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8757-CD95-4250-A75D-F3E08EF3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F8FF-89B0-40B0-8DF4-013F95E1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23484-5FCA-473C-A71A-EF65C930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3F906-1B43-4C08-A1A0-E25C3A86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5708A-96CB-4FA7-BC43-02907956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796F-2609-4143-AF9D-FF978AEF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BA4-DF4C-4B03-A83E-F944C20F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A595-78BE-41D4-8D9F-785D8783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2ABB-E1F1-4ADC-9B69-4A535306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B094-CB26-4C19-A52A-B37A3027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03B7D-03B4-469E-9E3D-9AE43EB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75709-A63E-4BE7-B467-6612E576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9B078-A764-44F7-8CEB-5AACE35F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B4759-A08C-4A28-B554-58B23AA0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B8918-9AB7-4711-A77D-79DFBD57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D039B-635D-49E5-8F6D-40720942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7C0-5978-47BF-B202-00699BE4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373-671C-4924-8CE7-50D74B49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E97-A522-4529-9AE8-14445477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564-13FE-4755-8A09-336B9D08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D9A-02F8-4628-97A0-CCD52AFA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C40B-A395-40B2-A870-784EAB9F1B1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7EEA-7BDB-46D1-BC71-67B3A9BDB1F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A246-D231-45BF-8005-B53FE5D4DBD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A6B3-70B4-4AC1-B42B-39DD22529CA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7" descr=""/>
          <p:cNvPicPr/>
          <p:nvPr/>
        </p:nvPicPr>
        <p:blipFill>
          <a:blip r:embed="rId3"/>
          <a:stretch/>
        </p:blipFill>
        <p:spPr>
          <a:xfrm>
            <a:off x="-304920" y="-189000"/>
            <a:ext cx="74916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Записати до словничка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вітова держ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елика країна, до складу якої входили десятки завойованих племе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Фараон реформатор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372 – 1354 рр. до н.е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Ехнатон (Аменхотеп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4617b"/>
                </a:solidFill>
                <a:latin typeface="Constantia"/>
              </a:rPr>
              <a:t>Дружина Ехнатона  Ніфертіті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Users\Админ\Pictures\ехнатон.jpeg"/>
          <p:cNvPicPr/>
          <p:nvPr/>
        </p:nvPicPr>
        <p:blipFill>
          <a:blip r:embed="rId2"/>
          <a:stretch/>
        </p:blipFill>
        <p:spPr>
          <a:xfrm>
            <a:off x="1332000" y="2637000"/>
            <a:ext cx="2376360" cy="40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Админ\Pictures\Nefertiti.jpg"/>
          <p:cNvPicPr/>
          <p:nvPr/>
        </p:nvPicPr>
        <p:blipFill>
          <a:blip r:embed="rId3"/>
          <a:stretch/>
        </p:blipFill>
        <p:spPr>
          <a:xfrm>
            <a:off x="5222880" y="2514600"/>
            <a:ext cx="28861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Рамзес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I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Великий   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301 – 1235 рр. до н.е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C:\Users\Админ\Pictures\Рамзес другий.jpeg"/>
          <p:cNvPicPr/>
          <p:nvPr/>
        </p:nvPicPr>
        <p:blipFill>
          <a:blip r:embed="rId2"/>
          <a:srcRect l="0" t="0" r="-236" b="0"/>
          <a:stretch/>
        </p:blipFill>
        <p:spPr>
          <a:xfrm>
            <a:off x="1619280" y="2060640"/>
            <a:ext cx="583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йсько єгиптя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Колісниці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іх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Users\Админ\Pictures\піхота.jpeg"/>
          <p:cNvPicPr/>
          <p:nvPr/>
        </p:nvPicPr>
        <p:blipFill>
          <a:blip r:embed="rId2"/>
          <a:stretch/>
        </p:blipFill>
        <p:spPr>
          <a:xfrm>
            <a:off x="4572000" y="2708280"/>
            <a:ext cx="4356000" cy="331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Админ\Pictures\колісниці.jpeg"/>
          <p:cNvPicPr/>
          <p:nvPr/>
        </p:nvPicPr>
        <p:blipFill>
          <a:blip r:embed="rId3"/>
          <a:stretch/>
        </p:blipFill>
        <p:spPr>
          <a:xfrm>
            <a:off x="468360" y="2781360"/>
            <a:ext cx="3887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55640" y="1125360"/>
          <a:ext cx="7920000" cy="5112000"/>
        </p:xfrm>
        <a:graphic>
          <a:graphicData uri="http://schemas.openxmlformats.org/drawingml/2006/table">
            <a:tbl>
              <a:tblPr/>
              <a:tblGrid>
                <a:gridCol w="966960"/>
                <a:gridCol w="2338200"/>
                <a:gridCol w="461484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ювання Єгипту  гіксос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гнання гіксосів з Єгипту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V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цариці Хатшепсу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V ст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 фараона Тутмоса ІІ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V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фараона Ехнат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фараона Рамзеса І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І ст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и завоювали Єгип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вдання з‘ясувати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Що призвело до розквіту держав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Що спричинило її занепа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Чи є розквіт і занепад закономірними процеса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 Чи всі світові держави приречені на розкві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 Яка політика мирна чи завойовницька сприяє розвитку держави?  Обгрунтуйте вашу дум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Опрацювати § 1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Дати відповіді на питання ст. 5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Опрацювати  контурну карту на ст…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Історія розвивається по синусоїд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а періодом розквіту обов'язково буде період занепаду, а потім знову розквіт і так до безкінечності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Полилиния 4"/>
          <p:cNvSpPr/>
          <p:nvPr/>
        </p:nvSpPr>
        <p:spPr>
          <a:xfrm>
            <a:off x="484200" y="3430440"/>
            <a:ext cx="8493120" cy="2319480"/>
          </a:xfrm>
          <a:custGeom>
            <a:avLst/>
            <a:gdLst/>
            <a:ahLst/>
            <a:rect l="l" t="t" r="r" b="b"/>
            <a:pathLst>
              <a:path w="8492836" h="2318327">
                <a:moveTo>
                  <a:pt x="0" y="2193636"/>
                </a:moveTo>
                <a:cubicBezTo>
                  <a:pt x="213591" y="1401618"/>
                  <a:pt x="427182" y="609600"/>
                  <a:pt x="734291" y="586509"/>
                </a:cubicBezTo>
                <a:cubicBezTo>
                  <a:pt x="1041400" y="563418"/>
                  <a:pt x="1512455" y="2004291"/>
                  <a:pt x="1842655" y="2055091"/>
                </a:cubicBezTo>
                <a:cubicBezTo>
                  <a:pt x="2172855" y="2105891"/>
                  <a:pt x="2378364" y="921327"/>
                  <a:pt x="2715491" y="891309"/>
                </a:cubicBezTo>
                <a:cubicBezTo>
                  <a:pt x="3052618" y="861291"/>
                  <a:pt x="3389745" y="2022764"/>
                  <a:pt x="3865418" y="1874982"/>
                </a:cubicBezTo>
                <a:cubicBezTo>
                  <a:pt x="4341091" y="1727200"/>
                  <a:pt x="5144654" y="0"/>
                  <a:pt x="5569527" y="4618"/>
                </a:cubicBezTo>
                <a:cubicBezTo>
                  <a:pt x="5994400" y="9236"/>
                  <a:pt x="6089073" y="1877291"/>
                  <a:pt x="6414655" y="1902691"/>
                </a:cubicBezTo>
                <a:cubicBezTo>
                  <a:pt x="6740237" y="1928091"/>
                  <a:pt x="7178964" y="99291"/>
                  <a:pt x="7523018" y="157018"/>
                </a:cubicBezTo>
                <a:cubicBezTo>
                  <a:pt x="7867072" y="214745"/>
                  <a:pt x="8478982" y="2249055"/>
                  <a:pt x="8478982" y="2249055"/>
                </a:cubicBezTo>
                <a:lnTo>
                  <a:pt x="8478982" y="2249055"/>
                </a:lnTo>
                <a:lnTo>
                  <a:pt x="8492836" y="2318327"/>
                </a:ln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вдання уроку з'ясуват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 Особливості правління єгипетських фараонів Хатшепсут, Тутмос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Ехнато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амзес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Що призвело до розквіту держав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Що спричинило її занепа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 Чи є розквіт і занепад закономірними процеса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 Чи всі світові держави приречені на розкві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6 Яка політика мирна чи завойовницька сприяє розвитку держав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писати до словнич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Гіксоси - кочові племе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60930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Хронологічна таблиц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0920" y="1935000"/>
          <a:ext cx="8435880" cy="4373640"/>
        </p:xfrm>
        <a:graphic>
          <a:graphicData uri="http://schemas.openxmlformats.org/drawingml/2006/table">
            <a:tbl>
              <a:tblPr/>
              <a:tblGrid>
                <a:gridCol w="749160"/>
                <a:gridCol w="2583000"/>
                <a:gridCol w="510372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50920" y="981000"/>
          <a:ext cx="8435880" cy="5256360"/>
        </p:xfrm>
        <a:graphic>
          <a:graphicData uri="http://schemas.openxmlformats.org/drawingml/2006/table">
            <a:tbl>
              <a:tblPr/>
              <a:tblGrid>
                <a:gridCol w="749160"/>
                <a:gridCol w="2805120"/>
                <a:gridCol w="488160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воювання Єгипту  гіксос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гнання гіксосів з Єгипт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Хатшепсут - “перша серед найвродливіших ” 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489 – 1468 рр.до.н.е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Users\Админ\Pictures\хатшепсут.jpg"/>
          <p:cNvPicPr/>
          <p:nvPr/>
        </p:nvPicPr>
        <p:blipFill>
          <a:blip r:embed="rId2"/>
          <a:stretch/>
        </p:blipFill>
        <p:spPr>
          <a:xfrm>
            <a:off x="2484360" y="1947960"/>
            <a:ext cx="403236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сипальниця цариці в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                                Дейр-ель-Бахр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C:\Users\Админ\Pictures\усипальниця хатшепсут.jpeg"/>
          <p:cNvPicPr/>
          <p:nvPr/>
        </p:nvPicPr>
        <p:blipFill>
          <a:blip r:embed="rId2"/>
          <a:stretch/>
        </p:blipFill>
        <p:spPr>
          <a:xfrm>
            <a:off x="900000" y="2021040"/>
            <a:ext cx="76327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Тутмос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II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– завойовник. Єгипет став світовою державою.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 1504 – 1450 рр. до н.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Users\Админ\Pictures\тутмос третій.jpg"/>
          <p:cNvPicPr/>
          <p:nvPr/>
        </p:nvPicPr>
        <p:blipFill>
          <a:blip r:embed="rId2"/>
          <a:srcRect l="0" t="0" r="0" b="-52"/>
          <a:stretch/>
        </p:blipFill>
        <p:spPr>
          <a:xfrm>
            <a:off x="1763640" y="1916280"/>
            <a:ext cx="49341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8:25:23Z</dcterms:created>
  <dc:creator>Админ</dc:creator>
  <dc:description/>
  <dc:language>en-US</dc:language>
  <cp:lastModifiedBy>Admin</cp:lastModifiedBy>
  <dcterms:modified xsi:type="dcterms:W3CDTF">2014-05-05T07:55:04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b000000000001024140</vt:lpwstr>
  </property>
</Properties>
</file>