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68D3-24DF-42BB-AAE7-32614177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962-2813-4E5E-811F-62C69CCF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57E-DC1B-4FA7-BFBA-39080CB5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31C-6ECC-493C-818C-7CAC65E8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06D9-D626-459F-BA6D-611BF18F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BEC6-0DF9-4BF9-92ED-535F0344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0CD0-8482-4FCF-ADD7-77D56FBD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5383-B823-4C8E-A4B7-0593E472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96C9-914A-4513-A255-8166503E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2CC9-423C-4766-9B46-C1886400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414C-E38E-4E23-A999-A4EBA425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139-39A8-43CF-85AD-A6831E84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CEBA-C491-42DA-BB7C-F018D025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6ACA-7D04-487C-A577-E6AB45CA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EF31-A233-436B-9944-FEB8AC2E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9E26-8D3F-4D99-92E3-33097260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C15E-3B56-4137-A09A-DE4A6E96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D958A-24EE-4111-AD37-99DC653F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40502-17A1-474C-BAB5-257F390B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8F3C4-8C08-496A-B6D8-45502606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9620-E539-455E-8E61-BA41E2F6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DE15C-7CBC-40F3-9C61-E2C5AEBB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FB4-EBE6-4884-BAB5-ABA83542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1CCFB-7126-4A09-9F93-DD5355C5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C7406-6A5A-4965-A99D-C8CDAB92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A16B6-BB3C-4335-BA31-0682BCCA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B19AF-694B-416F-A3E5-0589C09B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A3699-A9B6-4557-A491-77F6F3AE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A324-043E-4244-B209-D98F8EF6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1B0F9-B30F-4E6F-95CE-D5F546CC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B8C81-E06F-46C1-A320-09F9E68A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A583D-3DD0-4AAD-8B95-1365A774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E5FD7-B4E0-4A16-B112-0F38FBFD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ED6-6F5D-4AB7-9034-25854410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5495B-7B3F-4193-B889-C02A64F5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06ECA-54DA-4C50-9D60-119FB891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65C73-84AB-473B-BD7E-A596D16C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8CCB9-0CCF-4ECD-84C6-59EBCBFA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4A95F-4BB3-445C-9A7C-B25B6132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8157B-8A2A-49FC-B4A5-994E457E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16A7D-45C6-4054-BB4D-F9E7018C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CDFDE-3A4C-4C67-9A84-84CFA72E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5F961-6BB8-415C-BD6E-0ECFD92A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E0D-06FA-4CA0-8713-BA3D2420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0E2-4417-472E-85DC-90933C8B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B86-1C48-4809-8669-BC9950CA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54B-5246-4183-B266-342A0C9A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67BB-4C77-4740-BE07-2D59EB78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C816-6DA1-4623-AC4A-C22B12F927E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719E-7E43-487E-8CCF-D550EDC01D1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B75E-CF49-459D-96AB-9182BDE5A4F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7DB9-9F0B-411F-B1AB-CF8140CA18F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7" descr=""/>
          <p:cNvPicPr/>
          <p:nvPr/>
        </p:nvPicPr>
        <p:blipFill>
          <a:blip r:embed="rId3"/>
          <a:stretch/>
        </p:blipFill>
        <p:spPr>
          <a:xfrm>
            <a:off x="-304920" y="-189000"/>
            <a:ext cx="74916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Записати до словничка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вітова держ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елика країна, до складу якої входили десятки завойованих племе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Фараон реформатор</a:t>
            </a:r>
            <a:r>
              <a:rPr b="0" i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1372 – 1354 рр. до н.е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Ехнатон (Аменхотеп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4617b"/>
                </a:solidFill>
                <a:latin typeface="Constantia"/>
              </a:rPr>
              <a:t>Дружина Ехнатона  Ніфертіті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Users\Админ\Pictures\ехнатон.jpeg"/>
          <p:cNvPicPr/>
          <p:nvPr/>
        </p:nvPicPr>
        <p:blipFill>
          <a:blip r:embed="rId2"/>
          <a:stretch/>
        </p:blipFill>
        <p:spPr>
          <a:xfrm>
            <a:off x="1332000" y="2637000"/>
            <a:ext cx="2376360" cy="40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Админ\Pictures\Nefertiti.jpg"/>
          <p:cNvPicPr/>
          <p:nvPr/>
        </p:nvPicPr>
        <p:blipFill>
          <a:blip r:embed="rId3"/>
          <a:stretch/>
        </p:blipFill>
        <p:spPr>
          <a:xfrm>
            <a:off x="5222880" y="2514600"/>
            <a:ext cx="288612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Рамзес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I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Великий   </a:t>
            </a:r>
            <a:r>
              <a:rPr b="0" i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1301 – 1235 рр. до н.е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C:\Users\Админ\Pictures\Рамзес другий.jpeg"/>
          <p:cNvPicPr/>
          <p:nvPr/>
        </p:nvPicPr>
        <p:blipFill>
          <a:blip r:embed="rId2"/>
          <a:srcRect l="0" t="0" r="-236" b="0"/>
          <a:stretch/>
        </p:blipFill>
        <p:spPr>
          <a:xfrm>
            <a:off x="1619280" y="2060640"/>
            <a:ext cx="5832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йсько єгиптя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Колісниці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іхо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C:\Users\Админ\Pictures\піхота.jpeg"/>
          <p:cNvPicPr/>
          <p:nvPr/>
        </p:nvPicPr>
        <p:blipFill>
          <a:blip r:embed="rId2"/>
          <a:stretch/>
        </p:blipFill>
        <p:spPr>
          <a:xfrm>
            <a:off x="4572000" y="2708280"/>
            <a:ext cx="4356000" cy="3313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Users\Админ\Pictures\колісниці.jpeg"/>
          <p:cNvPicPr/>
          <p:nvPr/>
        </p:nvPicPr>
        <p:blipFill>
          <a:blip r:embed="rId3"/>
          <a:stretch/>
        </p:blipFill>
        <p:spPr>
          <a:xfrm>
            <a:off x="468360" y="2781360"/>
            <a:ext cx="3887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55640" y="1125360"/>
          <a:ext cx="7920000" cy="5112000"/>
        </p:xfrm>
        <a:graphic>
          <a:graphicData uri="http://schemas.openxmlformats.org/drawingml/2006/table">
            <a:tbl>
              <a:tblPr/>
              <a:tblGrid>
                <a:gridCol w="966960"/>
                <a:gridCol w="2338200"/>
                <a:gridCol w="461484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оювання Єгипту  гіксос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гнання гіксосів з Єгипту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V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іння цариці Хатшепсу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V ст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іння  фараона Тутмоса ІІІ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V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іння фараона Ехнато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І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іння фараона Рамзеса ІІ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І ст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и завоювали Єгип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Завдання з‘ясувати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Що призвело до розквіту держав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 Що спричинило її занепад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 Чи є розквіт і занепад закономірними процесам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 Чи всі світові держави приречені на розкві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5 Яка політика мирна чи завойовницька сприяє розвитку держави?  Обгрунтуйте вашу дум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Домашнє завд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 Опрацювати § 1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 Дати відповіді на питання ст. 5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 Опрацювати  контурну карту на ст…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Історія розвивається по синусоїді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а періодом розквіту обов'язково буде період занепаду, а потім знову розквіт і так до безкінечності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Полилиния 4"/>
          <p:cNvSpPr/>
          <p:nvPr/>
        </p:nvSpPr>
        <p:spPr>
          <a:xfrm>
            <a:off x="484200" y="3430440"/>
            <a:ext cx="8493120" cy="2319480"/>
          </a:xfrm>
          <a:custGeom>
            <a:avLst/>
            <a:gdLst/>
            <a:ahLst/>
            <a:rect l="l" t="t" r="r" b="b"/>
            <a:pathLst>
              <a:path w="8492836" h="2318327">
                <a:moveTo>
                  <a:pt x="0" y="2193636"/>
                </a:moveTo>
                <a:cubicBezTo>
                  <a:pt x="213591" y="1401618"/>
                  <a:pt x="427182" y="609600"/>
                  <a:pt x="734291" y="586509"/>
                </a:cubicBezTo>
                <a:cubicBezTo>
                  <a:pt x="1041400" y="563418"/>
                  <a:pt x="1512455" y="2004291"/>
                  <a:pt x="1842655" y="2055091"/>
                </a:cubicBezTo>
                <a:cubicBezTo>
                  <a:pt x="2172855" y="2105891"/>
                  <a:pt x="2378364" y="921327"/>
                  <a:pt x="2715491" y="891309"/>
                </a:cubicBezTo>
                <a:cubicBezTo>
                  <a:pt x="3052618" y="861291"/>
                  <a:pt x="3389745" y="2022764"/>
                  <a:pt x="3865418" y="1874982"/>
                </a:cubicBezTo>
                <a:cubicBezTo>
                  <a:pt x="4341091" y="1727200"/>
                  <a:pt x="5144654" y="0"/>
                  <a:pt x="5569527" y="4618"/>
                </a:cubicBezTo>
                <a:cubicBezTo>
                  <a:pt x="5994400" y="9236"/>
                  <a:pt x="6089073" y="1877291"/>
                  <a:pt x="6414655" y="1902691"/>
                </a:cubicBezTo>
                <a:cubicBezTo>
                  <a:pt x="6740237" y="1928091"/>
                  <a:pt x="7178964" y="99291"/>
                  <a:pt x="7523018" y="157018"/>
                </a:cubicBezTo>
                <a:cubicBezTo>
                  <a:pt x="7867072" y="214745"/>
                  <a:pt x="8478982" y="2249055"/>
                  <a:pt x="8478982" y="2249055"/>
                </a:cubicBezTo>
                <a:lnTo>
                  <a:pt x="8478982" y="2249055"/>
                </a:lnTo>
                <a:lnTo>
                  <a:pt x="8492836" y="2318327"/>
                </a:ln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Завдання уроку з'ясуват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  Особливості правління єгипетських фараонів Хатшепсут, Тутмос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Ехнато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амзес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 Що призвело до розквіту держав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 Що спричинило її занепад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 Чи є розквіт і занепад закономірними процесам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5 Чи всі світові держави приречені на розкві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6 Яка політика мирна чи завойовницька сприяє розвитку держави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Записати до словнич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Гіксоси - кочові племе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1547640" y="2421000"/>
            <a:ext cx="609300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Хронологічна таблиц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50920" y="1935000"/>
          <a:ext cx="8435880" cy="4373640"/>
        </p:xfrm>
        <a:graphic>
          <a:graphicData uri="http://schemas.openxmlformats.org/drawingml/2006/table">
            <a:tbl>
              <a:tblPr/>
              <a:tblGrid>
                <a:gridCol w="749160"/>
                <a:gridCol w="2583000"/>
                <a:gridCol w="510372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ата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50920" y="981000"/>
          <a:ext cx="8435880" cy="5256360"/>
        </p:xfrm>
        <a:graphic>
          <a:graphicData uri="http://schemas.openxmlformats.org/drawingml/2006/table">
            <a:tbl>
              <a:tblPr/>
              <a:tblGrid>
                <a:gridCol w="749160"/>
                <a:gridCol w="2805120"/>
                <a:gridCol w="488160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V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І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воювання Єгипту  гіксос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V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игнання гіксосів з Єгипт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Хатшепсут - “перша серед найвродливіших ” </a:t>
            </a:r>
            <a:r>
              <a:rPr b="0" i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1489 – 1468 рр.до.н.е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C:\Users\Админ\Pictures\хатшепсут.jpg"/>
          <p:cNvPicPr/>
          <p:nvPr/>
        </p:nvPicPr>
        <p:blipFill>
          <a:blip r:embed="rId2"/>
          <a:stretch/>
        </p:blipFill>
        <p:spPr>
          <a:xfrm>
            <a:off x="2484360" y="1947960"/>
            <a:ext cx="403236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сипальниця цариці в</a:t>
            </a:r>
            <a:br>
              <a:rPr sz="4500"/>
            </a:b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                                Дейр-ель-Бахрі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C:\Users\Админ\Pictures\усипальниця хатшепсут.jpeg"/>
          <p:cNvPicPr/>
          <p:nvPr/>
        </p:nvPicPr>
        <p:blipFill>
          <a:blip r:embed="rId2"/>
          <a:stretch/>
        </p:blipFill>
        <p:spPr>
          <a:xfrm>
            <a:off x="900000" y="2021040"/>
            <a:ext cx="76327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Тутмос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II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– завойовник. Єгипет став світовою державою.</a:t>
            </a:r>
            <a:r>
              <a:rPr b="0" i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 1504 – 1450 рр. до н.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Users\Админ\Pictures\тутмос третій.jpg"/>
          <p:cNvPicPr/>
          <p:nvPr/>
        </p:nvPicPr>
        <p:blipFill>
          <a:blip r:embed="rId2"/>
          <a:srcRect l="0" t="0" r="0" b="-52"/>
          <a:stretch/>
        </p:blipFill>
        <p:spPr>
          <a:xfrm>
            <a:off x="1763640" y="1916280"/>
            <a:ext cx="49341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8:25:23Z</dcterms:created>
  <dc:creator>Админ</dc:creator>
  <dc:description/>
  <dc:language>en-US</dc:language>
  <cp:lastModifiedBy>Admin</cp:lastModifiedBy>
  <dcterms:modified xsi:type="dcterms:W3CDTF">2014-05-05T07:55:04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b000000000001024140</vt:lpwstr>
  </property>
</Properties>
</file>