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8.jpeg" ContentType="image/jpeg"/>
  <Override PartName="/ppt/media/image27.png" ContentType="image/pn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FCB6-4AA2-433E-A66D-D0C1BFF127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D599-D090-4760-9BEB-6883447173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9ED-4049-4A1C-8658-AFBAFDF8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B9E-EB08-4C33-A597-F4214B7A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BAAE4-C0AE-47B1-AC67-ABF40CB4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52395-8DE6-44FF-B322-818E00E3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A4FBF-77E2-4762-8E81-3B224503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A0366-4EB2-4D0E-9294-31E4FE91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34F60-EC10-4125-B073-92A942D6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A3260-0D65-4AE8-AFA9-2D49BA11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69EA5-9478-4412-BE4E-A5866052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603AA-372F-4FDE-A89C-DB991D4B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FEAAE-8611-4361-8DA8-665418F8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4BF-915F-425F-B3F1-A969D57E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F5B-6057-405C-87B4-39F250BB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EAC0-35EE-4231-B7FA-E8909B3F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6540-B1E4-490F-AEA4-49170613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6BFB-070E-4170-B84E-7C6014D2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F2C5-7380-468C-A2C5-DB98C8DD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35EA-11D6-4B0B-A4BD-82970926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6F28-E211-4969-AD3C-8C61A275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48A7-A7CD-46EA-94C7-B1176C2D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2F9-80EE-4A4D-ADE8-B36C4FB1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1CDC-280E-458A-B521-2915C319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0073-824E-454F-A1E0-BB196F9E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290B-C68A-4E41-9487-6D541E37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2A7F-53A4-4BD1-9847-7F738D30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4E6F-0E45-4144-B758-B68763F8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FC009-1C38-4268-89C5-C38D837E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E18CC-EB2B-4B9F-9260-0FB30088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3BEA-4AB0-4D5D-8A5C-99BBFF1E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22326-C0FD-4A1A-934E-108C7E87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99A2-358D-47F7-A16B-4D1D8442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6EC3-15AE-4F41-B9C6-5A3D3AA5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275C-6386-489B-8E39-E08745D7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509C1-8B31-4FDE-8F11-84336B37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D11B-0059-452B-B362-9F44DBAA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C7D55-0006-44A3-B9A3-17A067C5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A03CB-E8C2-401F-98EA-6B79032E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1D6F-4AFD-4B72-9C6E-02B47457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47663-D95B-4C5A-B771-3F2DA5E9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E4A2E-1023-4740-AFC4-3A971896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08C9-44FE-4499-891D-3254A878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E285F-C3EC-4446-950B-5DA99C8A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105-6C15-4B18-BBFA-1D05879E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36DF0-56D5-4502-9B0B-605ED6B4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AE653-87ED-4AF6-AFD1-39DB2A91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78B25-E5EF-4232-A9E8-B8DB4FCD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3E815-ACAD-43C0-A23F-D2B13182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C0B92-A97E-4037-BE86-DECD04D1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EAADB-67E5-4A31-BB27-CA5DF2BC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3714-437B-4421-8907-7B2CA5EB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41F20-F64B-4014-A735-07D78D3B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CA7C-774A-4E52-8653-67B8D2FC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81B83-5B0D-48D5-B903-81F28282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49A-9798-498A-8C5A-59DD06C3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03200-3DA4-4D04-BC80-C611944F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85997-5717-4B6A-96C8-7F7F5D6F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8E8B9-0287-4E7D-8174-96E932E6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E4350-7505-4EBA-B61D-6A7F3BDC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CC15C-F96F-4AC7-83DC-62914A40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6635D-0780-468B-AA8C-12D052EC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0C5A3-1EEA-4C3C-A423-33E3C47F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24B7E-5E20-4A2D-B342-ABCCA5C5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C2D37-EFC3-438B-91B6-A8EADEAE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882E-E3D7-4F44-9656-D07D619C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A4E-D568-4EC4-AF30-04D166B2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DA40B-6F46-4063-8EA4-A1D5B546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54F94-A951-4CFD-A762-E835628A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1FEF9-BE17-4919-8BC4-145A8DDA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314AB-8D5D-479A-B42E-484E41BD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71E06-8E10-4FA4-8E72-104B7A1A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7B13D-066E-43CD-8363-A19EBD20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06C08-B814-4C02-A6F3-D401D1D9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C20C5-4820-48B3-982C-866C81BF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ED3BB-547F-4295-89C6-CFBAB7C5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3F08C-FBA5-406F-A3ED-14F3C700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EE9-FFF3-4518-85A7-63492354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05783-2BFB-48F8-92DC-6C861143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5A0A0-933C-4A20-BE9C-2365F6D1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4ED3F-A1BC-45C4-94F5-CF44736A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BB192-962A-44CB-BBE1-E68ECA4F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DFED4-A209-461D-817B-0A6A8CBA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FCFA8-8FDF-4B92-A519-A8A7A0BF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3778F-3773-404A-8A7A-36015055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0AC96-C724-4366-8FD2-83EBB136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DAB20-8E26-4C3B-BCEE-5EF17F40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2E3BE-9F44-427D-92B1-A5B35A08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6CA-B89D-43EB-A038-5A5AFCF5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0E94D-00AA-47A8-B229-B81062F1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25D0F-BB26-4777-A214-AE8E7AA9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7926F-84D1-41AC-9BEA-06C3B131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D16D4-1750-4B2C-AAB2-3DF81FB3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D4EAE-EB54-4003-A372-7B5FD15B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82BC3-F0A0-4FAB-8632-74BA02D6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741A9-D1D3-4C86-AC35-09D152CF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F082E-7C90-4A19-A059-8FA4714E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B8A72-AA97-44C4-8C3C-ECBA0434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0216E-540B-4BFD-83B7-0099BBF0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4D1-7FA8-4505-980C-27819EE7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1B8BD-406F-470B-9C2E-2627DD29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772AB-95F6-4498-BDAA-1267A224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43AD1-32C7-4BBB-94F7-D72BB517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11BE5-AD06-4B9C-B0CD-27162962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544FA-4C36-4B66-983D-D67C8A34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1414E-19F4-4F8D-8FEB-0FDC4043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50C8B-A6B5-4773-AAD2-70598A6C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30A12-D594-4B1D-AE4E-1126A64A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3485F-6DF9-4FB8-AA64-AF8AE771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D4511-091F-466D-BEF8-5A4C2F8D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BE3F-B7C8-4B28-A5E0-F407A89DF2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B6C5-DE41-405F-B0CD-CA27FD89D2F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1A05-ACAE-48F2-A811-B96A14B3D4E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8F50-E239-42B8-A20C-786A11F094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046C-09F4-49CD-B023-62D7F53E098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E508-34BA-4E55-BC2B-9A766D2AB8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4851-F632-482D-AAC1-5E40C80AB4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F0D3-22EF-4EE8-8707-4FCB4C14F2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8A50-8803-485E-ADEA-76F11293F3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378000" y="4992840"/>
            <a:ext cx="8521560" cy="15969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Тема. Греко-перські війни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s://encrypted-tbn0.gstatic.com/images?q=tbn:ANd9GcSpS315UQFxZwjcUnm7iqtFcit0PRb9kzOJ8T3NwoGARmNxM2H7"/>
          <p:cNvPicPr/>
          <p:nvPr/>
        </p:nvPicPr>
        <p:blipFill>
          <a:blip r:embed="rId3"/>
          <a:stretch/>
        </p:blipFill>
        <p:spPr>
          <a:xfrm>
            <a:off x="1285920" y="714240"/>
            <a:ext cx="67863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2"/>
          <a:stretch/>
        </p:blipFill>
        <p:spPr>
          <a:xfrm>
            <a:off x="298440" y="249120"/>
            <a:ext cx="8699400" cy="1055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Триера Макса"/>
          <p:cNvPicPr/>
          <p:nvPr/>
        </p:nvPicPr>
        <p:blipFill>
          <a:blip r:embed="rId3"/>
          <a:stretch/>
        </p:blipFill>
        <p:spPr>
          <a:xfrm>
            <a:off x="1521000" y="1554120"/>
            <a:ext cx="625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2"/>
          <a:stretch/>
        </p:blipFill>
        <p:spPr>
          <a:xfrm>
            <a:off x="928800" y="0"/>
            <a:ext cx="72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лан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існо зімкнутий лінійний стрій грецької піхоти  для бо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2"/>
          <a:stretch/>
        </p:blipFill>
        <p:spPr>
          <a:xfrm>
            <a:off x="281160" y="-49320"/>
            <a:ext cx="8723160" cy="15494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5500440" y="1285920"/>
            <a:ext cx="34909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орону греків очолив спартанський цар Леонід</a:t>
            </a:r>
            <a:r>
              <a:rPr b="0" lang="ru-RU" sz="2800" spc="-1" strike="noStrike">
                <a:solidFill>
                  <a:srgbClr val="f8e19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Line 8"/>
          <p:cNvSpPr/>
          <p:nvPr/>
        </p:nvSpPr>
        <p:spPr>
          <a:xfrm>
            <a:off x="685800" y="16765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286160" y="164304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7" name="Picture 2" descr="D:\Docs\греко- перські війни\Vsesv_ist_6klass_37tema_kons6.jpg"/>
          <p:cNvPicPr/>
          <p:nvPr/>
        </p:nvPicPr>
        <p:blipFill>
          <a:blip r:embed="rId3"/>
          <a:stretch/>
        </p:blipFill>
        <p:spPr>
          <a:xfrm>
            <a:off x="41400" y="1143000"/>
            <a:ext cx="48877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6" descr=""/>
          <p:cNvPicPr/>
          <p:nvPr/>
        </p:nvPicPr>
        <p:blipFill>
          <a:blip r:embed="rId2"/>
          <a:stretch/>
        </p:blipFill>
        <p:spPr>
          <a:xfrm>
            <a:off x="298440" y="255600"/>
            <a:ext cx="8699400" cy="10494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560" y="1000080"/>
            <a:ext cx="419076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274680" algn="just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274680" algn="just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ва при Платеях остаточно позбавила Грецію від присутності перських військ.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274680" algn="just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274680" algn="just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9р.до н.е.- битва біля Платеї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88920" indent="27468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0" name="Picture 5" descr=""/>
          <p:cNvPicPr/>
          <p:nvPr/>
        </p:nvPicPr>
        <p:blipFill>
          <a:blip r:embed="rId3"/>
          <a:stretch/>
        </p:blipFill>
        <p:spPr>
          <a:xfrm>
            <a:off x="4714920" y="1214280"/>
            <a:ext cx="4143240" cy="5286600"/>
          </a:xfrm>
          <a:prstGeom prst="rect">
            <a:avLst/>
          </a:prstGeom>
          <a:ln w="0">
            <a:noFill/>
          </a:ln>
        </p:spPr>
      </p:pic>
      <p:sp>
        <p:nvSpPr>
          <p:cNvPr id="441" name="Line 7"/>
          <p:cNvSpPr/>
          <p:nvPr/>
        </p:nvSpPr>
        <p:spPr>
          <a:xfrm flipV="1">
            <a:off x="4000680" y="4642920"/>
            <a:ext cx="1152360" cy="7164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Рисунок 2" descr="4б.JPG"/>
          <p:cNvPicPr/>
          <p:nvPr/>
        </p:nvPicPr>
        <p:blipFill>
          <a:blip r:embed="rId2"/>
          <a:stretch/>
        </p:blipFill>
        <p:spPr>
          <a:xfrm>
            <a:off x="142920" y="1143000"/>
            <a:ext cx="8715240" cy="542916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оугольник 2"/>
          <p:cNvSpPr/>
          <p:nvPr/>
        </p:nvSpPr>
        <p:spPr>
          <a:xfrm>
            <a:off x="0" y="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78 р. до н. є. -Перший Афінський морський союз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231840" y="12600"/>
            <a:ext cx="8826480" cy="151776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апитанн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Коли був утворений Афінський морський союз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З якою метою   був створений Афінський морський союз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14"/>
          <p:cNvSpPr/>
          <p:nvPr/>
        </p:nvSpPr>
        <p:spPr>
          <a:xfrm>
            <a:off x="4786200" y="1214280"/>
            <a:ext cx="4143600" cy="114300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За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боронена 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 в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и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ходу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в 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Е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гейс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ь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ке море перським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військовим кораблям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AutoShape 14"/>
          <p:cNvSpPr/>
          <p:nvPr/>
        </p:nvSpPr>
        <p:spPr>
          <a:xfrm>
            <a:off x="142920" y="2571840"/>
            <a:ext cx="4214880" cy="121428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Зростання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авторитету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Аф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і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AutoShape 14"/>
          <p:cNvSpPr/>
          <p:nvPr/>
        </p:nvSpPr>
        <p:spPr>
          <a:xfrm>
            <a:off x="4857840" y="2571840"/>
            <a:ext cx="4071960" cy="121428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Перс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і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я 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в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изнавал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неза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лежніст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ь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гре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ць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ских 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міс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Мало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ї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 Аз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ії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214200" y="3929040"/>
            <a:ext cx="4143600" cy="121464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Створення 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   Афінського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морс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ь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кого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союзу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4857840" y="4000680"/>
            <a:ext cx="4071960" cy="114300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Греки </a:t>
            </a:r>
            <a:r>
              <a:rPr b="0" lang="uk-UA" sz="1700" spc="-1" strike="noStrike">
                <a:solidFill>
                  <a:srgbClr val="800000"/>
                </a:solidFill>
                <a:latin typeface="Bookman Old Style"/>
              </a:rPr>
              <a:t>отримали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контроль над 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Чорн</a:t>
            </a:r>
            <a:r>
              <a:rPr b="0" lang="uk-UA" sz="1700" spc="-1" strike="noStrike">
                <a:solidFill>
                  <a:srgbClr val="800000"/>
                </a:solidFill>
                <a:latin typeface="Bookman Old Style"/>
              </a:rPr>
              <a:t>и</a:t>
            </a: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м </a:t>
            </a:r>
            <a:r>
              <a:rPr b="0" lang="uk-UA" sz="1700" spc="-1" strike="noStrike">
                <a:solidFill>
                  <a:srgbClr val="800000"/>
                </a:solidFill>
                <a:latin typeface="Bookman Old Style"/>
              </a:rPr>
              <a:t>і</a:t>
            </a: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800000"/>
                </a:solidFill>
                <a:latin typeface="Bookman Old Style"/>
              </a:rPr>
              <a:t>Е</a:t>
            </a: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гейс</a:t>
            </a:r>
            <a:r>
              <a:rPr b="0" lang="uk-UA" sz="1700" spc="-1" strike="noStrike">
                <a:solidFill>
                  <a:srgbClr val="800000"/>
                </a:solidFill>
                <a:latin typeface="Bookman Old Style"/>
              </a:rPr>
              <a:t>ь</a:t>
            </a:r>
            <a:r>
              <a:rPr b="0" lang="ru-RU" sz="1700" spc="-1" strike="noStrike">
                <a:solidFill>
                  <a:srgbClr val="800000"/>
                </a:solidFill>
                <a:latin typeface="Bookman Old Style"/>
              </a:rPr>
              <a:t>ким морями</a:t>
            </a:r>
            <a:endParaRPr b="0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AutoShape 10"/>
          <p:cNvSpPr/>
          <p:nvPr/>
        </p:nvSpPr>
        <p:spPr>
          <a:xfrm>
            <a:off x="142920" y="1214280"/>
            <a:ext cx="4071960" cy="114300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Велика кількіст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п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о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л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о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н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ени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х 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і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 раб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і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658600" y="5328000"/>
            <a:ext cx="3960000" cy="1058760"/>
          </a:xfrm>
          <a:prstGeom prst="rect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cc6600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Греки 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відстояли</a:t>
            </a: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Bookman Old Style"/>
              </a:rPr>
              <a:t>свою </a:t>
            </a:r>
            <a:r>
              <a:rPr b="0" lang="uk-UA" sz="1800" spc="-1" strike="noStrike">
                <a:solidFill>
                  <a:srgbClr val="800000"/>
                </a:solidFill>
                <a:latin typeface="Bookman Old Style"/>
              </a:rPr>
              <a:t>незалежність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16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480  р.до н.е.)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аланга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 ( 42 км 195 м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 (480  р.до н.е.)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 477р.до н.е.)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. ( трієра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7. (479 р.до н.е.)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8.( 480  р.до н.е.)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9. (  греків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0. (  страте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1. </a:t>
            </a:r>
            <a:r>
              <a:rPr b="0" lang="uk-UA" sz="26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449р. до н. е</a:t>
            </a:r>
            <a:r>
              <a:rPr b="0" lang="uk-UA" sz="26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2.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Спарта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20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1" lang="uk-UA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ецька перемога -  це результат  військової  муштри  чи любов до Батьківщини?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вчальна:</a:t>
            </a:r>
            <a:r>
              <a:rPr b="0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розглянути  причини, характер та наслідки греко – перських війн, сформувати в учнів уявлення про перебіг  важливих  битв у ході греко –перських війн;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озвивальна</a:t>
            </a:r>
            <a:r>
              <a:rPr b="0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: розвивати в учнів вміння працювати з текстовими та візуальними джерелами, аналізувати їх; розвивати навички роботи   з картою та атласом. Формуванням вміння простежувати причинно – наслідкові зв'язки,  та  вміння робити висновки та узагальнення;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иховна:</a:t>
            </a:r>
            <a:r>
              <a:rPr b="0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сприяти  вихованню в учнів інтересу до предмету;  почуття патріотизму </a:t>
            </a: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ірності та мужності</a:t>
            </a:r>
            <a:r>
              <a:rPr b="0" lang="uk-UA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; 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«</a:t>
            </a:r>
            <a:r>
              <a:rPr b="1" lang="uk-UA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Amemus patriam, pareamus legibus - Любiмо Батькiвщину, пiдкоряймося i  законам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рацювати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араграф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ідручник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класти   таблицю «Греко- перські війни»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та               Місце битв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обота з контурною картою  (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значити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основні  битви 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на контурній карті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</a:t>
            </a:r>
            <a:r>
              <a:rPr b="0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D:\Docs\греко- перські війни\650px-GPWars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uk-UA" sz="4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Грецька перемога -  це результат  військової  муштри  чи любов до Батьківщини? </a:t>
            </a:r>
            <a:r>
              <a:rPr b="1" i="1" lang="ru-RU" sz="4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   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2"/>
          <a:stretch/>
        </p:blipFill>
        <p:spPr>
          <a:xfrm>
            <a:off x="835200" y="133200"/>
            <a:ext cx="7808760" cy="12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14"/>
          <p:cNvSpPr/>
          <p:nvPr/>
        </p:nvSpPr>
        <p:spPr>
          <a:xfrm>
            <a:off x="285840" y="1214280"/>
            <a:ext cx="5286240" cy="100044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uk-UA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З</a:t>
            </a:r>
            <a:r>
              <a:rPr b="1" lang="ru-RU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ахоплення персами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земель Малої Азії</a:t>
            </a:r>
            <a:r>
              <a:rPr b="1" lang="ru-RU" sz="2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AutoShape 25"/>
          <p:cNvSpPr/>
          <p:nvPr/>
        </p:nvSpPr>
        <p:spPr>
          <a:xfrm>
            <a:off x="990720" y="5486400"/>
            <a:ext cx="2819160" cy="838080"/>
          </a:xfrm>
          <a:prstGeom prst="flowChartTerminator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AutoShape 26"/>
          <p:cNvSpPr/>
          <p:nvPr/>
        </p:nvSpPr>
        <p:spPr>
          <a:xfrm>
            <a:off x="990720" y="5486400"/>
            <a:ext cx="2819160" cy="838080"/>
          </a:xfrm>
          <a:prstGeom prst="flowChartTerminator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AutoShape 28"/>
          <p:cNvSpPr/>
          <p:nvPr/>
        </p:nvSpPr>
        <p:spPr>
          <a:xfrm>
            <a:off x="285840" y="4786200"/>
            <a:ext cx="8643960" cy="1714680"/>
          </a:xfrm>
          <a:prstGeom prst="flowChartTerminator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Привід до війни</a:t>
            </a:r>
            <a:r>
              <a:rPr b="1" lang="ru-RU" sz="2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допомога Афін повсталими містами в області Іонія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в Малої Азії проти персів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4b3b"/>
                </a:solidFill>
                <a:latin typeface="Times New Roman"/>
                <a:ea typeface="Times New Roman"/>
              </a:rPr>
              <a:t>(Мілет 500-496 р. до н.е. повстання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AutoShape 35"/>
          <p:cNvSpPr/>
          <p:nvPr/>
        </p:nvSpPr>
        <p:spPr>
          <a:xfrm>
            <a:off x="3500280" y="2357280"/>
            <a:ext cx="5429520" cy="98136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Порушені торговельні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зв’язки  Греції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AutoShape 36"/>
          <p:cNvSpPr/>
          <p:nvPr/>
        </p:nvSpPr>
        <p:spPr>
          <a:xfrm>
            <a:off x="214200" y="3500280"/>
            <a:ext cx="5429520" cy="1124280"/>
          </a:xfrm>
          <a:prstGeom prst="flowChartAlternateProcess">
            <a:avLst/>
          </a:prstGeom>
          <a:solidFill>
            <a:srgbClr val="f8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Бажання персів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захопити усю Грецію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3" descr="D:\Docs\греко- перські війни\460px-Kthjykjfrhj.jpg"/>
          <p:cNvPicPr/>
          <p:nvPr/>
        </p:nvPicPr>
        <p:blipFill>
          <a:blip r:embed="rId2"/>
          <a:stretch/>
        </p:blipFill>
        <p:spPr>
          <a:xfrm>
            <a:off x="1643040" y="0"/>
            <a:ext cx="557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2"/>
          <a:stretch/>
        </p:blipFill>
        <p:spPr>
          <a:xfrm>
            <a:off x="298440" y="255600"/>
            <a:ext cx="8699400" cy="10494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56760" y="1143000"/>
            <a:ext cx="8634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араф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ський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біг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або 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араф</a:t>
            </a:r>
            <a:r>
              <a:rPr b="1" lang="uk-UA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н  -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портивні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агання з  бігу на дистанцію, що становить 42 км 195 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1000080" y="0"/>
            <a:ext cx="728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D:\Docs\греко- перські війни\marafon.jpg"/>
          <p:cNvPicPr/>
          <p:nvPr/>
        </p:nvPicPr>
        <p:blipFill>
          <a:blip r:embed="rId3"/>
          <a:stretch/>
        </p:blipFill>
        <p:spPr>
          <a:xfrm>
            <a:off x="1357200" y="1285920"/>
            <a:ext cx="6615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сад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командувача військом, що також завідував зовнішніми справами держави і частково фінансами, включаючи судову владу по всіх вказаних галузях управлінн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іє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йовий  корабель античності, на якому веслярі розташовувалися в три яруси з обох бортів корабл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07:55:00Z</dcterms:created>
  <dc:creator>Gigabyte</dc:creator>
  <dc:description/>
  <dc:language>en-US</dc:language>
  <cp:lastModifiedBy>Admin</cp:lastModifiedBy>
  <dcterms:modified xsi:type="dcterms:W3CDTF">2014-06-18T07:12:15Z</dcterms:modified>
  <cp:revision>79</cp:revision>
  <dc:subject/>
  <dc:title>  Підготувала: Студентка ІІ курсу Радевич А.С.  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21000000000001024140</vt:lpwstr>
  </property>
</Properties>
</file>