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D75-4796-4C6C-8DE9-4722633621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BC4-D5E5-46AD-9533-29BEAC5CC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CD2-547A-4BFD-AC8B-02481707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060-E737-4990-AD7E-B80F9BA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85001-8407-40A6-988B-0382016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BED49-5A01-4B79-ADAB-7231E3EB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63F57-0266-4C7D-8EAB-F02E82D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5E6E7-BE8C-4002-B204-3AFD555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1FF85-F5B9-4CE9-9FA7-D861AE8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CCB44-5933-43C2-A278-8E664BE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3D0F-9B8F-4C83-B01F-749FCAF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C869-A0E0-4C5B-85C8-BB4BD149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B67BC-5059-4341-ABDE-CDCDAA4F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D24-8A25-4DAD-B995-F27956B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FA9-CF57-4D3E-8484-04BB9555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C5EA-79EC-4F43-BFC3-DB805F7C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EEEF-4F15-485E-A07A-9467C82D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17F5-EFD2-4DC0-89AC-E231086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27B-1E2C-48D7-926F-30659476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06C-B47A-45EA-BF6B-A6D9533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516-252E-45B8-BDF9-03C302B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A044-4B72-44D1-B1F8-54F49A1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28F-8281-455C-8FE2-5C56F31A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055-16FD-4CA3-B58D-51388E0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B14-778A-462C-BF51-30ED737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C04-3515-4783-8843-69DF85E2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3FDF-341F-4C88-A335-5007B04A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757-2D69-422C-B08B-F72E5EA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AA24-0E98-4F8E-88C9-5172BE31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A11F-E47D-477B-AD12-C849549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C16F-E37A-42D2-8CC4-2490A36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0BFFC-41CC-41FF-8C96-12B5C27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B942-B177-46B5-BDBD-6D48D485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AD7-5211-432C-BE9D-62FF51C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CD7E-D057-490E-88D6-460EAF34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0CBF-F522-43A1-A817-7EEC914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C18A-AFEE-46F5-A35E-9D4FFBA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24D7-1518-467E-8F31-6AFE04A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5E80-22CF-4A21-A74B-1CAACC1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6D0E-50B6-4607-8F7E-A64FAB4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1864-D000-4C7E-B326-AACC40FD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DEC8-8579-41D1-8288-CAB07E29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2288-262B-44F3-B332-D026A4F5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6E97-56DF-4F7E-A11F-4754C82C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C6C-E610-4175-88BE-B3BC60C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3495-968E-4F4A-AB84-FC8F121B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9043-C60A-4592-A0B8-C8F1307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68AA-D38D-4EFC-8506-9FD56E0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2A308-8A30-4A61-91FB-E58F2CA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AA40-71D8-4C62-90EF-0FB6802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A669-031E-466F-822C-E5F8768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4C152-76B7-4159-B6E1-F0AC9D87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C720-18AC-4E52-86BF-E613AEA1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FDC0-39A9-4A03-84C6-2B2CC8A2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793B-32DA-4147-8A66-BB75EA25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177-58EB-4116-A297-1B30608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6CA5-148A-4D8B-BBE1-205EF2E3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AEDA-B115-4461-8324-DA83E76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37CE-2131-46E8-8E1C-4E46D2B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1A35-6666-4F86-BD57-CEA249A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D7BB-C9F3-475D-93C1-383ED30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C1FA-CB25-4991-BCE7-4E961E1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C0C9-A444-45D8-816F-F0FDAF5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2511-0F02-4734-96C6-809BA56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3706-8870-44AD-ACF5-2156B4A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8823-E350-4968-B889-33B0D32D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1EC-8046-4A49-93F2-E610FC63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20D3-8E69-44E3-826F-586A371A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F4EE-E72F-4B1D-8129-67DBE024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65D9-9B6D-433B-A7CE-D84DCEE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15B9-DBCE-4E6E-819C-5703147D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4346-7233-4705-B9C3-D459357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19B5-2E9C-4A4D-B0AB-F754EEB5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208E-4477-4083-B0CF-A6091870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51C8-AFF0-4C11-B993-1E0A8B7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A5EA-29D8-43E0-ADA3-808FF7D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CAF1-A359-4929-862A-DC9C6E4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BE0-53DE-4571-92F8-11B8431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F1E6-5C8F-462B-96A1-4B1FAA7E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4EDA-4119-46D8-A829-3E5B8B8B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5B49-41CA-4684-8E38-BC2B45F6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055E-F31B-4B14-A4B0-D53372F1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D82E-01A1-4A41-B5E9-C097161D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61A7-4E2D-483D-8CCF-630D06B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4F95-B682-47F2-9023-62E042C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7A4B-917A-4C82-844F-5B26FAB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4C334-2FC0-41C8-B872-E478997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FE1B-9D98-4565-98FE-07D9B41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B79-DC5B-445C-BD73-F3AF82C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830BD-5DB1-485B-B5AA-5E50354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AB01-3469-4972-AF3D-5D79EDD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BB8B-4883-40F2-A588-D1B2431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3735C-6903-4C55-913B-D02F89E3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5827-407B-4CE2-B6B4-5FEEA274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4946-FBB3-4CD8-9D2F-091CE430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931C-0B1D-4AFF-8AE8-4FF78664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2F6C-5E0A-46B8-A478-5B925A3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2348-B909-4BC3-97BF-F9B31F58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F27C-9CB5-48E2-BA2B-A39BF1EE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667-1DB0-4F2F-8474-B87C896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628F-0E59-49D2-B88F-E12553B2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819B-2B5E-4900-9CDE-57C8F3E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6F38D-CC76-49D4-96D5-399FC61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0C16D-1A45-4435-B049-A24ADCC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9FD6-8FAF-4F47-93E7-53A9A80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722F-A341-4BBF-9D56-E870FB4F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090F-CC2F-49FD-B9CA-4BD4F88B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C90D7-B4E9-4E90-915F-436D94E8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1301B-622E-4E64-977A-746AE7F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3769F-49D7-4794-8ACD-55CC0CC3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5B1-ED5B-4D45-B434-A0FA8D29BA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B901-B22E-4BAD-B757-3F27A64175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690D-478B-4AA3-B28B-3C560EE6BD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B4E-326C-4F40-BDA0-780B91D74C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4B75-9928-4D4E-B14F-53A134380F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A66-8E40-49DA-8F24-7595C7AB87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A4B0-C72B-4476-9E92-CA44A94776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248-AB6F-44C0-81D6-7D3468F7C6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BC34-6A35-457D-8186-554DF9EC7A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378000" y="4992840"/>
            <a:ext cx="8521560" cy="1596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Тема. Греко-перські війни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s://encrypted-tbn0.gstatic.com/images?q=tbn:ANd9GcSpS315UQFxZwjcUnm7iqtFcit0PRb9kzOJ8T3NwoGARmNxM2H7"/>
          <p:cNvPicPr/>
          <p:nvPr/>
        </p:nvPicPr>
        <p:blipFill>
          <a:blip r:embed="rId3"/>
          <a:stretch/>
        </p:blipFill>
        <p:spPr>
          <a:xfrm>
            <a:off x="1285920" y="714240"/>
            <a:ext cx="67863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298440" y="249120"/>
            <a:ext cx="8699400" cy="1055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Триера Макса"/>
          <p:cNvPicPr/>
          <p:nvPr/>
        </p:nvPicPr>
        <p:blipFill>
          <a:blip r:embed="rId3"/>
          <a:stretch/>
        </p:blipFill>
        <p:spPr>
          <a:xfrm>
            <a:off x="1521000" y="1554120"/>
            <a:ext cx="62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ла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існо зімкнутий лінійний стрій грецької піхоти  для б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281160" y="-49320"/>
            <a:ext cx="8723160" cy="1549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500440" y="1285920"/>
            <a:ext cx="34909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рону греків очолив спартанський цар Леонід</a:t>
            </a:r>
            <a:r>
              <a:rPr b="0" lang="ru-RU" sz="2800" spc="-1" strike="noStrike">
                <a:solidFill>
                  <a:srgbClr val="f8e19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Line 8"/>
          <p:cNvSpPr/>
          <p:nvPr/>
        </p:nvSpPr>
        <p:spPr>
          <a:xfrm>
            <a:off x="685800" y="16765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286160" y="164304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Picture 2" descr="D:\Docs\греко- перські війни\Vsesv_ist_6klass_37tema_kons6.jpg"/>
          <p:cNvPicPr/>
          <p:nvPr/>
        </p:nvPicPr>
        <p:blipFill>
          <a:blip r:embed="rId3"/>
          <a:stretch/>
        </p:blipFill>
        <p:spPr>
          <a:xfrm>
            <a:off x="41400" y="1143000"/>
            <a:ext cx="4887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6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560" y="1000080"/>
            <a:ext cx="419076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при Платеях остаточно позбавила Грецію від присутності перських військ.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9р.до н.е.- битва біля Платеї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4714920" y="1214280"/>
            <a:ext cx="4143240" cy="5286600"/>
          </a:xfrm>
          <a:prstGeom prst="rect">
            <a:avLst/>
          </a:prstGeom>
          <a:ln w="0">
            <a:noFill/>
          </a:ln>
        </p:spPr>
      </p:pic>
      <p:sp>
        <p:nvSpPr>
          <p:cNvPr id="441" name="Line 7"/>
          <p:cNvSpPr/>
          <p:nvPr/>
        </p:nvSpPr>
        <p:spPr>
          <a:xfrm flipV="1">
            <a:off x="4000680" y="4642920"/>
            <a:ext cx="1152360" cy="716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2" descr="4б.JPG"/>
          <p:cNvPicPr/>
          <p:nvPr/>
        </p:nvPicPr>
        <p:blipFill>
          <a:blip r:embed="rId2"/>
          <a:stretch/>
        </p:blipFill>
        <p:spPr>
          <a:xfrm>
            <a:off x="142920" y="1143000"/>
            <a:ext cx="8715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2"/>
          <p:cNvSpPr/>
          <p:nvPr/>
        </p:nvSpPr>
        <p:spPr>
          <a:xfrm>
            <a:off x="0" y="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8 р. до н. є. -Перший Афінський морський союз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231840" y="12600"/>
            <a:ext cx="8826480" cy="15177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питанн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Коли був утворений Афінський морський союз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З якою метою   був створений Афінський морський союз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14"/>
          <p:cNvSpPr/>
          <p:nvPr/>
        </p:nvSpPr>
        <p:spPr>
          <a:xfrm>
            <a:off x="4786200" y="1214280"/>
            <a:ext cx="414360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За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боронена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в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ход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Е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ей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ке море перським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ійськовим кораблям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AutoShape 14"/>
          <p:cNvSpPr/>
          <p:nvPr/>
        </p:nvSpPr>
        <p:spPr>
          <a:xfrm>
            <a:off x="142920" y="2571840"/>
            <a:ext cx="4214880" cy="121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Зростання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авторитет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Аф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4857840" y="2571840"/>
            <a:ext cx="4071960" cy="121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Пер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я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изнава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еза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лежніст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ре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ц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ких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міс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Мало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ї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Аз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ї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214200" y="3929040"/>
            <a:ext cx="4143600" cy="121464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Створення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  Афінського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мор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кого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оюзу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4857840" y="4000680"/>
            <a:ext cx="407196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Греки 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отримали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контроль над 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Чорн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м 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Е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гейс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ким морями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142920" y="1214280"/>
            <a:ext cx="407196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елика кількіст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п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о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л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о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ен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х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раб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658600" y="5328000"/>
            <a:ext cx="3960000" cy="105876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реки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ідстоял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вою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незалежні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16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480 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аланга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 ( 42 км 195 м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 (480  р.до н.е.)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477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( трієр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(479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( 480 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 (  греків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(  страте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</a:t>
            </a: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449р. до н. е</a:t>
            </a: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2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парт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1" lang="uk-UA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ецька перемога -  це результат  військової  муштри  чи любов до Батьківщини?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вчальна: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розглянути  причини, характер та наслідки греко – перських війн, сформувати в учнів уявлення про перебіг  важливих  битв у ході греко –перських війн;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звивальна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розвивати в учнів вміння працювати з текстовими та візуальними джерелами, аналізувати їх; розвивати навички роботи   з картою та атласом. Формуванням вміння простежувати причинно – наслідкові зв'язки,  та  вміння робити висновки та узагальнення;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ховна: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сприяти  вихованню в учнів інтересу до предмету;  почуття патріотизму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ірності та мужності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 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1" lang="uk-UA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Amemus patriam, pareamus legibus - Любiмо Батькiвщину, пiдкоряймося i  законам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ацюват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граф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ручник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класти   таблицю «Греко- перські війни»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а               Місце бит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бота з контурною картою  (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значити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основні  битв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на контурній карті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D:\Docs\греко- перські війни\650px-GPWar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uk-UA" sz="4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Грецька перемога -  це результат  військової  муштри  чи любов до Батьківщини? </a:t>
            </a:r>
            <a:r>
              <a:rPr b="1" i="1" lang="ru-RU" sz="4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2"/>
          <a:stretch/>
        </p:blipFill>
        <p:spPr>
          <a:xfrm>
            <a:off x="835200" y="133200"/>
            <a:ext cx="7808760" cy="12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14"/>
          <p:cNvSpPr/>
          <p:nvPr/>
        </p:nvSpPr>
        <p:spPr>
          <a:xfrm>
            <a:off x="285840" y="1214280"/>
            <a:ext cx="5286240" cy="100044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ахоплення персами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емель Малої Азії</a:t>
            </a: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AutoShape 25"/>
          <p:cNvSpPr/>
          <p:nvPr/>
        </p:nvSpPr>
        <p:spPr>
          <a:xfrm>
            <a:off x="990720" y="5486400"/>
            <a:ext cx="2819160" cy="838080"/>
          </a:xfrm>
          <a:prstGeom prst="flowChartTerminator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AutoShape 26"/>
          <p:cNvSpPr/>
          <p:nvPr/>
        </p:nvSpPr>
        <p:spPr>
          <a:xfrm>
            <a:off x="990720" y="5486400"/>
            <a:ext cx="2819160" cy="838080"/>
          </a:xfrm>
          <a:prstGeom prst="flowChartTerminator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AutoShape 28"/>
          <p:cNvSpPr/>
          <p:nvPr/>
        </p:nvSpPr>
        <p:spPr>
          <a:xfrm>
            <a:off x="285840" y="4786200"/>
            <a:ext cx="8643960" cy="1714680"/>
          </a:xfrm>
          <a:prstGeom prst="flowChartTerminator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Привід до війни</a:t>
            </a: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допомога Афін повсталими містами в області Іоні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 Малої Азії проти персів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(Мілет 500-496 р. до н.е. повстання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AutoShape 35"/>
          <p:cNvSpPr/>
          <p:nvPr/>
        </p:nvSpPr>
        <p:spPr>
          <a:xfrm>
            <a:off x="3500280" y="2357280"/>
            <a:ext cx="5429520" cy="98136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Порушені торговельні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в’язки  Греції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AutoShape 36"/>
          <p:cNvSpPr/>
          <p:nvPr/>
        </p:nvSpPr>
        <p:spPr>
          <a:xfrm>
            <a:off x="214200" y="3500280"/>
            <a:ext cx="5429520" cy="112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Бажання персі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ахопити усю Грецію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D:\Docs\греко- перські війни\460px-Kthjykjfrhj.jpg"/>
          <p:cNvPicPr/>
          <p:nvPr/>
        </p:nvPicPr>
        <p:blipFill>
          <a:blip r:embed="rId2"/>
          <a:stretch/>
        </p:blipFill>
        <p:spPr>
          <a:xfrm>
            <a:off x="16430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56760" y="1143000"/>
            <a:ext cx="8634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раф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ський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біг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або 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раф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 -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ортивні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ння з  бігу на дистанцію, що становить 42 км 195 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1000080" y="0"/>
            <a:ext cx="72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D:\Docs\греко- перські війни\marafon.jpg"/>
          <p:cNvPicPr/>
          <p:nvPr/>
        </p:nvPicPr>
        <p:blipFill>
          <a:blip r:embed="rId3"/>
          <a:stretch/>
        </p:blipFill>
        <p:spPr>
          <a:xfrm>
            <a:off x="1357200" y="1285920"/>
            <a:ext cx="661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ад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командувача військом, що також завідував зовнішніми справами держави і частково фінансами, включаючи судову владу по всіх вказаних галузях управлінн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іє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овий  корабель античності, на якому веслярі розташовувалися в три яруси з обох бортів корабл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7:55:00Z</dcterms:created>
  <dc:creator>Gigabyte</dc:creator>
  <dc:description/>
  <dc:language>en-US</dc:language>
  <cp:lastModifiedBy>Admin</cp:lastModifiedBy>
  <dcterms:modified xsi:type="dcterms:W3CDTF">2014-06-18T07:12:15Z</dcterms:modified>
  <cp:revision>79</cp:revision>
  <dc:subject/>
  <dc:title>  Підготувала: Студентка ІІ курсу Радевич А.С.  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1000000000001024140</vt:lpwstr>
  </property>
</Properties>
</file>