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BD2-8AE9-42BF-A019-E96CBDFD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988-8E27-4CF2-BE8B-B7AEC9B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27A-CBE0-4236-BC6E-EB1F0CC5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458-ACC6-427E-8B0C-84D4BAA2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46B7F-9A02-474D-99BA-B48B384F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E93AA-E155-46FC-B6EF-2B229B74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4D738-3BB9-44CD-85C0-A71B4F24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6FD7-9C91-438C-8544-08406F3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ADB89-E27D-4D32-973A-853798AB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5F63-30ED-486B-AEC1-44DEAB9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AA2A2-93DB-498A-B5EE-63A5FF40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3E5-3402-4BB7-9EE1-B0E36FBD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A56D-CBD2-4A3B-930E-187D349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E021A-8790-4F3E-BAE0-AA136D3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DC475-7AFA-416E-952C-EDC4F9C4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A39F-03FF-4DFF-A648-71752986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7EC90-0702-4D75-BD43-26DED96F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D3AD-7D62-495D-8471-2CDA5873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AB3D-C858-47C0-9E25-C342D482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093A-A56F-4045-BB55-3D78CF87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DF96-8961-450A-BFA4-FD33F58A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C586-615F-49D5-A72D-AB9B386D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55B-B991-4D0B-A7E1-E8803654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C2B9-6AE5-4CBA-B9A2-CA93EF46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A249-CFC5-4A01-BD32-59258D1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0894-CE61-4087-B214-7CA2E44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1385-11B3-4A27-978E-733B825C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D095-0E80-48A7-B4CC-5B1171DF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E5A7-EC02-4411-B4A1-9592EAAF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60E7-400C-4A28-9653-91D59F00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51A2E-1314-497E-93FD-2CF9999F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C489C-C93B-49BF-A3A2-8B523BF1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C6728-D1A5-4555-ACBA-A59609D7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EA2-FD08-4344-9307-7409DA7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8960D-A7E2-4B01-A9CA-739CD87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CA321-19ED-4A16-BA3E-D61305F9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42CD1-1812-4394-A70D-CF346C69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7669A-7857-4C72-A01B-C0AB912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B22AA-3911-43F0-8B98-3FB71D0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D2AC2-EC60-4FDC-AB3B-F85DB32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73F19-A52F-4772-9B44-B5CB7D45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0E956-45AE-4DCC-AF84-694C8E19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54618-4C29-4B77-A971-7F807325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22E-B0E7-46C4-8B42-D96825F8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57F-9449-478B-BC07-EBCC30A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531-FA45-408E-96FF-224AFFE0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BF0-F6C8-4D51-9DF2-72DE394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244-8DE8-405B-B7BB-397C7EA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E87-62A4-47F2-9495-B2E39F3A34B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109A-346C-4EA2-BD67-6FE01B31403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77AB-0E1D-47B9-82D6-5083CBBBFF2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C610-E6AC-429A-ACA0-A31042A9FAF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2"/>
          <a:stretch/>
        </p:blipFill>
        <p:spPr>
          <a:xfrm>
            <a:off x="426960" y="1279440"/>
            <a:ext cx="872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285840" y="65088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785880" y="65088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1-а коман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ейти Рубікон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ийшов, побачив, переміг!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57160" y="350820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2-а коман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 кинуто!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І ти, Бруте?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85840" y="357120"/>
          <a:ext cx="8358120" cy="622944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3160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то перемі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3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64 – 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отримав Сицилію, Карфаген мав сплатити контрибуцію та повернути без викупу полонен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3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8 – 201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здобув Іспанію, Північну Італію. Карфаген мав знищити свій флот, сплатити контрибуці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49 – 146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став повним володарем Середземномор’я. Карфаген був знищен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85840" y="285840"/>
          <a:ext cx="8358120" cy="614340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то перемі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5 – 205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мста Риму союзникам Карфаген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0 – 197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донія позбавлена влади над Греціє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71 – 168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донія втратила незалежність. Греція і Македонія перетворені на провінцію Ри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Tanyusha\Desktop\0.jpeg"/>
          <p:cNvPicPr/>
          <p:nvPr/>
        </p:nvPicPr>
        <p:blipFill>
          <a:blip r:embed="rId2"/>
          <a:stretch/>
        </p:blipFill>
        <p:spPr>
          <a:xfrm>
            <a:off x="395280" y="182520"/>
            <a:ext cx="828036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гладиолус"/>
          <p:cNvPicPr/>
          <p:nvPr/>
        </p:nvPicPr>
        <p:blipFill>
          <a:blip r:embed="rId2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57120" y="1095840"/>
            <a:ext cx="821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 1б, 2б, 3в, 4г, 5в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6б, 7б, 8г, 9г, 10г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4200" y="1285920"/>
          <a:ext cx="8715600" cy="502128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29520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тання для порівня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е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тал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острів, на якому знаходя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кими морями омиваю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56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льєф: гори, рівнини, ріки то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1"/>
          <p:cNvSpPr/>
          <p:nvPr/>
        </p:nvSpPr>
        <p:spPr>
          <a:xfrm>
            <a:off x="0" y="714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вдання: заповніть таблицю та порівняйте природні умови Греції та Італії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:\відкритий урок\карти0001.jpg"/>
          <p:cNvPicPr/>
          <p:nvPr/>
        </p:nvPicPr>
        <p:blipFill>
          <a:blip r:embed="rId2"/>
          <a:stretch/>
        </p:blipFill>
        <p:spPr>
          <a:xfrm>
            <a:off x="0" y="0"/>
            <a:ext cx="4703760" cy="4700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H:\відкритий урок\карти0002.jpg"/>
          <p:cNvPicPr/>
          <p:nvPr/>
        </p:nvPicPr>
        <p:blipFill>
          <a:blip r:embed="rId3"/>
          <a:stretch/>
        </p:blipFill>
        <p:spPr>
          <a:xfrm>
            <a:off x="4255920" y="1949400"/>
            <a:ext cx="4888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14200" y="1285920"/>
          <a:ext cx="8715600" cy="54561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2458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тання для порівня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е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тал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острів, на якому знаходя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лканський півострів, південь Європ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пеннінський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день Європ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кими морями омиваю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гейське, Іонічне, Критсь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дріатичне, Тірренське, Іонічне, Середзем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плий; влітку – сп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плий, м’який; багато дощі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2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льєф: гори, рівнини, ріки то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нічна – гірська країна. Середня – рівнина, з широкими долинами. Південна – кам’яниста. Неширокі річки. З півночі захищена гор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івнинна країна, вкрита густими лісами, широкими лука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 півночі захищена горами Альпами, а зі сходу – довгим хребтом Аппенінських гір. Річки: Тибр, Рубікон, По тощ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елика кількість островів. Найбільший – Кри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ів мало. Сицилія, Сардинія і Корси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"/>
          <p:cNvSpPr/>
          <p:nvPr/>
        </p:nvSpPr>
        <p:spPr>
          <a:xfrm>
            <a:off x="0" y="3960"/>
            <a:ext cx="892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efac9"/>
                </a:solidFill>
                <a:latin typeface="Times New Roman"/>
                <a:ea typeface="Calibri"/>
              </a:rPr>
              <a:t>Завдання: заповніть таблицю та порівняйте природні умови Греції та Італ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28760" y="293760"/>
            <a:ext cx="8001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1Б; 2Г; 3Д; 4А; 5Е; 6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57120" y="6447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-а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82960" y="335916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-а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49480" y="4002120"/>
            <a:ext cx="67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 1Г; 2Д; 3В; 4Е; 5Б; 6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285840" y="665640"/>
            <a:ext cx="864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які періоди за формою державного управління поділяють історію Давнього Ри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Що означав термін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спублі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285840" y="66312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Що означав термін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спублі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285840" y="66132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285840" y="65700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9:25:20Z</dcterms:created>
  <dc:creator>Валентин</dc:creator>
  <dc:description/>
  <dc:language>en-US</dc:language>
  <cp:lastModifiedBy>Admin</cp:lastModifiedBy>
  <dcterms:modified xsi:type="dcterms:W3CDTF">2014-07-15T08:26:56Z</dcterms:modified>
  <cp:revision>7</cp:revision>
  <dc:subject/>
  <dc:title>Давній Ри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4000000000001024140</vt:lpwstr>
  </property>
</Properties>
</file>