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6A62-3A71-4A52-B02F-AA5C496F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D7F0-E1A7-4AD2-A7D1-1D3A6F67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5EAB-C465-4E07-AEB0-1F7F4BF1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52F5-0AB6-4704-9020-C9FAE4ED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254B3-2A22-4039-B66E-226B8639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BA835-3B82-4D22-9242-573E82DA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ED9FA-AC98-4F3B-AF87-5B88F561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C7D06-DFF9-4219-823A-A48D7227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FC3BF-1A00-4C3D-A56C-C69AB4D2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EB8FB-942C-4B4F-8EAE-A7365C94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333BE-3B69-4237-BABD-F293CA06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EA9B-BA7F-41C1-A14D-B3A49263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54522-D378-4FFA-A128-0B3454CB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3B7CE-152E-4EA1-B8D0-E4C3CDA8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670E1-2473-4901-815A-68007F5D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D9F58-2430-404B-A008-9AA81F64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1FF08-441E-41F9-8D27-3EC88117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250DB-DD7F-49EB-8AC8-2168BF29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873B2-28EA-4676-8D59-9EF1CA41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41DF2-B506-4299-BE35-39D6A6CD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8BFBB-36DA-40A5-8D7F-A3D8E7CA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95D1C-0911-49C1-82B9-33AE7CE5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CA2-FCAA-4FDB-90AC-4909EB79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6B944-B511-4B4C-B639-74818C5F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B5451-3565-4F29-9624-30BB8DBB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069B6-EF85-4B8E-AC11-84483218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9D742-3013-4F8F-B6B7-C15C25A8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6A1C1-9320-49F3-9A6A-E0E8ECE2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D4979-1A4F-4D47-8F00-3E8FEDD2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31F90-E0FC-4B77-B5D5-5A7ADAAE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5AD834-E41B-4078-9CF7-1E22FCC8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E7316F-D17F-4D8B-8D0C-600F637B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5EE42D-3A70-47AC-874F-CD8F955C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22F2-E51B-4BB3-8278-DAD04073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8FD346-C4E8-4CA4-A0B0-F6AD079F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DCAA1C-DE84-42F3-B880-ADE2B888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3B8293-5105-4FE7-9FBA-0257843F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2DFD9E-070D-4A34-8786-5C41C716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2D66F5-AF99-485B-A69B-D4A25F76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B87417-B970-48F2-B0F8-DF8D8BA3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994679-01B1-4EAC-B78B-DC5252B7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F28370-86C3-4D6E-A3A8-7F884BED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14B5C9-0F24-4EA1-9A20-AC320C3E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C78C-E77B-4B44-ACF4-40C7169B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5897-D5B2-4573-BA7C-78BFE7F0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3112-0A0D-4D75-9B64-6DCD419A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0ACB-97CC-4FA0-9EA3-D32BF5AE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870D-9589-4C22-BB6A-D82B9FF5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5859-139F-4558-9202-0371A4A380B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A8B5-16D1-4E7F-BAD7-841B0AC8606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4CB7-4117-472A-BBB3-958E7576481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64E8-78AF-48D3-A276-7359FAD7DFF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2"/>
          <a:stretch/>
        </p:blipFill>
        <p:spPr>
          <a:xfrm>
            <a:off x="426960" y="1279440"/>
            <a:ext cx="8723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285840" y="650880"/>
            <a:ext cx="864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Коли і де була розбита армія Помпе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785880" y="650880"/>
            <a:ext cx="77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1-а коман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Перейти Рубікон</a:t>
            </a:r>
            <a:r>
              <a:rPr b="0" lang="uk-UA" sz="40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libri"/>
              </a:rPr>
              <a:t>«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Прийшов, побачив, переміг!</a:t>
            </a:r>
            <a:r>
              <a:rPr b="0" lang="uk-UA" sz="4000" spc="-1" strike="noStrike">
                <a:solidFill>
                  <a:srgbClr val="ffffff"/>
                </a:solidFill>
                <a:latin typeface="Calibri"/>
              </a:rPr>
              <a:t>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857160" y="3508200"/>
            <a:ext cx="7643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2-а коман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Жереб кинуто!</a:t>
            </a:r>
            <a:r>
              <a:rPr b="0" lang="uk-UA" sz="40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libri"/>
              </a:rPr>
              <a:t>«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І ти, Бруте?</a:t>
            </a:r>
            <a:r>
              <a:rPr b="0" lang="uk-UA" sz="4000" spc="-1" strike="noStrike">
                <a:solidFill>
                  <a:srgbClr val="ffffff"/>
                </a:solidFill>
                <a:latin typeface="Calibri"/>
              </a:rPr>
              <a:t>»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285840" y="357120"/>
          <a:ext cx="8358120" cy="622944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31608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ді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о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то перемі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наче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3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І Пунічна вій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64 – 2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р. до н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им отримав Сицилію, Карфаген мав сплатити контрибуцію та повернути без викупу полонени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3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ІІ Пунічна вій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18 – 201 рр. до н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им здобув Іспанію, Північну Італію. Карфаген мав знищити свій флот, сплатити контрибуцію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1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ІІІ Пунічна вій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49 – 146 рр. до н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им став повним володарем Середземномор’я. Карфаген був знищений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285840" y="285840"/>
          <a:ext cx="8358120" cy="614340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438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ді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о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то перемі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наче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І Македонська вій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15 – 205 рр. до н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мста Риму союзникам Карфаген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6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ІІ Македонська вій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00 – 197 рр. до н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акедонія позбавлена влади над Грецією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ІІІ Македонська вій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71 – 168 рр. до н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акедонія втратила незалежність. Греція і Македонія перетворені на провінцію Рим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C:\Users\Tanyusha\Desktop\0.jpeg"/>
          <p:cNvPicPr/>
          <p:nvPr/>
        </p:nvPicPr>
        <p:blipFill>
          <a:blip r:embed="rId2"/>
          <a:stretch/>
        </p:blipFill>
        <p:spPr>
          <a:xfrm>
            <a:off x="395280" y="182520"/>
            <a:ext cx="8280360" cy="64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гладиолус"/>
          <p:cNvPicPr/>
          <p:nvPr/>
        </p:nvPicPr>
        <p:blipFill>
          <a:blip r:embed="rId2"/>
          <a:stretch/>
        </p:blipFill>
        <p:spPr>
          <a:xfrm>
            <a:off x="2347920" y="95400"/>
            <a:ext cx="444816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357120" y="1095840"/>
            <a:ext cx="8215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Times New Roman"/>
                <a:ea typeface="Calibri"/>
              </a:rPr>
              <a:t>Відповіді: 1б, 2б, 3в, 4г, 5в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</a:t>
            </a:r>
            <a:r>
              <a:rPr b="0" lang="uk-UA" sz="5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uk-UA" sz="5400" spc="-1" strike="noStrike">
                <a:solidFill>
                  <a:srgbClr val="ffffff"/>
                </a:solidFill>
                <a:latin typeface="Times New Roman"/>
                <a:ea typeface="Calibri"/>
              </a:rPr>
              <a:t>6б, 7б, 8г, 9г, 10г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14200" y="1285920"/>
          <a:ext cx="8715600" cy="502128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29520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итання для порівня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реці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Італі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івострів, на якому знаходять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Якими морями омиваютьс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лім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56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ельєф: гори, рівнини, ріки тощ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стро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Rectangle 1"/>
          <p:cNvSpPr/>
          <p:nvPr/>
        </p:nvSpPr>
        <p:spPr>
          <a:xfrm>
            <a:off x="0" y="7149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вдання: заповніть таблицю та порівняйте природні умови Греції та Італії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:\відкритий урок\карти0001.jpg"/>
          <p:cNvPicPr/>
          <p:nvPr/>
        </p:nvPicPr>
        <p:blipFill>
          <a:blip r:embed="rId2"/>
          <a:stretch/>
        </p:blipFill>
        <p:spPr>
          <a:xfrm>
            <a:off x="0" y="0"/>
            <a:ext cx="4703760" cy="4700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H:\відкритий урок\карти0002.jpg"/>
          <p:cNvPicPr/>
          <p:nvPr/>
        </p:nvPicPr>
        <p:blipFill>
          <a:blip r:embed="rId3"/>
          <a:stretch/>
        </p:blipFill>
        <p:spPr>
          <a:xfrm>
            <a:off x="4255920" y="1949400"/>
            <a:ext cx="48880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214200" y="1285920"/>
          <a:ext cx="8715600" cy="545616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24588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итання для порівня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реці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Італі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івострів, на якому знаходять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алканський півострів, південь Європ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пеннінський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івдень Європ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Якими морями омиваютьс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Егейське, Іонічне, Критськ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дріатичне, Тірренське, Іонічне, Середзем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лім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еплий; влітку – спе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еплий, м’який; багато дощі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24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ельєф: гори, рівнини, ріки тощ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івнічна – гірська країна. Середня – рівнина, з широкими долинами. Південна – кам’яниста. Неширокі річки. З півночі захищена горами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івнинна країна, вкрита густими лісами, широкими лукам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 півночі захищена горами Альпами, а зі сходу – довгим хребтом Аппенінських гір. Річки: Тибр, Рубікон, По тощо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0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стро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елика кількість островів. Найбільший – Кри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стровів мало. Сицилія, Сардинія і Корсик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1"/>
          <p:cNvSpPr/>
          <p:nvPr/>
        </p:nvSpPr>
        <p:spPr>
          <a:xfrm>
            <a:off x="0" y="3960"/>
            <a:ext cx="8929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efac9"/>
                </a:solidFill>
                <a:latin typeface="Times New Roman"/>
                <a:ea typeface="Calibri"/>
              </a:rPr>
              <a:t>Завдання: заповніть таблицю та порівняйте природні умови Греції та Італії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428760" y="293760"/>
            <a:ext cx="80010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Відповіді:1Б; 2Г; 3Д; 4А; 5Е; 6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57120" y="64476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1-а коман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282960" y="3359160"/>
            <a:ext cx="25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2-а коман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49480" y="4002120"/>
            <a:ext cx="67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Відповіді: 1Г; 2Д; 3В; 4Е; 5Б; 6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285840" y="665640"/>
            <a:ext cx="8643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 які періоди за формою державного управління поділяють історію Давнього Рим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Що означав термін </a:t>
            </a:r>
            <a:r>
              <a:rPr b="0" i="1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республіка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оли в Римі розпочався період Республі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Гай Юлій Цезар, Марк Ліциній Красс, Гней Помпей </a:t>
            </a: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в історії яку назву дістав цей союз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оли і де була розбита армія Помпе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285840" y="663120"/>
            <a:ext cx="8643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Що означав термін </a:t>
            </a:r>
            <a:r>
              <a:rPr b="0" i="1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республіка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оли в Римі розпочався період Республі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Гай Юлій Цезар, Марк Ліциній Красс, Гней Помпей </a:t>
            </a: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в історії яку назву дістав цей союз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оли і де була розбита армія Помпе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285840" y="661320"/>
            <a:ext cx="8643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Коли в Римі розпочався період Республі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Гай Юлій Цезар, Марк Ліциній Красс, Гней Помпей </a:t>
            </a: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в історії яку назву дістав цей союз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оли і де була розбита армія Помпе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285840" y="657000"/>
            <a:ext cx="8643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Гай Юлій Цезар, Марк Ліциній Красс, Гней Помпей </a:t>
            </a:r>
            <a:r>
              <a:rPr b="0" lang="uk-UA" sz="2800" spc="-1" strike="noStrike">
                <a:solidFill>
                  <a:srgbClr val="ffffff"/>
                </a:solidFill>
                <a:latin typeface="Calibri"/>
                <a:ea typeface="Calibri"/>
              </a:rPr>
              <a:t>–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в історії яку назву дістав цей союз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оли і де була розбита армія Помпе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9:25:20Z</dcterms:created>
  <dc:creator>Валентин</dc:creator>
  <dc:description/>
  <dc:language>en-US</dc:language>
  <cp:lastModifiedBy>Admin</cp:lastModifiedBy>
  <dcterms:modified xsi:type="dcterms:W3CDTF">2014-07-15T08:26:56Z</dcterms:modified>
  <cp:revision>7</cp:revision>
  <dc:subject/>
  <dc:title>Давній Ри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14000000000001024140</vt:lpwstr>
  </property>
</Properties>
</file>