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9A76-E5E3-40BD-983C-E95B253FB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ED2D-A45E-4638-9BC6-EEFED6F3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3E2A-B4A9-4131-9299-03B2761FE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2451-5621-4542-BDA5-3BDB49638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226F39-7DB7-4990-BF33-A06F6CFE8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DF290-C8D1-43BB-8D05-2C1D9B9C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74A1F-D413-4268-925C-769E1673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A16BC-1343-472A-BAEA-97B3CD8C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3DBA9-5AE8-469E-9509-2C5FCF54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FC9C2-D8C9-441F-AEAB-871D96D1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F6221-4524-4601-9C57-BC1BD32E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83A8-582E-4EDD-9E49-06F4D009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61962-BF3D-41CA-8AA3-7B60ECD4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7E1C9-04F5-4C43-88A0-B1458D2E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AF969-394A-4190-99ED-0D7D743E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C8EBB-D8CF-4E18-8A3F-89ABC3A3E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205DC-1C1A-4489-8330-149564064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5B730-5848-4505-AB45-B7A8B1E8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44B10-B174-4777-91E8-622EC654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D9280-1016-4878-AF1C-BE9D424A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2013E-D7E9-42A9-AFD8-2FAE3080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6491A-A615-42AA-A495-7B796DBB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9E80-94FD-4F89-AA9B-92A93A00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8C686-4906-41D3-9794-09A90E68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69FFC-F57C-4DEB-9BE9-8F6B5D5E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DEFCB-F7D2-4C72-BA48-893D0FAB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D701F-E775-4851-ADDA-98ACD994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6BF2B-CCE8-40E2-B71B-624E5CDC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9E0E0-F574-4792-84B7-49DF999F3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F0CF3-3542-4CD0-AB04-C1A737E99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B2FBAC-34FD-43A1-89EB-AD637377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B3E86E-730C-4936-9919-205E11BF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3C999F-14AA-498E-85C3-09DEB9AE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E4A2-381E-4624-AB53-CCC1178A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437359-9CB9-44C0-B4C6-A76DF4B7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067122-ED3F-4B03-8524-ADC13648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829524-B81A-456B-84BD-5106E4A4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87F4F8-0BB6-4FC4-B698-8128EBD0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ACFC2B-17F4-4F84-B030-688362D2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C0A0F9-F61B-4D7B-9B9C-858C92E8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CC6D58-AF3D-43C9-8E92-33A21580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5DD91E-DD49-47AF-98B5-E7C9EA1E2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D95730-25B2-4746-A9BA-A6C1EADF2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0474-5C9D-469E-B44A-8C5E093F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A87C-1493-4E01-9A22-E91BAC1D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90E4-090B-4E45-9DA5-C7785739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98F0-4327-4D96-88FF-B3E44DF0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2D1E-7032-44AD-9E97-C93B2F68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4507-F42D-420C-88B9-DACFA0EAEE51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590A-D1E5-4373-949A-6F0331C88AED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4662-31CA-4E92-A9DD-8F1D3DAD6B8D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BFC2-5661-4589-BDFB-035813504C6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Заголовок 1" descr=""/>
          <p:cNvPicPr/>
          <p:nvPr/>
        </p:nvPicPr>
        <p:blipFill>
          <a:blip r:embed="rId2"/>
          <a:stretch/>
        </p:blipFill>
        <p:spPr>
          <a:xfrm>
            <a:off x="426960" y="1279440"/>
            <a:ext cx="8723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285840" y="650880"/>
            <a:ext cx="864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Коли і де була розбита армія Помпе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"/>
          <p:cNvSpPr/>
          <p:nvPr/>
        </p:nvSpPr>
        <p:spPr>
          <a:xfrm>
            <a:off x="785880" y="650880"/>
            <a:ext cx="77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1-а коман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Calibri"/>
                <a:ea typeface="Calibri"/>
              </a:rPr>
              <a:t>«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Перейти Рубікон</a:t>
            </a:r>
            <a:r>
              <a:rPr b="0" lang="uk-UA" sz="4000" spc="-1" strike="noStrike">
                <a:solidFill>
                  <a:srgbClr val="ffffff"/>
                </a:solidFill>
                <a:latin typeface="Calibri"/>
                <a:ea typeface="Calibri"/>
              </a:rPr>
              <a:t>»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Calibri"/>
              </a:rPr>
              <a:t>«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Прийшов, побачив, переміг!</a:t>
            </a:r>
            <a:r>
              <a:rPr b="0" lang="uk-UA" sz="4000" spc="-1" strike="noStrike">
                <a:solidFill>
                  <a:srgbClr val="ffffff"/>
                </a:solidFill>
                <a:latin typeface="Calibri"/>
              </a:rPr>
              <a:t>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857160" y="3508200"/>
            <a:ext cx="7643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2-а коман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Calibri"/>
                <a:ea typeface="Calibri"/>
              </a:rPr>
              <a:t>«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Жереб кинуто!</a:t>
            </a:r>
            <a:r>
              <a:rPr b="0" lang="uk-UA" sz="4000" spc="-1" strike="noStrike">
                <a:solidFill>
                  <a:srgbClr val="ffffff"/>
                </a:solidFill>
                <a:latin typeface="Calibri"/>
                <a:ea typeface="Calibri"/>
              </a:rPr>
              <a:t>»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Calibri"/>
              </a:rPr>
              <a:t>«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І ти, Бруте?</a:t>
            </a:r>
            <a:r>
              <a:rPr b="0" lang="uk-UA" sz="4000" spc="-1" strike="noStrike">
                <a:solidFill>
                  <a:srgbClr val="ffffff"/>
                </a:solidFill>
                <a:latin typeface="Calibri"/>
              </a:rPr>
              <a:t>»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285840" y="357120"/>
          <a:ext cx="8358120" cy="6229440"/>
        </p:xfrm>
        <a:graphic>
          <a:graphicData uri="http://schemas.openxmlformats.org/drawingml/2006/table">
            <a:tbl>
              <a:tblPr/>
              <a:tblGrid>
                <a:gridCol w="2089080"/>
                <a:gridCol w="2090880"/>
                <a:gridCol w="2089080"/>
                <a:gridCol w="2089080"/>
              </a:tblGrid>
              <a:tr h="31608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оді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о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Хто перемі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Значен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3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І Пунічна вій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64 – 2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р. до н.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и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им отримав Сицилію, Карфаген мав сплатити контрибуцію та повернути без викупу полонени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39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ІІ Пунічна вій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18 – 201 рр. до н.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и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им здобув Іспанію, Північну Італію. Карфаген мав знищити свій флот, сплатити контрибуцію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716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ІІІ Пунічна вій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49 – 146 рр. до н.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и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им став повним володарем Середземномор’я. Карфаген був знищений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285840" y="285840"/>
          <a:ext cx="8358120" cy="6143400"/>
        </p:xfrm>
        <a:graphic>
          <a:graphicData uri="http://schemas.openxmlformats.org/drawingml/2006/table">
            <a:tbl>
              <a:tblPr/>
              <a:tblGrid>
                <a:gridCol w="2089080"/>
                <a:gridCol w="2090880"/>
                <a:gridCol w="2089080"/>
                <a:gridCol w="2089080"/>
              </a:tblGrid>
              <a:tr h="438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оді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о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Хто перемі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Значен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І Македонська вій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15 – 205 рр. до н.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и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омста Риму союзникам Карфагену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6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ІІ Македонська вій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00 – 197 рр. до н.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и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Македонія позбавлена влади над Грецією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ІІІ Македонська вій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71 – 168 рр. до н.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и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Македонія втратила незалежність. Греція і Македонія перетворені на провінцію Риму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C:\Users\Tanyusha\Desktop\0.jpeg"/>
          <p:cNvPicPr/>
          <p:nvPr/>
        </p:nvPicPr>
        <p:blipFill>
          <a:blip r:embed="rId2"/>
          <a:stretch/>
        </p:blipFill>
        <p:spPr>
          <a:xfrm>
            <a:off x="395280" y="182520"/>
            <a:ext cx="8280360" cy="643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гладиолус"/>
          <p:cNvPicPr/>
          <p:nvPr/>
        </p:nvPicPr>
        <p:blipFill>
          <a:blip r:embed="rId2"/>
          <a:stretch/>
        </p:blipFill>
        <p:spPr>
          <a:xfrm>
            <a:off x="2347920" y="95400"/>
            <a:ext cx="444816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357120" y="1095840"/>
            <a:ext cx="8215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Times New Roman"/>
                <a:ea typeface="Calibri"/>
              </a:rPr>
              <a:t>Відповіді: 1б, 2б, 3в, 4г, 5в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    </a:t>
            </a:r>
            <a:r>
              <a:rPr b="0" lang="uk-UA" sz="54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uk-UA" sz="5400" spc="-1" strike="noStrike">
                <a:solidFill>
                  <a:srgbClr val="ffffff"/>
                </a:solidFill>
                <a:latin typeface="Times New Roman"/>
                <a:ea typeface="Calibri"/>
              </a:rPr>
              <a:t>6б, 7б, 8г, 9г, 10г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214200" y="1285920"/>
          <a:ext cx="8715600" cy="5021280"/>
        </p:xfrm>
        <a:graphic>
          <a:graphicData uri="http://schemas.openxmlformats.org/drawingml/2006/table">
            <a:tbl>
              <a:tblPr/>
              <a:tblGrid>
                <a:gridCol w="2905200"/>
                <a:gridCol w="2905200"/>
                <a:gridCol w="2905200"/>
              </a:tblGrid>
              <a:tr h="295200"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итання для порівнян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реці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Італі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івострів, на якому знаходять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Якими морями омиваютьс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ліма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568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ельєф: гори, рівнини, ріки тощ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стров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Rectangle 1"/>
          <p:cNvSpPr/>
          <p:nvPr/>
        </p:nvSpPr>
        <p:spPr>
          <a:xfrm>
            <a:off x="0" y="7149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вдання: заповніть таблицю та порівняйте природні умови Греції та Італії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:\відкритий урок\карти0001.jpg"/>
          <p:cNvPicPr/>
          <p:nvPr/>
        </p:nvPicPr>
        <p:blipFill>
          <a:blip r:embed="rId2"/>
          <a:stretch/>
        </p:blipFill>
        <p:spPr>
          <a:xfrm>
            <a:off x="0" y="0"/>
            <a:ext cx="4703760" cy="4700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H:\відкритий урок\карти0002.jpg"/>
          <p:cNvPicPr/>
          <p:nvPr/>
        </p:nvPicPr>
        <p:blipFill>
          <a:blip r:embed="rId3"/>
          <a:stretch/>
        </p:blipFill>
        <p:spPr>
          <a:xfrm>
            <a:off x="4255920" y="1949400"/>
            <a:ext cx="488808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214200" y="1285920"/>
          <a:ext cx="8715600" cy="5456160"/>
        </p:xfrm>
        <a:graphic>
          <a:graphicData uri="http://schemas.openxmlformats.org/drawingml/2006/table">
            <a:tbl>
              <a:tblPr/>
              <a:tblGrid>
                <a:gridCol w="2905200"/>
                <a:gridCol w="2905200"/>
                <a:gridCol w="2905200"/>
              </a:tblGrid>
              <a:tr h="245880"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итання для порівнян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реці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Італі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івострів, на якому знаходять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Балканський півострів, південь Європ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Апеннінський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івдень Європ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Якими морями омиваютьс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Егейське, Іонічне, Критськ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Адріатичне, Тірренське, Іонічне, Середземн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ліма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Теплий; влітку – спе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Теплий, м’який; багато дощів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24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ельєф: гори, рівнини, ріки тощ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івнічна – гірська країна. Середня – рівнина, з широкими долинами. Південна – кам’яниста. Неширокі річки. З півночі захищена горами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івнинна країна, вкрита густими лісами, широкими лукам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З півночі захищена горами Альпами, а зі сходу – довгим хребтом Аппенінських гір. Річки: Тибр, Рубікон, По тощо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08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стров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елика кількість островів. Найбільший – Крит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стровів мало. Сицилія, Сардинія і Корсик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Rectangle 1"/>
          <p:cNvSpPr/>
          <p:nvPr/>
        </p:nvSpPr>
        <p:spPr>
          <a:xfrm>
            <a:off x="0" y="3960"/>
            <a:ext cx="8929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efac9"/>
                </a:solidFill>
                <a:latin typeface="Times New Roman"/>
                <a:ea typeface="Calibri"/>
              </a:rPr>
              <a:t>Завдання: заповніть таблицю та порівняйте природні умови Греції та Італії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"/>
          <p:cNvSpPr/>
          <p:nvPr/>
        </p:nvSpPr>
        <p:spPr>
          <a:xfrm>
            <a:off x="428760" y="293760"/>
            <a:ext cx="80010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Відповіді:1Б; 2Г; 3Д; 4А; 5Е; 6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357120" y="64476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1-а коман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282960" y="3359160"/>
            <a:ext cx="25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2-а коман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249480" y="4002120"/>
            <a:ext cx="67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Відповіді: 1Г; 2Д; 3В; 4Е; 5Б; 6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285840" y="665640"/>
            <a:ext cx="86439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 які періоди за формою державного управління поділяють історію Давнього Риму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Що означав термін </a:t>
            </a:r>
            <a:r>
              <a:rPr b="0" i="1" lang="uk-UA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республіка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Коли в Римі розпочався період Республік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Гай Юлій Цезар, Марк Ліциній Красс, Гней Помпей </a:t>
            </a: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в історії яку назву дістав цей союз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Коли і де була розбита армія Помпе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285840" y="663120"/>
            <a:ext cx="8643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Що означав термін </a:t>
            </a:r>
            <a:r>
              <a:rPr b="0" i="1" lang="uk-UA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республіка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Коли в Римі розпочався період Республік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Гай Юлій Цезар, Марк Ліциній Красс, Гней Помпей </a:t>
            </a: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в історії яку назву дістав цей союз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Коли і де була розбита армія Помпе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285840" y="661320"/>
            <a:ext cx="8643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Коли в Римі розпочався період Республік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Гай Юлій Цезар, Марк Ліциній Красс, Гней Помпей </a:t>
            </a: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в історії яку назву дістав цей союз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Коли і де була розбита армія Помпе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285840" y="657000"/>
            <a:ext cx="8643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Гай Юлій Цезар, Марк Ліциній Красс, Гней Помпей </a:t>
            </a:r>
            <a:r>
              <a:rPr b="0" lang="uk-UA" sz="2800" spc="-1" strike="noStrike">
                <a:solidFill>
                  <a:srgbClr val="ffffff"/>
                </a:solidFill>
                <a:latin typeface="Calibri"/>
                <a:ea typeface="Calibri"/>
              </a:rPr>
              <a:t>–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в історії яку назву дістав цей союз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Коли і де була розбита армія Помпе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9:25:20Z</dcterms:created>
  <dc:creator>Валентин</dc:creator>
  <dc:description/>
  <dc:language>en-US</dc:language>
  <cp:lastModifiedBy>Admin</cp:lastModifiedBy>
  <dcterms:modified xsi:type="dcterms:W3CDTF">2014-07-15T08:26:56Z</dcterms:modified>
  <cp:revision>7</cp:revision>
  <dc:subject/>
  <dc:title>Давній Ри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c14000000000001024140</vt:lpwstr>
  </property>
</Properties>
</file>