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8.jpeg" ContentType="image/jpeg"/>
  <Override PartName="/ppt/media/image5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  <p:custShowLst>
    <p:custShow name="Произвольный показ 1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CBF-61D4-4749-8472-252E1092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2A5-5E3F-4514-B6C3-BBFF8758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4D4-4134-4035-BC11-06E39294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31E-6390-4D5B-9B0A-0EE7C0D9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5C71-8EEF-4EDD-B4BE-115C5205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0ADA-12EE-4E99-84BF-75238559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8285-AF4D-4CD1-8EC1-AC59819B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087B-D3AE-4EDB-9D60-9156305A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6E06-674C-49A0-825A-8B9BA91E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30EF-8BB5-4E3D-95E1-4781AD42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C83B-E98A-4C0E-9D55-E18EC1CE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ACF-5CDF-4836-82EA-54CF1394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CFF6-74D4-4758-85E0-98435EB1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B3DC-E7FF-4BA1-9806-1CAD4B5B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18CC-BAFE-4C25-B45E-2261026F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378A-7CB6-4366-A4AC-8025D4C9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0AA4-874D-4762-A7CD-B56A8B8E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84A-270A-4D12-BDFA-B37AFACC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FDF-56E8-41CB-8EF5-7CD78E59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BBD-7952-406C-A615-E58B546D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1CC-4F2B-4EA5-95FD-73F1F988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37B-B19A-48C0-AF2B-7F51535C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F16-1F10-4A9F-AC97-7CB0FBB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6ED-207C-4D87-A782-D1794BAF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1160"/>
            <a:ext cx="9142200" cy="6845400"/>
            <a:chOff x="0" y="11160"/>
            <a:chExt cx="9142200" cy="6845400"/>
          </a:xfrm>
        </p:grpSpPr>
        <p:sp>
          <p:nvSpPr>
            <p:cNvPr id="1" name="AutoShape 3"/>
            <p:cNvSpPr/>
            <p:nvPr/>
          </p:nvSpPr>
          <p:spPr>
            <a:xfrm>
              <a:off x="0" y="1116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413720" y="105804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66440" y="72252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1116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9676d"/>
              </a:buClr>
              <a:buSzPct val="6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3B4C-3356-41F8-AAE0-422690DC02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2200" cy="6845400"/>
            <a:chOff x="0" y="0"/>
            <a:chExt cx="9142200" cy="6845400"/>
          </a:xfrm>
        </p:grpSpPr>
        <p:sp>
          <p:nvSpPr>
            <p:cNvPr id="47" name="AutoShape 3"/>
            <p:cNvSpPr/>
            <p:nvPr/>
          </p:nvSpPr>
          <p:spPr>
            <a:xfrm>
              <a:off x="0" y="0"/>
              <a:ext cx="914220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413720" y="1046880"/>
              <a:ext cx="7728480" cy="5698440"/>
            </a:xfrm>
            <a:custGeom>
              <a:avLst/>
              <a:gdLst/>
              <a:ahLst/>
              <a:rect l="l" t="t" r="r" b="b"/>
              <a:pathLst>
                <a:path w="1934" h="1602">
                  <a:moveTo>
                    <a:pt x="1611" y="1507"/>
                  </a:moveTo>
                  <a:lnTo>
                    <a:pt x="1611" y="1506"/>
                  </a:lnTo>
                  <a:lnTo>
                    <a:pt x="1638" y="1503"/>
                  </a:lnTo>
                  <a:lnTo>
                    <a:pt x="1663" y="1498"/>
                  </a:lnTo>
                  <a:lnTo>
                    <a:pt x="1689" y="1491"/>
                  </a:lnTo>
                  <a:lnTo>
                    <a:pt x="1712" y="1481"/>
                  </a:lnTo>
                  <a:lnTo>
                    <a:pt x="1735" y="1469"/>
                  </a:lnTo>
                  <a:lnTo>
                    <a:pt x="1755" y="1456"/>
                  </a:lnTo>
                  <a:lnTo>
                    <a:pt x="1775" y="1440"/>
                  </a:lnTo>
                  <a:lnTo>
                    <a:pt x="1793" y="1423"/>
                  </a:lnTo>
                  <a:lnTo>
                    <a:pt x="1810" y="1404"/>
                  </a:lnTo>
                  <a:lnTo>
                    <a:pt x="1825" y="1384"/>
                  </a:lnTo>
                  <a:lnTo>
                    <a:pt x="1837" y="1362"/>
                  </a:lnTo>
                  <a:lnTo>
                    <a:pt x="1849" y="1339"/>
                  </a:lnTo>
                  <a:lnTo>
                    <a:pt x="1857" y="1315"/>
                  </a:lnTo>
                  <a:lnTo>
                    <a:pt x="1864" y="1289"/>
                  </a:lnTo>
                  <a:lnTo>
                    <a:pt x="1867" y="1263"/>
                  </a:lnTo>
                  <a:lnTo>
                    <a:pt x="1868" y="1236"/>
                  </a:lnTo>
                  <a:lnTo>
                    <a:pt x="1868" y="1229"/>
                  </a:lnTo>
                  <a:lnTo>
                    <a:pt x="1868" y="1222"/>
                  </a:lnTo>
                  <a:lnTo>
                    <a:pt x="1868" y="1215"/>
                  </a:lnTo>
                  <a:lnTo>
                    <a:pt x="1867" y="1209"/>
                  </a:lnTo>
                  <a:lnTo>
                    <a:pt x="1869" y="1209"/>
                  </a:lnTo>
                  <a:lnTo>
                    <a:pt x="1934" y="175"/>
                  </a:lnTo>
                  <a:lnTo>
                    <a:pt x="1932" y="175"/>
                  </a:lnTo>
                  <a:lnTo>
                    <a:pt x="1932" y="162"/>
                  </a:lnTo>
                  <a:lnTo>
                    <a:pt x="1931" y="149"/>
                  </a:lnTo>
                  <a:lnTo>
                    <a:pt x="1929" y="138"/>
                  </a:lnTo>
                  <a:lnTo>
                    <a:pt x="1927" y="125"/>
                  </a:lnTo>
                  <a:lnTo>
                    <a:pt x="1914" y="118"/>
                  </a:lnTo>
                  <a:lnTo>
                    <a:pt x="1902" y="111"/>
                  </a:lnTo>
                  <a:lnTo>
                    <a:pt x="1889" y="104"/>
                  </a:lnTo>
                  <a:lnTo>
                    <a:pt x="1875" y="100"/>
                  </a:lnTo>
                  <a:lnTo>
                    <a:pt x="1860" y="95"/>
                  </a:lnTo>
                  <a:lnTo>
                    <a:pt x="1846" y="92"/>
                  </a:lnTo>
                  <a:lnTo>
                    <a:pt x="1831" y="89"/>
                  </a:lnTo>
                  <a:lnTo>
                    <a:pt x="1816" y="87"/>
                  </a:lnTo>
                  <a:lnTo>
                    <a:pt x="1815" y="87"/>
                  </a:lnTo>
                  <a:lnTo>
                    <a:pt x="1813" y="86"/>
                  </a:lnTo>
                  <a:lnTo>
                    <a:pt x="1810" y="86"/>
                  </a:lnTo>
                  <a:lnTo>
                    <a:pt x="1806" y="86"/>
                  </a:lnTo>
                  <a:lnTo>
                    <a:pt x="251" y="0"/>
                  </a:lnTo>
                  <a:lnTo>
                    <a:pt x="225" y="0"/>
                  </a:lnTo>
                  <a:lnTo>
                    <a:pt x="201" y="1"/>
                  </a:lnTo>
                  <a:lnTo>
                    <a:pt x="178" y="5"/>
                  </a:lnTo>
                  <a:lnTo>
                    <a:pt x="155" y="12"/>
                  </a:lnTo>
                  <a:lnTo>
                    <a:pt x="132" y="21"/>
                  </a:lnTo>
                  <a:lnTo>
                    <a:pt x="111" y="33"/>
                  </a:lnTo>
                  <a:lnTo>
                    <a:pt x="92" y="47"/>
                  </a:lnTo>
                  <a:lnTo>
                    <a:pt x="73" y="63"/>
                  </a:lnTo>
                  <a:lnTo>
                    <a:pt x="56" y="80"/>
                  </a:lnTo>
                  <a:lnTo>
                    <a:pt x="41" y="100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0" y="164"/>
                  </a:lnTo>
                  <a:lnTo>
                    <a:pt x="4" y="187"/>
                  </a:lnTo>
                  <a:lnTo>
                    <a:pt x="1" y="211"/>
                  </a:lnTo>
                  <a:lnTo>
                    <a:pt x="0" y="236"/>
                  </a:lnTo>
                  <a:lnTo>
                    <a:pt x="62" y="1354"/>
                  </a:lnTo>
                  <a:lnTo>
                    <a:pt x="67" y="1354"/>
                  </a:lnTo>
                  <a:lnTo>
                    <a:pt x="64" y="1372"/>
                  </a:lnTo>
                  <a:lnTo>
                    <a:pt x="63" y="1378"/>
                  </a:lnTo>
                  <a:lnTo>
                    <a:pt x="63" y="1385"/>
                  </a:lnTo>
                  <a:lnTo>
                    <a:pt x="63" y="1392"/>
                  </a:lnTo>
                  <a:lnTo>
                    <a:pt x="63" y="1397"/>
                  </a:lnTo>
                  <a:lnTo>
                    <a:pt x="65" y="1427"/>
                  </a:lnTo>
                  <a:lnTo>
                    <a:pt x="70" y="1456"/>
                  </a:lnTo>
                  <a:lnTo>
                    <a:pt x="78" y="1484"/>
                  </a:lnTo>
                  <a:lnTo>
                    <a:pt x="90" y="1511"/>
                  </a:lnTo>
                  <a:lnTo>
                    <a:pt x="103" y="1537"/>
                  </a:lnTo>
                  <a:lnTo>
                    <a:pt x="119" y="1560"/>
                  </a:lnTo>
                  <a:lnTo>
                    <a:pt x="138" y="1582"/>
                  </a:lnTo>
                  <a:lnTo>
                    <a:pt x="159" y="1601"/>
                  </a:lnTo>
                  <a:lnTo>
                    <a:pt x="162" y="1601"/>
                  </a:lnTo>
                  <a:lnTo>
                    <a:pt x="166" y="1601"/>
                  </a:lnTo>
                  <a:lnTo>
                    <a:pt x="169" y="1602"/>
                  </a:lnTo>
                  <a:lnTo>
                    <a:pt x="172" y="1602"/>
                  </a:lnTo>
                  <a:lnTo>
                    <a:pt x="1611" y="1507"/>
                  </a:lnTo>
                  <a:close/>
                </a:path>
              </a:pathLst>
            </a:custGeom>
            <a:solidFill>
              <a:srgbClr val="ff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766440" y="711360"/>
              <a:ext cx="8295840" cy="5998320"/>
            </a:xfrm>
            <a:custGeom>
              <a:avLst/>
              <a:gdLst/>
              <a:ahLst/>
              <a:rect l="l" t="t" r="r" b="b"/>
              <a:pathLst>
                <a:path w="2076" h="1687">
                  <a:moveTo>
                    <a:pt x="190" y="1492"/>
                  </a:moveTo>
                  <a:lnTo>
                    <a:pt x="190" y="1489"/>
                  </a:lnTo>
                  <a:lnTo>
                    <a:pt x="190" y="1486"/>
                  </a:lnTo>
                  <a:lnTo>
                    <a:pt x="190" y="1482"/>
                  </a:lnTo>
                  <a:lnTo>
                    <a:pt x="190" y="1479"/>
                  </a:lnTo>
                  <a:lnTo>
                    <a:pt x="190" y="1466"/>
                  </a:lnTo>
                  <a:lnTo>
                    <a:pt x="188" y="1418"/>
                  </a:lnTo>
                  <a:lnTo>
                    <a:pt x="180" y="1289"/>
                  </a:lnTo>
                  <a:lnTo>
                    <a:pt x="171" y="1108"/>
                  </a:lnTo>
                  <a:lnTo>
                    <a:pt x="158" y="899"/>
                  </a:lnTo>
                  <a:lnTo>
                    <a:pt x="147" y="691"/>
                  </a:lnTo>
                  <a:lnTo>
                    <a:pt x="136" y="509"/>
                  </a:lnTo>
                  <a:lnTo>
                    <a:pt x="129" y="381"/>
                  </a:lnTo>
                  <a:lnTo>
                    <a:pt x="126" y="332"/>
                  </a:lnTo>
                  <a:lnTo>
                    <a:pt x="127" y="303"/>
                  </a:lnTo>
                  <a:lnTo>
                    <a:pt x="132" y="275"/>
                  </a:lnTo>
                  <a:lnTo>
                    <a:pt x="139" y="249"/>
                  </a:lnTo>
                  <a:lnTo>
                    <a:pt x="148" y="222"/>
                  </a:lnTo>
                  <a:lnTo>
                    <a:pt x="161" y="198"/>
                  </a:lnTo>
                  <a:lnTo>
                    <a:pt x="176" y="175"/>
                  </a:lnTo>
                  <a:lnTo>
                    <a:pt x="192" y="153"/>
                  </a:lnTo>
                  <a:lnTo>
                    <a:pt x="211" y="133"/>
                  </a:lnTo>
                  <a:lnTo>
                    <a:pt x="222" y="123"/>
                  </a:lnTo>
                  <a:lnTo>
                    <a:pt x="232" y="114"/>
                  </a:lnTo>
                  <a:lnTo>
                    <a:pt x="243" y="106"/>
                  </a:lnTo>
                  <a:lnTo>
                    <a:pt x="255" y="99"/>
                  </a:lnTo>
                  <a:lnTo>
                    <a:pt x="267" y="92"/>
                  </a:lnTo>
                  <a:lnTo>
                    <a:pt x="279" y="85"/>
                  </a:lnTo>
                  <a:lnTo>
                    <a:pt x="292" y="80"/>
                  </a:lnTo>
                  <a:lnTo>
                    <a:pt x="305" y="75"/>
                  </a:lnTo>
                  <a:lnTo>
                    <a:pt x="317" y="70"/>
                  </a:lnTo>
                  <a:lnTo>
                    <a:pt x="331" y="67"/>
                  </a:lnTo>
                  <a:lnTo>
                    <a:pt x="345" y="64"/>
                  </a:lnTo>
                  <a:lnTo>
                    <a:pt x="359" y="61"/>
                  </a:lnTo>
                  <a:lnTo>
                    <a:pt x="373" y="60"/>
                  </a:lnTo>
                  <a:lnTo>
                    <a:pt x="386" y="59"/>
                  </a:lnTo>
                  <a:lnTo>
                    <a:pt x="400" y="59"/>
                  </a:lnTo>
                  <a:lnTo>
                    <a:pt x="415" y="59"/>
                  </a:lnTo>
                  <a:lnTo>
                    <a:pt x="1981" y="146"/>
                  </a:lnTo>
                  <a:lnTo>
                    <a:pt x="1983" y="146"/>
                  </a:lnTo>
                  <a:lnTo>
                    <a:pt x="1989" y="146"/>
                  </a:lnTo>
                  <a:lnTo>
                    <a:pt x="1995" y="148"/>
                  </a:lnTo>
                  <a:lnTo>
                    <a:pt x="1997" y="148"/>
                  </a:lnTo>
                  <a:lnTo>
                    <a:pt x="1997" y="150"/>
                  </a:lnTo>
                  <a:lnTo>
                    <a:pt x="2007" y="151"/>
                  </a:lnTo>
                  <a:lnTo>
                    <a:pt x="2018" y="153"/>
                  </a:lnTo>
                  <a:lnTo>
                    <a:pt x="2028" y="156"/>
                  </a:lnTo>
                  <a:lnTo>
                    <a:pt x="2037" y="159"/>
                  </a:lnTo>
                  <a:lnTo>
                    <a:pt x="2048" y="163"/>
                  </a:lnTo>
                  <a:lnTo>
                    <a:pt x="2057" y="165"/>
                  </a:lnTo>
                  <a:lnTo>
                    <a:pt x="2067" y="169"/>
                  </a:lnTo>
                  <a:lnTo>
                    <a:pt x="2076" y="173"/>
                  </a:lnTo>
                  <a:lnTo>
                    <a:pt x="2068" y="156"/>
                  </a:lnTo>
                  <a:lnTo>
                    <a:pt x="2059" y="138"/>
                  </a:lnTo>
                  <a:lnTo>
                    <a:pt x="2050" y="121"/>
                  </a:lnTo>
                  <a:lnTo>
                    <a:pt x="2038" y="106"/>
                  </a:lnTo>
                  <a:lnTo>
                    <a:pt x="2026" y="91"/>
                  </a:lnTo>
                  <a:lnTo>
                    <a:pt x="2013" y="77"/>
                  </a:lnTo>
                  <a:lnTo>
                    <a:pt x="1998" y="65"/>
                  </a:lnTo>
                  <a:lnTo>
                    <a:pt x="1983" y="52"/>
                  </a:lnTo>
                  <a:lnTo>
                    <a:pt x="1967" y="42"/>
                  </a:lnTo>
                  <a:lnTo>
                    <a:pt x="1951" y="32"/>
                  </a:lnTo>
                  <a:lnTo>
                    <a:pt x="1934" y="23"/>
                  </a:lnTo>
                  <a:lnTo>
                    <a:pt x="1915" y="16"/>
                  </a:lnTo>
                  <a:lnTo>
                    <a:pt x="1897" y="11"/>
                  </a:lnTo>
                  <a:lnTo>
                    <a:pt x="1877" y="5"/>
                  </a:lnTo>
                  <a:lnTo>
                    <a:pt x="1858" y="2"/>
                  </a:lnTo>
                  <a:lnTo>
                    <a:pt x="1837" y="0"/>
                  </a:lnTo>
                  <a:lnTo>
                    <a:pt x="1837" y="0"/>
                  </a:lnTo>
                  <a:lnTo>
                    <a:pt x="271" y="0"/>
                  </a:lnTo>
                  <a:lnTo>
                    <a:pt x="243" y="1"/>
                  </a:lnTo>
                  <a:lnTo>
                    <a:pt x="217" y="6"/>
                  </a:lnTo>
                  <a:lnTo>
                    <a:pt x="190" y="13"/>
                  </a:lnTo>
                  <a:lnTo>
                    <a:pt x="165" y="21"/>
                  </a:lnTo>
                  <a:lnTo>
                    <a:pt x="142" y="32"/>
                  </a:lnTo>
                  <a:lnTo>
                    <a:pt x="120" y="46"/>
                  </a:lnTo>
                  <a:lnTo>
                    <a:pt x="98" y="62"/>
                  </a:lnTo>
                  <a:lnTo>
                    <a:pt x="80" y="80"/>
                  </a:lnTo>
                  <a:lnTo>
                    <a:pt x="63" y="98"/>
                  </a:lnTo>
                  <a:lnTo>
                    <a:pt x="46" y="119"/>
                  </a:lnTo>
                  <a:lnTo>
                    <a:pt x="33" y="142"/>
                  </a:lnTo>
                  <a:lnTo>
                    <a:pt x="21" y="165"/>
                  </a:lnTo>
                  <a:lnTo>
                    <a:pt x="13" y="190"/>
                  </a:lnTo>
                  <a:lnTo>
                    <a:pt x="6" y="216"/>
                  </a:lnTo>
                  <a:lnTo>
                    <a:pt x="2" y="242"/>
                  </a:lnTo>
                  <a:lnTo>
                    <a:pt x="0" y="270"/>
                  </a:lnTo>
                  <a:lnTo>
                    <a:pt x="65" y="1399"/>
                  </a:lnTo>
                  <a:lnTo>
                    <a:pt x="66" y="1399"/>
                  </a:lnTo>
                  <a:lnTo>
                    <a:pt x="65" y="1406"/>
                  </a:lnTo>
                  <a:lnTo>
                    <a:pt x="65" y="1413"/>
                  </a:lnTo>
                  <a:lnTo>
                    <a:pt x="65" y="1420"/>
                  </a:lnTo>
                  <a:lnTo>
                    <a:pt x="65" y="1427"/>
                  </a:lnTo>
                  <a:lnTo>
                    <a:pt x="66" y="1450"/>
                  </a:lnTo>
                  <a:lnTo>
                    <a:pt x="68" y="1473"/>
                  </a:lnTo>
                  <a:lnTo>
                    <a:pt x="73" y="1495"/>
                  </a:lnTo>
                  <a:lnTo>
                    <a:pt x="80" y="1515"/>
                  </a:lnTo>
                  <a:lnTo>
                    <a:pt x="88" y="1536"/>
                  </a:lnTo>
                  <a:lnTo>
                    <a:pt x="97" y="1556"/>
                  </a:lnTo>
                  <a:lnTo>
                    <a:pt x="109" y="1574"/>
                  </a:lnTo>
                  <a:lnTo>
                    <a:pt x="121" y="1591"/>
                  </a:lnTo>
                  <a:lnTo>
                    <a:pt x="135" y="1609"/>
                  </a:lnTo>
                  <a:lnTo>
                    <a:pt x="150" y="1624"/>
                  </a:lnTo>
                  <a:lnTo>
                    <a:pt x="166" y="1637"/>
                  </a:lnTo>
                  <a:lnTo>
                    <a:pt x="184" y="1650"/>
                  </a:lnTo>
                  <a:lnTo>
                    <a:pt x="202" y="1662"/>
                  </a:lnTo>
                  <a:lnTo>
                    <a:pt x="222" y="1672"/>
                  </a:lnTo>
                  <a:lnTo>
                    <a:pt x="242" y="1680"/>
                  </a:lnTo>
                  <a:lnTo>
                    <a:pt x="263" y="1687"/>
                  </a:lnTo>
                  <a:lnTo>
                    <a:pt x="247" y="1666"/>
                  </a:lnTo>
                  <a:lnTo>
                    <a:pt x="233" y="1644"/>
                  </a:lnTo>
                  <a:lnTo>
                    <a:pt x="220" y="1621"/>
                  </a:lnTo>
                  <a:lnTo>
                    <a:pt x="210" y="1597"/>
                  </a:lnTo>
                  <a:lnTo>
                    <a:pt x="202" y="1572"/>
                  </a:lnTo>
                  <a:lnTo>
                    <a:pt x="195" y="1547"/>
                  </a:lnTo>
                  <a:lnTo>
                    <a:pt x="192" y="1520"/>
                  </a:lnTo>
                  <a:lnTo>
                    <a:pt x="190" y="1492"/>
                  </a:lnTo>
                  <a:close/>
                </a:path>
              </a:pathLst>
            </a:cu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0" y="0"/>
              <a:ext cx="8680320" cy="6845400"/>
            </a:xfrm>
            <a:custGeom>
              <a:avLst/>
              <a:gdLst/>
              <a:ahLst/>
              <a:rect l="l" t="t" r="r" b="b"/>
              <a:pathLst>
                <a:path w="2172" h="1924">
                  <a:moveTo>
                    <a:pt x="2167" y="1552"/>
                  </a:moveTo>
                  <a:lnTo>
                    <a:pt x="1954" y="1569"/>
                  </a:lnTo>
                  <a:lnTo>
                    <a:pt x="2154" y="377"/>
                  </a:lnTo>
                  <a:lnTo>
                    <a:pt x="2157" y="368"/>
                  </a:lnTo>
                  <a:lnTo>
                    <a:pt x="2160" y="356"/>
                  </a:lnTo>
                  <a:lnTo>
                    <a:pt x="2162" y="339"/>
                  </a:lnTo>
                  <a:lnTo>
                    <a:pt x="2164" y="318"/>
                  </a:lnTo>
                  <a:lnTo>
                    <a:pt x="2164" y="294"/>
                  </a:lnTo>
                  <a:lnTo>
                    <a:pt x="2159" y="268"/>
                  </a:lnTo>
                  <a:lnTo>
                    <a:pt x="2152" y="242"/>
                  </a:lnTo>
                  <a:lnTo>
                    <a:pt x="2139" y="214"/>
                  </a:lnTo>
                  <a:lnTo>
                    <a:pt x="2127" y="193"/>
                  </a:lnTo>
                  <a:lnTo>
                    <a:pt x="2111" y="175"/>
                  </a:lnTo>
                  <a:lnTo>
                    <a:pt x="2093" y="159"/>
                  </a:lnTo>
                  <a:lnTo>
                    <a:pt x="2073" y="143"/>
                  </a:lnTo>
                  <a:lnTo>
                    <a:pt x="2050" y="130"/>
                  </a:lnTo>
                  <a:lnTo>
                    <a:pt x="2024" y="119"/>
                  </a:lnTo>
                  <a:lnTo>
                    <a:pt x="1997" y="108"/>
                  </a:lnTo>
                  <a:lnTo>
                    <a:pt x="1967" y="100"/>
                  </a:lnTo>
                  <a:lnTo>
                    <a:pt x="1964" y="99"/>
                  </a:lnTo>
                  <a:lnTo>
                    <a:pt x="1962" y="99"/>
                  </a:lnTo>
                  <a:lnTo>
                    <a:pt x="273" y="0"/>
                  </a:lnTo>
                  <a:lnTo>
                    <a:pt x="272" y="0"/>
                  </a:lnTo>
                  <a:lnTo>
                    <a:pt x="271" y="0"/>
                  </a:lnTo>
                  <a:lnTo>
                    <a:pt x="267" y="0"/>
                  </a:lnTo>
                  <a:lnTo>
                    <a:pt x="258" y="1"/>
                  </a:lnTo>
                  <a:lnTo>
                    <a:pt x="245" y="2"/>
                  </a:lnTo>
                  <a:lnTo>
                    <a:pt x="227" y="6"/>
                  </a:lnTo>
                  <a:lnTo>
                    <a:pt x="207" y="10"/>
                  </a:lnTo>
                  <a:lnTo>
                    <a:pt x="184" y="18"/>
                  </a:lnTo>
                  <a:lnTo>
                    <a:pt x="160" y="28"/>
                  </a:lnTo>
                  <a:lnTo>
                    <a:pt x="135" y="40"/>
                  </a:lnTo>
                  <a:lnTo>
                    <a:pt x="109" y="56"/>
                  </a:lnTo>
                  <a:lnTo>
                    <a:pt x="85" y="76"/>
                  </a:lnTo>
                  <a:lnTo>
                    <a:pt x="62" y="99"/>
                  </a:lnTo>
                  <a:lnTo>
                    <a:pt x="41" y="128"/>
                  </a:lnTo>
                  <a:lnTo>
                    <a:pt x="25" y="161"/>
                  </a:lnTo>
                  <a:lnTo>
                    <a:pt x="12" y="199"/>
                  </a:lnTo>
                  <a:lnTo>
                    <a:pt x="3" y="243"/>
                  </a:lnTo>
                  <a:lnTo>
                    <a:pt x="0" y="294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9" y="716"/>
                  </a:lnTo>
                  <a:lnTo>
                    <a:pt x="89" y="716"/>
                  </a:lnTo>
                  <a:lnTo>
                    <a:pt x="81" y="636"/>
                  </a:lnTo>
                  <a:lnTo>
                    <a:pt x="74" y="560"/>
                  </a:lnTo>
                  <a:lnTo>
                    <a:pt x="68" y="489"/>
                  </a:lnTo>
                  <a:lnTo>
                    <a:pt x="62" y="428"/>
                  </a:lnTo>
                  <a:lnTo>
                    <a:pt x="56" y="375"/>
                  </a:lnTo>
                  <a:lnTo>
                    <a:pt x="53" y="335"/>
                  </a:lnTo>
                  <a:lnTo>
                    <a:pt x="51" y="306"/>
                  </a:lnTo>
                  <a:lnTo>
                    <a:pt x="50" y="292"/>
                  </a:lnTo>
                  <a:lnTo>
                    <a:pt x="52" y="252"/>
                  </a:lnTo>
                  <a:lnTo>
                    <a:pt x="59" y="216"/>
                  </a:lnTo>
                  <a:lnTo>
                    <a:pt x="69" y="185"/>
                  </a:lnTo>
                  <a:lnTo>
                    <a:pt x="82" y="158"/>
                  </a:lnTo>
                  <a:lnTo>
                    <a:pt x="98" y="135"/>
                  </a:lnTo>
                  <a:lnTo>
                    <a:pt x="115" y="115"/>
                  </a:lnTo>
                  <a:lnTo>
                    <a:pt x="135" y="99"/>
                  </a:lnTo>
                  <a:lnTo>
                    <a:pt x="154" y="85"/>
                  </a:lnTo>
                  <a:lnTo>
                    <a:pt x="174" y="75"/>
                  </a:lnTo>
                  <a:lnTo>
                    <a:pt x="194" y="67"/>
                  </a:lnTo>
                  <a:lnTo>
                    <a:pt x="212" y="60"/>
                  </a:lnTo>
                  <a:lnTo>
                    <a:pt x="229" y="55"/>
                  </a:lnTo>
                  <a:lnTo>
                    <a:pt x="244" y="53"/>
                  </a:lnTo>
                  <a:lnTo>
                    <a:pt x="257" y="51"/>
                  </a:lnTo>
                  <a:lnTo>
                    <a:pt x="266" y="50"/>
                  </a:lnTo>
                  <a:lnTo>
                    <a:pt x="271" y="50"/>
                  </a:lnTo>
                  <a:lnTo>
                    <a:pt x="1957" y="149"/>
                  </a:lnTo>
                  <a:lnTo>
                    <a:pt x="1982" y="155"/>
                  </a:lnTo>
                  <a:lnTo>
                    <a:pt x="2005" y="163"/>
                  </a:lnTo>
                  <a:lnTo>
                    <a:pt x="2025" y="173"/>
                  </a:lnTo>
                  <a:lnTo>
                    <a:pt x="2044" y="183"/>
                  </a:lnTo>
                  <a:lnTo>
                    <a:pt x="2060" y="195"/>
                  </a:lnTo>
                  <a:lnTo>
                    <a:pt x="2074" y="207"/>
                  </a:lnTo>
                  <a:lnTo>
                    <a:pt x="2086" y="222"/>
                  </a:lnTo>
                  <a:lnTo>
                    <a:pt x="2096" y="237"/>
                  </a:lnTo>
                  <a:lnTo>
                    <a:pt x="2112" y="281"/>
                  </a:lnTo>
                  <a:lnTo>
                    <a:pt x="2114" y="321"/>
                  </a:lnTo>
                  <a:lnTo>
                    <a:pt x="2111" y="351"/>
                  </a:lnTo>
                  <a:lnTo>
                    <a:pt x="2107" y="363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7" y="365"/>
                  </a:lnTo>
                  <a:lnTo>
                    <a:pt x="2106" y="366"/>
                  </a:lnTo>
                  <a:lnTo>
                    <a:pt x="2106" y="366"/>
                  </a:lnTo>
                  <a:lnTo>
                    <a:pt x="1903" y="1574"/>
                  </a:lnTo>
                  <a:lnTo>
                    <a:pt x="441" y="1694"/>
                  </a:lnTo>
                  <a:lnTo>
                    <a:pt x="395" y="1691"/>
                  </a:lnTo>
                  <a:lnTo>
                    <a:pt x="355" y="1686"/>
                  </a:lnTo>
                  <a:lnTo>
                    <a:pt x="319" y="1678"/>
                  </a:lnTo>
                  <a:lnTo>
                    <a:pt x="288" y="1667"/>
                  </a:lnTo>
                  <a:lnTo>
                    <a:pt x="262" y="1656"/>
                  </a:lnTo>
                  <a:lnTo>
                    <a:pt x="238" y="1642"/>
                  </a:lnTo>
                  <a:lnTo>
                    <a:pt x="220" y="1628"/>
                  </a:lnTo>
                  <a:lnTo>
                    <a:pt x="205" y="1613"/>
                  </a:lnTo>
                  <a:lnTo>
                    <a:pt x="192" y="1598"/>
                  </a:lnTo>
                  <a:lnTo>
                    <a:pt x="183" y="1584"/>
                  </a:lnTo>
                  <a:lnTo>
                    <a:pt x="176" y="1571"/>
                  </a:lnTo>
                  <a:lnTo>
                    <a:pt x="172" y="1558"/>
                  </a:lnTo>
                  <a:lnTo>
                    <a:pt x="168" y="1547"/>
                  </a:lnTo>
                  <a:lnTo>
                    <a:pt x="166" y="1539"/>
                  </a:lnTo>
                  <a:lnTo>
                    <a:pt x="165" y="1534"/>
                  </a:lnTo>
                  <a:lnTo>
                    <a:pt x="165" y="1530"/>
                  </a:lnTo>
                  <a:lnTo>
                    <a:pt x="162" y="1509"/>
                  </a:lnTo>
                  <a:lnTo>
                    <a:pt x="158" y="1453"/>
                  </a:lnTo>
                  <a:lnTo>
                    <a:pt x="150" y="1366"/>
                  </a:lnTo>
                  <a:lnTo>
                    <a:pt x="139" y="1256"/>
                  </a:lnTo>
                  <a:lnTo>
                    <a:pt x="127" y="1130"/>
                  </a:lnTo>
                  <a:lnTo>
                    <a:pt x="114" y="993"/>
                  </a:lnTo>
                  <a:lnTo>
                    <a:pt x="101" y="853"/>
                  </a:lnTo>
                  <a:lnTo>
                    <a:pt x="89" y="716"/>
                  </a:lnTo>
                  <a:lnTo>
                    <a:pt x="39" y="716"/>
                  </a:lnTo>
                  <a:lnTo>
                    <a:pt x="115" y="1535"/>
                  </a:lnTo>
                  <a:lnTo>
                    <a:pt x="115" y="1537"/>
                  </a:lnTo>
                  <a:lnTo>
                    <a:pt x="116" y="1544"/>
                  </a:lnTo>
                  <a:lnTo>
                    <a:pt x="119" y="1554"/>
                  </a:lnTo>
                  <a:lnTo>
                    <a:pt x="122" y="1567"/>
                  </a:lnTo>
                  <a:lnTo>
                    <a:pt x="128" y="1582"/>
                  </a:lnTo>
                  <a:lnTo>
                    <a:pt x="137" y="1599"/>
                  </a:lnTo>
                  <a:lnTo>
                    <a:pt x="147" y="1618"/>
                  </a:lnTo>
                  <a:lnTo>
                    <a:pt x="162" y="1637"/>
                  </a:lnTo>
                  <a:lnTo>
                    <a:pt x="180" y="1657"/>
                  </a:lnTo>
                  <a:lnTo>
                    <a:pt x="202" y="1675"/>
                  </a:lnTo>
                  <a:lnTo>
                    <a:pt x="228" y="1693"/>
                  </a:lnTo>
                  <a:lnTo>
                    <a:pt x="259" y="1709"/>
                  </a:lnTo>
                  <a:lnTo>
                    <a:pt x="296" y="1723"/>
                  </a:lnTo>
                  <a:lnTo>
                    <a:pt x="339" y="1733"/>
                  </a:lnTo>
                  <a:lnTo>
                    <a:pt x="386" y="1740"/>
                  </a:lnTo>
                  <a:lnTo>
                    <a:pt x="441" y="1743"/>
                  </a:lnTo>
                  <a:lnTo>
                    <a:pt x="442" y="1743"/>
                  </a:lnTo>
                  <a:lnTo>
                    <a:pt x="444" y="1743"/>
                  </a:lnTo>
                  <a:lnTo>
                    <a:pt x="1894" y="1623"/>
                  </a:lnTo>
                  <a:lnTo>
                    <a:pt x="1840" y="1916"/>
                  </a:lnTo>
                  <a:lnTo>
                    <a:pt x="1888" y="1924"/>
                  </a:lnTo>
                  <a:lnTo>
                    <a:pt x="1945" y="1620"/>
                  </a:lnTo>
                  <a:lnTo>
                    <a:pt x="2172" y="1600"/>
                  </a:lnTo>
                  <a:lnTo>
                    <a:pt x="2167" y="1552"/>
                  </a:lnTo>
                  <a:close/>
                </a:path>
              </a:pathLst>
            </a:custGeom>
            <a:solidFill>
              <a:srgbClr val="99cc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9676d"/>
              </a:buClr>
              <a:buSzPct val="65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61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213C-5A93-44C4-8F8F-79FCECC534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4.xml"/><Relationship Id="rId5" Type="http://schemas.openxmlformats.org/officeDocument/2006/relationships/slide" Target="slide14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5" descr="1.jpg"/>
          <p:cNvPicPr/>
          <p:nvPr/>
        </p:nvPicPr>
        <p:blipFill>
          <a:blip r:embed="rId2"/>
          <a:stretch/>
        </p:blipFill>
        <p:spPr>
          <a:xfrm>
            <a:off x="1000080" y="214200"/>
            <a:ext cx="6458040" cy="3357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221000"/>
            <a:ext cx="7772400" cy="165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9676d"/>
                </a:solidFill>
                <a:latin typeface="Arial"/>
              </a:rPr>
              <a:t>Європейське середньовічне місто</a:t>
            </a: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59832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Оксфорд — «бичачий брод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Франкфурт — «вільний брод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Ньюкасл — «новий замо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Кембрідж — «міст через річку Кем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Мюльхаузен — «дім мельника (мірошника)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Страсбург — «фортеця на дорозі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Сент-Етьєн — «святий Етьєн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324000" y="5445000"/>
            <a:ext cx="8431200" cy="11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3" descr="turism_Karkasson_05.jpg  570×358 .png"/>
          <p:cNvPicPr/>
          <p:nvPr/>
        </p:nvPicPr>
        <p:blipFill>
          <a:blip r:embed="rId2"/>
          <a:stretch/>
        </p:blipFill>
        <p:spPr>
          <a:xfrm>
            <a:off x="285840" y="5430960"/>
            <a:ext cx="8431200" cy="114120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кутник 9"/>
          <p:cNvSpPr/>
          <p:nvPr/>
        </p:nvSpPr>
        <p:spPr>
          <a:xfrm>
            <a:off x="611280" y="549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т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ому селяни тікали до мі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Хто проживав у місті? Чому не кожен селянин міг тут прижити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Чи відрізнялося середньовічне місто від античного? Чим са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3" descr="turism_Karkasson_05.jpg  570×358 .png"/>
          <p:cNvPicPr/>
          <p:nvPr/>
        </p:nvPicPr>
        <p:blipFill>
          <a:blip r:embed="rId2"/>
          <a:stretch/>
        </p:blipFill>
        <p:spPr>
          <a:xfrm>
            <a:off x="285840" y="5430960"/>
            <a:ext cx="8431200" cy="11412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c00000"/>
                </a:solidFill>
                <a:latin typeface="Arial"/>
              </a:rPr>
              <a:t>Дайте визначення поняттям:</a:t>
            </a:r>
            <a:br>
              <a:rPr sz="4000"/>
            </a:b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4520" y="1546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ому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атриціа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агдебурзьке 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туш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агістра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шедевр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520" y="357120"/>
            <a:ext cx="7815240" cy="10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Завдання</a:t>
            </a:r>
            <a:br>
              <a:rPr sz="4400"/>
            </a:b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6765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 algn="ctr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Які обмеження встановлювалися для ремісників статутом, уривок із якого наведе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Чому ремісники об'єднувалися в цех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Чому спочатку цехи сприяли розвитку ремесла, проте згодом стали його гальмува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9320" y="260280"/>
            <a:ext cx="7772400" cy="10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76d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НЯТТЯ ГОРОДЯН: РЕМЕСЛО І ТОРГІВЛЯ</a:t>
            </a:r>
            <a:endParaRPr b="0" lang="en-US" sz="3600" spc="-1" strike="noStrike">
              <a:solidFill>
                <a:srgbClr val="69676d"/>
              </a:solidFill>
              <a:latin typeface="Arial"/>
            </a:endParaRPr>
          </a:p>
        </p:txBody>
      </p:sp>
      <p:pic>
        <p:nvPicPr>
          <p:cNvPr id="182" name="Содержимое 4" descr="kulinar2.jpg"/>
          <p:cNvPicPr/>
          <p:nvPr/>
        </p:nvPicPr>
        <p:blipFill>
          <a:blip r:embed="rId2"/>
          <a:stretch/>
        </p:blipFill>
        <p:spPr>
          <a:xfrm>
            <a:off x="684360" y="1700280"/>
            <a:ext cx="7775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МІСНИЧА МАЙСТЕРНЯ 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grpSp>
        <p:nvGrpSpPr>
          <p:cNvPr id="185" name="Овал 8"/>
          <p:cNvGrpSpPr/>
          <p:nvPr/>
        </p:nvGrpSpPr>
        <p:grpSpPr>
          <a:xfrm>
            <a:off x="517680" y="1755720"/>
            <a:ext cx="2609640" cy="1311480"/>
            <a:chOff x="517680" y="1755720"/>
            <a:chExt cx="2609640" cy="1311480"/>
          </a:xfrm>
        </p:grpSpPr>
        <p:pic>
          <p:nvPicPr>
            <p:cNvPr id="186" name="Овал 8" descr=""/>
            <p:cNvPicPr/>
            <p:nvPr/>
          </p:nvPicPr>
          <p:blipFill>
            <a:blip r:embed="rId2"/>
            <a:stretch/>
          </p:blipFill>
          <p:spPr>
            <a:xfrm>
              <a:off x="517680" y="1755720"/>
              <a:ext cx="260964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938160" y="1962000"/>
              <a:ext cx="176688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УЧНА ПРАЦ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Овал 9"/>
          <p:cNvGrpSpPr/>
          <p:nvPr/>
        </p:nvGrpSpPr>
        <p:grpSpPr>
          <a:xfrm>
            <a:off x="4730760" y="1542960"/>
            <a:ext cx="3754440" cy="1524240"/>
            <a:chOff x="4730760" y="1542960"/>
            <a:chExt cx="3754440" cy="1524240"/>
          </a:xfrm>
        </p:grpSpPr>
        <p:pic>
          <p:nvPicPr>
            <p:cNvPr id="189" name="Овал 9" descr=""/>
            <p:cNvPicPr/>
            <p:nvPr/>
          </p:nvPicPr>
          <p:blipFill>
            <a:blip r:embed="rId3"/>
            <a:stretch/>
          </p:blipFill>
          <p:spPr>
            <a:xfrm>
              <a:off x="4730760" y="1542960"/>
              <a:ext cx="37544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319720" y="1770120"/>
              <a:ext cx="25765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айстер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ідмайстер, уч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Овал 10"/>
          <p:cNvGrpSpPr/>
          <p:nvPr/>
        </p:nvGrpSpPr>
        <p:grpSpPr>
          <a:xfrm>
            <a:off x="158760" y="3402000"/>
            <a:ext cx="2681280" cy="1303200"/>
            <a:chOff x="158760" y="3402000"/>
            <a:chExt cx="2681280" cy="1303200"/>
          </a:xfrm>
        </p:grpSpPr>
        <p:pic>
          <p:nvPicPr>
            <p:cNvPr id="192" name="Овал 10" descr=""/>
            <p:cNvPicPr/>
            <p:nvPr/>
          </p:nvPicPr>
          <p:blipFill>
            <a:blip r:embed="rId4"/>
            <a:stretch/>
          </p:blipFill>
          <p:spPr>
            <a:xfrm>
              <a:off x="158760" y="3402000"/>
              <a:ext cx="268128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90400" y="3605040"/>
              <a:ext cx="18194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АРАКТЕР ПРАЦ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Овал 11"/>
          <p:cNvGrpSpPr/>
          <p:nvPr/>
        </p:nvGrpSpPr>
        <p:grpSpPr>
          <a:xfrm>
            <a:off x="3017880" y="2895480"/>
            <a:ext cx="3254400" cy="2041560"/>
            <a:chOff x="3017880" y="2895480"/>
            <a:chExt cx="3254400" cy="2041560"/>
          </a:xfrm>
        </p:grpSpPr>
        <p:pic>
          <p:nvPicPr>
            <p:cNvPr id="195" name="Овал 11" descr=""/>
            <p:cNvPicPr/>
            <p:nvPr/>
          </p:nvPicPr>
          <p:blipFill>
            <a:blip r:embed="rId5"/>
            <a:stretch/>
          </p:blipFill>
          <p:spPr>
            <a:xfrm>
              <a:off x="3017880" y="2895480"/>
              <a:ext cx="3254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532320" y="3211560"/>
              <a:ext cx="222228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ОЗНАК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Овал 12"/>
          <p:cNvGrpSpPr/>
          <p:nvPr/>
        </p:nvGrpSpPr>
        <p:grpSpPr>
          <a:xfrm>
            <a:off x="6340320" y="3902040"/>
            <a:ext cx="2644920" cy="1285920"/>
            <a:chOff x="6340320" y="3902040"/>
            <a:chExt cx="2644920" cy="1285920"/>
          </a:xfrm>
        </p:grpSpPr>
        <p:pic>
          <p:nvPicPr>
            <p:cNvPr id="198" name="Овал 12" descr=""/>
            <p:cNvPicPr/>
            <p:nvPr/>
          </p:nvPicPr>
          <p:blipFill>
            <a:blip r:embed="rId6"/>
            <a:stretch/>
          </p:blipFill>
          <p:spPr>
            <a:xfrm>
              <a:off x="6340320" y="3902040"/>
              <a:ext cx="26449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6764400" y="4102200"/>
              <a:ext cx="179388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ХТО ПРАЦЮВА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Овал 13"/>
          <p:cNvGrpSpPr/>
          <p:nvPr/>
        </p:nvGrpSpPr>
        <p:grpSpPr>
          <a:xfrm>
            <a:off x="871560" y="4827600"/>
            <a:ext cx="3114720" cy="1311120"/>
            <a:chOff x="871560" y="4827600"/>
            <a:chExt cx="3114720" cy="1311120"/>
          </a:xfrm>
        </p:grpSpPr>
        <p:pic>
          <p:nvPicPr>
            <p:cNvPr id="201" name="Овал 13" descr=""/>
            <p:cNvPicPr/>
            <p:nvPr/>
          </p:nvPicPr>
          <p:blipFill>
            <a:blip r:embed="rId7"/>
            <a:stretch/>
          </p:blipFill>
          <p:spPr>
            <a:xfrm>
              <a:off x="871560" y="4827600"/>
              <a:ext cx="31147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368360" y="5033880"/>
              <a:ext cx="21211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МУ НАЛЕЖ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Овал 14"/>
          <p:cNvGrpSpPr/>
          <p:nvPr/>
        </p:nvGrpSpPr>
        <p:grpSpPr>
          <a:xfrm>
            <a:off x="5016600" y="5400720"/>
            <a:ext cx="2682720" cy="1311120"/>
            <a:chOff x="5016600" y="5400720"/>
            <a:chExt cx="2682720" cy="1311120"/>
          </a:xfrm>
        </p:grpSpPr>
        <p:pic>
          <p:nvPicPr>
            <p:cNvPr id="204" name="Овал 14" descr=""/>
            <p:cNvPicPr/>
            <p:nvPr/>
          </p:nvPicPr>
          <p:blipFill>
            <a:blip r:embed="rId8"/>
            <a:stretch/>
          </p:blipFill>
          <p:spPr>
            <a:xfrm>
              <a:off x="5016600" y="5400720"/>
              <a:ext cx="26827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448240" y="5605560"/>
              <a:ext cx="18194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Майст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Выгнутая влево стрелка 19"/>
          <p:cNvSpPr/>
          <p:nvPr/>
        </p:nvSpPr>
        <p:spPr>
          <a:xfrm rot="16023600">
            <a:off x="4054320" y="5565240"/>
            <a:ext cx="714600" cy="1216080"/>
          </a:xfrm>
          <a:custGeom>
            <a:avLst/>
            <a:gdLst>
              <a:gd name="textAreaLeft" fmla="*/ 95760 w 714600"/>
              <a:gd name="textAreaRight" fmla="*/ 618840 w 714600"/>
              <a:gd name="textAreaTop" fmla="*/ 236880 h 1216080"/>
              <a:gd name="textAreaBottom" fmla="*/ 88992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21" stAng="-5400000" swAng="-5400000"/>
                <a:lnTo>
                  <a:pt x="0" y="11594"/>
                </a:lnTo>
                <a:arcTo wR="21600" hR="8421" stAng="10800000" swAng="-3388953"/>
                <a:lnTo>
                  <a:pt x="16200" y="21333"/>
                </a:lnTo>
                <a:lnTo>
                  <a:pt x="21600" y="18428"/>
                </a:lnTo>
                <a:lnTo>
                  <a:pt x="16200" y="14988"/>
                </a:lnTo>
                <a:lnTo>
                  <a:pt x="16200" y="16574"/>
                </a:lnTo>
                <a:arcTo wR="21600" hR="8421" stAng="7411047" swAng="3132327"/>
                <a:lnTo>
                  <a:pt x="387" y="10007"/>
                </a:lnTo>
                <a:arcTo wR="21600" hR="8421" stAng="-10543374" swAng="5143374"/>
                <a:close/>
              </a:path>
              <a:path fill="darkenLess" w="21600" h="21600">
                <a:moveTo>
                  <a:pt x="21600" y="0"/>
                </a:moveTo>
                <a:arcTo wR="21600" hR="8421" stAng="-5400000" swAng="-5400000"/>
                <a:lnTo>
                  <a:pt x="0" y="8421"/>
                </a:lnTo>
                <a:arcTo wR="21600" hR="8421" stAng="10800000" swAng="-256626"/>
                <a:lnTo>
                  <a:pt x="387" y="10007"/>
                </a:lnTo>
                <a:arcTo wR="21600" hR="8421" stAng="-10543374" swAng="5143374"/>
                <a:close/>
              </a:path>
            </a:pathLst>
          </a:cu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Выгнутая влево стрелка 20"/>
          <p:cNvSpPr/>
          <p:nvPr/>
        </p:nvSpPr>
        <p:spPr>
          <a:xfrm rot="10800000">
            <a:off x="7571880" y="2714400"/>
            <a:ext cx="714600" cy="1215720"/>
          </a:xfrm>
          <a:custGeom>
            <a:avLst/>
            <a:gdLst>
              <a:gd name="textAreaLeft" fmla="*/ 95760 w 714600"/>
              <a:gd name="textAreaRight" fmla="*/ 618840 w 714600"/>
              <a:gd name="textAreaTop" fmla="*/ 236880 h 1215720"/>
              <a:gd name="textAreaBottom" fmla="*/ 88956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21" stAng="-5400000" swAng="-5400000"/>
                <a:lnTo>
                  <a:pt x="0" y="11594"/>
                </a:lnTo>
                <a:arcTo wR="21600" hR="8421" stAng="10800000" swAng="-3388953"/>
                <a:lnTo>
                  <a:pt x="16200" y="21333"/>
                </a:lnTo>
                <a:lnTo>
                  <a:pt x="21600" y="18428"/>
                </a:lnTo>
                <a:lnTo>
                  <a:pt x="16200" y="14988"/>
                </a:lnTo>
                <a:lnTo>
                  <a:pt x="16200" y="16574"/>
                </a:lnTo>
                <a:arcTo wR="21600" hR="8421" stAng="7411047" swAng="3132327"/>
                <a:lnTo>
                  <a:pt x="387" y="10007"/>
                </a:lnTo>
                <a:arcTo wR="21600" hR="8421" stAng="-10543374" swAng="5143374"/>
                <a:close/>
              </a:path>
              <a:path fill="darkenLess" w="21600" h="21600">
                <a:moveTo>
                  <a:pt x="21600" y="0"/>
                </a:moveTo>
                <a:arcTo wR="21600" hR="8421" stAng="-5400000" swAng="-5400000"/>
                <a:lnTo>
                  <a:pt x="0" y="8421"/>
                </a:lnTo>
                <a:arcTo wR="21600" hR="8421" stAng="10800000" swAng="-256626"/>
                <a:lnTo>
                  <a:pt x="387" y="10007"/>
                </a:lnTo>
                <a:arcTo wR="21600" hR="8421" stAng="-10543374" swAng="5143374"/>
                <a:close/>
              </a:path>
            </a:pathLst>
          </a:cu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Выгнутая влево стрелка 21"/>
          <p:cNvSpPr/>
          <p:nvPr/>
        </p:nvSpPr>
        <p:spPr>
          <a:xfrm rot="10411800">
            <a:off x="2464560" y="2341080"/>
            <a:ext cx="714600" cy="1216080"/>
          </a:xfrm>
          <a:custGeom>
            <a:avLst/>
            <a:gdLst>
              <a:gd name="textAreaLeft" fmla="*/ 95760 w 714600"/>
              <a:gd name="textAreaRight" fmla="*/ 618840 w 714600"/>
              <a:gd name="textAreaTop" fmla="*/ 236880 h 1216080"/>
              <a:gd name="textAreaBottom" fmla="*/ 88992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21" stAng="-5400000" swAng="-5400000"/>
                <a:lnTo>
                  <a:pt x="0" y="11594"/>
                </a:lnTo>
                <a:arcTo wR="21600" hR="8421" stAng="10800000" swAng="-3388953"/>
                <a:lnTo>
                  <a:pt x="16200" y="21333"/>
                </a:lnTo>
                <a:lnTo>
                  <a:pt x="21600" y="18428"/>
                </a:lnTo>
                <a:lnTo>
                  <a:pt x="16200" y="14988"/>
                </a:lnTo>
                <a:lnTo>
                  <a:pt x="16200" y="16574"/>
                </a:lnTo>
                <a:arcTo wR="21600" hR="8421" stAng="7411047" swAng="3132327"/>
                <a:lnTo>
                  <a:pt x="387" y="10007"/>
                </a:lnTo>
                <a:arcTo wR="21600" hR="8421" stAng="-10543374" swAng="5143374"/>
                <a:close/>
              </a:path>
              <a:path fill="darkenLess" w="21600" h="21600">
                <a:moveTo>
                  <a:pt x="21600" y="0"/>
                </a:moveTo>
                <a:arcTo wR="21600" hR="8421" stAng="-5400000" swAng="-5400000"/>
                <a:lnTo>
                  <a:pt x="0" y="8421"/>
                </a:lnTo>
                <a:arcTo wR="21600" hR="8421" stAng="10800000" swAng="-256626"/>
                <a:lnTo>
                  <a:pt x="387" y="10007"/>
                </a:lnTo>
                <a:arcTo wR="21600" hR="8421" stAng="-10543374" swAng="5143374"/>
                <a:close/>
              </a:path>
            </a:pathLst>
          </a:custGeom>
          <a:solidFill>
            <a:srgbClr val="c0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трелка вверх 22"/>
          <p:cNvSpPr/>
          <p:nvPr/>
        </p:nvSpPr>
        <p:spPr>
          <a:xfrm rot="16200000">
            <a:off x="2552040" y="3734280"/>
            <a:ext cx="631800" cy="592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трелка вверх 23"/>
          <p:cNvSpPr/>
          <p:nvPr/>
        </p:nvSpPr>
        <p:spPr>
          <a:xfrm rot="12405600">
            <a:off x="3024360" y="4538160"/>
            <a:ext cx="653760" cy="695520"/>
          </a:xfrm>
          <a:prstGeom prst="upArrow">
            <a:avLst>
              <a:gd name="adj1" fmla="val 50000"/>
              <a:gd name="adj2" fmla="val 50036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трелка вверх 24"/>
          <p:cNvSpPr/>
          <p:nvPr/>
        </p:nvSpPr>
        <p:spPr>
          <a:xfrm rot="6732600">
            <a:off x="6064560" y="3886920"/>
            <a:ext cx="657360" cy="655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НАЧЕННЯ  ЦЕХІВ 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5800" y="1676520"/>
          <a:ext cx="7772400" cy="4933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ТИВ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АТИВ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47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хи сприяли розвитку ремес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шкоджали переходу підмайстрів в майст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9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поділ праці між  цехами покращувало якість продукці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ожна було збільшувати майстерні, застосовувати нові знаряддя прац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икали нові спеціальност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права над винахідни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05080"/>
            <a:ext cx="7772400" cy="9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120600" rIns="120600" tIns="74520" bIns="74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41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324000" y="62064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10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ОМУ ВИНИКАЄ БОРОТЬБА МІЖ МІСТАМИ І СЕНЬЙОРАМИ?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676520"/>
            <a:ext cx="7772400" cy="75240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281160" indent="-281160" algn="ctr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иїх землях 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ились мі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2381040" y="2786040"/>
            <a:ext cx="4170600" cy="52056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ЕМЛЯХ ФЕОДАЛ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4" descr="turism_Karkasson_05.jpg"/>
          <p:cNvPicPr/>
          <p:nvPr/>
        </p:nvPicPr>
        <p:blipFill>
          <a:blip r:embed="rId2"/>
          <a:stretch/>
        </p:blipFill>
        <p:spPr>
          <a:xfrm>
            <a:off x="928800" y="3714840"/>
            <a:ext cx="7072200" cy="27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ОМУ ВИНИКАЄ БОРОТЬБА МІЖ МІСТАМИ І СЕНЬЙОРАМИ?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440" y="1676520"/>
            <a:ext cx="3809880" cy="439560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ста виникали  на землях феодал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одали зацікавлені в розвитку міст, тому що отримували від них прибу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7960" y="1676520"/>
            <a:ext cx="3809880" cy="441936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яни незадоволені поборами сеньйор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нають боротьбу за свою своб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Содержимое 3" descr="turism_Karkasson_05.jpg  570×358 .png"/>
          <p:cNvPicPr/>
          <p:nvPr/>
        </p:nvPicPr>
        <p:blipFill>
          <a:blip r:embed="rId2"/>
          <a:stretch/>
        </p:blipFill>
        <p:spPr>
          <a:xfrm>
            <a:off x="360360" y="5718240"/>
            <a:ext cx="82105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игадайт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13880" y="1356840"/>
            <a:ext cx="7858440" cy="46692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247320" indent="-247320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 живуть в основному сучасні люд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071800" y="2000160"/>
            <a:ext cx="4572000" cy="94716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ікаво, а чи завжди існували мі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684360" y="3284640"/>
            <a:ext cx="8001000" cy="94716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о відбулось з містами Західної римської імперії післ завоювання її германц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1087560" y="5324400"/>
            <a:ext cx="6929280" cy="520560"/>
          </a:xfrm>
          <a:prstGeom prst="rect">
            <a:avLst/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м займалось населення цих мі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вітря міста робить людину вільною»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2960" y="2571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 algn="ctr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К ВИ РОЗУМІЄТЕ ЦЕЙ ВИСЛ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Содержимое 3" descr="turism_Karkasson_05.jpg  570×358 .png"/>
          <p:cNvPicPr/>
          <p:nvPr/>
        </p:nvPicPr>
        <p:blipFill>
          <a:blip r:embed="rId2"/>
          <a:stretch/>
        </p:blipFill>
        <p:spPr>
          <a:xfrm>
            <a:off x="360360" y="4784760"/>
            <a:ext cx="8423280" cy="1712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7451640" y="3228840"/>
            <a:ext cx="117792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spcBef>
                <a:spcPts val="901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901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ацювати  параграф 5підруч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901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зробити герб середньовічного мі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901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никнення середньовічних міст</a:t>
            </a:r>
            <a:endParaRPr b="0" lang="en-US" sz="28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298440" y="20289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Більшість людей проживає в міс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303120" y="2857680"/>
            <a:ext cx="401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іста виникали ще в епо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тародавньогоСв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363960" y="37148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Багато міст Євро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були зруйнова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85840" y="4643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им заняттям в містах було ремесло і торгів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4643280" y="2214720"/>
            <a:ext cx="42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ини виникн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едньовічних мі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4809240" y="392904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тя мешкан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4800240" y="4786200"/>
            <a:ext cx="38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іб життя городя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Прямоугольник 10"/>
          <p:cNvGrpSpPr/>
          <p:nvPr/>
        </p:nvGrpSpPr>
        <p:grpSpPr>
          <a:xfrm>
            <a:off x="1060560" y="1341360"/>
            <a:ext cx="1603440" cy="852480"/>
            <a:chOff x="1060560" y="1341360"/>
            <a:chExt cx="1603440" cy="852480"/>
          </a:xfrm>
        </p:grpSpPr>
        <p:pic>
          <p:nvPicPr>
            <p:cNvPr id="111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1060560" y="1341360"/>
              <a:ext cx="160344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143000" y="1428840"/>
              <a:ext cx="14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НА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Содержимое 3" descr="turism_Karkasson_05.jpg  570×358 .png"/>
          <p:cNvPicPr/>
          <p:nvPr/>
        </p:nvPicPr>
        <p:blipFill>
          <a:blip r:embed="rId3"/>
          <a:stretch/>
        </p:blipFill>
        <p:spPr>
          <a:xfrm>
            <a:off x="360360" y="5711760"/>
            <a:ext cx="84232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114" name="Прямоугольник 12"/>
          <p:cNvGrpSpPr/>
          <p:nvPr/>
        </p:nvGrpSpPr>
        <p:grpSpPr>
          <a:xfrm>
            <a:off x="5407200" y="1407960"/>
            <a:ext cx="2414520" cy="854280"/>
            <a:chOff x="5407200" y="1407960"/>
            <a:chExt cx="2414520" cy="854280"/>
          </a:xfrm>
        </p:grpSpPr>
        <p:pic>
          <p:nvPicPr>
            <p:cNvPr id="115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5407200" y="1407960"/>
              <a:ext cx="241452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577480" y="1500120"/>
              <a:ext cx="207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ДІЗНАЮС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Прямоугольник 15"/>
          <p:cNvSpPr/>
          <p:nvPr/>
        </p:nvSpPr>
        <p:spPr>
          <a:xfrm>
            <a:off x="4664160" y="328608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 виникали міс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редньовічне місто</a:t>
            </a:r>
            <a:endParaRPr b="0" lang="en-US" sz="4000" spc="-1" strike="noStrike">
              <a:solidFill>
                <a:srgbClr val="69676d"/>
              </a:solidFill>
              <a:latin typeface="Arial"/>
            </a:endParaRPr>
          </a:p>
        </p:txBody>
      </p:sp>
      <p:pic>
        <p:nvPicPr>
          <p:cNvPr id="120" name="Содержимое 7" descr="Backlog-Carcassonne.jpg"/>
          <p:cNvPicPr/>
          <p:nvPr/>
        </p:nvPicPr>
        <p:blipFill>
          <a:blip r:embed="rId2"/>
          <a:stretch/>
        </p:blipFill>
        <p:spPr>
          <a:xfrm>
            <a:off x="324000" y="1628640"/>
            <a:ext cx="8351640" cy="475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ІХИ В РОЗВИТКУ ГОСПОДАРСТВА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413000"/>
          <a:ext cx="8642160" cy="49338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іхи в господарств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ід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більшення орних зем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ява залізних знарядь прац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 Поява спеціаліст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470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бмін між селянами і ремісни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ІХИ В РОЗВИТКУ ГОСПОДАРСТВА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16000" y="1413000"/>
          <a:ext cx="8712000" cy="5251320"/>
        </p:xfrm>
        <a:graphic>
          <a:graphicData uri="http://schemas.openxmlformats.org/drawingml/2006/table">
            <a:tbl>
              <a:tblPr/>
              <a:tblGrid>
                <a:gridCol w="4356000"/>
                <a:gridCol w="4356000"/>
              </a:tblGrid>
              <a:tr h="83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іхи в господарств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ідки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більшення орних зем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більшення урожа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82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ява залізних знарядь прац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ріс видобуток залізної руд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ява спеціалісті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емесло – основне занятт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471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бмін між селянами і ремісник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Розвиток торгівл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ними причинами виникнення західноєвропейських міст були:</a:t>
            </a:r>
            <a:br>
              <a:rPr sz="3200"/>
            </a:b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 algn="just">
              <a:spcBef>
                <a:spcPts val="700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огрес аграрного виробниц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ідновлення торгівлі зі Схо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зацікавленість феодалів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додаткових джерелах прибут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buClr>
                <a:srgbClr val="69676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355680" y="5300640"/>
            <a:ext cx="84312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 ВИНИКАЛИ  МІСТА</a:t>
            </a:r>
            <a:endParaRPr b="0" lang="en-US" sz="3200" spc="-1" strike="noStrike">
              <a:solidFill>
                <a:srgbClr val="69676d"/>
              </a:solidFill>
              <a:latin typeface="Arial"/>
            </a:endParaRPr>
          </a:p>
        </p:txBody>
      </p:sp>
      <p:pic>
        <p:nvPicPr>
          <p:cNvPr id="133" name="Содержимое 4" descr="2.jpg"/>
          <p:cNvPicPr/>
          <p:nvPr/>
        </p:nvPicPr>
        <p:blipFill>
          <a:blip r:embed="rId2"/>
          <a:stretch/>
        </p:blipFill>
        <p:spPr>
          <a:xfrm>
            <a:off x="1282680" y="1676520"/>
            <a:ext cx="6578640" cy="44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Еленушка\Desktop\история\fon_pos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57880" y="214200"/>
            <a:ext cx="357192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eb966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c9c2d1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 ВИНИКАЛИ МІСТА</a:t>
            </a:r>
            <a:endParaRPr b="0" lang="en-US" sz="28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040D-0367-4C7F-84E7-DBD26ABEC4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rot="20972400">
            <a:off x="3240" y="4892760"/>
            <a:ext cx="9139320" cy="1270080"/>
          </a:xfrm>
          <a:custGeom>
            <a:avLst/>
            <a:gdLst>
              <a:gd name="textAreaLeft" fmla="*/ 0 w 9139320"/>
              <a:gd name="textAreaRight" fmla="*/ 9139680 w 9139320"/>
              <a:gd name="textAreaTop" fmla="*/ 0 h 1270080"/>
              <a:gd name="textAreaBottom" fmla="*/ 1270080 h 1270080"/>
            </a:gdLst>
            <a:ahLst/>
            <a:rect l="textAreaLeft" t="textAreaTop" r="textAreaRight" b="textAreaBottom"/>
            <a:pathLst>
              <a:path w="2478" h="440">
                <a:moveTo>
                  <a:pt x="0" y="70"/>
                </a:moveTo>
                <a:cubicBezTo>
                  <a:pt x="37" y="65"/>
                  <a:pt x="120" y="0"/>
                  <a:pt x="218" y="37"/>
                </a:cubicBezTo>
                <a:cubicBezTo>
                  <a:pt x="316" y="74"/>
                  <a:pt x="468" y="252"/>
                  <a:pt x="586" y="292"/>
                </a:cubicBezTo>
                <a:cubicBezTo>
                  <a:pt x="704" y="332"/>
                  <a:pt x="816" y="303"/>
                  <a:pt x="925" y="279"/>
                </a:cubicBezTo>
                <a:cubicBezTo>
                  <a:pt x="1034" y="255"/>
                  <a:pt x="1116" y="131"/>
                  <a:pt x="1228" y="150"/>
                </a:cubicBezTo>
                <a:cubicBezTo>
                  <a:pt x="1341" y="170"/>
                  <a:pt x="1484" y="390"/>
                  <a:pt x="1596" y="406"/>
                </a:cubicBezTo>
                <a:cubicBezTo>
                  <a:pt x="1707" y="421"/>
                  <a:pt x="1799" y="240"/>
                  <a:pt x="1906" y="240"/>
                </a:cubicBezTo>
                <a:cubicBezTo>
                  <a:pt x="2014" y="239"/>
                  <a:pt x="2151" y="388"/>
                  <a:pt x="2246" y="414"/>
                </a:cubicBezTo>
                <a:cubicBezTo>
                  <a:pt x="2341" y="440"/>
                  <a:pt x="2430" y="402"/>
                  <a:pt x="2478" y="399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6"/>
          <p:cNvSpPr/>
          <p:nvPr/>
        </p:nvSpPr>
        <p:spPr>
          <a:xfrm>
            <a:off x="4708440" y="4441680"/>
            <a:ext cx="655560" cy="1579680"/>
          </a:xfrm>
          <a:custGeom>
            <a:avLst/>
            <a:gdLst>
              <a:gd name="textAreaLeft" fmla="*/ 0 w 655560"/>
              <a:gd name="textAreaRight" fmla="*/ 655920 w 6555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413" h="995">
                <a:moveTo>
                  <a:pt x="271" y="0"/>
                </a:moveTo>
                <a:cubicBezTo>
                  <a:pt x="291" y="48"/>
                  <a:pt x="379" y="185"/>
                  <a:pt x="392" y="295"/>
                </a:cubicBezTo>
                <a:cubicBezTo>
                  <a:pt x="405" y="405"/>
                  <a:pt x="413" y="544"/>
                  <a:pt x="348" y="661"/>
                </a:cubicBezTo>
                <a:cubicBezTo>
                  <a:pt x="282" y="779"/>
                  <a:pt x="72" y="926"/>
                  <a:pt x="0" y="995"/>
                </a:cubicBezTo>
              </a:path>
            </a:pathLst>
          </a:custGeom>
          <a:noFill/>
          <a:ln cap="rnd" w="57240">
            <a:solidFill>
              <a:srgbClr val="8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8"/>
          <p:cNvGrpSpPr/>
          <p:nvPr/>
        </p:nvGrpSpPr>
        <p:grpSpPr>
          <a:xfrm>
            <a:off x="1076760" y="5457960"/>
            <a:ext cx="1210680" cy="1184400"/>
            <a:chOff x="1076760" y="5457960"/>
            <a:chExt cx="1210680" cy="1184400"/>
          </a:xfrm>
        </p:grpSpPr>
        <p:sp>
          <p:nvSpPr>
            <p:cNvPr id="140" name="Line 19"/>
            <p:cNvSpPr/>
            <p:nvPr/>
          </p:nvSpPr>
          <p:spPr>
            <a:xfrm flipV="1">
              <a:off x="1427400" y="5783040"/>
              <a:ext cx="635400" cy="62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20"/>
            <p:cNvGrpSpPr/>
            <p:nvPr/>
          </p:nvGrpSpPr>
          <p:grpSpPr>
            <a:xfrm>
              <a:off x="1076760" y="5457960"/>
              <a:ext cx="1210680" cy="1184400"/>
              <a:chOff x="1076760" y="5457960"/>
              <a:chExt cx="1210680" cy="1184400"/>
            </a:xfrm>
          </p:grpSpPr>
          <p:sp>
            <p:nvSpPr>
              <p:cNvPr id="142" name="Line 21"/>
              <p:cNvSpPr/>
              <p:nvPr/>
            </p:nvSpPr>
            <p:spPr>
              <a:xfrm flipV="1">
                <a:off x="1330920" y="5696640"/>
                <a:ext cx="635400" cy="623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2"/>
              <p:cNvSpPr/>
              <p:nvPr/>
            </p:nvSpPr>
            <p:spPr>
              <a:xfrm rot="20925600">
                <a:off x="1943640" y="5455440"/>
                <a:ext cx="1440" cy="2484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" h="147">
                    <a:moveTo>
                      <a:pt x="0" y="147"/>
                    </a:moveTo>
                    <a:cubicBezTo>
                      <a:pt x="0" y="123"/>
                      <a:pt x="0" y="24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3"/>
              <p:cNvSpPr/>
              <p:nvPr/>
            </p:nvSpPr>
            <p:spPr>
              <a:xfrm rot="20925600">
                <a:off x="2077200" y="5764680"/>
                <a:ext cx="201600" cy="10656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17" h="63">
                    <a:moveTo>
                      <a:pt x="0" y="0"/>
                    </a:moveTo>
                    <a:cubicBezTo>
                      <a:pt x="19" y="10"/>
                      <a:pt x="98" y="53"/>
                      <a:pt x="117" y="63"/>
                    </a:cubicBezTo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20925600">
                <a:off x="1456200" y="6406200"/>
                <a:ext cx="1440" cy="2383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" h="141">
                    <a:moveTo>
                      <a:pt x="0" y="0"/>
                    </a:moveTo>
                    <a:cubicBezTo>
                      <a:pt x="0" y="47"/>
                      <a:pt x="0" y="118"/>
                      <a:pt x="0" y="141"/>
                    </a:cubicBezTo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20925600">
                <a:off x="1081080" y="6264000"/>
                <a:ext cx="237960" cy="7128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38" h="42">
                    <a:moveTo>
                      <a:pt x="138" y="42"/>
                    </a:moveTo>
                    <a:cubicBezTo>
                      <a:pt x="115" y="35"/>
                      <a:pt x="23" y="7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Oval 31">
            <a:hlinkClick r:id="rId2" action="ppaction://hlinksldjump"/>
          </p:cNvPr>
          <p:cNvSpPr/>
          <p:nvPr/>
        </p:nvSpPr>
        <p:spPr>
          <a:xfrm>
            <a:off x="4500720" y="1512720"/>
            <a:ext cx="412560" cy="4035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2">
            <a:hlinkClick r:id="rId3" action="ppaction://hlinksldjump"/>
          </p:cNvPr>
          <p:cNvSpPr/>
          <p:nvPr/>
        </p:nvSpPr>
        <p:spPr>
          <a:xfrm>
            <a:off x="5292720" y="3429000"/>
            <a:ext cx="412920" cy="4017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3">
            <a:hlinkClick r:id="rId4" action="ppaction://hlinksldjump"/>
          </p:cNvPr>
          <p:cNvSpPr/>
          <p:nvPr/>
        </p:nvSpPr>
        <p:spPr>
          <a:xfrm>
            <a:off x="4859280" y="4941720"/>
            <a:ext cx="412920" cy="4035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4">
            <a:hlinkClick r:id="rId5" action="ppaction://hlinksldjump"/>
          </p:cNvPr>
          <p:cNvSpPr/>
          <p:nvPr/>
        </p:nvSpPr>
        <p:spPr>
          <a:xfrm>
            <a:off x="2359080" y="5589720"/>
            <a:ext cx="412560" cy="403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3468600" y="130320"/>
            <a:ext cx="1684440" cy="3281040"/>
          </a:xfrm>
          <a:custGeom>
            <a:avLst/>
            <a:gdLst>
              <a:gd name="textAreaLeft" fmla="*/ 0 w 1684440"/>
              <a:gd name="textAreaRight" fmla="*/ 1684800 w 1684440"/>
              <a:gd name="textAreaTop" fmla="*/ 0 h 3281040"/>
              <a:gd name="textAreaBottom" fmla="*/ 3281400 h 3281040"/>
            </a:gdLst>
            <a:ahLst/>
            <a:rect l="textAreaLeft" t="textAreaTop" r="textAreaRight" b="textAreaBottom"/>
            <a:pathLst>
              <a:path w="1061" h="2067">
                <a:moveTo>
                  <a:pt x="0" y="0"/>
                </a:moveTo>
                <a:cubicBezTo>
                  <a:pt x="21" y="63"/>
                  <a:pt x="36" y="136"/>
                  <a:pt x="73" y="192"/>
                </a:cubicBezTo>
                <a:cubicBezTo>
                  <a:pt x="85" y="229"/>
                  <a:pt x="91" y="246"/>
                  <a:pt x="119" y="275"/>
                </a:cubicBezTo>
                <a:cubicBezTo>
                  <a:pt x="140" y="337"/>
                  <a:pt x="124" y="316"/>
                  <a:pt x="156" y="348"/>
                </a:cubicBezTo>
                <a:cubicBezTo>
                  <a:pt x="182" y="426"/>
                  <a:pt x="205" y="466"/>
                  <a:pt x="256" y="531"/>
                </a:cubicBezTo>
                <a:cubicBezTo>
                  <a:pt x="310" y="600"/>
                  <a:pt x="243" y="518"/>
                  <a:pt x="284" y="585"/>
                </a:cubicBezTo>
                <a:cubicBezTo>
                  <a:pt x="300" y="611"/>
                  <a:pt x="326" y="637"/>
                  <a:pt x="348" y="659"/>
                </a:cubicBezTo>
                <a:cubicBezTo>
                  <a:pt x="369" y="721"/>
                  <a:pt x="402" y="759"/>
                  <a:pt x="439" y="814"/>
                </a:cubicBezTo>
                <a:cubicBezTo>
                  <a:pt x="456" y="840"/>
                  <a:pt x="473" y="874"/>
                  <a:pt x="494" y="896"/>
                </a:cubicBezTo>
                <a:cubicBezTo>
                  <a:pt x="516" y="919"/>
                  <a:pt x="548" y="949"/>
                  <a:pt x="558" y="979"/>
                </a:cubicBezTo>
                <a:cubicBezTo>
                  <a:pt x="578" y="1038"/>
                  <a:pt x="615" y="1100"/>
                  <a:pt x="649" y="1152"/>
                </a:cubicBezTo>
                <a:cubicBezTo>
                  <a:pt x="685" y="1207"/>
                  <a:pt x="651" y="1129"/>
                  <a:pt x="686" y="1198"/>
                </a:cubicBezTo>
                <a:cubicBezTo>
                  <a:pt x="721" y="1269"/>
                  <a:pt x="770" y="1333"/>
                  <a:pt x="814" y="1399"/>
                </a:cubicBezTo>
                <a:cubicBezTo>
                  <a:pt x="817" y="1408"/>
                  <a:pt x="817" y="1419"/>
                  <a:pt x="823" y="1427"/>
                </a:cubicBezTo>
                <a:cubicBezTo>
                  <a:pt x="836" y="1444"/>
                  <a:pt x="869" y="1472"/>
                  <a:pt x="869" y="1472"/>
                </a:cubicBezTo>
                <a:cubicBezTo>
                  <a:pt x="879" y="1504"/>
                  <a:pt x="890" y="1530"/>
                  <a:pt x="914" y="1555"/>
                </a:cubicBezTo>
                <a:cubicBezTo>
                  <a:pt x="948" y="1678"/>
                  <a:pt x="990" y="1798"/>
                  <a:pt x="1024" y="1920"/>
                </a:cubicBezTo>
                <a:cubicBezTo>
                  <a:pt x="1037" y="1967"/>
                  <a:pt x="1061" y="2018"/>
                  <a:pt x="1061" y="2067"/>
                </a:cubicBezTo>
              </a:path>
            </a:pathLst>
          </a:custGeom>
          <a:noFill/>
          <a:ln cap="rnd" w="57240">
            <a:solidFill>
              <a:srgbClr val="8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58"/>
          <p:cNvSpPr/>
          <p:nvPr/>
        </p:nvSpPr>
        <p:spPr>
          <a:xfrm>
            <a:off x="4572000" y="3419640"/>
            <a:ext cx="709560" cy="1490400"/>
          </a:xfrm>
          <a:custGeom>
            <a:avLst/>
            <a:gdLst>
              <a:gd name="textAreaLeft" fmla="*/ 0 w 709560"/>
              <a:gd name="textAreaRight" fmla="*/ 709920 w 709560"/>
              <a:gd name="textAreaTop" fmla="*/ 0 h 1490400"/>
              <a:gd name="textAreaBottom" fmla="*/ 1490760 h 1490400"/>
            </a:gdLst>
            <a:ahLst/>
            <a:rect l="textAreaLeft" t="textAreaTop" r="textAreaRight" b="textAreaBottom"/>
            <a:pathLst>
              <a:path w="447" h="939">
                <a:moveTo>
                  <a:pt x="366" y="0"/>
                </a:moveTo>
                <a:cubicBezTo>
                  <a:pt x="372" y="9"/>
                  <a:pt x="371" y="21"/>
                  <a:pt x="375" y="31"/>
                </a:cubicBezTo>
                <a:cubicBezTo>
                  <a:pt x="383" y="49"/>
                  <a:pt x="393" y="86"/>
                  <a:pt x="393" y="86"/>
                </a:cubicBezTo>
                <a:cubicBezTo>
                  <a:pt x="415" y="282"/>
                  <a:pt x="447" y="552"/>
                  <a:pt x="256" y="680"/>
                </a:cubicBezTo>
                <a:cubicBezTo>
                  <a:pt x="206" y="758"/>
                  <a:pt x="148" y="834"/>
                  <a:pt x="82" y="900"/>
                </a:cubicBezTo>
                <a:cubicBezTo>
                  <a:pt x="67" y="915"/>
                  <a:pt x="18" y="927"/>
                  <a:pt x="0" y="939"/>
                </a:cubicBezTo>
              </a:path>
            </a:pathLst>
          </a:custGeom>
          <a:noFill/>
          <a:ln cap="rnd" w="57240">
            <a:solidFill>
              <a:srgbClr val="8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9"/>
          <p:cNvSpPr/>
          <p:nvPr/>
        </p:nvSpPr>
        <p:spPr>
          <a:xfrm>
            <a:off x="2106720" y="4905360"/>
            <a:ext cx="2465280" cy="636480"/>
          </a:xfrm>
          <a:custGeom>
            <a:avLst/>
            <a:gdLst>
              <a:gd name="textAreaLeft" fmla="*/ 0 w 2465280"/>
              <a:gd name="textAreaRight" fmla="*/ 2465640 w 246528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1553" h="401">
                <a:moveTo>
                  <a:pt x="1553" y="0"/>
                </a:moveTo>
                <a:cubicBezTo>
                  <a:pt x="1452" y="33"/>
                  <a:pt x="1544" y="6"/>
                  <a:pt x="1294" y="19"/>
                </a:cubicBezTo>
                <a:cubicBezTo>
                  <a:pt x="1250" y="21"/>
                  <a:pt x="1208" y="26"/>
                  <a:pt x="1164" y="28"/>
                </a:cubicBezTo>
                <a:cubicBezTo>
                  <a:pt x="1093" y="32"/>
                  <a:pt x="1022" y="35"/>
                  <a:pt x="951" y="38"/>
                </a:cubicBezTo>
                <a:cubicBezTo>
                  <a:pt x="761" y="64"/>
                  <a:pt x="1033" y="23"/>
                  <a:pt x="802" y="56"/>
                </a:cubicBezTo>
                <a:cubicBezTo>
                  <a:pt x="766" y="61"/>
                  <a:pt x="692" y="74"/>
                  <a:pt x="692" y="74"/>
                </a:cubicBezTo>
                <a:cubicBezTo>
                  <a:pt x="683" y="77"/>
                  <a:pt x="674" y="82"/>
                  <a:pt x="664" y="84"/>
                </a:cubicBezTo>
                <a:cubicBezTo>
                  <a:pt x="627" y="91"/>
                  <a:pt x="590" y="93"/>
                  <a:pt x="553" y="103"/>
                </a:cubicBezTo>
                <a:cubicBezTo>
                  <a:pt x="478" y="121"/>
                  <a:pt x="403" y="143"/>
                  <a:pt x="330" y="167"/>
                </a:cubicBezTo>
                <a:cubicBezTo>
                  <a:pt x="301" y="178"/>
                  <a:pt x="22" y="379"/>
                  <a:pt x="0" y="401"/>
                </a:cubicBezTo>
              </a:path>
            </a:pathLst>
          </a:custGeom>
          <a:noFill/>
          <a:ln cap="rnd" w="57240">
            <a:solidFill>
              <a:srgbClr val="8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61"/>
          <p:cNvSpPr/>
          <p:nvPr/>
        </p:nvSpPr>
        <p:spPr>
          <a:xfrm>
            <a:off x="2655720" y="276120"/>
            <a:ext cx="2816280" cy="1916280"/>
          </a:xfrm>
          <a:custGeom>
            <a:avLst/>
            <a:gdLst>
              <a:gd name="textAreaLeft" fmla="*/ 0 w 2816280"/>
              <a:gd name="textAreaRight" fmla="*/ 2816640 w 2816280"/>
              <a:gd name="textAreaTop" fmla="*/ 0 h 1916280"/>
              <a:gd name="textAreaBottom" fmla="*/ 1916640 h 1916280"/>
            </a:gdLst>
            <a:ahLst/>
            <a:rect l="textAreaLeft" t="textAreaTop" r="textAreaRight" b="textAreaBottom"/>
            <a:pathLst>
              <a:path w="1774" h="1207">
                <a:moveTo>
                  <a:pt x="0" y="1207"/>
                </a:moveTo>
                <a:cubicBezTo>
                  <a:pt x="40" y="1198"/>
                  <a:pt x="63" y="1182"/>
                  <a:pt x="101" y="1170"/>
                </a:cubicBezTo>
                <a:cubicBezTo>
                  <a:pt x="149" y="1121"/>
                  <a:pt x="189" y="1063"/>
                  <a:pt x="247" y="1024"/>
                </a:cubicBezTo>
                <a:cubicBezTo>
                  <a:pt x="271" y="949"/>
                  <a:pt x="235" y="1036"/>
                  <a:pt x="284" y="987"/>
                </a:cubicBezTo>
                <a:cubicBezTo>
                  <a:pt x="314" y="957"/>
                  <a:pt x="326" y="907"/>
                  <a:pt x="357" y="877"/>
                </a:cubicBezTo>
                <a:cubicBezTo>
                  <a:pt x="375" y="859"/>
                  <a:pt x="394" y="841"/>
                  <a:pt x="412" y="823"/>
                </a:cubicBezTo>
                <a:cubicBezTo>
                  <a:pt x="445" y="790"/>
                  <a:pt x="479" y="755"/>
                  <a:pt x="512" y="722"/>
                </a:cubicBezTo>
                <a:cubicBezTo>
                  <a:pt x="536" y="698"/>
                  <a:pt x="534" y="664"/>
                  <a:pt x="558" y="640"/>
                </a:cubicBezTo>
                <a:cubicBezTo>
                  <a:pt x="612" y="585"/>
                  <a:pt x="722" y="481"/>
                  <a:pt x="796" y="457"/>
                </a:cubicBezTo>
                <a:cubicBezTo>
                  <a:pt x="867" y="410"/>
                  <a:pt x="952" y="374"/>
                  <a:pt x="1033" y="347"/>
                </a:cubicBezTo>
                <a:cubicBezTo>
                  <a:pt x="1044" y="344"/>
                  <a:pt x="1051" y="333"/>
                  <a:pt x="1061" y="329"/>
                </a:cubicBezTo>
                <a:cubicBezTo>
                  <a:pt x="1072" y="324"/>
                  <a:pt x="1085" y="323"/>
                  <a:pt x="1097" y="320"/>
                </a:cubicBezTo>
                <a:cubicBezTo>
                  <a:pt x="1129" y="288"/>
                  <a:pt x="1108" y="303"/>
                  <a:pt x="1170" y="283"/>
                </a:cubicBezTo>
                <a:cubicBezTo>
                  <a:pt x="1179" y="280"/>
                  <a:pt x="1198" y="274"/>
                  <a:pt x="1198" y="274"/>
                </a:cubicBezTo>
                <a:cubicBezTo>
                  <a:pt x="1235" y="250"/>
                  <a:pt x="1277" y="227"/>
                  <a:pt x="1317" y="210"/>
                </a:cubicBezTo>
                <a:cubicBezTo>
                  <a:pt x="1335" y="202"/>
                  <a:pt x="1354" y="198"/>
                  <a:pt x="1372" y="192"/>
                </a:cubicBezTo>
                <a:cubicBezTo>
                  <a:pt x="1381" y="189"/>
                  <a:pt x="1399" y="183"/>
                  <a:pt x="1399" y="183"/>
                </a:cubicBezTo>
                <a:cubicBezTo>
                  <a:pt x="1432" y="148"/>
                  <a:pt x="1518" y="125"/>
                  <a:pt x="1564" y="109"/>
                </a:cubicBezTo>
                <a:cubicBezTo>
                  <a:pt x="1590" y="100"/>
                  <a:pt x="1613" y="85"/>
                  <a:pt x="1637" y="73"/>
                </a:cubicBezTo>
                <a:cubicBezTo>
                  <a:pt x="1654" y="64"/>
                  <a:pt x="1692" y="55"/>
                  <a:pt x="1692" y="55"/>
                </a:cubicBezTo>
                <a:cubicBezTo>
                  <a:pt x="1734" y="11"/>
                  <a:pt x="1683" y="59"/>
                  <a:pt x="1737" y="27"/>
                </a:cubicBezTo>
                <a:cubicBezTo>
                  <a:pt x="1745" y="23"/>
                  <a:pt x="1749" y="14"/>
                  <a:pt x="1756" y="9"/>
                </a:cubicBezTo>
                <a:cubicBezTo>
                  <a:pt x="1761" y="5"/>
                  <a:pt x="1768" y="3"/>
                  <a:pt x="1774" y="0"/>
                </a:cubicBezTo>
              </a:path>
            </a:pathLst>
          </a:custGeom>
          <a:noFill/>
          <a:ln cap="rnd" w="57240">
            <a:solidFill>
              <a:srgbClr val="8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2">
            <a:hlinkClick r:id="rId6" action="ppaction://hlinksldjump"/>
          </p:cNvPr>
          <p:cNvSpPr/>
          <p:nvPr/>
        </p:nvSpPr>
        <p:spPr>
          <a:xfrm>
            <a:off x="3143160" y="714240"/>
            <a:ext cx="412920" cy="40320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7"/>
          <p:cNvGrpSpPr/>
          <p:nvPr/>
        </p:nvGrpSpPr>
        <p:grpSpPr>
          <a:xfrm>
            <a:off x="4772520" y="1143360"/>
            <a:ext cx="666000" cy="843480"/>
            <a:chOff x="4772520" y="1143360"/>
            <a:chExt cx="666000" cy="843480"/>
          </a:xfrm>
        </p:grpSpPr>
        <p:sp>
          <p:nvSpPr>
            <p:cNvPr id="157" name="Rectangle 68"/>
            <p:cNvSpPr/>
            <p:nvPr/>
          </p:nvSpPr>
          <p:spPr>
            <a:xfrm rot="14884800">
              <a:off x="4817160" y="1396800"/>
              <a:ext cx="600840" cy="337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9"/>
            <p:cNvSpPr/>
            <p:nvPr/>
          </p:nvSpPr>
          <p:spPr>
            <a:xfrm rot="18418800">
              <a:off x="5023440" y="1859760"/>
              <a:ext cx="106560" cy="10548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0"/>
            <p:cNvSpPr/>
            <p:nvPr/>
          </p:nvSpPr>
          <p:spPr>
            <a:xfrm rot="18418800">
              <a:off x="5311080" y="1743120"/>
              <a:ext cx="106560" cy="10548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1"/>
            <p:cNvSpPr/>
            <p:nvPr/>
          </p:nvSpPr>
          <p:spPr>
            <a:xfrm rot="18418800">
              <a:off x="4793400" y="1286640"/>
              <a:ext cx="106560" cy="10548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2"/>
            <p:cNvSpPr/>
            <p:nvPr/>
          </p:nvSpPr>
          <p:spPr>
            <a:xfrm rot="18418800">
              <a:off x="5116320" y="1164600"/>
              <a:ext cx="106560" cy="10548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88"/>
          <p:cNvGrpSpPr/>
          <p:nvPr/>
        </p:nvGrpSpPr>
        <p:grpSpPr>
          <a:xfrm>
            <a:off x="5705640" y="2738520"/>
            <a:ext cx="269640" cy="834840"/>
            <a:chOff x="5705640" y="2738520"/>
            <a:chExt cx="269640" cy="834840"/>
          </a:xfrm>
        </p:grpSpPr>
        <p:sp>
          <p:nvSpPr>
            <p:cNvPr id="163" name="Oval 85"/>
            <p:cNvSpPr/>
            <p:nvPr/>
          </p:nvSpPr>
          <p:spPr>
            <a:xfrm>
              <a:off x="5715720" y="3307680"/>
              <a:ext cx="248760" cy="265680"/>
            </a:xfrm>
            <a:prstGeom prst="ellipse">
              <a:avLst/>
            </a:prstGeom>
            <a:solidFill>
              <a:srgbClr val="c9c2d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87"/>
            <p:cNvGrpSpPr/>
            <p:nvPr/>
          </p:nvGrpSpPr>
          <p:grpSpPr>
            <a:xfrm>
              <a:off x="5705640" y="2738520"/>
              <a:ext cx="269640" cy="569160"/>
              <a:chOff x="5705640" y="2738520"/>
              <a:chExt cx="269640" cy="569160"/>
            </a:xfrm>
          </p:grpSpPr>
          <p:sp>
            <p:nvSpPr>
              <p:cNvPr id="165" name="Line 6"/>
              <p:cNvSpPr/>
              <p:nvPr/>
            </p:nvSpPr>
            <p:spPr>
              <a:xfrm>
                <a:off x="5705640" y="2924640"/>
                <a:ext cx="269640" cy="3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86"/>
              <p:cNvSpPr/>
              <p:nvPr/>
            </p:nvSpPr>
            <p:spPr>
              <a:xfrm>
                <a:off x="5834520" y="2738520"/>
                <a:ext cx="0" cy="569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евич</dc:creator>
  <dc:description/>
  <dc:language>en-US</dc:language>
  <cp:lastModifiedBy>Aleksandr</cp:lastModifiedBy>
  <dcterms:modified xsi:type="dcterms:W3CDTF">2014-10-30T20:42:34Z</dcterms:modified>
  <cp:revision>9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23000000000001024140</vt:lpwstr>
  </property>
</Properties>
</file>