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258C9-E78E-4F4F-8136-6A7C1530D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8C7F-4141-485E-9F1B-AB73BB2F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F32A4-9B26-4E53-9265-7254B4EF1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0E0FF-176F-4216-B1BD-39D5BBF3A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91031-37FF-4B36-9932-FCEC87D7A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3CD56-EEA1-4039-B8EA-B088770E7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15312-9610-431D-B73F-FC620D678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0738B-AC7B-4406-88C9-307DCEBA5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BD89E-7C11-4116-B731-71A4480B4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5A052-1B38-47EA-A4AB-64236405B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D81CF-99F9-46D8-810B-421142390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06640-0FC9-4665-93FA-EA4E864C7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9009B-88C0-4E0C-8EBF-C84C200C3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3F720-D194-4D15-8FED-FD5C3201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A4080-4101-4A86-88BC-DEB1B1C5B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23729-4C44-41E3-B7A0-29729778C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323B6-2058-4AE9-939E-DDF520B32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935DC-B206-47CE-95E8-BCF6AD2AB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0D59E-0F46-4760-AB43-5BDEB7EC6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34BBE-7D3E-48AC-9841-8069C0465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60116-32D3-4BF4-98C4-89E58A488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C97AC-359D-454C-A7C2-69716F011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A308-B29A-4B6D-857C-604E182F3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A535A-7BE5-4990-86F4-A49CAE1BA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18076-DE7C-443A-97DE-46BFA27D2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74E61-B432-46A6-95ED-4DF8B6DFD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D181F-6412-41FC-81D5-5161ADFC9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CCE50-1AA2-49EB-B4A2-67D125C18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8502E-7B77-4E2B-9EC9-33B933CBFC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563C0-2C21-4622-9245-E28903FF3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506EF-4264-4978-834D-A89208605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84A29-C272-4A69-B2C1-670D16F66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87D5A-4DD9-42B7-B705-64AF37AD0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E4CB4-182B-47EA-87A1-D09B1892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61A90-7AA2-4515-8C77-8ECFB57D2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FEFAF-A5B3-448B-98C5-F2802977C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5CEE9-BCA3-4A54-928B-26C4292C10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1DF2F-2832-4BF2-B1DE-6D082EFBE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AEE5D-74D8-4EAA-9347-C0D439534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B1193-4AE2-4457-91B9-D8EABF0AF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6DB1D-ABE8-4E66-A4D1-25AE6CE8F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06EC0-D9FF-44AE-9A8B-4DB58D469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C37BF4-9EDC-4EA9-B52E-48740921F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C2EB5D-AFE8-4BA0-AEEF-DB8ADB4E8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E8F8-D7CD-4555-9A25-C97788B51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FF490A-E9C4-4765-9C76-C67D90470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A8C2A5-5DEE-4529-A217-AF3DEB6A6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E40C4-1886-4259-94A8-213F0DB59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AA0D0-3BB3-4A9E-AD26-5F7C8CDE5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A0FE2-1562-40A3-9C8D-A543DE517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7AD60-7725-441E-8574-D24F56030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F26D6-2C8F-4FAD-AC18-86034C82D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41704-B237-4826-9028-FED26E1AA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E1E59-B0C3-4C7F-AD7B-A0E6F1F788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4A6E38-E454-43E6-A1DD-62B4D5C87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E8F3C-F82F-4D2F-85F8-B4326B46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9D77F-172F-4D70-88A9-40C2E95C91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37D0F1-9AD5-424C-9272-C467E30F8A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DB7C6-17DA-4D0B-A978-E11522911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6A679-11FF-45F7-88B6-166F4FEC1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C79FD2-2D50-4ACF-80F4-DD7E738D2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6462B-EEF8-4650-86E2-7D2BB2CA2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D783D-8BDC-4005-A6DD-EBEF7545E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FF898-1D0A-40C3-AA73-768ECF896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0752B-67D8-41DB-BD78-A06828470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5AFC1-DEE8-4571-BD15-F5A229296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8F22-B70E-467B-AB10-5C17E731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1BC1C-DD7D-400C-A0D2-F775C11F7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483C2A-2154-4EA9-88E5-4B0F2B7B8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153052-43DE-4735-A46C-D4BE9340D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04CD2-BD17-4E7C-80E7-969761A40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C05BE-2805-412E-82BB-2016EF99DB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06D63-49E7-48DE-8CAD-69FCE52CCC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5D805-BE56-4154-B73D-95F1351F3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A546F-BE4E-4E72-9415-DE2AC30D5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00F337-6838-49B7-B2BD-52AF4E905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C7C50-7016-46BE-B0EC-BA90E2D9C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60FB-2045-4024-81F8-E8DBEFF5F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EA2EE-2AB9-458A-9C66-BDECF1438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9E75A-298D-424E-8865-60B47CEC3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F0728-5C76-4556-800E-60EF6B0F6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AC9D27-3734-4AA4-8C13-9E97B71152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070A99-1947-46A2-896E-BA545F14B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C706-3D22-424F-B4D7-74427ED48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06FE-9C17-4763-AC7B-7A9ECD73C72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7"/>
          <p:cNvGrpSpPr/>
          <p:nvPr/>
        </p:nvGrpSpPr>
        <p:grpSpPr>
          <a:xfrm>
            <a:off x="914400" y="1407960"/>
            <a:ext cx="231840" cy="225720"/>
            <a:chOff x="914400" y="1407960"/>
            <a:chExt cx="231840" cy="225720"/>
          </a:xfrm>
        </p:grpSpPr>
        <p:pic>
          <p:nvPicPr>
            <p:cNvPr id="56" name="Овал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1F17-9A46-46AD-AB77-D47E1FF4355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7"/>
          <p:cNvGrpSpPr/>
          <p:nvPr/>
        </p:nvGrpSpPr>
        <p:grpSpPr>
          <a:xfrm>
            <a:off x="2163600" y="2809800"/>
            <a:ext cx="231840" cy="225360"/>
            <a:chOff x="2163600" y="2809800"/>
            <a:chExt cx="231840" cy="225360"/>
          </a:xfrm>
        </p:grpSpPr>
        <p:pic>
          <p:nvPicPr>
            <p:cNvPr id="103" name="Овал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2FC9-1100-4320-B249-843CE34B04C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C81A-67AE-4BFD-B2C4-4203A776BE7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D273-FD2A-4213-A15A-A7A923A90D3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3277-AB08-489D-A1C5-94666786663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7"/>
          <p:cNvGrpSpPr/>
          <p:nvPr/>
        </p:nvGrpSpPr>
        <p:grpSpPr>
          <a:xfrm>
            <a:off x="646200" y="969840"/>
            <a:ext cx="4803840" cy="4802400"/>
            <a:chOff x="646200" y="969840"/>
            <a:chExt cx="4803840" cy="4802400"/>
          </a:xfrm>
        </p:grpSpPr>
        <p:pic>
          <p:nvPicPr>
            <p:cNvPr id="273" name="Прямоугольник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A4A9-E4F7-4DC3-A831-B9ABB4B25DB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TextBox 3"/>
          <p:cNvSpPr/>
          <p:nvPr/>
        </p:nvSpPr>
        <p:spPr>
          <a:xfrm>
            <a:off x="1374840" y="316080"/>
            <a:ext cx="7229520" cy="667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Times New Roman"/>
                <a:ea typeface="Times New Roman"/>
              </a:rPr>
              <a:t>Становлення Афінського поліса</a:t>
            </a:r>
            <a:endParaRPr b="0" lang="en-US" sz="4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Об’єднання Аттики.</a:t>
            </a:r>
            <a:endParaRPr b="0" lang="en-US" sz="32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Суспільний лад в Афінах.</a:t>
            </a:r>
            <a:endParaRPr b="0" lang="en-US" sz="32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Реформи Солона.</a:t>
            </a:r>
            <a:endParaRPr b="0" lang="en-US" sz="32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4.Завершення формування Афінського поліса.</a:t>
            </a:r>
            <a:endParaRPr b="0" lang="en-US" sz="32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Проблемне питання: </a:t>
            </a:r>
            <a:r>
              <a:rPr b="1" lang="uk-UA" sz="3200" spc="-1" strike="noStrike">
                <a:solidFill>
                  <a:srgbClr val="000000"/>
                </a:solidFill>
                <a:latin typeface="Corbel"/>
              </a:rPr>
              <a:t>Чому Афіни називають батьківщиною світової демократії?</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Рисунок 1" descr=""/>
          <p:cNvPicPr/>
          <p:nvPr/>
        </p:nvPicPr>
        <p:blipFill>
          <a:blip r:embed="rId2"/>
          <a:stretch/>
        </p:blipFill>
        <p:spPr>
          <a:xfrm>
            <a:off x="3348000" y="549360"/>
            <a:ext cx="3394080" cy="4824360"/>
          </a:xfrm>
          <a:prstGeom prst="rect">
            <a:avLst/>
          </a:prstGeom>
          <a:ln w="0">
            <a:noFill/>
          </a:ln>
        </p:spPr>
      </p:pic>
      <p:sp>
        <p:nvSpPr>
          <p:cNvPr id="338" name="TextBox 2"/>
          <p:cNvSpPr/>
          <p:nvPr/>
        </p:nvSpPr>
        <p:spPr>
          <a:xfrm>
            <a:off x="1890360" y="5805360"/>
            <a:ext cx="434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a:t>
            </a:r>
            <a:r>
              <a:rPr b="1" lang="uk-UA" sz="3600" spc="-1" strike="noStrike">
                <a:solidFill>
                  <a:srgbClr val="000000"/>
                </a:solidFill>
                <a:latin typeface="Times New Roman"/>
                <a:ea typeface="Times New Roman"/>
              </a:rPr>
              <a:t>Солон</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TextBox 1"/>
          <p:cNvSpPr/>
          <p:nvPr/>
        </p:nvSpPr>
        <p:spPr>
          <a:xfrm>
            <a:off x="1403280" y="476280"/>
            <a:ext cx="7583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Економічні реформи Солона:</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Скасування </a:t>
            </a:r>
            <a:r>
              <a:rPr b="0" lang="ru-RU" sz="1800" spc="-1" strike="noStrike">
                <a:solidFill>
                  <a:srgbClr val="000000"/>
                </a:solidFill>
                <a:latin typeface="Corbel"/>
              </a:rPr>
              <a:t>будь-яких боргів, які мала людина на цей момент;</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Л</a:t>
            </a:r>
            <a:r>
              <a:rPr b="0" lang="ru-RU" sz="1800" spc="-1" strike="noStrike">
                <a:solidFill>
                  <a:srgbClr val="000000"/>
                </a:solidFill>
                <a:latin typeface="Corbel"/>
              </a:rPr>
              <a:t>іквідація боргового рабства; Солон ужив заходів, щоб за рахунок</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uk-UA" sz="1800" spc="-1" strike="noStrike">
                <a:solidFill>
                  <a:srgbClr val="000000"/>
                </a:solidFill>
                <a:latin typeface="Corbel"/>
              </a:rPr>
              <a:t>       </a:t>
            </a:r>
            <a:r>
              <a:rPr b="0" lang="ru-RU" sz="1800" spc="-1" strike="noStrike">
                <a:solidFill>
                  <a:srgbClr val="000000"/>
                </a:solidFill>
                <a:latin typeface="Corbel"/>
              </a:rPr>
              <a:t>громадських коштів викупити громадян, проданих у рабство</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за межі Аттик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У</a:t>
            </a:r>
            <a:r>
              <a:rPr b="0" lang="ru-RU" sz="1800" spc="-1" strike="noStrike">
                <a:solidFill>
                  <a:srgbClr val="000000"/>
                </a:solidFill>
                <a:latin typeface="Corbel"/>
              </a:rPr>
              <a:t>становлено свободу заповітів, тобто якщо в спадкодавця</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не було дітей, він міг заповісти своє майно будь-кому</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бо віддати його на суспільні потреб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З</a:t>
            </a:r>
            <a:r>
              <a:rPr b="0" lang="ru-RU" sz="1800" spc="-1" strike="noStrike">
                <a:solidFill>
                  <a:srgbClr val="000000"/>
                </a:solidFill>
                <a:latin typeface="Corbel"/>
              </a:rPr>
              <a:t>апровадив нову монету, єдину для всіх племен,</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нову систему мір і ваг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З</a:t>
            </a:r>
            <a:r>
              <a:rPr b="0" lang="ru-RU" sz="1800" spc="-1" strike="noStrike">
                <a:solidFill>
                  <a:srgbClr val="000000"/>
                </a:solidFill>
                <a:latin typeface="Corbel"/>
              </a:rPr>
              <a:t>аборонив на деякий час вивозити з країни продовольство, крім олії;</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В</a:t>
            </a:r>
            <a:r>
              <a:rPr b="0" lang="ru-RU" sz="1800" spc="-1" strike="noStrike">
                <a:solidFill>
                  <a:srgbClr val="000000"/>
                </a:solidFill>
                <a:latin typeface="Corbel"/>
              </a:rPr>
              <a:t>идав закон про обов'язок батька навчити сина будь-якого</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ремесла, а в іншому випадку син мав право відмовитися</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допомагати батькові чи утримувати його в похилому віці.</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    Це було зроблено для подальшого успішного розвитку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емесел і торгівлі;</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В</a:t>
            </a:r>
            <a:r>
              <a:rPr b="0" lang="ru-RU" sz="1800" spc="-1" strike="noStrike">
                <a:solidFill>
                  <a:srgbClr val="000000"/>
                </a:solidFill>
                <a:latin typeface="Corbel"/>
              </a:rPr>
              <a:t>идано закон проти неробства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1"/>
          <p:cNvSpPr/>
          <p:nvPr/>
        </p:nvSpPr>
        <p:spPr>
          <a:xfrm>
            <a:off x="1476360" y="189000"/>
            <a:ext cx="7559640" cy="664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 </a:t>
            </a:r>
            <a:r>
              <a:rPr b="1" lang="ru-RU" sz="3200" spc="-1" strike="noStrike">
                <a:solidFill>
                  <a:srgbClr val="000000"/>
                </a:solidFill>
                <a:latin typeface="Times New Roman"/>
                <a:ea typeface="Times New Roman"/>
              </a:rPr>
              <a:t>Політичні реформи Солона:</a:t>
            </a:r>
            <a:endParaRPr b="0" lang="en-US" sz="32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С</a:t>
            </a:r>
            <a:r>
              <a:rPr b="1" lang="ru-RU" sz="1900" spc="-1" strike="noStrike">
                <a:solidFill>
                  <a:srgbClr val="000000"/>
                </a:solidFill>
                <a:latin typeface="Times New Roman"/>
                <a:ea typeface="Times New Roman"/>
              </a:rPr>
              <a:t>касував владу родової аристократії </a:t>
            </a:r>
            <a:r>
              <a:rPr b="1" lang="uk-UA"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аристократію було</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озбавлено привілеїв;</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У</a:t>
            </a:r>
            <a:r>
              <a:rPr b="1" lang="ru-RU" sz="1900" spc="-1" strike="noStrike">
                <a:solidFill>
                  <a:srgbClr val="000000"/>
                </a:solidFill>
                <a:latin typeface="Times New Roman"/>
                <a:ea typeface="Times New Roman"/>
              </a:rPr>
              <a:t>сіх вільних чоловіків було поділено на 4 розряди за</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майновим критерієм.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Усі політичні права почали залежати від майнового стану,</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а не від родової знатності. Бути архонтом, членом Ареопагу могли</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тільки особи з першого розряду. Особи з четвертого розряду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не могли бути обрані на жодну посаду, а тільки брали участь</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у Народних зборах;</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С</a:t>
            </a:r>
            <a:r>
              <a:rPr b="1" lang="ru-RU" sz="1900" spc="-1" strike="noStrike">
                <a:solidFill>
                  <a:srgbClr val="000000"/>
                </a:solidFill>
                <a:latin typeface="Times New Roman"/>
                <a:ea typeface="Times New Roman"/>
              </a:rPr>
              <a:t>творено новий орган влади - Рада-400. Кожне з чотирьох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лемен обирало щороку по 100 представників з числа</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громадян 1-3 розрядів від 30 років. Рада-400 готувала справи</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для їх подальшого обговорення на Народних зборах;</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З</a:t>
            </a:r>
            <a:r>
              <a:rPr b="1" lang="ru-RU" sz="1900" spc="-1" strike="noStrike">
                <a:solidFill>
                  <a:srgbClr val="000000"/>
                </a:solidFill>
                <a:latin typeface="Times New Roman"/>
                <a:ea typeface="Times New Roman"/>
              </a:rPr>
              <a:t>асновано суд присяжних</a:t>
            </a:r>
            <a:r>
              <a:rPr b="1" lang="uk-UA"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Це найвищий судовий орга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до якого обиралися чоловіки з чотирьох розрядів;</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П</a:t>
            </a:r>
            <a:r>
              <a:rPr b="1" lang="ru-RU" sz="1900" spc="-1" strike="noStrike">
                <a:solidFill>
                  <a:srgbClr val="000000"/>
                </a:solidFill>
                <a:latin typeface="Times New Roman"/>
                <a:ea typeface="Times New Roman"/>
              </a:rPr>
              <a:t>рийнято закон про політичну активність громадя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Його суть полягала в тому, що люди на Народних зборах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мали відкрито говорити "так" чи "ні", а не відмовчуватися;</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П</a:t>
            </a:r>
            <a:r>
              <a:rPr b="1" lang="ru-RU" sz="1900" spc="-1" strike="noStrike">
                <a:solidFill>
                  <a:srgbClr val="000000"/>
                </a:solidFill>
                <a:latin typeface="Times New Roman"/>
                <a:ea typeface="Times New Roman"/>
              </a:rPr>
              <a:t>рийнято закони щодо фізичного виховання молоді,</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оти марнотратства жінок та і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TextBox 2"/>
          <p:cNvSpPr/>
          <p:nvPr/>
        </p:nvSpPr>
        <p:spPr>
          <a:xfrm>
            <a:off x="1258920" y="574560"/>
            <a:ext cx="740556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Значення реформ Солона:</a:t>
            </a:r>
            <a:endParaRPr b="0" lang="en-US" sz="4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запровадив державний довгостроковий кредит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селянам і ремісникам;</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ввів інститут роз'їзних суддів, щоб люди не були змушені</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їздити у судових справах до Афін;</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встановив єдиний поземельний податок;</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сприяв утворенню афінських колоній,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насамперед в Криму та на Кавказі;</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провів масштабне будівництво в Афінах.</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TextBox 1"/>
          <p:cNvSpPr/>
          <p:nvPr/>
        </p:nvSpPr>
        <p:spPr>
          <a:xfrm>
            <a:off x="1116000" y="333360"/>
            <a:ext cx="7929720" cy="731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Monotype Corsiva"/>
              </a:rPr>
              <a:t>Заповіти Солона</a:t>
            </a:r>
            <a:endParaRPr b="0" lang="en-US" sz="4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Богам шана — батькам честь.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Не спілкуйся з поганими людьми.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Твій розум хай буде тобі поводирем.</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Нехай твої думки будуть зайняті лише важливими справами.</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Вір не тому, хто божиться, а тому хто добрий і прекрасний.</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Чого не клав — не бери!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 </a:t>
            </a:r>
            <a:r>
              <a:rPr b="1" lang="uk-UA" sz="2400" spc="-1" strike="noStrike">
                <a:solidFill>
                  <a:srgbClr val="000000"/>
                </a:solidFill>
                <a:latin typeface="Monotype Corsiva"/>
              </a:rPr>
              <a:t>Не бреши!</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Monotype Corsiva"/>
              </a:rPr>
              <a:t>А головнішим правилом було таке: </a:t>
            </a: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Monotype Corsiva"/>
              </a:rPr>
              <a:t>Не бажай нічого надміру!</a:t>
            </a: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Times New Roman"/>
                <a:ea typeface="Times New Roman"/>
              </a:rPr>
              <a:t>Правило золотої середини!!!! </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2" descr=""/>
          <p:cNvPicPr/>
          <p:nvPr/>
        </p:nvPicPr>
        <p:blipFill>
          <a:blip r:embed="rId2"/>
          <a:srcRect l="0" t="0" r="40" b="0"/>
          <a:stretch/>
        </p:blipFill>
        <p:spPr>
          <a:xfrm>
            <a:off x="1243080" y="290520"/>
            <a:ext cx="2928960" cy="3760920"/>
          </a:xfrm>
          <a:prstGeom prst="rect">
            <a:avLst/>
          </a:prstGeom>
          <a:ln w="0">
            <a:noFill/>
          </a:ln>
        </p:spPr>
      </p:pic>
      <p:sp>
        <p:nvSpPr>
          <p:cNvPr id="344" name="Прямоугольник 1"/>
          <p:cNvSpPr/>
          <p:nvPr/>
        </p:nvSpPr>
        <p:spPr>
          <a:xfrm>
            <a:off x="4427640" y="1052640"/>
            <a:ext cx="47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Пісістра́т</a:t>
            </a:r>
            <a:r>
              <a:rPr b="1" lang="vi-VN" sz="24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I </a:t>
            </a:r>
            <a:r>
              <a:rPr b="1" lang="vi-VN" sz="2400" spc="-1" strike="noStrike">
                <a:solidFill>
                  <a:srgbClr val="000000"/>
                </a:solidFill>
                <a:latin typeface="Times New Roman"/>
                <a:ea typeface="Times New Roman"/>
              </a:rPr>
              <a:t>ст. до н.е. — 527 або 528 до н.е.) — афінський тиран, правив з 561 по 527 рік до н. е. </a:t>
            </a:r>
            <a:endParaRPr b="0" lang="en-US" sz="2400" spc="-1" strike="noStrike">
              <a:solidFill>
                <a:srgbClr val="000000"/>
              </a:solidFill>
              <a:latin typeface="Corbel"/>
            </a:endParaRPr>
          </a:p>
        </p:txBody>
      </p:sp>
      <p:sp>
        <p:nvSpPr>
          <p:cNvPr id="345" name="TextBox 2"/>
          <p:cNvSpPr/>
          <p:nvPr/>
        </p:nvSpPr>
        <p:spPr>
          <a:xfrm>
            <a:off x="1476360" y="4005360"/>
            <a:ext cx="7272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Вперіод його правління Афіни перетворилися на культурний центр Греції: споруджені храми Афіни Паллади та Аполлона Піфійского на Акрополі, Деметри — в Елефсіні, побудовані Новий ринок, водопровід-еннеакрунос (служив аж до 18 ст.), продовжувалося будівництво гавані Піре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Picture 2" descr=""/>
          <p:cNvPicPr/>
          <p:nvPr/>
        </p:nvPicPr>
        <p:blipFill>
          <a:blip r:embed="rId2"/>
          <a:stretch/>
        </p:blipFill>
        <p:spPr>
          <a:xfrm>
            <a:off x="6588000" y="689040"/>
            <a:ext cx="2151360" cy="2808360"/>
          </a:xfrm>
          <a:prstGeom prst="rect">
            <a:avLst/>
          </a:prstGeom>
          <a:ln w="0">
            <a:noFill/>
          </a:ln>
        </p:spPr>
      </p:pic>
      <p:sp>
        <p:nvSpPr>
          <p:cNvPr id="347" name="TextBox 1"/>
          <p:cNvSpPr/>
          <p:nvPr/>
        </p:nvSpPr>
        <p:spPr>
          <a:xfrm>
            <a:off x="1224000" y="716040"/>
            <a:ext cx="5040360" cy="3374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ериторіальна реформа: основу політичного устрою утворили нові одиниці: деми, триттії, філи, скасувавши поділ території за родовою ознакою. </a:t>
            </a:r>
            <a:endParaRPr b="0" lang="en-US" sz="18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Реформа Афінської Ради: члени Ради п'ятисот, що обиралися в демах, розподілялися порівну між 10 філами. Посадові колегії складалися звичайно з 10 магістратів, по одному від кожної філи. 6 000 присяжних суддів вибиралися по філам. </a:t>
            </a:r>
            <a:r>
              <a:rPr b="0" lang="uk-UA" sz="1800" spc="-1" strike="noStrike">
                <a:solidFill>
                  <a:srgbClr val="000000"/>
                </a:solidFill>
                <a:latin typeface="Calibri"/>
                <a:ea typeface="Calibri"/>
              </a:rPr>
              <a:t>  </a:t>
            </a:r>
            <a:endParaRPr b="0" lang="en-US" sz="1800" spc="-1" strike="noStrike">
              <a:solidFill>
                <a:srgbClr val="000000"/>
              </a:solidFill>
              <a:latin typeface="Corbel"/>
            </a:endParaRPr>
          </a:p>
        </p:txBody>
      </p:sp>
      <p:sp>
        <p:nvSpPr>
          <p:cNvPr id="348" name="TextBox 2"/>
          <p:cNvSpPr/>
          <p:nvPr/>
        </p:nvSpPr>
        <p:spPr>
          <a:xfrm>
            <a:off x="1619280" y="31752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лісфен (565 -492р. до н.е)</a:t>
            </a:r>
            <a:endParaRPr b="0" lang="en-US" sz="2400" spc="-1" strike="noStrike">
              <a:solidFill>
                <a:srgbClr val="000000"/>
              </a:solidFill>
              <a:latin typeface="Corbel"/>
            </a:endParaRPr>
          </a:p>
        </p:txBody>
      </p:sp>
      <p:sp>
        <p:nvSpPr>
          <p:cNvPr id="349" name="TextBox 3"/>
          <p:cNvSpPr/>
          <p:nvPr/>
        </p:nvSpPr>
        <p:spPr>
          <a:xfrm>
            <a:off x="1224000" y="4292640"/>
            <a:ext cx="7596000" cy="2721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Щоб усунути небезпеку встановлення нової тиранії і реставрації аристократичних установ Клісфен ввів спеціальну міру - </a:t>
            </a:r>
            <a:r>
              <a:rPr b="1" lang="uk-UA" sz="2400" spc="-1" strike="noStrike">
                <a:solidFill>
                  <a:srgbClr val="000000"/>
                </a:solidFill>
                <a:latin typeface="Times New Roman"/>
                <a:ea typeface="Calibri"/>
              </a:rPr>
              <a:t>остракізм, </a:t>
            </a:r>
            <a:r>
              <a:rPr b="1" lang="uk-UA" sz="1800" spc="-1" strike="noStrike">
                <a:solidFill>
                  <a:srgbClr val="000000"/>
                </a:solidFill>
                <a:latin typeface="Times New Roman"/>
                <a:ea typeface="Calibri"/>
              </a:rPr>
              <a:t>згідно з яким надмірно впливовий політик міг бути без будь-якої провини вигнаний з міста терміном на 10 років. Для дійсності голосування необхідна була подача не менше 6000 голосів. Той, чиє ім'я стояло на більшій кількості черепків, повинен був не пізніше 10 днів покинути межі Аттики, не втрачаючи, проте, своїх майнових прав.</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Box 1"/>
          <p:cNvSpPr/>
          <p:nvPr/>
        </p:nvSpPr>
        <p:spPr>
          <a:xfrm>
            <a:off x="1440000" y="549360"/>
            <a:ext cx="457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0" spc="-1" strike="noStrike">
                <a:solidFill>
                  <a:srgbClr val="c00000"/>
                </a:solidFill>
                <a:latin typeface="Times New Roman"/>
                <a:ea typeface="Times New Roman"/>
              </a:rPr>
              <a:t>Бажаю успіхів!!!</a:t>
            </a:r>
            <a:endParaRPr b="0" lang="en-US" sz="8000" spc="-1" strike="noStrike">
              <a:solidFill>
                <a:srgbClr val="000000"/>
              </a:solidFill>
              <a:latin typeface="Corbel"/>
            </a:endParaRPr>
          </a:p>
        </p:txBody>
      </p:sp>
      <p:pic>
        <p:nvPicPr>
          <p:cNvPr id="351" name="Picture 2" descr=""/>
          <p:cNvPicPr/>
          <p:nvPr/>
        </p:nvPicPr>
        <p:blipFill>
          <a:blip r:embed="rId2"/>
          <a:stretch/>
        </p:blipFill>
        <p:spPr>
          <a:xfrm>
            <a:off x="6351480" y="549360"/>
            <a:ext cx="2241720" cy="2592360"/>
          </a:xfrm>
          <a:prstGeom prst="rect">
            <a:avLst/>
          </a:prstGeom>
          <a:ln w="0">
            <a:noFill/>
          </a:ln>
        </p:spPr>
      </p:pic>
      <p:pic>
        <p:nvPicPr>
          <p:cNvPr id="352" name="Picture 3" descr=""/>
          <p:cNvPicPr/>
          <p:nvPr/>
        </p:nvPicPr>
        <p:blipFill>
          <a:blip r:embed="rId3"/>
          <a:stretch/>
        </p:blipFill>
        <p:spPr>
          <a:xfrm>
            <a:off x="3995640" y="3357720"/>
            <a:ext cx="2808360" cy="26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Рисунок 3" descr=""/>
          <p:cNvPicPr/>
          <p:nvPr/>
        </p:nvPicPr>
        <p:blipFill>
          <a:blip r:embed="rId2"/>
          <a:stretch/>
        </p:blipFill>
        <p:spPr>
          <a:xfrm>
            <a:off x="3059280" y="1197000"/>
            <a:ext cx="4176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Picture 2" descr=""/>
          <p:cNvPicPr/>
          <p:nvPr/>
        </p:nvPicPr>
        <p:blipFill>
          <a:blip r:embed="rId2"/>
          <a:stretch/>
        </p:blipFill>
        <p:spPr>
          <a:xfrm>
            <a:off x="923760" y="1743120"/>
            <a:ext cx="729648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1" name="Рисунок 2" descr=""/>
          <p:cNvPicPr/>
          <p:nvPr/>
        </p:nvPicPr>
        <p:blipFill>
          <a:blip r:embed="rId2"/>
          <a:stretch/>
        </p:blipFill>
        <p:spPr>
          <a:xfrm>
            <a:off x="1547640" y="404640"/>
            <a:ext cx="6840720" cy="5328000"/>
          </a:xfrm>
          <a:prstGeom prst="rect">
            <a:avLst/>
          </a:prstGeom>
          <a:ln w="0">
            <a:noFill/>
          </a:ln>
        </p:spPr>
      </p:pic>
      <p:sp>
        <p:nvSpPr>
          <p:cNvPr id="322" name="TextBox 4"/>
          <p:cNvSpPr/>
          <p:nvPr/>
        </p:nvSpPr>
        <p:spPr>
          <a:xfrm>
            <a:off x="1748160" y="57326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a:t>
            </a:r>
            <a:r>
              <a:rPr b="0" lang="uk-UA" sz="1800" spc="-1" strike="noStrike">
                <a:solidFill>
                  <a:srgbClr val="000000"/>
                </a:solidFill>
                <a:latin typeface="Corbel"/>
              </a:rPr>
              <a:t>Сучасний вигляд Акрополя</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Рисунок 1" descr=""/>
          <p:cNvPicPr/>
          <p:nvPr/>
        </p:nvPicPr>
        <p:blipFill>
          <a:blip r:embed="rId2"/>
          <a:stretch/>
        </p:blipFill>
        <p:spPr>
          <a:xfrm>
            <a:off x="1332000" y="260280"/>
            <a:ext cx="7343640" cy="5329440"/>
          </a:xfrm>
          <a:prstGeom prst="rect">
            <a:avLst/>
          </a:prstGeom>
          <a:ln w="0">
            <a:noFill/>
          </a:ln>
        </p:spPr>
      </p:pic>
      <p:sp>
        <p:nvSpPr>
          <p:cNvPr id="324" name="TextBox 2"/>
          <p:cNvSpPr/>
          <p:nvPr/>
        </p:nvSpPr>
        <p:spPr>
          <a:xfrm>
            <a:off x="1572480" y="5843520"/>
            <a:ext cx="748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Monotype Corsiva"/>
              </a:rPr>
              <a:t>Акрополь реконструкція Лео фон Кленце 1846 р.</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Рисунок 1" descr=""/>
          <p:cNvPicPr/>
          <p:nvPr/>
        </p:nvPicPr>
        <p:blipFill>
          <a:blip r:embed="rId2"/>
          <a:stretch/>
        </p:blipFill>
        <p:spPr>
          <a:xfrm>
            <a:off x="1763640" y="549360"/>
            <a:ext cx="6769080" cy="4895640"/>
          </a:xfrm>
          <a:prstGeom prst="rect">
            <a:avLst/>
          </a:prstGeom>
          <a:ln w="0">
            <a:noFill/>
          </a:ln>
        </p:spPr>
      </p:pic>
      <p:sp>
        <p:nvSpPr>
          <p:cNvPr id="326" name="TextBox 3"/>
          <p:cNvSpPr/>
          <p:nvPr/>
        </p:nvSpPr>
        <p:spPr>
          <a:xfrm>
            <a:off x="1039320" y="5694480"/>
            <a:ext cx="780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Monotype Corsiva"/>
              </a:rPr>
              <a:t>У центрі Афін був великий майдан — агора — центр торгового,</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Monotype Corsiva"/>
              </a:rPr>
              <a:t> </a:t>
            </a:r>
            <a:r>
              <a:rPr b="1" lang="uk-UA" sz="1800" spc="-1" strike="noStrike">
                <a:solidFill>
                  <a:srgbClr val="000000"/>
                </a:solidFill>
                <a:latin typeface="Monotype Corsiva"/>
              </a:rPr>
              <a:t>політичного й релігійного життя міста.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Рисунок 1" descr=""/>
          <p:cNvPicPr/>
          <p:nvPr/>
        </p:nvPicPr>
        <p:blipFill>
          <a:blip r:embed="rId2"/>
          <a:stretch/>
        </p:blipFill>
        <p:spPr>
          <a:xfrm>
            <a:off x="1332000" y="404640"/>
            <a:ext cx="2879640" cy="4464360"/>
          </a:xfrm>
          <a:prstGeom prst="rect">
            <a:avLst/>
          </a:prstGeom>
          <a:ln w="0">
            <a:noFill/>
          </a:ln>
        </p:spPr>
      </p:pic>
      <p:pic>
        <p:nvPicPr>
          <p:cNvPr id="328" name="Рисунок 2" descr=""/>
          <p:cNvPicPr/>
          <p:nvPr/>
        </p:nvPicPr>
        <p:blipFill>
          <a:blip r:embed="rId3"/>
          <a:stretch/>
        </p:blipFill>
        <p:spPr>
          <a:xfrm>
            <a:off x="4748040" y="404640"/>
            <a:ext cx="3063960" cy="4464360"/>
          </a:xfrm>
          <a:prstGeom prst="rect">
            <a:avLst/>
          </a:prstGeom>
          <a:ln w="0">
            <a:noFill/>
          </a:ln>
        </p:spPr>
      </p:pic>
      <p:sp>
        <p:nvSpPr>
          <p:cNvPr id="329" name="TextBox 3"/>
          <p:cNvSpPr/>
          <p:nvPr/>
        </p:nvSpPr>
        <p:spPr>
          <a:xfrm>
            <a:off x="1930680" y="5589720"/>
            <a:ext cx="608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       </a:t>
            </a:r>
            <a:r>
              <a:rPr b="1" lang="uk-UA" sz="2800" spc="-1" strike="noStrike">
                <a:solidFill>
                  <a:srgbClr val="000000"/>
                </a:solidFill>
                <a:latin typeface="Monotype Corsiva"/>
              </a:rPr>
              <a:t>Афіна Паллада (або Athena)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Рисунок 1" descr=""/>
          <p:cNvPicPr/>
          <p:nvPr/>
        </p:nvPicPr>
        <p:blipFill>
          <a:blip r:embed="rId2"/>
          <a:stretch/>
        </p:blipFill>
        <p:spPr>
          <a:xfrm>
            <a:off x="5364000" y="836640"/>
            <a:ext cx="3168720" cy="4321080"/>
          </a:xfrm>
          <a:prstGeom prst="rect">
            <a:avLst/>
          </a:prstGeom>
          <a:ln w="0">
            <a:noFill/>
          </a:ln>
        </p:spPr>
      </p:pic>
      <p:sp>
        <p:nvSpPr>
          <p:cNvPr id="331" name="TextBox 2"/>
          <p:cNvSpPr/>
          <p:nvPr/>
        </p:nvSpPr>
        <p:spPr>
          <a:xfrm>
            <a:off x="2268360" y="580536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orbel"/>
            </a:endParaRPr>
          </a:p>
        </p:txBody>
      </p:sp>
      <p:sp>
        <p:nvSpPr>
          <p:cNvPr id="332" name="TextBox 3"/>
          <p:cNvSpPr/>
          <p:nvPr/>
        </p:nvSpPr>
        <p:spPr>
          <a:xfrm>
            <a:off x="820440" y="5373720"/>
            <a:ext cx="9306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Звідки ти такий узявся?  - сміялися земляки.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Я - громадянин світу!''- гордо відповідав Діоген.</a:t>
            </a:r>
            <a:endParaRPr b="0" lang="en-US" sz="2800" spc="-1" strike="noStrike">
              <a:solidFill>
                <a:srgbClr val="000000"/>
              </a:solidFill>
              <a:latin typeface="Corbel"/>
            </a:endParaRPr>
          </a:p>
        </p:txBody>
      </p:sp>
      <p:pic>
        <p:nvPicPr>
          <p:cNvPr id="333" name="Picture 2" descr=""/>
          <p:cNvPicPr/>
          <p:nvPr/>
        </p:nvPicPr>
        <p:blipFill>
          <a:blip r:embed="rId3"/>
          <a:stretch/>
        </p:blipFill>
        <p:spPr>
          <a:xfrm>
            <a:off x="1316160" y="333360"/>
            <a:ext cx="3184560" cy="4059360"/>
          </a:xfrm>
          <a:prstGeom prst="rect">
            <a:avLst/>
          </a:prstGeom>
          <a:ln w="0">
            <a:noFill/>
          </a:ln>
        </p:spPr>
      </p:pic>
      <p:sp>
        <p:nvSpPr>
          <p:cNvPr id="334" name="TextBox 4"/>
          <p:cNvSpPr/>
          <p:nvPr/>
        </p:nvSpPr>
        <p:spPr>
          <a:xfrm>
            <a:off x="1533600" y="441792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ea typeface="Aharoni"/>
              </a:rPr>
              <a:t>Картина Т. Шевченка</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Рисунок 1" descr=""/>
          <p:cNvPicPr/>
          <p:nvPr/>
        </p:nvPicPr>
        <p:blipFill>
          <a:blip r:embed="rId2"/>
          <a:stretch/>
        </p:blipFill>
        <p:spPr>
          <a:xfrm>
            <a:off x="1547640" y="476280"/>
            <a:ext cx="6912000" cy="4897440"/>
          </a:xfrm>
          <a:prstGeom prst="rect">
            <a:avLst/>
          </a:prstGeom>
          <a:ln w="0">
            <a:noFill/>
          </a:ln>
        </p:spPr>
      </p:pic>
      <p:sp>
        <p:nvSpPr>
          <p:cNvPr id="336" name="TextBox 2"/>
          <p:cNvSpPr/>
          <p:nvPr/>
        </p:nvSpPr>
        <p:spPr>
          <a:xfrm>
            <a:off x="1490400" y="5516640"/>
            <a:ext cx="613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Monotype Corsiva"/>
              </a:rPr>
              <a:t>           </a:t>
            </a:r>
            <a:r>
              <a:rPr b="0" lang="uk-UA" sz="3200" spc="-1" strike="noStrike">
                <a:solidFill>
                  <a:srgbClr val="000000"/>
                </a:solidFill>
                <a:latin typeface="Monotype Corsiva"/>
              </a:rPr>
              <a:t>Діоген шукає  </a:t>
            </a:r>
            <a:r>
              <a:rPr b="1" lang="uk-UA" sz="3200" spc="-1" strike="noStrike">
                <a:solidFill>
                  <a:srgbClr val="000000"/>
                </a:solidFill>
                <a:latin typeface="Monotype Corsiva"/>
              </a:rPr>
              <a:t>ЛЮДИНУ</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9:59:12Z</dcterms:created>
  <dc:creator>User</dc:creator>
  <dc:description/>
  <dc:language>en-US</dc:language>
  <cp:lastModifiedBy>Admin</cp:lastModifiedBy>
  <dcterms:modified xsi:type="dcterms:W3CDTF">2014-12-11T14:52:38Z</dcterms:modified>
  <cp:revision>4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d000000000001024140</vt:lpwstr>
  </property>
</Properties>
</file>