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13.wmf" ContentType="image/x-wmf"/>
  <Override PartName="/ppt/media/image50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25.jpeg" ContentType="image/jpeg"/>
  <Override PartName="/ppt/media/image4.jpeg" ContentType="image/jpeg"/>
  <Override PartName="/ppt/media/image8.wmf" ContentType="image/x-wmf"/>
  <Override PartName="/ppt/media/image39.jpeg" ContentType="image/jpeg"/>
  <Override PartName="/ppt/media/image41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6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8.jpeg" ContentType="image/jpeg"/>
  <Override PartName="/ppt/media/image51.png" ContentType="image/png"/>
  <Override PartName="/ppt/media/image54.jpeg" ContentType="image/jpeg"/>
  <Override PartName="/ppt/media/image33.jpeg" ContentType="image/jpeg"/>
  <Override PartName="/ppt/media/image32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29.jpeg" ContentType="image/jpeg"/>
  <Override PartName="/ppt/media/image52.jpeg" ContentType="image/jpeg"/>
  <Override PartName="/ppt/media/image34.png" ContentType="image/png"/>
  <Override PartName="/ppt/media/image12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1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E1C-35FB-43CF-96B3-1B8798BA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23E-E879-48F8-82AF-F5200711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C08-498B-4B0D-AFA9-F0C651AF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C22-E216-4D98-8785-E2D92F2D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AAADB-3F75-4B67-B9F3-1F0D5C35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02605-5AA0-49B5-BCA3-9BA79389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578EF-60B6-468F-B967-F8EB8FF1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2ACAC-9D19-446B-A032-A0CC3F39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CEE8B-270F-4031-85CB-5C698A91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1EE1B-F8B0-48CF-9AF2-8569CBE5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0A037-4B69-4A45-BF3F-D66F1720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6E7-6866-413B-BBD3-102B5EE6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34ED1-A0DB-4CC0-BDD8-5DCA32A5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59D20-A2A4-4D9D-BAD8-9073B1C3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333FC-0531-4368-8308-6FCCAE6C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D3CBD-8819-4CEE-80D6-503ED113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C8BD5-19CF-4002-9470-0BAE0DFD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C16-F5EC-4003-AF54-872AD380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3FD-F52D-40C6-890E-2D710051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33C-C4EE-43B4-A7D0-A6DBD5B9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1B9-51EF-43B4-BE8D-59C075F1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8B5-6DAA-4F41-A77C-26AB1442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60B-AEE0-49E5-AA54-725EED86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026-67E5-4055-A04B-EC0905A7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F492-C789-41FD-8211-E06FCE6AF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8602-B4EF-49E8-AD57-B56605C03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hyperlink" Target="http://uk.wikipedia.org/wiki/&#1040;&#1090;&#1090;&#1080;&#1082;&#1072;" TargetMode="External"/><Relationship Id="rId4" Type="http://schemas.openxmlformats.org/officeDocument/2006/relationships/hyperlink" Target="http://uk.wikipedia.org/wiki/&#1063;&#1077;&#1088;&#1074;&#1086;&#1085;&#1086;&#1092;&#1110;&#1075;&#1091;&#1088;&#1085;&#1080;&#1081;_&#1074;&#1072;&#1079;&#1086;&#1087;&#1080;&#1089;" TargetMode="External"/><Relationship Id="rId5" Type="http://schemas.openxmlformats.org/officeDocument/2006/relationships/hyperlink" Target="http://uk.wikipedia.org/wiki/&#1050;&#1072;&#1083;&#1072;&#1092;_%28&#1087;&#1086;&#1089;&#1091;&#1076;&#1080;&#1085;&#1072;%29" TargetMode="External"/><Relationship Id="rId6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hyperlink" Target="http://philosopher.org.ua/aforismi/lehshe-za-vse-obduryty-samoho-sebe.html" TargetMode="External"/><Relationship Id="rId4" Type="http://schemas.openxmlformats.org/officeDocument/2006/relationships/hyperlink" Target="http://philosopher.org.ua/aforismi/lehshe-za-vse-obduryty-samoho-sebe.html" TargetMode="External"/><Relationship Id="rId5" Type="http://schemas.openxmlformats.org/officeDocument/2006/relationships/hyperlink" Target="http://philosopher.org.ua/aforismi/lehshe-za-vse-obduryty-samoho-sebe.html" TargetMode="External"/><Relationship Id="rId6" Type="http://schemas.openxmlformats.org/officeDocument/2006/relationships/hyperlink" Target="http://philosopher.org.ua/aforismi/lehshe-za-vse-obduryty-samoho-sebe.html" TargetMode="External"/><Relationship Id="rId7" Type="http://schemas.openxmlformats.org/officeDocument/2006/relationships/hyperlink" Target="http://philosopher.org.ua/aforismi/lehshe-za-vse-obduryty-samoho-sebe.html" TargetMode="External"/><Relationship Id="rId8" Type="http://schemas.openxmlformats.org/officeDocument/2006/relationships/hyperlink" Target="http://philosopher.org.ua/aforismi/lehshe-za-vse-obduryty-samoho-sebe.html" TargetMode="External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Вправа  “Три кроки”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2257560"/>
          <a:ext cx="7772400" cy="41796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23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и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К ПЕРШИ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рограмуй 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К ДРУГИ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іни себе са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К ТРЕТІ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спрес-контро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 1д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600cc"/>
                </a:solidFill>
                <a:latin typeface="Arial"/>
              </a:rPr>
              <a:t>Найбільші міста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-</a:t>
            </a:r>
            <a:r>
              <a:rPr b="0" lang="uk-UA" sz="4000" spc="-1" strike="noStrike">
                <a:solidFill>
                  <a:srgbClr val="6600cc"/>
                </a:solidFill>
                <a:latin typeface="Arial"/>
              </a:rPr>
              <a:t>держави Північного Причорномор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’</a:t>
            </a:r>
            <a:r>
              <a:rPr b="0" lang="uk-UA" sz="4000" spc="-1" strike="noStrike">
                <a:solidFill>
                  <a:srgbClr val="6600cc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0000"/>
                </a:solidFill>
                <a:latin typeface="Arial"/>
              </a:rPr>
              <a:t>Ольвія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0000"/>
                </a:solidFill>
                <a:latin typeface="Arial"/>
              </a:rPr>
              <a:t>Херсонес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0000"/>
                </a:solidFill>
                <a:latin typeface="Arial"/>
              </a:rPr>
              <a:t>Пантікапей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2410920" y="1700280"/>
            <a:ext cx="289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1628640"/>
            <a:ext cx="43200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5280" y="4005360"/>
            <a:ext cx="432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2997360"/>
            <a:ext cx="432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Робота з контурною картою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8856720" cy="5040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08720" y="5402160"/>
            <a:ext cx="76320" cy="54000"/>
          </a:xfrm>
          <a:custGeom>
            <a:avLst/>
            <a:gdLst/>
            <a:ahLst/>
            <a:rect l="l" t="t" r="r" b="b"/>
            <a:pathLst>
              <a:path w="213" h="149">
                <a:moveTo>
                  <a:pt x="17928" y="15113"/>
                </a:moveTo>
                <a:lnTo>
                  <a:pt x="17928" y="15113"/>
                </a:lnTo>
              </a:path>
              <a:path w="213" h="149">
                <a:moveTo>
                  <a:pt x="17928" y="15113"/>
                </a:moveTo>
                <a:lnTo>
                  <a:pt x="17928" y="15113"/>
                </a:lnTo>
              </a:path>
              <a:path w="213" h="149">
                <a:moveTo>
                  <a:pt x="17907" y="15113"/>
                </a:moveTo>
                <a:cubicBezTo>
                  <a:pt x="17907" y="15089"/>
                  <a:pt x="17905" y="15080"/>
                  <a:pt x="17886" y="15071"/>
                </a:cubicBezTo>
                <a:cubicBezTo>
                  <a:pt x="17886" y="15085"/>
                  <a:pt x="17896" y="15159"/>
                  <a:pt x="17865" y="15155"/>
                </a:cubicBezTo>
                <a:cubicBezTo>
                  <a:pt x="17844" y="15152"/>
                  <a:pt x="17827" y="15099"/>
                  <a:pt x="17822" y="15092"/>
                </a:cubicBezTo>
                <a:cubicBezTo>
                  <a:pt x="17815" y="15085"/>
                  <a:pt x="17808" y="15078"/>
                  <a:pt x="17801" y="15071"/>
                </a:cubicBezTo>
                <a:cubicBezTo>
                  <a:pt x="17864" y="15071"/>
                  <a:pt x="17943" y="15056"/>
                  <a:pt x="17992" y="15092"/>
                </a:cubicBezTo>
                <a:cubicBezTo>
                  <a:pt x="17971" y="15152"/>
                  <a:pt x="17938" y="15060"/>
                  <a:pt x="17928" y="15028"/>
                </a:cubicBezTo>
                <a:cubicBezTo>
                  <a:pt x="17928" y="15007"/>
                  <a:pt x="17928" y="15000"/>
                  <a:pt x="17949" y="15007"/>
                </a:cubicBezTo>
                <a:cubicBezTo>
                  <a:pt x="17960" y="15040"/>
                  <a:pt x="17977" y="15028"/>
                  <a:pt x="17992" y="15049"/>
                </a:cubicBezTo>
                <a:cubicBezTo>
                  <a:pt x="18014" y="15079"/>
                  <a:pt x="18049" y="15162"/>
                  <a:pt x="18013" y="15155"/>
                </a:cubicBezTo>
                <a:cubicBezTo>
                  <a:pt x="18006" y="15148"/>
                  <a:pt x="17999" y="15141"/>
                  <a:pt x="17992" y="151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5040" y="4776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515" y="13271"/>
                </a:moveTo>
                <a:lnTo>
                  <a:pt x="11515" y="13271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30640" y="4784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472" y="13293"/>
                </a:moveTo>
                <a:lnTo>
                  <a:pt x="11472" y="1329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37120" y="4784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493" y="13293"/>
                </a:moveTo>
                <a:lnTo>
                  <a:pt x="11493" y="1329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37120" y="4784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493" y="13293"/>
                </a:moveTo>
                <a:lnTo>
                  <a:pt x="11493" y="1329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37120" y="4784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493" y="13293"/>
                </a:moveTo>
                <a:lnTo>
                  <a:pt x="11493" y="1329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5040" y="48006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1515" y="13335"/>
                </a:moveTo>
                <a:lnTo>
                  <a:pt x="11515" y="1333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5040" y="4776840"/>
            <a:ext cx="7920" cy="1440"/>
          </a:xfrm>
          <a:custGeom>
            <a:avLst/>
            <a:gdLst/>
            <a:ahLst/>
            <a:rect l="l" t="t" r="r" b="b"/>
            <a:pathLst>
              <a:path w="22" h="1">
                <a:moveTo>
                  <a:pt x="11515" y="13271"/>
                </a:moveTo>
                <a:cubicBezTo>
                  <a:pt x="11522" y="13271"/>
                  <a:pt x="11529" y="13271"/>
                  <a:pt x="11536" y="1327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52960" y="47703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1536" y="13250"/>
                </a:moveTo>
                <a:lnTo>
                  <a:pt x="11536" y="1325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60880" y="4792680"/>
            <a:ext cx="7920" cy="1440"/>
          </a:xfrm>
          <a:custGeom>
            <a:avLst/>
            <a:gdLst/>
            <a:ahLst/>
            <a:rect l="l" t="t" r="r" b="b"/>
            <a:pathLst>
              <a:path w="22" h="1">
                <a:moveTo>
                  <a:pt x="11578" y="13314"/>
                </a:moveTo>
                <a:cubicBezTo>
                  <a:pt x="11571" y="13314"/>
                  <a:pt x="11564" y="13314"/>
                  <a:pt x="11557" y="1331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98960" y="4762440"/>
            <a:ext cx="77760" cy="54000"/>
          </a:xfrm>
          <a:custGeom>
            <a:avLst/>
            <a:gdLst/>
            <a:ahLst/>
            <a:rect l="l" t="t" r="r" b="b"/>
            <a:pathLst>
              <a:path w="212" h="149">
                <a:moveTo>
                  <a:pt x="11493" y="13250"/>
                </a:moveTo>
                <a:cubicBezTo>
                  <a:pt x="11504" y="13292"/>
                  <a:pt x="11514" y="13293"/>
                  <a:pt x="11557" y="13293"/>
                </a:cubicBezTo>
                <a:cubicBezTo>
                  <a:pt x="11544" y="13241"/>
                  <a:pt x="11525" y="13250"/>
                  <a:pt x="11472" y="13250"/>
                </a:cubicBezTo>
                <a:cubicBezTo>
                  <a:pt x="11444" y="13250"/>
                  <a:pt x="11416" y="13250"/>
                  <a:pt x="11388" y="13250"/>
                </a:cubicBezTo>
                <a:cubicBezTo>
                  <a:pt x="11388" y="13287"/>
                  <a:pt x="11393" y="13293"/>
                  <a:pt x="11409" y="13314"/>
                </a:cubicBezTo>
                <a:cubicBezTo>
                  <a:pt x="11426" y="13336"/>
                  <a:pt x="11489" y="13347"/>
                  <a:pt x="11515" y="13356"/>
                </a:cubicBezTo>
                <a:cubicBezTo>
                  <a:pt x="11551" y="13368"/>
                  <a:pt x="11543" y="13351"/>
                  <a:pt x="11578" y="13377"/>
                </a:cubicBezTo>
                <a:cubicBezTo>
                  <a:pt x="11578" y="13337"/>
                  <a:pt x="11595" y="13310"/>
                  <a:pt x="11599" y="13271"/>
                </a:cubicBezTo>
                <a:cubicBezTo>
                  <a:pt x="11603" y="13226"/>
                  <a:pt x="11568" y="13229"/>
                  <a:pt x="11536" y="13229"/>
                </a:cubicBezTo>
                <a:cubicBezTo>
                  <a:pt x="11512" y="13229"/>
                  <a:pt x="11495" y="13269"/>
                  <a:pt x="11472" y="1329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98960" y="5889600"/>
            <a:ext cx="61920" cy="46080"/>
          </a:xfrm>
          <a:custGeom>
            <a:avLst/>
            <a:gdLst/>
            <a:ahLst/>
            <a:rect l="l" t="t" r="r" b="b"/>
            <a:pathLst>
              <a:path w="171" h="128">
                <a:moveTo>
                  <a:pt x="14033" y="16404"/>
                </a:moveTo>
                <a:cubicBezTo>
                  <a:pt x="13998" y="16422"/>
                  <a:pt x="13983" y="16419"/>
                  <a:pt x="13970" y="16404"/>
                </a:cubicBezTo>
                <a:cubicBezTo>
                  <a:pt x="13941" y="16370"/>
                  <a:pt x="13928" y="16362"/>
                  <a:pt x="13885" y="16362"/>
                </a:cubicBezTo>
                <a:cubicBezTo>
                  <a:pt x="13901" y="16366"/>
                  <a:pt x="13985" y="16377"/>
                  <a:pt x="13991" y="16383"/>
                </a:cubicBezTo>
                <a:cubicBezTo>
                  <a:pt x="14007" y="16399"/>
                  <a:pt x="14012" y="16413"/>
                  <a:pt x="14012" y="16446"/>
                </a:cubicBezTo>
                <a:cubicBezTo>
                  <a:pt x="14012" y="16482"/>
                  <a:pt x="14003" y="16479"/>
                  <a:pt x="14033" y="16489"/>
                </a:cubicBezTo>
                <a:cubicBezTo>
                  <a:pt x="14064" y="16449"/>
                  <a:pt x="14062" y="16446"/>
                  <a:pt x="14033" y="16425"/>
                </a:cubicBezTo>
                <a:cubicBezTo>
                  <a:pt x="13993" y="16395"/>
                  <a:pt x="13970" y="16357"/>
                  <a:pt x="13970" y="16425"/>
                </a:cubicBezTo>
                <a:cubicBezTo>
                  <a:pt x="13970" y="16439"/>
                  <a:pt x="13970" y="16454"/>
                  <a:pt x="13970" y="16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53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37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70" name="" descr=" (563x699, 128Kb)"/>
          <p:cNvPicPr/>
          <p:nvPr/>
        </p:nvPicPr>
        <p:blipFill>
          <a:blip r:embed="rId1"/>
          <a:stretch/>
        </p:blipFill>
        <p:spPr>
          <a:xfrm>
            <a:off x="463680" y="260280"/>
            <a:ext cx="82850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381480" y="4767120"/>
            <a:ext cx="238104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43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Маяк на мисі  Херсонес 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44276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исі Херсонес є ще один цікавий об`ект – маяк з дзвоном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й маяк був і при греках. Він вказував дорогу морякам під час туманів в бухті. Є повір`я, що якщо стати під ним й загадати бажання, а потім вдарити в дзвін, то бажання здійсн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ься. Чи справді збувається – на знаю, не пробував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ід час Кримської війни, дзвін зняли французи й відправили в Париж, як військовий трофей. Повернули його в Херсонес, вже після встановлення миру. Говорять, що він висів на Соборі парижської Богоматері.</a:t>
            </a:r>
            <a:br>
              <a:rPr sz="18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03640" y="1600200"/>
            <a:ext cx="3672000" cy="4495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06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3227400"/>
            <a:ext cx="821844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verb" presetID="0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61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Облаштування  міст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af"/>
                </a:solidFill>
                <a:latin typeface="Arial"/>
              </a:rPr>
              <a:t>Сходи на гору Мітрідат (сучасний вигляд)</a:t>
            </a:r>
            <a:endParaRPr b="0" lang="en-US" sz="28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49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Історичний  диктант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Присяга громадян Херсонеса 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( початок ІІІ ст. до н. е.)</a:t>
            </a:r>
            <a:br>
              <a:rPr sz="2400"/>
            </a:b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ягаюся Зевсом, Геєю, Геліосом, Дівою, богами й богинями олімпійськими та героями. Я буду дбати про безпеку та свободу держави і громадян і не зраджу Херсонеса, Керкінітіди, Прекрасної Гавані та інших укріплених міст, якими володіють херсонесити, і не віддам нічого нікому – ні греку, ні варвару, а буду берегти все це для  херсонського народ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af"/>
                </a:solidFill>
                <a:latin typeface="Arial"/>
              </a:rPr>
              <a:t>Відтворений вигляд  колишніх поселень</a:t>
            </a:r>
            <a:r>
              <a:rPr b="0" lang="uk-UA" sz="4000" spc="-1" strike="noStrike">
                <a:solidFill>
                  <a:srgbClr val="ffffa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af"/>
                </a:solidFill>
                <a:latin typeface="Arial"/>
              </a:rPr>
              <a:t>(кам</a:t>
            </a:r>
            <a:r>
              <a:rPr b="0" lang="en-US" sz="2000" spc="-1" strike="noStrike">
                <a:solidFill>
                  <a:srgbClr val="ffffaf"/>
                </a:solidFill>
                <a:latin typeface="Arial"/>
                <a:ea typeface="Arial"/>
              </a:rPr>
              <a:t>'</a:t>
            </a:r>
            <a:r>
              <a:rPr b="0" lang="uk-UA" sz="2000" spc="-1" strike="noStrike">
                <a:solidFill>
                  <a:srgbClr val="ffffaf"/>
                </a:solidFill>
                <a:latin typeface="Arial"/>
              </a:rPr>
              <a:t>яні будівлі,накриті черепицею)</a:t>
            </a:r>
            <a:endParaRPr b="0" lang="en-US" sz="2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413000"/>
            <a:ext cx="4038480" cy="4464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48320" y="1413000"/>
            <a:ext cx="403848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Розвиток господарства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2800" y="1413000"/>
            <a:ext cx="8208360" cy="4565520"/>
            <a:chOff x="442800" y="1413000"/>
            <a:chExt cx="8208360" cy="4565520"/>
          </a:xfrm>
        </p:grpSpPr>
        <p:cxnSp>
          <p:nvCxnSpPr>
            <p:cNvPr id="190" name="_s35863"/>
            <p:cNvCxnSpPr>
              <a:stCxn id="191" idx="0"/>
              <a:endCxn id="192" idx="2"/>
            </p:cNvCxnSpPr>
            <p:nvPr/>
          </p:nvCxnSpPr>
          <p:spPr>
            <a:xfrm flipV="1" rot="16200000">
              <a:off x="5526720" y="2258640"/>
              <a:ext cx="913680" cy="2873520"/>
            </a:xfrm>
            <a:prstGeom prst="bentConnector3">
              <a:avLst>
                <a:gd name="adj1" fmla="val 124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35862"/>
            <p:cNvCxnSpPr>
              <a:stCxn id="194" idx="0"/>
              <a:endCxn id="192" idx="2"/>
            </p:cNvCxnSpPr>
            <p:nvPr/>
          </p:nvCxnSpPr>
          <p:spPr>
            <a:xfrm flipV="1">
              <a:off x="4547160" y="3238920"/>
              <a:ext cx="3600" cy="91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35861"/>
            <p:cNvCxnSpPr>
              <a:stCxn id="196" idx="0"/>
              <a:endCxn id="192" idx="2"/>
            </p:cNvCxnSpPr>
            <p:nvPr/>
          </p:nvCxnSpPr>
          <p:spPr>
            <a:xfrm flipH="1" flipV="1" rot="5400000">
              <a:off x="2653560" y="2259000"/>
              <a:ext cx="913680" cy="2873520"/>
            </a:xfrm>
            <a:prstGeom prst="bentConnector3">
              <a:avLst>
                <a:gd name="adj1" fmla="val 124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2" name="_s35857"/>
            <p:cNvSpPr/>
            <p:nvPr/>
          </p:nvSpPr>
          <p:spPr>
            <a:xfrm>
              <a:off x="3315600" y="1413000"/>
              <a:ext cx="2462400" cy="18262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000000"/>
                  </a:solidFill>
                  <a:latin typeface="Tahoma"/>
                </a:rPr>
                <a:t>Вид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uk-UA" sz="2500" spc="-1" strike="noStrike">
                  <a:solidFill>
                    <a:srgbClr val="000000"/>
                  </a:solidFill>
                  <a:latin typeface="Tahoma"/>
                </a:rPr>
                <a:t>господарства</a:t>
              </a:r>
              <a:r>
                <a:rPr b="0" lang="uk-UA" sz="1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35858"/>
            <p:cNvSpPr/>
            <p:nvPr/>
          </p:nvSpPr>
          <p:spPr>
            <a:xfrm>
              <a:off x="442800" y="4152240"/>
              <a:ext cx="2462400" cy="18262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Tahoma"/>
                </a:rPr>
                <a:t>Землеробств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Tahoma"/>
                </a:rPr>
                <a:t>Виноробство </a:t>
              </a:r>
              <a:r>
                <a:rPr b="0" lang="uk-UA" sz="2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35859"/>
            <p:cNvSpPr/>
            <p:nvPr/>
          </p:nvSpPr>
          <p:spPr>
            <a:xfrm>
              <a:off x="3315600" y="4152240"/>
              <a:ext cx="2462400" cy="18262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000000"/>
                  </a:solidFill>
                  <a:latin typeface="Arial"/>
                </a:rPr>
                <a:t>Ремесло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35860"/>
            <p:cNvSpPr/>
            <p:nvPr/>
          </p:nvSpPr>
          <p:spPr>
            <a:xfrm>
              <a:off x="6188760" y="4152240"/>
              <a:ext cx="2462400" cy="182628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000000"/>
                  </a:solidFill>
                  <a:latin typeface="Arial"/>
                </a:rPr>
                <a:t>Скотарство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000000"/>
                  </a:solidFill>
                  <a:latin typeface="Arial"/>
                </a:rPr>
                <a:t>Рибальство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Монетний двір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af"/>
                </a:solidFill>
                <a:latin typeface="Arial"/>
              </a:rPr>
              <a:t>Види  монет (дельфіни, стріли)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200" name="" descr="Ольвия. "/>
          <p:cNvPicPr/>
          <p:nvPr/>
        </p:nvPicPr>
        <p:blipFill>
          <a:blip r:embed="rId1"/>
          <a:stretch/>
        </p:blipFill>
        <p:spPr>
          <a:xfrm>
            <a:off x="826920" y="1700280"/>
            <a:ext cx="2919600" cy="194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Античные монеты древней Греции. Ольвия. "/>
          <p:cNvPicPr/>
          <p:nvPr/>
        </p:nvPicPr>
        <p:blipFill>
          <a:blip r:embed="rId2"/>
          <a:stretch/>
        </p:blipFill>
        <p:spPr>
          <a:xfrm>
            <a:off x="5003640" y="1685880"/>
            <a:ext cx="3313440" cy="2000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Античные монеты древней Греции. Ольвия. "/>
          <p:cNvPicPr/>
          <p:nvPr/>
        </p:nvPicPr>
        <p:blipFill>
          <a:blip r:embed="rId3"/>
          <a:stretch/>
        </p:blipFill>
        <p:spPr>
          <a:xfrm>
            <a:off x="1547640" y="4365720"/>
            <a:ext cx="936720" cy="1235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140360" y="3789360"/>
            <a:ext cx="3671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Античные монеты древней Греции. Ольвия. Афродита"/>
          <p:cNvPicPr/>
          <p:nvPr/>
        </p:nvPicPr>
        <p:blipFill>
          <a:blip r:embed="rId1"/>
          <a:stretch/>
        </p:blipFill>
        <p:spPr>
          <a:xfrm>
            <a:off x="324000" y="692280"/>
            <a:ext cx="3671640" cy="2952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Античные монеты древней Греции. Ольвия. Деметра"/>
          <p:cNvPicPr/>
          <p:nvPr/>
        </p:nvPicPr>
        <p:blipFill>
          <a:blip r:embed="rId2"/>
          <a:stretch/>
        </p:blipFill>
        <p:spPr>
          <a:xfrm>
            <a:off x="324000" y="3860640"/>
            <a:ext cx="3765240" cy="2089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4048200" cy="3004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Античные монеты древней Греции. Ольвия. "/>
          <p:cNvPicPr/>
          <p:nvPr/>
        </p:nvPicPr>
        <p:blipFill>
          <a:blip r:embed="rId4"/>
          <a:stretch/>
        </p:blipFill>
        <p:spPr>
          <a:xfrm>
            <a:off x="4788000" y="3933720"/>
            <a:ext cx="4032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af"/>
                </a:solidFill>
                <a:latin typeface="Arial"/>
              </a:rPr>
              <a:t>На гривні 1996 р.в.  Зображені  руїни Хрсонесу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274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af"/>
                </a:solidFill>
                <a:latin typeface="Arial"/>
              </a:rPr>
              <a:t>Монета НБУ присвячена Ольвії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211" name="" descr="http://kievcoins.narod.ru/olvia.jpg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Зовнішній вигляд колоністів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857840" cy="5056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651640" y="1341360"/>
            <a:ext cx="302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Перевір себе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лонізац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лон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етропол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г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'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лі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ристократ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е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кроп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76720" y="1341360"/>
            <a:ext cx="5543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882960" cy="5503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427640" y="549360"/>
            <a:ext cx="4174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 (700x596, 57Kb)"/>
          <p:cNvPicPr/>
          <p:nvPr/>
        </p:nvPicPr>
        <p:blipFill>
          <a:blip r:embed="rId2"/>
          <a:stretch/>
        </p:blipFill>
        <p:spPr>
          <a:xfrm>
            <a:off x="0" y="189000"/>
            <a:ext cx="4572000" cy="576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41767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суд, знайдений в колоніях</a:t>
            </a: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http://nikolaev.promir.info/region/olvia/part1_32.JPG"/>
          <p:cNvPicPr/>
          <p:nvPr/>
        </p:nvPicPr>
        <p:blipFill>
          <a:blip r:embed="rId1"/>
          <a:stretch/>
        </p:blipFill>
        <p:spPr>
          <a:xfrm>
            <a:off x="179280" y="1268280"/>
            <a:ext cx="87138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af"/>
                </a:solidFill>
                <a:latin typeface="Arial"/>
              </a:rPr>
              <a:t>Пілони для зберігання продуктів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http://nikolaev.promir.info/region/olvia/part1_39.JPG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http://nikolaev.promir.info/region/olvia/part1_52.JPG"/>
          <p:cNvPicPr/>
          <p:nvPr/>
        </p:nvPicPr>
        <p:blipFill>
          <a:blip r:embed="rId1"/>
          <a:stretch/>
        </p:blipFill>
        <p:spPr>
          <a:xfrm>
            <a:off x="108000" y="189000"/>
            <a:ext cx="8856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a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fffaf"/>
                </a:solidFill>
                <a:latin typeface="Arial"/>
              </a:rPr>
              <a:t>Аттична чорнофігурна розпис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2305080" cy="29037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384720" cy="388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26920" y="4581360"/>
            <a:ext cx="268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тична чорнофігурна амфора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 Одеського державного археологічного музею. (VI ст. до н. е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16360" y="526824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cc"/>
                </a:solidFill>
                <a:uFillTx/>
                <a:latin typeface="Arial"/>
                <a:hlinkClick r:id="rId3"/>
              </a:rPr>
              <a:t>Аттич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00cc"/>
                </a:solidFill>
                <a:uFillTx/>
                <a:latin typeface="Arial"/>
                <a:hlinkClick r:id="rId4"/>
              </a:rPr>
              <a:t>червонофігур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00cc"/>
                </a:solidFill>
                <a:uFillTx/>
                <a:latin typeface="Arial"/>
                <a:hlinkClick r:id="rId5"/>
              </a:rPr>
              <a:t>кала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Зевс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80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Афін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арфенос, роботи Фідія</a:t>
            </a:r>
            <a:r>
              <a:rPr b="0" lang="uk-UA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230640" y="1341360"/>
            <a:ext cx="26827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Афродіта Кнідська</a:t>
            </a: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419640" y="1341360"/>
            <a:ext cx="23047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af"/>
                </a:solidFill>
                <a:latin typeface="Arial"/>
              </a:rPr>
              <a:t>Тема уроку 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ецькі міста -колонії на території  сучасної Украї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іоніс · бог родючості, рослинності, виноградарства виноробства.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4465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af"/>
                </a:solidFill>
                <a:latin typeface="Arial"/>
              </a:rPr>
              <a:t>Аполлон </a:t>
            </a:r>
            <a:r>
              <a:rPr b="0" lang="uk-UA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5862600" cy="4286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2050920" cy="36021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916360" y="0"/>
            <a:ext cx="593388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Філософ   Біон (Борисфеніт)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  скупого багаті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  він  володіє багатством , а багатство  володіє  ни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74328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Демосфен</a:t>
            </a:r>
            <a:r>
              <a:rPr b="1" lang="uk-UA" sz="54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3959280" cy="47116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Л</a:t>
            </a:r>
            <a:r>
              <a:rPr b="0" lang="ru-RU" sz="4000" spc="-1" strike="noStrike" u="sng">
                <a:solidFill>
                  <a:srgbClr val="6600cc"/>
                </a:solidFill>
                <a:uFillTx/>
                <a:latin typeface="Arial"/>
                <a:hlinkClick r:id="rId3"/>
              </a:rPr>
              <a:t>егше</a:t>
            </a:r>
            <a:r>
              <a:rPr b="0" lang="ru-RU" sz="4000" spc="-1" strike="noStrike" u="sng">
                <a:solidFill>
                  <a:srgbClr val="6600cc"/>
                </a:solidFill>
                <a:uFillTx/>
                <a:latin typeface="Arial"/>
                <a:hlinkClick r:id="rId4"/>
              </a:rPr>
              <a:t> за в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cc"/>
                </a:solidFill>
                <a:uFillTx/>
                <a:latin typeface="Arial"/>
                <a:hlinkClick r:id="rId5"/>
              </a:rPr>
              <a:t>обдурити</a:t>
            </a:r>
            <a:r>
              <a:rPr b="0" lang="ru-RU" sz="4000" spc="-1" strike="noStrike" u="sng">
                <a:solidFill>
                  <a:srgbClr val="6600cc"/>
                </a:solidFill>
                <a:uFillTx/>
                <a:latin typeface="Arial"/>
                <a:hlinkClick r:id="rId6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cc"/>
                </a:solidFill>
                <a:uFillTx/>
                <a:latin typeface="Arial"/>
                <a:hlinkClick r:id="rId7"/>
              </a:rPr>
              <a:t>сам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00cc"/>
                </a:solidFill>
                <a:uFillTx/>
                <a:latin typeface="Arial"/>
                <a:hlinkClick r:id="rId8"/>
              </a:rPr>
              <a:t>себ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af"/>
                </a:solidFill>
                <a:latin typeface="Arial"/>
              </a:rPr>
              <a:t>Філософ</a:t>
            </a:r>
            <a:r>
              <a:rPr b="1" lang="en-US" sz="5400" spc="-1" strike="noStrike">
                <a:solidFill>
                  <a:srgbClr val="ffffaf"/>
                </a:solidFill>
                <a:latin typeface="Arial"/>
              </a:rPr>
              <a:t>  </a:t>
            </a:r>
            <a:r>
              <a:rPr b="1" lang="uk-UA" sz="5400" spc="-1" strike="noStrike">
                <a:solidFill>
                  <a:srgbClr val="ffffaf"/>
                </a:solidFill>
                <a:latin typeface="Arial"/>
              </a:rPr>
              <a:t> Анахарсіс</a:t>
            </a: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311640" cy="43927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раще мати одного друга справжнього , ніж багато несправжніх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Вправа “Три кроки”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2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и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К ПЕРШИ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рограмуй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К ДРУГИ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іни себе са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К ТРЕТІ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спрес-контро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 1д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Експрес  опитування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йближчі  сусіди  греків-колоністів  у Північному  Причорном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перси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скіфи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кіммерій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af"/>
                </a:solidFill>
                <a:latin typeface="Arial"/>
              </a:rPr>
              <a:t>2.Місто , назва  якого  в  перекладі  з  грецької  мови  означає  “півострів”: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Херсоне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Ольві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Пантікап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af"/>
                </a:solidFill>
                <a:latin typeface="Arial"/>
              </a:rPr>
              <a:t>3. Понтом  Евксинським  називали  море: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Егейсь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Чор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Іоніч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a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uk-UA" sz="3200" spc="-1" strike="noStrike">
                <a:solidFill>
                  <a:srgbClr val="ffffaf"/>
                </a:solidFill>
                <a:latin typeface="Arial"/>
              </a:rPr>
              <a:t>4. Грецький  філософ, що  був  вихідцем  з  Ольвії: </a:t>
            </a:r>
            <a:br>
              <a:rPr sz="4000"/>
            </a:b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Бі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Пла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Гераклі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Мета  уроку: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глибити  знання  про  причини  грецької  колонізації  Північного  Причорном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 , познайомитись  із  найбільшими  містами-колоніями: Ольвія, Херсонес, Пантікапей; сформувати  уявлення  про  устрій, господарство, побут, культуру  грецьких колоній . На  основі  історичної  карти, атласу, перегляду  відео, слайдів  спробуємо відтворити  історичне  минуле  держав -колоній  півдня  України УІІ-У ст до н.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ffffaf"/>
                </a:solidFill>
                <a:latin typeface="Arial"/>
              </a:rPr>
              <a:t>5.На  місці  давнього  Пантікапею  сьогодні  стоїть:</a:t>
            </a:r>
            <a:br>
              <a:rPr sz="3200"/>
            </a:b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Очаків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Феодосі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Кер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af"/>
                </a:solidFill>
                <a:latin typeface="Arial"/>
              </a:rPr>
              <a:t>6.Яким  із  видів  господарства  не  займалися грецькі  поселенці: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ремес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землероб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торгів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) кочівниц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af"/>
                </a:solidFill>
                <a:latin typeface="Arial"/>
              </a:rPr>
              <a:t>7. Назва  центральної  площі  у  греків: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акропо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аг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майд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4470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af"/>
                </a:solidFill>
                <a:latin typeface="Arial"/>
              </a:rPr>
              <a:t>8. Жителі  якого  міста  складали йому  присягу  на  вірність?</a:t>
            </a:r>
            <a:br>
              <a:rPr sz="4000"/>
            </a:b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Херсоне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Пантікап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Ольв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af"/>
                </a:solidFill>
                <a:latin typeface="Arial"/>
              </a:rPr>
              <a:t>9.Хто  із  грецьких  богів  був  найбільш  шанованим  у  жителів  Північного  Причорномор</a:t>
            </a:r>
            <a:r>
              <a:rPr b="0" lang="en-US" sz="3200" spc="-1" strike="noStrike">
                <a:solidFill>
                  <a:srgbClr val="ffffaf"/>
                </a:solidFill>
                <a:latin typeface="Arial"/>
                <a:ea typeface="Arial"/>
              </a:rPr>
              <a:t>'</a:t>
            </a:r>
            <a:r>
              <a:rPr b="0" lang="uk-UA" sz="3200" spc="-1" strike="noStrike">
                <a:solidFill>
                  <a:srgbClr val="ffffaf"/>
                </a:solidFill>
                <a:latin typeface="Arial"/>
              </a:rPr>
              <a:t>я?</a:t>
            </a:r>
            <a:r>
              <a:rPr b="0" lang="uk-UA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Зев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Аполл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Афі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af"/>
                </a:solidFill>
                <a:latin typeface="Arial"/>
              </a:rPr>
              <a:t>10.Місто,  що  розташоване  не  в  Північному  Причорномор</a:t>
            </a:r>
            <a:r>
              <a:rPr b="0" lang="en-US" sz="3200" spc="-1" strike="noStrike">
                <a:solidFill>
                  <a:srgbClr val="ffffaf"/>
                </a:solidFill>
                <a:latin typeface="Arial"/>
                <a:ea typeface="Arial"/>
              </a:rPr>
              <a:t>'</a:t>
            </a:r>
            <a:r>
              <a:rPr b="0" lang="uk-UA" sz="3200" spc="-1" strike="noStrike">
                <a:solidFill>
                  <a:srgbClr val="ffffaf"/>
                </a:solidFill>
                <a:latin typeface="Arial"/>
              </a:rPr>
              <a:t>ї.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Херсоне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Ольві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Мі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af"/>
                </a:solidFill>
                <a:latin typeface="Arial"/>
              </a:rPr>
              <a:t>11.Початок  грецької  колонізаціїї  Північного  Причорномор</a:t>
            </a:r>
            <a:r>
              <a:rPr b="0" lang="en-US" sz="3200" spc="-1" strike="noStrike">
                <a:solidFill>
                  <a:srgbClr val="ffffaf"/>
                </a:solidFill>
                <a:latin typeface="Arial"/>
                <a:ea typeface="Arial"/>
              </a:rPr>
              <a:t>'</a:t>
            </a:r>
            <a:r>
              <a:rPr b="0" lang="uk-UA" sz="3200" spc="-1" strike="noStrike">
                <a:solidFill>
                  <a:srgbClr val="ffffaf"/>
                </a:solidFill>
                <a:latin typeface="Arial"/>
              </a:rPr>
              <a:t>я.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УІІІ  ст.  до  н.  е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УІІ  ст.  до  н.  е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УІ  ст.  до  н.  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3200" spc="-1" strike="noStrike">
                <a:solidFill>
                  <a:srgbClr val="ffffaf"/>
                </a:solidFill>
                <a:latin typeface="Arial"/>
              </a:rPr>
              <a:t>12.Грецька  колонія, що  розташована  біля  сучасного  села  Парутіно  Миколаївської  області.</a:t>
            </a:r>
            <a:endParaRPr b="0" lang="en-US" sz="32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Ольві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Херсоне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Пантікап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af"/>
                </a:solidFill>
                <a:latin typeface="Arial"/>
              </a:rPr>
              <a:t>Ключ   до  тестів.</a:t>
            </a:r>
            <a:endParaRPr b="0" lang="en-US" sz="36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Скіф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Херсон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Чор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Бі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) Кер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) Кочівниц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А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Херсон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Аппо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) Мі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УІІ ст.  до  н. 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Ольв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68360" y="307800"/>
            <a:ext cx="8207280" cy="55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План 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чини  утворення  міст-колоній  у Північному  Причорном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йголовніші  міста-колонії  Північного Причорном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спільне, господарське  та  духовне життя  у  колоні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Античні  міста –держави Північного Причорномор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uk-UA" sz="4000" spc="-1" strike="noStrike">
                <a:solidFill>
                  <a:srgbClr val="ffffa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1700280"/>
          <a:ext cx="8362800" cy="4506840"/>
        </p:xfrm>
        <a:graphic>
          <a:graphicData uri="http://schemas.openxmlformats.org/drawingml/2006/table">
            <a:tbl>
              <a:tblPr/>
              <a:tblGrid>
                <a:gridCol w="2090880"/>
                <a:gridCol w="2092320"/>
                <a:gridCol w="2089080"/>
                <a:gridCol w="209052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ародавня назва мі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ереклад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учасна наз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та заснув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ьв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аслив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Парут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олаївської об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. до н.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рсоне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вострів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астоп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. до н.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тікап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ний шлях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. до н.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лоністи  прагнули мати гарні стосунки з місцевим населенням і намагалися не втрачати з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зки з батьківщиною – метрополіє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 античне минуле  Причорном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 нагадують величні руїни Пантікапея, що дійшли  до наших часів, Херсонеса та  Ольвії, залишки укріплених фортечних споруд, тріумфальні і надгробні стелі,  також знахідки їз затонулих біля чорноморського узбережжя кораблів, виявлених археологами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йже 1000 років існували міста в Північному Причорномор’ї, вони мали великий культурний вплив на місцеві племена – наших далеких пред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старших  класах ви будете поглиблювати свої знання  про цей відрізок історії нашої краї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915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uk-UA" sz="4000" spc="-1" strike="noStrike">
                <a:solidFill>
                  <a:srgbClr val="ffffaf"/>
                </a:solidFill>
                <a:latin typeface="Arial"/>
              </a:rPr>
              <a:t>Домашнє  завдання.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працювати  матеріал  підручни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писати твір-мініатюру від  імені  жителя  одного  з античних  міст - держав  Північного Причорном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af"/>
                </a:solidFill>
                <a:latin typeface="Arial"/>
              </a:rPr>
              <a:t>Причини  утворення  міст-колоній  у Північному  Причорномор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  <a:ea typeface="Arial"/>
              </a:rPr>
              <a:t>'</a:t>
            </a:r>
            <a:r>
              <a:rPr b="0" lang="uk-UA" sz="4000" spc="-1" strike="noStrike">
                <a:solidFill>
                  <a:srgbClr val="ffffaf"/>
                </a:solidFill>
                <a:latin typeface="Arial"/>
              </a:rPr>
              <a:t>ї.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Причини</a:t>
            </a: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 грецької  колонізації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енн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кількост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селенн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 Греції  не  вистачал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льної земл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ито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оргівл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ремесе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прияв пошук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ови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инкі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у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оротьб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іж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ристократам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демос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af"/>
                </a:solidFill>
                <a:latin typeface="Arial"/>
              </a:rPr>
              <a:t>Робота з атласом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4895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0" r="-2366" b="0"/>
          <a:stretch/>
        </p:blipFill>
        <p:spPr>
          <a:xfrm>
            <a:off x="0" y="907920"/>
            <a:ext cx="9325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0:19:33Z</dcterms:created>
  <dc:creator>Leimos</dc:creator>
  <dc:description/>
  <dc:language>en-US</dc:language>
  <cp:lastModifiedBy>Бос</cp:lastModifiedBy>
  <dcterms:modified xsi:type="dcterms:W3CDTF">2014-12-14T16:18:04Z</dcterms:modified>
  <cp:revision>119</cp:revision>
  <dc:subject/>
  <dc:title>Тема уроку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9000000000001024140</vt:lpwstr>
  </property>
</Properties>
</file>