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473-FC68-49CA-BACC-D4AA5D5B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24A-8A3D-49CA-9580-971D757C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F38-B1BE-4E47-950E-005B6244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EE0-23E0-43BB-9573-65769AD0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67E6-5977-4CDB-A8D2-E6E74BE4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D2FD-51C1-4F63-B26A-5CE43EED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2034-AACD-453F-9D0C-02799005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F3B1-8A16-4802-A10B-5341565B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4409-88C5-4E1D-BD89-E6A48FDE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57FB-5BC7-4276-8A4F-958BA290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FFE3-4F61-4A52-88A0-12E27BE0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0F4-6A69-4A52-ADF7-8EE04429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740D-5910-4381-B74E-5C05DF59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8EC7-3C56-41FF-A24E-9441C96D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CFA9-104A-40C9-B04C-BA5569CB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2794-AB94-4241-9B27-502AB3D3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2D80-0DEE-4079-91DE-13EBD033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4B3-CFF3-4BC7-8184-B893626F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772-CF7C-42E4-AB83-F998B166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58C-F43F-4E63-97C2-8B4293F6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1B0-762E-4E25-80A5-725D8F82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5D8-0BD0-457F-960D-96243D9E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DCA-850C-475A-BAF8-E06AE76A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6BD-B3DB-4106-B03E-D22D6B8B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9CFD-C44B-405F-B277-EA6F76154F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CE26-738F-4F31-A8EC-73862D7A777A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685800"/>
            <a:ext cx="821520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cc00"/>
                </a:solidFill>
                <a:latin typeface="Times New Roman"/>
              </a:rPr>
              <a:t>Великі географічні відкриття -</a:t>
            </a:r>
            <a:br>
              <a:rPr sz="6000"/>
            </a:br>
            <a:r>
              <a:rPr b="0" lang="uk-UA" sz="4800" spc="-1" strike="noStrike">
                <a:solidFill>
                  <a:srgbClr val="ffcc00"/>
                </a:solidFill>
                <a:latin typeface="Times New Roman"/>
              </a:rPr>
              <a:t>це колоніальне загарбання європейцями Америки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1" name="Рисунок 13" descr=""/>
          <p:cNvPicPr/>
          <p:nvPr/>
        </p:nvPicPr>
        <p:blipFill>
          <a:blip r:embed="rId1"/>
          <a:stretch/>
        </p:blipFill>
        <p:spPr>
          <a:xfrm>
            <a:off x="1785960" y="4197240"/>
            <a:ext cx="585792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Times New Roman"/>
              </a:rPr>
              <a:t>Наслідки географічних відкриттів для корінних жителів Америки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2819520"/>
            <a:ext cx="2514600" cy="248112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олітика геноцид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Масове винищ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рінних жител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666880" y="2819520"/>
            <a:ext cx="1905120" cy="240984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нищ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унікально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ультур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род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доколумбово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876920" y="2819520"/>
            <a:ext cx="1981080" cy="23382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сильн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окатолич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сел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010280" y="2819520"/>
            <a:ext cx="2133720" cy="23382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оява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ганебного дл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людства явища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работоргівл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250920" y="5516640"/>
            <a:ext cx="4608360" cy="111276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Економічне пограбування народів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, вивез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 материка золота і срібл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2643120" y="1643040"/>
            <a:ext cx="0" cy="385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5292720" y="5445000"/>
            <a:ext cx="3672000" cy="11304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аселення 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європейцями, створенн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лоні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Стрелка вниз 16"/>
          <p:cNvSpPr/>
          <p:nvPr/>
        </p:nvSpPr>
        <p:spPr>
          <a:xfrm>
            <a:off x="3857760" y="171468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Стрелка вниз 17"/>
          <p:cNvSpPr/>
          <p:nvPr/>
        </p:nvSpPr>
        <p:spPr>
          <a:xfrm>
            <a:off x="1714680" y="1714680"/>
            <a:ext cx="483840" cy="97776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Стрелка вниз 18"/>
          <p:cNvSpPr/>
          <p:nvPr/>
        </p:nvSpPr>
        <p:spPr>
          <a:xfrm>
            <a:off x="5072040" y="171468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Стрелка вниз 19"/>
          <p:cNvSpPr/>
          <p:nvPr/>
        </p:nvSpPr>
        <p:spPr>
          <a:xfrm>
            <a:off x="7215120" y="178596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6" name="Прямая со стрелкой 21"/>
          <p:cNvCxnSpPr/>
          <p:nvPr/>
        </p:nvCxnSpPr>
        <p:spPr>
          <a:xfrm flipH="1">
            <a:off x="6928560" y="1643040"/>
            <a:ext cx="2520" cy="378864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900000" y="1052640"/>
            <a:ext cx="7602480" cy="28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ий проект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ня 8 класу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ворізького НВК №18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хоставця Сергія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2340000" y="5157720"/>
            <a:ext cx="46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b8aaad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Керівник проекту: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b8aaad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b8aaad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вчитель історії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b8aaad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b8aaad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Панасюк О.О.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b8aaad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152280" y="228600"/>
            <a:ext cx="8991720" cy="236232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Times New Roman"/>
              </a:rPr>
              <a:t>Я стверджую: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відкриття Америки – ц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колоніальне загарбання нових земель європейцям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3352680"/>
            <a:ext cx="9144000" cy="29718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о своїй суті географічні відкриття носили загарбницьки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характер, адже європейці відправилися в Індію з метою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ошуків золота і нового шляху для перевезення прянощів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які принесли б їм великі прибутк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572000" y="2666880"/>
            <a:ext cx="0" cy="60984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157644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icture 2" descr="http://geo-tour.net/Interesting/pic/columb-map.jpg"/>
          <p:cNvPicPr/>
          <p:nvPr/>
        </p:nvPicPr>
        <p:blipFill>
          <a:blip r:embed="rId1"/>
          <a:stretch/>
        </p:blipFill>
        <p:spPr>
          <a:xfrm>
            <a:off x="324000" y="189000"/>
            <a:ext cx="8670600" cy="5145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1576440" y="139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52280" y="53341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лумб не міг повірити в те, що у “східній Індії” не має золота і прянощів. Він 4 рази організовував експедиції, намагався окупити витрати і принести прибутки королям Іспанії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04920" y="457200"/>
            <a:ext cx="8534160" cy="129528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Я стверджую, що європейці ще до відкриття Америки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мали намір захопити нововідкриті землі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52280" y="2209680"/>
            <a:ext cx="8991720" cy="417204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Адже, ще 17 квітня 1492 року Колумб підписав угоду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з правителями Іспанії згідно якої він сам одержав довічно і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для своїх спадкоємців і нащадків звання Адмірал всіх земель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і континентів в океані, з усіма привілеями, які мають адмірали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Кастилії. Він призначався віце-королем і віце-губернатором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усіх земель і континентів, які відкриє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Виникає питання: На якій підставі іспанські королі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призначали  своїх правителів на нових землях?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4572000" y="1828800"/>
            <a:ext cx="0" cy="38088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79524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2" descr="http://a.isuspan.com/z/793px-Columbus_Taking_Possession.jpg"/>
          <p:cNvPicPr/>
          <p:nvPr/>
        </p:nvPicPr>
        <p:blipFill>
          <a:blip r:embed="rId1"/>
          <a:stretch/>
        </p:blipFill>
        <p:spPr>
          <a:xfrm>
            <a:off x="685800" y="150840"/>
            <a:ext cx="7696080" cy="4878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250920" y="51814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У нововідкриті землі європейці привезли католицьку віру, вони зневажали вірування корінних жителів Америки, нищили їх святилища, ідолів, відбирали золоті речі культового признач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c00"/>
                </a:solidFill>
                <a:latin typeface="Times New Roman"/>
              </a:rPr>
              <a:t>За 50 років населення Центральної Мексики скоротилося </a:t>
            </a:r>
            <a:br>
              <a:rPr sz="2400"/>
            </a:br>
            <a:r>
              <a:rPr b="0" lang="uk-UA" sz="2400" spc="-1" strike="noStrike">
                <a:solidFill>
                  <a:srgbClr val="ffcc00"/>
                </a:solidFill>
                <a:latin typeface="Times New Roman"/>
              </a:rPr>
              <a:t>з 25 млн. до 2 млн.65 тисяч чоловік (1,2),  а з 9 млн. інків, живими залишилися 1 млн. 300 тисяч(3,4)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588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Object 5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Times New Roman"/>
              </a:rPr>
              <a:t>На 1630 рік у Латинській Америці залишилося</a:t>
            </a:r>
            <a:br>
              <a:rPr sz="2800"/>
            </a:br>
            <a:r>
              <a:rPr b="0" lang="uk-UA" sz="2800" spc="-1" strike="noStrike">
                <a:solidFill>
                  <a:srgbClr val="ffcc00"/>
                </a:solidFill>
                <a:latin typeface="Times New Roman"/>
              </a:rPr>
              <a:t>3% населення з того, що жило в доколумбову еру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2895480" y="2421000"/>
            <a:ext cx="6096240" cy="3240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232740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-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сел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доколумбової Америки (100%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2- кількість корінних жителів Америки в 1630 році (3%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80880" y="685800"/>
            <a:ext cx="8382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imes New Roman"/>
              </a:rPr>
              <a:t>Корінні жителі Америки відмовилися святкувати 500-річчя відкриття Америки Колумбом, наголошуючи: “Для індіанців Америки, не має мови, взагалі, про “зустріч двох цивілізацій”, це було вторгнення, відчуження  наших  територій та колоніальне  поневолення”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3:56:40Z</dcterms:created>
  <dc:creator>www.PHILka.RU</dc:creator>
  <dc:description/>
  <dc:language>en-US</dc:language>
  <cp:lastModifiedBy>Home</cp:lastModifiedBy>
  <dcterms:modified xsi:type="dcterms:W3CDTF">2013-02-04T19:02:25Z</dcterms:modified>
  <cp:revision>26</cp:revision>
  <dc:subject/>
  <dc:title>Великі географічні відкриття: це колоніальне загарбання європейцями Аме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5000000000001024140</vt:lpwstr>
  </property>
</Properties>
</file>