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A44-7156-408B-9900-144D9C72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EEA-5527-4ECB-8FFF-4190763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A53-3804-47DC-B115-4712566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5EB-DC87-414F-8336-C47F4E0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0F6B-AF4D-4833-B475-1BD4CD08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830-893B-4448-AE20-D7EB96A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4689-C841-4EB7-BC2C-BDB790BF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0E7-7D29-474C-A3B5-D1CD005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B0C-36C0-4FFC-9A78-CBFFAA5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3FFB-DD2D-4EF5-93EA-E5E055DA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3F4-BA4D-4FBD-8CF7-199AF90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DAF-D501-4CA2-A849-F4C74C11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793E-5F78-4A73-B588-DD5F7AA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E8C-6AE6-481C-8491-23320C9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023-911D-4463-A589-0632AC07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EDA8-E96A-4250-91A4-DCB7A5FE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5C4-2186-41A1-B2C6-898BA826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C3E-F455-4461-AF73-19931F5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D87-BC26-42E3-A7C4-6E0720D3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223-5BB8-4DA4-AB99-C5C8A5F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6A4-4FF7-467D-A6DA-FCECAF6F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FFA-A9BA-4BFC-B804-1BF1AF5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3AD-5BF0-4FAA-9DA0-302BDF6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AFD-A8A4-4278-8B72-47F2AED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2E3-2827-4209-91EC-95284F218F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6D5-400A-4D9C-80BA-BE5D79218F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480" y="1143000"/>
            <a:ext cx="8915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ідкриття Амер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європейцями - це зустріч двох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ілізаці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755640" y="90792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ці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ло Полін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763640" y="4581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ерівник проект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учитель історі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анасюк О.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3520" y="404640"/>
            <a:ext cx="8076960" cy="3311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Більша частина жителів сучасно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Америки вважають, щ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відкриття Нового Світу Колумб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 – </a:t>
            </a: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це  є зустріч двох цивілізаці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1"/>
          <a:stretch/>
        </p:blipFill>
        <p:spPr>
          <a:xfrm>
            <a:off x="2411280" y="393372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66"/>
                </a:solidFill>
                <a:latin typeface="Arial"/>
              </a:rPr>
              <a:t>Народи Америки до і після 1492 року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изьк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сутність залізних знарядь прац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ебували на стадії розпаду первісного суспільства і утворення держа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у більшості племен відсутня писемність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ичницька ві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європейці принесли вищ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знайомили індіанців з вогнепальною зброєю, заліз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езли коней, іншу свійську худоб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ринесли вищу політичну організацію суспіль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тягнули місцеві народи у світову торгів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47920" y="838080"/>
            <a:ext cx="9144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Д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943600" y="914400"/>
            <a:ext cx="1076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Післ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Значення відкриття Америки для європейців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почали освоювати нововідкриті землі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завезли в Європу  нові сільськогосподарські культури: картоплю, помідори, кукурудзу, какао, тютю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розпочалися нові дослідження в багатьох галузях нау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торгові шляхи перемістилися із Середземного моря в Атлантичний океа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сформувався світовий ринок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виникли нові мануфактури, сировину для яких везли з Аме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Я засуджую методи, якими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діяли європейці в Америці. Але обидві цивілізації збагатилися у своїх пізнаннях.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Постає питання: Скільки років потрібно було б народам Америки, щоб досягти європейського рівн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189000"/>
            <a:ext cx="64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Arial"/>
              </a:rPr>
              <a:t>Таким чино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4:25:48Z</dcterms:created>
  <dc:creator>www.PHILka.RU</dc:creator>
  <dc:description/>
  <dc:language>en-US</dc:language>
  <cp:lastModifiedBy>Home</cp:lastModifiedBy>
  <dcterms:modified xsi:type="dcterms:W3CDTF">2013-02-04T18:52:0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2000000000001024140</vt:lpwstr>
  </property>
</Properties>
</file>