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F8A-B0A3-43DB-A65B-016CA06E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B2E-8267-4C4C-9422-794572B7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7156-BDC1-43D2-AA52-A8BA6F0E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C36E-D1EE-42CF-A8FB-28E438F1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EF30-B9DC-4231-A040-3620C765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98C9-1709-49DD-BD0A-4CB1E0FD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0093-BD57-4AA0-9914-087B2207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FD5C-69D9-4B01-9381-9E3B9F2E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C636-1CB4-44C9-93F4-A8C49F36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961A-74A2-4BB1-BD68-D8ECD83D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3A53-47E0-41F6-9770-C8206450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5A15-F359-4517-A97D-E29FD748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05A9-D09A-4719-97AC-A94C022D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8E69-98A8-4430-A232-C87C609F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9FBD-DA6F-44E8-955E-BADAC0CE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D56F-78E0-47A2-8E71-16029981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D465-21BE-453E-B720-601D091E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7CAEB-EE33-4A13-925E-0409BF03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5B339-C0BC-417A-9CE0-7B4D0044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E33DD-690C-4261-B116-E28C6880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E6C35-B353-4D11-8548-96388286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9093F-E0E6-4549-92E8-7262C0AB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FB12-D922-4400-A195-F18190B5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06221-1983-410B-8AB9-6F9274B5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FDF0D-BB73-4631-B692-BF216A99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CC19E-C338-4FFB-84A3-85CB66DE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1DA7E-C24C-4617-9515-C760DEA5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17FCC-30C2-4EB5-BE89-92CF44A6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268FB-816C-4FA3-91DD-94CC882D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F2453-38C1-4CEB-AEC6-580B66CF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8B601-5CA9-4E1B-9532-CF0E6239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843A8-E287-4578-84EF-C1FA74D1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8D1E0-A567-4A58-B6FB-06853B4B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B070-ADEC-463E-8194-C8DA02D7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230DF-B6B7-4949-B58C-4DEEB8BE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2B99D-AE34-4AF6-A92B-8E647E46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D3220-8AE6-4240-86D5-E5A38319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EB1C9-79F6-4F4E-A3D6-FA27945A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7B886-6B21-4C29-93C5-EEEDECBF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8D44B-A004-461A-80FA-5CEF200D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B1B25-C0CC-45C5-B5AC-9C5D9092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34823-7B70-4959-80F8-93B03EF0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57901-0F94-45FD-B09B-0E3145A0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B7BD2-7923-4C97-9CC6-E2AA108E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4567-5C91-498A-B094-6FC2C6ED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23BDC-B7CC-464C-8899-A5F76C3A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83E4B-EB9E-461D-8D94-822CE512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10A67-420F-46F0-9DE4-FA731885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854DF-69D9-4923-BC82-7FDB9787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17369-6AFF-483F-AE69-83E64B14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D602F-4837-44B0-AC8A-48BC0A47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FBD78-B9B9-4EEA-864E-283ECB72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6F733-245F-4DFF-9053-246609B2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0EB1B-963B-4B92-BB02-C948902A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57941-1C93-4830-A92B-EFACBA3F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063-9C2B-4C0F-BD0B-29DB509A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4470A-C5A4-4799-A118-7B5A7017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D8163-2900-48C2-9CE4-E58A6B06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4F7C3-123F-494F-B6A3-8C527806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85B34-5B4E-4708-A273-B001EAF5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39B5D-846D-470A-A0FD-91F603BA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34515-BB74-47AA-BB8E-0B152C9D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7973B-CBB9-4240-9423-2E7E3248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CF223-E7E0-42D7-BC86-01D0F0A2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28EDF-0F4C-455E-A180-7E35331B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FA646-C821-4400-93ED-E21E450F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9D0-EDEE-4690-B76C-251AFAF2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1C30D-1034-4027-B563-4DDB655C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6C9C7-4519-42AA-8719-0F381409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AA63C-739D-4D5D-9254-84086631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BF8B-0D88-4D1B-8311-3F4ED748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4AD6-4D6E-4C07-9EA5-B6D02031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>
              <a:gd name="textAreaLeft" fmla="*/ 0 w 1982880"/>
              <a:gd name="textAreaRight" fmla="*/ 1983240 w 198288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306360"/>
              <a:gd name="textAreaBottom" fmla="*/ 306360 h 306360"/>
            </a:gdLst>
            <a:ahLst/>
            <a:rect l="textAreaLeft" t="textAreaTop" r="textAreaRight" b="textAreaBottom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>
              <a:gd name="textAreaLeft" fmla="*/ 0 w 1947960"/>
              <a:gd name="textAreaRight" fmla="*/ 1948320 w 1947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>
              <a:gd name="textAreaLeft" fmla="*/ 0 w 122040"/>
              <a:gd name="textAreaRight" fmla="*/ 122400 w 1220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>
              <a:gd name="textAreaLeft" fmla="*/ 0 w 1951200"/>
              <a:gd name="textAreaRight" fmla="*/ 1951560 w 195120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>
              <a:gd name="textAreaLeft" fmla="*/ 0 w 90360"/>
              <a:gd name="textAreaRight" fmla="*/ 90720 w 903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>
                <a:gd name="textAreaLeft" fmla="*/ 0 w 3381480"/>
                <a:gd name="textAreaRight" fmla="*/ 3381840 w 338148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>
                <a:gd name="textAreaLeft" fmla="*/ 0 w 3378240"/>
                <a:gd name="textAreaRight" fmla="*/ 3378600 w 33782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>
                <a:gd name="textAreaLeft" fmla="*/ 0 w 3379680"/>
                <a:gd name="textAreaRight" fmla="*/ 3380040 w 337968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>
                <a:gd name="textAreaLeft" fmla="*/ 0 w 3378240"/>
                <a:gd name="textAreaRight" fmla="*/ 3378600 w 3378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2671-5A45-40DB-958C-B80364884F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3472-028B-4D6E-B5AA-38D42780D580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F4BA-EAAA-42CA-A182-8BC2A9376B06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>
              <a:gd name="textAreaLeft" fmla="*/ 0 w 3144600"/>
              <a:gd name="textAreaRight" fmla="*/ 3144960 w 314460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>
              <a:gd name="textAreaLeft" fmla="*/ 0 w 3085920"/>
              <a:gd name="textAreaRight" fmla="*/ 3086280 w 308592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>
              <a:gd name="textAreaLeft" fmla="*/ 0 w 193680"/>
              <a:gd name="textAreaRight" fmla="*/ 194040 w 193680"/>
              <a:gd name="textAreaTop" fmla="*/ 0 h 649080"/>
              <a:gd name="textAreaBottom" fmla="*/ 649080 h 649080"/>
            </a:gdLst>
            <a:ahLst/>
            <a:rect l="textAreaLeft" t="textAreaTop" r="textAreaRight" b="textAreaBottom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>
              <a:gd name="textAreaLeft" fmla="*/ 0 w 3092400"/>
              <a:gd name="textAreaRight" fmla="*/ 3092760 w 30924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>
              <a:gd name="textAreaLeft" fmla="*/ 0 w 142560"/>
              <a:gd name="textAreaRight" fmla="*/ 142920 w 14256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5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226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677880"/>
                <a:gd name="textAreaBottom" fmla="*/ 677880 h 677880"/>
              </a:gdLst>
              <a:ahLst/>
              <a:rect l="textAreaLeft" t="textAreaTop" r="textAreaRight" b="textAreaBottom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>
                <a:gd name="textAreaLeft" fmla="*/ 0 w 2795400"/>
                <a:gd name="textAreaRight" fmla="*/ 2795400 w 27954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>
                <a:gd name="textAreaLeft" fmla="*/ 0 w 2795400"/>
                <a:gd name="textAreaRight" fmla="*/ 2795400 w 27954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1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232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312840"/>
                <a:gd name="textAreaBottom" fmla="*/ 312840 h 312840"/>
              </a:gdLst>
              <a:ahLst/>
              <a:rect l="textAreaLeft" t="textAreaTop" r="textAreaRight" b="textAreaBottom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0EDD-02B6-422A-8421-9369616E1E3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7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32B3-2456-478F-A709-17F1EB16BDF2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2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2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4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6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38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8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F942-0319-4FEC-AE3C-3FDD1ADF9D29}" type="slidenum">
              <a:rPr b="0" lang="uk-U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WordArt 2" descr=""/>
          <p:cNvPicPr/>
          <p:nvPr/>
        </p:nvPicPr>
        <p:blipFill>
          <a:blip r:embed="rId2"/>
          <a:stretch/>
        </p:blipFill>
        <p:spPr>
          <a:xfrm>
            <a:off x="743040" y="822240"/>
            <a:ext cx="7370640" cy="2811600"/>
          </a:xfrm>
          <a:prstGeom prst="rect">
            <a:avLst/>
          </a:prstGeom>
          <a:ln w="0">
            <a:noFill/>
          </a:ln>
        </p:spPr>
      </p:pic>
      <p:pic>
        <p:nvPicPr>
          <p:cNvPr id="432" name="WordArt 4" descr=""/>
          <p:cNvPicPr/>
          <p:nvPr/>
        </p:nvPicPr>
        <p:blipFill>
          <a:blip r:embed="rId3"/>
          <a:stretch/>
        </p:blipFill>
        <p:spPr>
          <a:xfrm>
            <a:off x="165240" y="4645080"/>
            <a:ext cx="34131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hape 74"/>
          <p:cNvSpPr/>
          <p:nvPr/>
        </p:nvSpPr>
        <p:spPr>
          <a:xfrm>
            <a:off x="5400720" y="1773360"/>
            <a:ext cx="3743280" cy="3965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5113080" cy="45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В 1488 році в пошуках морського шляху з Європи до Індії Діаш першим з європейців обігнув Африку з півдня й відкрив мис Доброї Надії, вийшовши у води Індійського океану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Shape 76"/>
          <p:cNvSpPr/>
          <p:nvPr/>
        </p:nvSpPr>
        <p:spPr>
          <a:xfrm>
            <a:off x="2286000" y="2690640"/>
            <a:ext cx="457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ff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788000" y="1125000"/>
            <a:ext cx="3960720" cy="50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  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Васко да Гама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- португальський дослідник і мореплавець, який відкрив морський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шлях до Індії поза Африкою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64" name="Picture 8" descr="vask_da_gama"/>
          <p:cNvPicPr/>
          <p:nvPr/>
        </p:nvPicPr>
        <p:blipFill>
          <a:blip r:embed="rId1"/>
          <a:stretch/>
        </p:blipFill>
        <p:spPr>
          <a:xfrm>
            <a:off x="324000" y="1628640"/>
            <a:ext cx="410364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115640" y="5157360"/>
            <a:ext cx="727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  <a:ea typeface="Tahoma"/>
              </a:rPr>
              <a:t>Маршрут Васко да Гами (чорна лінія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Shape 88"/>
          <p:cNvSpPr/>
          <p:nvPr/>
        </p:nvSpPr>
        <p:spPr>
          <a:xfrm>
            <a:off x="1763640" y="907920"/>
            <a:ext cx="5761080" cy="410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hape 117"/>
          <p:cNvSpPr/>
          <p:nvPr/>
        </p:nvSpPr>
        <p:spPr>
          <a:xfrm>
            <a:off x="0" y="1844640"/>
            <a:ext cx="53276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Фернан Магеллан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- португальський мореплавець, експедиція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якого здійснила перше кругосвітнє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плавання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68" name="Picture 10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7526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Shape 123"/>
          <p:cNvSpPr/>
          <p:nvPr/>
        </p:nvSpPr>
        <p:spPr>
          <a:xfrm>
            <a:off x="0" y="0"/>
            <a:ext cx="9144000" cy="5445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Shape 124"/>
          <p:cNvSpPr/>
          <p:nvPr/>
        </p:nvSpPr>
        <p:spPr>
          <a:xfrm>
            <a:off x="468360" y="5516640"/>
            <a:ext cx="849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  <a:ea typeface="Tahoma"/>
              </a:rPr>
              <a:t>Експедиція Магеллана остаточно довела, що Земля має форму кулі, обігнувши яку можна повернутися  в порт відплиття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hape 117"/>
          <p:cNvSpPr/>
          <p:nvPr/>
        </p:nvSpPr>
        <p:spPr>
          <a:xfrm>
            <a:off x="0" y="1844640"/>
            <a:ext cx="532764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Христофор Колумб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- іспанський мореплавець, який відкрив багато нових земель. Набільш відомий свїм відкриттям Америки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3" name="Picture 8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529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3"/>
          <p:cNvSpPr/>
          <p:nvPr/>
        </p:nvSpPr>
        <p:spPr>
          <a:xfrm>
            <a:off x="157644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5" name="Picture 2" descr="http://geo-tour.net/Interesting/pic/columb-ma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4"/>
          <p:cNvSpPr/>
          <p:nvPr/>
        </p:nvSpPr>
        <p:spPr>
          <a:xfrm>
            <a:off x="1576440" y="139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7" name="Picture 2" descr="http://geo-tour.net/Interesting/pic/columb-ma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79524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9" name="Picture 2" descr="http://a.isuspan.com/z/793px-Columbus_Taking_Possess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4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81" name="WordArt 5" descr=""/>
          <p:cNvPicPr/>
          <p:nvPr/>
        </p:nvPicPr>
        <p:blipFill>
          <a:blip r:embed="rId2"/>
          <a:stretch/>
        </p:blipFill>
        <p:spPr>
          <a:xfrm>
            <a:off x="1682640" y="6089760"/>
            <a:ext cx="5516640" cy="54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WordArt 2"/>
          <p:cNvSpPr txBox="1"/>
          <p:nvPr/>
        </p:nvSpPr>
        <p:spPr>
          <a:xfrm>
            <a:off x="0" y="0"/>
            <a:ext cx="9144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ідки Великих 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ографічних відкриттів.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304920" y="1523880"/>
            <a:ext cx="251460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Розвиток світово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торгівлі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3200400" y="1523880"/>
            <a:ext cx="2819520" cy="19051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Зниження цін у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Європі на золото 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рібло (“революці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цін”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6172200" y="1523880"/>
            <a:ext cx="274320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ереміщ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центру торгівл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зі Середземного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моря в Атлантични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океан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228600" y="4191120"/>
            <a:ext cx="2971800" cy="18288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твор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колоніальних імперій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ерший поді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віту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Rectangle 11"/>
          <p:cNvSpPr/>
          <p:nvPr/>
        </p:nvSpPr>
        <p:spPr>
          <a:xfrm>
            <a:off x="3429000" y="4038480"/>
            <a:ext cx="259092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очаток нови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досліджен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у різних галузя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аук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6324480" y="3962520"/>
            <a:ext cx="2667240" cy="20574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Завезення в Європ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ових сільсько 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господарськи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культу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аслідки Великих географічних відкриттів для населення Америки</a:t>
            </a: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179280" y="1125360"/>
            <a:ext cx="4068720" cy="54864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uk-UA" sz="2400" spc="-1" strike="noStrike">
                <a:solidFill>
                  <a:srgbClr val="000066"/>
                </a:solidFill>
                <a:latin typeface="Times New Roman"/>
              </a:rPr>
              <a:t>Позитивні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ароди Америки були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втягнуті у світову торгівлю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2. Європейці принесли більш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ову політичну організацію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успільства,  високи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економічний, технічний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ауковий розвиток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3. Познайомили європейців і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вогнепальною зброєю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4. Завезли свійських тварин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4356000" y="1125360"/>
            <a:ext cx="4572000" cy="54864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егативні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Фізичне винищення корінни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жителів 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. Знищення унікальної культур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доколумбової Америк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3. Насильне покатоличенн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орінних жителів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4. Економічне пограбуванн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племен, вивезення в Європу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золот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5. Утворення на вільни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анських землях колоній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6. Поява рабств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WordArt 2"/>
          <p:cNvSpPr txBox="1"/>
          <p:nvPr/>
        </p:nvSpPr>
        <p:spPr>
          <a:xfrm>
            <a:off x="2124000" y="5229360"/>
            <a:ext cx="6048360" cy="14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Відкриття європейці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4"/>
          <p:cNvSpPr txBox="1"/>
          <p:nvPr/>
        </p:nvSpPr>
        <p:spPr>
          <a:xfrm>
            <a:off x="755640" y="1484280"/>
            <a:ext cx="79930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Домашнє завдання: §1.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А) презентувати творчий проект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дослідивши наслідки 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Великих географічних відкриттів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для світу;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Б) виготовити макет карти до подорожей 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одного із морепплавців.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66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  <a:ea typeface="Tahoma"/>
              </a:rPr>
              <a:t>  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Після цього уроку ви зможете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Пояснювати поняття “Великі географічні відкриття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Характеризувати причини і передумови відкриттів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Описувати подорожі європейців, показуючи на карті їх напрямк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59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  <a:ea typeface="Tahoma"/>
              </a:rPr>
              <a:t> 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Ознайомимось…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ts val="43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  <a:ea typeface="Tahoma"/>
              </a:rPr>
              <a:t>  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  <a:ea typeface="Tahoma"/>
              </a:rPr>
              <a:t>Великі географічні відкриття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  <a:ea typeface="Tahoma"/>
              </a:rPr>
              <a:t> — це період в історії людства, що розпочався у другій половині XV століття і тривав до середини XVІІ століття, коли європейцями були відкриті невідомі раніше моря, океани, материки, здійснені кругосвітні подорожі, що докорінно змінило уявлення людини про Землю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914400" y="1143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2879640" y="141300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4516560"/>
            <a:ext cx="9144000" cy="2341440"/>
          </a:xfrm>
          <a:prstGeom prst="rect">
            <a:avLst/>
          </a:prstGeom>
          <a:solidFill>
            <a:srgbClr val="d06a82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Великий венеціанський мандрівник ХІІІ ст. Марко Поло писав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у спогадах про свою подорож до Індії: “Золота, скажу вам, у ни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дуже багато і не вивозять його звідти... Сказати по правді, пала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там великий і вкритий чистим  золотом... Ще скажу вам, що під-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логи в покоях, а їх там багато, вкрито чистим золотом у два паль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ця завтовшки, і зали, і вікна оздоблені золотими прикрасами”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WordArt 3"/>
          <p:cNvSpPr txBox="1"/>
          <p:nvPr/>
        </p:nvSpPr>
        <p:spPr>
          <a:xfrm>
            <a:off x="228600" y="304920"/>
            <a:ext cx="8686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чини Великих географічних відкриттів</a:t>
            </a:r>
            <a:endParaRPr b="0" lang="en-US" sz="20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228600" y="1752480"/>
            <a:ext cx="426708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рагнення європейц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оповнити запаси золота 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рібла, яких не вистачало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в Європі, для карбування монет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5029200" y="1752480"/>
            <a:ext cx="388620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3. Прагнення європейц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озбутися посередник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у торгівлі з країнами сходу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04920" y="4343400"/>
            <a:ext cx="4114800" cy="21337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2. Захоплення турками в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1453 році Константинополя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ошуки нового шляху до Інді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в обхід турецьких володінь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5029200" y="4495680"/>
            <a:ext cx="3886200" cy="20574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4. Прагнення збідніли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дворяни Іспанії і Португалії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знайти нові землі, де можн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було розбагатіл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Line 12"/>
          <p:cNvSpPr/>
          <p:nvPr/>
        </p:nvSpPr>
        <p:spPr>
          <a:xfrm flipH="1">
            <a:off x="2514240" y="1219320"/>
            <a:ext cx="2133720" cy="5331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Line 13"/>
          <p:cNvSpPr/>
          <p:nvPr/>
        </p:nvSpPr>
        <p:spPr>
          <a:xfrm>
            <a:off x="4648320" y="1219320"/>
            <a:ext cx="2209680" cy="5331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Line 14"/>
          <p:cNvSpPr/>
          <p:nvPr/>
        </p:nvSpPr>
        <p:spPr>
          <a:xfrm>
            <a:off x="4648320" y="1219320"/>
            <a:ext cx="75960" cy="26668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Line 15"/>
          <p:cNvSpPr/>
          <p:nvPr/>
        </p:nvSpPr>
        <p:spPr>
          <a:xfrm flipH="1">
            <a:off x="2666520" y="3886200"/>
            <a:ext cx="205740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Line 16"/>
          <p:cNvSpPr/>
          <p:nvPr/>
        </p:nvSpPr>
        <p:spPr>
          <a:xfrm>
            <a:off x="4800600" y="3886200"/>
            <a:ext cx="2209680" cy="6094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2"/>
          <p:cNvSpPr txBox="1"/>
          <p:nvPr/>
        </p:nvSpPr>
        <p:spPr>
          <a:xfrm>
            <a:off x="533520" y="762120"/>
            <a:ext cx="8305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18900000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Передумови Великих географічних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18900000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18900000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відкриттів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18900000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26510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380880" y="1981080"/>
            <a:ext cx="8458200" cy="449604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Утвердження  ідеї, що Земля має форму кулі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Удосконалення компасу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Використання астролябії мореплавцям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Винахід вогнепальної зброї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Створення морських карт - портелан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Удосконалення вітрильника - створення каравел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під прямими і скісними парусам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360" y="502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ff"/>
                </a:solidFill>
                <a:latin typeface="Tahoma"/>
                <a:ea typeface="Tahoma"/>
              </a:rPr>
              <a:t>  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ПРАЦЮЄМО З КАРТАМИ ТА ІЛЮСТРАЦІЯМ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5049720" cy="22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Прослідкуйте напрямки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основних подороже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55" name="Picture 2" descr="C:\Users\Home\Desktop\Інноваційний урок\Захист проектів Великі географічні відкриття\Допоміжні матеріали\09189d56af546c205c22be10998383ab.jpg"/>
          <p:cNvPicPr/>
          <p:nvPr/>
        </p:nvPicPr>
        <p:blipFill>
          <a:blip r:embed="rId1"/>
          <a:srcRect l="0" t="0" r="0" b="-129"/>
          <a:stretch/>
        </p:blipFill>
        <p:spPr>
          <a:xfrm>
            <a:off x="5148360" y="1557360"/>
            <a:ext cx="3644640" cy="2970360"/>
          </a:xfrm>
          <a:prstGeom prst="rect">
            <a:avLst/>
          </a:prstGeom>
          <a:ln w="0">
            <a:noFill/>
          </a:ln>
        </p:spPr>
      </p:pic>
      <p:sp>
        <p:nvSpPr>
          <p:cNvPr id="456" name="Shape 63"/>
          <p:cNvSpPr/>
          <p:nvPr/>
        </p:nvSpPr>
        <p:spPr>
          <a:xfrm>
            <a:off x="4487760" y="4581360"/>
            <a:ext cx="465624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Визначте результати кожної з них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57" name="Picture 3" descr="C:\Users\Home\Desktop\Інноваційний урок\Захист проектів Великі географічні відкриття\Допоміжні матеріали\Merkyriy.jpg"/>
          <p:cNvPicPr/>
          <p:nvPr/>
        </p:nvPicPr>
        <p:blipFill>
          <a:blip r:embed="rId2"/>
          <a:stretch/>
        </p:blipFill>
        <p:spPr>
          <a:xfrm>
            <a:off x="539640" y="3860640"/>
            <a:ext cx="3868920" cy="26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65534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  <a:ea typeface="Tahoma"/>
              </a:rPr>
              <a:t>  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Бартоломе́у Ді́аш ді Нова́їс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-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один з найславетніших португальських мореплавців-першовідкривачів, що підкорював води Атлантики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 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в XV столітті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Shape 69"/>
          <p:cNvSpPr/>
          <p:nvPr/>
        </p:nvSpPr>
        <p:spPr>
          <a:xfrm>
            <a:off x="5724360" y="2205000"/>
            <a:ext cx="3137040" cy="41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20:15Z</dcterms:created>
  <dc:creator>www.PHILka.RU</dc:creator>
  <dc:description/>
  <dc:language>en-US</dc:language>
  <cp:lastModifiedBy>Home</cp:lastModifiedBy>
  <dcterms:modified xsi:type="dcterms:W3CDTF">2013-01-28T18:53:34Z</dcterms:modified>
  <cp:revision>5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21000000000001024140</vt:lpwstr>
  </property>
</Properties>
</file>