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0AF-B535-48E0-9B90-20EF8F10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BFD-29C8-45AD-B39F-74777B7D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A9F-3564-44D8-AAA0-078B1648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E35-34D7-4FAF-97FE-C2C9B3F8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7960-C7B3-48C6-9A37-7BE75AE8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24AC-36EE-4B51-8792-F7A5D45A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1FDE-C9B0-4E02-8612-724589E8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E03D-1264-4F47-966A-DB94EC8B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E479-A537-45DF-8D4A-C68D76F3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5A4F-2503-4962-BAD7-38C0F156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6222-EC7E-4B24-9A03-195C520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E8D-D20E-4178-A132-04E3F527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8F10-3DE3-466E-93AF-A5082347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C5A3-016D-48E9-A57D-FFE88EED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380B-35DD-4432-AAAB-B77D189C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CD63-DAD7-4A8C-B419-29336AF4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604F-64D2-47C0-AFF1-6CCC264A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4DA-F94C-4A8F-9402-F6A704BE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143-E2BE-4A6F-8239-02C1C306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26E-1A89-46C9-9349-2BF2B547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343-BFA7-4343-9A26-15B9EC15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F5D-9A46-4AD0-83DA-C209270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7A7-63CC-454F-A720-C98377A6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D8D-BD9C-44ED-B607-C8FDC967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FC70-5176-4559-BA38-E03C92F12A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5990-FE23-47FD-9854-CB50691694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14480" y="1143000"/>
            <a:ext cx="8915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ідкриття Америк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європейцями - це зустріч двох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ілізацій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755640" y="907920"/>
            <a:ext cx="7056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ий проект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ениці 8 класу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різького НВК №18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ло Поліни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763640" y="4581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Керівник проекту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учитель історі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Панасюк О.О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33520" y="404640"/>
            <a:ext cx="8076960" cy="3311640"/>
          </a:xfrm>
          <a:prstGeom prst="rect">
            <a:avLst/>
          </a:prstGeom>
          <a:solidFill>
            <a:srgbClr val="00cc66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Більша частина жителів сучасної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Америки вважають, щ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відкриття Нового Світу Колумб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 – </a:t>
            </a:r>
            <a:r>
              <a:rPr b="1" lang="uk-UA" sz="3600" spc="-1" strike="noStrike">
                <a:solidFill>
                  <a:srgbClr val="d60000"/>
                </a:solidFill>
                <a:latin typeface="Times New Roman"/>
              </a:rPr>
              <a:t>це  є зустріч двох цивілізаці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3" descr="C:\Users\Home\Desktop\Інноваційний урок\Захист проектів Великі географічні відкриття\Допоміжні матеріали\Merkyriy.jpg"/>
          <p:cNvPicPr/>
          <p:nvPr/>
        </p:nvPicPr>
        <p:blipFill>
          <a:blip r:embed="rId1"/>
          <a:stretch/>
        </p:blipFill>
        <p:spPr>
          <a:xfrm>
            <a:off x="2411280" y="3933720"/>
            <a:ext cx="3868920" cy="2671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66"/>
                </a:solidFill>
                <a:latin typeface="Arial"/>
              </a:rPr>
              <a:t>Народи Америки до і після 1492 року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изький рівень економічного розвит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ідсутність залізних знарядь праці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еребували на стадії розпаду первісного суспільства і утворення держа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у більшості племен відсутня писемність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зичницька ві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європейці принесли вищий рівень економічного розвит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ознайомили індіанців з вогнепальною зброєю, заліз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везли коней, іншу свійську худоб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ринесли вищу політичну організацію суспіль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тягнули місцеві народи у світову торгівл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47920" y="838080"/>
            <a:ext cx="9144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33"/>
                </a:solidFill>
                <a:latin typeface="Times New Roman"/>
              </a:rPr>
              <a:t>Д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943600" y="914400"/>
            <a:ext cx="10764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33"/>
                </a:solidFill>
                <a:latin typeface="Times New Roman"/>
              </a:rPr>
              <a:t>Післ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Значення відкриття Америки для європейців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почали освоювати нововідкриті землі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завезли в Європу  нові сільськогосподарські культури: картоплю, помідори, кукурудзу, какао, тютюн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розпочалися нові дослідження в багатьох галузях нау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торгові шляхи перемістилися із Середземного моря в Атлантичний океан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сформувався світовий ринок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виникли нові мануфактури, сировину для яких везли з Амери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Я засуджую методи, якими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діяли європейці в Америці. Але обидві цивілізації збагатилися у своїх пізнаннях.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Arial"/>
              </a:rPr>
              <a:t>       Постає питання: Скільки років потрібно було б народам Америки, щоб досягти європейського рівня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476360" y="189000"/>
            <a:ext cx="648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Arial"/>
              </a:rPr>
              <a:t>Таким чином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4:25:48Z</dcterms:created>
  <dc:creator>www.PHILka.RU</dc:creator>
  <dc:description/>
  <dc:language>en-US</dc:language>
  <cp:lastModifiedBy>Home</cp:lastModifiedBy>
  <dcterms:modified xsi:type="dcterms:W3CDTF">2013-02-04T18:52:08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2000000000001024140</vt:lpwstr>
  </property>
</Properties>
</file>