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4A5-54DA-40AF-9926-23938293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F47-8084-4383-A95C-BBBAFD51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E3D-8B05-4453-9797-CB239473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C38-C89B-43F9-8D03-B971F66A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FBBB-A0CD-4710-8019-1ABC8AFC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246C-3387-4176-B810-2CE8614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A163-630C-46EE-ABFC-E130AB7F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2BB8-6B8B-4CA7-AD84-D2473EA3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8CC4-D1CB-4744-B397-63FD52F6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223B-E876-456E-9A10-FBAC936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388B-C6D6-43D6-806E-C3EA7E61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5C8-5D46-443F-9F27-BDF4E9FB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9F01-F9F0-48BA-A0E0-A373252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4CAC-F5B3-4444-ACA2-3C5093A0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FE3E-C911-41B7-B831-6606A71B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0F5B-F2AB-4CEA-A0E3-87FB2DD8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C31A-4031-4F43-81C4-1BAC1978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FDF-5B08-4860-B6F7-414630B4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A03-1E53-43F2-A8EF-D3EC6E97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565-BA41-4066-AD4E-8830770A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C12-35A0-45B6-A600-761162AB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C33-C002-4DF1-B79C-6E5B2AC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418-78C5-4769-B195-B0D27D92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D12-9A07-4553-9B14-E0EE059B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59E7-93D8-4872-A14E-B5B0807A86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C0E1-7B62-48A2-9FA5-11C38E9ACB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480" y="1143000"/>
            <a:ext cx="8915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ідкриття Америк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європейцями - це зустріч двох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ілізацій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755640" y="907920"/>
            <a:ext cx="7056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ий проект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ениці 8 класу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різького НВК №18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ло Поліни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763640" y="4581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Керівник проекту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учитель історі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Панасюк О.О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33520" y="404640"/>
            <a:ext cx="8076960" cy="3311640"/>
          </a:xfrm>
          <a:prstGeom prst="rect">
            <a:avLst/>
          </a:prstGeom>
          <a:solidFill>
            <a:srgbClr val="00cc66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Більша частина жителів сучасної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Америки вважають, щ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відкриття Нового Світу Колумб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 – </a:t>
            </a: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це  є зустріч двох цивілізаці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3" descr="C:\Users\Home\Desktop\Інноваційний урок\Захист проектів Великі географічні відкриття\Допоміжні матеріали\Merkyriy.jpg"/>
          <p:cNvPicPr/>
          <p:nvPr/>
        </p:nvPicPr>
        <p:blipFill>
          <a:blip r:embed="rId1"/>
          <a:stretch/>
        </p:blipFill>
        <p:spPr>
          <a:xfrm>
            <a:off x="2411280" y="3933720"/>
            <a:ext cx="3868920" cy="2671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66"/>
                </a:solidFill>
                <a:latin typeface="Arial"/>
              </a:rPr>
              <a:t>Народи Америки до і після 1492 року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изький рівень економічного розвит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ідсутність залізних знарядь праці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еребували на стадії розпаду первісного суспільства і утворення держа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у більшості племен відсутня писемність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зичницька ві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європейці принесли вищий рівень економічного розвит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ознайомили індіанців з вогнепальною зброєю, заліз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везли коней, іншу свійську худоб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ринесли вищу політичну організацію суспіль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тягнули місцеві народи у світову торгівл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47920" y="838080"/>
            <a:ext cx="9144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33"/>
                </a:solidFill>
                <a:latin typeface="Times New Roman"/>
              </a:rPr>
              <a:t>Д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943600" y="914400"/>
            <a:ext cx="10764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33"/>
                </a:solidFill>
                <a:latin typeface="Times New Roman"/>
              </a:rPr>
              <a:t>Післ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Значення відкриття Америки для європейців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почали освоювати нововідкриті землі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завезли в Європу  нові сільськогосподарські культури: картоплю, помідори, кукурудзу, какао, тютюн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розпочалися нові дослідження в багатьох галузях нау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торгові шляхи перемістилися із Середземного моря в Атлантичний океан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сформувався світовий ринок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виникли нові мануфактури, сировину для яких везли з Амери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Я засуджую методи, якими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діяли європейці в Америці. Але обидві цивілізації збагатилися у своїх пізнаннях.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       Постає питання: Скільки років потрібно було б народам Америки, щоб досягти європейського рівня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476360" y="189000"/>
            <a:ext cx="64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Arial"/>
              </a:rPr>
              <a:t>Таким чином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4:25:48Z</dcterms:created>
  <dc:creator>www.PHILka.RU</dc:creator>
  <dc:description/>
  <dc:language>en-US</dc:language>
  <cp:lastModifiedBy>Home</cp:lastModifiedBy>
  <dcterms:modified xsi:type="dcterms:W3CDTF">2013-02-04T18:52:08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2000000000001024140</vt:lpwstr>
  </property>
</Properties>
</file>