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1B3-2126-4998-8258-355DEEEB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DBE-8C38-4CC6-BD54-21E631A2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32E-5B6B-469C-9763-BB5F339A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84B-A7EA-4C25-9275-AB8B1EE5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D5D-2FA1-4899-9CF1-BCEB4090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D1CF-963B-42D2-8DA4-CFDFB339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8457-3306-49CB-B689-C4053083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8635-15D1-4CEF-9928-819ADF6B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A43F-82B9-4D97-A88C-FA89B67A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0A37-2E9D-4A3D-AB1F-6051A911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06C9-EBC0-41FA-AD1D-E71F69B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C06-D573-4D3E-BEDA-D2A1E6DB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B76-6246-4083-ACE6-BFC94FB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831-A9C6-4B11-A0ED-1E1D2A8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A61A-C2AA-4704-B35A-276D41AF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13B7-6DAA-44A4-82A8-63CD753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6468-F6A5-4D91-B3AC-514C3DA2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05B-7B4E-4572-BD0F-B934C9A5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A57-0475-46D2-AA77-F1047499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BEE-B342-4CA2-A94E-231E9AFA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D15-16C8-4C6B-BA23-4DFA63C9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713-FD5F-4E3D-A0F7-7DCCB63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8EB-9B6C-4749-AC3F-26A8E80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85E-6420-4236-8387-E6B79CB0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D370-5BFB-4C3A-895E-BDCA27FBF9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E215-1FDC-48B6-9A18-88255D63D7EF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685800"/>
            <a:ext cx="82152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cc00"/>
                </a:solidFill>
                <a:latin typeface="Times New Roman"/>
              </a:rPr>
              <a:t>Великі географічні відкриття -</a:t>
            </a:r>
            <a:br>
              <a:rPr sz="6000"/>
            </a:b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це колоніальне загарбання європейцями Америки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1" name="Рисунок 13" descr=""/>
          <p:cNvPicPr/>
          <p:nvPr/>
        </p:nvPicPr>
        <p:blipFill>
          <a:blip r:embed="rId1"/>
          <a:stretch/>
        </p:blipFill>
        <p:spPr>
          <a:xfrm>
            <a:off x="1785960" y="4197240"/>
            <a:ext cx="58579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Наслідки географічних відкриттів для корінних жителів Америк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819520"/>
            <a:ext cx="2514600" cy="248112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літика геноци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Масове ви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рінних жител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66880" y="2819520"/>
            <a:ext cx="1905120" cy="24098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нищ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нікальн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ульту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роді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76920" y="2819520"/>
            <a:ext cx="198108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иль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католи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010280" y="2819520"/>
            <a:ext cx="2133720" cy="23382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Появ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ганебного дл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людства явища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работоргівл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50920" y="5516640"/>
            <a:ext cx="4608360" cy="111276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Економічне пограбування народів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Америки, вивез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 материка золота і срібл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2643120" y="1643040"/>
            <a:ext cx="0" cy="385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5292720" y="5445000"/>
            <a:ext cx="3672000" cy="11304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Заселення Америк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європейцями, створенн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оні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Стрелка вниз 16"/>
          <p:cNvSpPr/>
          <p:nvPr/>
        </p:nvSpPr>
        <p:spPr>
          <a:xfrm>
            <a:off x="385776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Стрелка вниз 17"/>
          <p:cNvSpPr/>
          <p:nvPr/>
        </p:nvSpPr>
        <p:spPr>
          <a:xfrm>
            <a:off x="1714680" y="1714680"/>
            <a:ext cx="483840" cy="97776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Стрелка вниз 18"/>
          <p:cNvSpPr/>
          <p:nvPr/>
        </p:nvSpPr>
        <p:spPr>
          <a:xfrm>
            <a:off x="5072040" y="1714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Стрелка вниз 19"/>
          <p:cNvSpPr/>
          <p:nvPr/>
        </p:nvSpPr>
        <p:spPr>
          <a:xfrm>
            <a:off x="7215120" y="1785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0099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6" name="Прямая со стрелкой 21"/>
          <p:cNvCxnSpPr/>
          <p:nvPr/>
        </p:nvCxnSpPr>
        <p:spPr>
          <a:xfrm flipH="1">
            <a:off x="6928560" y="1643040"/>
            <a:ext cx="2520" cy="378864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00000" y="1052640"/>
            <a:ext cx="76024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ий проект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ня 8 класу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різького НВК №18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хоставця Сергія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340000" y="5157720"/>
            <a:ext cx="46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Керівник проекту: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вчитель історії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e"/>
                  </a:solidFill>
                  <a:miter/>
                </a:ln>
                <a:solidFill>
                  <a:srgbClr val="b8aaad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Панасюк О.О.</a:t>
            </a:r>
            <a:endParaRPr b="1" lang="en-US" sz="2400" spc="1" strike="noStrike">
              <a:ln w="19080">
                <a:solidFill>
                  <a:srgbClr val="fffffe"/>
                </a:solidFill>
                <a:miter/>
              </a:ln>
              <a:solidFill>
                <a:srgbClr val="b8aaad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52280" y="228600"/>
            <a:ext cx="8991720" cy="236232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imes New Roman"/>
              </a:rPr>
              <a:t>Я стверджую: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відкриття Америки – ц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колоніальне загарбання нових земель європейцям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352680"/>
            <a:ext cx="9144000" cy="297180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 своїй суті географічні відкриття носили загарбниць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характер, адже європейці відправилися в Індію з метою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ошуків золота і нового шляху для перевезення прянощів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кі принесли б їм великі прибутк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572000" y="2666880"/>
            <a:ext cx="0" cy="60984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57644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2" descr="http://geo-tour.net/Interesting/pic/columb-map.jpg"/>
          <p:cNvPicPr/>
          <p:nvPr/>
        </p:nvPicPr>
        <p:blipFill>
          <a:blip r:embed="rId1"/>
          <a:stretch/>
        </p:blipFill>
        <p:spPr>
          <a:xfrm>
            <a:off x="324000" y="189000"/>
            <a:ext cx="8670600" cy="5145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576440" y="13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2280" y="5334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Колумб не міг повірити в те, що у “східній Індії” не має золота і прянощів. Він 4 рази організовував експедиції, намагався окупити витрати і принести прибутки королям Іспанії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Я стверджую, що європейці ще до відкриття Америки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мали намір захопити нововідкриті землі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280" y="2209680"/>
            <a:ext cx="8991720" cy="4172040"/>
          </a:xfrm>
          <a:prstGeom prst="rect">
            <a:avLst/>
          </a:prstGeom>
          <a:solidFill>
            <a:srgbClr val="cc00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Адже, ще 17 квітня 1492 року Колумб підписав угоду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з правителями Іспанії згідно якої він сам одержав довічно 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для своїх спадкоємців і нащадків звання Адмірал всіх земель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і континентів в океані, з усіма привілеями, які мають адмірали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Кастилії. Він призначався віце-королем і віце-губернатором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усіх земель і континентів, які відкриє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Виникає питання: На якій підставі іспанські королі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cc"/>
                </a:solidFill>
                <a:latin typeface="Times New Roman"/>
              </a:rPr>
              <a:t>призначали  своїх правителів на нових землях?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7952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2" descr="http://a.isuspan.com/z/793px-Columbus_Taking_Possession.jpg"/>
          <p:cNvPicPr/>
          <p:nvPr/>
        </p:nvPicPr>
        <p:blipFill>
          <a:blip r:embed="rId1"/>
          <a:stretch/>
        </p:blipFill>
        <p:spPr>
          <a:xfrm>
            <a:off x="685800" y="150840"/>
            <a:ext cx="7696080" cy="4878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50920" y="51814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У нововідкриті землі європейці привезли католицьку віру, вони зневажали вірування корінних жителів Америки, нищили їх святилища, ідолів, відбирали золоті речі культового признач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а 50 років населення Центральної Мексики скоротилося </a:t>
            </a:r>
            <a:br>
              <a:rPr sz="2400"/>
            </a:br>
            <a:r>
              <a:rPr b="0" lang="uk-UA" sz="2400" spc="-1" strike="noStrike">
                <a:solidFill>
                  <a:srgbClr val="ffcc00"/>
                </a:solidFill>
                <a:latin typeface="Times New Roman"/>
              </a:rPr>
              <a:t>з 25 млн. до 2 млн.65 тисяч чоловік (1,2),  а з 9 млн. інків, живими залишилися 1 млн. 300 тисяч(3,4)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Object 5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На 1630 рік у Латинській Америці залишилося</a:t>
            </a:r>
            <a:br>
              <a:rPr sz="2800"/>
            </a:b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3% населення з того, що жило в доколумбову еру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2895480" y="2421000"/>
            <a:ext cx="609624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23274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-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населенн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доколумбової Америки (100%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2- кількість корінних жителів Америки в 1630 році (3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68580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Корінні жителі Америки відмовилися святкувати 500-річчя відкриття Америки Колумбом, наголошуючи: “Для індіанців Америки, не має мови, взагалі, про “зустріч двох цивілізацій”, це було вторгнення, відчуження  наших  територій та колоніальне  поневолення”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3:56:40Z</dcterms:created>
  <dc:creator>www.PHILka.RU</dc:creator>
  <dc:description/>
  <dc:language>en-US</dc:language>
  <cp:lastModifiedBy>Home</cp:lastModifiedBy>
  <dcterms:modified xsi:type="dcterms:W3CDTF">2013-02-04T19:02:25Z</dcterms:modified>
  <cp:revision>26</cp:revision>
  <dc:subject/>
  <dc:title>Великі географічні відкриття: це колоніальне загарбання європейцями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5000000000001024140</vt:lpwstr>
  </property>
</Properties>
</file>