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5D0-168C-48AF-AEA9-B358ED36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A1A-D6B4-4596-B2B0-CA8C094E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0A4-73FF-4E97-93E5-C2F29E87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CC8-EA0B-443B-B8B9-FF201239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65AF-CF2C-4D56-BC09-4E698766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91E8-93D3-4C6B-82C9-A640B434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EE20-E84B-4241-9C73-47E79F0A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D3A2-7E9A-4E5C-9776-91FB57E0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F60B-694C-43E0-BD4B-09EF528E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A19A-352A-4A52-A18B-1D6D4950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40DC-CF76-4FFB-B67E-42EE995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B55-0F3E-4731-8592-00C0DE8D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4CE3-9293-4054-9A59-DE795C93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C802-5A36-4DE9-9D78-56689AF8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8AE7-7213-4A88-BBD8-73CF6B8A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E421-907D-42EE-AA73-0499ADA2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3997-BE89-40C7-AE29-8612D7C5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C4BA-DCC1-471E-9699-0BFAA30E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937F8-3349-4F70-824A-F1CB8366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5A3F-BA49-4905-9761-48A2CB6C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0142-AC68-4D79-9306-8420821D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E572-65A9-4916-B665-1D27C46C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CCF-E280-4E22-A529-3041D9C3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B6F3-117A-462E-A94A-A34B1DD7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C28F-EB86-43F8-8C40-573162AA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B059-57C9-4CC2-AF56-EFAF7A73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30D7F-3F44-4E73-B037-53650C39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9D7F1-11BF-422C-9A7D-24442831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1784-EE62-47DA-B9EA-5D58CB6B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3A5A-284E-4F4D-B3BF-5ED069CA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B91DB-233F-4E6A-A8D1-DB3A6AA1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99CA-6734-4C4F-97BC-3E1F4F22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9C87-CEB3-46EB-BCCA-B9959CBA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258-AF65-4463-A089-41924297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BF316-7172-4F7B-9359-C9AEADEF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4E5CA-4BC1-48E0-8454-F0C96DFF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4B00-B408-4EE6-A893-6AE7573B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3794F-66BA-4EC1-A29B-AFB104FA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CDAF-8E36-42DF-93E4-73042BDF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5EA51-7C92-40FE-B182-B24E6046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6223-2D84-4590-9441-D3BE502B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78DBF-6820-4888-AE0F-46D09339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6CBAE-C482-49BC-8FBF-D2E66F0A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6FF7B-3DCD-4F3C-A9A7-3DB38A48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511-ECA1-4B80-B538-0C07727F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70402-6ECF-44CD-919F-36CFA075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5659A-2167-48E7-B646-E07E0F2C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8BE49-3AC1-4C76-840B-31FB9769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35E0-5E57-4014-BBB0-F3E94097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7AA1-9BBB-4769-9A69-3E4C263E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B5196-E4C7-4982-94B7-24DE484F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7B50E-E981-4571-86BB-251E78CC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96D7D-A5F8-447F-B05E-E1096349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77561-A4F1-4400-8EDD-4745A2BF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58BF-A359-41FF-97C6-B854CF2C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1D5-8FD1-4180-BEA0-9AB63DDF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12062-35B8-4565-B55F-E6303EF8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FD88E-3D19-4826-82EF-3434199B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0486F-19C1-406B-9F62-32E714E8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01878-0C87-4FE7-ADB0-D7646D0C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C5419-F5E3-4073-9AB0-D52AED19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175A7-A54E-4FED-A132-B2854CE2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CFB0B-35B5-4710-845C-3D79A689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28F3F-7959-4BE3-9297-6414CB33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62FD-4F34-4D35-B731-9E70BEC1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65A78-96A9-4E22-97D6-EB99B033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0E9-24CE-4E5C-B8EA-76E9D01D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6B57-9F49-4E68-930C-F8D2B8E5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C4035-89D0-4469-B88A-F15AAF41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7E96F-9C65-44F4-9AA2-C5916746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7BD-1643-409C-B519-FAC29ACA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546-1825-4FA3-A7C9-2937694C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>
              <a:gd name="textAreaLeft" fmla="*/ 0 w 1947960"/>
              <a:gd name="textAreaRight" fmla="*/ 1948320 w 194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>
              <a:gd name="textAreaLeft" fmla="*/ 0 w 122040"/>
              <a:gd name="textAreaRight" fmla="*/ 122400 w 122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>
              <a:gd name="textAreaLeft" fmla="*/ 0 w 1951200"/>
              <a:gd name="textAreaRight" fmla="*/ 1951560 w 1951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>
              <a:gd name="textAreaLeft" fmla="*/ 0 w 90360"/>
              <a:gd name="textAreaRight" fmla="*/ 90720 w 90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>
                <a:gd name="textAreaLeft" fmla="*/ 0 w 3379680"/>
                <a:gd name="textAreaRight" fmla="*/ 3380040 w 33796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428B-8FCB-4760-B339-07D9286B82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C02F-84A3-4FEB-8709-6073D55F4AA3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0ABC-C094-48A9-9A5A-55F70C06DB74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>
              <a:gd name="textAreaLeft" fmla="*/ 0 w 193680"/>
              <a:gd name="textAreaRight" fmla="*/ 194040 w 19368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>
              <a:gd name="textAreaLeft" fmla="*/ 0 w 142560"/>
              <a:gd name="textAreaRight" fmla="*/ 142920 w 142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226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232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08B5-99F5-493B-89D6-9C8721C6CE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1ADE-5D85-4A0E-97A7-8C0F01F56E04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2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8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CFA9-A73F-411C-8080-25B34D2A6EC0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WordArt 2" descr=""/>
          <p:cNvPicPr/>
          <p:nvPr/>
        </p:nvPicPr>
        <p:blipFill>
          <a:blip r:embed="rId2"/>
          <a:stretch/>
        </p:blipFill>
        <p:spPr>
          <a:xfrm>
            <a:off x="743040" y="822240"/>
            <a:ext cx="7370640" cy="2811600"/>
          </a:xfrm>
          <a:prstGeom prst="rect">
            <a:avLst/>
          </a:prstGeom>
          <a:ln w="0">
            <a:noFill/>
          </a:ln>
        </p:spPr>
      </p:pic>
      <p:pic>
        <p:nvPicPr>
          <p:cNvPr id="432" name="WordArt 4" descr=""/>
          <p:cNvPicPr/>
          <p:nvPr/>
        </p:nvPicPr>
        <p:blipFill>
          <a:blip r:embed="rId3"/>
          <a:stretch/>
        </p:blipFill>
        <p:spPr>
          <a:xfrm>
            <a:off x="165240" y="4645080"/>
            <a:ext cx="3413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hape 74"/>
          <p:cNvSpPr/>
          <p:nvPr/>
        </p:nvSpPr>
        <p:spPr>
          <a:xfrm>
            <a:off x="5400720" y="1773360"/>
            <a:ext cx="3743280" cy="3965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5113080" cy="45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 1488 році в пошуках морського шляху з Європи до Індії Діаш першим з європейців обігнув Африку з півдня й відкрив мис Доброї Надії, вийшовши у води Індійського океан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Shape 76"/>
          <p:cNvSpPr/>
          <p:nvPr/>
        </p:nvSpPr>
        <p:spPr>
          <a:xfrm>
            <a:off x="2286000" y="269064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788000" y="1125000"/>
            <a:ext cx="3960720" cy="50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Васко да Гама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португальський дослідник і мореплавець, який відкрив морський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шлях до Індії поза Африко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4" name="Picture 8" descr="vask_da_gama"/>
          <p:cNvPicPr/>
          <p:nvPr/>
        </p:nvPicPr>
        <p:blipFill>
          <a:blip r:embed="rId1"/>
          <a:stretch/>
        </p:blipFill>
        <p:spPr>
          <a:xfrm>
            <a:off x="324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115640" y="5157360"/>
            <a:ext cx="727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Маршрут Васко да Гами (чорна лінія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Shape 88"/>
          <p:cNvSpPr/>
          <p:nvPr/>
        </p:nvSpPr>
        <p:spPr>
          <a:xfrm>
            <a:off x="1763640" y="907920"/>
            <a:ext cx="5761080" cy="410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hape 117"/>
          <p:cNvSpPr/>
          <p:nvPr/>
        </p:nvSpPr>
        <p:spPr>
          <a:xfrm>
            <a:off x="0" y="1844640"/>
            <a:ext cx="5327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Фернан Магеллан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португальський мореплавець, експедиція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якого здійснила перше кругосвітнє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лавання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8" name="Picture 10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7526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Shape 123"/>
          <p:cNvSpPr/>
          <p:nvPr/>
        </p:nvSpPr>
        <p:spPr>
          <a:xfrm>
            <a:off x="0" y="0"/>
            <a:ext cx="9144000" cy="544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Shape 124"/>
          <p:cNvSpPr/>
          <p:nvPr/>
        </p:nvSpPr>
        <p:spPr>
          <a:xfrm>
            <a:off x="468360" y="5516640"/>
            <a:ext cx="849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  <a:ea typeface="Tahoma"/>
              </a:rPr>
              <a:t>Експедиція Магеллана остаточно довела, що Земля має форму кулі, обігнувши яку можна повернутися  в порт відплитт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hape 117"/>
          <p:cNvSpPr/>
          <p:nvPr/>
        </p:nvSpPr>
        <p:spPr>
          <a:xfrm>
            <a:off x="0" y="1844640"/>
            <a:ext cx="53276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Христофор Колум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іспанський мореплавець, який відкрив багато нових земель. Набільш відомий свїм відкриттям Америк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3" name="Picture 8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52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"/>
          <p:cNvSpPr/>
          <p:nvPr/>
        </p:nvSpPr>
        <p:spPr>
          <a:xfrm>
            <a:off x="157644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5" name="Picture 2" descr="http://geo-tour.net/Interesting/pic/columb-m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4"/>
          <p:cNvSpPr/>
          <p:nvPr/>
        </p:nvSpPr>
        <p:spPr>
          <a:xfrm>
            <a:off x="157644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7" name="Picture 2" descr="http://geo-tour.net/Interesting/pic/columb-ma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7952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9" name="Picture 2" descr="http://a.isuspan.com/z/793px-Columbus_Taking_Possess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4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1" name="WordArt 5" descr=""/>
          <p:cNvPicPr/>
          <p:nvPr/>
        </p:nvPicPr>
        <p:blipFill>
          <a:blip r:embed="rId2"/>
          <a:stretch/>
        </p:blipFill>
        <p:spPr>
          <a:xfrm>
            <a:off x="1682640" y="6089760"/>
            <a:ext cx="5516640" cy="54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2"/>
          <p:cNvSpPr txBox="1"/>
          <p:nvPr/>
        </p:nvSpPr>
        <p:spPr>
          <a:xfrm>
            <a:off x="0" y="0"/>
            <a:ext cx="914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ідки Великих 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графічних відкриттів.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04920" y="1523880"/>
            <a:ext cx="25146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Розвиток світов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торгівл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200400" y="1523880"/>
            <a:ext cx="2819520" cy="1905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ниження цін 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Європі на золото 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рібло (“революці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цін”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6172200" y="1523880"/>
            <a:ext cx="27432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еремі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центру торгівл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і Середземног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моря в Атлантичн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океа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28600" y="4191120"/>
            <a:ext cx="2971800" cy="1828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твор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колоніальних імперій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ерший поді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віт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3429000" y="4038480"/>
            <a:ext cx="259092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чаток нови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досліджен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у різних галузя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у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6324480" y="3962520"/>
            <a:ext cx="2667240" cy="2057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авезення в Європ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ових сільсько 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господарськ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культу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слідки Великих географічних відкриттів для населення Америки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179280" y="1125360"/>
            <a:ext cx="4068720" cy="5486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Позитивн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роди Америки бул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тягнуті у світову торгівл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2. Європейці принесли більш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ову політичну організаці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успільства,  висок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економічний, технічний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уковий розвиток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3. Познайомили європейців і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огнепальною зброє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4. Завезли свійських тварин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4356000" y="1125360"/>
            <a:ext cx="4572000" cy="54864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егативн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Фізичне винищення корінни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жителів 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. Знищення унікальної культу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 Амери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3. Насильне покатоличе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рінних жителів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4. Економічне пограбува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лемен, вивезення в Європ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олот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5. Утворення на вільн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анських землях колоні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6. Поява рабст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2124000" y="5229360"/>
            <a:ext cx="60483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ідкриття європейці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755640" y="1484280"/>
            <a:ext cx="7993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омашнє завдання: §1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А) презентувати творчий проект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ослідивши наслідки 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Великих географічних відкриттів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ля світу;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Б) виготовити макет карти до подорожей 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одного із морепплавців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66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Після цього уроку ви зможете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ояснювати поняття “Великі географічні відкриття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Характеризувати причини і передумови відкритті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писувати подорожі європейців, показуючи на карті їх напрямк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59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Ознайомимось…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ts val="43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Великі географічні відкриття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 — це період в історії людства, що розпочався у другій половині XV століття і тривав до середини XVІІ століття, коли європейцями були відкриті невідомі раніше моря, океани, материки, здійснені кругосвітні подорожі, що докорінно змінило уявлення людини про Землю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914400" y="1143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879640" y="141300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4516560"/>
            <a:ext cx="9144000" cy="2341440"/>
          </a:xfrm>
          <a:prstGeom prst="rect">
            <a:avLst/>
          </a:prstGeom>
          <a:solidFill>
            <a:srgbClr val="d06a82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Великий венеціанський мандрівник ХІІІ ст. Марко Поло писа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у спогадах про свою подорож до Індії: “Золота, скажу вам, у н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дуже багато і не вивозять його звідти... Сказати по правді, пала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там великий і вкритий чистим  золотом... Ще скажу вам, що під-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логи в покоях, а їх там багато, вкрито чистим золотом у два паль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ця завтовшки, і зали, і вікна оздоблені золотими прикрасами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228600" y="304920"/>
            <a:ext cx="8686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и Великих географічних відкриттів</a:t>
            </a:r>
            <a:endParaRPr b="0" lang="en-US" sz="20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228600" y="1752480"/>
            <a:ext cx="426708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рагнення європейц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повнити запаси золота 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рібла, яких не вистачал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 Європі, для карбування монет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5029200" y="1752480"/>
            <a:ext cx="38862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3. Прагнення європейц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збутися посередник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у торгівлі з країнами схо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04920" y="4343400"/>
            <a:ext cx="4114800" cy="21337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2. Захоплення турками 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1453 році Константинополя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шуки нового шляху до Інді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 обхід турецьких володінь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5029200" y="4495680"/>
            <a:ext cx="3886200" cy="2057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4. Прагнення збідніл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дворяни Іспанії і Португалії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найти нові землі, де мож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було розбагатіл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Line 12"/>
          <p:cNvSpPr/>
          <p:nvPr/>
        </p:nvSpPr>
        <p:spPr>
          <a:xfrm flipH="1">
            <a:off x="2514240" y="1219320"/>
            <a:ext cx="2133720" cy="5331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13"/>
          <p:cNvSpPr/>
          <p:nvPr/>
        </p:nvSpPr>
        <p:spPr>
          <a:xfrm>
            <a:off x="4648320" y="1219320"/>
            <a:ext cx="2209680" cy="5331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14"/>
          <p:cNvSpPr/>
          <p:nvPr/>
        </p:nvSpPr>
        <p:spPr>
          <a:xfrm>
            <a:off x="4648320" y="1219320"/>
            <a:ext cx="7596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15"/>
          <p:cNvSpPr/>
          <p:nvPr/>
        </p:nvSpPr>
        <p:spPr>
          <a:xfrm flipH="1">
            <a:off x="2666520" y="3886200"/>
            <a:ext cx="20574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4800600" y="3886200"/>
            <a:ext cx="2209680" cy="6094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533520" y="762120"/>
            <a:ext cx="8305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Передумови Великих географічних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відкриттів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26510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80880" y="1981080"/>
            <a:ext cx="8458200" cy="449604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твердження  ідеї, що Земля має форму кулі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досконалення компасу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Використання астролябії мореплавця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Винахід вогнепальної зброї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Створення морських карт - портелан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досконалення вітрильника - створення каравел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ід прямими і скісними паруса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502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ff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ПРАЦЮЄМО З КАРТАМИ ТА ІЛЮСТРАЦІЯМ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504972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рослідкуйте напрямки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сновних подороже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5" name="Picture 2" descr="C:\Users\Home\Desktop\Інноваційний урок\Захист проектів Великі географічні відкриття\Допоміжні матеріали\09189d56af546c205c22be10998383ab.jpg"/>
          <p:cNvPicPr/>
          <p:nvPr/>
        </p:nvPicPr>
        <p:blipFill>
          <a:blip r:embed="rId1"/>
          <a:srcRect l="0" t="0" r="0" b="-129"/>
          <a:stretch/>
        </p:blipFill>
        <p:spPr>
          <a:xfrm>
            <a:off x="5148360" y="1557360"/>
            <a:ext cx="3644640" cy="2970360"/>
          </a:xfrm>
          <a:prstGeom prst="rect">
            <a:avLst/>
          </a:prstGeom>
          <a:ln w="0">
            <a:noFill/>
          </a:ln>
        </p:spPr>
      </p:pic>
      <p:sp>
        <p:nvSpPr>
          <p:cNvPr id="456" name="Shape 63"/>
          <p:cNvSpPr/>
          <p:nvPr/>
        </p:nvSpPr>
        <p:spPr>
          <a:xfrm>
            <a:off x="4487760" y="4581360"/>
            <a:ext cx="465624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изначте результати кожної з ни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7" name="Picture 3" descr="C:\Users\Home\Desktop\Інноваційний урок\Захист проектів Великі географічні відкриття\Допоміжні матеріали\Merkyriy.jpg"/>
          <p:cNvPicPr/>
          <p:nvPr/>
        </p:nvPicPr>
        <p:blipFill>
          <a:blip r:embed="rId2"/>
          <a:stretch/>
        </p:blipFill>
        <p:spPr>
          <a:xfrm>
            <a:off x="539640" y="3860640"/>
            <a:ext cx="386892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6553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Бартоломе́у Ді́аш ді Нова́їс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дин з найславетніших португальських мореплавців-першовідкривачів, що підкорював води Атлантики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 XV столітті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Shape 69"/>
          <p:cNvSpPr/>
          <p:nvPr/>
        </p:nvSpPr>
        <p:spPr>
          <a:xfrm>
            <a:off x="5724360" y="2205000"/>
            <a:ext cx="3137040" cy="41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20:15Z</dcterms:created>
  <dc:creator>www.PHILka.RU</dc:creator>
  <dc:description/>
  <dc:language>en-US</dc:language>
  <cp:lastModifiedBy>Home</cp:lastModifiedBy>
  <dcterms:modified xsi:type="dcterms:W3CDTF">2013-01-28T18:53:34Z</dcterms:modified>
  <cp:revision>5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1000000000001024140</vt:lpwstr>
  </property>
</Properties>
</file>