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691-4574-4531-B7BE-AD90294B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B08-4078-4D2E-9529-59B04AA5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991-8447-4A77-B38A-214F68D2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476-55DD-49B2-A2ED-2CC85147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93E7-5357-4CFB-B079-504A40D5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B34F-7CE5-43EF-A367-30D99385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43F0-DE31-4ED5-A907-BB5AB926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8673-F358-416E-B6F2-06FB27FA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6300-B40A-42AA-9E5B-ECB01CAD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3E16-3C95-4335-B260-51B3B0F9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C227-BBFE-43B1-8A22-C218717D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690-888D-47E3-BE3B-7A9FC174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6A61-A618-4D7D-ACDF-034983A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13B0-8667-491A-8196-C695DFAB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40E4-1B6B-4C6B-B45F-248B2B6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68FA-B1D7-4F7F-BDC0-AE6DA80C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BAC1-ED4F-4C74-A4DE-47EEBE4D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38A-09CB-4BFD-B925-70DFD7F1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5BA-F209-4194-A42A-9DFFBC7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7FE-6AEB-4FE8-9DB9-15F56238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8E2-4A29-427A-A5EE-D4AC67A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465-E3DC-4EF4-B3FD-355C64C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CF1-6338-4F76-A1FE-25B7853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296-ADD5-4F37-9D7C-D1F0F88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E62-2E69-4BBB-9997-06F89BF5F2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6B36-D497-4B91-B090-4635A2688E29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685800"/>
            <a:ext cx="82152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cc00"/>
                </a:solidFill>
                <a:latin typeface="Times New Roman"/>
              </a:rPr>
              <a:t>Великі географічні відкриття -</a:t>
            </a:r>
            <a:br>
              <a:rPr sz="6000"/>
            </a:b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це колоніальне загарбання європейцями Америки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" name="Рисунок 13" descr=""/>
          <p:cNvPicPr/>
          <p:nvPr/>
        </p:nvPicPr>
        <p:blipFill>
          <a:blip r:embed="rId1"/>
          <a:stretch/>
        </p:blipFill>
        <p:spPr>
          <a:xfrm>
            <a:off x="1785960" y="4197240"/>
            <a:ext cx="58579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Наслідки географічних відкриттів для корінних жителів Америк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819520"/>
            <a:ext cx="2514600" cy="248112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літика геноци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Масове ви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66880" y="2819520"/>
            <a:ext cx="1905120" cy="24098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нікальн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род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76920" y="2819520"/>
            <a:ext cx="198108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иль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католи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010280" y="2819520"/>
            <a:ext cx="213372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яв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ганебного дл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людства явища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рабо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50920" y="5516640"/>
            <a:ext cx="4608360" cy="111276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Економічне пограбування народі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, вивез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 материка золота і срібл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643120" y="1643040"/>
            <a:ext cx="0" cy="385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5292720" y="5445000"/>
            <a:ext cx="3672000" cy="11304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аселення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європейцями, створ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оні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Стрелка вниз 16"/>
          <p:cNvSpPr/>
          <p:nvPr/>
        </p:nvSpPr>
        <p:spPr>
          <a:xfrm>
            <a:off x="385776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Стрелка вниз 17"/>
          <p:cNvSpPr/>
          <p:nvPr/>
        </p:nvSpPr>
        <p:spPr>
          <a:xfrm>
            <a:off x="1714680" y="1714680"/>
            <a:ext cx="483840" cy="97776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Стрелка вниз 18"/>
          <p:cNvSpPr/>
          <p:nvPr/>
        </p:nvSpPr>
        <p:spPr>
          <a:xfrm>
            <a:off x="507204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Стрелка вниз 19"/>
          <p:cNvSpPr/>
          <p:nvPr/>
        </p:nvSpPr>
        <p:spPr>
          <a:xfrm>
            <a:off x="7215120" y="1785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Прямая со стрелкой 21"/>
          <p:cNvCxnSpPr/>
          <p:nvPr/>
        </p:nvCxnSpPr>
        <p:spPr>
          <a:xfrm flipH="1">
            <a:off x="6928560" y="1643040"/>
            <a:ext cx="2520" cy="378864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00000" y="1052640"/>
            <a:ext cx="76024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ня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хоставця Сергія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340000" y="515772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Керівник проекту: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читель історії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Панасюк О.О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52280" y="228600"/>
            <a:ext cx="8991720" cy="23623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</a:rPr>
              <a:t>Я стверджую: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відкриття Америки – ц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колоніальне загарбання нових земель європей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352680"/>
            <a:ext cx="9144000" cy="29718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 своїй суті географічні відкриття носили загарбниць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характер, адже європейці відправилися в Індію з метою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шуків золота і нового шляху для перевезення прянощів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кі принесли б їм великі прибутк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572000" y="2666880"/>
            <a:ext cx="0" cy="6098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324000" y="189000"/>
            <a:ext cx="8670600" cy="5145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2280" y="5334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умб не міг повірити в те, що у “східній Індії” не має золота і прянощів. Він 4 рази організовував експедиції, намагався окупити витрати і принести прибутки королям Іспанії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 стверджую, що європейці ще до відкриття Америки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мали намір захопити нововідкриті зем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280" y="2209680"/>
            <a:ext cx="8991720" cy="41720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Адже, ще 17 квітня 1492 року Колумб підписав угоду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з правителями Іспанії згідно якої він сам одержав довічно 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для своїх спадкоємців і нащадків звання Адмірал всіх земель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і континентів в океані, з усіма привілеями, які мають адмірали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Кастилії. Він призначався віце-королем і віце-губернатором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усіх земель і континентів, які відкриє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Виникає питання: На якій підставі іспанські корол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призначали  своїх правителів на нових землях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685800" y="150840"/>
            <a:ext cx="7696080" cy="4878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50920" y="51814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 нововідкриті землі європейці привезли католицьку віру, вони зневажали вірування корінних жителів Америки, нищили їх святилища, ідолів, відбирали золоті речі культового призна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а 50 років населення Центральної Мексики скоротилося </a:t>
            </a:r>
            <a:br>
              <a:rPr sz="2400"/>
            </a:b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 25 млн. до 2 млн.65 тисяч чоловік (1,2),  а з 9 млн. інків, живими залишилися 1 млн. 300 тисяч(3,4)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Object 5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На 1630 рік у Латинській Америці залишилося</a:t>
            </a:r>
            <a:br>
              <a:rPr sz="2800"/>
            </a:b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3% населення з того, що жило в доколумбову еру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2895480" y="2421000"/>
            <a:ext cx="609624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23274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-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 (100%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2- кількість корінних жителів Америки в 1630 році (3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68580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Корінні жителі Америки відмовилися святкувати 500-річчя відкриття Америки Колумбом, наголошуючи: “Для індіанців Америки, не має мови, взагалі, про “зустріч двох цивілізацій”, це було вторгнення, відчуження  наших  територій та колоніальне  поневолення”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3:56:40Z</dcterms:created>
  <dc:creator>www.PHILka.RU</dc:creator>
  <dc:description/>
  <dc:language>en-US</dc:language>
  <cp:lastModifiedBy>Home</cp:lastModifiedBy>
  <dcterms:modified xsi:type="dcterms:W3CDTF">2013-02-04T19:02:25Z</dcterms:modified>
  <cp:revision>26</cp:revision>
  <dc:subject/>
  <dc:title>Великі географічні відкриття: це колоніальне загарбання європейцями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5000000000001024140</vt:lpwstr>
  </property>
</Properties>
</file>