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0ED-497A-41B7-879B-153E650C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9D6-A62A-4470-AABD-E3677A75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C27-7501-4355-B846-A9F849B3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E69-0D96-4689-A737-60BF854C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DFEA-3C6B-46A7-8B4F-35D681A0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8888-B048-4E68-9943-5C022D8A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E3DF-CF05-4608-B0C1-61D036B1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4F03-EE5A-4CDA-8400-274B45E0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3E39-E141-4954-B55E-78C7C2CD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20D1-3A08-468F-9873-6A6518D3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5067-7576-4B42-A6B3-90B9D0E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4EF-8425-4D8A-B672-D0F81F2B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4D95-70C3-4B75-80AD-14ABE38D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6BBD-1C0A-472C-A340-2D3D796E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95DE-1B70-40E9-939E-01BEA032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88CD-E073-4AC9-A1F5-4AA61805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C4B4-700D-4292-8E48-1F33724D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D14-50C2-4CAA-8A4A-D7869A56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0C3-1880-4F2B-815D-011B2DB5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321-D243-46DF-954F-DC64625D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25B-D16B-42EF-B307-4A3784F0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086-727F-4C4C-BA8D-65A52E34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DA1-621D-4EB5-AEA1-ED9EBAC6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3EA-C7F8-463B-B221-417DF99D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7D06-CB49-4A22-8305-1A45B6D860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0F94-792B-4A8A-B71C-7E5FA226C5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14480" y="1143000"/>
            <a:ext cx="8915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ідкриття Америк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європейцями - це зустріч двох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ілізацій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755640" y="907920"/>
            <a:ext cx="7056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ий проект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ениці 8 класу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різького НВК №18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ло Поліни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763640" y="4581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Керівник проекту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учитель історі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Панасюк О.О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33520" y="404640"/>
            <a:ext cx="8076960" cy="3311640"/>
          </a:xfrm>
          <a:prstGeom prst="rect">
            <a:avLst/>
          </a:prstGeom>
          <a:solidFill>
            <a:srgbClr val="00cc66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Більша частина жителів сучасної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Америки вважають, щ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відкриття Нового Світу Колумб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 – </a:t>
            </a: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це  є зустріч двох цивілізаці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3" descr="C:\Users\Home\Desktop\Інноваційний урок\Захист проектів Великі географічні відкриття\Допоміжні матеріали\Merkyriy.jpg"/>
          <p:cNvPicPr/>
          <p:nvPr/>
        </p:nvPicPr>
        <p:blipFill>
          <a:blip r:embed="rId1"/>
          <a:stretch/>
        </p:blipFill>
        <p:spPr>
          <a:xfrm>
            <a:off x="2411280" y="3933720"/>
            <a:ext cx="3868920" cy="2671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66"/>
                </a:solidFill>
                <a:latin typeface="Arial"/>
              </a:rPr>
              <a:t>Народи Америки до і після 1492 року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изький рівень економічного розвит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ідсутність залізних знарядь праці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еребували на стадії розпаду первісного суспільства і утворення держав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у більшості племен відсутня писемність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зичницька ві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європейці принесли вищий рівень економічного розвит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ознайомили індіанців з вогнепальною зброєю, заліз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везли коней, іншу свійську худоб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ринесли вищу політичну організацію суспіль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тягнули місцеві народи у світову торгівл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47920" y="838080"/>
            <a:ext cx="9144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33"/>
                </a:solidFill>
                <a:latin typeface="Times New Roman"/>
              </a:rPr>
              <a:t>Д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943600" y="914400"/>
            <a:ext cx="10764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33"/>
                </a:solidFill>
                <a:latin typeface="Times New Roman"/>
              </a:rPr>
              <a:t>Післ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436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Значення відкриття Америки для європейців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почали освоювати нововідкриті землі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завезли в Європу  нові сільськогосподарські культури: картоплю, помідори, кукурудзу, какао, тютюн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розпочалися нові дослідження в багатьох галузях нау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торгові шляхи перемістилися із Середземного моря в Атлантичний океан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сформувався світовий ринок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виникли нові мануфактури, сировину для яких везли з Амери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Я засуджую методи, якими</a:t>
            </a:r>
            <a:br>
              <a:rPr sz="4400"/>
            </a:b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діяли європейці в Америці. Але обидві цивілізації збагатилися у своїх пізнаннях.</a:t>
            </a:r>
            <a:br>
              <a:rPr sz="4400"/>
            </a:b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       Постає питання: Скільки років потрібно було б народам Америки, щоб досягти європейського рівня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476360" y="189000"/>
            <a:ext cx="64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cc33"/>
                </a:solidFill>
                <a:latin typeface="Arial"/>
              </a:rPr>
              <a:t>Таким чином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4:25:48Z</dcterms:created>
  <dc:creator>www.PHILka.RU</dc:creator>
  <dc:description/>
  <dc:language>en-US</dc:language>
  <cp:lastModifiedBy>Home</cp:lastModifiedBy>
  <dcterms:modified xsi:type="dcterms:W3CDTF">2013-02-04T18:52:08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2000000000001024140</vt:lpwstr>
  </property>
</Properties>
</file>