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16E3-7FCE-448B-89DA-53B77AA9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163B-407A-4CE5-A537-15A8D53D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2F5C-2C30-4730-AD43-B2F1BBC7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2F81-74D8-4CFC-A4AA-041BD451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DCFE-45EB-4426-B756-24B750D0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5BC4-334C-475A-B5E2-F4BCD85B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244E-80E4-450A-A8FB-D1B4B8AF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3357-59C4-4B52-9E17-577006CD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B354-F79F-4724-858C-11A21763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5199-6F71-431A-AE2C-0BBB3E41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4AF0-2DFD-4CEB-8A1A-422FB9DA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4D21-D5D9-4434-A991-63845EAE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F603-757A-4BF8-8A13-AB1131F7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CCB3-54E3-443D-B351-E39AE088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E348-9098-469B-BF2E-52AF8A5E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FF3C-3ED5-4865-A238-09D6251C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DDBB-F3AA-4BA4-A17B-191EC684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73D2F-9429-474E-A92C-C0351633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E412F-9313-4E44-8BFD-50A65E85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5B858-5D83-406C-AA6F-A20F34F3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BA292-9D04-485B-A35A-6CA4A791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07E1B-FB9C-4F11-B7DB-890D77EE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140C-57EA-4D76-9A10-7D30B76C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24766-5695-46C9-9DF0-7ADC775C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FD5B7-245B-485E-866C-E8E1CA97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C6EA7-5913-4D26-9C23-0BA1A021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2A121-471A-46B2-9EFA-B3C24712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39CB2-CE59-41DE-A7B6-09F3BD20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1F758-3DAD-4454-83D5-11DA011A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FC224-F124-4ACD-A8A5-84C79917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EFDCF-EB19-4566-9411-9978560D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FCAE0-8F11-4463-9A30-5BA57076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4DCD7-EF48-45E1-92E3-476BC3AB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9F6-573F-451D-BA6F-286937D3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94F96-2D02-4281-9BAF-1317BC70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3C00A-51EA-4E42-AE9C-368C289A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A697E-12BA-4B13-84B3-96151766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32649-1EDE-4E46-928B-FAE12CDC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BCBA7-909B-4AB6-8A7F-007FD23C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86D50-6F95-47A6-9D49-0F9ECCE0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D6E26-31C9-4770-8D9A-2844627B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25DD1-ED4C-449C-AABA-3A0DF31C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67972-F2A4-48D6-8522-077C0D85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E0D54-30BB-474A-A256-92B141623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1130-4B78-4524-980C-38A35E82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5B8B6-2385-48AF-9151-1ED985B3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50DF4-E8BC-442C-B7A3-1226B3C7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B659F-752E-4E2A-AFD0-AB3C78AA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5B83D-EADA-4880-965F-A49B9580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A1094-CACC-40FC-8CDE-E0EC6A4B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26E28-27F2-4BC4-B3B7-4E7185C4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058B9-1FCF-4AF8-91A9-101D8FA6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E3C21-75AD-4C0F-8E7F-DFED0E1D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F9E3B-CCF2-4916-98DF-46FC6CDF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7D918-D3EB-4BD1-9774-68F81E28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3C24-CF2B-4B16-B04E-AB7D5552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C6F04-9A09-46FB-884B-DBAE92CC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843E9-EE56-47D2-9EBD-63A1B70B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FA46B-7C5E-4A6E-936F-65254FB5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FEE37-BB81-4BD9-B2FA-2D1B47F8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8EBA6-DA3D-4D5D-8A76-2633AEBB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B304B-B98B-40EB-8DF5-3BF0BD5B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41407-D77E-4728-BA2B-FF3E5ED3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A5464-A993-4F85-92C1-6BFDD2C3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FBEFF-7B95-4D96-81CD-60DA8095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86163-DD69-4638-BFC5-F6208CE1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E395-4CF6-45AA-AA99-186053CF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AD638-D12C-450B-9608-53BE7586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8F136-5381-490A-AD86-F51BA8A5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8CCA0-C466-4CD1-8A54-A3EE71C9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5F7C-F585-4FC1-A5D1-2E089999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94F6-4794-49B1-A1FE-73FB3CA1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>
              <a:gd name="textAreaLeft" fmla="*/ 0 w 1982880"/>
              <a:gd name="textAreaRight" fmla="*/ 1983240 w 1982880"/>
              <a:gd name="textAreaTop" fmla="*/ 0 h 654120"/>
              <a:gd name="textAreaBottom" fmla="*/ 654120 h 654120"/>
            </a:gdLst>
            <a:ahLst/>
            <a:rect l="textAreaLeft" t="textAreaTop" r="textAreaRight" b="textAreaBottom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306360"/>
              <a:gd name="textAreaBottom" fmla="*/ 306360 h 306360"/>
            </a:gdLst>
            <a:ahLst/>
            <a:rect l="textAreaLeft" t="textAreaTop" r="textAreaRight" b="textAreaBottom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>
              <a:gd name="textAreaLeft" fmla="*/ 0 w 1947960"/>
              <a:gd name="textAreaRight" fmla="*/ 1948320 w 1947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>
              <a:gd name="textAreaLeft" fmla="*/ 0 w 122040"/>
              <a:gd name="textAreaRight" fmla="*/ 122400 w 1220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>
              <a:gd name="textAreaLeft" fmla="*/ 0 w 1951200"/>
              <a:gd name="textAreaRight" fmla="*/ 1951560 w 195120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>
              <a:gd name="textAreaLeft" fmla="*/ 0 w 90360"/>
              <a:gd name="textAreaRight" fmla="*/ 90720 w 9036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>
                <a:gd name="textAreaLeft" fmla="*/ 0 w 3381480"/>
                <a:gd name="textAreaRight" fmla="*/ 3381840 w 338148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>
                <a:gd name="textAreaLeft" fmla="*/ 0 w 3378240"/>
                <a:gd name="textAreaRight" fmla="*/ 3378600 w 33782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450720"/>
                <a:gd name="textAreaBottom" fmla="*/ 450720 h 450720"/>
              </a:gdLst>
              <a:ahLst/>
              <a:rect l="textAreaLeft" t="textAreaTop" r="textAreaRight" b="textAreaBottom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>
                <a:gd name="textAreaLeft" fmla="*/ 0 w 3379680"/>
                <a:gd name="textAreaRight" fmla="*/ 3380040 w 337968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>
                <a:gd name="textAreaLeft" fmla="*/ 0 w 3378240"/>
                <a:gd name="textAreaRight" fmla="*/ 3378600 w 3378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08E7-B0F1-418F-8AD8-6949EEAB8FA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9D5E-D2FD-4590-AD9E-23D19793CF91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5B8A-388E-4347-B627-1FF135A640EB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>
              <a:gd name="textAreaLeft" fmla="*/ 0 w 3144600"/>
              <a:gd name="textAreaRight" fmla="*/ 3144960 w 314460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>
              <a:gd name="textAreaLeft" fmla="*/ 0 w 3146400"/>
              <a:gd name="textAreaRight" fmla="*/ 3146760 w 31464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>
              <a:gd name="textAreaLeft" fmla="*/ 0 w 3146400"/>
              <a:gd name="textAreaRight" fmla="*/ 3146760 w 31464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>
              <a:gd name="textAreaLeft" fmla="*/ 0 w 3085920"/>
              <a:gd name="textAreaRight" fmla="*/ 3086280 w 308592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>
              <a:gd name="textAreaLeft" fmla="*/ 0 w 193680"/>
              <a:gd name="textAreaRight" fmla="*/ 194040 w 193680"/>
              <a:gd name="textAreaTop" fmla="*/ 0 h 649080"/>
              <a:gd name="textAreaBottom" fmla="*/ 649080 h 649080"/>
            </a:gdLst>
            <a:ahLst/>
            <a:rect l="textAreaLeft" t="textAreaTop" r="textAreaRight" b="textAreaBottom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>
              <a:gd name="textAreaLeft" fmla="*/ 0 w 3092400"/>
              <a:gd name="textAreaRight" fmla="*/ 3092760 w 30924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>
              <a:gd name="textAreaLeft" fmla="*/ 0 w 142560"/>
              <a:gd name="textAreaRight" fmla="*/ 142920 w 14256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5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226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677880"/>
                <a:gd name="textAreaBottom" fmla="*/ 677880 h 677880"/>
              </a:gdLst>
              <a:ahLst/>
              <a:rect l="textAreaLeft" t="textAreaTop" r="textAreaRight" b="textAreaBottom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>
                <a:gd name="textAreaLeft" fmla="*/ 0 w 2795400"/>
                <a:gd name="textAreaRight" fmla="*/ 2795400 w 27954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>
                <a:gd name="textAreaLeft" fmla="*/ 0 w 2795400"/>
                <a:gd name="textAreaRight" fmla="*/ 2795400 w 27954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1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232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312840"/>
                <a:gd name="textAreaBottom" fmla="*/ 312840 h 312840"/>
              </a:gdLst>
              <a:ahLst/>
              <a:rect l="textAreaLeft" t="textAreaTop" r="textAreaRight" b="textAreaBottom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2D35-5638-4FDD-B3B0-EFC4328E653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7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C6AE-32D7-4286-A9B6-D64C5D180265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2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2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4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6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38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8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FBCB-C27F-4D0D-B589-A4A8346FBF35}" type="slidenum">
              <a:rPr b="0" lang="uk-U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WordArt 2" descr=""/>
          <p:cNvPicPr/>
          <p:nvPr/>
        </p:nvPicPr>
        <p:blipFill>
          <a:blip r:embed="rId2"/>
          <a:stretch/>
        </p:blipFill>
        <p:spPr>
          <a:xfrm>
            <a:off x="743040" y="822240"/>
            <a:ext cx="7370640" cy="2811600"/>
          </a:xfrm>
          <a:prstGeom prst="rect">
            <a:avLst/>
          </a:prstGeom>
          <a:ln w="0">
            <a:noFill/>
          </a:ln>
        </p:spPr>
      </p:pic>
      <p:pic>
        <p:nvPicPr>
          <p:cNvPr id="432" name="WordArt 4" descr=""/>
          <p:cNvPicPr/>
          <p:nvPr/>
        </p:nvPicPr>
        <p:blipFill>
          <a:blip r:embed="rId3"/>
          <a:stretch/>
        </p:blipFill>
        <p:spPr>
          <a:xfrm>
            <a:off x="165240" y="4645080"/>
            <a:ext cx="34131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hape 74"/>
          <p:cNvSpPr/>
          <p:nvPr/>
        </p:nvSpPr>
        <p:spPr>
          <a:xfrm>
            <a:off x="5400720" y="1773360"/>
            <a:ext cx="3743280" cy="3965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250560" y="1484280"/>
            <a:ext cx="5113080" cy="458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 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В 1488 році в пошуках морського шляху з Європи до Індії Діаш першим з європейців обігнув Африку з півдня й відкрив мис Доброї Надії, вийшовши у води Індійського океану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Shape 76"/>
          <p:cNvSpPr/>
          <p:nvPr/>
        </p:nvSpPr>
        <p:spPr>
          <a:xfrm>
            <a:off x="2286000" y="2690640"/>
            <a:ext cx="457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ff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4788000" y="1125000"/>
            <a:ext cx="3960720" cy="504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  <a:ea typeface="Tahoma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  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Васко да Гама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- португальський дослідник і мореплавець, який відкрив морський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шлях до Індії поза Африкою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64" name="Picture 8" descr="vask_da_gama"/>
          <p:cNvPicPr/>
          <p:nvPr/>
        </p:nvPicPr>
        <p:blipFill>
          <a:blip r:embed="rId1"/>
          <a:stretch/>
        </p:blipFill>
        <p:spPr>
          <a:xfrm>
            <a:off x="324000" y="1628640"/>
            <a:ext cx="410364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1115640" y="5157360"/>
            <a:ext cx="727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  <a:ea typeface="Tahoma"/>
              </a:rPr>
              <a:t>Маршрут Васко да Гами (чорна лінія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Shape 88"/>
          <p:cNvSpPr/>
          <p:nvPr/>
        </p:nvSpPr>
        <p:spPr>
          <a:xfrm>
            <a:off x="1763640" y="907920"/>
            <a:ext cx="5761080" cy="410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hape 117"/>
          <p:cNvSpPr/>
          <p:nvPr/>
        </p:nvSpPr>
        <p:spPr>
          <a:xfrm>
            <a:off x="0" y="1844640"/>
            <a:ext cx="53276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Фернан Магеллан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- португальський мореплавець, експедиція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якого здійснила перше кругосвітнє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плавання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68" name="Picture 10" descr=""/>
          <p:cNvPicPr/>
          <p:nvPr/>
        </p:nvPicPr>
        <p:blipFill>
          <a:blip r:embed="rId1"/>
          <a:stretch/>
        </p:blipFill>
        <p:spPr>
          <a:xfrm>
            <a:off x="5148360" y="1557360"/>
            <a:ext cx="375264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Shape 123"/>
          <p:cNvSpPr/>
          <p:nvPr/>
        </p:nvSpPr>
        <p:spPr>
          <a:xfrm>
            <a:off x="0" y="0"/>
            <a:ext cx="9144000" cy="5445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Shape 124"/>
          <p:cNvSpPr/>
          <p:nvPr/>
        </p:nvSpPr>
        <p:spPr>
          <a:xfrm>
            <a:off x="468360" y="5516640"/>
            <a:ext cx="8496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  <a:ea typeface="Tahoma"/>
              </a:rPr>
              <a:t>Експедиція Магеллана остаточно довела, що Земля має форму кулі, обігнувши яку можна повернутися  в порт відплиття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hape 117"/>
          <p:cNvSpPr/>
          <p:nvPr/>
        </p:nvSpPr>
        <p:spPr>
          <a:xfrm>
            <a:off x="0" y="1844640"/>
            <a:ext cx="532764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Христофор Колумб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- іспанський мореплавець, який відкрив багато нових земель. Набільш відомий свїм відкриттям Америки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73" name="Picture 8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6529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3"/>
          <p:cNvSpPr/>
          <p:nvPr/>
        </p:nvSpPr>
        <p:spPr>
          <a:xfrm>
            <a:off x="157644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75" name="Picture 2" descr="http://geo-tour.net/Interesting/pic/columb-ma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4"/>
          <p:cNvSpPr/>
          <p:nvPr/>
        </p:nvSpPr>
        <p:spPr>
          <a:xfrm>
            <a:off x="1576440" y="139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77" name="Picture 2" descr="http://geo-tour.net/Interesting/pic/columb-ma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3"/>
          <p:cNvSpPr/>
          <p:nvPr/>
        </p:nvSpPr>
        <p:spPr>
          <a:xfrm>
            <a:off x="795240" y="5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79" name="Picture 2" descr="http://a.isuspan.com/z/793px-Columbus_Taking_Possess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4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81" name="WordArt 5" descr=""/>
          <p:cNvPicPr/>
          <p:nvPr/>
        </p:nvPicPr>
        <p:blipFill>
          <a:blip r:embed="rId2"/>
          <a:stretch/>
        </p:blipFill>
        <p:spPr>
          <a:xfrm>
            <a:off x="1682640" y="6089760"/>
            <a:ext cx="5516640" cy="54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WordArt 2"/>
          <p:cNvSpPr txBox="1"/>
          <p:nvPr/>
        </p:nvSpPr>
        <p:spPr>
          <a:xfrm>
            <a:off x="0" y="0"/>
            <a:ext cx="9144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лідки Великих </a:t>
            </a:r>
            <a:endParaRPr b="0" lang="en-US" sz="24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ографічних відкриттів.</a:t>
            </a:r>
            <a:endParaRPr b="0" lang="en-US" sz="24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304920" y="1523880"/>
            <a:ext cx="2514600" cy="19814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Розвиток світової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торгівлі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3200400" y="1523880"/>
            <a:ext cx="2819520" cy="19051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Зниження цін у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Європі на золото і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срібло (“революці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цін”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6172200" y="1523880"/>
            <a:ext cx="2743200" cy="19814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ереміщ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центру торгівлі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зі Середземного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моря в Атлантични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океан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228600" y="4191120"/>
            <a:ext cx="2971800" cy="18288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Створ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колоніальних імперій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ерший поділ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світу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7" name="Rectangle 11"/>
          <p:cNvSpPr/>
          <p:nvPr/>
        </p:nvSpPr>
        <p:spPr>
          <a:xfrm>
            <a:off x="3429000" y="4038480"/>
            <a:ext cx="2590920" cy="19814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очаток нових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досліджен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у різних галузях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науки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Rectangle 15"/>
          <p:cNvSpPr/>
          <p:nvPr/>
        </p:nvSpPr>
        <p:spPr>
          <a:xfrm>
            <a:off x="6324480" y="3962520"/>
            <a:ext cx="2667240" cy="20574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Завезення в Європ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нових сільсько 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господарських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культу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Наслідки Великих географічних відкриттів для населення Америки</a:t>
            </a: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179280" y="1125360"/>
            <a:ext cx="4068720" cy="54864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uk-UA" sz="2400" spc="-1" strike="noStrike">
                <a:solidFill>
                  <a:srgbClr val="000066"/>
                </a:solidFill>
                <a:latin typeface="Times New Roman"/>
              </a:rPr>
              <a:t>Позитивні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Народи Америки були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втягнуті у світову торгівлю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2. Європейці принесли більш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нову політичну організацію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суспільства,  високи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економічний, технічний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науковий розвиток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3. Познайомили європейців і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вогнепальною зброєю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4. Завезли свійських тварин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4356000" y="1125360"/>
            <a:ext cx="4572000" cy="54864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Негативні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Фізичне винищення корінних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жителів Америк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. Знищення унікальної культур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доколумбової Америки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3. Насильне покатоличення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корінних жителів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4. Економічне пограбування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племен, вивезення в Європу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золот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5. Утворення на вільних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американських землях колоній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6. Поява рабств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WordArt 2"/>
          <p:cNvSpPr txBox="1"/>
          <p:nvPr/>
        </p:nvSpPr>
        <p:spPr>
          <a:xfrm>
            <a:off x="2124000" y="5229360"/>
            <a:ext cx="6048360" cy="14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Відкриття європейці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4"/>
          <p:cNvSpPr txBox="1"/>
          <p:nvPr/>
        </p:nvSpPr>
        <p:spPr>
          <a:xfrm>
            <a:off x="755640" y="1484280"/>
            <a:ext cx="799308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Домашнє завдання: §1.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А) презентувати творчий проект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дослідивши наслідки 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Великих географічних відкриттів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 </a:t>
            </a: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для світу;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Б) виготовити макет карти до подорожей 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одного із морепплавців.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66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  <a:ea typeface="Tahoma"/>
              </a:rPr>
              <a:t>  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Після цього уроку ви зможете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Пояснювати поняття “Великі географічні відкриття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Характеризувати причини і передумови відкриттів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Описувати подорожі європейців, показуючи на карті їх напрямк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  <a:ea typeface="Tahoma"/>
              </a:rPr>
              <a:t>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8229600" cy="59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  <a:ea typeface="Tahoma"/>
              </a:rPr>
              <a:t> 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Ознайомимось…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ts val="43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  <a:ea typeface="Tahoma"/>
              </a:rPr>
              <a:t>  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  <a:ea typeface="Tahoma"/>
              </a:rPr>
              <a:t>Великі географічні відкриття</a:t>
            </a:r>
            <a:r>
              <a:rPr b="0" lang="ru-RU" sz="2800" spc="-1" strike="noStrike">
                <a:solidFill>
                  <a:srgbClr val="ffc000"/>
                </a:solidFill>
                <a:latin typeface="Tahoma"/>
                <a:ea typeface="Tahoma"/>
              </a:rPr>
              <a:t> — це період в історії людства, що розпочався у другій половині XV століття і тривав до середини XVІІ століття, коли європейцями були відкриті невідомі раніше моря, океани, материки, здійснені кругосвітні подорожі, що докорінно змінило уявлення людини про Землю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914400" y="11430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2879640" y="141300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0" y="4516560"/>
            <a:ext cx="9144000" cy="2341440"/>
          </a:xfrm>
          <a:prstGeom prst="rect">
            <a:avLst/>
          </a:prstGeom>
          <a:solidFill>
            <a:srgbClr val="d06a82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Великий венеціанський мандрівник ХІІІ ст. Марко Поло писав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у спогадах про свою подорож до Індії: “Золота, скажу вам, у них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дуже багато і не вивозять його звідти... Сказати по правді, пала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там великий і вкритий чистим  золотом... Ще скажу вам, що під-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логи в покоях, а їх там багато, вкрито чистим золотом у два паль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ця завтовшки, і зали, і вікна оздоблені золотими прикрасами”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WordArt 3"/>
          <p:cNvSpPr txBox="1"/>
          <p:nvPr/>
        </p:nvSpPr>
        <p:spPr>
          <a:xfrm>
            <a:off x="228600" y="304920"/>
            <a:ext cx="8686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чини Великих географічних відкриттів</a:t>
            </a:r>
            <a:endParaRPr b="0" lang="en-US" sz="20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228600" y="1752480"/>
            <a:ext cx="4267080" cy="19814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рагнення європейці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оповнити запаси золота і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срібла, яких не вистачало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в Європі, для карбування монет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5029200" y="1752480"/>
            <a:ext cx="3886200" cy="19814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3. Прагнення європейці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озбутися посередникі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у торгівлі з країнами сходу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304920" y="4343400"/>
            <a:ext cx="4114800" cy="21337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2. Захоплення турками в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1453 році Константинополя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ошуки нового шляху до Індії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в обхід турецьких володінь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5029200" y="4495680"/>
            <a:ext cx="3886200" cy="20574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4. Прагнення збіднілих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дворяни Іспанії і Португалії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знайти нові землі, де можн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було розбагатіли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Line 12"/>
          <p:cNvSpPr/>
          <p:nvPr/>
        </p:nvSpPr>
        <p:spPr>
          <a:xfrm flipH="1">
            <a:off x="2514240" y="1219320"/>
            <a:ext cx="2133720" cy="5331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Line 13"/>
          <p:cNvSpPr/>
          <p:nvPr/>
        </p:nvSpPr>
        <p:spPr>
          <a:xfrm>
            <a:off x="4648320" y="1219320"/>
            <a:ext cx="2209680" cy="5331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Line 14"/>
          <p:cNvSpPr/>
          <p:nvPr/>
        </p:nvSpPr>
        <p:spPr>
          <a:xfrm>
            <a:off x="4648320" y="1219320"/>
            <a:ext cx="75960" cy="26668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Line 15"/>
          <p:cNvSpPr/>
          <p:nvPr/>
        </p:nvSpPr>
        <p:spPr>
          <a:xfrm flipH="1">
            <a:off x="2666520" y="3886200"/>
            <a:ext cx="205740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Line 16"/>
          <p:cNvSpPr/>
          <p:nvPr/>
        </p:nvSpPr>
        <p:spPr>
          <a:xfrm>
            <a:off x="4800600" y="3886200"/>
            <a:ext cx="2209680" cy="6094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WordArt 2"/>
          <p:cNvSpPr txBox="1"/>
          <p:nvPr/>
        </p:nvSpPr>
        <p:spPr>
          <a:xfrm>
            <a:off x="533520" y="762120"/>
            <a:ext cx="8305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18900000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Передумови Великих географічних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18900000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18900000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відкриттів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18900000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2651040" y="286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380880" y="1981080"/>
            <a:ext cx="8458200" cy="449604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Утвердження  ідеї, що Земля має форму кулі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Удосконалення компасу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Використання астролябії мореплавцями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Винахід вогнепальної зброї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Створення морських карт - портелан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Удосконалення вітрильника - створення каравел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під прямими і скісними парусами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8360" y="502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ff"/>
                </a:solidFill>
                <a:latin typeface="Tahoma"/>
                <a:ea typeface="Tahoma"/>
              </a:rPr>
              <a:t>  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ПРАЦЮЄМО З КАРТАМИ ТА ІЛЮСТРАЦІЯМ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5049720" cy="22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Прослідкуйте напрямки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 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основних подороже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55" name="Picture 2" descr="C:\Users\Home\Desktop\Інноваційний урок\Захист проектів Великі географічні відкриття\Допоміжні матеріали\09189d56af546c205c22be10998383ab.jpg"/>
          <p:cNvPicPr/>
          <p:nvPr/>
        </p:nvPicPr>
        <p:blipFill>
          <a:blip r:embed="rId1"/>
          <a:srcRect l="0" t="0" r="0" b="-129"/>
          <a:stretch/>
        </p:blipFill>
        <p:spPr>
          <a:xfrm>
            <a:off x="5148360" y="1557360"/>
            <a:ext cx="3644640" cy="2970360"/>
          </a:xfrm>
          <a:prstGeom prst="rect">
            <a:avLst/>
          </a:prstGeom>
          <a:ln w="0">
            <a:noFill/>
          </a:ln>
        </p:spPr>
      </p:pic>
      <p:sp>
        <p:nvSpPr>
          <p:cNvPr id="456" name="Shape 63"/>
          <p:cNvSpPr/>
          <p:nvPr/>
        </p:nvSpPr>
        <p:spPr>
          <a:xfrm>
            <a:off x="4487760" y="4581360"/>
            <a:ext cx="465624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Визначте результати кожної з них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57" name="Picture 3" descr="C:\Users\Home\Desktop\Інноваційний урок\Захист проектів Великі географічні відкриття\Допоміжні матеріали\Merkyriy.jpg"/>
          <p:cNvPicPr/>
          <p:nvPr/>
        </p:nvPicPr>
        <p:blipFill>
          <a:blip r:embed="rId2"/>
          <a:stretch/>
        </p:blipFill>
        <p:spPr>
          <a:xfrm>
            <a:off x="539640" y="3860640"/>
            <a:ext cx="3868920" cy="26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655344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  <a:ea typeface="Tahoma"/>
              </a:rPr>
              <a:t>  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Бартоломе́у Ді́аш ді Нова́їс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-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один з найславетніших португальських мореплавців-першовідкривачів, що підкорював води Атлантики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  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в XV столітті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Shape 69"/>
          <p:cNvSpPr/>
          <p:nvPr/>
        </p:nvSpPr>
        <p:spPr>
          <a:xfrm>
            <a:off x="5724360" y="2205000"/>
            <a:ext cx="3137040" cy="417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5:20:15Z</dcterms:created>
  <dc:creator>www.PHILka.RU</dc:creator>
  <dc:description/>
  <dc:language>en-US</dc:language>
  <cp:lastModifiedBy>Home</cp:lastModifiedBy>
  <dcterms:modified xsi:type="dcterms:W3CDTF">2013-01-28T18:53:34Z</dcterms:modified>
  <cp:revision>5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21000000000001024140</vt:lpwstr>
  </property>
</Properties>
</file>