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239-26A5-4477-9E56-88906183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902-BA40-4F43-B33B-757C55A5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A12-A155-4C8F-B9E5-16D2D8E9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612-96B4-4C02-91D5-4BE1C33B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5171-759D-45B2-ACC9-70BC55D9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DA8E-1698-4BB9-A9C3-A69647D7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772B-3341-41D5-9461-EBB745DC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1672-41CF-4009-94D3-2AACCA06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3F23-48E1-4BDD-B503-8807087F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5CB0-400C-40A3-A611-B191BCDE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4EEF-C461-4AB2-86A1-003154BC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BFB-5A0A-45C8-ADE4-9780F890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90F3-29DC-4B6A-8144-02985589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141E-CC5A-43E6-89CF-39CE3565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F298-6824-4CCF-BE20-010B1A6C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4B29-A06E-4013-B228-52DDEC1B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80A8-1EF9-4E38-A890-044203CA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253-4CAB-4610-8E82-07057313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A1F-C290-4870-BF66-50036A9D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2F9-E57E-44FB-ADA8-BD709C29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33C-CE11-41CB-A5F4-C075CF74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EF3-6979-4473-B84C-E11B9D48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BB5-E29D-4550-9AC9-C1C2C93A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710-ED3B-43B8-A411-44781BC6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FBD4-2F43-464D-8B95-19DEB57BBC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EA02-75A0-4402-907C-3CB14D8D56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14480" y="1143000"/>
            <a:ext cx="89154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ідкриття Америк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європейцями - це зустріч двох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ілізацій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755640" y="907920"/>
            <a:ext cx="7056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ий проект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ениці 8 класу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різького НВК №18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ло Поліни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763640" y="4581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Керівник проекту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учитель історі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Панасюк О.О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33520" y="404640"/>
            <a:ext cx="8076960" cy="3311640"/>
          </a:xfrm>
          <a:prstGeom prst="rect">
            <a:avLst/>
          </a:prstGeom>
          <a:solidFill>
            <a:srgbClr val="00cc66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Більша частина жителів сучасної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Америки вважають, щ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відкриття Нового Світу Колумб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 – </a:t>
            </a: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це  є зустріч двох цивілізаці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3" descr="C:\Users\Home\Desktop\Інноваційний урок\Захист проектів Великі географічні відкриття\Допоміжні матеріали\Merkyriy.jpg"/>
          <p:cNvPicPr/>
          <p:nvPr/>
        </p:nvPicPr>
        <p:blipFill>
          <a:blip r:embed="rId1"/>
          <a:stretch/>
        </p:blipFill>
        <p:spPr>
          <a:xfrm>
            <a:off x="2411280" y="3933720"/>
            <a:ext cx="3868920" cy="2671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66"/>
                </a:solidFill>
                <a:latin typeface="Arial"/>
              </a:rPr>
              <a:t>Народи Америки до і після 1492 року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низький рівень економічного розвит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ідсутність залізних знарядь праці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еребували на стадії розпаду первісного суспільства і утворення держав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у більшості племен відсутня писемність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зичницька ві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європейці принесли вищий рівень економічного розвит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ознайомили індіанців з вогнепальною зброєю, заліз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авезли коней, іншу свійську худоб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ринесли вищу політичну організацію суспіль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тягнули місцеві народи у світову торгівл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47920" y="838080"/>
            <a:ext cx="9144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33"/>
                </a:solidFill>
                <a:latin typeface="Times New Roman"/>
              </a:rPr>
              <a:t>Д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943600" y="914400"/>
            <a:ext cx="10764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33"/>
                </a:solidFill>
                <a:latin typeface="Times New Roman"/>
              </a:rPr>
              <a:t>Післ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436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Значення відкриття Америки для європейців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почали освоювати нововідкриті землі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завезли в Європу  нові сільськогосподарські культури: картоплю, помідори, кукурудзу, какао, тютюн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розпочалися нові дослідження в багатьох галузях нау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торгові шляхи перемістилися із Середземного моря в Атлантичний океан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сформувався світовий ринок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виникли нові мануфактури, сировину для яких везли з Амери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Я засуджую методи, якими</a:t>
            </a:r>
            <a:br>
              <a:rPr sz="4400"/>
            </a:b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діяли європейці в Америці. Але обидві цивілізації збагатилися у своїх пізнаннях.</a:t>
            </a:r>
            <a:br>
              <a:rPr sz="4400"/>
            </a:b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       Постає питання: Скільки років потрібно було б народам Америки, щоб досягти європейського рівня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476360" y="189000"/>
            <a:ext cx="648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cc33"/>
                </a:solidFill>
                <a:latin typeface="Arial"/>
              </a:rPr>
              <a:t>Таким чином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4:25:48Z</dcterms:created>
  <dc:creator>www.PHILka.RU</dc:creator>
  <dc:description/>
  <dc:language>en-US</dc:language>
  <cp:lastModifiedBy>Home</cp:lastModifiedBy>
  <dcterms:modified xsi:type="dcterms:W3CDTF">2013-02-04T18:52:08Z</dcterms:modified>
  <cp:revision>1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2000000000001024140</vt:lpwstr>
  </property>
</Properties>
</file>