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7C57-6941-4651-A443-330974DF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8D4B-AF5D-471A-BF23-9168EA28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AE93-372F-43E1-8A48-0C2B0684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1788-5567-49B1-8AC1-5E9CDA1D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C21C-6004-4B23-87C8-B6DA4FBD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EF6B-5A7B-438B-B997-75212158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6A0D-C294-40CC-9BE5-013E3EFD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D4D4-A2D5-4A93-8FFD-4EAC51BE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3CFD-CD6F-4C6F-B79F-47EF926B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BC45-8D53-44A4-A2A3-E0B1F2BD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6046-C951-4D45-9C3A-4F5D0CB3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8726-B5A3-4162-9EEC-BFA1ACEA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077D-F08D-44FC-B85B-C85B5F39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766E-58E4-4E47-AE9A-3E2CA80E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A734-2E8F-46CB-9954-F6878091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F8A8-0AC4-4F2E-BDF1-6DFFF7E8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99A5-8CC2-42A3-AC42-12FE5182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2BF2C-D235-463A-8253-4A1CE44C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A24C9-7C70-482C-B76C-6E987F58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A1CA0-3ACB-482F-88FB-8C6EAEA3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91A54-32A5-4E12-A62A-49B01BE7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18E46-6BBB-4953-9B5E-B3BFE5F6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CFCF-E8D8-4437-8A3B-1C9DA794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65965-C504-4240-A73F-78E59819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350BB-F047-4D0E-AFF3-D0980327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5A21F-94A1-4030-92B3-7A14ADDD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2B3D0-B9A2-4277-A930-F8CC5541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2817C-57B6-4DBC-BA4B-D562ADFE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83473-F4C9-44A9-A3D4-D21D7153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01ED2-7423-420B-8C2F-B1B35D6A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63677-FCB9-468A-8602-F47C4AA2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CD011-99B0-4B07-A1A7-741DAC37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5D5B8-611C-4AD6-A5F8-8C08471C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D893-B34E-47FB-94AC-E0548C1B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EF454-DF48-4C04-AD3A-CD3791F4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0E8F4-CAFC-4BB0-BC22-692E452A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789E0-C377-4103-8F4B-FB4FEB2F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968A3-F12A-4DA9-B638-C76D22B9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97929-8192-46C9-B34C-AEF9A452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8F2BF-F336-4814-AE1C-6FEEB162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72993-ED62-468C-B3C6-24E198F5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3563F-A905-4BB0-8D9A-1C2715E4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5CAA5-55FD-4E31-93EF-87DF74F2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B723A-52FD-4FE4-8797-74DBA764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2D27-76AF-4725-A586-2EC9ECB7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0E306-53DB-4442-8066-C303D10A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50E7D-4FBC-4224-A5F6-047C5EA2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96BD5-07F9-4C73-BAC3-D0EDA3EB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EC690-46D9-4FCD-8F53-5D49EAAC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6563F-684C-47C5-9930-11837D90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5969F-F345-4E94-AC18-7376223C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B69C4-65AB-476A-982E-2A026ED7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6B5FB-73B9-43CF-BF9F-1BAE7F3D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B5E94-7F4A-4277-94EF-4B1E3AFA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74BBA-B20E-473B-B74C-0969E3F6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4016-4C4F-4CFC-8196-E4ABD409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9D32A-A38E-49F4-A212-04299F01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9D3B1-95B3-4F4B-B87C-FBBEE2B4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4FA6D-8C51-4250-9140-B72B5026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51DBF-1FFB-47AD-AB8E-E10B04E1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BBE72-A87F-48BD-9203-47BA8DC0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889A9-85CB-4400-ADC9-E4D20ED1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CABB6-0DC0-44AF-AE82-37C20BB3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9CF54-80C4-4588-A53E-0448C4B0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6F61D-C779-431C-AAD6-A8CDB979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D975F-C87C-41FC-B3D0-2385BF22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2A14-9E08-4D2C-8273-68BC5CA4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1C006-4357-44E9-A83E-430E0B48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29E27-C472-4B73-8ED8-07730AB6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A7DB7-404D-4DE9-B1CA-E77C9D15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9BFF-F949-4BB9-B4F9-E8081E59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6094-F3C1-4937-BE7B-66641E46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>
              <a:gd name="textAreaLeft" fmla="*/ 0 w 1982880"/>
              <a:gd name="textAreaRight" fmla="*/ 1983240 w 1982880"/>
              <a:gd name="textAreaTop" fmla="*/ 0 h 654120"/>
              <a:gd name="textAreaBottom" fmla="*/ 654120 h 654120"/>
            </a:gdLst>
            <a:ahLst/>
            <a:rect l="textAreaLeft" t="textAreaTop" r="textAreaRight" b="textAreaBottom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306360"/>
              <a:gd name="textAreaBottom" fmla="*/ 306360 h 306360"/>
            </a:gdLst>
            <a:ahLst/>
            <a:rect l="textAreaLeft" t="textAreaTop" r="textAreaRight" b="textAreaBottom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>
              <a:gd name="textAreaLeft" fmla="*/ 0 w 1947960"/>
              <a:gd name="textAreaRight" fmla="*/ 1948320 w 1947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>
              <a:gd name="textAreaLeft" fmla="*/ 0 w 122040"/>
              <a:gd name="textAreaRight" fmla="*/ 122400 w 1220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>
              <a:gd name="textAreaLeft" fmla="*/ 0 w 1951200"/>
              <a:gd name="textAreaRight" fmla="*/ 1951560 w 195120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>
              <a:gd name="textAreaLeft" fmla="*/ 0 w 90360"/>
              <a:gd name="textAreaRight" fmla="*/ 90720 w 9036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>
                <a:gd name="textAreaLeft" fmla="*/ 0 w 3381480"/>
                <a:gd name="textAreaRight" fmla="*/ 3381840 w 338148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>
                <a:gd name="textAreaLeft" fmla="*/ 0 w 3378240"/>
                <a:gd name="textAreaRight" fmla="*/ 3378600 w 33782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450720"/>
                <a:gd name="textAreaBottom" fmla="*/ 450720 h 450720"/>
              </a:gdLst>
              <a:ahLst/>
              <a:rect l="textAreaLeft" t="textAreaTop" r="textAreaRight" b="textAreaBottom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>
                <a:gd name="textAreaLeft" fmla="*/ 0 w 3379680"/>
                <a:gd name="textAreaRight" fmla="*/ 3380040 w 337968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>
                <a:gd name="textAreaLeft" fmla="*/ 0 w 3378240"/>
                <a:gd name="textAreaRight" fmla="*/ 3378600 w 3378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5E00-07F2-428B-8135-DCB0F04BC4C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BBD9-9336-4B9B-A376-9A28A082218D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B150-F625-44A0-AD90-2CA8B85FB956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>
              <a:gd name="textAreaLeft" fmla="*/ 0 w 3144600"/>
              <a:gd name="textAreaRight" fmla="*/ 3144960 w 314460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>
              <a:gd name="textAreaLeft" fmla="*/ 0 w 3146400"/>
              <a:gd name="textAreaRight" fmla="*/ 3146760 w 31464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>
              <a:gd name="textAreaLeft" fmla="*/ 0 w 3146400"/>
              <a:gd name="textAreaRight" fmla="*/ 3146760 w 31464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>
              <a:gd name="textAreaLeft" fmla="*/ 0 w 3085920"/>
              <a:gd name="textAreaRight" fmla="*/ 3086280 w 308592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>
              <a:gd name="textAreaLeft" fmla="*/ 0 w 193680"/>
              <a:gd name="textAreaRight" fmla="*/ 194040 w 193680"/>
              <a:gd name="textAreaTop" fmla="*/ 0 h 649080"/>
              <a:gd name="textAreaBottom" fmla="*/ 649080 h 649080"/>
            </a:gdLst>
            <a:ahLst/>
            <a:rect l="textAreaLeft" t="textAreaTop" r="textAreaRight" b="textAreaBottom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>
              <a:gd name="textAreaLeft" fmla="*/ 0 w 3092400"/>
              <a:gd name="textAreaRight" fmla="*/ 3092760 w 30924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>
              <a:gd name="textAreaLeft" fmla="*/ 0 w 142560"/>
              <a:gd name="textAreaRight" fmla="*/ 142920 w 14256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5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226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677880"/>
                <a:gd name="textAreaBottom" fmla="*/ 677880 h 677880"/>
              </a:gdLst>
              <a:ahLst/>
              <a:rect l="textAreaLeft" t="textAreaTop" r="textAreaRight" b="textAreaBottom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>
                <a:gd name="textAreaLeft" fmla="*/ 0 w 2795400"/>
                <a:gd name="textAreaRight" fmla="*/ 2795400 w 27954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>
                <a:gd name="textAreaLeft" fmla="*/ 0 w 2795400"/>
                <a:gd name="textAreaRight" fmla="*/ 2795400 w 27954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1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232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312840"/>
                <a:gd name="textAreaBottom" fmla="*/ 312840 h 312840"/>
              </a:gdLst>
              <a:ahLst/>
              <a:rect l="textAreaLeft" t="textAreaTop" r="textAreaRight" b="textAreaBottom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2C5E-2608-49CA-B01D-688C8F75884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7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1BCE-C563-4637-8055-3518A49FBD30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2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2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4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6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38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8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8533-4EA5-41E4-AF43-B692D0A41605}" type="slidenum">
              <a:rPr b="0" lang="uk-U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WordArt 2" descr=""/>
          <p:cNvPicPr/>
          <p:nvPr/>
        </p:nvPicPr>
        <p:blipFill>
          <a:blip r:embed="rId2"/>
          <a:stretch/>
        </p:blipFill>
        <p:spPr>
          <a:xfrm>
            <a:off x="743040" y="822240"/>
            <a:ext cx="7370640" cy="2811600"/>
          </a:xfrm>
          <a:prstGeom prst="rect">
            <a:avLst/>
          </a:prstGeom>
          <a:ln w="0">
            <a:noFill/>
          </a:ln>
        </p:spPr>
      </p:pic>
      <p:pic>
        <p:nvPicPr>
          <p:cNvPr id="432" name="WordArt 4" descr=""/>
          <p:cNvPicPr/>
          <p:nvPr/>
        </p:nvPicPr>
        <p:blipFill>
          <a:blip r:embed="rId3"/>
          <a:stretch/>
        </p:blipFill>
        <p:spPr>
          <a:xfrm>
            <a:off x="165240" y="4645080"/>
            <a:ext cx="34131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hape 74"/>
          <p:cNvSpPr/>
          <p:nvPr/>
        </p:nvSpPr>
        <p:spPr>
          <a:xfrm>
            <a:off x="5400720" y="1773360"/>
            <a:ext cx="3743280" cy="3965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250560" y="1484280"/>
            <a:ext cx="5113080" cy="458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 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В 1488 році в пошуках морського шляху з Європи до Індії Діаш першим з європейців обігнув Африку з півдня й відкрив мис Доброї Надії, вийшовши у води Індійського океану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Shape 76"/>
          <p:cNvSpPr/>
          <p:nvPr/>
        </p:nvSpPr>
        <p:spPr>
          <a:xfrm>
            <a:off x="2286000" y="2690640"/>
            <a:ext cx="457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ff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4788000" y="1125000"/>
            <a:ext cx="3960720" cy="504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  <a:ea typeface="Tahoma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  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Васко да Гама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- португальський дослідник і мореплавець, який відкрив морський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шлях до Індії поза Африкою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64" name="Picture 8" descr="vask_da_gama"/>
          <p:cNvPicPr/>
          <p:nvPr/>
        </p:nvPicPr>
        <p:blipFill>
          <a:blip r:embed="rId1"/>
          <a:stretch/>
        </p:blipFill>
        <p:spPr>
          <a:xfrm>
            <a:off x="324000" y="1628640"/>
            <a:ext cx="410364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1115640" y="5157360"/>
            <a:ext cx="727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  <a:ea typeface="Tahoma"/>
              </a:rPr>
              <a:t>Маршрут Васко да Гами (чорна лінія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Shape 88"/>
          <p:cNvSpPr/>
          <p:nvPr/>
        </p:nvSpPr>
        <p:spPr>
          <a:xfrm>
            <a:off x="1763640" y="907920"/>
            <a:ext cx="5761080" cy="410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hape 117"/>
          <p:cNvSpPr/>
          <p:nvPr/>
        </p:nvSpPr>
        <p:spPr>
          <a:xfrm>
            <a:off x="0" y="1844640"/>
            <a:ext cx="53276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Фернан Магеллан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- португальський мореплавець, експедиція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якого здійснила перше кругосвітнє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плавання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68" name="Picture 10" descr=""/>
          <p:cNvPicPr/>
          <p:nvPr/>
        </p:nvPicPr>
        <p:blipFill>
          <a:blip r:embed="rId1"/>
          <a:stretch/>
        </p:blipFill>
        <p:spPr>
          <a:xfrm>
            <a:off x="5148360" y="1557360"/>
            <a:ext cx="375264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Shape 123"/>
          <p:cNvSpPr/>
          <p:nvPr/>
        </p:nvSpPr>
        <p:spPr>
          <a:xfrm>
            <a:off x="0" y="0"/>
            <a:ext cx="9144000" cy="5445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Shape 124"/>
          <p:cNvSpPr/>
          <p:nvPr/>
        </p:nvSpPr>
        <p:spPr>
          <a:xfrm>
            <a:off x="468360" y="5516640"/>
            <a:ext cx="8496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  <a:ea typeface="Tahoma"/>
              </a:rPr>
              <a:t>Експедиція Магеллана остаточно довела, що Земля має форму кулі, обігнувши яку можна повернутися  в порт відплиття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hape 117"/>
          <p:cNvSpPr/>
          <p:nvPr/>
        </p:nvSpPr>
        <p:spPr>
          <a:xfrm>
            <a:off x="0" y="1844640"/>
            <a:ext cx="532764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Христофор Колумб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- іспанський мореплавець, який відкрив багато нових земель. Набільш відомий свїм відкриттям Америки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73" name="Picture 8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6529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3"/>
          <p:cNvSpPr/>
          <p:nvPr/>
        </p:nvSpPr>
        <p:spPr>
          <a:xfrm>
            <a:off x="157644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75" name="Picture 2" descr="http://geo-tour.net/Interesting/pic/columb-ma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4"/>
          <p:cNvSpPr/>
          <p:nvPr/>
        </p:nvSpPr>
        <p:spPr>
          <a:xfrm>
            <a:off x="1576440" y="139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77" name="Picture 2" descr="http://geo-tour.net/Interesting/pic/columb-ma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3"/>
          <p:cNvSpPr/>
          <p:nvPr/>
        </p:nvSpPr>
        <p:spPr>
          <a:xfrm>
            <a:off x="795240" y="5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79" name="Picture 2" descr="http://a.isuspan.com/z/793px-Columbus_Taking_Possess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4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81" name="WordArt 5" descr=""/>
          <p:cNvPicPr/>
          <p:nvPr/>
        </p:nvPicPr>
        <p:blipFill>
          <a:blip r:embed="rId2"/>
          <a:stretch/>
        </p:blipFill>
        <p:spPr>
          <a:xfrm>
            <a:off x="1682640" y="6089760"/>
            <a:ext cx="5516640" cy="54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WordArt 2"/>
          <p:cNvSpPr txBox="1"/>
          <p:nvPr/>
        </p:nvSpPr>
        <p:spPr>
          <a:xfrm>
            <a:off x="0" y="0"/>
            <a:ext cx="9144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лідки Великих </a:t>
            </a:r>
            <a:endParaRPr b="0" lang="en-US" sz="24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ографічних відкриттів.</a:t>
            </a:r>
            <a:endParaRPr b="0" lang="en-US" sz="24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304920" y="1523880"/>
            <a:ext cx="2514600" cy="19814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Розвиток світової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торгівлі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3200400" y="1523880"/>
            <a:ext cx="2819520" cy="19051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Зниження цін у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Європі на золото і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срібло (“революці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цін”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6172200" y="1523880"/>
            <a:ext cx="2743200" cy="19814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ереміщ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центру торгівлі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зі Середземного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моря в Атлантични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океан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228600" y="4191120"/>
            <a:ext cx="2971800" cy="18288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Створ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колоніальних імперій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ерший поділ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світу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7" name="Rectangle 11"/>
          <p:cNvSpPr/>
          <p:nvPr/>
        </p:nvSpPr>
        <p:spPr>
          <a:xfrm>
            <a:off x="3429000" y="4038480"/>
            <a:ext cx="2590920" cy="19814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очаток нових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досліджен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у різних галузях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науки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Rectangle 15"/>
          <p:cNvSpPr/>
          <p:nvPr/>
        </p:nvSpPr>
        <p:spPr>
          <a:xfrm>
            <a:off x="6324480" y="3962520"/>
            <a:ext cx="2667240" cy="20574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Завезення в Європ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нових сільсько 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господарських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культу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Наслідки Великих географічних відкриттів для населення Америки</a:t>
            </a: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179280" y="1125360"/>
            <a:ext cx="4068720" cy="54864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uk-UA" sz="2400" spc="-1" strike="noStrike">
                <a:solidFill>
                  <a:srgbClr val="000066"/>
                </a:solidFill>
                <a:latin typeface="Times New Roman"/>
              </a:rPr>
              <a:t>Позитивні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Народи Америки були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втягнуті у світову торгівлю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2. Європейці принесли більш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нову політичну організацію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суспільства,  високи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економічний, технічний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науковий розвиток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3. Познайомили європейців і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вогнепальною зброєю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4. Завезли свійських тварин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4356000" y="1125360"/>
            <a:ext cx="4572000" cy="54864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Негативні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Фізичне винищення корінних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жителів Америк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. Знищення унікальної культур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доколумбової Америки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3. Насильне покатоличення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корінних жителів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4. Економічне пограбування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племен, вивезення в Європу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золот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5. Утворення на вільних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американських землях колоній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6. Поява рабств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WordArt 2"/>
          <p:cNvSpPr txBox="1"/>
          <p:nvPr/>
        </p:nvSpPr>
        <p:spPr>
          <a:xfrm>
            <a:off x="2124000" y="5229360"/>
            <a:ext cx="6048360" cy="14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Відкриття європейці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4"/>
          <p:cNvSpPr txBox="1"/>
          <p:nvPr/>
        </p:nvSpPr>
        <p:spPr>
          <a:xfrm>
            <a:off x="755640" y="1484280"/>
            <a:ext cx="799308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Домашнє завдання: §1.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А) презентувати творчий проект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дослідивши наслідки 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Великих географічних відкриттів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 </a:t>
            </a: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для світу;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Б) виготовити макет карти до подорожей 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aac0aa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одного із морепплавців.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aac0aa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66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  <a:ea typeface="Tahoma"/>
              </a:rPr>
              <a:t>  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Після цього уроку ви зможете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Пояснювати поняття “Великі географічні відкриття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Характеризувати причини і передумови відкриттів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Описувати подорожі європейців, показуючи на карті їх напрямк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  <a:ea typeface="Tahoma"/>
              </a:rPr>
              <a:t>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8229600" cy="59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  <a:ea typeface="Tahoma"/>
              </a:rPr>
              <a:t> 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Ознайомимось…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ts val="43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  <a:ea typeface="Tahoma"/>
              </a:rPr>
              <a:t>  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  <a:ea typeface="Tahoma"/>
              </a:rPr>
              <a:t>Великі географічні відкриття</a:t>
            </a:r>
            <a:r>
              <a:rPr b="0" lang="ru-RU" sz="2800" spc="-1" strike="noStrike">
                <a:solidFill>
                  <a:srgbClr val="ffc000"/>
                </a:solidFill>
                <a:latin typeface="Tahoma"/>
                <a:ea typeface="Tahoma"/>
              </a:rPr>
              <a:t> — це період в історії людства, що розпочався у другій половині XV століття і тривав до середини XVІІ століття, коли європейцями були відкриті невідомі раніше моря, океани, материки, здійснені кругосвітні подорожі, що докорінно змінило уявлення людини про Землю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914400" y="11430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2879640" y="141300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0" y="4516560"/>
            <a:ext cx="9144000" cy="2341440"/>
          </a:xfrm>
          <a:prstGeom prst="rect">
            <a:avLst/>
          </a:prstGeom>
          <a:solidFill>
            <a:srgbClr val="d06a82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Великий венеціанський мандрівник ХІІІ ст. Марко Поло писав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у спогадах про свою подорож до Індії: “Золота, скажу вам, у них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дуже багато і не вивозять його звідти... Сказати по правді, пала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там великий і вкритий чистим  золотом... Ще скажу вам, що під-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логи в покоях, а їх там багато, вкрито чистим золотом у два паль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ця завтовшки, і зали, і вікна оздоблені золотими прикрасами”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WordArt 3"/>
          <p:cNvSpPr txBox="1"/>
          <p:nvPr/>
        </p:nvSpPr>
        <p:spPr>
          <a:xfrm>
            <a:off x="228600" y="304920"/>
            <a:ext cx="8686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чини Великих географічних відкриттів</a:t>
            </a:r>
            <a:endParaRPr b="0" lang="en-US" sz="20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228600" y="1752480"/>
            <a:ext cx="4267080" cy="19814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рагнення європейці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оповнити запаси золота і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срібла, яких не вистачало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в Європі, для карбування монет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5029200" y="1752480"/>
            <a:ext cx="3886200" cy="19814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3. Прагнення європейці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озбутися посередникі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у торгівлі з країнами сходу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304920" y="4343400"/>
            <a:ext cx="4114800" cy="21337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2. Захоплення турками в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1453 році Константинополя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пошуки нового шляху до Індії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в обхід турецьких володінь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5029200" y="4495680"/>
            <a:ext cx="3886200" cy="20574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4. Прагнення збіднілих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дворяни Іспанії і Португалії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знайти нові землі, де можн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було розбагатіли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Line 12"/>
          <p:cNvSpPr/>
          <p:nvPr/>
        </p:nvSpPr>
        <p:spPr>
          <a:xfrm flipH="1">
            <a:off x="2514240" y="1219320"/>
            <a:ext cx="2133720" cy="5331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Line 13"/>
          <p:cNvSpPr/>
          <p:nvPr/>
        </p:nvSpPr>
        <p:spPr>
          <a:xfrm>
            <a:off x="4648320" y="1219320"/>
            <a:ext cx="2209680" cy="5331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Line 14"/>
          <p:cNvSpPr/>
          <p:nvPr/>
        </p:nvSpPr>
        <p:spPr>
          <a:xfrm>
            <a:off x="4648320" y="1219320"/>
            <a:ext cx="75960" cy="26668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Line 15"/>
          <p:cNvSpPr/>
          <p:nvPr/>
        </p:nvSpPr>
        <p:spPr>
          <a:xfrm flipH="1">
            <a:off x="2666520" y="3886200"/>
            <a:ext cx="205740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Line 16"/>
          <p:cNvSpPr/>
          <p:nvPr/>
        </p:nvSpPr>
        <p:spPr>
          <a:xfrm>
            <a:off x="4800600" y="3886200"/>
            <a:ext cx="2209680" cy="6094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WordArt 2"/>
          <p:cNvSpPr txBox="1"/>
          <p:nvPr/>
        </p:nvSpPr>
        <p:spPr>
          <a:xfrm>
            <a:off x="533520" y="762120"/>
            <a:ext cx="8305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18900000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Передумови Великих географічних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18900000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18900000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відкриттів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18900000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2651040" y="286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380880" y="1981080"/>
            <a:ext cx="8458200" cy="449604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Утвердження  ідеї, що Земля має форму кулі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Удосконалення компасу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Використання астролябії мореплавцями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Винахід вогнепальної зброї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Створення морських карт - портелан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Удосконалення вітрильника - створення каравел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під прямими і скісними парусами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8360" y="502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ff"/>
                </a:solidFill>
                <a:latin typeface="Tahoma"/>
                <a:ea typeface="Tahoma"/>
              </a:rPr>
              <a:t>  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ПРАЦЮЄМО З КАРТАМИ ТА ІЛЮСТРАЦІЯМ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5049720" cy="22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Прослідкуйте напрямки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 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основних подороже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55" name="Picture 2" descr="C:\Users\Home\Desktop\Інноваційний урок\Захист проектів Великі географічні відкриття\Допоміжні матеріали\09189d56af546c205c22be10998383ab.jpg"/>
          <p:cNvPicPr/>
          <p:nvPr/>
        </p:nvPicPr>
        <p:blipFill>
          <a:blip r:embed="rId1"/>
          <a:srcRect l="0" t="0" r="0" b="-129"/>
          <a:stretch/>
        </p:blipFill>
        <p:spPr>
          <a:xfrm>
            <a:off x="5148360" y="1557360"/>
            <a:ext cx="3644640" cy="2970360"/>
          </a:xfrm>
          <a:prstGeom prst="rect">
            <a:avLst/>
          </a:prstGeom>
          <a:ln w="0">
            <a:noFill/>
          </a:ln>
        </p:spPr>
      </p:pic>
      <p:sp>
        <p:nvSpPr>
          <p:cNvPr id="456" name="Shape 63"/>
          <p:cNvSpPr/>
          <p:nvPr/>
        </p:nvSpPr>
        <p:spPr>
          <a:xfrm>
            <a:off x="4487760" y="4581360"/>
            <a:ext cx="465624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Визначте результати кожної з них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57" name="Picture 3" descr="C:\Users\Home\Desktop\Інноваційний урок\Захист проектів Великі географічні відкриття\Допоміжні матеріали\Merkyriy.jpg"/>
          <p:cNvPicPr/>
          <p:nvPr/>
        </p:nvPicPr>
        <p:blipFill>
          <a:blip r:embed="rId2"/>
          <a:stretch/>
        </p:blipFill>
        <p:spPr>
          <a:xfrm>
            <a:off x="539640" y="3860640"/>
            <a:ext cx="3868920" cy="26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655344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  <a:ea typeface="Tahoma"/>
              </a:rPr>
              <a:t>  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  <a:ea typeface="Tahoma"/>
              </a:rPr>
              <a:t>Бартоломе́у Ді́аш ді Нова́їс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-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один з найславетніших португальських мореплавців-першовідкривачів, що підкорював води Атлантики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  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  <a:ea typeface="Tahoma"/>
              </a:rPr>
              <a:t>в XV столітті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Shape 69"/>
          <p:cNvSpPr/>
          <p:nvPr/>
        </p:nvSpPr>
        <p:spPr>
          <a:xfrm>
            <a:off x="5724360" y="2205000"/>
            <a:ext cx="3137040" cy="417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5:20:15Z</dcterms:created>
  <dc:creator>www.PHILka.RU</dc:creator>
  <dc:description/>
  <dc:language>en-US</dc:language>
  <cp:lastModifiedBy>Home</cp:lastModifiedBy>
  <dcterms:modified xsi:type="dcterms:W3CDTF">2013-01-28T18:53:34Z</dcterms:modified>
  <cp:revision>5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21000000000001024140</vt:lpwstr>
  </property>
</Properties>
</file>