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0B2-FC9A-40B8-AB55-825AA0DC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0F1-B3B7-4F59-84BE-AF400B44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64CF-EA60-424F-8DD3-27295720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F85-6111-41C7-9D87-99280537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C0B4-6071-464B-ACD5-4B50D6EE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19A9-4B33-4D36-8C00-3F29F3C4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C1E0-B967-4AEE-BCA2-9B9D2158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0DBF-EA6B-4020-B9D0-9F6A7D0A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9643-0A33-4C99-9538-05D213DF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DE8F-9865-44E1-98B5-6476F7C4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A980-9A1E-4433-AEC1-035A164F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CF1-9216-4CF6-9E58-047CF106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605F-64B2-4E47-B719-68F8CEFE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9980-6492-46AE-8730-4518D47A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D802-C20C-4D3E-8A59-2E528BBE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54F0-E7AC-4F7C-8929-4B6B2D08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F9BC-F484-4DA6-8BBC-1F2E9060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9F371-9097-4665-8DB3-1A2579E4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57C52-1973-48CA-9C97-84E21CD1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CDC07-8D47-4442-A53E-007476DD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E5842-D244-4EDF-8497-168BA0FD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9550D-BC6F-4552-9213-32847AB5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AA12-C240-41A0-B85B-175B8448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711E2-945E-4801-8659-4C841DB1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8726E-0620-4B9E-B568-A88B3AE0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4A418-9965-4778-B8FF-4A146F72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7A932-A651-43C6-822F-4709DDDB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91CE1-FBA8-4D0D-80C6-03F0D775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6B334-FC42-4571-A905-DA2969FB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D02EA-5E55-4AF4-9BE7-6CDBBB3D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559B5-4184-43A7-B0E0-DF20A823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6EDFA-9120-4E19-9BF9-5F0EE559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86F98-288C-4A46-BDE9-7B896EF5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191D-DE0C-4814-91DE-FB358E30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471EF-EEAD-4ACA-B989-58F0C86E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B72DC-D857-4C5B-BD53-067DF38B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FA1C9-A474-4AAF-9329-5445523F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8C4B2-527B-465B-B913-D940A8D3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26891-875C-4856-9CD9-5F51ECA9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01CC1-22F9-4C85-847C-FBC70B80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08991-397D-4170-BCF6-DBFFFAE3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AFE54-FA18-4050-B751-FADF619C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7E905-9775-4E7E-92E9-7DA46E39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301FB-6837-4EFA-9C7D-5C503EB5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2B57-5642-400B-ABA2-24459834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09C04-46F6-4AF6-8772-3E88D22A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16EF6-200F-44E7-A1FD-0F84E0BE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351F4-E279-43DE-87A3-8E001C1A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5E864-DE91-4624-B85C-81BAB55D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0936E-8582-4395-8D4A-9F353B61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39141-AB72-40B7-932D-22BA3DFB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F8995-1924-447B-A63A-D67CA32B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AC444-1F5B-4A89-88B7-03131158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9AE4B-4AD3-4400-8C99-468AA456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88377-A2FA-4F0E-A68C-A8AEB177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85F-44BD-4EF8-B281-0DFBFED2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FB1D1-3A7C-4C59-9ACB-06EF7658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DEDB4-EC4D-4418-AB28-527CC34B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E40DC-B04B-429C-9790-F2AA14C8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EDB20-69CD-4D53-AC65-DF5FFD84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1FC3A-7A04-47B7-A33B-6C67B8CA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16FD8-906B-4889-AB53-C63C7921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80ABE-5DF2-47F7-BBB2-ACA2EC91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21BE9-343D-4B07-84C2-EB04394B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48C40-FC6D-4F51-B272-88DB7BC1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ED7A1-A899-4394-A288-E6785A61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E1B-7C18-4E82-9835-95B8BEDA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91663-5718-4E34-8398-C240674A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1032E-E36E-452F-9B8F-A11C96AA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3776E-2001-435B-A617-34AC54BA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C0B-8977-4D00-9246-ADF78FD7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01B-45DA-4FF7-B80F-F34F48CB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>
              <a:gd name="textAreaLeft" fmla="*/ 0 w 1982880"/>
              <a:gd name="textAreaRight" fmla="*/ 1983240 w 198288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306360"/>
              <a:gd name="textAreaBottom" fmla="*/ 306360 h 306360"/>
            </a:gdLst>
            <a:ahLst/>
            <a:rect l="textAreaLeft" t="textAreaTop" r="textAreaRight" b="textAreaBottom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>
              <a:gd name="textAreaLeft" fmla="*/ 0 w 1947960"/>
              <a:gd name="textAreaRight" fmla="*/ 1948320 w 1947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>
              <a:gd name="textAreaLeft" fmla="*/ 0 w 122040"/>
              <a:gd name="textAreaRight" fmla="*/ 122400 w 1220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>
              <a:gd name="textAreaLeft" fmla="*/ 0 w 1951200"/>
              <a:gd name="textAreaRight" fmla="*/ 1951560 w 19512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>
              <a:gd name="textAreaLeft" fmla="*/ 0 w 90360"/>
              <a:gd name="textAreaRight" fmla="*/ 90720 w 903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>
                <a:gd name="textAreaLeft" fmla="*/ 0 w 3381480"/>
                <a:gd name="textAreaRight" fmla="*/ 3381840 w 338148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>
                <a:gd name="textAreaLeft" fmla="*/ 0 w 3379680"/>
                <a:gd name="textAreaRight" fmla="*/ 3380040 w 337968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4161-5007-40A9-8C66-D9B651FF960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E80D-E682-4039-BEFE-27F01FB924DF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7974-86F1-4EBF-8021-A066BEE457DC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>
              <a:gd name="textAreaLeft" fmla="*/ 0 w 3144600"/>
              <a:gd name="textAreaRight" fmla="*/ 3144960 w 314460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>
              <a:gd name="textAreaLeft" fmla="*/ 0 w 3085920"/>
              <a:gd name="textAreaRight" fmla="*/ 3086280 w 308592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>
              <a:gd name="textAreaLeft" fmla="*/ 0 w 193680"/>
              <a:gd name="textAreaRight" fmla="*/ 194040 w 193680"/>
              <a:gd name="textAreaTop" fmla="*/ 0 h 649080"/>
              <a:gd name="textAreaBottom" fmla="*/ 649080 h 649080"/>
            </a:gdLst>
            <a:ahLst/>
            <a:rect l="textAreaLeft" t="textAreaTop" r="textAreaRight" b="textAreaBottom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>
              <a:gd name="textAreaLeft" fmla="*/ 0 w 3092400"/>
              <a:gd name="textAreaRight" fmla="*/ 3092760 w 30924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>
              <a:gd name="textAreaLeft" fmla="*/ 0 w 142560"/>
              <a:gd name="textAreaRight" fmla="*/ 142920 w 14256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5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226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>
                <a:gd name="textAreaLeft" fmla="*/ 0 w 2795400"/>
                <a:gd name="textAreaRight" fmla="*/ 2795400 w 27954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>
                <a:gd name="textAreaLeft" fmla="*/ 0 w 2795400"/>
                <a:gd name="textAreaRight" fmla="*/ 2795400 w 27954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1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232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312840"/>
                <a:gd name="textAreaBottom" fmla="*/ 312840 h 312840"/>
              </a:gdLst>
              <a:ahLst/>
              <a:rect l="textAreaLeft" t="textAreaTop" r="textAreaRight" b="textAreaBottom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B829-93B7-42F2-BC86-AAFBF722C62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7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4BF2-94F7-448B-BEC2-0A94165022DC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2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2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4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6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38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8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2CFD-D476-4602-9812-378CD0A6510E}" type="slidenum">
              <a:rPr b="0" lang="uk-U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WordArt 2" descr=""/>
          <p:cNvPicPr/>
          <p:nvPr/>
        </p:nvPicPr>
        <p:blipFill>
          <a:blip r:embed="rId2"/>
          <a:stretch/>
        </p:blipFill>
        <p:spPr>
          <a:xfrm>
            <a:off x="743040" y="822240"/>
            <a:ext cx="7370640" cy="2811600"/>
          </a:xfrm>
          <a:prstGeom prst="rect">
            <a:avLst/>
          </a:prstGeom>
          <a:ln w="0">
            <a:noFill/>
          </a:ln>
        </p:spPr>
      </p:pic>
      <p:pic>
        <p:nvPicPr>
          <p:cNvPr id="432" name="WordArt 4" descr=""/>
          <p:cNvPicPr/>
          <p:nvPr/>
        </p:nvPicPr>
        <p:blipFill>
          <a:blip r:embed="rId3"/>
          <a:stretch/>
        </p:blipFill>
        <p:spPr>
          <a:xfrm>
            <a:off x="165240" y="4645080"/>
            <a:ext cx="34131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hape 74"/>
          <p:cNvSpPr/>
          <p:nvPr/>
        </p:nvSpPr>
        <p:spPr>
          <a:xfrm>
            <a:off x="5400720" y="1773360"/>
            <a:ext cx="3743280" cy="3965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5113080" cy="45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В 1488 році в пошуках морського шляху з Європи до Індії Діаш першим з європейців обігнув Африку з півдня й відкрив мис Доброї Надії, вийшовши у води Індійського океану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Shape 76"/>
          <p:cNvSpPr/>
          <p:nvPr/>
        </p:nvSpPr>
        <p:spPr>
          <a:xfrm>
            <a:off x="2286000" y="2690640"/>
            <a:ext cx="457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788000" y="1125000"/>
            <a:ext cx="3960720" cy="50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  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Васко да Гама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- португальський дослідник і мореплавець, який відкрив морський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шлях до Індії поза Африкою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64" name="Picture 8" descr="vask_da_gama"/>
          <p:cNvPicPr/>
          <p:nvPr/>
        </p:nvPicPr>
        <p:blipFill>
          <a:blip r:embed="rId1"/>
          <a:stretch/>
        </p:blipFill>
        <p:spPr>
          <a:xfrm>
            <a:off x="324000" y="1628640"/>
            <a:ext cx="410364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115640" y="5157360"/>
            <a:ext cx="727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  <a:ea typeface="Tahoma"/>
              </a:rPr>
              <a:t>Маршрут Васко да Гами (чорна лінія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Shape 88"/>
          <p:cNvSpPr/>
          <p:nvPr/>
        </p:nvSpPr>
        <p:spPr>
          <a:xfrm>
            <a:off x="1763640" y="907920"/>
            <a:ext cx="5761080" cy="410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hape 117"/>
          <p:cNvSpPr/>
          <p:nvPr/>
        </p:nvSpPr>
        <p:spPr>
          <a:xfrm>
            <a:off x="0" y="1844640"/>
            <a:ext cx="53276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Фернан Магеллан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- португальський мореплавець, експедиція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якого здійснила перше кругосвітнє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плавання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68" name="Picture 10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7526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Shape 123"/>
          <p:cNvSpPr/>
          <p:nvPr/>
        </p:nvSpPr>
        <p:spPr>
          <a:xfrm>
            <a:off x="0" y="0"/>
            <a:ext cx="9144000" cy="5445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Shape 124"/>
          <p:cNvSpPr/>
          <p:nvPr/>
        </p:nvSpPr>
        <p:spPr>
          <a:xfrm>
            <a:off x="468360" y="5516640"/>
            <a:ext cx="849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  <a:ea typeface="Tahoma"/>
              </a:rPr>
              <a:t>Експедиція Магеллана остаточно довела, що Земля має форму кулі, обігнувши яку можна повернутися  в порт відплиття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hape 117"/>
          <p:cNvSpPr/>
          <p:nvPr/>
        </p:nvSpPr>
        <p:spPr>
          <a:xfrm>
            <a:off x="0" y="1844640"/>
            <a:ext cx="532764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Христофор Колумб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- іспанський мореплавець, який відкрив багато нових земель. Набільш відомий свїм відкриттям Америки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3" name="Picture 8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529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3"/>
          <p:cNvSpPr/>
          <p:nvPr/>
        </p:nvSpPr>
        <p:spPr>
          <a:xfrm>
            <a:off x="157644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5" name="Picture 2" descr="http://geo-tour.net/Interesting/pic/columb-ma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4"/>
          <p:cNvSpPr/>
          <p:nvPr/>
        </p:nvSpPr>
        <p:spPr>
          <a:xfrm>
            <a:off x="1576440" y="139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7" name="Picture 2" descr="http://geo-tour.net/Interesting/pic/columb-ma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79524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9" name="Picture 2" descr="http://a.isuspan.com/z/793px-Columbus_Taking_Possess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4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81" name="WordArt 5" descr=""/>
          <p:cNvPicPr/>
          <p:nvPr/>
        </p:nvPicPr>
        <p:blipFill>
          <a:blip r:embed="rId2"/>
          <a:stretch/>
        </p:blipFill>
        <p:spPr>
          <a:xfrm>
            <a:off x="1682640" y="6089760"/>
            <a:ext cx="5516640" cy="54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WordArt 2"/>
          <p:cNvSpPr txBox="1"/>
          <p:nvPr/>
        </p:nvSpPr>
        <p:spPr>
          <a:xfrm>
            <a:off x="0" y="0"/>
            <a:ext cx="9144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ідки Великих 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ографічних відкриттів.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04920" y="1523880"/>
            <a:ext cx="251460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Розвиток світово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торгівлі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3200400" y="1523880"/>
            <a:ext cx="2819520" cy="19051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Зниження цін у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Європі на золото 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рібло (“революці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цін”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6172200" y="1523880"/>
            <a:ext cx="274320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ереміщ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центру торгівл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зі Середземног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моря в Атлантични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океан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228600" y="4191120"/>
            <a:ext cx="2971800" cy="18288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твор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колоніальних імперій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ерший поді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віт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Rectangle 11"/>
          <p:cNvSpPr/>
          <p:nvPr/>
        </p:nvSpPr>
        <p:spPr>
          <a:xfrm>
            <a:off x="3429000" y="4038480"/>
            <a:ext cx="259092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очаток нови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досліджен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у різних галузя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аук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6324480" y="3962520"/>
            <a:ext cx="2667240" cy="20574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Завезення в Європ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ових сільсько 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господарськи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культу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аслідки Великих географічних відкриттів для населення Америки</a:t>
            </a: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179280" y="1125360"/>
            <a:ext cx="4068720" cy="54864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uk-UA" sz="2400" spc="-1" strike="noStrike">
                <a:solidFill>
                  <a:srgbClr val="000066"/>
                </a:solidFill>
                <a:latin typeface="Times New Roman"/>
              </a:rPr>
              <a:t>Позитивні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ароди Америки були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втягнуті у світову торгівлю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2. Європейці принесли більш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ову політичну організацію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успільства,  високи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економічний, технічний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ауковий розвиток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3. Познайомили європейців і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вогнепальною зброєю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4. Завезли свійських тварин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4356000" y="1125360"/>
            <a:ext cx="4572000" cy="54864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егативні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Фізичне винищення корінни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жителів 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. Знищення унікальної культур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доколумбової Америк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3. Насильне покатоличенн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орінних жителів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4. Економічне пограбуванн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племен, вивезення в Європу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золот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5. Утворення на вільни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анських землях колоній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6. Поява рабств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2"/>
          <p:cNvSpPr txBox="1"/>
          <p:nvPr/>
        </p:nvSpPr>
        <p:spPr>
          <a:xfrm>
            <a:off x="2124000" y="5229360"/>
            <a:ext cx="604836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Відкриття європейці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4"/>
          <p:cNvSpPr txBox="1"/>
          <p:nvPr/>
        </p:nvSpPr>
        <p:spPr>
          <a:xfrm>
            <a:off x="755640" y="1484280"/>
            <a:ext cx="79930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Домашнє завдання: §1.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А) презентувати творчий проект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дослідивши наслідки 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Великих географічних відкриттів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для світу;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Б) виготовити макет карти до подорожей 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одного із морепплавців.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66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  <a:ea typeface="Tahoma"/>
              </a:rPr>
              <a:t>  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Після цього уроку ви зможете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Пояснювати поняття “Великі географічні відкриття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Характеризувати причини і передумови відкриттів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Описувати подорожі європейців, показуючи на карті їх напрямк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59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 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Ознайомимось…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ts val="43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  <a:ea typeface="Tahoma"/>
              </a:rPr>
              <a:t>  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  <a:ea typeface="Tahoma"/>
              </a:rPr>
              <a:t>Великі географічні відкриття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  <a:ea typeface="Tahoma"/>
              </a:rPr>
              <a:t> — це період в історії людства, що розпочався у другій половині XV століття і тривав до середини XVІІ століття, коли європейцями були відкриті невідомі раніше моря, океани, материки, здійснені кругосвітні подорожі, що докорінно змінило уявлення людини про Землю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914400" y="1143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879640" y="141300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4516560"/>
            <a:ext cx="9144000" cy="2341440"/>
          </a:xfrm>
          <a:prstGeom prst="rect">
            <a:avLst/>
          </a:prstGeom>
          <a:solidFill>
            <a:srgbClr val="d06a82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Великий венеціанський мандрівник ХІІІ ст. Марко Поло писав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у спогадах про свою подорож до Індії: “Золота, скажу вам, у ни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дуже багато і не вивозять його звідти... Сказати по правді, пала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там великий і вкритий чистим  золотом... Ще скажу вам, що під-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логи в покоях, а їх там багато, вкрито чистим золотом у два паль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ця завтовшки, і зали, і вікна оздоблені золотими прикрасами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WordArt 3"/>
          <p:cNvSpPr txBox="1"/>
          <p:nvPr/>
        </p:nvSpPr>
        <p:spPr>
          <a:xfrm>
            <a:off x="228600" y="304920"/>
            <a:ext cx="8686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чини Великих географічних відкриттів</a:t>
            </a:r>
            <a:endParaRPr b="0" lang="en-US" sz="20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228600" y="1752480"/>
            <a:ext cx="426708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рагнення європейц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оповнити запаси золота 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рібла, яких не вистачал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в Європі, для карбування монет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5029200" y="1752480"/>
            <a:ext cx="388620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3. Прагнення європейц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озбутися посередник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у торгівлі з країнами сход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04920" y="4343400"/>
            <a:ext cx="4114800" cy="21337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2. Захоплення турками в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1453 році Константинополя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ошуки нового шляху до Інді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в обхід турецьких володінь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5029200" y="4495680"/>
            <a:ext cx="3886200" cy="20574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4. Прагнення збідніли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дворяни Іспанії і Португалії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знайти нові землі, де можн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було розбагатіл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Line 12"/>
          <p:cNvSpPr/>
          <p:nvPr/>
        </p:nvSpPr>
        <p:spPr>
          <a:xfrm flipH="1">
            <a:off x="2514240" y="1219320"/>
            <a:ext cx="2133720" cy="5331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Line 13"/>
          <p:cNvSpPr/>
          <p:nvPr/>
        </p:nvSpPr>
        <p:spPr>
          <a:xfrm>
            <a:off x="4648320" y="1219320"/>
            <a:ext cx="2209680" cy="5331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Line 14"/>
          <p:cNvSpPr/>
          <p:nvPr/>
        </p:nvSpPr>
        <p:spPr>
          <a:xfrm>
            <a:off x="4648320" y="1219320"/>
            <a:ext cx="75960" cy="2666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Line 15"/>
          <p:cNvSpPr/>
          <p:nvPr/>
        </p:nvSpPr>
        <p:spPr>
          <a:xfrm flipH="1">
            <a:off x="2666520" y="3886200"/>
            <a:ext cx="205740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Line 16"/>
          <p:cNvSpPr/>
          <p:nvPr/>
        </p:nvSpPr>
        <p:spPr>
          <a:xfrm>
            <a:off x="4800600" y="3886200"/>
            <a:ext cx="2209680" cy="6094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2"/>
          <p:cNvSpPr txBox="1"/>
          <p:nvPr/>
        </p:nvSpPr>
        <p:spPr>
          <a:xfrm>
            <a:off x="533520" y="762120"/>
            <a:ext cx="8305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18900000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Передумови Великих географічних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18900000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18900000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відкриттів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18900000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26510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380880" y="1981080"/>
            <a:ext cx="8458200" cy="449604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Утвердження  ідеї, що Земля має форму кулі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Удосконалення компасу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Використання астролябії мореплавцям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Винахід вогнепальної зброї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Створення морських карт - портелан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Удосконалення вітрильника - створення каравел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під прямими і скісними парусам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360" y="502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ff"/>
                </a:solidFill>
                <a:latin typeface="Tahoma"/>
                <a:ea typeface="Tahoma"/>
              </a:rPr>
              <a:t>  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ПРАЦЮЄМО З КАРТАМИ ТА ІЛЮСТРАЦІЯМ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504972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Прослідкуйте напрямки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основних подороже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55" name="Picture 2" descr="C:\Users\Home\Desktop\Інноваційний урок\Захист проектів Великі географічні відкриття\Допоміжні матеріали\09189d56af546c205c22be10998383ab.jpg"/>
          <p:cNvPicPr/>
          <p:nvPr/>
        </p:nvPicPr>
        <p:blipFill>
          <a:blip r:embed="rId1"/>
          <a:srcRect l="0" t="0" r="0" b="-129"/>
          <a:stretch/>
        </p:blipFill>
        <p:spPr>
          <a:xfrm>
            <a:off x="5148360" y="1557360"/>
            <a:ext cx="3644640" cy="2970360"/>
          </a:xfrm>
          <a:prstGeom prst="rect">
            <a:avLst/>
          </a:prstGeom>
          <a:ln w="0">
            <a:noFill/>
          </a:ln>
        </p:spPr>
      </p:pic>
      <p:sp>
        <p:nvSpPr>
          <p:cNvPr id="456" name="Shape 63"/>
          <p:cNvSpPr/>
          <p:nvPr/>
        </p:nvSpPr>
        <p:spPr>
          <a:xfrm>
            <a:off x="4487760" y="4581360"/>
            <a:ext cx="465624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Визначте результати кожної з них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57" name="Picture 3" descr="C:\Users\Home\Desktop\Інноваційний урок\Захист проектів Великі географічні відкриття\Допоміжні матеріали\Merkyriy.jpg"/>
          <p:cNvPicPr/>
          <p:nvPr/>
        </p:nvPicPr>
        <p:blipFill>
          <a:blip r:embed="rId2"/>
          <a:stretch/>
        </p:blipFill>
        <p:spPr>
          <a:xfrm>
            <a:off x="539640" y="3860640"/>
            <a:ext cx="386892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65534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  <a:ea typeface="Tahoma"/>
              </a:rPr>
              <a:t>  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Бартоломе́у Ді́аш ді Нова́їс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-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один з найславетніших португальських мореплавців-першовідкривачів, що підкорював води Атлантики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 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в XV столітті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Shape 69"/>
          <p:cNvSpPr/>
          <p:nvPr/>
        </p:nvSpPr>
        <p:spPr>
          <a:xfrm>
            <a:off x="5724360" y="2205000"/>
            <a:ext cx="3137040" cy="41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20:15Z</dcterms:created>
  <dc:creator>www.PHILka.RU</dc:creator>
  <dc:description/>
  <dc:language>en-US</dc:language>
  <cp:lastModifiedBy>Home</cp:lastModifiedBy>
  <dcterms:modified xsi:type="dcterms:W3CDTF">2013-01-28T18:53:34Z</dcterms:modified>
  <cp:revision>5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21000000000001024140</vt:lpwstr>
  </property>
</Properties>
</file>