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614-FE33-4AE5-9955-1961B06A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53C-2BBD-4C8D-A2C7-CC6E5897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50A-A542-480F-B029-425AC120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0B6-5B6A-4D53-9B50-AE58D436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D3B3-515A-46F3-A005-EF1BF30F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6EDE-7767-407B-A6C6-B1B727D6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2126-D9D2-4B5C-965E-AC7EB08B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44A0-A8D1-45CB-AC65-737A9D3C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AC88-A8FC-47CB-8907-48C74A34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D483-27FE-42BB-B40F-4B7C9B11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4AD5-293B-4AD6-A3A8-0FD93A0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4AD-F621-4C0F-8CE4-6F288187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C634-8140-4262-BB38-A5B055A8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7F4B-64A1-423C-88EC-642063E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34D2-3711-4B22-B868-DAA08FE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A7F3-6137-4F6D-B7E0-892506D3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D8E1-5597-4FB0-ACF6-57BB0EBA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3BA-5B9F-4111-B0E3-C30F34E9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D49-76CB-4CF8-8903-88479BA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F05-DCA7-4251-8AA6-893FBDC1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6F0-4098-4CFE-AB94-497662D5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C53-0A76-41A5-8EB9-2E25D94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0C7-B886-42E6-B33D-D264844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0CA-C399-4E60-82D9-E5D5097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D983-CDA3-4BE8-8BED-F154BE248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FAD9-1661-484C-BBFD-8754CE01A8EC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685800"/>
            <a:ext cx="82152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cc00"/>
                </a:solidFill>
                <a:latin typeface="Times New Roman"/>
              </a:rPr>
              <a:t>Великі географічні відкриття -</a:t>
            </a:r>
            <a:br>
              <a:rPr sz="6000"/>
            </a:b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це колоніальне загарбання європейцями Америки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" name="Рисунок 13" descr=""/>
          <p:cNvPicPr/>
          <p:nvPr/>
        </p:nvPicPr>
        <p:blipFill>
          <a:blip r:embed="rId1"/>
          <a:stretch/>
        </p:blipFill>
        <p:spPr>
          <a:xfrm>
            <a:off x="1785960" y="4197240"/>
            <a:ext cx="58579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Наслідки географічних відкриттів для корінних жителів Америк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2819520"/>
            <a:ext cx="2514600" cy="248112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літика геноци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Масове ви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666880" y="2819520"/>
            <a:ext cx="1905120" cy="24098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нікальн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род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876920" y="2819520"/>
            <a:ext cx="198108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иль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католи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010280" y="2819520"/>
            <a:ext cx="213372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яв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ганебного дл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людства явища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рабо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50920" y="5516640"/>
            <a:ext cx="4608360" cy="111276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Економічне пограбування народі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, вивез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 материка золота і срібл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2643120" y="1643040"/>
            <a:ext cx="0" cy="385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5292720" y="5445000"/>
            <a:ext cx="3672000" cy="11304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аселення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європейцями, створ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оні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Стрелка вниз 16"/>
          <p:cNvSpPr/>
          <p:nvPr/>
        </p:nvSpPr>
        <p:spPr>
          <a:xfrm>
            <a:off x="385776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Стрелка вниз 17"/>
          <p:cNvSpPr/>
          <p:nvPr/>
        </p:nvSpPr>
        <p:spPr>
          <a:xfrm>
            <a:off x="1714680" y="1714680"/>
            <a:ext cx="483840" cy="97776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Стрелка вниз 18"/>
          <p:cNvSpPr/>
          <p:nvPr/>
        </p:nvSpPr>
        <p:spPr>
          <a:xfrm>
            <a:off x="507204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Стрелка вниз 19"/>
          <p:cNvSpPr/>
          <p:nvPr/>
        </p:nvSpPr>
        <p:spPr>
          <a:xfrm>
            <a:off x="7215120" y="1785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6" name="Прямая со стрелкой 21"/>
          <p:cNvCxnSpPr/>
          <p:nvPr/>
        </p:nvCxnSpPr>
        <p:spPr>
          <a:xfrm flipH="1">
            <a:off x="6928560" y="1643040"/>
            <a:ext cx="2520" cy="378864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900000" y="1052640"/>
            <a:ext cx="760248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ня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хоставця Сергія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2340000" y="515772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Керівник проекту: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читель історії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Панасюк О.О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52280" y="228600"/>
            <a:ext cx="8991720" cy="236232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imes New Roman"/>
              </a:rPr>
              <a:t>Я стверджую: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відкриття Америки – ц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колоніальне загарбання нових земель європей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352680"/>
            <a:ext cx="9144000" cy="29718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 своїй суті географічні відкриття носили загарбниць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характер, адже європейці відправилися в Індію з метою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шуків золота і нового шляху для перевезення прянощів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кі принесли б їм великі прибутк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572000" y="2666880"/>
            <a:ext cx="0" cy="60984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324000" y="189000"/>
            <a:ext cx="8670600" cy="5145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2280" y="5334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умб не міг повірити в те, що у “східній Індії” не має золота і прянощів. Він 4 рази організовував експедиції, намагався окупити витрати і принести прибутки королям Іспанії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04920" y="457200"/>
            <a:ext cx="8534160" cy="129528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 стверджую, що європейці ще до відкриття Америки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мали намір захопити нововідкриті зем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2280" y="2209680"/>
            <a:ext cx="8991720" cy="41720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Адже, ще 17 квітня 1492 року Колумб підписав угоду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з правителями Іспанії згідно якої він сам одержав довічно 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для своїх спадкоємців і нащадків звання Адмірал всіх земель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і континентів в океані, з усіма привілеями, які мають адмірали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Кастилії. Він призначався віце-королем і віце-губернатором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усіх земель і континентів, які відкриє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Виникає питання: На якій підставі іспанські корол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призначали  своїх правителів на нових землях?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685800" y="150840"/>
            <a:ext cx="7696080" cy="4878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50920" y="51814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 нововідкриті землі європейці привезли католицьку віру, вони зневажали вірування корінних жителів Америки, нищили їх святилища, ідолів, відбирали золоті речі культового призна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а 50 років населення Центральної Мексики скоротилося </a:t>
            </a:r>
            <a:br>
              <a:rPr sz="2400"/>
            </a:b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 25 млн. до 2 млн.65 тисяч чоловік (1,2),  а з 9 млн. інків, живими залишилися 1 млн. 300 тисяч(3,4)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Object 5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На 1630 рік у Латинській Америці залишилося</a:t>
            </a:r>
            <a:br>
              <a:rPr sz="2800"/>
            </a:b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3% населення з того, що жило в доколумбову еру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2895480" y="2421000"/>
            <a:ext cx="6096240" cy="324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232740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-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 (100%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2- кількість корінних жителів Америки в 1630 році (3%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80880" y="685800"/>
            <a:ext cx="838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Корінні жителі Америки відмовилися святкувати 500-річчя відкриття Америки Колумбом, наголошуючи: “Для індіанців Америки, не має мови, взагалі, про “зустріч двох цивілізацій”, це було вторгнення, відчуження  наших  територій та колоніальне  поневолення”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3:56:40Z</dcterms:created>
  <dc:creator>www.PHILka.RU</dc:creator>
  <dc:description/>
  <dc:language>en-US</dc:language>
  <cp:lastModifiedBy>Home</cp:lastModifiedBy>
  <dcterms:modified xsi:type="dcterms:W3CDTF">2013-02-04T19:02:25Z</dcterms:modified>
  <cp:revision>26</cp:revision>
  <dc:subject/>
  <dc:title>Великі географічні відкриття: це колоніальне загарбання європейцями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5000000000001024140</vt:lpwstr>
  </property>
</Properties>
</file>