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D02-1E5C-420D-B86A-32A0B0D4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B4F-6C4E-4DB2-9504-D3D381C8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1A1-A3A8-4BA4-BA13-8E4329EB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660-6BE3-48CF-B6AF-CF8C0574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3A62-9BB6-47A3-9B09-90F58578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2131-88A9-477B-BD58-32EC1182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2470-C2CF-4784-8BBD-9A7E2D50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3B61-1E68-4895-830D-95158DE8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DE6B-8F53-47D1-B70C-B83D4B3F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A967-2169-4E56-9111-FD0ADCDF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70AE-AA36-42AD-86C7-BBA910F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E2F-9B3A-4225-9151-5BF129DB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425B-039E-452D-BD83-FF2B4F0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8B35-4AA2-40EF-8BA8-79B49A7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E7EE-3826-4766-8D0E-55A72624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6759-C0B2-4397-A1C0-8B8BD6FA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B200-C1F4-4859-9B7D-5BC81E8F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2A5-8CD1-4FCF-8CD8-7A01DFAC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6ED-2F09-4B82-96A3-9D70C1E1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DB1-1986-4B6A-8474-F0F39BA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EAD-E9AF-496A-9D6D-FE478BAA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B18-49DA-4FE2-86CB-EA7C0F4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864-7893-44D4-981F-320E2445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AE5-12A3-482D-A64F-3F39E117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7AE8-2775-440A-9439-3A4DDE7772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CF7A-D19E-43D7-81A8-A8F21826829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685800"/>
            <a:ext cx="82152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cc00"/>
                </a:solidFill>
                <a:latin typeface="Times New Roman"/>
              </a:rPr>
              <a:t>Великі географічні відкриття -</a:t>
            </a:r>
            <a:br>
              <a:rPr sz="6000"/>
            </a:b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це колоніальне загарбання європейцями Америки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" name="Рисунок 13" descr=""/>
          <p:cNvPicPr/>
          <p:nvPr/>
        </p:nvPicPr>
        <p:blipFill>
          <a:blip r:embed="rId1"/>
          <a:stretch/>
        </p:blipFill>
        <p:spPr>
          <a:xfrm>
            <a:off x="1785960" y="4197240"/>
            <a:ext cx="58579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Наслідки географічних відкриттів для корінних жителів Америк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2819520"/>
            <a:ext cx="2514600" cy="248112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літика геноци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Масове ви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666880" y="2819520"/>
            <a:ext cx="1905120" cy="24098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нікальн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род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876920" y="2819520"/>
            <a:ext cx="198108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иль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католи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010280" y="2819520"/>
            <a:ext cx="213372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яв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ганебного дл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людства явища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рабо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50920" y="5516640"/>
            <a:ext cx="4608360" cy="111276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Економічне пограбування народі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, вивез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 материка золота і срібл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2643120" y="1643040"/>
            <a:ext cx="0" cy="385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5292720" y="5445000"/>
            <a:ext cx="3672000" cy="11304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аселення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європейцями, створ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оні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Стрелка вниз 16"/>
          <p:cNvSpPr/>
          <p:nvPr/>
        </p:nvSpPr>
        <p:spPr>
          <a:xfrm>
            <a:off x="385776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Стрелка вниз 17"/>
          <p:cNvSpPr/>
          <p:nvPr/>
        </p:nvSpPr>
        <p:spPr>
          <a:xfrm>
            <a:off x="1714680" y="1714680"/>
            <a:ext cx="483840" cy="97776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Стрелка вниз 18"/>
          <p:cNvSpPr/>
          <p:nvPr/>
        </p:nvSpPr>
        <p:spPr>
          <a:xfrm>
            <a:off x="507204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Стрелка вниз 19"/>
          <p:cNvSpPr/>
          <p:nvPr/>
        </p:nvSpPr>
        <p:spPr>
          <a:xfrm>
            <a:off x="7215120" y="1785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6" name="Прямая со стрелкой 21"/>
          <p:cNvCxnSpPr/>
          <p:nvPr/>
        </p:nvCxnSpPr>
        <p:spPr>
          <a:xfrm flipH="1">
            <a:off x="6928560" y="1643040"/>
            <a:ext cx="2520" cy="378864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900000" y="1052640"/>
            <a:ext cx="760248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ня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хоставця Сергія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2340000" y="515772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Керівник проекту: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читель історії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Панасюк О.О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52280" y="228600"/>
            <a:ext cx="8991720" cy="236232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imes New Roman"/>
              </a:rPr>
              <a:t>Я стверджую: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відкриття Америки – ц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колоніальне загарбання нових земель європей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352680"/>
            <a:ext cx="9144000" cy="29718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 своїй суті географічні відкриття носили загарбниць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характер, адже європейці відправилися в Індію з метою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шуків золота і нового шляху для перевезення прянощів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кі принесли б їм великі прибутк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572000" y="2666880"/>
            <a:ext cx="0" cy="60984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324000" y="189000"/>
            <a:ext cx="8670600" cy="5145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2280" y="5334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умб не міг повірити в те, що у “східній Індії” не має золота і прянощів. Він 4 рази організовував експедиції, намагався окупити витрати і принести прибутки королям Іспанії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04920" y="457200"/>
            <a:ext cx="8534160" cy="129528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 стверджую, що європейці ще до відкриття Америки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мали намір захопити нововідкриті зем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2280" y="2209680"/>
            <a:ext cx="8991720" cy="41720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Адже, ще 17 квітня 1492 року Колумб підписав угоду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з правителями Іспанії згідно якої він сам одержав довічно 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для своїх спадкоємців і нащадків звання Адмірал всіх земель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і континентів в океані, з усіма привілеями, які мають адмірали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Кастилії. Він призначався віце-королем і віце-губернатором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усіх земель і континентів, які відкриє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Виникає питання: На якій підставі іспанські корол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призначали  своїх правителів на нових землях?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685800" y="150840"/>
            <a:ext cx="7696080" cy="4878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50920" y="51814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 нововідкриті землі європейці привезли католицьку віру, вони зневажали вірування корінних жителів Америки, нищили їх святилища, ідолів, відбирали золоті речі культового призна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а 50 років населення Центральної Мексики скоротилося </a:t>
            </a:r>
            <a:br>
              <a:rPr sz="2400"/>
            </a:b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 25 млн. до 2 млн.65 тисяч чоловік (1,2),  а з 9 млн. інків, живими залишилися 1 млн. 300 тисяч(3,4)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Object 5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На 1630 рік у Латинській Америці залишилося</a:t>
            </a:r>
            <a:br>
              <a:rPr sz="2800"/>
            </a:b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3% населення з того, що жило в доколумбову еру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2895480" y="2421000"/>
            <a:ext cx="6096240" cy="324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232740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-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 (100%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2- кількість корінних жителів Америки в 1630 році (3%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80880" y="685800"/>
            <a:ext cx="838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Корінні жителі Америки відмовилися святкувати 500-річчя відкриття Америки Колумбом, наголошуючи: “Для індіанців Америки, не має мови, взагалі, про “зустріч двох цивілізацій”, це було вторгнення, відчуження  наших  територій та колоніальне  поневолення”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3:56:40Z</dcterms:created>
  <dc:creator>www.PHILka.RU</dc:creator>
  <dc:description/>
  <dc:language>en-US</dc:language>
  <cp:lastModifiedBy>Home</cp:lastModifiedBy>
  <dcterms:modified xsi:type="dcterms:W3CDTF">2013-02-04T19:02:25Z</dcterms:modified>
  <cp:revision>26</cp:revision>
  <dc:subject/>
  <dc:title>Великі географічні відкриття: це колоніальне загарбання європейцями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5000000000001024140</vt:lpwstr>
  </property>
</Properties>
</file>