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DF8-0BC4-457A-A7C9-9D742C09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00C-B756-4588-B82F-157E7805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58A1D-7020-46FD-A545-16085C2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4782-B203-4760-B7EE-51E92B2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5736F-5ACA-48C7-BF19-FE2471E9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B0936-AA0B-4DDE-AE68-B17B558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3AAC-7090-4082-98CC-0CA9FC6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71940-2510-4012-AC99-F64F5D8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40075-3256-400D-A8B2-A6E6B598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DC0B0-9001-4BD0-8484-591923B2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5FBA-F9CE-4A50-9AF7-EBCD803B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D68BA-899E-4044-B263-E90218B3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B91-92E6-49AB-AF9F-6B89A609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0310F-2998-4145-B81D-CAB1040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FBC7-8BDF-4107-BB10-32C3C10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AC70A-EDD7-4089-A3AE-8234813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B0A29-A521-46AE-81E3-F351BD91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DAC44-F5AB-4D8C-8054-BB9D50B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18E82-4A5A-4707-8ECC-89513B8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04DD6-D218-4110-83FF-D93BADF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969B-3A24-48EB-9959-F977D1B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F220B-BB87-4104-A258-AEB8658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AE36A-5D81-4591-8B19-A2EA1086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764-EB04-442F-B8C4-2F406C34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84466-38BB-4B5A-B137-9EF8DFFD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3648-A8A3-4C66-AB6C-E6A1520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E858-62A0-4FD8-8466-22D456B7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AE10-3DDF-42D7-9F38-A817493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96AD-E511-423D-966C-690E010F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63E-39C3-4FDE-8DD4-03818EED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344-B92F-4D4C-A97F-86C6B11C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C75-2C35-4CFA-8059-B3CFE11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C50-CEE5-40EB-B12A-0F4ECD8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5FC-E386-45BF-9693-0506983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EEB9-1BB4-4379-988D-8EDFA8A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522-38F3-45EE-A540-05C7067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04E1-5998-4DE7-832E-C7EC00E1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A961-0B07-41CF-AC31-EF530E5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72F3-588C-4858-8A09-FBB6028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7741-CE95-41F2-9663-0FC0F54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7BC3-D8BC-44A6-9A7C-3E218B2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C2E7-7B56-4A6B-A87B-1A248F8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FF39-F887-400C-94D4-E9AFED1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DA1-CFA4-4C04-96B7-C9A2819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AAC8-AB0F-4554-B2B7-6B89145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4DA2-26B7-42B7-92D5-CCE8566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6CD5-E286-4EFE-9784-1282E87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BB31-05FB-4D3F-B5C2-00626F0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4054-E203-4D03-92FA-5BF9A2D2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A14A-3292-4F1F-8BDB-DF138A01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83BD-E917-4597-B060-FC8E26D3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585C-2971-475E-9CE3-F8A44C0C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2FFD-4465-468A-94CB-053B90B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DF4F-B4A3-4F1C-94B2-C98B4C3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7C6-6BD0-4A7F-9C86-2855E6E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8A4E-D968-46A3-812B-23BCC71C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AE9F-4F8F-4A85-A9CB-601A1D9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C419-5F0F-4DC2-BBAE-093120A9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7176E-795E-4657-8C99-1928BFC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157C-8596-4C4B-9326-5E6824C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E535-EB01-4782-85A7-E96A70D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09D3-26DA-4CDA-91AE-74AB5D27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A243-6680-4376-850D-2B96B2D6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E8DF-DF95-4061-A5B5-41B24845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4133-F85F-4D63-AA5A-A5119195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E8F-CB6E-4B3E-ADC7-DE734E6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1575-2A5C-4EB5-A5FF-5C37737D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1853-89E5-45B3-BF68-CC0F71CF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9545-7237-4B09-B965-25F3EBB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E6D8-CF7A-450D-A0A7-9385C652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2DD9-3222-49EA-AD8E-D8B7F23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FE1E-30F2-41A2-B816-F7C13B4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87B43-37D0-4C7D-B94A-5590778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7F3D4-FEA5-4D3B-A894-C311D33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546C-8BA9-4651-8AB3-9E9C23FD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EB62-301D-4B1C-AF22-9991AFE2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BF8-F952-46DE-919A-4657A6D7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81DB-7C02-42C0-AC52-CA8F574A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3704-8B6C-4B30-AAB1-F1BA991E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F531-0585-4A77-AFF2-EF1CB7C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0505-B3A5-4965-BD50-8E8B9814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2FE2-2A99-429D-9AC5-002408A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3955-DE04-4523-B3F8-2786713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4151-DAEB-49A4-8BCF-23DD151E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C704-E70C-4065-8CB1-DF9211E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6A0C-8FE8-431C-BF0B-D051C8F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7483-A1C9-4E02-8D49-61A5DD9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0CC-1745-4C8A-A5B0-46105F3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2DA95-8202-43D7-AA4E-239729B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5F2A-C12A-45C0-9760-CA445F3D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A3F3-BD02-4FF7-9A27-C0C4CC87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3887-43FA-47EE-AE48-F686DC0C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C568-9A72-4319-BEFE-1DC9BC1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307DD-D307-4EF4-A57B-FF3B2A8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5C92-D139-4F3B-9B83-6707A1AC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AD51-92BF-44F3-9E63-9CC27439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0B5C-21DE-4AA6-BAF1-DC67B75A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0544-6A64-4138-893B-BA73820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BF1-5A85-4E4F-AC09-1D0C875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8FB1-1930-4744-B7FC-EAA911D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2811-3EA0-44E5-BE5B-8E98F4D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BD211-FCE0-4AFA-BB0B-F516616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DDF89-FC63-46A1-AB99-DCC3566F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CE58-3C39-4786-9B1E-A1811E5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A9FD-3285-4136-8E69-7B2A0B52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43A4-A433-4C17-85E3-4D93CA6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4780-DC88-480E-85DB-2BA8888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BFEC-A6CE-4921-B694-AA078E7E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0008-16AE-4EE2-8EB7-43677A4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164-3B39-438D-9181-34B7FF75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F28EB-965E-4FBA-AA6F-65BE2D10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E16BB-E074-459A-ABF3-5E6111AF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173D-7B6D-4482-945B-20AC1C6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82AE-2D2E-41D8-B3EB-59F7AA0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1FE18-75C9-40F9-A5D8-BC6F6AF6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ED44-1918-486C-A077-336B0534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0EB7-8676-40D6-BDAA-486B7653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94E71-31F9-4477-9FE5-FC9C0ACF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7DA1F-7167-4629-ABD3-46D590BC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70741-AEB9-4F81-AFB0-396A9413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59D2-6CFA-46F5-A5B3-F8D724B48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BD4B-C6B3-493E-8864-7098EF0946C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229-C000-4D1C-A47A-A30EEFD352B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3C3-4661-43D0-9A8D-4296DE062AD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504-E739-438A-8CB9-2540D151E78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8F56-F936-4467-93AA-8A50B77C81B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F36-CCD0-4F03-B2A0-86A77C724D2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0C8-D7E4-4E9B-A1FE-FF9CD578B7F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095-AC9D-49EE-9BFC-12926403B0F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754-E185-414F-9138-7FEECD7C6C4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772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 проходив Віденський конг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і були рішення Віденського конгресу по відношенню до Італ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іть одне з основних завдань революції 1848 р. в Італ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http://bse.sci-lib.com/a_pictures/05/08/214887412.jpg"/>
          <p:cNvPicPr/>
          <p:nvPr/>
        </p:nvPicPr>
        <p:blipFill>
          <a:blip r:embed="rId1"/>
          <a:stretch/>
        </p:blipFill>
        <p:spPr>
          <a:xfrm>
            <a:off x="4937040" y="1359000"/>
            <a:ext cx="3541680" cy="4779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3"/>
          <p:cNvSpPr/>
          <p:nvPr/>
        </p:nvSpPr>
        <p:spPr>
          <a:xfrm>
            <a:off x="2286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один із  лідерів визвольного р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510920" y="304920"/>
            <a:ext cx="54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Гарібальді Джузепп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209680" y="19051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928800"/>
            <a:ext cx="3806640" cy="52862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4114800" y="10000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ранко -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сь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австрійська вій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4"/>
          <p:cNvSpPr/>
          <p:nvPr/>
        </p:nvSpPr>
        <p:spPr>
          <a:xfrm>
            <a:off x="863640" y="1415880"/>
            <a:ext cx="630360" cy="712800"/>
          </a:xfrm>
          <a:prstGeom prst="pie">
            <a:avLst/>
          </a:prstGeom>
          <a:solidFill>
            <a:srgbClr val="ffff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олилиния 6"/>
          <p:cNvSpPr/>
          <p:nvPr/>
        </p:nvSpPr>
        <p:spPr>
          <a:xfrm>
            <a:off x="1440" y="1506600"/>
            <a:ext cx="530280" cy="1224000"/>
          </a:xfrm>
          <a:prstGeom prst="pie">
            <a:avLst/>
          </a:prstGeom>
          <a:solidFill>
            <a:srgbClr val="ff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Выгнутая вверх стрелка 7"/>
          <p:cNvSpPr/>
          <p:nvPr/>
        </p:nvSpPr>
        <p:spPr>
          <a:xfrm>
            <a:off x="214200" y="121428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с вырезом 8"/>
          <p:cNvSpPr/>
          <p:nvPr/>
        </p:nvSpPr>
        <p:spPr>
          <a:xfrm rot="20520000">
            <a:off x="558720" y="1920600"/>
            <a:ext cx="1381320" cy="317520"/>
          </a:xfrm>
          <a:custGeom>
            <a:avLst/>
            <a:gdLst>
              <a:gd name="textAreaLeft" fmla="*/ 79200 w 1381320"/>
              <a:gd name="textAreaRight" fmla="*/ 1302120 w 1381320"/>
              <a:gd name="textAreaTop" fmla="*/ 79200 h 317520"/>
              <a:gd name="textAreaBottom" fmla="*/ 238320 h 31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17" y="5400"/>
                </a:lnTo>
                <a:lnTo>
                  <a:pt x="19117" y="0"/>
                </a:lnTo>
                <a:lnTo>
                  <a:pt x="21600" y="10800"/>
                </a:lnTo>
                <a:lnTo>
                  <a:pt x="19117" y="21600"/>
                </a:lnTo>
                <a:lnTo>
                  <a:pt x="19117" y="16200"/>
                </a:lnTo>
                <a:lnTo>
                  <a:pt x="0" y="16200"/>
                </a:lnTo>
                <a:lnTo>
                  <a:pt x="12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4624200" y="23572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 отримує Ломбард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888000" cy="2643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1"/>
          <p:cNvSpPr/>
          <p:nvPr/>
        </p:nvSpPr>
        <p:spPr>
          <a:xfrm rot="4080000">
            <a:off x="-104040" y="2113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1214280"/>
            <a:ext cx="3424320" cy="47563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3786120" y="142884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лоренція,Модена , Парма приєднуются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5"/>
          <p:cNvSpPr/>
          <p:nvPr/>
        </p:nvSpPr>
        <p:spPr>
          <a:xfrm>
            <a:off x="1168560" y="2576520"/>
            <a:ext cx="544320" cy="673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6"/>
          <p:cNvSpPr/>
          <p:nvPr/>
        </p:nvSpPr>
        <p:spPr>
          <a:xfrm>
            <a:off x="1081080" y="2330280"/>
            <a:ext cx="412920" cy="3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7"/>
          <p:cNvSpPr/>
          <p:nvPr/>
        </p:nvSpPr>
        <p:spPr>
          <a:xfrm>
            <a:off x="965160" y="2227320"/>
            <a:ext cx="357120" cy="334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Рисунок2"/>
          <p:cNvPicPr/>
          <p:nvPr/>
        </p:nvPicPr>
        <p:blipFill>
          <a:blip r:embed="rId2"/>
          <a:stretch/>
        </p:blipFill>
        <p:spPr>
          <a:xfrm>
            <a:off x="4500720" y="3429000"/>
            <a:ext cx="4000320" cy="268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Рисунок2"/>
          <p:cNvPicPr/>
          <p:nvPr/>
        </p:nvPicPr>
        <p:blipFill>
          <a:blip r:embed="rId1"/>
          <a:stretch/>
        </p:blipFill>
        <p:spPr>
          <a:xfrm>
            <a:off x="6858000" y="4145040"/>
            <a:ext cx="2071800" cy="2539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97" name="Рисунок 4" descr=""/>
          <p:cNvPicPr/>
          <p:nvPr/>
        </p:nvPicPr>
        <p:blipFill>
          <a:blip r:embed="rId2"/>
          <a:srcRect l="0" t="0" r="70" b="-13"/>
          <a:stretch/>
        </p:blipFill>
        <p:spPr>
          <a:xfrm>
            <a:off x="142920" y="91116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4634280" y="1214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0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овстання в Пале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4426560" y="200016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Експедиція “червоної тисяч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ж. Гарібальді до Сицилії та пів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Рисунок5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4000680"/>
            <a:ext cx="4572000" cy="2714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01" name="TextBox 7"/>
          <p:cNvSpPr/>
          <p:nvPr/>
        </p:nvSpPr>
        <p:spPr>
          <a:xfrm>
            <a:off x="358920" y="60721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ходження півдня Італії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илиния 8"/>
          <p:cNvSpPr/>
          <p:nvPr/>
        </p:nvSpPr>
        <p:spPr>
          <a:xfrm>
            <a:off x="1903320" y="2868480"/>
            <a:ext cx="1889280" cy="24638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трелка вниз 9"/>
          <p:cNvSpPr/>
          <p:nvPr/>
        </p:nvSpPr>
        <p:spPr>
          <a:xfrm rot="21000000">
            <a:off x="1719000" y="3149640"/>
            <a:ext cx="214200" cy="1714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3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143000"/>
            <a:ext cx="3652920" cy="50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6286680" y="2428920"/>
            <a:ext cx="2071440" cy="3355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466880" y="12859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7 березня 1861 р. – проголо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королівст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513400" y="594360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Король Віктор Еммануїл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6"/>
          <p:cNvSpPr/>
          <p:nvPr/>
        </p:nvSpPr>
        <p:spPr>
          <a:xfrm>
            <a:off x="1158840" y="2200320"/>
            <a:ext cx="862200" cy="112248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илиния 8"/>
          <p:cNvSpPr/>
          <p:nvPr/>
        </p:nvSpPr>
        <p:spPr>
          <a:xfrm>
            <a:off x="1123920" y="2170080"/>
            <a:ext cx="876240" cy="117792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илиния 9"/>
          <p:cNvSpPr/>
          <p:nvPr/>
        </p:nvSpPr>
        <p:spPr>
          <a:xfrm>
            <a:off x="2048040" y="3141720"/>
            <a:ext cx="1868400" cy="24336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10"/>
          <p:cNvSpPr/>
          <p:nvPr/>
        </p:nvSpPr>
        <p:spPr>
          <a:xfrm>
            <a:off x="372960" y="1608120"/>
            <a:ext cx="1249560" cy="113508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703440" y="3773520"/>
            <a:ext cx="545760" cy="968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олилиния 12"/>
          <p:cNvSpPr/>
          <p:nvPr/>
        </p:nvSpPr>
        <p:spPr>
          <a:xfrm>
            <a:off x="1635120" y="2238480"/>
            <a:ext cx="841320" cy="1060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200016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 rot="1860000">
            <a:off x="878760" y="29365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63560" y="2142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14200" y="1214280"/>
            <a:ext cx="3446640" cy="47865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16320" y="12859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6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руссько-австрійськая 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ыгнутая вверх стрелка 4"/>
          <p:cNvSpPr/>
          <p:nvPr/>
        </p:nvSpPr>
        <p:spPr>
          <a:xfrm rot="4320000">
            <a:off x="1413720" y="1421280"/>
            <a:ext cx="642960" cy="285840"/>
          </a:xfrm>
          <a:custGeom>
            <a:avLst/>
            <a:gdLst>
              <a:gd name="textAreaLeft" fmla="*/ 133920 w 642960"/>
              <a:gd name="textAreaRight" fmla="*/ 473400 w 6429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олилиния 5"/>
          <p:cNvSpPr/>
          <p:nvPr/>
        </p:nvSpPr>
        <p:spPr>
          <a:xfrm>
            <a:off x="291960" y="1685880"/>
            <a:ext cx="1563840" cy="1558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олилиния 6"/>
          <p:cNvSpPr/>
          <p:nvPr/>
        </p:nvSpPr>
        <p:spPr>
          <a:xfrm>
            <a:off x="601560" y="3683160"/>
            <a:ext cx="544680" cy="9032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7"/>
          <p:cNvSpPr/>
          <p:nvPr/>
        </p:nvSpPr>
        <p:spPr>
          <a:xfrm>
            <a:off x="1893960" y="3049560"/>
            <a:ext cx="1795320" cy="233208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5315760" y="2143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5021280" y="29289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ередача Вене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олилиния 10"/>
          <p:cNvSpPr/>
          <p:nvPr/>
        </p:nvSpPr>
        <p:spPr>
          <a:xfrm>
            <a:off x="1330200" y="1712880"/>
            <a:ext cx="636840" cy="604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олилиния 11"/>
          <p:cNvSpPr/>
          <p:nvPr/>
        </p:nvSpPr>
        <p:spPr>
          <a:xfrm>
            <a:off x="2790720" y="1236600"/>
            <a:ext cx="700200" cy="565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12"/>
          <p:cNvSpPr/>
          <p:nvPr/>
        </p:nvSpPr>
        <p:spPr>
          <a:xfrm>
            <a:off x="1465200" y="2303640"/>
            <a:ext cx="804960" cy="887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Рисунок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429080" y="3786120"/>
            <a:ext cx="43498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29" name="Прямоугольник 14"/>
          <p:cNvSpPr/>
          <p:nvPr/>
        </p:nvSpPr>
        <p:spPr>
          <a:xfrm rot="1920000">
            <a:off x="795960" y="28875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Group 18" descr=""/>
          <p:cNvPicPr/>
          <p:nvPr/>
        </p:nvPicPr>
        <p:blipFill>
          <a:blip r:embed="rId3"/>
          <a:stretch/>
        </p:blipFill>
        <p:spPr>
          <a:xfrm>
            <a:off x="1560600" y="914400"/>
            <a:ext cx="48096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071720"/>
            <a:ext cx="3857400" cy="5356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4610880" y="1428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70 – 1871 рр. – Франко-прус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              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5382360" y="25718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4865040" y="342900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риєднання Пап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о Італійського королі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6"/>
          <p:cNvSpPr/>
          <p:nvPr/>
        </p:nvSpPr>
        <p:spPr>
          <a:xfrm>
            <a:off x="223920" y="1641600"/>
            <a:ext cx="431640" cy="1272960"/>
          </a:xfrm>
          <a:prstGeom prst="pie">
            <a:avLst/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Выгнутая влево стрелка 7"/>
          <p:cNvSpPr/>
          <p:nvPr/>
        </p:nvSpPr>
        <p:spPr>
          <a:xfrm rot="3000000">
            <a:off x="361080" y="997920"/>
            <a:ext cx="563760" cy="1218960"/>
          </a:xfrm>
          <a:custGeom>
            <a:avLst/>
            <a:gdLst>
              <a:gd name="textAreaLeft" fmla="*/ 75240 w 563760"/>
              <a:gd name="textAreaRight" fmla="*/ 488520 w 563760"/>
              <a:gd name="textAreaTop" fmla="*/ 251640 h 1218960"/>
              <a:gd name="textAreaBottom" fmla="*/ 8967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8" stAng="-5400000" swAng="-5400000"/>
                <a:lnTo>
                  <a:pt x="0" y="11424"/>
                </a:lnTo>
                <a:arcTo wR="21600" hR="8928" stAng="10800000" swAng="-3480481"/>
                <a:lnTo>
                  <a:pt x="16200" y="21316"/>
                </a:lnTo>
                <a:lnTo>
                  <a:pt x="21600" y="19104"/>
                </a:lnTo>
                <a:lnTo>
                  <a:pt x="16200" y="16324"/>
                </a:lnTo>
                <a:lnTo>
                  <a:pt x="16200" y="17572"/>
                </a:lnTo>
                <a:arcTo wR="21600" hR="8928" stAng="7319519" swAng="3280114"/>
                <a:lnTo>
                  <a:pt x="212" y="10176"/>
                </a:lnTo>
                <a:arcTo wR="21600" hR="8928" stAng="-10599632" swAng="5199632"/>
                <a:close/>
              </a:path>
              <a:path fill="darkenLess" w="21600" h="21600">
                <a:moveTo>
                  <a:pt x="21600" y="0"/>
                </a:moveTo>
                <a:arcTo wR="21600" hR="8928" stAng="-5400000" swAng="-5400000"/>
                <a:lnTo>
                  <a:pt x="0" y="8928"/>
                </a:lnTo>
                <a:arcTo wR="21600" hR="8928" stAng="10800000" swAng="-200368"/>
                <a:lnTo>
                  <a:pt x="212" y="10176"/>
                </a:lnTo>
                <a:arcTo wR="21600" hR="8928" stAng="-10599632" swAng="5199632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oup 18" descr=""/>
          <p:cNvPicPr/>
          <p:nvPr/>
        </p:nvPicPr>
        <p:blipFill>
          <a:blip r:embed="rId2"/>
          <a:stretch/>
        </p:blipFill>
        <p:spPr>
          <a:xfrm>
            <a:off x="274680" y="1347840"/>
            <a:ext cx="480960" cy="785880"/>
          </a:xfrm>
          <a:prstGeom prst="rect">
            <a:avLst/>
          </a:prstGeom>
          <a:ln w="0">
            <a:noFill/>
          </a:ln>
        </p:spPr>
      </p:pic>
      <p:sp>
        <p:nvSpPr>
          <p:cNvPr id="538" name="Полилиния 13"/>
          <p:cNvSpPr/>
          <p:nvPr/>
        </p:nvSpPr>
        <p:spPr>
          <a:xfrm>
            <a:off x="757080" y="3811680"/>
            <a:ext cx="543240" cy="10173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14"/>
          <p:cNvSpPr/>
          <p:nvPr/>
        </p:nvSpPr>
        <p:spPr>
          <a:xfrm>
            <a:off x="398520" y="1554120"/>
            <a:ext cx="3743280" cy="421164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15"/>
          <p:cNvSpPr/>
          <p:nvPr/>
        </p:nvSpPr>
        <p:spPr>
          <a:xfrm>
            <a:off x="1790640" y="3259080"/>
            <a:ext cx="747720" cy="6969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6"/>
          <p:cNvSpPr/>
          <p:nvPr/>
        </p:nvSpPr>
        <p:spPr>
          <a:xfrm rot="2100000">
            <a:off x="757440" y="28098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4"/>
          <p:cNvPicPr/>
          <p:nvPr/>
        </p:nvPicPr>
        <p:blipFill>
          <a:blip r:embed="rId3"/>
          <a:stretch/>
        </p:blipFill>
        <p:spPr>
          <a:xfrm>
            <a:off x="6000840" y="4357800"/>
            <a:ext cx="1928880" cy="233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43" name="Полилиния 18"/>
          <p:cNvSpPr/>
          <p:nvPr/>
        </p:nvSpPr>
        <p:spPr>
          <a:xfrm>
            <a:off x="1609560" y="1554120"/>
            <a:ext cx="684360" cy="75096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19"/>
          <p:cNvSpPr/>
          <p:nvPr/>
        </p:nvSpPr>
        <p:spPr>
          <a:xfrm>
            <a:off x="1596960" y="1622520"/>
            <a:ext cx="665280" cy="739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0"/>
          <p:cNvSpPr/>
          <p:nvPr/>
        </p:nvSpPr>
        <p:spPr>
          <a:xfrm rot="4740000">
            <a:off x="-35280" y="21841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7" descr=""/>
          <p:cNvPicPr/>
          <p:nvPr/>
        </p:nvPicPr>
        <p:blipFill>
          <a:blip r:embed="rId1"/>
          <a:stretch/>
        </p:blipFill>
        <p:spPr>
          <a:xfrm>
            <a:off x="1928880" y="1000080"/>
            <a:ext cx="5959440" cy="4714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417760" y="285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вропа  в 1871 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497600" y="58579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ява на політичній карті Європи національної де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"/>
          <p:cNvSpPr/>
          <p:nvPr/>
        </p:nvSpPr>
        <p:spPr>
          <a:xfrm>
            <a:off x="3747960" y="4173480"/>
            <a:ext cx="1089000" cy="129528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8"/>
          <p:cNvSpPr/>
          <p:nvPr/>
        </p:nvSpPr>
        <p:spPr>
          <a:xfrm>
            <a:off x="3772080" y="4788000"/>
            <a:ext cx="207720" cy="36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685800" y="838080"/>
          <a:ext cx="7848720" cy="5842080"/>
        </p:xfrm>
        <a:graphic>
          <a:graphicData uri="http://schemas.openxmlformats.org/drawingml/2006/table">
            <a:tbl>
              <a:tblPr/>
              <a:tblGrid>
                <a:gridCol w="2133720"/>
                <a:gridCol w="2825640"/>
                <a:gridCol w="2889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лі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Літо 185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аємне побачення Кавура з Наполеоном ІІ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помога Франції у війні з Австріє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Черв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Маджент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Сольфер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стрійська армія розбита. П’ємонт отримав Ломбарді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Серп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у Флоренції, Пармі та Моден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і області приєднані до П’ємо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97380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Травень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«Тисячі червоносорочечників» під проводом Гарібальд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 під Калатафім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ходження Сицилії до П’ємон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7 вересня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туп Гарібальді до Неап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игнання Бурбонів з Південної Італ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голошення єдиного Італійського королі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оль Італії – Віктор-Емануїл 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6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тало-пруссько-австрій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ключення Венеціанської області до Італійського королів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0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ранко-прус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яття Риму королівськими війсь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енесення столиці Італійського королівства з Венеції до Ри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ершення об’єднання краї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2"/>
          <p:cNvSpPr/>
          <p:nvPr/>
        </p:nvSpPr>
        <p:spPr>
          <a:xfrm>
            <a:off x="20574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Хід об'єднання Італ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рямоугольник 6" descr=""/>
          <p:cNvPicPr/>
          <p:nvPr/>
        </p:nvPicPr>
        <p:blipFill>
          <a:blip r:embed="rId1"/>
          <a:stretch/>
        </p:blipFill>
        <p:spPr>
          <a:xfrm>
            <a:off x="622440" y="1487520"/>
            <a:ext cx="7802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Arial Black"/>
              </a:rPr>
              <a:t>Тестові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380880" y="458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беріть правильний варіант відпові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304920" y="1054440"/>
            <a:ext cx="83818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а з держав відіграла вирішальну роль в об’єднанні Італ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а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П’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ици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шим кроком до об’єднання німецьких земель була війна прот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ус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ици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у належать наступні слова: «Я докладу всі зусилля, аби перешкодити італійському руху стати революційним… 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ж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іктору Еммануїлу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. Кав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609480" y="1840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859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. Р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иця королівства Італ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61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2. Проголошення 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1866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3. Франко-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ємонтсько-австрійська ві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1870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4. Звільнення Сицилії та Неап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иєднання Венеції до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40280" y="6858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становіть відповідн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Прямая со стрелкой 6"/>
          <p:cNvCxnSpPr/>
          <p:nvPr/>
        </p:nvCxnSpPr>
        <p:spPr>
          <a:xfrm>
            <a:off x="1905120" y="2133360"/>
            <a:ext cx="1219680" cy="11437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59" name="Прямая со стрелкой 8"/>
          <p:cNvCxnSpPr/>
          <p:nvPr/>
        </p:nvCxnSpPr>
        <p:spPr>
          <a:xfrm>
            <a:off x="1904760" y="2666520"/>
            <a:ext cx="1143720" cy="25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0" name="Прямая со стрелкой 10"/>
          <p:cNvCxnSpPr/>
          <p:nvPr/>
        </p:nvCxnSpPr>
        <p:spPr>
          <a:xfrm>
            <a:off x="1827720" y="3276720"/>
            <a:ext cx="1220040" cy="121968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1" name="Прямая со стрелкой 12"/>
          <p:cNvCxnSpPr/>
          <p:nvPr/>
        </p:nvCxnSpPr>
        <p:spPr>
          <a:xfrm flipV="1">
            <a:off x="1827720" y="2056680"/>
            <a:ext cx="1143720" cy="1981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380880" y="53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значте послідовність поді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22860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спедиція «червоної тисячі» під керівниц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арібальді до Сицил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значення прем’єр-міністром П’ємонту К. Кав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єднання Папської області до Італійського королі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юз Франції та П’ємонту проти Авс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133720" y="3886200"/>
          <a:ext cx="411480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946080"/>
                <a:gridCol w="114624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80880" y="230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піввіднесіть імена історичних осі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 факти їхньої біограф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304920" y="1523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 Кав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тудентом вступив до організації арбонаріїв, створив товариство «Молода Італія», що ставило за мету добитися незалежності та об’єднання країни, перетворення Італії на демократичну республіку. Він говорив: «Реформ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ава королів, революц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ь секрет нар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 легенда італійського народу, безстрашний патріот, який присвятив життя визвольній боротьбі. Одні вважали його ангелом, інш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яволом. Він був дуже популярний, під його прапором йшли битися з австрійцями всі, хто мріяв про свободу Італ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. Здобув освіту у військовій академії, але ні військова, ні придворна служба його не приваблювал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ажав незалежний характер. Став уособленням п’ємонтського буржуазного дворянства. Залишивши військову службу, він повернувся до свого маєтку і перебудував господарство на капіталістичній ос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86400" y="1219320"/>
          <a:ext cx="2438280" cy="838080"/>
        </p:xfrm>
        <a:graphic>
          <a:graphicData uri="http://schemas.openxmlformats.org/drawingml/2006/table">
            <a:tbl>
              <a:tblPr/>
              <a:tblGrid>
                <a:gridCol w="830160"/>
                <a:gridCol w="831960"/>
                <a:gridCol w="77616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609480" y="1530720"/>
            <a:ext cx="7543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 Black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рацювати параграф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і на запитання до нь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значати причини, хід та наслідки об’єднання Італії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становити хронологічну послідовність даних поді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дати характеристику політичним лідерам даного пері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вчити терміни: «помірковано-ліберальний напрям об’єднання», «революційний напрям об’єднання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лан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чини об’єднання Італ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ляхи об’єд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творення Італійського королі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80720"/>
            <a:ext cx="815328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Сформулюйте причини об'єднання Італії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кажіть на карті держави, на які була поділена Італ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500280" cy="48099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918160" y="2142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Об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’</a:t>
            </a: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єднання Італ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1371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1859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941360" y="1071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1. Неаполіт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4840200" y="17146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2. Папс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5016960" y="228600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Герцогства 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3. Тос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6880680" y="285768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050"/>
                </a:solidFill>
                <a:latin typeface="Arial Black"/>
              </a:rPr>
              <a:t>4. Лу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873840" y="38577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2d050"/>
                </a:solidFill>
                <a:latin typeface="Arial Black"/>
              </a:rPr>
              <a:t>6. П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873840" y="34290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 Black"/>
              </a:rPr>
              <a:t>5.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4895640" y="4572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7. П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5042880" y="528624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8. Венеці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     </a:t>
            </a:r>
            <a:r>
              <a:rPr b="0" lang="uk-UA" sz="1600" spc="-1" strike="noStrike">
                <a:solidFill>
                  <a:srgbClr val="438086"/>
                </a:solidFill>
                <a:latin typeface="Arial Black"/>
              </a:rPr>
              <a:t>(у складі Австрійської імпер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33320" y="27860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8 дер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13"/>
          <p:cNvSpPr/>
          <p:nvPr/>
        </p:nvSpPr>
        <p:spPr>
          <a:xfrm>
            <a:off x="1847880" y="2635200"/>
            <a:ext cx="1835280" cy="2262240"/>
          </a:xfrm>
          <a:prstGeom prst="pi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14"/>
          <p:cNvSpPr/>
          <p:nvPr/>
        </p:nvSpPr>
        <p:spPr>
          <a:xfrm>
            <a:off x="1506600" y="1841400"/>
            <a:ext cx="839880" cy="1519200"/>
          </a:xfrm>
          <a:prstGeom prst="pie">
            <a:avLst/>
          </a:prstGeom>
          <a:solidFill>
            <a:srgbClr val="ffffff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15"/>
          <p:cNvSpPr/>
          <p:nvPr/>
        </p:nvSpPr>
        <p:spPr>
          <a:xfrm>
            <a:off x="1378080" y="2173320"/>
            <a:ext cx="501480" cy="782640"/>
          </a:xfrm>
          <a:prstGeom prst="pie">
            <a:avLst/>
          </a:prstGeom>
          <a:solidFill>
            <a:srgbClr val="ffc00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16"/>
          <p:cNvSpPr/>
          <p:nvPr/>
        </p:nvSpPr>
        <p:spPr>
          <a:xfrm>
            <a:off x="1287360" y="2139840"/>
            <a:ext cx="387360" cy="333360"/>
          </a:xfrm>
          <a:prstGeom prst="pie">
            <a:avLst/>
          </a:prstGeom>
          <a:solidFill>
            <a:srgbClr val="00b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7"/>
          <p:cNvSpPr/>
          <p:nvPr/>
        </p:nvSpPr>
        <p:spPr>
          <a:xfrm>
            <a:off x="1157400" y="1851120"/>
            <a:ext cx="465120" cy="353880"/>
          </a:xfrm>
          <a:prstGeom prst="pie">
            <a:avLst/>
          </a:prstGeom>
          <a:solidFill>
            <a:srgbClr val="00206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8"/>
          <p:cNvSpPr/>
          <p:nvPr/>
        </p:nvSpPr>
        <p:spPr>
          <a:xfrm>
            <a:off x="1068480" y="1758960"/>
            <a:ext cx="344520" cy="304920"/>
          </a:xfrm>
          <a:prstGeom prst="pie">
            <a:avLst/>
          </a:prstGeom>
          <a:solidFill>
            <a:srgbClr val="92d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19"/>
          <p:cNvSpPr/>
          <p:nvPr/>
        </p:nvSpPr>
        <p:spPr>
          <a:xfrm>
            <a:off x="695160" y="3208320"/>
            <a:ext cx="476280" cy="90000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20"/>
          <p:cNvSpPr/>
          <p:nvPr/>
        </p:nvSpPr>
        <p:spPr>
          <a:xfrm>
            <a:off x="450720" y="1224000"/>
            <a:ext cx="1068480" cy="103032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олилиния 21"/>
          <p:cNvSpPr/>
          <p:nvPr/>
        </p:nvSpPr>
        <p:spPr>
          <a:xfrm>
            <a:off x="1424160" y="1247760"/>
            <a:ext cx="601560" cy="619200"/>
          </a:xfrm>
          <a:prstGeom prst="pie">
            <a:avLst/>
          </a:prstGeom>
          <a:solidFill>
            <a:srgbClr val="438086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Революційно-демократич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революційні демократи, що спиралися на ремісників,селян,інтелігенцію обстоювали революційний шлях об’єднання країни в єдину демократичну республіку. Визначними представниками цього табору були Мадзіні та Гарібальд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Помірковано-лібераль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представляв інтереси ліберального дворянства і буржуазії, орієнтувалися на об’єднання під владою конституційного монарха, головне місце займав економічно розвинений П’ємонт. Лідер течії граф К. Кавур, який вважав що об’єднання країни має здійснитися «Зверху» під владою Віктора-Емануїла І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4419720" y="320040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Граф, італійський політичний і державний діяч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дипломатич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2514600" y="304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Кавур Камі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://t0.gstatic.com/images?q=tbn:ANd9GcTwp1ld6ldVODTerVuAOFqE8PFvHIygwlJVBytwvt9g0gm0c4UzfAYEIov0"/>
          <p:cNvPicPr/>
          <p:nvPr/>
        </p:nvPicPr>
        <p:blipFill>
          <a:blip r:embed="rId1"/>
          <a:stretch/>
        </p:blipFill>
        <p:spPr>
          <a:xfrm>
            <a:off x="596880" y="1127160"/>
            <a:ext cx="354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2"/>
          <p:cNvSpPr/>
          <p:nvPr/>
        </p:nvSpPr>
        <p:spPr>
          <a:xfrm>
            <a:off x="41148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революцій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bse.sci-lib.com/a_pictures/05/08/207658489.jpg"/>
          <p:cNvPicPr/>
          <p:nvPr/>
        </p:nvPicPr>
        <p:blipFill>
          <a:blip r:embed="rId1"/>
          <a:stretch/>
        </p:blipFill>
        <p:spPr>
          <a:xfrm>
            <a:off x="444600" y="1054080"/>
            <a:ext cx="3462120" cy="48340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4"/>
          <p:cNvSpPr/>
          <p:nvPr/>
        </p:nvSpPr>
        <p:spPr>
          <a:xfrm>
            <a:off x="2284200" y="3049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Мадзіні  Джузеппе</a:t>
            </a:r>
            <a:r>
              <a:rPr b="0" i="1" lang="uk-UA" sz="40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School</cp:lastModifiedBy>
  <dcterms:modified xsi:type="dcterms:W3CDTF">2012-12-10T10:05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2a000000000001024140</vt:lpwstr>
  </property>
  <property fmtid="{D5CDD505-2E9C-101B-9397-08002B2CF9AE}" pid="3" name="Version">
    <vt:r8>1</vt:r8>
  </property>
</Properties>
</file>