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CED-3833-48C2-89DD-66C7E584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722-559F-4E4A-89A2-B4B6A55E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E2E1E-1024-4A8A-A290-254BD485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D753C-7BD4-41BC-BAED-9CEC5D87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7C3ED-91F4-4153-B176-571189A3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27EF4-1E63-4F7B-8BE3-95CFE3E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EFBCF-5011-49DD-B349-0C83E93B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2C40A-6925-4330-B490-05A40CE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61FA3-225C-4FC0-9185-FA93EB63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26D59-9DCC-4D6E-8842-3E609448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9EF50-C6BE-4235-8CE0-78850319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F5DD5-AA6B-4DEC-9A06-EF64BCCE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C25-B784-4B42-AC30-D3D490FE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2FAE6-BADC-4C88-AB0A-F65508A0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F77D4-3285-4DB6-9513-906FCCDD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7EB4D-1070-4016-85D6-812CF75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1B035-CC07-4F75-B70C-1F029E8D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BFE6C-EB68-420D-A420-8CD3BB05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D9AB9-B743-4B95-887A-ACBD03F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2F75D-43A7-4573-80D0-69E4844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89C74-6D3F-4630-90FB-15865C86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DF3DB-0662-4CF0-AEEC-02DACE6C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C1949-D3B3-4AA9-B430-2EE7094C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3A4-6B63-4EAF-8521-68C9038E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A5637-B7FD-48C1-8FC1-121E66F1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4052-56B6-4361-9175-141D11A4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99EF-CF31-458D-A575-2953C104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0895-B85F-4BC0-828B-99954130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6B82-3D5D-4C82-87F6-49FCB1B1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4673-CEE6-43C9-A86F-876B2D85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2976-DA96-430D-B8DC-F51AC47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88BA-7647-4BE5-A8F1-20D63D0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F1B-CECF-4412-A6D1-2353B3ED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6E90-962F-4024-980E-51F7CBCB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CD1C-0A74-4E12-8126-2B58F1F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3F32-F9C4-4505-B380-E8E4F5E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1176-9070-442A-8963-AA08A827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1E9F-B185-4E10-BC15-46373418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E033-A787-4FBF-9B5E-D2601AD4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AA66-305F-45E7-8637-C00A7B0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48880-989C-4CD8-A0E9-6B8000B1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6368A-E164-4DDA-BE28-FE2E8585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DF91-5168-4DF7-B8C3-6C2EADB9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EC8-E59F-41BB-B6D1-3BF7DA5C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37E6-449C-4F06-AD49-CA2EF9D9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8612-E119-4E37-9F54-19FAE036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F8B2-A4B4-4B90-B829-180F26FD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02EF-743D-4703-9172-E977331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1B51-E53A-4890-ABFD-739B7A65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FFDB-AACD-472E-933D-4704546B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2C2D-0472-49C2-9CCF-013167A4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F880-86E1-4CC8-8FE0-FA7483A7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66ED-8581-4BCF-B5B3-4244AF7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B9E1-59C0-45FB-B625-18162CA8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93C-E149-466F-9FF5-20870CBA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EE5C-9978-41FB-90A2-657CAC02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9AC34-0552-4AFF-A7DD-1856E069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06BB-6B7C-4AA2-9899-8BF55D98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C6AE3-EB19-4C4A-A4FF-A96207B5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70489-8382-46FA-9D5C-E05F971D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1CF3C-8B8C-4FA0-9B13-9EAEC6A6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2D99-90C7-4C0E-B334-D77D5EAD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191D1-3AB5-4C75-B22A-0732AB79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2D41-F954-49A0-A936-BA561000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AF7C-59F6-4247-9C85-771D1AC9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E9B-964F-4B9E-A151-31E14A30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7E81C-C6A0-4ABF-A280-A5E3BC38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BCD8-FAFA-4655-8D07-C6CEC6DA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703D-FFC1-47F7-B7E2-6B298AD3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E4E9D-3680-4206-A3DC-46E523FB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AE1F-8094-4F7A-AC4D-7DBF3915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FFC7-B9E4-43E3-AFC8-D51E26B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F4E4-4CF4-4B75-BCE5-91D370E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6520-89FA-49D3-847D-E5D312BC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57C6D-6661-441C-8D32-F6C2E336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671D-DE00-43A2-B588-391ED185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545-AFCC-4572-85EB-32F645F3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981D-95E7-4124-94FA-E7EE67BC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19D27-E847-4143-98F0-EA2CE1C4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04C7E-F1CF-4A4B-9EAA-446A81CF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3D442-B3A7-4E89-A5E7-9C21E412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839AD-71AB-476E-A700-F286A0C8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BCCB-B1B5-4FB2-B966-03D42415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B4DBC-573E-4B12-B5DF-69E0DC4F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A409C-BB09-4BED-A77B-0845AA87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7581-47A8-4D31-9E9C-D63FBD15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32848-9C65-4219-A32A-E9BF1ACC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4EB-4C7A-4529-8E95-2D80BC8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542EF-E58A-4BF0-A185-50D3BDC0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D306-48CF-4763-8237-1F86894E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6E18A-1B61-417A-B0C5-AD1B4414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9A444-A998-43A1-9958-1D07C7D9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ABC3-C52F-453F-843B-FA3A1294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E369E-315D-40AF-9A8C-16E78FDE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65DA4-9BD4-47B6-879A-391BEC6E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5EB6-FB56-4B67-8C6F-B519D5CC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BFBD4-9BDE-4CB9-9299-F4B8C865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48E7D-23EF-488A-925A-05CE8B9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E76-1C4F-4628-A7E8-860513B4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FA2A9-219C-4B24-B5F9-1F34687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3B040-CCED-4C94-8926-5695ED92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5561C-400F-4D1A-AAC7-3E3AA68A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6E708-B840-4891-ACD9-F777857E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A921C-338E-4EA9-9955-0E49B8CE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C7F5F-9CF5-4784-901F-53E4FD98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E3504-E6A5-4362-91AC-46DD9664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AB67A-7D8B-4CD4-A85D-49741AC2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BC450-3F7D-49A6-9CA3-027967E9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C29DC-4832-4534-B3D9-4F9F2347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04B-3406-45A5-B211-44E84B90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5E087-0939-44F8-BC14-86F9294E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5D054-0991-441C-8C3E-341DC204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99AF-78DC-478B-8986-B10DD9C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20152-F929-49D3-844F-55A8A2C7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1CAA-8E34-49ED-8D68-EF8ACC91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326F-D3C4-40FF-8AB8-1DA809D6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7E410-078C-403F-AAF9-F7DDD96E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A4141-2CDA-471B-91AE-47EAF504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9517E-79F6-4FDD-A050-B4433841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CF565-7EB2-4D17-B227-C94F3569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5A28-4AB8-4DC3-A68D-B0A035AF3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FA36-7D0C-4038-9884-4EE88F5A033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8618-A464-42F9-8BD1-AE50BDC3048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BEB5-8801-4061-9A4F-D8AB3E717F8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1359-8BE0-460A-8A1B-9DDC74C75E5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259D-9BD0-466A-8F28-FE352C97E66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E678-ACCB-40A9-8183-5ACF2A90DFD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B21E-AF20-43B3-907B-BCC95A70190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FB03-365F-4ED4-8E32-F78B02A7EB7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83DF-32A2-4625-AD1A-5CE4081F5B2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7720" y="9144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 проходив Віденський конг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і були рішення Віденського конгресу по відношенню до Італ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іть одне з основних завдань революції 1848 р. в Італі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http://bse.sci-lib.com/a_pictures/05/08/214887412.jpg"/>
          <p:cNvPicPr/>
          <p:nvPr/>
        </p:nvPicPr>
        <p:blipFill>
          <a:blip r:embed="rId1"/>
          <a:stretch/>
        </p:blipFill>
        <p:spPr>
          <a:xfrm>
            <a:off x="4937040" y="1359000"/>
            <a:ext cx="3541680" cy="47797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3"/>
          <p:cNvSpPr/>
          <p:nvPr/>
        </p:nvSpPr>
        <p:spPr>
          <a:xfrm>
            <a:off x="228600" y="4572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один із  лідерів визвольного р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1510920" y="304920"/>
            <a:ext cx="54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Гарібальді Джузепп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2209680" y="19051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928800"/>
            <a:ext cx="3806640" cy="528624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"/>
          <p:cNvSpPr/>
          <p:nvPr/>
        </p:nvSpPr>
        <p:spPr>
          <a:xfrm>
            <a:off x="4114800" y="100008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ранко -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сь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австрійська війн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олилиния 4"/>
          <p:cNvSpPr/>
          <p:nvPr/>
        </p:nvSpPr>
        <p:spPr>
          <a:xfrm>
            <a:off x="863640" y="1415880"/>
            <a:ext cx="630360" cy="712800"/>
          </a:xfrm>
          <a:prstGeom prst="pie">
            <a:avLst/>
          </a:prstGeom>
          <a:solidFill>
            <a:srgbClr val="ffff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олилиния 6"/>
          <p:cNvSpPr/>
          <p:nvPr/>
        </p:nvSpPr>
        <p:spPr>
          <a:xfrm>
            <a:off x="1440" y="1506600"/>
            <a:ext cx="530280" cy="1224000"/>
          </a:xfrm>
          <a:prstGeom prst="pie">
            <a:avLst/>
          </a:prstGeom>
          <a:solidFill>
            <a:srgbClr val="ff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Выгнутая вверх стрелка 7"/>
          <p:cNvSpPr/>
          <p:nvPr/>
        </p:nvSpPr>
        <p:spPr>
          <a:xfrm>
            <a:off x="214200" y="1214280"/>
            <a:ext cx="1500480" cy="571680"/>
          </a:xfrm>
          <a:custGeom>
            <a:avLst/>
            <a:gdLst>
              <a:gd name="textAreaLeft" fmla="*/ 321480 w 1500480"/>
              <a:gd name="textAreaRight" fmla="*/ 1107720 w 150048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право с вырезом 8"/>
          <p:cNvSpPr/>
          <p:nvPr/>
        </p:nvSpPr>
        <p:spPr>
          <a:xfrm rot="20520000">
            <a:off x="558720" y="1920600"/>
            <a:ext cx="1381320" cy="317520"/>
          </a:xfrm>
          <a:custGeom>
            <a:avLst/>
            <a:gdLst>
              <a:gd name="textAreaLeft" fmla="*/ 79200 w 1381320"/>
              <a:gd name="textAreaRight" fmla="*/ 1302120 w 1381320"/>
              <a:gd name="textAreaTop" fmla="*/ 79200 h 317520"/>
              <a:gd name="textAreaBottom" fmla="*/ 238320 h 31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17" y="5400"/>
                </a:lnTo>
                <a:lnTo>
                  <a:pt x="19117" y="0"/>
                </a:lnTo>
                <a:lnTo>
                  <a:pt x="21600" y="10800"/>
                </a:lnTo>
                <a:lnTo>
                  <a:pt x="19117" y="21600"/>
                </a:lnTo>
                <a:lnTo>
                  <a:pt x="19117" y="16200"/>
                </a:lnTo>
                <a:lnTo>
                  <a:pt x="0" y="16200"/>
                </a:lnTo>
                <a:lnTo>
                  <a:pt x="12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4624200" y="23572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 отримує Ломбард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4929120" y="3643200"/>
            <a:ext cx="3888000" cy="264348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1"/>
          <p:cNvSpPr/>
          <p:nvPr/>
        </p:nvSpPr>
        <p:spPr>
          <a:xfrm rot="4080000">
            <a:off x="-104040" y="2113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1214280"/>
            <a:ext cx="3424320" cy="47563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3786120" y="142884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лоренція,Модена , Парма приєднуются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олилиния 5"/>
          <p:cNvSpPr/>
          <p:nvPr/>
        </p:nvSpPr>
        <p:spPr>
          <a:xfrm>
            <a:off x="1168560" y="2576520"/>
            <a:ext cx="544320" cy="673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олилиния 6"/>
          <p:cNvSpPr/>
          <p:nvPr/>
        </p:nvSpPr>
        <p:spPr>
          <a:xfrm>
            <a:off x="1081080" y="2330280"/>
            <a:ext cx="412920" cy="32256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олилиния 7"/>
          <p:cNvSpPr/>
          <p:nvPr/>
        </p:nvSpPr>
        <p:spPr>
          <a:xfrm>
            <a:off x="965160" y="2227320"/>
            <a:ext cx="357120" cy="334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Рисунок2"/>
          <p:cNvPicPr/>
          <p:nvPr/>
        </p:nvPicPr>
        <p:blipFill>
          <a:blip r:embed="rId2"/>
          <a:stretch/>
        </p:blipFill>
        <p:spPr>
          <a:xfrm>
            <a:off x="4500720" y="3429000"/>
            <a:ext cx="4000320" cy="2684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7" descr="Рисунок2"/>
          <p:cNvPicPr/>
          <p:nvPr/>
        </p:nvPicPr>
        <p:blipFill>
          <a:blip r:embed="rId1"/>
          <a:stretch/>
        </p:blipFill>
        <p:spPr>
          <a:xfrm>
            <a:off x="6858000" y="4145040"/>
            <a:ext cx="2071800" cy="2539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97" name="Рисунок 4" descr=""/>
          <p:cNvPicPr/>
          <p:nvPr/>
        </p:nvPicPr>
        <p:blipFill>
          <a:blip r:embed="rId2"/>
          <a:srcRect l="0" t="0" r="70" b="-13"/>
          <a:stretch/>
        </p:blipFill>
        <p:spPr>
          <a:xfrm>
            <a:off x="142920" y="911160"/>
            <a:ext cx="3643200" cy="505944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4634280" y="12142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0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овстання в Палер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4426560" y="2000160"/>
            <a:ext cx="412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Експедиція “червоної тисяч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ж. Гарібальді до Сицилії та пів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Рисунок5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572000" y="4000680"/>
            <a:ext cx="4572000" cy="2714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01" name="TextBox 7"/>
          <p:cNvSpPr/>
          <p:nvPr/>
        </p:nvSpPr>
        <p:spPr>
          <a:xfrm>
            <a:off x="358920" y="607212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ходження півдня Італії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олилиния 8"/>
          <p:cNvSpPr/>
          <p:nvPr/>
        </p:nvSpPr>
        <p:spPr>
          <a:xfrm>
            <a:off x="1903320" y="2868480"/>
            <a:ext cx="1889280" cy="24638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Стрелка вниз 9"/>
          <p:cNvSpPr/>
          <p:nvPr/>
        </p:nvSpPr>
        <p:spPr>
          <a:xfrm rot="21000000">
            <a:off x="1719000" y="3149640"/>
            <a:ext cx="214200" cy="1714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3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3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143000"/>
            <a:ext cx="3652920" cy="5072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6286680" y="2428920"/>
            <a:ext cx="2071440" cy="33559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4466880" y="128592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7 березня 1861 р. – проголош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королівст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5513400" y="594360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Король Віктор Еммануїл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6"/>
          <p:cNvSpPr/>
          <p:nvPr/>
        </p:nvSpPr>
        <p:spPr>
          <a:xfrm>
            <a:off x="1158840" y="2200320"/>
            <a:ext cx="862200" cy="112248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олилиния 8"/>
          <p:cNvSpPr/>
          <p:nvPr/>
        </p:nvSpPr>
        <p:spPr>
          <a:xfrm>
            <a:off x="1123920" y="2170080"/>
            <a:ext cx="876240" cy="117792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олилиния 9"/>
          <p:cNvSpPr/>
          <p:nvPr/>
        </p:nvSpPr>
        <p:spPr>
          <a:xfrm>
            <a:off x="2048040" y="3141720"/>
            <a:ext cx="1868400" cy="24336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олилиния 10"/>
          <p:cNvSpPr/>
          <p:nvPr/>
        </p:nvSpPr>
        <p:spPr>
          <a:xfrm>
            <a:off x="372960" y="1608120"/>
            <a:ext cx="1249560" cy="113508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703440" y="3773520"/>
            <a:ext cx="545760" cy="968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олилиния 12"/>
          <p:cNvSpPr/>
          <p:nvPr/>
        </p:nvSpPr>
        <p:spPr>
          <a:xfrm>
            <a:off x="1635120" y="2238480"/>
            <a:ext cx="841320" cy="1060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2000160" y="3786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4"/>
          <p:cNvSpPr/>
          <p:nvPr/>
        </p:nvSpPr>
        <p:spPr>
          <a:xfrm rot="1860000">
            <a:off x="878760" y="29365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2563560" y="21420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14200" y="1214280"/>
            <a:ext cx="3446640" cy="47865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3"/>
          <p:cNvSpPr/>
          <p:nvPr/>
        </p:nvSpPr>
        <p:spPr>
          <a:xfrm>
            <a:off x="4216320" y="1285920"/>
            <a:ext cx="44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6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руссько-австрійськая 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Выгнутая вверх стрелка 4"/>
          <p:cNvSpPr/>
          <p:nvPr/>
        </p:nvSpPr>
        <p:spPr>
          <a:xfrm rot="4320000">
            <a:off x="1413720" y="1421280"/>
            <a:ext cx="642960" cy="285840"/>
          </a:xfrm>
          <a:custGeom>
            <a:avLst/>
            <a:gdLst>
              <a:gd name="textAreaLeft" fmla="*/ 133920 w 642960"/>
              <a:gd name="textAreaRight" fmla="*/ 473400 w 6429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0" hR="21600" stAng="10800000" swAng="5400000"/>
                <a:lnTo>
                  <a:pt x="11400" y="0"/>
                </a:lnTo>
                <a:arcTo wR="9000" hR="21600" stAng="-5400000" swAng="3492867"/>
                <a:lnTo>
                  <a:pt x="21314" y="16200"/>
                </a:lnTo>
                <a:lnTo>
                  <a:pt x="19200" y="21600"/>
                </a:lnTo>
                <a:lnTo>
                  <a:pt x="16514" y="16200"/>
                </a:lnTo>
                <a:lnTo>
                  <a:pt x="17714" y="16200"/>
                </a:lnTo>
                <a:arcTo wR="9000" hR="21600" stAng="-1907133" swAng="-3300361"/>
                <a:lnTo>
                  <a:pt x="10200" y="193"/>
                </a:lnTo>
                <a:arcTo wR="9000" hR="21600" stAng="-5592505" swAng="-5207495"/>
                <a:close/>
              </a:path>
              <a:path fill="darkenLess" w="21600" h="21600">
                <a:moveTo>
                  <a:pt x="0" y="21600"/>
                </a:moveTo>
                <a:arcTo wR="9000" hR="21600" stAng="10800000" swAng="5400000"/>
                <a:lnTo>
                  <a:pt x="9000" y="0"/>
                </a:lnTo>
                <a:arcTo wR="9000" hR="21600" stAng="-5400000" swAng="192505"/>
                <a:lnTo>
                  <a:pt x="10200" y="193"/>
                </a:lnTo>
                <a:arcTo wR="9000" hR="21600" stAng="-5592505" swAng="-5207495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олилиния 5"/>
          <p:cNvSpPr/>
          <p:nvPr/>
        </p:nvSpPr>
        <p:spPr>
          <a:xfrm>
            <a:off x="291960" y="1685880"/>
            <a:ext cx="1563840" cy="1558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олилиния 6"/>
          <p:cNvSpPr/>
          <p:nvPr/>
        </p:nvSpPr>
        <p:spPr>
          <a:xfrm>
            <a:off x="601560" y="3683160"/>
            <a:ext cx="544680" cy="9032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олилиния 7"/>
          <p:cNvSpPr/>
          <p:nvPr/>
        </p:nvSpPr>
        <p:spPr>
          <a:xfrm>
            <a:off x="1893960" y="3049560"/>
            <a:ext cx="1795320" cy="233208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5315760" y="21430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5021280" y="292896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ередача Вене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олилиния 10"/>
          <p:cNvSpPr/>
          <p:nvPr/>
        </p:nvSpPr>
        <p:spPr>
          <a:xfrm>
            <a:off x="1330200" y="1712880"/>
            <a:ext cx="636840" cy="604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олилиния 11"/>
          <p:cNvSpPr/>
          <p:nvPr/>
        </p:nvSpPr>
        <p:spPr>
          <a:xfrm>
            <a:off x="2790720" y="1236600"/>
            <a:ext cx="700200" cy="565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12"/>
          <p:cNvSpPr/>
          <p:nvPr/>
        </p:nvSpPr>
        <p:spPr>
          <a:xfrm>
            <a:off x="1465200" y="2303640"/>
            <a:ext cx="804960" cy="887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6" descr="Рисунок3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429080" y="3786120"/>
            <a:ext cx="4349880" cy="2786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29" name="Прямоугольник 14"/>
          <p:cNvSpPr/>
          <p:nvPr/>
        </p:nvSpPr>
        <p:spPr>
          <a:xfrm rot="1920000">
            <a:off x="795960" y="288756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Group 18" descr=""/>
          <p:cNvPicPr/>
          <p:nvPr/>
        </p:nvPicPr>
        <p:blipFill>
          <a:blip r:embed="rId3"/>
          <a:stretch/>
        </p:blipFill>
        <p:spPr>
          <a:xfrm>
            <a:off x="1560600" y="914400"/>
            <a:ext cx="48096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071720"/>
            <a:ext cx="3857400" cy="53560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3"/>
          <p:cNvSpPr/>
          <p:nvPr/>
        </p:nvSpPr>
        <p:spPr>
          <a:xfrm>
            <a:off x="4610880" y="14288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70 – 1871 рр. – Франко-прус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              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5382360" y="25718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4865040" y="3429000"/>
            <a:ext cx="35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риєднання Папської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о Італійського королі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олилиния 6"/>
          <p:cNvSpPr/>
          <p:nvPr/>
        </p:nvSpPr>
        <p:spPr>
          <a:xfrm>
            <a:off x="223920" y="1641600"/>
            <a:ext cx="431640" cy="1272960"/>
          </a:xfrm>
          <a:prstGeom prst="pie">
            <a:avLst/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Выгнутая влево стрелка 7"/>
          <p:cNvSpPr/>
          <p:nvPr/>
        </p:nvSpPr>
        <p:spPr>
          <a:xfrm rot="3000000">
            <a:off x="361080" y="997920"/>
            <a:ext cx="563760" cy="1218960"/>
          </a:xfrm>
          <a:custGeom>
            <a:avLst/>
            <a:gdLst>
              <a:gd name="textAreaLeft" fmla="*/ 75240 w 563760"/>
              <a:gd name="textAreaRight" fmla="*/ 488520 w 563760"/>
              <a:gd name="textAreaTop" fmla="*/ 251640 h 1218960"/>
              <a:gd name="textAreaBottom" fmla="*/ 89676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8" stAng="-5400000" swAng="-5400000"/>
                <a:lnTo>
                  <a:pt x="0" y="11424"/>
                </a:lnTo>
                <a:arcTo wR="21600" hR="8928" stAng="10800000" swAng="-3480481"/>
                <a:lnTo>
                  <a:pt x="16200" y="21316"/>
                </a:lnTo>
                <a:lnTo>
                  <a:pt x="21600" y="19104"/>
                </a:lnTo>
                <a:lnTo>
                  <a:pt x="16200" y="16324"/>
                </a:lnTo>
                <a:lnTo>
                  <a:pt x="16200" y="17572"/>
                </a:lnTo>
                <a:arcTo wR="21600" hR="8928" stAng="7319519" swAng="3280114"/>
                <a:lnTo>
                  <a:pt x="212" y="10176"/>
                </a:lnTo>
                <a:arcTo wR="21600" hR="8928" stAng="-10599632" swAng="5199632"/>
                <a:close/>
              </a:path>
              <a:path fill="darkenLess" w="21600" h="21600">
                <a:moveTo>
                  <a:pt x="21600" y="0"/>
                </a:moveTo>
                <a:arcTo wR="21600" hR="8928" stAng="-5400000" swAng="-5400000"/>
                <a:lnTo>
                  <a:pt x="0" y="8928"/>
                </a:lnTo>
                <a:arcTo wR="21600" hR="8928" stAng="10800000" swAng="-200368"/>
                <a:lnTo>
                  <a:pt x="212" y="10176"/>
                </a:lnTo>
                <a:arcTo wR="21600" hR="8928" stAng="-10599632" swAng="5199632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Group 18" descr=""/>
          <p:cNvPicPr/>
          <p:nvPr/>
        </p:nvPicPr>
        <p:blipFill>
          <a:blip r:embed="rId2"/>
          <a:stretch/>
        </p:blipFill>
        <p:spPr>
          <a:xfrm>
            <a:off x="274680" y="1347840"/>
            <a:ext cx="480960" cy="785880"/>
          </a:xfrm>
          <a:prstGeom prst="rect">
            <a:avLst/>
          </a:prstGeom>
          <a:ln w="0">
            <a:noFill/>
          </a:ln>
        </p:spPr>
      </p:pic>
      <p:sp>
        <p:nvSpPr>
          <p:cNvPr id="538" name="Полилиния 13"/>
          <p:cNvSpPr/>
          <p:nvPr/>
        </p:nvSpPr>
        <p:spPr>
          <a:xfrm>
            <a:off x="757080" y="3811680"/>
            <a:ext cx="543240" cy="10173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14"/>
          <p:cNvSpPr/>
          <p:nvPr/>
        </p:nvSpPr>
        <p:spPr>
          <a:xfrm>
            <a:off x="398520" y="1554120"/>
            <a:ext cx="3743280" cy="421164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15"/>
          <p:cNvSpPr/>
          <p:nvPr/>
        </p:nvSpPr>
        <p:spPr>
          <a:xfrm>
            <a:off x="1790640" y="3259080"/>
            <a:ext cx="747720" cy="6969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6"/>
          <p:cNvSpPr/>
          <p:nvPr/>
        </p:nvSpPr>
        <p:spPr>
          <a:xfrm rot="2100000">
            <a:off x="757440" y="280980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8" descr="Рисунок4"/>
          <p:cNvPicPr/>
          <p:nvPr/>
        </p:nvPicPr>
        <p:blipFill>
          <a:blip r:embed="rId3"/>
          <a:stretch/>
        </p:blipFill>
        <p:spPr>
          <a:xfrm>
            <a:off x="6000840" y="4357800"/>
            <a:ext cx="1928880" cy="2338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43" name="Полилиния 18"/>
          <p:cNvSpPr/>
          <p:nvPr/>
        </p:nvSpPr>
        <p:spPr>
          <a:xfrm>
            <a:off x="1609560" y="1554120"/>
            <a:ext cx="684360" cy="75096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олилиния 19"/>
          <p:cNvSpPr/>
          <p:nvPr/>
        </p:nvSpPr>
        <p:spPr>
          <a:xfrm>
            <a:off x="1596960" y="1622520"/>
            <a:ext cx="665280" cy="739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0"/>
          <p:cNvSpPr/>
          <p:nvPr/>
        </p:nvSpPr>
        <p:spPr>
          <a:xfrm rot="4740000">
            <a:off x="-35280" y="21841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7" descr=""/>
          <p:cNvPicPr/>
          <p:nvPr/>
        </p:nvPicPr>
        <p:blipFill>
          <a:blip r:embed="rId1"/>
          <a:stretch/>
        </p:blipFill>
        <p:spPr>
          <a:xfrm>
            <a:off x="1928880" y="1000080"/>
            <a:ext cx="5959440" cy="47149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"/>
          <p:cNvSpPr/>
          <p:nvPr/>
        </p:nvSpPr>
        <p:spPr>
          <a:xfrm>
            <a:off x="2417760" y="28584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вропа  в 1871 ро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1497600" y="585792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ява на політичній карті Європи національної держ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на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олилиния 7"/>
          <p:cNvSpPr/>
          <p:nvPr/>
        </p:nvSpPr>
        <p:spPr>
          <a:xfrm>
            <a:off x="3747960" y="4173480"/>
            <a:ext cx="1089000" cy="129528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олилиния 8"/>
          <p:cNvSpPr/>
          <p:nvPr/>
        </p:nvSpPr>
        <p:spPr>
          <a:xfrm>
            <a:off x="3772080" y="4788000"/>
            <a:ext cx="207720" cy="36360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685800" y="838080"/>
          <a:ext cx="7848720" cy="5842080"/>
        </p:xfrm>
        <a:graphic>
          <a:graphicData uri="http://schemas.openxmlformats.org/drawingml/2006/table">
            <a:tbl>
              <a:tblPr/>
              <a:tblGrid>
                <a:gridCol w="2133720"/>
                <a:gridCol w="2825640"/>
                <a:gridCol w="288936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лі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Літо 185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аємне побачення Кавура з Наполеоном ІІ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помога Франції у війні з Австріє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Черв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Мадженто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Сольфери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встрійська армія розбита. П’ємонт отримав Ломбарді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Серп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у Флоренції, Пармі та Моден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Ці області приєднані до П’ємон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97380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Травень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«Тисячі червоносорочечників» під проводом Гарібальд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 під Калатафім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ходження Сицилії до П’ємон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7 вересня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туп Гарібальді до Неапо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игнання Бурбонів з Південної Італ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голошення єдиного Італійського королів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ороль Італії – Віктор-Емануїл 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6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тало-пруссько-австрій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ключення Венеціанської області до Італійського королів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0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ранко-прус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зяття Риму королівськими війсь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енесення столиці Італійського королівства з Венеції до Ри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вершення об’єднання краї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</a:tbl>
          </a:graphicData>
        </a:graphic>
      </p:graphicFrame>
      <p:sp>
        <p:nvSpPr>
          <p:cNvPr id="552" name="TextBox 2"/>
          <p:cNvSpPr/>
          <p:nvPr/>
        </p:nvSpPr>
        <p:spPr>
          <a:xfrm>
            <a:off x="205740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Хід об'єднання Італ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Прямоугольник 6" descr=""/>
          <p:cNvPicPr/>
          <p:nvPr/>
        </p:nvPicPr>
        <p:blipFill>
          <a:blip r:embed="rId1"/>
          <a:stretch/>
        </p:blipFill>
        <p:spPr>
          <a:xfrm>
            <a:off x="622440" y="1487520"/>
            <a:ext cx="78022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50021"/>
                </a:solidFill>
                <a:latin typeface="Arial Black"/>
              </a:rPr>
              <a:t>Тестові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380880" y="458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беріть правильний варіант відповід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304920" y="1054440"/>
            <a:ext cx="83818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Яка з держав відіграла вирішальну роль в об’єднанні Італії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а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П’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ици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шим кроком до об’єднання німецьких земель була війна прот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усс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ици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му належать наступні слова: «Я докладу всі зусилля, аби перешкодити італійському руху стати революційним… 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ж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іктору Еммануїлу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К. Кав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609480" y="184068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1859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1. Р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олиця королівства Італ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1861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2. Проголошення 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1866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3. Франко-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ємонтсько-австрійська ві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1870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4. Звільнення Сицилії та Неап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Приєднання Венеції до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440280" y="68580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становіть відповідні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Прямая со стрелкой 6"/>
          <p:cNvCxnSpPr/>
          <p:nvPr/>
        </p:nvCxnSpPr>
        <p:spPr>
          <a:xfrm>
            <a:off x="1905120" y="2133360"/>
            <a:ext cx="1219680" cy="11437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59" name="Прямая со стрелкой 8"/>
          <p:cNvCxnSpPr/>
          <p:nvPr/>
        </p:nvCxnSpPr>
        <p:spPr>
          <a:xfrm>
            <a:off x="1904760" y="2666520"/>
            <a:ext cx="1143720" cy="25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0" name="Прямая со стрелкой 10"/>
          <p:cNvCxnSpPr/>
          <p:nvPr/>
        </p:nvCxnSpPr>
        <p:spPr>
          <a:xfrm>
            <a:off x="1827720" y="3276720"/>
            <a:ext cx="1220040" cy="121968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1" name="Прямая со стрелкой 12"/>
          <p:cNvCxnSpPr/>
          <p:nvPr/>
        </p:nvCxnSpPr>
        <p:spPr>
          <a:xfrm flipV="1">
            <a:off x="1827720" y="2056680"/>
            <a:ext cx="1143720" cy="198180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"/>
          <p:cNvSpPr/>
          <p:nvPr/>
        </p:nvSpPr>
        <p:spPr>
          <a:xfrm>
            <a:off x="380880" y="53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значте послідовність поді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228600" y="1371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спедиція «червоної тисячі» під керівниц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Гарібальді до Сицил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изначення прем’єр-міністром П’ємонту К. Кав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єднання Папської області до Італійського королі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юз Франції та П’ємонту проти Авст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133720" y="3886200"/>
          <a:ext cx="411480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11240"/>
                <a:gridCol w="946080"/>
                <a:gridCol w="1146240"/>
              </a:tblGrid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80880" y="230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Співвіднесіть імена історичних осі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 факти їхньої біограф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304920" y="15238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. Кав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студентом вступив до організації арбонаріїв, створив товариство «Молода Італія», що ставило за мету добитися незалежності та об’єднання країни, перетворення Італії на демократичну республіку. Він говорив: «Реформ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рава королів, революці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ь секрет народ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 легенда італійського народу, безстрашний патріот, який присвятив життя визвольній боротьбі. Одні вважали його ангелом, інші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яволом. Він був дуже популярний, під його прапором йшли битися з австрійцями всі, хто мріяв про свободу Італ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. Здобув освіту у військовій академії, але ні військова, ні придворна служба його не приваблювал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важав незалежний характер. Став уособленням п’ємонтського буржуазного дворянства. Залишивши військову службу, він повернувся до свого маєтку і перебудував господарство на капіталістичній основ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86400" y="1219320"/>
          <a:ext cx="2438280" cy="838080"/>
        </p:xfrm>
        <a:graphic>
          <a:graphicData uri="http://schemas.openxmlformats.org/drawingml/2006/table">
            <a:tbl>
              <a:tblPr/>
              <a:tblGrid>
                <a:gridCol w="830160"/>
                <a:gridCol w="831960"/>
                <a:gridCol w="776160"/>
              </a:tblGrid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609480" y="1530720"/>
            <a:ext cx="7543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 Black"/>
              </a:rPr>
              <a:t>Домашнє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працювати параграф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і на запитання до нь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772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значати причини, хід та наслідки об’єднання Італії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становити хронологічну послідовність даних поді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дати характеристику політичним лідерам даного пері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вчити терміни: «помірковано-ліберальний напрям об’єднання», «революційний напрям об’єднання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лан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чини об’єднання Італ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Шляхи об’єдн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творення Італійського королі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980720"/>
            <a:ext cx="815328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Сформулюйте причини об'єднання Італії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окажіть на карті держави, на які була поділена Італ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4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3500280" cy="48099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2"/>
          <p:cNvSpPr/>
          <p:nvPr/>
        </p:nvSpPr>
        <p:spPr>
          <a:xfrm>
            <a:off x="2918160" y="21420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Об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’</a:t>
            </a: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єднання Італ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"/>
          <p:cNvSpPr/>
          <p:nvPr/>
        </p:nvSpPr>
        <p:spPr>
          <a:xfrm>
            <a:off x="1371600" y="59292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1859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"/>
          <p:cNvSpPr/>
          <p:nvPr/>
        </p:nvSpPr>
        <p:spPr>
          <a:xfrm>
            <a:off x="4941360" y="1071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1. Неаполіт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4840200" y="17146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2. Папськ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5016960" y="228600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Герцогства 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                           </a:t>
            </a: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3. Тос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7"/>
          <p:cNvSpPr/>
          <p:nvPr/>
        </p:nvSpPr>
        <p:spPr>
          <a:xfrm>
            <a:off x="6880680" y="2857680"/>
            <a:ext cx="10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b050"/>
                </a:solidFill>
                <a:latin typeface="Arial Black"/>
              </a:rPr>
              <a:t>4. Лу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873840" y="38577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2d050"/>
                </a:solidFill>
                <a:latin typeface="Arial Black"/>
              </a:rPr>
              <a:t>6. Па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873840" y="342900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 Black"/>
              </a:rPr>
              <a:t>5.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4895640" y="4572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7. П</a:t>
            </a: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5042880" y="528624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8. Венеці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     </a:t>
            </a:r>
            <a:r>
              <a:rPr b="0" lang="uk-UA" sz="1600" spc="-1" strike="noStrike">
                <a:solidFill>
                  <a:srgbClr val="438086"/>
                </a:solidFill>
                <a:latin typeface="Arial Black"/>
              </a:rPr>
              <a:t>(у складі Австрійської імперії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733320" y="278604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8 держ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13"/>
          <p:cNvSpPr/>
          <p:nvPr/>
        </p:nvSpPr>
        <p:spPr>
          <a:xfrm>
            <a:off x="1847880" y="2635200"/>
            <a:ext cx="1835280" cy="2262240"/>
          </a:xfrm>
          <a:prstGeom prst="pie">
            <a:avLst/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олилиния 14"/>
          <p:cNvSpPr/>
          <p:nvPr/>
        </p:nvSpPr>
        <p:spPr>
          <a:xfrm>
            <a:off x="1506600" y="1841400"/>
            <a:ext cx="839880" cy="1519200"/>
          </a:xfrm>
          <a:prstGeom prst="pie">
            <a:avLst/>
          </a:prstGeom>
          <a:solidFill>
            <a:srgbClr val="ffffff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олилиния 15"/>
          <p:cNvSpPr/>
          <p:nvPr/>
        </p:nvSpPr>
        <p:spPr>
          <a:xfrm>
            <a:off x="1378080" y="2173320"/>
            <a:ext cx="501480" cy="782640"/>
          </a:xfrm>
          <a:prstGeom prst="pie">
            <a:avLst/>
          </a:prstGeom>
          <a:solidFill>
            <a:srgbClr val="ffc00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олилиния 16"/>
          <p:cNvSpPr/>
          <p:nvPr/>
        </p:nvSpPr>
        <p:spPr>
          <a:xfrm>
            <a:off x="1287360" y="2139840"/>
            <a:ext cx="387360" cy="333360"/>
          </a:xfrm>
          <a:prstGeom prst="pie">
            <a:avLst/>
          </a:prstGeom>
          <a:solidFill>
            <a:srgbClr val="00b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олилиния 17"/>
          <p:cNvSpPr/>
          <p:nvPr/>
        </p:nvSpPr>
        <p:spPr>
          <a:xfrm>
            <a:off x="1157400" y="1851120"/>
            <a:ext cx="465120" cy="353880"/>
          </a:xfrm>
          <a:prstGeom prst="pie">
            <a:avLst/>
          </a:prstGeom>
          <a:solidFill>
            <a:srgbClr val="00206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8"/>
          <p:cNvSpPr/>
          <p:nvPr/>
        </p:nvSpPr>
        <p:spPr>
          <a:xfrm>
            <a:off x="1068480" y="1758960"/>
            <a:ext cx="344520" cy="304920"/>
          </a:xfrm>
          <a:prstGeom prst="pie">
            <a:avLst/>
          </a:prstGeom>
          <a:solidFill>
            <a:srgbClr val="92d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олилиния 19"/>
          <p:cNvSpPr/>
          <p:nvPr/>
        </p:nvSpPr>
        <p:spPr>
          <a:xfrm>
            <a:off x="695160" y="3208320"/>
            <a:ext cx="476280" cy="90000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олилиния 20"/>
          <p:cNvSpPr/>
          <p:nvPr/>
        </p:nvSpPr>
        <p:spPr>
          <a:xfrm>
            <a:off x="450720" y="1224000"/>
            <a:ext cx="1068480" cy="103032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олилиния 21"/>
          <p:cNvSpPr/>
          <p:nvPr/>
        </p:nvSpPr>
        <p:spPr>
          <a:xfrm>
            <a:off x="1424160" y="1247760"/>
            <a:ext cx="601560" cy="619200"/>
          </a:xfrm>
          <a:prstGeom prst="pie">
            <a:avLst/>
          </a:prstGeom>
          <a:solidFill>
            <a:srgbClr val="438086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Революційно-демократич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революційні демократи, що спиралися на ремісників,селян,інтелігенцію обстоювали революційний шлях об’єднання країни в єдину демократичну республіку. Визначними представниками цього табору були Мадзіні та Гарібальд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Помірковано-лібераль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представляв інтереси ліберального дворянства і буржуазії, орієнтувалися на об’єднання під владою конституційного монарха, головне місце займав економічно розвинений П’ємонт. Лідер течії граф К. Кавур, який вважав що об’єднання країни має здійснитися «Зверху» під владою Віктора-Емануїла І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4"/>
          <p:cNvSpPr/>
          <p:nvPr/>
        </p:nvSpPr>
        <p:spPr>
          <a:xfrm>
            <a:off x="4419720" y="3200400"/>
            <a:ext cx="43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Граф, італійський політичний і державний діяч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дипломатич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2514600" y="30492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Кавур Каміл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http://t0.gstatic.com/images?q=tbn:ANd9GcTwp1ld6ldVODTerVuAOFqE8PFvHIygwlJVBytwvt9g0gm0c4UzfAYEIov0"/>
          <p:cNvPicPr/>
          <p:nvPr/>
        </p:nvPicPr>
        <p:blipFill>
          <a:blip r:embed="rId1"/>
          <a:stretch/>
        </p:blipFill>
        <p:spPr>
          <a:xfrm>
            <a:off x="596880" y="1127160"/>
            <a:ext cx="35416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2"/>
          <p:cNvSpPr/>
          <p:nvPr/>
        </p:nvSpPr>
        <p:spPr>
          <a:xfrm>
            <a:off x="4114800" y="41911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революцій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http://bse.sci-lib.com/a_pictures/05/08/207658489.jpg"/>
          <p:cNvPicPr/>
          <p:nvPr/>
        </p:nvPicPr>
        <p:blipFill>
          <a:blip r:embed="rId1"/>
          <a:stretch/>
        </p:blipFill>
        <p:spPr>
          <a:xfrm>
            <a:off x="444600" y="1054080"/>
            <a:ext cx="3462120" cy="483408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4"/>
          <p:cNvSpPr/>
          <p:nvPr/>
        </p:nvSpPr>
        <p:spPr>
          <a:xfrm>
            <a:off x="2284200" y="30492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Мадзіні  Джузеппе</a:t>
            </a:r>
            <a:r>
              <a:rPr b="0" i="1" lang="uk-UA" sz="4000" spc="-1" strike="noStrike">
                <a:solidFill>
                  <a:srgbClr val="000099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School</cp:lastModifiedBy>
  <dcterms:modified xsi:type="dcterms:W3CDTF">2012-12-10T10:05:3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2a000000000001024140</vt:lpwstr>
  </property>
  <property fmtid="{D5CDD505-2E9C-101B-9397-08002B2CF9AE}" pid="3" name="Version">
    <vt:r8>1</vt:r8>
  </property>
</Properties>
</file>