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8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0.png" ContentType="image/png"/>
  <Override PartName="/ppt/media/image3.png" ContentType="image/png"/>
  <Override PartName="/ppt/media/image1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7A7-5A48-4CED-B93F-C149440D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0F3-A3DD-4934-838D-16D170D3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17295-F762-4AB1-93C0-FE8C5C7D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B2D1B-C897-4E86-B8CB-7C7D6034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BCAA8-F5E2-48B2-8CA6-64FAA1BF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F1B27-FCAE-42AA-B310-03ED4776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68A2A-908D-4E6F-A354-EB325846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13C86-09B6-4D39-85E9-3B428720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BD0AD-2090-43CD-8DBF-CC0CE49A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1D4BA-7400-44AB-B31B-58489654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73F0C-DE5A-4F66-A6CF-BECC8468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07A19-CD16-424C-921A-EB51AC4C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C59-3056-449C-8B35-1D6A3FA4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1488C-842B-4F70-A78F-CCD1096D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5B118-FA48-49BB-A4B8-BEE2636B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4013A-3090-4F4C-98CE-3DC05742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5B59F-D272-406D-A8AE-0776114D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9B7AE-806E-4957-AAC9-7361C85D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3C104-A233-464F-B656-283508B4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2E04B-821D-421B-9869-3AE7D755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D0769-EE1E-49ED-89C1-4B970CE7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2FF4E-F725-4B0E-84D3-96B15725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03AAF-BB81-460C-8F5B-BBFEA8AF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E47-97DD-4145-B8CB-C372D70F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ED22E-1650-47A3-B198-5E1F1D7C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6C91-E68B-4D5B-8852-C7303435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9A7C-5156-4B28-958D-697B1953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01C7-6DBA-4C61-A251-D645C2AF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2D52-E44B-4AFF-A08A-B06C0504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CFFF-84E9-495C-B3A0-0B2B5CEA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54DF-FE4F-4760-9D97-77D06AED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5004-EB8F-4CC8-AC7F-EF49818F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A75-5452-4627-AC60-EF4805AA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7343-D8DD-4A71-BC00-943617A9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CC6E-BE30-407F-A305-A3C4E2E5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118D-64C9-4D61-B8C2-7143F092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B4FE-B587-477B-BB10-6AC25935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5842-8E93-4C4F-8592-7FEE1818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F23A-6DF6-4691-996C-D39883C0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9F1A-455F-457B-8F1F-B8F56E9C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1E78-F8E1-42FE-9177-7F68CD75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AAE58-FC55-41F9-BB25-EA5B2E86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210B-0CDB-4519-88CC-8FAB63FB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48E-CA50-40D8-9434-16D36B14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93F7-DD73-4745-91F1-43FDDCD9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A800-4FFE-41B3-98D6-B8EC398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28F3-2EE2-4326-82CD-718C60E0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A485-CCE7-4B68-B970-82FFC95D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D1F4-E344-40C5-8146-E6FD6BB6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87F2-C5E6-4A90-99F2-243E43BB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2398-E329-4014-8091-8AF0ACF6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218BF-98FE-446B-9633-250EFAF3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63F22-6E8F-4E39-8E30-B3E1E371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B6083-9105-4F3B-9665-8223C831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535-0830-48A0-9D6C-917FD467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41F2E-92FA-4EE5-A6F8-5E65452D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B6776-DD11-49C0-A8CA-C914300F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7CFA8-4787-4A83-BBCB-2CF8B81E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311FB-093F-4BE4-AE61-4741969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5AB04-6EEF-4B27-993A-9D80CBED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D91E6-8945-47E5-8FEF-A166B1A8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C4B20-FA54-482D-A230-BA889578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BF3C7-A1CB-49EE-9985-25D884F6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522E0-FCD3-4217-8AFF-2C5AF68F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7F9AF-3E2E-45EA-91FE-353F241C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AD7-F05C-4BF2-B844-1E6C42AD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BAA66-A712-4874-92FE-ACCE9A69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827D4-9294-4523-948D-0CEC770C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5CDDF-5450-494A-80DC-E44D9FB7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C17C8-EC53-4CEE-BD35-30BBB0E5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D5D3D-9846-44A7-9CDC-149BCD00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0BF9C-955E-4DE2-91AF-C136D672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4EC35-13B5-4989-84A9-A24CD5A2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445BE-3177-41A3-82E6-2089EF5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9A39A-574D-47F5-A28D-30E0E7DA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B2FE6-4194-4D1E-A164-84DBE180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0EA-7D3B-44CA-A410-4BB050E9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AC7BC-5D5D-469C-971F-F98B40AD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D24ED-923E-4A2D-B957-23D7CDB4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A55BF-8220-4FEC-B114-57987EC8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25844-E742-4D02-B048-261096B2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ED72C-C209-478D-BA20-1E2E5A3F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5A5F5-6E73-4A99-B914-4CEE1F7E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CCD78-EE40-4111-B03A-A7006F7C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B9E97-9A22-469D-B212-B2D8E760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681A6-FB40-41A0-BDE6-90EFFBD2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F5331-854E-4332-8CAB-30D21F22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25C-0D86-4115-AE4B-14CF2C2B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26036-0731-47BE-BA30-FE532A81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2ED33-4A4B-4607-94DB-B66B0232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C6C88-DD7B-411C-88DC-1EA57841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B255D-EF3A-4B45-A1C0-70ABFBF4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284CD-0F08-459C-B6A2-D8F607E8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D9CA4-E86F-4EB6-AA99-46623413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73973-6510-4A8C-AD72-211B3E94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FAB66-A422-4B1A-B002-AF39DEB2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0370A-F5CE-4343-84BA-94F5B356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BA425-0322-4B0C-909C-85AE71ED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D43-6C94-4584-9579-16CEB497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FC89E-65C8-4570-BA10-0362FE6C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CE4F2-91AE-4601-9B28-5D279328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2DE8B-7256-4ABB-8E55-9852D4C3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D9662-3792-4F84-AABC-FB4E6DCE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DA9C2-B57C-4D90-BCCD-87C73060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91C2F-B994-4D87-8546-8F1A9B03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A7464-386B-425F-80A4-F6FF48E7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12F0B-A543-4F34-B340-AAAEC213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2D531-9F63-437B-9AEB-DED87BF9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D9FDF-52E8-4F39-BB62-FCDE5736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368-C53A-4F7A-AA29-0543C3AA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16A88-3B69-41F3-AB4E-385A9C33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B6887-773C-428D-9446-B37F3C3F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08225-882B-4401-A153-E87319ED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50D4F-9670-4C51-964E-2299C51B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F4FB0-CBBD-4E07-92FA-870989C4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BF4D0-2CE5-4A94-8954-72ED4B9E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FC81F-6CC0-404C-B131-9188772D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B3445-4330-4514-80EE-36167169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6DEE6-DE9E-4F3A-992D-55A8E0CF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DB193-D61B-4A80-BA39-50FDF0A1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1A3E-E6B7-468C-A7FB-9AFFD8FFC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553F-C666-435D-BBB1-F2CE05057D2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DEA0-AEF7-4ECA-B530-76F78EB4427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1182-AC99-41D2-A7BE-58F439F4D0E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BC4E-34CD-4885-AEA5-A4B72D651EA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6BFF-B88E-4510-88E6-BF288DC6A71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305C-DFC9-4622-A41A-D5086A7910E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661F-BB73-439B-9EC5-360966DDBE9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05AD-5055-4793-A31C-876A87FB244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3189-6A01-45E5-B498-4BD6158B549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7720" y="9144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 проходив Віденський конг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кі були рішення Віденського конгресу по відношенню до Італії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іть одне з основних завдань революції 1848 р. в Італі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http://bse.sci-lib.com/a_pictures/05/08/214887412.jpg"/>
          <p:cNvPicPr/>
          <p:nvPr/>
        </p:nvPicPr>
        <p:blipFill>
          <a:blip r:embed="rId1"/>
          <a:stretch/>
        </p:blipFill>
        <p:spPr>
          <a:xfrm>
            <a:off x="4937040" y="1359000"/>
            <a:ext cx="3541680" cy="477972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3"/>
          <p:cNvSpPr/>
          <p:nvPr/>
        </p:nvSpPr>
        <p:spPr>
          <a:xfrm>
            <a:off x="228600" y="45720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Італійський революціонер, один із  лідерів визвольного ру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1510920" y="304920"/>
            <a:ext cx="549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Гарібальді Джузепп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1"/>
          <p:cNvSpPr/>
          <p:nvPr/>
        </p:nvSpPr>
        <p:spPr>
          <a:xfrm>
            <a:off x="2209680" y="19051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Об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’</a:t>
            </a: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днання Італ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142920" y="928800"/>
            <a:ext cx="3806640" cy="528624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3"/>
          <p:cNvSpPr/>
          <p:nvPr/>
        </p:nvSpPr>
        <p:spPr>
          <a:xfrm>
            <a:off x="4114800" y="1000080"/>
            <a:ext cx="46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1859 р. – франко -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ємонтськ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австрійська війна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олилиния 4"/>
          <p:cNvSpPr/>
          <p:nvPr/>
        </p:nvSpPr>
        <p:spPr>
          <a:xfrm>
            <a:off x="863640" y="1415880"/>
            <a:ext cx="630360" cy="712800"/>
          </a:xfrm>
          <a:prstGeom prst="pie">
            <a:avLst/>
          </a:prstGeom>
          <a:solidFill>
            <a:srgbClr val="ffff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олилиния 6"/>
          <p:cNvSpPr/>
          <p:nvPr/>
        </p:nvSpPr>
        <p:spPr>
          <a:xfrm>
            <a:off x="1440" y="1506600"/>
            <a:ext cx="530280" cy="1224000"/>
          </a:xfrm>
          <a:prstGeom prst="pie">
            <a:avLst/>
          </a:prstGeom>
          <a:solidFill>
            <a:srgbClr val="ff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Выгнутая вверх стрелка 7"/>
          <p:cNvSpPr/>
          <p:nvPr/>
        </p:nvSpPr>
        <p:spPr>
          <a:xfrm>
            <a:off x="214200" y="1214280"/>
            <a:ext cx="1500480" cy="571680"/>
          </a:xfrm>
          <a:custGeom>
            <a:avLst/>
            <a:gdLst>
              <a:gd name="textAreaLeft" fmla="*/ 321480 w 1500480"/>
              <a:gd name="textAreaRight" fmla="*/ 1107720 w 150048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право с вырезом 8"/>
          <p:cNvSpPr/>
          <p:nvPr/>
        </p:nvSpPr>
        <p:spPr>
          <a:xfrm rot="20520000">
            <a:off x="558720" y="1920600"/>
            <a:ext cx="1381320" cy="317520"/>
          </a:xfrm>
          <a:custGeom>
            <a:avLst/>
            <a:gdLst>
              <a:gd name="textAreaLeft" fmla="*/ 79200 w 1381320"/>
              <a:gd name="textAreaRight" fmla="*/ 1302120 w 1381320"/>
              <a:gd name="textAreaTop" fmla="*/ 79200 h 317520"/>
              <a:gd name="textAreaBottom" fmla="*/ 238320 h 31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17" y="5400"/>
                </a:lnTo>
                <a:lnTo>
                  <a:pt x="19117" y="0"/>
                </a:lnTo>
                <a:lnTo>
                  <a:pt x="21600" y="10800"/>
                </a:lnTo>
                <a:lnTo>
                  <a:pt x="19117" y="21600"/>
                </a:lnTo>
                <a:lnTo>
                  <a:pt x="19117" y="16200"/>
                </a:lnTo>
                <a:lnTo>
                  <a:pt x="0" y="16200"/>
                </a:lnTo>
                <a:lnTo>
                  <a:pt x="12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9"/>
          <p:cNvSpPr/>
          <p:nvPr/>
        </p:nvSpPr>
        <p:spPr>
          <a:xfrm>
            <a:off x="4624200" y="235728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ємонт отримує Ломбард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4929120" y="3643200"/>
            <a:ext cx="3888000" cy="264348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1"/>
          <p:cNvSpPr/>
          <p:nvPr/>
        </p:nvSpPr>
        <p:spPr>
          <a:xfrm rot="4080000">
            <a:off x="-104040" y="2113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Фран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142920" y="1214280"/>
            <a:ext cx="3424320" cy="47563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4"/>
          <p:cNvSpPr/>
          <p:nvPr/>
        </p:nvSpPr>
        <p:spPr>
          <a:xfrm>
            <a:off x="3786120" y="142884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1859 р. – Флоренція,Модена , Парма приєднуются до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ємо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олилиния 5"/>
          <p:cNvSpPr/>
          <p:nvPr/>
        </p:nvSpPr>
        <p:spPr>
          <a:xfrm>
            <a:off x="1168560" y="2576520"/>
            <a:ext cx="544320" cy="673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олилиния 6"/>
          <p:cNvSpPr/>
          <p:nvPr/>
        </p:nvSpPr>
        <p:spPr>
          <a:xfrm>
            <a:off x="1081080" y="2330280"/>
            <a:ext cx="412920" cy="32256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олилиния 7"/>
          <p:cNvSpPr/>
          <p:nvPr/>
        </p:nvSpPr>
        <p:spPr>
          <a:xfrm>
            <a:off x="965160" y="2227320"/>
            <a:ext cx="357120" cy="3348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Рисунок2"/>
          <p:cNvPicPr/>
          <p:nvPr/>
        </p:nvPicPr>
        <p:blipFill>
          <a:blip r:embed="rId2"/>
          <a:stretch/>
        </p:blipFill>
        <p:spPr>
          <a:xfrm>
            <a:off x="4500720" y="3429000"/>
            <a:ext cx="4000320" cy="2684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3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3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7" descr="Рисунок2"/>
          <p:cNvPicPr/>
          <p:nvPr/>
        </p:nvPicPr>
        <p:blipFill>
          <a:blip r:embed="rId1"/>
          <a:stretch/>
        </p:blipFill>
        <p:spPr>
          <a:xfrm>
            <a:off x="6858000" y="4145040"/>
            <a:ext cx="2071800" cy="25398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497" name="Рисунок 4" descr=""/>
          <p:cNvPicPr/>
          <p:nvPr/>
        </p:nvPicPr>
        <p:blipFill>
          <a:blip r:embed="rId2"/>
          <a:srcRect l="0" t="0" r="70" b="-13"/>
          <a:stretch/>
        </p:blipFill>
        <p:spPr>
          <a:xfrm>
            <a:off x="142920" y="911160"/>
            <a:ext cx="3643200" cy="5059440"/>
          </a:xfrm>
          <a:prstGeom prst="rect">
            <a:avLst/>
          </a:prstGeom>
          <a:ln w="0">
            <a:noFill/>
          </a:ln>
        </p:spPr>
      </p:pic>
      <p:sp>
        <p:nvSpPr>
          <p:cNvPr id="498" name="TextBox 4"/>
          <p:cNvSpPr/>
          <p:nvPr/>
        </p:nvSpPr>
        <p:spPr>
          <a:xfrm>
            <a:off x="4634280" y="121428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60 р.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– Повстання в Палер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4426560" y="2000160"/>
            <a:ext cx="412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Експедиція “червоної тисяч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Дж. Гарібальді до Сицилії та пів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Рисунок5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572000" y="4000680"/>
            <a:ext cx="4572000" cy="2714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01" name="TextBox 7"/>
          <p:cNvSpPr/>
          <p:nvPr/>
        </p:nvSpPr>
        <p:spPr>
          <a:xfrm>
            <a:off x="358920" y="607212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Входження півдня Італії до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ємо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олилиния 8"/>
          <p:cNvSpPr/>
          <p:nvPr/>
        </p:nvSpPr>
        <p:spPr>
          <a:xfrm>
            <a:off x="1903320" y="2868480"/>
            <a:ext cx="1889280" cy="246384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Стрелка вниз 9"/>
          <p:cNvSpPr/>
          <p:nvPr/>
        </p:nvSpPr>
        <p:spPr>
          <a:xfrm rot="21000000">
            <a:off x="1719000" y="3149640"/>
            <a:ext cx="214200" cy="1714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3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30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30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85840" y="1143000"/>
            <a:ext cx="3652920" cy="5072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2"/>
          <a:stretch/>
        </p:blipFill>
        <p:spPr>
          <a:xfrm>
            <a:off x="6286680" y="2428920"/>
            <a:ext cx="2071440" cy="33559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4466880" y="128592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7 березня 1861 р. – проголош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йського королівст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5"/>
          <p:cNvSpPr/>
          <p:nvPr/>
        </p:nvSpPr>
        <p:spPr>
          <a:xfrm>
            <a:off x="5513400" y="5943600"/>
            <a:ext cx="31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Король Віктор Еммануїл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олилиния 6"/>
          <p:cNvSpPr/>
          <p:nvPr/>
        </p:nvSpPr>
        <p:spPr>
          <a:xfrm>
            <a:off x="1158840" y="2200320"/>
            <a:ext cx="862200" cy="1122480"/>
          </a:xfrm>
          <a:prstGeom prst="pie">
            <a:avLst/>
          </a:prstGeom>
          <a:noFill/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олилиния 8"/>
          <p:cNvSpPr/>
          <p:nvPr/>
        </p:nvSpPr>
        <p:spPr>
          <a:xfrm>
            <a:off x="1123920" y="2170080"/>
            <a:ext cx="876240" cy="117792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олилиния 9"/>
          <p:cNvSpPr/>
          <p:nvPr/>
        </p:nvSpPr>
        <p:spPr>
          <a:xfrm>
            <a:off x="2048040" y="3141720"/>
            <a:ext cx="1868400" cy="24336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олилиния 10"/>
          <p:cNvSpPr/>
          <p:nvPr/>
        </p:nvSpPr>
        <p:spPr>
          <a:xfrm>
            <a:off x="372960" y="1608120"/>
            <a:ext cx="1249560" cy="113508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703440" y="3773520"/>
            <a:ext cx="545760" cy="9684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олилиния 12"/>
          <p:cNvSpPr/>
          <p:nvPr/>
        </p:nvSpPr>
        <p:spPr>
          <a:xfrm>
            <a:off x="1635120" y="2238480"/>
            <a:ext cx="841320" cy="1060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3"/>
          <p:cNvSpPr/>
          <p:nvPr/>
        </p:nvSpPr>
        <p:spPr>
          <a:xfrm>
            <a:off x="2000160" y="3786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4"/>
          <p:cNvSpPr/>
          <p:nvPr/>
        </p:nvSpPr>
        <p:spPr>
          <a:xfrm rot="1860000">
            <a:off x="878760" y="293652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3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1"/>
          <p:cNvSpPr/>
          <p:nvPr/>
        </p:nvSpPr>
        <p:spPr>
          <a:xfrm>
            <a:off x="2563560" y="21420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Об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’</a:t>
            </a: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днання Італ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14200" y="1214280"/>
            <a:ext cx="3446640" cy="4786560"/>
          </a:xfrm>
          <a:prstGeom prst="rect">
            <a:avLst/>
          </a:prstGeom>
          <a:ln w="0">
            <a:noFill/>
          </a:ln>
        </p:spPr>
      </p:pic>
      <p:sp>
        <p:nvSpPr>
          <p:cNvPr id="518" name="TextBox 3"/>
          <p:cNvSpPr/>
          <p:nvPr/>
        </p:nvSpPr>
        <p:spPr>
          <a:xfrm>
            <a:off x="4216320" y="1285920"/>
            <a:ext cx="44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66 р.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– пруссько-австрійськая ві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Выгнутая вверх стрелка 4"/>
          <p:cNvSpPr/>
          <p:nvPr/>
        </p:nvSpPr>
        <p:spPr>
          <a:xfrm rot="4320000">
            <a:off x="1413720" y="1421280"/>
            <a:ext cx="642960" cy="285840"/>
          </a:xfrm>
          <a:custGeom>
            <a:avLst/>
            <a:gdLst>
              <a:gd name="textAreaLeft" fmla="*/ 133920 w 642960"/>
              <a:gd name="textAreaRight" fmla="*/ 473400 w 6429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0" hR="21600" stAng="10800000" swAng="5400000"/>
                <a:lnTo>
                  <a:pt x="11400" y="0"/>
                </a:lnTo>
                <a:arcTo wR="9000" hR="21600" stAng="-5400000" swAng="3492867"/>
                <a:lnTo>
                  <a:pt x="21314" y="16200"/>
                </a:lnTo>
                <a:lnTo>
                  <a:pt x="19200" y="21600"/>
                </a:lnTo>
                <a:lnTo>
                  <a:pt x="16514" y="16200"/>
                </a:lnTo>
                <a:lnTo>
                  <a:pt x="17714" y="16200"/>
                </a:lnTo>
                <a:arcTo wR="9000" hR="21600" stAng="-1907133" swAng="-3300361"/>
                <a:lnTo>
                  <a:pt x="10200" y="193"/>
                </a:lnTo>
                <a:arcTo wR="9000" hR="21600" stAng="-5592505" swAng="-5207495"/>
                <a:close/>
              </a:path>
              <a:path fill="darkenLess" w="21600" h="21600">
                <a:moveTo>
                  <a:pt x="0" y="21600"/>
                </a:moveTo>
                <a:arcTo wR="9000" hR="21600" stAng="10800000" swAng="5400000"/>
                <a:lnTo>
                  <a:pt x="9000" y="0"/>
                </a:lnTo>
                <a:arcTo wR="9000" hR="21600" stAng="-5400000" swAng="192505"/>
                <a:lnTo>
                  <a:pt x="10200" y="193"/>
                </a:lnTo>
                <a:arcTo wR="9000" hR="21600" stAng="-5592505" swAng="-5207495"/>
                <a:close/>
              </a:path>
            </a:pathLst>
          </a:custGeom>
          <a:solidFill>
            <a:srgbClr val="00b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олилиния 5"/>
          <p:cNvSpPr/>
          <p:nvPr/>
        </p:nvSpPr>
        <p:spPr>
          <a:xfrm>
            <a:off x="291960" y="1685880"/>
            <a:ext cx="1563840" cy="15588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олилиния 6"/>
          <p:cNvSpPr/>
          <p:nvPr/>
        </p:nvSpPr>
        <p:spPr>
          <a:xfrm>
            <a:off x="601560" y="3683160"/>
            <a:ext cx="544680" cy="90324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олилиния 7"/>
          <p:cNvSpPr/>
          <p:nvPr/>
        </p:nvSpPr>
        <p:spPr>
          <a:xfrm>
            <a:off x="1893960" y="3049560"/>
            <a:ext cx="1795320" cy="233208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5315760" y="21430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разка Авст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9"/>
          <p:cNvSpPr/>
          <p:nvPr/>
        </p:nvSpPr>
        <p:spPr>
          <a:xfrm>
            <a:off x="5021280" y="292896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ередача Венеції 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олилиния 10"/>
          <p:cNvSpPr/>
          <p:nvPr/>
        </p:nvSpPr>
        <p:spPr>
          <a:xfrm>
            <a:off x="1330200" y="1712880"/>
            <a:ext cx="636840" cy="6048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олилиния 11"/>
          <p:cNvSpPr/>
          <p:nvPr/>
        </p:nvSpPr>
        <p:spPr>
          <a:xfrm>
            <a:off x="2790720" y="1236600"/>
            <a:ext cx="700200" cy="565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олилиния 12"/>
          <p:cNvSpPr/>
          <p:nvPr/>
        </p:nvSpPr>
        <p:spPr>
          <a:xfrm>
            <a:off x="1465200" y="2303640"/>
            <a:ext cx="804960" cy="8874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6" descr="Рисунок3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429080" y="3786120"/>
            <a:ext cx="4349880" cy="2786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29" name="Прямоугольник 14"/>
          <p:cNvSpPr/>
          <p:nvPr/>
        </p:nvSpPr>
        <p:spPr>
          <a:xfrm rot="1920000">
            <a:off x="795960" y="288756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Group 18" descr=""/>
          <p:cNvPicPr/>
          <p:nvPr/>
        </p:nvPicPr>
        <p:blipFill>
          <a:blip r:embed="rId3"/>
          <a:stretch/>
        </p:blipFill>
        <p:spPr>
          <a:xfrm>
            <a:off x="1560600" y="914400"/>
            <a:ext cx="48096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85840" y="1071720"/>
            <a:ext cx="3857400" cy="5356080"/>
          </a:xfrm>
          <a:prstGeom prst="rect">
            <a:avLst/>
          </a:prstGeom>
          <a:ln w="0">
            <a:noFill/>
          </a:ln>
        </p:spPr>
      </p:pic>
      <p:sp>
        <p:nvSpPr>
          <p:cNvPr id="532" name="TextBox 3"/>
          <p:cNvSpPr/>
          <p:nvPr/>
        </p:nvSpPr>
        <p:spPr>
          <a:xfrm>
            <a:off x="4610880" y="14288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70 – 1871 рр. – Франко-прус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                                      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ві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5382360" y="25718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разка Фр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4865040" y="3429000"/>
            <a:ext cx="35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риєднання Папської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до Італійського королі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олилиния 6"/>
          <p:cNvSpPr/>
          <p:nvPr/>
        </p:nvSpPr>
        <p:spPr>
          <a:xfrm>
            <a:off x="223920" y="1641600"/>
            <a:ext cx="431640" cy="1272960"/>
          </a:xfrm>
          <a:prstGeom prst="pie">
            <a:avLst/>
          </a:pr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Выгнутая влево стрелка 7"/>
          <p:cNvSpPr/>
          <p:nvPr/>
        </p:nvSpPr>
        <p:spPr>
          <a:xfrm rot="3000000">
            <a:off x="361080" y="997920"/>
            <a:ext cx="563760" cy="1218960"/>
          </a:xfrm>
          <a:custGeom>
            <a:avLst/>
            <a:gdLst>
              <a:gd name="textAreaLeft" fmla="*/ 75240 w 563760"/>
              <a:gd name="textAreaRight" fmla="*/ 488520 w 563760"/>
              <a:gd name="textAreaTop" fmla="*/ 251640 h 1218960"/>
              <a:gd name="textAreaBottom" fmla="*/ 89676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28" stAng="-5400000" swAng="-5400000"/>
                <a:lnTo>
                  <a:pt x="0" y="11424"/>
                </a:lnTo>
                <a:arcTo wR="21600" hR="8928" stAng="10800000" swAng="-3480481"/>
                <a:lnTo>
                  <a:pt x="16200" y="21316"/>
                </a:lnTo>
                <a:lnTo>
                  <a:pt x="21600" y="19104"/>
                </a:lnTo>
                <a:lnTo>
                  <a:pt x="16200" y="16324"/>
                </a:lnTo>
                <a:lnTo>
                  <a:pt x="16200" y="17572"/>
                </a:lnTo>
                <a:arcTo wR="21600" hR="8928" stAng="7319519" swAng="3280114"/>
                <a:lnTo>
                  <a:pt x="212" y="10176"/>
                </a:lnTo>
                <a:arcTo wR="21600" hR="8928" stAng="-10599632" swAng="5199632"/>
                <a:close/>
              </a:path>
              <a:path fill="darkenLess" w="21600" h="21600">
                <a:moveTo>
                  <a:pt x="21600" y="0"/>
                </a:moveTo>
                <a:arcTo wR="21600" hR="8928" stAng="-5400000" swAng="-5400000"/>
                <a:lnTo>
                  <a:pt x="0" y="8928"/>
                </a:lnTo>
                <a:arcTo wR="21600" hR="8928" stAng="10800000" swAng="-200368"/>
                <a:lnTo>
                  <a:pt x="212" y="10176"/>
                </a:lnTo>
                <a:arcTo wR="21600" hR="8928" stAng="-10599632" swAng="5199632"/>
                <a:close/>
              </a:path>
            </a:pathLst>
          </a:custGeom>
          <a:solidFill>
            <a:srgbClr val="00b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Group 18" descr=""/>
          <p:cNvPicPr/>
          <p:nvPr/>
        </p:nvPicPr>
        <p:blipFill>
          <a:blip r:embed="rId2"/>
          <a:stretch/>
        </p:blipFill>
        <p:spPr>
          <a:xfrm>
            <a:off x="274680" y="1347840"/>
            <a:ext cx="480960" cy="785880"/>
          </a:xfrm>
          <a:prstGeom prst="rect">
            <a:avLst/>
          </a:prstGeom>
          <a:ln w="0">
            <a:noFill/>
          </a:ln>
        </p:spPr>
      </p:pic>
      <p:sp>
        <p:nvSpPr>
          <p:cNvPr id="538" name="Полилиния 13"/>
          <p:cNvSpPr/>
          <p:nvPr/>
        </p:nvSpPr>
        <p:spPr>
          <a:xfrm>
            <a:off x="757080" y="3811680"/>
            <a:ext cx="543240" cy="101736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олилиния 14"/>
          <p:cNvSpPr/>
          <p:nvPr/>
        </p:nvSpPr>
        <p:spPr>
          <a:xfrm>
            <a:off x="398520" y="1554120"/>
            <a:ext cx="3743280" cy="421164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олилиния 15"/>
          <p:cNvSpPr/>
          <p:nvPr/>
        </p:nvSpPr>
        <p:spPr>
          <a:xfrm>
            <a:off x="1790640" y="3259080"/>
            <a:ext cx="747720" cy="69696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6"/>
          <p:cNvSpPr/>
          <p:nvPr/>
        </p:nvSpPr>
        <p:spPr>
          <a:xfrm rot="2100000">
            <a:off x="757440" y="280980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8" descr="Рисунок4"/>
          <p:cNvPicPr/>
          <p:nvPr/>
        </p:nvPicPr>
        <p:blipFill>
          <a:blip r:embed="rId3"/>
          <a:stretch/>
        </p:blipFill>
        <p:spPr>
          <a:xfrm>
            <a:off x="6000840" y="4357800"/>
            <a:ext cx="1928880" cy="2338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43" name="Полилиния 18"/>
          <p:cNvSpPr/>
          <p:nvPr/>
        </p:nvSpPr>
        <p:spPr>
          <a:xfrm>
            <a:off x="1609560" y="1554120"/>
            <a:ext cx="684360" cy="750960"/>
          </a:xfrm>
          <a:prstGeom prst="pie">
            <a:avLst/>
          </a:prstGeom>
          <a:noFill/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олилиния 19"/>
          <p:cNvSpPr/>
          <p:nvPr/>
        </p:nvSpPr>
        <p:spPr>
          <a:xfrm>
            <a:off x="1596960" y="1622520"/>
            <a:ext cx="665280" cy="7398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0"/>
          <p:cNvSpPr/>
          <p:nvPr/>
        </p:nvSpPr>
        <p:spPr>
          <a:xfrm rot="4740000">
            <a:off x="-35280" y="21841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Фран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7" descr=""/>
          <p:cNvPicPr/>
          <p:nvPr/>
        </p:nvPicPr>
        <p:blipFill>
          <a:blip r:embed="rId1"/>
          <a:stretch/>
        </p:blipFill>
        <p:spPr>
          <a:xfrm>
            <a:off x="1928880" y="1000080"/>
            <a:ext cx="5959440" cy="47149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2"/>
          <p:cNvSpPr/>
          <p:nvPr/>
        </p:nvSpPr>
        <p:spPr>
          <a:xfrm>
            <a:off x="2417760" y="28584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вропа  в 1871 ро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3"/>
          <p:cNvSpPr/>
          <p:nvPr/>
        </p:nvSpPr>
        <p:spPr>
          <a:xfrm>
            <a:off x="1497600" y="585792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ява на політичній карті Європи національної держ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йського на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олилиния 7"/>
          <p:cNvSpPr/>
          <p:nvPr/>
        </p:nvSpPr>
        <p:spPr>
          <a:xfrm>
            <a:off x="3747960" y="4173480"/>
            <a:ext cx="1089000" cy="1295280"/>
          </a:xfrm>
          <a:prstGeom prst="pie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олилиния 8"/>
          <p:cNvSpPr/>
          <p:nvPr/>
        </p:nvSpPr>
        <p:spPr>
          <a:xfrm>
            <a:off x="3772080" y="4788000"/>
            <a:ext cx="207720" cy="363600"/>
          </a:xfrm>
          <a:prstGeom prst="pie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685800" y="838080"/>
          <a:ext cx="7848720" cy="5842080"/>
        </p:xfrm>
        <a:graphic>
          <a:graphicData uri="http://schemas.openxmlformats.org/drawingml/2006/table">
            <a:tbl>
              <a:tblPr/>
              <a:tblGrid>
                <a:gridCol w="2133720"/>
                <a:gridCol w="2825640"/>
                <a:gridCol w="2889360"/>
              </a:tblGrid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лід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Літо 185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аємне побачення Кавура з Наполеоном ІІ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опомога Франції у війні з Австріє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Червень 1859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під Мадженто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під Сольфери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встрійська армія розбита. П’ємонт отримав Ломбарді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Серпень 1859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встання у Флоренції, Пармі та Моден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Ці області приєднані до П’ємон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97380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Травень 186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встання «Тисячі червоносорочечників» під проводом Гарібальд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 під Калатафім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ходження Сицилії до П’ємон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7 вересня 186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ступ Гарібальді до Неапо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игнання Бурбонів з Південної Італ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61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голошення єдиного Італійського королів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ороль Італії – Віктор-Емануїл 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66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тало-пруссько-австрійська ві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ключення Венеціанської області до Італійського королів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70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ранко-прусська ві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зяття Риму королівськими війсь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71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еренесення столиці Італійського королівства з Венеції до Ри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авершення об’єднання краї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</a:tbl>
          </a:graphicData>
        </a:graphic>
      </p:graphicFrame>
      <p:sp>
        <p:nvSpPr>
          <p:cNvPr id="552" name="TextBox 2"/>
          <p:cNvSpPr/>
          <p:nvPr/>
        </p:nvSpPr>
        <p:spPr>
          <a:xfrm>
            <a:off x="205740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Хід об'єднання Італ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Прямоугольник 6" descr=""/>
          <p:cNvPicPr/>
          <p:nvPr/>
        </p:nvPicPr>
        <p:blipFill>
          <a:blip r:embed="rId1"/>
          <a:stretch/>
        </p:blipFill>
        <p:spPr>
          <a:xfrm>
            <a:off x="622440" y="1487520"/>
            <a:ext cx="78022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a50021"/>
                </a:solidFill>
                <a:latin typeface="Arial Black"/>
              </a:rPr>
              <a:t>Тестові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"/>
          <p:cNvSpPr/>
          <p:nvPr/>
        </p:nvSpPr>
        <p:spPr>
          <a:xfrm>
            <a:off x="380880" y="458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иберіть правильний варіант відповід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"/>
          <p:cNvSpPr/>
          <p:nvPr/>
        </p:nvSpPr>
        <p:spPr>
          <a:xfrm>
            <a:off x="304920" y="1054440"/>
            <a:ext cx="838188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Яка з держав відіграла вирішальну роль в об’єднанні Італії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а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 Мо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П’є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Сици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шим кроком до об’єднання німецьких земель була війна прот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р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вст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усс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ици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му належать наступні слова: «Я докладу всі зусилля, аби перешкодити італійському руху стати революційним… 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ж. Мадз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іктору Еммануїлу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ж. Гарібаль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К. Кав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"/>
          <p:cNvSpPr/>
          <p:nvPr/>
        </p:nvSpPr>
        <p:spPr>
          <a:xfrm>
            <a:off x="609480" y="1840680"/>
            <a:ext cx="8229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1859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1. Ри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олиця королівства Італ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1861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2. Проголошення  Італійського королі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1866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3. Франко-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ємонтсько-австрійська ві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1870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4. Звільнення Сицилії та Неап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Приєднання Венеції до Італійського королі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"/>
          <p:cNvSpPr/>
          <p:nvPr/>
        </p:nvSpPr>
        <p:spPr>
          <a:xfrm>
            <a:off x="440280" y="68580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становіть відповідні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Прямая со стрелкой 6"/>
          <p:cNvCxnSpPr/>
          <p:nvPr/>
        </p:nvCxnSpPr>
        <p:spPr>
          <a:xfrm>
            <a:off x="1905120" y="2133360"/>
            <a:ext cx="1219680" cy="114372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59" name="Прямая со стрелкой 8"/>
          <p:cNvCxnSpPr/>
          <p:nvPr/>
        </p:nvCxnSpPr>
        <p:spPr>
          <a:xfrm>
            <a:off x="1904760" y="2666520"/>
            <a:ext cx="1143720" cy="252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60" name="Прямая со стрелкой 10"/>
          <p:cNvCxnSpPr/>
          <p:nvPr/>
        </p:nvCxnSpPr>
        <p:spPr>
          <a:xfrm>
            <a:off x="1827720" y="3276720"/>
            <a:ext cx="1220040" cy="121968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61" name="Прямая со стрелкой 12"/>
          <p:cNvCxnSpPr/>
          <p:nvPr/>
        </p:nvCxnSpPr>
        <p:spPr>
          <a:xfrm flipV="1">
            <a:off x="1827720" y="2056680"/>
            <a:ext cx="1143720" cy="198180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"/>
          <p:cNvSpPr/>
          <p:nvPr/>
        </p:nvSpPr>
        <p:spPr>
          <a:xfrm>
            <a:off x="380880" y="53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изначте послідовність поді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"/>
          <p:cNvSpPr/>
          <p:nvPr/>
        </p:nvSpPr>
        <p:spPr>
          <a:xfrm>
            <a:off x="228600" y="1371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спедиція «червоної тисячі» під керівниц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Гарібальді до Сицил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изначення прем’єр-міністром П’ємонту К. Кав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иєднання Папської області до Італійського королі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оюз Франції та П’ємонту проти Авст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2133720" y="3886200"/>
          <a:ext cx="411480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11240"/>
                <a:gridCol w="946080"/>
                <a:gridCol w="1146240"/>
              </a:tblGrid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80880" y="2307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Співвіднесіть імена історичних осі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 факти їхньої біограф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"/>
          <p:cNvSpPr/>
          <p:nvPr/>
        </p:nvSpPr>
        <p:spPr>
          <a:xfrm>
            <a:off x="304920" y="152388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. Кав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. Мадз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ж. Гарібаль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 студентом вступив до організації арбонаріїв, створив товариство «Молода Італія», що ставило за мету добитися незалежності та об’єднання країни, перетворення Італії на демократичну республіку. Він говорив: «Реформ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рава королів, революці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ь секрет народі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 легенда італійського народу, безстрашний патріот, який присвятив життя визвольній боротьбі. Одні вважали його ангелом, інші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яволом. Він був дуже популярний, під його прапором йшли битися з австрійцями всі, хто мріяв про свободу Італ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. Здобув освіту у військовій академії, але ні військова, ні придворна служба його не приваблювал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важав незалежний характер. Став уособленням п’ємонтського буржуазного дворянства. Залишивши військову службу, він повернувся до свого маєтку і перебудував господарство на капіталістичній основ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86400" y="1219320"/>
          <a:ext cx="2438280" cy="838080"/>
        </p:xfrm>
        <a:graphic>
          <a:graphicData uri="http://schemas.openxmlformats.org/drawingml/2006/table">
            <a:tbl>
              <a:tblPr/>
              <a:tblGrid>
                <a:gridCol w="830160"/>
                <a:gridCol w="831960"/>
                <a:gridCol w="776160"/>
              </a:tblGrid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609480" y="1530720"/>
            <a:ext cx="7543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 Black"/>
              </a:rPr>
              <a:t>Домашнє зав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працювати параграф 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найти відповіді на запитання до нь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вд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7720" y="1599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изначати причини, хід та наслідки об’єднання Італії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становити хронологічну послідовність даних поді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дати характеристику політичним лідерам даного періо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ивчити терміни: «помірковано-ліберальний напрям об’єднання», «революційний напрям об’єднання»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лан уро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ичини об’єднання Італ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Шляхи об’єдн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творення Італійського королів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980720"/>
            <a:ext cx="8153280" cy="25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Сформулюйте причини об'єднання Італії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Покажіть на карті держави, на які була поділена Італі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4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3500280" cy="48099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2"/>
          <p:cNvSpPr/>
          <p:nvPr/>
        </p:nvSpPr>
        <p:spPr>
          <a:xfrm>
            <a:off x="2918160" y="21420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000"/>
                </a:solidFill>
                <a:latin typeface="Arial Black"/>
              </a:rPr>
              <a:t>Об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’</a:t>
            </a:r>
            <a:r>
              <a:rPr b="0" lang="uk-UA" sz="2800" spc="-1" strike="noStrike">
                <a:solidFill>
                  <a:srgbClr val="ffc000"/>
                </a:solidFill>
                <a:latin typeface="Arial Black"/>
              </a:rPr>
              <a:t>єднання Італ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"/>
          <p:cNvSpPr/>
          <p:nvPr/>
        </p:nvSpPr>
        <p:spPr>
          <a:xfrm>
            <a:off x="1371600" y="59292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c000"/>
                </a:solidFill>
                <a:latin typeface="Arial Black"/>
              </a:rPr>
              <a:t>1859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4"/>
          <p:cNvSpPr/>
          <p:nvPr/>
        </p:nvSpPr>
        <p:spPr>
          <a:xfrm>
            <a:off x="4941360" y="107172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1. Неаполітан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4840200" y="17146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 Black"/>
              </a:rPr>
              <a:t>2. Папськ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6"/>
          <p:cNvSpPr/>
          <p:nvPr/>
        </p:nvSpPr>
        <p:spPr>
          <a:xfrm>
            <a:off x="5016960" y="228600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Герцогства 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                            </a:t>
            </a:r>
            <a:r>
              <a:rPr b="0" lang="uk-UA" sz="1800" spc="-1" strike="noStrike">
                <a:solidFill>
                  <a:srgbClr val="ffc000"/>
                </a:solidFill>
                <a:latin typeface="Arial Black"/>
              </a:rPr>
              <a:t>3. Тос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7"/>
          <p:cNvSpPr/>
          <p:nvPr/>
        </p:nvSpPr>
        <p:spPr>
          <a:xfrm>
            <a:off x="6880680" y="2857680"/>
            <a:ext cx="10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b050"/>
                </a:solidFill>
                <a:latin typeface="Arial Black"/>
              </a:rPr>
              <a:t>4. Лук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6873840" y="38577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2d050"/>
                </a:solidFill>
                <a:latin typeface="Arial Black"/>
              </a:rPr>
              <a:t>6. Па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6873840" y="3429000"/>
            <a:ext cx="13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 Black"/>
              </a:rPr>
              <a:t>5. Мо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4895640" y="4572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Arial Black"/>
              </a:rPr>
              <a:t>7. П</a:t>
            </a:r>
            <a:r>
              <a:rPr b="0" lang="en-US" sz="1800" spc="-1" strike="noStrike">
                <a:solidFill>
                  <a:srgbClr val="7030a0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7030a0"/>
                </a:solidFill>
                <a:latin typeface="Arial Black"/>
              </a:rPr>
              <a:t>є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5042880" y="528624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438086"/>
                </a:solidFill>
                <a:latin typeface="Arial Black"/>
              </a:rPr>
              <a:t>8. Венеціан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38086"/>
                </a:solidFill>
                <a:latin typeface="Arial Black"/>
              </a:rPr>
              <a:t>     </a:t>
            </a:r>
            <a:r>
              <a:rPr b="0" lang="uk-UA" sz="1600" spc="-1" strike="noStrike">
                <a:solidFill>
                  <a:srgbClr val="438086"/>
                </a:solidFill>
                <a:latin typeface="Arial Black"/>
              </a:rPr>
              <a:t>(у складі Австрійської імперії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2"/>
          <p:cNvSpPr/>
          <p:nvPr/>
        </p:nvSpPr>
        <p:spPr>
          <a:xfrm>
            <a:off x="733320" y="278604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 Black"/>
              </a:rPr>
              <a:t>8 держ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олилиния 13"/>
          <p:cNvSpPr/>
          <p:nvPr/>
        </p:nvSpPr>
        <p:spPr>
          <a:xfrm>
            <a:off x="1847880" y="2635200"/>
            <a:ext cx="1835280" cy="2262240"/>
          </a:xfrm>
          <a:prstGeom prst="pie">
            <a:avLst/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олилиния 14"/>
          <p:cNvSpPr/>
          <p:nvPr/>
        </p:nvSpPr>
        <p:spPr>
          <a:xfrm>
            <a:off x="1506600" y="1841400"/>
            <a:ext cx="839880" cy="1519200"/>
          </a:xfrm>
          <a:prstGeom prst="pie">
            <a:avLst/>
          </a:prstGeom>
          <a:solidFill>
            <a:srgbClr val="ffffff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олилиния 15"/>
          <p:cNvSpPr/>
          <p:nvPr/>
        </p:nvSpPr>
        <p:spPr>
          <a:xfrm>
            <a:off x="1378080" y="2173320"/>
            <a:ext cx="501480" cy="782640"/>
          </a:xfrm>
          <a:prstGeom prst="pie">
            <a:avLst/>
          </a:prstGeom>
          <a:solidFill>
            <a:srgbClr val="ffc00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олилиния 16"/>
          <p:cNvSpPr/>
          <p:nvPr/>
        </p:nvSpPr>
        <p:spPr>
          <a:xfrm>
            <a:off x="1287360" y="2139840"/>
            <a:ext cx="387360" cy="333360"/>
          </a:xfrm>
          <a:prstGeom prst="pie">
            <a:avLst/>
          </a:prstGeom>
          <a:solidFill>
            <a:srgbClr val="00b05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олилиния 17"/>
          <p:cNvSpPr/>
          <p:nvPr/>
        </p:nvSpPr>
        <p:spPr>
          <a:xfrm>
            <a:off x="1157400" y="1851120"/>
            <a:ext cx="465120" cy="353880"/>
          </a:xfrm>
          <a:prstGeom prst="pie">
            <a:avLst/>
          </a:prstGeom>
          <a:solidFill>
            <a:srgbClr val="00206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8"/>
          <p:cNvSpPr/>
          <p:nvPr/>
        </p:nvSpPr>
        <p:spPr>
          <a:xfrm>
            <a:off x="1068480" y="1758960"/>
            <a:ext cx="344520" cy="304920"/>
          </a:xfrm>
          <a:prstGeom prst="pie">
            <a:avLst/>
          </a:prstGeom>
          <a:solidFill>
            <a:srgbClr val="92d05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олилиния 19"/>
          <p:cNvSpPr/>
          <p:nvPr/>
        </p:nvSpPr>
        <p:spPr>
          <a:xfrm>
            <a:off x="695160" y="3208320"/>
            <a:ext cx="476280" cy="900000"/>
          </a:xfrm>
          <a:prstGeom prst="pie">
            <a:avLst/>
          </a:prstGeom>
          <a:solidFill>
            <a:srgbClr val="7030a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олилиния 20"/>
          <p:cNvSpPr/>
          <p:nvPr/>
        </p:nvSpPr>
        <p:spPr>
          <a:xfrm>
            <a:off x="450720" y="1224000"/>
            <a:ext cx="1068480" cy="1030320"/>
          </a:xfrm>
          <a:prstGeom prst="pie">
            <a:avLst/>
          </a:prstGeom>
          <a:solidFill>
            <a:srgbClr val="7030a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олилиния 21"/>
          <p:cNvSpPr/>
          <p:nvPr/>
        </p:nvSpPr>
        <p:spPr>
          <a:xfrm>
            <a:off x="1424160" y="1247760"/>
            <a:ext cx="601560" cy="619200"/>
          </a:xfrm>
          <a:prstGeom prst="pie">
            <a:avLst/>
          </a:prstGeom>
          <a:solidFill>
            <a:srgbClr val="438086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«Революційно-демократичний»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- революційні демократи, що спиралися на ремісників,селян,інтелігенцію обстоювали революційний шлях об’єднання країни в єдину демократичну республіку. Визначними представниками цього табору були Мадзіні та Гарібальді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«Помірковано-ліберальний»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- представляв інтереси ліберального дворянства і буржуазії, орієнтувалися на об’єднання під владою конституційного монарха, головне місце займав економічно розвинений П’ємонт. Лідер течії граф К. Кавур, який вважав що об’єднання країни має здійснитися «Зверху» під владою Віктора-Емануїла ІІ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4"/>
          <p:cNvSpPr/>
          <p:nvPr/>
        </p:nvSpPr>
        <p:spPr>
          <a:xfrm>
            <a:off x="4419720" y="3200400"/>
            <a:ext cx="43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Граф, італійський політичний і державний діяч, закликав до об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’</a:t>
            </a: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єднання Італії дипломатичним шля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2514600" y="30492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Кавур Каміл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2" descr="http://t0.gstatic.com/images?q=tbn:ANd9GcTwp1ld6ldVODTerVuAOFqE8PFvHIygwlJVBytwvt9g0gm0c4UzfAYEIov0"/>
          <p:cNvPicPr/>
          <p:nvPr/>
        </p:nvPicPr>
        <p:blipFill>
          <a:blip r:embed="rId1"/>
          <a:stretch/>
        </p:blipFill>
        <p:spPr>
          <a:xfrm>
            <a:off x="596880" y="1127160"/>
            <a:ext cx="35416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2"/>
          <p:cNvSpPr/>
          <p:nvPr/>
        </p:nvSpPr>
        <p:spPr>
          <a:xfrm>
            <a:off x="4114800" y="419112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Італійський революціонер, закликав до об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’</a:t>
            </a: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єднання Італії революційним шля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http://bse.sci-lib.com/a_pictures/05/08/207658489.jpg"/>
          <p:cNvPicPr/>
          <p:nvPr/>
        </p:nvPicPr>
        <p:blipFill>
          <a:blip r:embed="rId1"/>
          <a:stretch/>
        </p:blipFill>
        <p:spPr>
          <a:xfrm>
            <a:off x="444600" y="1054080"/>
            <a:ext cx="3462120" cy="4834080"/>
          </a:xfrm>
          <a:prstGeom prst="rect">
            <a:avLst/>
          </a:prstGeom>
          <a:ln w="0">
            <a:noFill/>
          </a:ln>
        </p:spPr>
      </p:pic>
      <p:sp>
        <p:nvSpPr>
          <p:cNvPr id="476" name="Прямоугольник 4"/>
          <p:cNvSpPr/>
          <p:nvPr/>
        </p:nvSpPr>
        <p:spPr>
          <a:xfrm>
            <a:off x="2284200" y="30492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Мадзіні  Джузеппе</a:t>
            </a:r>
            <a:r>
              <a:rPr b="0" i="1" lang="uk-UA" sz="4000" spc="-1" strike="noStrike">
                <a:solidFill>
                  <a:srgbClr val="000099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School</cp:lastModifiedBy>
  <dcterms:modified xsi:type="dcterms:W3CDTF">2012-12-10T10:05:3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2a000000000001024140</vt:lpwstr>
  </property>
  <property fmtid="{D5CDD505-2E9C-101B-9397-08002B2CF9AE}" pid="3" name="Version">
    <vt:r8>1</vt:r8>
  </property>
</Properties>
</file>