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0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2DB-7719-4C1A-A3EF-D89FC901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85D-8CE8-4928-B597-A080BB45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D5EB2-E246-40C3-A8F4-FC75086F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173EF-9128-4531-9DF1-A8D8D014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33C3C-AB56-41C6-BD26-5939C86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F2CAF-E483-445B-A63F-46F54F2D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2B608-64C6-4ED1-A0D8-BC504CC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3AC33-C8AD-43C2-AB02-39E7BF5F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53248-ABFC-4DAF-8FE3-1F70EB71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F32AF-ABCD-4AF7-8773-8142B14B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CF12B-4B90-4B3C-AD55-908952D3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3266B-A7E1-4F99-8BDE-CBDB5F14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D06-152B-4666-AC9D-6386410F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88E34-722D-47D2-AE08-EA1CBA4A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347B8-97C6-4225-A90C-320BCC37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DCDFD-1610-44EE-BC10-5AB5A00B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31DCB-EFC4-4F75-ABCE-E3914F7C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EB556-7ECF-4692-8698-FAF6FA1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0F51-876F-4B36-B95F-BDA9FDD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0BA1E-FF9A-41D9-ABE4-E4711FB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DEA51-8F3A-4506-BF2D-BDC0CAC0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FE14-7B5F-463A-8770-20ED447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A5233-0C37-4108-BF52-41CC0F67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FD2-1494-4206-80F3-976E8D84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F44BE-4A5C-48EB-8772-1F51DB49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A4DE-52ED-4CC8-A4A9-357673EAC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85E2-2A78-4562-B226-470B6A8E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C87E-B76E-4007-9E08-F41BBAF2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BD97-AD50-42DE-BBAB-348044E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BD0D-A175-4C32-897A-2FACF5EA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AE91-11CF-441F-A482-B908EC36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D0C-941C-46AE-B2C1-E118B43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E09B-03EB-45F7-8410-D055B68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237-2E66-431D-869C-598F1CC5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A7F4-D38D-4E01-80CA-7010935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8D38-5CCF-4F71-9E2D-AF4080D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C517-D4EE-455A-959C-F978F26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006-2C68-477B-ACA8-2AC82C7F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8292-77A8-4397-9702-A3771EC7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9D4DC-8BFF-43BD-B839-F1DFB20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E5FF-6474-4667-A315-B266CA4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5C37-8828-45B7-9429-2728709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B2F6-6136-4208-9688-60BF1967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358-7976-495F-9F54-D609EDDA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EA4F-12DE-44FC-8D81-9B265DE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0C8B-4544-40D8-B3D0-3C35D87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DF88B-AC71-4D62-85BB-D18A87E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88DCB-7C62-46B1-9EB6-816AEDE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3F0A5-444B-439E-8DF6-91E6D7F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FEF5-2D94-46D1-BDE3-BA7D89EC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80D7-4835-47F9-9342-7ACB2055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123B-ABA7-4E19-8EAE-CD47EE87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AEA0-4457-4FC8-A54F-A7F55B8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CB99-E764-4EEF-9F8A-2222DCF8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470-0B70-45A6-98D9-0FF24A1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478D-CA71-4518-BD63-5021B9B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5603-FCB3-4CE8-9E4D-4C93E52D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43F3D-DF21-4F13-9D86-4FFC5F32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8950-A7B9-4DF3-BADB-D9D6AD4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ADDD-C4C4-46E1-8840-302D31F9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1D79-F910-4136-82C3-049C55E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9C8A4-02D1-484F-99B3-73ED543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0039-EB67-4034-B034-61ACF45D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1A89-930B-49DB-BBC0-54E234F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5BA2-D3F8-4FE8-B5F2-35579546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0E9-01E1-4046-BD0C-21A78228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A126-9128-4E1E-AFFF-F022CA6F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DB018-40EB-470C-A3AD-D04912D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A1BFC-4DBA-4F34-B23E-398CB89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EB9DE-1CED-488F-B9D1-E4E74885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9E56-A38B-470C-9E12-E6647B40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A32B-910D-452A-80BF-B0B67ABF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EAA3F-51A5-4661-B5A0-4AD4060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C9217-8001-4E66-8292-0801A47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6BC1-4F11-49B1-B08D-2D76A2F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EABEF-A513-4156-9F64-7295B262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F8E-8503-4248-9837-2E0687C7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EE3C-D851-4C3F-A6F6-9033DFC3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17A2-D774-4D8B-B39E-BABD76FE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EB49E-3EAF-4CE4-BE98-A514462A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1A1A-CB1C-4836-B76E-C48A74A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92E9-BA84-4386-A25D-4D2EDA1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5E283-1124-4F17-8C92-07BB26B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1A7CF-B13A-4DC6-BF89-794C3FC0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29B7D-D29F-4EF9-8366-5EBD4E7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ED43B-A9CC-434A-BB07-4C1FCB3D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226DE-7FE5-4EA9-AEAD-E739D47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561-FD2E-46F7-806A-FB81428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36D04-EA80-4E7D-8E74-CABF9D5B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D74D-CB54-43D7-8CD9-EB8A83A4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4100-5B9A-4C15-BDDD-066AB0AE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8EB05-EFB3-46E2-88CB-CCE2163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43877-197A-4C81-A550-FEA856DC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A68A-D11B-420D-93AF-CB56CFC4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EAA0B-5EAE-4283-86D9-130336BC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2EDA-A408-44CE-BA19-FC6294E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5B66-1CFB-4952-83DF-BEC0A6EA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4D5C2-1F4A-4D48-951A-48325D9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2D3-9530-4B08-AEA9-092BEF97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2CF87-C4F3-4685-B5BB-9DCEA2A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725C4-4CC1-4F07-9616-A6A6E79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0E3A-8015-4564-BC61-5BD07DA7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3FC4-AD3B-4D40-8018-7FA6BC36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38B83-59CA-41F9-9A48-3A47E7DB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A2EC-ED8E-4589-B738-CAD88E33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31EF-CB8B-4525-A098-85FC9EC8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D549-C0A3-4D2D-844E-7AB0A80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DA1AF-339E-4AC9-8452-5EBF418C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89E1-1C1F-4F5D-8AFA-D136358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246-6B25-42DF-AF92-D65A79DF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D2DA8-A2E3-40D2-824D-6E147D8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7B58F-5E19-43A4-A4D6-228CCB6E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50A84-9A56-4996-90CF-3C7D1DFC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2252-188A-43C2-B46F-D32CE49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B513-5105-4350-994D-C0D4D5C0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1AF8D-5ABB-438A-A91F-BD97CCFA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B246F-FDAC-41CA-937A-FDB6D4AE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7BD4B-79D7-48E3-B7D7-1BEE2365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046AD-469C-4337-AB17-8B5C4AD6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12186-9503-4BDE-AD2F-D34FA888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04F7-EB7B-4C94-A2EF-B153EF675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866-7204-491A-BE69-CCE68DD29A5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27D-27BE-4F50-8260-82C47C47C70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48B8-486C-4968-8255-10C4137B3FB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243C-99B9-463D-A16E-F4694DA206C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238C-1508-4121-8174-7323B3DCD0E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A9DB-75E9-4399-A448-66954CAA72D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95A1-D9B8-4BB0-BCEC-82B5ED40B45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57F-4010-4A56-A1C7-D0A5D3BD735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2DC-3A66-4FB8-A04C-BF8EE157D10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7720" y="9144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 проходив Віденський конг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кі були рішення Віденського конгресу по відношенню до Італ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іть одне з основних завдань революції 1848 р. в Італії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http://bse.sci-lib.com/a_pictures/05/08/214887412.jpg"/>
          <p:cNvPicPr/>
          <p:nvPr/>
        </p:nvPicPr>
        <p:blipFill>
          <a:blip r:embed="rId1"/>
          <a:stretch/>
        </p:blipFill>
        <p:spPr>
          <a:xfrm>
            <a:off x="4937040" y="1359000"/>
            <a:ext cx="3541680" cy="47797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3"/>
          <p:cNvSpPr/>
          <p:nvPr/>
        </p:nvSpPr>
        <p:spPr>
          <a:xfrm>
            <a:off x="228600" y="4572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один із  лідерів визвольного ру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1510920" y="304920"/>
            <a:ext cx="549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Гарібальді Джузепп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2209680" y="19051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928800"/>
            <a:ext cx="3806640" cy="528624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оугольник 3"/>
          <p:cNvSpPr/>
          <p:nvPr/>
        </p:nvSpPr>
        <p:spPr>
          <a:xfrm>
            <a:off x="4114800" y="1000080"/>
            <a:ext cx="46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ранко -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сь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австрійська війн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4"/>
          <p:cNvSpPr/>
          <p:nvPr/>
        </p:nvSpPr>
        <p:spPr>
          <a:xfrm>
            <a:off x="863640" y="1415880"/>
            <a:ext cx="630360" cy="712800"/>
          </a:xfrm>
          <a:prstGeom prst="pie">
            <a:avLst/>
          </a:prstGeom>
          <a:solidFill>
            <a:srgbClr val="ffff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олилиния 6"/>
          <p:cNvSpPr/>
          <p:nvPr/>
        </p:nvSpPr>
        <p:spPr>
          <a:xfrm>
            <a:off x="1440" y="1506600"/>
            <a:ext cx="530280" cy="1224000"/>
          </a:xfrm>
          <a:prstGeom prst="pie">
            <a:avLst/>
          </a:prstGeom>
          <a:solidFill>
            <a:srgbClr val="ff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Выгнутая вверх стрелка 7"/>
          <p:cNvSpPr/>
          <p:nvPr/>
        </p:nvSpPr>
        <p:spPr>
          <a:xfrm>
            <a:off x="214200" y="1214280"/>
            <a:ext cx="1500480" cy="571680"/>
          </a:xfrm>
          <a:custGeom>
            <a:avLst/>
            <a:gdLst>
              <a:gd name="textAreaLeft" fmla="*/ 321480 w 1500480"/>
              <a:gd name="textAreaRight" fmla="*/ 1107720 w 1500480"/>
              <a:gd name="textAreaTop" fmla="*/ 76320 h 571680"/>
              <a:gd name="textAreaBottom" fmla="*/ 4953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7" hR="21600" stAng="10800000" swAng="5400000"/>
                <a:lnTo>
                  <a:pt x="11315" y="0"/>
                </a:lnTo>
                <a:arcTo wR="9257" hR="21600" stAng="-5400000" swAng="3535929"/>
                <a:lnTo>
                  <a:pt x="21306" y="16200"/>
                </a:lnTo>
                <a:lnTo>
                  <a:pt x="19543" y="21600"/>
                </a:lnTo>
                <a:lnTo>
                  <a:pt x="17192" y="16200"/>
                </a:lnTo>
                <a:lnTo>
                  <a:pt x="18220" y="16200"/>
                </a:lnTo>
                <a:arcTo wR="9257" hR="21600" stAng="-1864071" swAng="-3371264"/>
                <a:lnTo>
                  <a:pt x="10286" y="134"/>
                </a:lnTo>
                <a:arcTo wR="9257" hR="21600" stAng="-5564666" swAng="-5235334"/>
                <a:close/>
              </a:path>
              <a:path fill="darkenLess" w="21600" h="21600">
                <a:moveTo>
                  <a:pt x="0" y="21600"/>
                </a:moveTo>
                <a:arcTo wR="9257" hR="21600" stAng="10800000" swAng="5400000"/>
                <a:lnTo>
                  <a:pt x="9257" y="0"/>
                </a:lnTo>
                <a:arcTo wR="9257" hR="21600" stAng="-5400000" swAng="164666"/>
                <a:lnTo>
                  <a:pt x="10286" y="134"/>
                </a:lnTo>
                <a:arcTo wR="9257" hR="21600" stAng="-5564666" swAng="-5235334"/>
                <a:close/>
              </a:path>
            </a:pathLst>
          </a:cu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право с вырезом 8"/>
          <p:cNvSpPr/>
          <p:nvPr/>
        </p:nvSpPr>
        <p:spPr>
          <a:xfrm rot="20520000">
            <a:off x="558720" y="1920600"/>
            <a:ext cx="1381320" cy="317520"/>
          </a:xfrm>
          <a:custGeom>
            <a:avLst/>
            <a:gdLst>
              <a:gd name="textAreaLeft" fmla="*/ 79200 w 1381320"/>
              <a:gd name="textAreaRight" fmla="*/ 1302120 w 1381320"/>
              <a:gd name="textAreaTop" fmla="*/ 79200 h 317520"/>
              <a:gd name="textAreaBottom" fmla="*/ 238320 h 317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117" y="5400"/>
                </a:lnTo>
                <a:lnTo>
                  <a:pt x="19117" y="0"/>
                </a:lnTo>
                <a:lnTo>
                  <a:pt x="21600" y="10800"/>
                </a:lnTo>
                <a:lnTo>
                  <a:pt x="19117" y="21600"/>
                </a:lnTo>
                <a:lnTo>
                  <a:pt x="19117" y="16200"/>
                </a:lnTo>
                <a:lnTo>
                  <a:pt x="0" y="16200"/>
                </a:lnTo>
                <a:lnTo>
                  <a:pt x="124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4624200" y="235728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 отримує Ломбард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4929120" y="3643200"/>
            <a:ext cx="3888000" cy="264348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1"/>
          <p:cNvSpPr/>
          <p:nvPr/>
        </p:nvSpPr>
        <p:spPr>
          <a:xfrm rot="4080000">
            <a:off x="-104040" y="2113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3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142920" y="1214280"/>
            <a:ext cx="3424320" cy="47563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3786120" y="1428840"/>
            <a:ext cx="505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1859 р. – Флоренція,Модена , Парма приєднуются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  <a:ea typeface="Times New Roman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олилиния 5"/>
          <p:cNvSpPr/>
          <p:nvPr/>
        </p:nvSpPr>
        <p:spPr>
          <a:xfrm>
            <a:off x="1168560" y="2576520"/>
            <a:ext cx="544320" cy="673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олилиния 6"/>
          <p:cNvSpPr/>
          <p:nvPr/>
        </p:nvSpPr>
        <p:spPr>
          <a:xfrm>
            <a:off x="1081080" y="2330280"/>
            <a:ext cx="412920" cy="32256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олилиния 7"/>
          <p:cNvSpPr/>
          <p:nvPr/>
        </p:nvSpPr>
        <p:spPr>
          <a:xfrm>
            <a:off x="965160" y="2227320"/>
            <a:ext cx="357120" cy="334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Рисунок2"/>
          <p:cNvPicPr/>
          <p:nvPr/>
        </p:nvPicPr>
        <p:blipFill>
          <a:blip r:embed="rId2"/>
          <a:stretch/>
        </p:blipFill>
        <p:spPr>
          <a:xfrm>
            <a:off x="4500720" y="3429000"/>
            <a:ext cx="4000320" cy="2684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3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Рисунок2"/>
          <p:cNvPicPr/>
          <p:nvPr/>
        </p:nvPicPr>
        <p:blipFill>
          <a:blip r:embed="rId1"/>
          <a:stretch/>
        </p:blipFill>
        <p:spPr>
          <a:xfrm>
            <a:off x="6858000" y="4145040"/>
            <a:ext cx="2071800" cy="25398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97" name="Рисунок 4" descr=""/>
          <p:cNvPicPr/>
          <p:nvPr/>
        </p:nvPicPr>
        <p:blipFill>
          <a:blip r:embed="rId2"/>
          <a:srcRect l="0" t="0" r="70" b="-13"/>
          <a:stretch/>
        </p:blipFill>
        <p:spPr>
          <a:xfrm>
            <a:off x="142920" y="911160"/>
            <a:ext cx="3643200" cy="505944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4634280" y="12142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0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овстання в Палер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4426560" y="2000160"/>
            <a:ext cx="412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Експедиція “червоної тисячі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ж. Гарібальді до Сицилії та пів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7" descr="Рисунок5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572000" y="4000680"/>
            <a:ext cx="4572000" cy="2714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01" name="TextBox 7"/>
          <p:cNvSpPr/>
          <p:nvPr/>
        </p:nvSpPr>
        <p:spPr>
          <a:xfrm>
            <a:off x="358920" y="607212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ходження півдня Італії до П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є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олилиния 8"/>
          <p:cNvSpPr/>
          <p:nvPr/>
        </p:nvSpPr>
        <p:spPr>
          <a:xfrm>
            <a:off x="1903320" y="2868480"/>
            <a:ext cx="1889280" cy="24638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Стрелка вниз 9"/>
          <p:cNvSpPr/>
          <p:nvPr/>
        </p:nvSpPr>
        <p:spPr>
          <a:xfrm rot="21000000">
            <a:off x="1719000" y="3149640"/>
            <a:ext cx="214200" cy="1714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3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3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143000"/>
            <a:ext cx="3652920" cy="5072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2"/>
          <a:stretch/>
        </p:blipFill>
        <p:spPr>
          <a:xfrm>
            <a:off x="6286680" y="2428920"/>
            <a:ext cx="2071440" cy="335592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4466880" y="128592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7 березня 1861 р. – проголош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королівст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5513400" y="594360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Король Віктор Еммануїл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олилиния 6"/>
          <p:cNvSpPr/>
          <p:nvPr/>
        </p:nvSpPr>
        <p:spPr>
          <a:xfrm>
            <a:off x="1158840" y="2200320"/>
            <a:ext cx="862200" cy="112248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олилиния 8"/>
          <p:cNvSpPr/>
          <p:nvPr/>
        </p:nvSpPr>
        <p:spPr>
          <a:xfrm>
            <a:off x="1123920" y="2170080"/>
            <a:ext cx="876240" cy="117792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олилиния 9"/>
          <p:cNvSpPr/>
          <p:nvPr/>
        </p:nvSpPr>
        <p:spPr>
          <a:xfrm>
            <a:off x="2048040" y="3141720"/>
            <a:ext cx="1868400" cy="24336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олилиния 10"/>
          <p:cNvSpPr/>
          <p:nvPr/>
        </p:nvSpPr>
        <p:spPr>
          <a:xfrm>
            <a:off x="372960" y="1608120"/>
            <a:ext cx="1249560" cy="113508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703440" y="3773520"/>
            <a:ext cx="545760" cy="968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олилиния 12"/>
          <p:cNvSpPr/>
          <p:nvPr/>
        </p:nvSpPr>
        <p:spPr>
          <a:xfrm>
            <a:off x="1635120" y="2238480"/>
            <a:ext cx="841320" cy="1060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3"/>
          <p:cNvSpPr/>
          <p:nvPr/>
        </p:nvSpPr>
        <p:spPr>
          <a:xfrm>
            <a:off x="2000160" y="3786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4"/>
          <p:cNvSpPr/>
          <p:nvPr/>
        </p:nvSpPr>
        <p:spPr>
          <a:xfrm rot="1860000">
            <a:off x="878760" y="29365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2563560" y="2142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Об</a:t>
            </a:r>
            <a:r>
              <a:rPr b="0" lang="en-US" sz="3600" spc="-1" strike="noStrike">
                <a:solidFill>
                  <a:srgbClr val="a50021"/>
                </a:solidFill>
                <a:latin typeface="Arial Black"/>
              </a:rPr>
              <a:t>’</a:t>
            </a: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днання Італ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14200" y="1214280"/>
            <a:ext cx="3446640" cy="47865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3"/>
          <p:cNvSpPr/>
          <p:nvPr/>
        </p:nvSpPr>
        <p:spPr>
          <a:xfrm>
            <a:off x="4216320" y="1285920"/>
            <a:ext cx="44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66 р.</a:t>
            </a: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– пруссько-австрійськая 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Выгнутая вверх стрелка 4"/>
          <p:cNvSpPr/>
          <p:nvPr/>
        </p:nvSpPr>
        <p:spPr>
          <a:xfrm rot="4320000">
            <a:off x="1413720" y="1421280"/>
            <a:ext cx="642960" cy="285840"/>
          </a:xfrm>
          <a:custGeom>
            <a:avLst/>
            <a:gdLst>
              <a:gd name="textAreaLeft" fmla="*/ 133920 w 642960"/>
              <a:gd name="textAreaRight" fmla="*/ 473400 w 6429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00" hR="21600" stAng="10800000" swAng="5400000"/>
                <a:lnTo>
                  <a:pt x="11400" y="0"/>
                </a:lnTo>
                <a:arcTo wR="9000" hR="21600" stAng="-5400000" swAng="3492867"/>
                <a:lnTo>
                  <a:pt x="21314" y="16200"/>
                </a:lnTo>
                <a:lnTo>
                  <a:pt x="19200" y="21600"/>
                </a:lnTo>
                <a:lnTo>
                  <a:pt x="16514" y="16200"/>
                </a:lnTo>
                <a:lnTo>
                  <a:pt x="17714" y="16200"/>
                </a:lnTo>
                <a:arcTo wR="9000" hR="21600" stAng="-1907133" swAng="-3300361"/>
                <a:lnTo>
                  <a:pt x="10200" y="193"/>
                </a:lnTo>
                <a:arcTo wR="9000" hR="21600" stAng="-5592505" swAng="-5207495"/>
                <a:close/>
              </a:path>
              <a:path fill="darkenLess" w="21600" h="21600">
                <a:moveTo>
                  <a:pt x="0" y="21600"/>
                </a:moveTo>
                <a:arcTo wR="9000" hR="21600" stAng="10800000" swAng="5400000"/>
                <a:lnTo>
                  <a:pt x="9000" y="0"/>
                </a:lnTo>
                <a:arcTo wR="9000" hR="21600" stAng="-5400000" swAng="192505"/>
                <a:lnTo>
                  <a:pt x="10200" y="193"/>
                </a:lnTo>
                <a:arcTo wR="9000" hR="21600" stAng="-5592505" swAng="-5207495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олилиния 5"/>
          <p:cNvSpPr/>
          <p:nvPr/>
        </p:nvSpPr>
        <p:spPr>
          <a:xfrm>
            <a:off x="291960" y="1685880"/>
            <a:ext cx="1563840" cy="15588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олилиния 6"/>
          <p:cNvSpPr/>
          <p:nvPr/>
        </p:nvSpPr>
        <p:spPr>
          <a:xfrm>
            <a:off x="601560" y="3683160"/>
            <a:ext cx="544680" cy="90324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олилиния 7"/>
          <p:cNvSpPr/>
          <p:nvPr/>
        </p:nvSpPr>
        <p:spPr>
          <a:xfrm>
            <a:off x="1893960" y="3049560"/>
            <a:ext cx="1795320" cy="233208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5315760" y="21430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9"/>
          <p:cNvSpPr/>
          <p:nvPr/>
        </p:nvSpPr>
        <p:spPr>
          <a:xfrm>
            <a:off x="5021280" y="292896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ередача Вене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олилиния 10"/>
          <p:cNvSpPr/>
          <p:nvPr/>
        </p:nvSpPr>
        <p:spPr>
          <a:xfrm>
            <a:off x="1330200" y="1712880"/>
            <a:ext cx="636840" cy="604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олилиния 11"/>
          <p:cNvSpPr/>
          <p:nvPr/>
        </p:nvSpPr>
        <p:spPr>
          <a:xfrm>
            <a:off x="2790720" y="1236600"/>
            <a:ext cx="700200" cy="5652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олилиния 12"/>
          <p:cNvSpPr/>
          <p:nvPr/>
        </p:nvSpPr>
        <p:spPr>
          <a:xfrm>
            <a:off x="1465200" y="2303640"/>
            <a:ext cx="804960" cy="88740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Рисунок3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429080" y="3786120"/>
            <a:ext cx="4349880" cy="27860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29" name="Прямоугольник 14"/>
          <p:cNvSpPr/>
          <p:nvPr/>
        </p:nvSpPr>
        <p:spPr>
          <a:xfrm rot="1920000">
            <a:off x="795960" y="28875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Group 18" descr=""/>
          <p:cNvPicPr/>
          <p:nvPr/>
        </p:nvPicPr>
        <p:blipFill>
          <a:blip r:embed="rId3"/>
          <a:stretch/>
        </p:blipFill>
        <p:spPr>
          <a:xfrm>
            <a:off x="1560600" y="914400"/>
            <a:ext cx="48096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4" descr=""/>
          <p:cNvPicPr/>
          <p:nvPr/>
        </p:nvPicPr>
        <p:blipFill>
          <a:blip r:embed="rId1"/>
          <a:srcRect l="0" t="0" r="70" b="-13"/>
          <a:stretch/>
        </p:blipFill>
        <p:spPr>
          <a:xfrm>
            <a:off x="285840" y="1071720"/>
            <a:ext cx="3857400" cy="5356080"/>
          </a:xfrm>
          <a:prstGeom prst="rect">
            <a:avLst/>
          </a:prstGeom>
          <a:ln w="0">
            <a:noFill/>
          </a:ln>
        </p:spPr>
      </p:pic>
      <p:sp>
        <p:nvSpPr>
          <p:cNvPr id="532" name="TextBox 3"/>
          <p:cNvSpPr/>
          <p:nvPr/>
        </p:nvSpPr>
        <p:spPr>
          <a:xfrm>
            <a:off x="4610880" y="142884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1870 – 1871 рр. – Франко-прусс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                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ві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5382360" y="25718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разка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4865040" y="3429000"/>
            <a:ext cx="351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риєднання Пап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до Італійського королі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олилиния 6"/>
          <p:cNvSpPr/>
          <p:nvPr/>
        </p:nvSpPr>
        <p:spPr>
          <a:xfrm>
            <a:off x="223920" y="1641600"/>
            <a:ext cx="431640" cy="1272960"/>
          </a:xfrm>
          <a:prstGeom prst="pie">
            <a:avLst/>
          </a:prstGeom>
          <a:solidFill>
            <a:srgbClr val="ff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Выгнутая влево стрелка 7"/>
          <p:cNvSpPr/>
          <p:nvPr/>
        </p:nvSpPr>
        <p:spPr>
          <a:xfrm rot="3000000">
            <a:off x="361080" y="997920"/>
            <a:ext cx="563760" cy="1218960"/>
          </a:xfrm>
          <a:custGeom>
            <a:avLst/>
            <a:gdLst>
              <a:gd name="textAreaLeft" fmla="*/ 75240 w 563760"/>
              <a:gd name="textAreaRight" fmla="*/ 488520 w 563760"/>
              <a:gd name="textAreaTop" fmla="*/ 251640 h 1218960"/>
              <a:gd name="textAreaBottom" fmla="*/ 89676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8" stAng="-5400000" swAng="-5400000"/>
                <a:lnTo>
                  <a:pt x="0" y="11424"/>
                </a:lnTo>
                <a:arcTo wR="21600" hR="8928" stAng="10800000" swAng="-3480481"/>
                <a:lnTo>
                  <a:pt x="16200" y="21316"/>
                </a:lnTo>
                <a:lnTo>
                  <a:pt x="21600" y="19104"/>
                </a:lnTo>
                <a:lnTo>
                  <a:pt x="16200" y="16324"/>
                </a:lnTo>
                <a:lnTo>
                  <a:pt x="16200" y="17572"/>
                </a:lnTo>
                <a:arcTo wR="21600" hR="8928" stAng="7319519" swAng="3280114"/>
                <a:lnTo>
                  <a:pt x="212" y="10176"/>
                </a:lnTo>
                <a:arcTo wR="21600" hR="8928" stAng="-10599632" swAng="5199632"/>
                <a:close/>
              </a:path>
              <a:path fill="darkenLess" w="21600" h="21600">
                <a:moveTo>
                  <a:pt x="21600" y="0"/>
                </a:moveTo>
                <a:arcTo wR="21600" hR="8928" stAng="-5400000" swAng="-5400000"/>
                <a:lnTo>
                  <a:pt x="0" y="8928"/>
                </a:lnTo>
                <a:arcTo wR="21600" hR="8928" stAng="10800000" swAng="-200368"/>
                <a:lnTo>
                  <a:pt x="212" y="10176"/>
                </a:lnTo>
                <a:arcTo wR="21600" hR="8928" stAng="-10599632" swAng="5199632"/>
                <a:close/>
              </a:path>
            </a:pathLst>
          </a:custGeom>
          <a:solidFill>
            <a:srgbClr val="00b05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Group 18" descr=""/>
          <p:cNvPicPr/>
          <p:nvPr/>
        </p:nvPicPr>
        <p:blipFill>
          <a:blip r:embed="rId2"/>
          <a:stretch/>
        </p:blipFill>
        <p:spPr>
          <a:xfrm>
            <a:off x="274680" y="1347840"/>
            <a:ext cx="480960" cy="785880"/>
          </a:xfrm>
          <a:prstGeom prst="rect">
            <a:avLst/>
          </a:prstGeom>
          <a:ln w="0">
            <a:noFill/>
          </a:ln>
        </p:spPr>
      </p:pic>
      <p:sp>
        <p:nvSpPr>
          <p:cNvPr id="538" name="Полилиния 13"/>
          <p:cNvSpPr/>
          <p:nvPr/>
        </p:nvSpPr>
        <p:spPr>
          <a:xfrm>
            <a:off x="757080" y="3811680"/>
            <a:ext cx="543240" cy="10173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олилиния 14"/>
          <p:cNvSpPr/>
          <p:nvPr/>
        </p:nvSpPr>
        <p:spPr>
          <a:xfrm>
            <a:off x="398520" y="1554120"/>
            <a:ext cx="3743280" cy="421164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олилиния 15"/>
          <p:cNvSpPr/>
          <p:nvPr/>
        </p:nvSpPr>
        <p:spPr>
          <a:xfrm>
            <a:off x="1790640" y="3259080"/>
            <a:ext cx="747720" cy="696960"/>
          </a:xfrm>
          <a:prstGeom prst="pie">
            <a:avLst/>
          </a:prstGeom>
          <a:solidFill>
            <a:srgbClr val="000000"/>
          </a:solidFill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6"/>
          <p:cNvSpPr/>
          <p:nvPr/>
        </p:nvSpPr>
        <p:spPr>
          <a:xfrm rot="2100000">
            <a:off x="757440" y="280980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 Black"/>
              </a:rPr>
              <a:t>Італій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8" descr="Рисунок4"/>
          <p:cNvPicPr/>
          <p:nvPr/>
        </p:nvPicPr>
        <p:blipFill>
          <a:blip r:embed="rId3"/>
          <a:stretch/>
        </p:blipFill>
        <p:spPr>
          <a:xfrm>
            <a:off x="6000840" y="4357800"/>
            <a:ext cx="1928880" cy="2338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543" name="Полилиния 18"/>
          <p:cNvSpPr/>
          <p:nvPr/>
        </p:nvSpPr>
        <p:spPr>
          <a:xfrm>
            <a:off x="1609560" y="1554120"/>
            <a:ext cx="684360" cy="750960"/>
          </a:xfrm>
          <a:prstGeom prst="pie">
            <a:avLst/>
          </a:prstGeom>
          <a:noFill/>
          <a:ln w="10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олилиния 19"/>
          <p:cNvSpPr/>
          <p:nvPr/>
        </p:nvSpPr>
        <p:spPr>
          <a:xfrm>
            <a:off x="1596960" y="1622520"/>
            <a:ext cx="665280" cy="739800"/>
          </a:xfrm>
          <a:prstGeom prst="pie">
            <a:avLst/>
          </a:prstGeom>
          <a:solidFill>
            <a:srgbClr val="000000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0"/>
          <p:cNvSpPr/>
          <p:nvPr/>
        </p:nvSpPr>
        <p:spPr>
          <a:xfrm rot="4740000">
            <a:off x="-35280" y="21841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Фран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7" descr=""/>
          <p:cNvPicPr/>
          <p:nvPr/>
        </p:nvPicPr>
        <p:blipFill>
          <a:blip r:embed="rId1"/>
          <a:stretch/>
        </p:blipFill>
        <p:spPr>
          <a:xfrm>
            <a:off x="1928880" y="1000080"/>
            <a:ext cx="5959440" cy="47149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2417760" y="28584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a50021"/>
                </a:solidFill>
                <a:latin typeface="Arial Black"/>
              </a:rPr>
              <a:t>Європа  в 1871 роц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"/>
          <p:cNvSpPr/>
          <p:nvPr/>
        </p:nvSpPr>
        <p:spPr>
          <a:xfrm>
            <a:off x="1497600" y="585792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Поява на політичній карті Європи національної держа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 Black"/>
              </a:rPr>
              <a:t>Італійського на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олилиния 7"/>
          <p:cNvSpPr/>
          <p:nvPr/>
        </p:nvSpPr>
        <p:spPr>
          <a:xfrm>
            <a:off x="3747960" y="4173480"/>
            <a:ext cx="1089000" cy="129528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олилиния 8"/>
          <p:cNvSpPr/>
          <p:nvPr/>
        </p:nvSpPr>
        <p:spPr>
          <a:xfrm>
            <a:off x="3772080" y="4788000"/>
            <a:ext cx="207720" cy="363600"/>
          </a:xfrm>
          <a:prstGeom prst="pie">
            <a:avLst/>
          </a:prstGeom>
          <a:solidFill>
            <a:srgbClr val="0000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2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685800" y="838080"/>
          <a:ext cx="7848720" cy="5842080"/>
        </p:xfrm>
        <a:graphic>
          <a:graphicData uri="http://schemas.openxmlformats.org/drawingml/2006/table">
            <a:tbl>
              <a:tblPr/>
              <a:tblGrid>
                <a:gridCol w="2133720"/>
                <a:gridCol w="2825640"/>
                <a:gridCol w="2889360"/>
              </a:tblGrid>
              <a:tr h="213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лі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Літо 1858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аємне побачення Кавура з Наполеоном ІІ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опомога Франції у війні з Австріє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Черв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Мадженто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під Сольфери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встрійська армія розбита. П’ємонт отримав Ломбарді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Серпень 1859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у Флоренції, Пармі та Моден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Ці області приєднані до П’ємо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97380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Травень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встання «Тисячі червоносорочечників» під проводом Гарібальд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итва  під Калатафім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ходження Сицилії до П’ємон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7 вересня 1860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туп Гарібальді до Неапо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игнання Бурбонів з Південної Італ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роголошення єдиного Італійського королів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роль Італії – Віктор-Емануїл І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66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Італо-пруссько-австрій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ключення Венеціанської області до Італійського королів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48708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0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Франко-прусська ві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зяття Риму королівськими війсь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  <a:tr h="730440"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Black"/>
                        </a:rPr>
                        <a:t>1871 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енесення столиці Італійського королівства з Венеції до Ри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Завершення об’єднання краї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c17529"/>
                      </a:solidFill>
                    </a:lnL>
                    <a:lnR w="5760">
                      <a:solidFill>
                        <a:srgbClr val="c17529"/>
                      </a:solidFill>
                    </a:lnR>
                    <a:lnT w="5760">
                      <a:solidFill>
                        <a:srgbClr val="c17529"/>
                      </a:solidFill>
                    </a:lnT>
                    <a:lnB w="5760">
                      <a:solidFill>
                        <a:srgbClr val="c17529"/>
                      </a:solidFill>
                    </a:lnB>
                    <a:solidFill>
                      <a:srgbClr val="f4ece8"/>
                    </a:solidFill>
                  </a:tcPr>
                </a:tc>
              </a:tr>
            </a:tbl>
          </a:graphicData>
        </a:graphic>
      </p:graphicFrame>
      <p:sp>
        <p:nvSpPr>
          <p:cNvPr id="552" name="TextBox 2"/>
          <p:cNvSpPr/>
          <p:nvPr/>
        </p:nvSpPr>
        <p:spPr>
          <a:xfrm>
            <a:off x="205740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Хід об'єднання Італ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Прямоугольник 6" descr=""/>
          <p:cNvPicPr/>
          <p:nvPr/>
        </p:nvPicPr>
        <p:blipFill>
          <a:blip r:embed="rId1"/>
          <a:stretch/>
        </p:blipFill>
        <p:spPr>
          <a:xfrm>
            <a:off x="622440" y="1487520"/>
            <a:ext cx="78022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a50021"/>
                </a:solidFill>
                <a:latin typeface="Arial Black"/>
              </a:rPr>
              <a:t>Тестові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380880" y="458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беріть правильний варіант відповід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"/>
          <p:cNvSpPr/>
          <p:nvPr/>
        </p:nvSpPr>
        <p:spPr>
          <a:xfrm>
            <a:off x="304920" y="1054440"/>
            <a:ext cx="838188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Яка з держав відіграла вирішальну роль в об’єднанні Італі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) Пар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) 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П’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) Сици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шим кроком до об’єднання німецьких земель була війна прот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ран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Австр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усс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ици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му належать наступні слова: «Я докладу всі зусилля, аби перешкодити італійському руху стати революційним… 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ж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іктору Еммануїлу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К. Кав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609480" y="1840680"/>
            <a:ext cx="8229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1859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1. Ри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олиця королівства Італ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1861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2. Проголошення 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1866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3. Франко-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ємонтсько-австрійська вій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) 1870 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4. Звільнення Сицилії та Неапо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иєднання Венеції до Італійського королі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440280" y="6858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становіть відповідн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Прямая со стрелкой 6"/>
          <p:cNvCxnSpPr/>
          <p:nvPr/>
        </p:nvCxnSpPr>
        <p:spPr>
          <a:xfrm>
            <a:off x="1905120" y="2133360"/>
            <a:ext cx="1219680" cy="11437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59" name="Прямая со стрелкой 8"/>
          <p:cNvCxnSpPr/>
          <p:nvPr/>
        </p:nvCxnSpPr>
        <p:spPr>
          <a:xfrm>
            <a:off x="1904760" y="2666520"/>
            <a:ext cx="1143720" cy="252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0" name="Прямая со стрелкой 10"/>
          <p:cNvCxnSpPr/>
          <p:nvPr/>
        </p:nvCxnSpPr>
        <p:spPr>
          <a:xfrm>
            <a:off x="1827720" y="3276720"/>
            <a:ext cx="1220040" cy="121968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61" name="Прямая со стрелкой 12"/>
          <p:cNvCxnSpPr/>
          <p:nvPr/>
        </p:nvCxnSpPr>
        <p:spPr>
          <a:xfrm flipV="1">
            <a:off x="1827720" y="2056680"/>
            <a:ext cx="1143720" cy="1981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380880" y="53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изначте послідовність поді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228600" y="1371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Експедиція «червоної тисячі» під керівниц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Гарібальді до Сицил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изначення прем’єр-міністром П’ємонту К. Кав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иєднання Папської області до Італійського королів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оюз Франції та П’ємонту проти Авст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2133720" y="3886200"/>
          <a:ext cx="4114800" cy="685800"/>
        </p:xfrm>
        <a:graphic>
          <a:graphicData uri="http://schemas.openxmlformats.org/drawingml/2006/table">
            <a:tbl>
              <a:tblPr/>
              <a:tblGrid>
                <a:gridCol w="1011240"/>
                <a:gridCol w="1011240"/>
                <a:gridCol w="946080"/>
                <a:gridCol w="1146240"/>
              </a:tblGrid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80880" y="230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Співвіднесіть імена історичних осі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 факти їхньої біограф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304920" y="152388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. Каву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. Мадзі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ж. Гарібаль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тудентом вступив до організації арбонаріїв, створив товариство «Молода Італія», що ставило за мету добитися незалежності та об’єднання країни, перетворення Італії на демократичну республіку. Він говорив: «Реформ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рава королів, революці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ь секрет нар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а легенда італійського народу, безстрашний патріот, який присвятив життя визвольній боротьбі. Одні вважали його ангелом, інші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яволом. Він був дуже популярний, під його прапором йшли битися з австрійцями всі, хто мріяв про свободу Італ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. Здобув освіту у військовій академії, але ні військова, ні придворна служба його не приваблювал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важав незалежний характер. Став уособленням п’ємонтського буржуазного дворянства. Залишивши військову службу, він повернувся до свого маєтку і перебудував господарство на капіталістичній основ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86400" y="1219320"/>
          <a:ext cx="2438280" cy="838080"/>
        </p:xfrm>
        <a:graphic>
          <a:graphicData uri="http://schemas.openxmlformats.org/drawingml/2006/table">
            <a:tbl>
              <a:tblPr/>
              <a:tblGrid>
                <a:gridCol w="830160"/>
                <a:gridCol w="831960"/>
                <a:gridCol w="776160"/>
              </a:tblGrid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609480" y="1530720"/>
            <a:ext cx="7543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 Black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працювати параграф 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і на запитання до нь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Arial"/>
              </a:rPr>
              <a:t>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7720" y="15998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значати причини, хід та наслідки об’єднання Італії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становити хронологічну послідовність даних поді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дати характеристику політичним лідерам даного періо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Book Antiqua"/>
              </a:rPr>
              <a:t>вивчити терміни: «помірковано-ліберальний напрям об’єднання», «революційний напрям об’єднання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План у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чини об’єднання Італ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Шляхи об’єдн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творення Італійського королів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457200" y="1980720"/>
            <a:ext cx="815328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Сформулюйте причини об'єднання Італії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кажіть на карті держави, на які була поділена Італі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Рисунок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3500280" cy="48099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2918160" y="2142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Об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’</a:t>
            </a:r>
            <a:r>
              <a:rPr b="0" lang="uk-UA" sz="2800" spc="-1" strike="noStrike">
                <a:solidFill>
                  <a:srgbClr val="ffc000"/>
                </a:solidFill>
                <a:latin typeface="Arial Black"/>
              </a:rPr>
              <a:t>єднання Італ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"/>
          <p:cNvSpPr/>
          <p:nvPr/>
        </p:nvSpPr>
        <p:spPr>
          <a:xfrm>
            <a:off x="1371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1859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4"/>
          <p:cNvSpPr/>
          <p:nvPr/>
        </p:nvSpPr>
        <p:spPr>
          <a:xfrm>
            <a:off x="4941360" y="107172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1. Неаполіт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4840200" y="17146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2. Папська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5016960" y="228600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Герцогства 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                           </a:t>
            </a:r>
            <a:r>
              <a:rPr b="0" lang="uk-UA" sz="1800" spc="-1" strike="noStrike">
                <a:solidFill>
                  <a:srgbClr val="ffc000"/>
                </a:solidFill>
                <a:latin typeface="Arial Black"/>
              </a:rPr>
              <a:t>3. Тос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7"/>
          <p:cNvSpPr/>
          <p:nvPr/>
        </p:nvSpPr>
        <p:spPr>
          <a:xfrm>
            <a:off x="6880680" y="2857680"/>
            <a:ext cx="10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b050"/>
                </a:solidFill>
                <a:latin typeface="Arial Black"/>
              </a:rPr>
              <a:t>4. Лук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6873840" y="385776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2d050"/>
                </a:solidFill>
                <a:latin typeface="Arial Black"/>
              </a:rPr>
              <a:t>6. П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6873840" y="34290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 Black"/>
              </a:rPr>
              <a:t>5. Мод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4895640" y="4572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7. П</a:t>
            </a:r>
            <a:r>
              <a:rPr b="0" lang="en-US" sz="1800" spc="-1" strike="noStrike">
                <a:solidFill>
                  <a:srgbClr val="7030a0"/>
                </a:solidFill>
                <a:latin typeface="Arial Black"/>
              </a:rPr>
              <a:t>’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єм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1"/>
          <p:cNvSpPr/>
          <p:nvPr/>
        </p:nvSpPr>
        <p:spPr>
          <a:xfrm>
            <a:off x="5042880" y="528624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8. Венеціанське королі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38086"/>
                </a:solidFill>
                <a:latin typeface="Arial Black"/>
              </a:rPr>
              <a:t>     </a:t>
            </a:r>
            <a:r>
              <a:rPr b="0" lang="uk-UA" sz="1600" spc="-1" strike="noStrike">
                <a:solidFill>
                  <a:srgbClr val="438086"/>
                </a:solidFill>
                <a:latin typeface="Arial Black"/>
              </a:rPr>
              <a:t>(у складі Австрійської імперії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733320" y="278604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 Black"/>
              </a:rPr>
              <a:t>8 держа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олилиния 13"/>
          <p:cNvSpPr/>
          <p:nvPr/>
        </p:nvSpPr>
        <p:spPr>
          <a:xfrm>
            <a:off x="1847880" y="2635200"/>
            <a:ext cx="1835280" cy="2262240"/>
          </a:xfrm>
          <a:prstGeom prst="pie">
            <a:avLst/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олилиния 14"/>
          <p:cNvSpPr/>
          <p:nvPr/>
        </p:nvSpPr>
        <p:spPr>
          <a:xfrm>
            <a:off x="1506600" y="1841400"/>
            <a:ext cx="839880" cy="1519200"/>
          </a:xfrm>
          <a:prstGeom prst="pie">
            <a:avLst/>
          </a:prstGeom>
          <a:solidFill>
            <a:srgbClr val="ffffff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олилиния 15"/>
          <p:cNvSpPr/>
          <p:nvPr/>
        </p:nvSpPr>
        <p:spPr>
          <a:xfrm>
            <a:off x="1378080" y="2173320"/>
            <a:ext cx="501480" cy="782640"/>
          </a:xfrm>
          <a:prstGeom prst="pie">
            <a:avLst/>
          </a:prstGeom>
          <a:solidFill>
            <a:srgbClr val="ffc00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олилиния 16"/>
          <p:cNvSpPr/>
          <p:nvPr/>
        </p:nvSpPr>
        <p:spPr>
          <a:xfrm>
            <a:off x="1287360" y="2139840"/>
            <a:ext cx="387360" cy="333360"/>
          </a:xfrm>
          <a:prstGeom prst="pie">
            <a:avLst/>
          </a:prstGeom>
          <a:solidFill>
            <a:srgbClr val="00b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17"/>
          <p:cNvSpPr/>
          <p:nvPr/>
        </p:nvSpPr>
        <p:spPr>
          <a:xfrm>
            <a:off x="1157400" y="1851120"/>
            <a:ext cx="465120" cy="353880"/>
          </a:xfrm>
          <a:prstGeom prst="pie">
            <a:avLst/>
          </a:prstGeom>
          <a:solidFill>
            <a:srgbClr val="00206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8"/>
          <p:cNvSpPr/>
          <p:nvPr/>
        </p:nvSpPr>
        <p:spPr>
          <a:xfrm>
            <a:off x="1068480" y="1758960"/>
            <a:ext cx="344520" cy="304920"/>
          </a:xfrm>
          <a:prstGeom prst="pie">
            <a:avLst/>
          </a:prstGeom>
          <a:solidFill>
            <a:srgbClr val="92d05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олилиния 19"/>
          <p:cNvSpPr/>
          <p:nvPr/>
        </p:nvSpPr>
        <p:spPr>
          <a:xfrm>
            <a:off x="695160" y="3208320"/>
            <a:ext cx="476280" cy="90000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олилиния 20"/>
          <p:cNvSpPr/>
          <p:nvPr/>
        </p:nvSpPr>
        <p:spPr>
          <a:xfrm>
            <a:off x="450720" y="1224000"/>
            <a:ext cx="1068480" cy="1030320"/>
          </a:xfrm>
          <a:prstGeom prst="pie">
            <a:avLst/>
          </a:prstGeom>
          <a:solidFill>
            <a:srgbClr val="7030a0"/>
          </a:solidFill>
          <a:ln w="10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олилиния 21"/>
          <p:cNvSpPr/>
          <p:nvPr/>
        </p:nvSpPr>
        <p:spPr>
          <a:xfrm>
            <a:off x="1424160" y="1247760"/>
            <a:ext cx="601560" cy="619200"/>
          </a:xfrm>
          <a:prstGeom prst="pie">
            <a:avLst/>
          </a:prstGeom>
          <a:solidFill>
            <a:srgbClr val="438086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3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Революційно-демократич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революційні демократи, що спиралися на ремісників,селян,інтелігенцію обстоювали революційний шлях об’єднання країни в єдину демократичну республіку. Визначними представниками цього табору були Мадзіні та Гарібальд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4e3b30"/>
                </a:solidFill>
                <a:latin typeface="Franklin Gothic Book"/>
              </a:rPr>
              <a:t>«Помірковано-ліберальний»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 - представляв інтереси ліберального дворянства і буржуазії, орієнтувалися на об’єднання під владою конституційного монарха, головне місце займав економічно розвинений П’ємонт. Лідер течії граф К. Кавур, який вважав що об’єднання країни має здійснитися «Зверху» під владою Віктора-Емануїла ІІ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4"/>
          <p:cNvSpPr/>
          <p:nvPr/>
        </p:nvSpPr>
        <p:spPr>
          <a:xfrm>
            <a:off x="4419720" y="3200400"/>
            <a:ext cx="4343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Граф, італійський політичний і державний діяч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дипломатич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2514600" y="304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Кавур Каміл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2" descr="http://t0.gstatic.com/images?q=tbn:ANd9GcTwp1ld6ldVODTerVuAOFqE8PFvHIygwlJVBytwvt9g0gm0c4UzfAYEIov0"/>
          <p:cNvPicPr/>
          <p:nvPr/>
        </p:nvPicPr>
        <p:blipFill>
          <a:blip r:embed="rId1"/>
          <a:stretch/>
        </p:blipFill>
        <p:spPr>
          <a:xfrm>
            <a:off x="596880" y="1127160"/>
            <a:ext cx="35416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2"/>
          <p:cNvSpPr/>
          <p:nvPr/>
        </p:nvSpPr>
        <p:spPr>
          <a:xfrm>
            <a:off x="4114800" y="41911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Італійський революціонер, закликав до об</a:t>
            </a:r>
            <a:r>
              <a:rPr b="0" i="1" lang="en-US" sz="2800" spc="-1" strike="noStrike">
                <a:solidFill>
                  <a:srgbClr val="000099"/>
                </a:solidFill>
                <a:latin typeface="Book Antiqua"/>
              </a:rPr>
              <a:t>’</a:t>
            </a:r>
            <a:r>
              <a:rPr b="0" i="1" lang="uk-UA" sz="2800" spc="-1" strike="noStrike">
                <a:solidFill>
                  <a:srgbClr val="000099"/>
                </a:solidFill>
                <a:latin typeface="Book Antiqua"/>
              </a:rPr>
              <a:t>єднання Італії революційним шля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bse.sci-lib.com/a_pictures/05/08/207658489.jpg"/>
          <p:cNvPicPr/>
          <p:nvPr/>
        </p:nvPicPr>
        <p:blipFill>
          <a:blip r:embed="rId1"/>
          <a:stretch/>
        </p:blipFill>
        <p:spPr>
          <a:xfrm>
            <a:off x="444600" y="1054080"/>
            <a:ext cx="3462120" cy="48340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4"/>
          <p:cNvSpPr/>
          <p:nvPr/>
        </p:nvSpPr>
        <p:spPr>
          <a:xfrm>
            <a:off x="2284200" y="30492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a50021"/>
                </a:solidFill>
                <a:latin typeface="Arial Black"/>
              </a:rPr>
              <a:t>Мадзіні  Джузеппе</a:t>
            </a:r>
            <a:r>
              <a:rPr b="0" i="1" lang="uk-UA" sz="4000" spc="-1" strike="noStrike">
                <a:solidFill>
                  <a:srgbClr val="000099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School</cp:lastModifiedBy>
  <dcterms:modified xsi:type="dcterms:W3CDTF">2012-12-10T10:05:36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2a000000000001024140</vt:lpwstr>
  </property>
  <property fmtid="{D5CDD505-2E9C-101B-9397-08002B2CF9AE}" pid="3" name="Version">
    <vt:r8>1</vt:r8>
  </property>
</Properties>
</file>