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E92-BA4B-4119-9B8C-2E67598A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928-0078-4428-BCBA-D951864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6AC6C-275F-4683-8DAD-84F9016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BF50-9CCD-4B86-BDC8-F960903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E02B0-C32B-4E2C-9593-433F0A1C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2FA8A-7F8F-4D4A-9B8D-700E7DE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F1E1-F399-4F42-B690-BE8EAA2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1E8A-BE3D-4DAD-BFE2-D84A279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7474-EFF0-47C4-90FE-7E079C6B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25B8-B610-4D39-BCCC-16B58E60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86003-0519-4076-9429-550D14F0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CCE76-3548-4180-A63E-26AE16EA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554-FEBD-47CE-897C-CA1CB435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2CBE5-E61C-41D5-B82F-3B731AA5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E1011-EBD4-4E76-8C55-CCD9289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54974-1C57-47ED-9B5B-B8E3EF9E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5F15C-D9BE-4D6D-A80C-8C60831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0B372-C694-4EC3-B927-6F4F8A1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922E9-05D7-4B4D-B5E3-8F96EFA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92541-2AC7-41B8-878D-1899D45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D3922-C50B-48A1-93BD-34391BC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33C51-B3C8-4480-88FB-F636CCA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2A681-1537-475C-9401-FD9A626C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E89-962F-46C0-A903-0920B094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7075B-3A34-4FE7-9268-E826274D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A59-9206-417F-833D-42936C91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F32-8A6C-40A6-BDF8-5AADF5C8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508B-1080-485A-BFF3-E46E3A1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53AA-8E18-4496-841E-13934F4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938D-9E34-4FDC-98B4-3CFADF66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27C-B19E-4F96-BB8D-83D1F39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483B-DF96-4F82-83A9-2D84D3C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023-EB73-4212-8EFB-100545AE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3656-812A-4FA3-8464-B3D0862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064E-99D1-423A-A775-A90B030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906-30B0-4880-869C-EE27180C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8088-E6FF-4D1B-8754-699A53FD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050-ADB7-462E-A603-6D54894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F540-CF9B-46DD-BA20-65B3823A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9804-0F4C-43E9-B9CF-48F2D941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5925-30D9-4A9D-B2F4-8222EFC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0C0A-64B3-4F66-813E-45AEF9F6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19A5-CDCF-43D6-9673-61BE2A97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67D-06AD-4F0A-9299-F666F6F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9FBC-68CC-4C5C-8DBD-1B8F25A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B35B-AD6B-46AD-9FF8-9B8E464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E500-1342-4D67-9595-5A8F506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72D3-2E8C-472F-BBB9-565BB485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3476-04BD-430E-97A5-4317795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0F51-1AFF-46B5-98B1-C0309D33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0801-69E3-49CD-8B3D-703AA095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CC98-5166-43D0-8303-CE1D71EC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A8DB-AC49-4BA3-8573-56A070F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59ACD-D43A-44E2-B9FC-1BA8326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B81-DDE6-4FAC-86E8-05979E0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6C94-7B89-4322-BF5E-19DC70C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A61E-B4F6-4CEB-8BAF-8747314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3A87-DE8C-4E37-A721-77D435E1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2C4B-B085-4BC5-B491-42D8DFC7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43A3-A569-4059-86D6-5F23511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237B-218B-4D4C-BC56-D14C8164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8F62-3EBD-43E0-BF67-15AE943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0F58-15B9-40F4-8CD8-718758DF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CFB3-40C3-46C4-82AC-53E99518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12E6-09DA-4415-ADAC-35870E6D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23F-84C7-42F2-A820-13B5E05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2A44-3756-49A2-A56D-C18D4AE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078E-BB4A-4CA4-A2FF-BFFD0AA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D33F-79DD-489A-AE5E-3D50E60F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C736-C343-4343-9EEB-FC01F0E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CBCE-5856-4A57-9E46-2FB0F46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548F-DB35-41E0-AEEC-70F353B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3055-BB72-4D04-9D07-D5DAF28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279C-BC31-4627-9542-D3E57B0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C9B8-E4D1-4502-B678-3F38265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B91F-2C91-4082-B20F-BCCB5F30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792-EBC4-4ECF-AF03-7B5D7D3D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F6D7-0CF3-4623-B4AD-57C21A21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A597-003D-4702-BC8F-D346CB56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DEC0-6B69-48D6-A0EE-0FA6DC8F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8587-8FBE-4A34-9026-A980BE2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4B82-5085-417A-83CB-E81FFBD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C4C7-B3F9-4F11-B0AF-E363CA7D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E199-468D-4C2E-8BEF-F6EF177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FC5F-EAA3-41C8-809F-E06AC46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46CA-D05C-48EE-97E9-818BF86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370A-4E10-4BFD-A788-5612218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898-890F-47A0-9469-694F5227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C220-3FBD-4A5C-9AA4-F2A05EC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65375-F556-45B5-8E53-6C1E0FE2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4172-7D74-4FCF-BC70-4FCFE8CC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B41F-48DD-440B-ADBB-E584760E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7D41-DEE2-4EE0-BA4C-5D5868F0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6C7AE-A9A7-4E5C-BD63-A3C987A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E989-E4FE-48EF-8444-7CE369B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F60F-6CE2-4D22-96C7-D625EAB1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A8AF-0288-48FC-B83D-B91B5BB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9F57-2211-428A-8C5F-3AFAB7B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8E4-1A2A-4641-B95A-5FDEB19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A12F-5BF6-409B-A4F0-099F927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2A58-C208-49A2-8874-4B83E12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CC334-D532-4CB3-BADA-3311581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9D92-5638-4541-869C-C5E8D9E9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9FC4-9697-42DF-9C90-0C7BFC78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55A0-40EA-4375-8E04-3D7F49C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0A71-8878-419F-8AA5-89C8EEA8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8C17-3551-4137-9704-A4A8A9CA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A2AE-1CF7-4C13-91AB-38A50A4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AE922-A72E-400B-A8BF-06796D2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BFF-FEEF-4CCF-A504-F675AD2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FD40C-E555-4D4F-9593-C3F5DDB3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EA46-F44D-4AE6-83B0-CDE357C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F568-63FD-4857-BCFF-5C36C64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C10DF-70AD-4B53-8317-69B86609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F8AF-90E0-429D-87AF-2CB04E4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DEBD-DC06-41BC-9B7F-7D45ADBE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7C37-46ED-4373-B1DE-4F860460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63A2-16D6-410E-A934-5B24C57F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01CA-0183-4722-938E-BC1634B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F4C5A-0003-4F8B-B31D-61FCFE9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2A58-B314-46C7-861E-8C7B504CC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992-1365-449D-AC5E-FBA38BC0552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FD7-12AB-49A1-B455-8BABC3558E4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712-0633-4F01-AEDA-EDD86909C58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631-D811-4F71-8A63-2D499B354A3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816B-1963-4DD9-8599-1712DE77DD0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996-B01A-469C-8BB8-95FC17575F2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909-CA82-438F-A34F-38B70142035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9DA8-FBD0-46B7-B1F2-444040B6200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BE3-E2C9-4729-B38D-540B7B4AA2C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772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 проходив Віденський конг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і були рішення Віденського конгресу по відношенню до Італ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іть одне з основних завдань революції 1848 р. в Італ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http://bse.sci-lib.com/a_pictures/05/08/214887412.jpg"/>
          <p:cNvPicPr/>
          <p:nvPr/>
        </p:nvPicPr>
        <p:blipFill>
          <a:blip r:embed="rId1"/>
          <a:stretch/>
        </p:blipFill>
        <p:spPr>
          <a:xfrm>
            <a:off x="4937040" y="1359000"/>
            <a:ext cx="3541680" cy="4779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3"/>
          <p:cNvSpPr/>
          <p:nvPr/>
        </p:nvSpPr>
        <p:spPr>
          <a:xfrm>
            <a:off x="2286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один із  лідерів визвольного р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510920" y="304920"/>
            <a:ext cx="54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Гарібальді Джузепп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209680" y="19051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928800"/>
            <a:ext cx="3806640" cy="52862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4114800" y="10000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ранко -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сь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австрійська вій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4"/>
          <p:cNvSpPr/>
          <p:nvPr/>
        </p:nvSpPr>
        <p:spPr>
          <a:xfrm>
            <a:off x="863640" y="1415880"/>
            <a:ext cx="630360" cy="712800"/>
          </a:xfrm>
          <a:prstGeom prst="pie">
            <a:avLst/>
          </a:prstGeom>
          <a:solidFill>
            <a:srgbClr val="ffff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олилиния 6"/>
          <p:cNvSpPr/>
          <p:nvPr/>
        </p:nvSpPr>
        <p:spPr>
          <a:xfrm>
            <a:off x="1440" y="1506600"/>
            <a:ext cx="530280" cy="1224000"/>
          </a:xfrm>
          <a:prstGeom prst="pie">
            <a:avLst/>
          </a:prstGeom>
          <a:solidFill>
            <a:srgbClr val="ff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Выгнутая вверх стрелка 7"/>
          <p:cNvSpPr/>
          <p:nvPr/>
        </p:nvSpPr>
        <p:spPr>
          <a:xfrm>
            <a:off x="214200" y="121428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с вырезом 8"/>
          <p:cNvSpPr/>
          <p:nvPr/>
        </p:nvSpPr>
        <p:spPr>
          <a:xfrm rot="20520000">
            <a:off x="558720" y="1920600"/>
            <a:ext cx="1381320" cy="317520"/>
          </a:xfrm>
          <a:custGeom>
            <a:avLst/>
            <a:gdLst>
              <a:gd name="textAreaLeft" fmla="*/ 79200 w 1381320"/>
              <a:gd name="textAreaRight" fmla="*/ 1302120 w 1381320"/>
              <a:gd name="textAreaTop" fmla="*/ 79200 h 317520"/>
              <a:gd name="textAreaBottom" fmla="*/ 238320 h 31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17" y="5400"/>
                </a:lnTo>
                <a:lnTo>
                  <a:pt x="19117" y="0"/>
                </a:lnTo>
                <a:lnTo>
                  <a:pt x="21600" y="10800"/>
                </a:lnTo>
                <a:lnTo>
                  <a:pt x="19117" y="21600"/>
                </a:lnTo>
                <a:lnTo>
                  <a:pt x="19117" y="16200"/>
                </a:lnTo>
                <a:lnTo>
                  <a:pt x="0" y="16200"/>
                </a:lnTo>
                <a:lnTo>
                  <a:pt x="12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4624200" y="23572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 отримує Ломбард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888000" cy="2643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1"/>
          <p:cNvSpPr/>
          <p:nvPr/>
        </p:nvSpPr>
        <p:spPr>
          <a:xfrm rot="4080000">
            <a:off x="-104040" y="2113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1214280"/>
            <a:ext cx="3424320" cy="47563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3786120" y="142884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лоренція,Модена , Парма приєднуются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5"/>
          <p:cNvSpPr/>
          <p:nvPr/>
        </p:nvSpPr>
        <p:spPr>
          <a:xfrm>
            <a:off x="1168560" y="2576520"/>
            <a:ext cx="544320" cy="673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6"/>
          <p:cNvSpPr/>
          <p:nvPr/>
        </p:nvSpPr>
        <p:spPr>
          <a:xfrm>
            <a:off x="1081080" y="2330280"/>
            <a:ext cx="412920" cy="3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7"/>
          <p:cNvSpPr/>
          <p:nvPr/>
        </p:nvSpPr>
        <p:spPr>
          <a:xfrm>
            <a:off x="965160" y="2227320"/>
            <a:ext cx="357120" cy="334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Рисунок2"/>
          <p:cNvPicPr/>
          <p:nvPr/>
        </p:nvPicPr>
        <p:blipFill>
          <a:blip r:embed="rId2"/>
          <a:stretch/>
        </p:blipFill>
        <p:spPr>
          <a:xfrm>
            <a:off x="4500720" y="3429000"/>
            <a:ext cx="4000320" cy="268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Рисунок2"/>
          <p:cNvPicPr/>
          <p:nvPr/>
        </p:nvPicPr>
        <p:blipFill>
          <a:blip r:embed="rId1"/>
          <a:stretch/>
        </p:blipFill>
        <p:spPr>
          <a:xfrm>
            <a:off x="6858000" y="4145040"/>
            <a:ext cx="2071800" cy="2539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97" name="Рисунок 4" descr=""/>
          <p:cNvPicPr/>
          <p:nvPr/>
        </p:nvPicPr>
        <p:blipFill>
          <a:blip r:embed="rId2"/>
          <a:srcRect l="0" t="0" r="70" b="-13"/>
          <a:stretch/>
        </p:blipFill>
        <p:spPr>
          <a:xfrm>
            <a:off x="142920" y="91116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4634280" y="1214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0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овстання в Пале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4426560" y="200016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Експедиція “червоної тисяч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ж. Гарібальді до Сицилії та пів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Рисунок5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4000680"/>
            <a:ext cx="4572000" cy="2714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01" name="TextBox 7"/>
          <p:cNvSpPr/>
          <p:nvPr/>
        </p:nvSpPr>
        <p:spPr>
          <a:xfrm>
            <a:off x="358920" y="60721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ходження півдня Італії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илиния 8"/>
          <p:cNvSpPr/>
          <p:nvPr/>
        </p:nvSpPr>
        <p:spPr>
          <a:xfrm>
            <a:off x="1903320" y="2868480"/>
            <a:ext cx="1889280" cy="24638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трелка вниз 9"/>
          <p:cNvSpPr/>
          <p:nvPr/>
        </p:nvSpPr>
        <p:spPr>
          <a:xfrm rot="21000000">
            <a:off x="1719000" y="3149640"/>
            <a:ext cx="214200" cy="1714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3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143000"/>
            <a:ext cx="3652920" cy="50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6286680" y="2428920"/>
            <a:ext cx="2071440" cy="3355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466880" y="12859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7 березня 1861 р. – проголо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королівст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513400" y="594360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Король Віктор Еммануїл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6"/>
          <p:cNvSpPr/>
          <p:nvPr/>
        </p:nvSpPr>
        <p:spPr>
          <a:xfrm>
            <a:off x="1158840" y="2200320"/>
            <a:ext cx="862200" cy="112248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илиния 8"/>
          <p:cNvSpPr/>
          <p:nvPr/>
        </p:nvSpPr>
        <p:spPr>
          <a:xfrm>
            <a:off x="1123920" y="2170080"/>
            <a:ext cx="876240" cy="117792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илиния 9"/>
          <p:cNvSpPr/>
          <p:nvPr/>
        </p:nvSpPr>
        <p:spPr>
          <a:xfrm>
            <a:off x="2048040" y="3141720"/>
            <a:ext cx="1868400" cy="24336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10"/>
          <p:cNvSpPr/>
          <p:nvPr/>
        </p:nvSpPr>
        <p:spPr>
          <a:xfrm>
            <a:off x="372960" y="1608120"/>
            <a:ext cx="1249560" cy="113508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703440" y="3773520"/>
            <a:ext cx="545760" cy="968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олилиния 12"/>
          <p:cNvSpPr/>
          <p:nvPr/>
        </p:nvSpPr>
        <p:spPr>
          <a:xfrm>
            <a:off x="1635120" y="2238480"/>
            <a:ext cx="841320" cy="1060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200016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 rot="1860000">
            <a:off x="878760" y="29365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63560" y="2142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14200" y="1214280"/>
            <a:ext cx="3446640" cy="47865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16320" y="12859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6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руссько-австрійськая 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ыгнутая вверх стрелка 4"/>
          <p:cNvSpPr/>
          <p:nvPr/>
        </p:nvSpPr>
        <p:spPr>
          <a:xfrm rot="4320000">
            <a:off x="1413720" y="1421280"/>
            <a:ext cx="642960" cy="285840"/>
          </a:xfrm>
          <a:custGeom>
            <a:avLst/>
            <a:gdLst>
              <a:gd name="textAreaLeft" fmla="*/ 133920 w 642960"/>
              <a:gd name="textAreaRight" fmla="*/ 473400 w 6429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олилиния 5"/>
          <p:cNvSpPr/>
          <p:nvPr/>
        </p:nvSpPr>
        <p:spPr>
          <a:xfrm>
            <a:off x="291960" y="1685880"/>
            <a:ext cx="1563840" cy="1558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олилиния 6"/>
          <p:cNvSpPr/>
          <p:nvPr/>
        </p:nvSpPr>
        <p:spPr>
          <a:xfrm>
            <a:off x="601560" y="3683160"/>
            <a:ext cx="544680" cy="9032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7"/>
          <p:cNvSpPr/>
          <p:nvPr/>
        </p:nvSpPr>
        <p:spPr>
          <a:xfrm>
            <a:off x="1893960" y="3049560"/>
            <a:ext cx="1795320" cy="233208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5315760" y="2143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5021280" y="29289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ередача Вене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олилиния 10"/>
          <p:cNvSpPr/>
          <p:nvPr/>
        </p:nvSpPr>
        <p:spPr>
          <a:xfrm>
            <a:off x="1330200" y="1712880"/>
            <a:ext cx="636840" cy="604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олилиния 11"/>
          <p:cNvSpPr/>
          <p:nvPr/>
        </p:nvSpPr>
        <p:spPr>
          <a:xfrm>
            <a:off x="2790720" y="1236600"/>
            <a:ext cx="700200" cy="565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12"/>
          <p:cNvSpPr/>
          <p:nvPr/>
        </p:nvSpPr>
        <p:spPr>
          <a:xfrm>
            <a:off x="1465200" y="2303640"/>
            <a:ext cx="804960" cy="887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Рисунок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429080" y="3786120"/>
            <a:ext cx="43498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29" name="Прямоугольник 14"/>
          <p:cNvSpPr/>
          <p:nvPr/>
        </p:nvSpPr>
        <p:spPr>
          <a:xfrm rot="1920000">
            <a:off x="795960" y="28875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Group 18" descr=""/>
          <p:cNvPicPr/>
          <p:nvPr/>
        </p:nvPicPr>
        <p:blipFill>
          <a:blip r:embed="rId3"/>
          <a:stretch/>
        </p:blipFill>
        <p:spPr>
          <a:xfrm>
            <a:off x="1560600" y="914400"/>
            <a:ext cx="48096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071720"/>
            <a:ext cx="3857400" cy="5356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4610880" y="1428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70 – 1871 рр. – Франко-прус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              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5382360" y="25718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4865040" y="342900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риєднання Пап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о Італійського королі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6"/>
          <p:cNvSpPr/>
          <p:nvPr/>
        </p:nvSpPr>
        <p:spPr>
          <a:xfrm>
            <a:off x="223920" y="1641600"/>
            <a:ext cx="431640" cy="1272960"/>
          </a:xfrm>
          <a:prstGeom prst="pie">
            <a:avLst/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Выгнутая влево стрелка 7"/>
          <p:cNvSpPr/>
          <p:nvPr/>
        </p:nvSpPr>
        <p:spPr>
          <a:xfrm rot="3000000">
            <a:off x="361080" y="997920"/>
            <a:ext cx="563760" cy="1218960"/>
          </a:xfrm>
          <a:custGeom>
            <a:avLst/>
            <a:gdLst>
              <a:gd name="textAreaLeft" fmla="*/ 75240 w 563760"/>
              <a:gd name="textAreaRight" fmla="*/ 488520 w 563760"/>
              <a:gd name="textAreaTop" fmla="*/ 251640 h 1218960"/>
              <a:gd name="textAreaBottom" fmla="*/ 8967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8" stAng="-5400000" swAng="-5400000"/>
                <a:lnTo>
                  <a:pt x="0" y="11424"/>
                </a:lnTo>
                <a:arcTo wR="21600" hR="8928" stAng="10800000" swAng="-3480481"/>
                <a:lnTo>
                  <a:pt x="16200" y="21316"/>
                </a:lnTo>
                <a:lnTo>
                  <a:pt x="21600" y="19104"/>
                </a:lnTo>
                <a:lnTo>
                  <a:pt x="16200" y="16324"/>
                </a:lnTo>
                <a:lnTo>
                  <a:pt x="16200" y="17572"/>
                </a:lnTo>
                <a:arcTo wR="21600" hR="8928" stAng="7319519" swAng="3280114"/>
                <a:lnTo>
                  <a:pt x="212" y="10176"/>
                </a:lnTo>
                <a:arcTo wR="21600" hR="8928" stAng="-10599632" swAng="5199632"/>
                <a:close/>
              </a:path>
              <a:path fill="darkenLess" w="21600" h="21600">
                <a:moveTo>
                  <a:pt x="21600" y="0"/>
                </a:moveTo>
                <a:arcTo wR="21600" hR="8928" stAng="-5400000" swAng="-5400000"/>
                <a:lnTo>
                  <a:pt x="0" y="8928"/>
                </a:lnTo>
                <a:arcTo wR="21600" hR="8928" stAng="10800000" swAng="-200368"/>
                <a:lnTo>
                  <a:pt x="212" y="10176"/>
                </a:lnTo>
                <a:arcTo wR="21600" hR="8928" stAng="-10599632" swAng="5199632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oup 18" descr=""/>
          <p:cNvPicPr/>
          <p:nvPr/>
        </p:nvPicPr>
        <p:blipFill>
          <a:blip r:embed="rId2"/>
          <a:stretch/>
        </p:blipFill>
        <p:spPr>
          <a:xfrm>
            <a:off x="274680" y="1347840"/>
            <a:ext cx="480960" cy="785880"/>
          </a:xfrm>
          <a:prstGeom prst="rect">
            <a:avLst/>
          </a:prstGeom>
          <a:ln w="0">
            <a:noFill/>
          </a:ln>
        </p:spPr>
      </p:pic>
      <p:sp>
        <p:nvSpPr>
          <p:cNvPr id="538" name="Полилиния 13"/>
          <p:cNvSpPr/>
          <p:nvPr/>
        </p:nvSpPr>
        <p:spPr>
          <a:xfrm>
            <a:off x="757080" y="3811680"/>
            <a:ext cx="543240" cy="10173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14"/>
          <p:cNvSpPr/>
          <p:nvPr/>
        </p:nvSpPr>
        <p:spPr>
          <a:xfrm>
            <a:off x="398520" y="1554120"/>
            <a:ext cx="3743280" cy="421164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15"/>
          <p:cNvSpPr/>
          <p:nvPr/>
        </p:nvSpPr>
        <p:spPr>
          <a:xfrm>
            <a:off x="1790640" y="3259080"/>
            <a:ext cx="747720" cy="6969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6"/>
          <p:cNvSpPr/>
          <p:nvPr/>
        </p:nvSpPr>
        <p:spPr>
          <a:xfrm rot="2100000">
            <a:off x="757440" y="28098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4"/>
          <p:cNvPicPr/>
          <p:nvPr/>
        </p:nvPicPr>
        <p:blipFill>
          <a:blip r:embed="rId3"/>
          <a:stretch/>
        </p:blipFill>
        <p:spPr>
          <a:xfrm>
            <a:off x="6000840" y="4357800"/>
            <a:ext cx="1928880" cy="233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43" name="Полилиния 18"/>
          <p:cNvSpPr/>
          <p:nvPr/>
        </p:nvSpPr>
        <p:spPr>
          <a:xfrm>
            <a:off x="1609560" y="1554120"/>
            <a:ext cx="684360" cy="75096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19"/>
          <p:cNvSpPr/>
          <p:nvPr/>
        </p:nvSpPr>
        <p:spPr>
          <a:xfrm>
            <a:off x="1596960" y="1622520"/>
            <a:ext cx="665280" cy="739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0"/>
          <p:cNvSpPr/>
          <p:nvPr/>
        </p:nvSpPr>
        <p:spPr>
          <a:xfrm rot="4740000">
            <a:off x="-35280" y="21841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7" descr=""/>
          <p:cNvPicPr/>
          <p:nvPr/>
        </p:nvPicPr>
        <p:blipFill>
          <a:blip r:embed="rId1"/>
          <a:stretch/>
        </p:blipFill>
        <p:spPr>
          <a:xfrm>
            <a:off x="1928880" y="1000080"/>
            <a:ext cx="5959440" cy="4714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417760" y="285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вропа  в 1871 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497600" y="58579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ява на політичній карті Європи національної де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"/>
          <p:cNvSpPr/>
          <p:nvPr/>
        </p:nvSpPr>
        <p:spPr>
          <a:xfrm>
            <a:off x="3747960" y="4173480"/>
            <a:ext cx="1089000" cy="129528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8"/>
          <p:cNvSpPr/>
          <p:nvPr/>
        </p:nvSpPr>
        <p:spPr>
          <a:xfrm>
            <a:off x="3772080" y="4788000"/>
            <a:ext cx="207720" cy="36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685800" y="838080"/>
          <a:ext cx="7848720" cy="5842080"/>
        </p:xfrm>
        <a:graphic>
          <a:graphicData uri="http://schemas.openxmlformats.org/drawingml/2006/table">
            <a:tbl>
              <a:tblPr/>
              <a:tblGrid>
                <a:gridCol w="2133720"/>
                <a:gridCol w="2825640"/>
                <a:gridCol w="2889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лі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Літо 185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аємне побачення Кавура з Наполеоном ІІ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помога Франції у війні з Австріє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Черв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Маджент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Сольфер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стрійська армія розбита. П’ємонт отримав Ломбарді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Серп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у Флоренції, Пармі та Моден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і області приєднані до П’ємо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97380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Травень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«Тисячі червоносорочечників» під проводом Гарібальд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 під Калатафім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ходження Сицилії до П’ємон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7 вересня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туп Гарібальді до Неап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игнання Бурбонів з Південної Італ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голошення єдиного Італійського королі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оль Італії – Віктор-Емануїл 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6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тало-пруссько-австрій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ключення Венеціанської області до Італійського королів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0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ранко-прус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яття Риму королівськими війсь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енесення столиці Італійського королівства з Венеції до Ри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ершення об’єднання краї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2"/>
          <p:cNvSpPr/>
          <p:nvPr/>
        </p:nvSpPr>
        <p:spPr>
          <a:xfrm>
            <a:off x="20574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Хід об'єднання Італ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рямоугольник 6" descr=""/>
          <p:cNvPicPr/>
          <p:nvPr/>
        </p:nvPicPr>
        <p:blipFill>
          <a:blip r:embed="rId1"/>
          <a:stretch/>
        </p:blipFill>
        <p:spPr>
          <a:xfrm>
            <a:off x="622440" y="1487520"/>
            <a:ext cx="7802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Arial Black"/>
              </a:rPr>
              <a:t>Тестові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380880" y="458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беріть правильний варіант відпові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304920" y="1054440"/>
            <a:ext cx="83818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а з держав відіграла вирішальну роль в об’єднанні Італ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а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П’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ици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шим кроком до об’єднання німецьких земель була війна прот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ус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ици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у належать наступні слова: «Я докладу всі зусилля, аби перешкодити італійському руху стати революційним… 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ж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іктору Еммануїлу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. Кав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609480" y="1840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859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. Р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иця королівства Італ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61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2. Проголошення 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1866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3. Франко-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ємонтсько-австрійська ві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1870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4. Звільнення Сицилії та Неап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иєднання Венеції до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40280" y="6858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становіть відповідн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Прямая со стрелкой 6"/>
          <p:cNvCxnSpPr/>
          <p:nvPr/>
        </p:nvCxnSpPr>
        <p:spPr>
          <a:xfrm>
            <a:off x="1905120" y="2133360"/>
            <a:ext cx="1219680" cy="11437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59" name="Прямая со стрелкой 8"/>
          <p:cNvCxnSpPr/>
          <p:nvPr/>
        </p:nvCxnSpPr>
        <p:spPr>
          <a:xfrm>
            <a:off x="1904760" y="2666520"/>
            <a:ext cx="1143720" cy="25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0" name="Прямая со стрелкой 10"/>
          <p:cNvCxnSpPr/>
          <p:nvPr/>
        </p:nvCxnSpPr>
        <p:spPr>
          <a:xfrm>
            <a:off x="1827720" y="3276720"/>
            <a:ext cx="1220040" cy="121968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1" name="Прямая со стрелкой 12"/>
          <p:cNvCxnSpPr/>
          <p:nvPr/>
        </p:nvCxnSpPr>
        <p:spPr>
          <a:xfrm flipV="1">
            <a:off x="1827720" y="2056680"/>
            <a:ext cx="1143720" cy="1981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380880" y="53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значте послідовність поді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22860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спедиція «червоної тисячі» під керівниц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арібальді до Сицил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значення прем’єр-міністром П’ємонту К. Кав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єднання Папської області до Італійського королі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юз Франції та П’ємонту проти Авс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133720" y="3886200"/>
          <a:ext cx="411480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946080"/>
                <a:gridCol w="114624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80880" y="230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піввіднесіть імена історичних осі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 факти їхньої біограф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304920" y="1523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 Кав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тудентом вступив до організації арбонаріїв, створив товариство «Молода Італія», що ставило за мету добитися незалежності та об’єднання країни, перетворення Італії на демократичну республіку. Він говорив: «Реформ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ава королів, революц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ь секрет нар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 легенда італійського народу, безстрашний патріот, який присвятив життя визвольній боротьбі. Одні вважали його ангелом, інш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яволом. Він був дуже популярний, під його прапором йшли битися з австрійцями всі, хто мріяв про свободу Італ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. Здобув освіту у військовій академії, але ні військова, ні придворна служба його не приваблювал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ажав незалежний характер. Став уособленням п’ємонтського буржуазного дворянства. Залишивши військову службу, він повернувся до свого маєтку і перебудував господарство на капіталістичній ос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86400" y="1219320"/>
          <a:ext cx="2438280" cy="838080"/>
        </p:xfrm>
        <a:graphic>
          <a:graphicData uri="http://schemas.openxmlformats.org/drawingml/2006/table">
            <a:tbl>
              <a:tblPr/>
              <a:tblGrid>
                <a:gridCol w="830160"/>
                <a:gridCol w="831960"/>
                <a:gridCol w="77616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609480" y="1530720"/>
            <a:ext cx="7543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 Black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рацювати параграф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і на запитання до нь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значати причини, хід та наслідки об’єднання Італії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становити хронологічну послідовність даних поді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дати характеристику політичним лідерам даного пері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вчити терміни: «помірковано-ліберальний напрям об’єднання», «революційний напрям об’єднання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лан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чини об’єднання Італ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ляхи об’єд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творення Італійського королі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80720"/>
            <a:ext cx="815328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Сформулюйте причини об'єднання Італії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кажіть на карті держави, на які була поділена Італ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500280" cy="48099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918160" y="2142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Об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’</a:t>
            </a: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єднання Італ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1371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1859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941360" y="1071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1. Неаполіт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4840200" y="17146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2. Папс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5016960" y="228600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Герцогства 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3. Тос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6880680" y="285768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050"/>
                </a:solidFill>
                <a:latin typeface="Arial Black"/>
              </a:rPr>
              <a:t>4. Лу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873840" y="38577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2d050"/>
                </a:solidFill>
                <a:latin typeface="Arial Black"/>
              </a:rPr>
              <a:t>6. П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873840" y="34290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 Black"/>
              </a:rPr>
              <a:t>5.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4895640" y="4572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7. П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5042880" y="528624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8. Венеці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     </a:t>
            </a:r>
            <a:r>
              <a:rPr b="0" lang="uk-UA" sz="1600" spc="-1" strike="noStrike">
                <a:solidFill>
                  <a:srgbClr val="438086"/>
                </a:solidFill>
                <a:latin typeface="Arial Black"/>
              </a:rPr>
              <a:t>(у складі Австрійської імпер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33320" y="27860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8 дер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13"/>
          <p:cNvSpPr/>
          <p:nvPr/>
        </p:nvSpPr>
        <p:spPr>
          <a:xfrm>
            <a:off x="1847880" y="2635200"/>
            <a:ext cx="1835280" cy="2262240"/>
          </a:xfrm>
          <a:prstGeom prst="pi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14"/>
          <p:cNvSpPr/>
          <p:nvPr/>
        </p:nvSpPr>
        <p:spPr>
          <a:xfrm>
            <a:off x="1506600" y="1841400"/>
            <a:ext cx="839880" cy="1519200"/>
          </a:xfrm>
          <a:prstGeom prst="pie">
            <a:avLst/>
          </a:prstGeom>
          <a:solidFill>
            <a:srgbClr val="ffffff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15"/>
          <p:cNvSpPr/>
          <p:nvPr/>
        </p:nvSpPr>
        <p:spPr>
          <a:xfrm>
            <a:off x="1378080" y="2173320"/>
            <a:ext cx="501480" cy="782640"/>
          </a:xfrm>
          <a:prstGeom prst="pie">
            <a:avLst/>
          </a:prstGeom>
          <a:solidFill>
            <a:srgbClr val="ffc00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16"/>
          <p:cNvSpPr/>
          <p:nvPr/>
        </p:nvSpPr>
        <p:spPr>
          <a:xfrm>
            <a:off x="1287360" y="2139840"/>
            <a:ext cx="387360" cy="333360"/>
          </a:xfrm>
          <a:prstGeom prst="pie">
            <a:avLst/>
          </a:prstGeom>
          <a:solidFill>
            <a:srgbClr val="00b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7"/>
          <p:cNvSpPr/>
          <p:nvPr/>
        </p:nvSpPr>
        <p:spPr>
          <a:xfrm>
            <a:off x="1157400" y="1851120"/>
            <a:ext cx="465120" cy="353880"/>
          </a:xfrm>
          <a:prstGeom prst="pie">
            <a:avLst/>
          </a:prstGeom>
          <a:solidFill>
            <a:srgbClr val="00206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8"/>
          <p:cNvSpPr/>
          <p:nvPr/>
        </p:nvSpPr>
        <p:spPr>
          <a:xfrm>
            <a:off x="1068480" y="1758960"/>
            <a:ext cx="344520" cy="304920"/>
          </a:xfrm>
          <a:prstGeom prst="pie">
            <a:avLst/>
          </a:prstGeom>
          <a:solidFill>
            <a:srgbClr val="92d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19"/>
          <p:cNvSpPr/>
          <p:nvPr/>
        </p:nvSpPr>
        <p:spPr>
          <a:xfrm>
            <a:off x="695160" y="3208320"/>
            <a:ext cx="476280" cy="90000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20"/>
          <p:cNvSpPr/>
          <p:nvPr/>
        </p:nvSpPr>
        <p:spPr>
          <a:xfrm>
            <a:off x="450720" y="1224000"/>
            <a:ext cx="1068480" cy="103032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олилиния 21"/>
          <p:cNvSpPr/>
          <p:nvPr/>
        </p:nvSpPr>
        <p:spPr>
          <a:xfrm>
            <a:off x="1424160" y="1247760"/>
            <a:ext cx="601560" cy="619200"/>
          </a:xfrm>
          <a:prstGeom prst="pie">
            <a:avLst/>
          </a:prstGeom>
          <a:solidFill>
            <a:srgbClr val="438086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Революційно-демократич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революційні демократи, що спиралися на ремісників,селян,інтелігенцію обстоювали революційний шлях об’єднання країни в єдину демократичну республіку. Визначними представниками цього табору були Мадзіні та Гарібальд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Помірковано-лібераль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представляв інтереси ліберального дворянства і буржуазії, орієнтувалися на об’єднання під владою конституційного монарха, головне місце займав економічно розвинений П’ємонт. Лідер течії граф К. Кавур, який вважав що об’єднання країни має здійснитися «Зверху» під владою Віктора-Емануїла І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4419720" y="320040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Граф, італійський політичний і державний діяч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дипломатич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2514600" y="304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Кавур Камі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://t0.gstatic.com/images?q=tbn:ANd9GcTwp1ld6ldVODTerVuAOFqE8PFvHIygwlJVBytwvt9g0gm0c4UzfAYEIov0"/>
          <p:cNvPicPr/>
          <p:nvPr/>
        </p:nvPicPr>
        <p:blipFill>
          <a:blip r:embed="rId1"/>
          <a:stretch/>
        </p:blipFill>
        <p:spPr>
          <a:xfrm>
            <a:off x="596880" y="1127160"/>
            <a:ext cx="354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2"/>
          <p:cNvSpPr/>
          <p:nvPr/>
        </p:nvSpPr>
        <p:spPr>
          <a:xfrm>
            <a:off x="41148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революцій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bse.sci-lib.com/a_pictures/05/08/207658489.jpg"/>
          <p:cNvPicPr/>
          <p:nvPr/>
        </p:nvPicPr>
        <p:blipFill>
          <a:blip r:embed="rId1"/>
          <a:stretch/>
        </p:blipFill>
        <p:spPr>
          <a:xfrm>
            <a:off x="444600" y="1054080"/>
            <a:ext cx="3462120" cy="48340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4"/>
          <p:cNvSpPr/>
          <p:nvPr/>
        </p:nvSpPr>
        <p:spPr>
          <a:xfrm>
            <a:off x="2284200" y="3049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Мадзіні  Джузеппе</a:t>
            </a:r>
            <a:r>
              <a:rPr b="0" i="1" lang="uk-UA" sz="40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School</cp:lastModifiedBy>
  <dcterms:modified xsi:type="dcterms:W3CDTF">2012-12-10T10:05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2a000000000001024140</vt:lpwstr>
  </property>
  <property fmtid="{D5CDD505-2E9C-101B-9397-08002B2CF9AE}" pid="3" name="Version">
    <vt:r8>1</vt:r8>
  </property>
</Properties>
</file>