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38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1.png" ContentType="image/png"/>
  <Override PartName="/ppt/media/image6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ED6-3123-4D37-9372-CE32C45F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A72-0AF4-447C-81BE-D7F048BF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87C-73FC-464F-A951-BFAC4596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0FA-6DBD-4D2F-84B9-BFF83C90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4F5A-CB5F-4F7A-B02D-FD765055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9EF1-137A-430F-A6E7-64B54EF5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5CCA-A0EB-4C0B-86C0-29DD4D5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DE00-033C-44F7-822D-6E311F10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8AB-7114-4AB9-8386-97964E87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0620-02F8-4614-BB3B-B56C5AB2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8545-958B-40BA-9623-419A5B7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D0A-FB07-4A00-B655-46283017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2A8-EAA0-4402-A29C-245FFF1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3FA1-F8EA-40BF-804B-800C334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C361-EB6F-4A62-B30D-BD7A789C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27DC-160C-4594-A07E-722E7864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6573-FF09-494D-BBF4-FA3790B0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BCDE-0243-4604-BEEB-6EB57A1E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CB78-3267-4CC3-BBB8-5F7BCF5F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0FBC-E7A7-4CDA-AC7D-78953F02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5164-B7E8-4D0B-8139-0A18CB22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5944-8B1C-4703-8350-39989AAA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25B-BDDC-4194-95F2-39D96407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EEFF-F58B-4838-990B-C3F1622F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9952-D1C6-400A-B192-166674A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88CA-5BAA-42C4-865C-FAA2567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7AC4-64D3-4079-977F-E9ED9B57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97EF-314D-4D6A-99D2-F6BA5A4E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2DC9-D725-483C-B7F3-8A660584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B46A-9245-4BD9-B83F-AED7E6F0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C3D-225F-4727-85B3-DF38A1EC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3DB-8053-470F-B7ED-DE3B0AEA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054-BCFD-4C82-B1E8-DDF752E3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BBE-7737-41AD-BE2C-6D2B16C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7A0-B642-4591-B53F-627057A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F17-79B1-47EA-8F2F-91348E2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7FC5-1171-4252-B711-64F2C93AB48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7E4F-8EC7-48AA-ABDD-E44A94D67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B99A-26A4-4095-B4EE-19D906178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commons.wikimedia.org/wiki/File:Rigveda_MS2097.jpg%3Fuselang=ru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881600" y="4071600"/>
            <a:ext cx="426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614840" y="469800"/>
            <a:ext cx="4998960" cy="25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4680000" cy="6238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714760" y="1214280"/>
            <a:ext cx="39290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Розведення кіз, овець, буйволів, верблюдів, корів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віслюк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91569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84" name="Группа 11"/>
          <p:cNvGrpSpPr/>
          <p:nvPr/>
        </p:nvGrpSpPr>
        <p:grpSpPr>
          <a:xfrm>
            <a:off x="395280" y="620640"/>
            <a:ext cx="8286840" cy="6000840"/>
            <a:chOff x="395280" y="620640"/>
            <a:chExt cx="8286840" cy="6000840"/>
          </a:xfrm>
        </p:grpSpPr>
        <p:pic>
          <p:nvPicPr>
            <p:cNvPr id="285" name="Picture 2" descr=""/>
            <p:cNvPicPr/>
            <p:nvPr/>
          </p:nvPicPr>
          <p:blipFill>
            <a:blip r:embed="rId2"/>
            <a:stretch/>
          </p:blipFill>
          <p:spPr>
            <a:xfrm>
              <a:off x="395280" y="620640"/>
              <a:ext cx="23572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3"/>
            <a:stretch/>
          </p:blipFill>
          <p:spPr>
            <a:xfrm>
              <a:off x="680760" y="2692440"/>
              <a:ext cx="2714760" cy="19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4" descr=""/>
            <p:cNvPicPr/>
            <p:nvPr/>
          </p:nvPicPr>
          <p:blipFill>
            <a:blip r:embed="rId4"/>
            <a:stretch/>
          </p:blipFill>
          <p:spPr>
            <a:xfrm>
              <a:off x="2038320" y="4621320"/>
              <a:ext cx="259200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5" descr=""/>
            <p:cNvPicPr/>
            <p:nvPr/>
          </p:nvPicPr>
          <p:blipFill>
            <a:blip r:embed="rId5"/>
            <a:stretch/>
          </p:blipFill>
          <p:spPr>
            <a:xfrm>
              <a:off x="4610160" y="4621320"/>
              <a:ext cx="224568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" descr=""/>
            <p:cNvPicPr/>
            <p:nvPr/>
          </p:nvPicPr>
          <p:blipFill>
            <a:blip r:embed="rId6"/>
            <a:stretch/>
          </p:blipFill>
          <p:spPr>
            <a:xfrm>
              <a:off x="5478120" y="2692440"/>
              <a:ext cx="256104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" descr=""/>
            <p:cNvPicPr/>
            <p:nvPr/>
          </p:nvPicPr>
          <p:blipFill>
            <a:blip r:embed="rId7"/>
            <a:stretch/>
          </p:blipFill>
          <p:spPr>
            <a:xfrm>
              <a:off x="6681960" y="691920"/>
              <a:ext cx="2000160" cy="1995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0" y="6000480"/>
            <a:ext cx="91440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Гончарне, прядильне, ювелірне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20840" y="-36360"/>
            <a:ext cx="8321400" cy="969840"/>
          </a:xfrm>
          <a:prstGeom prst="rect">
            <a:avLst/>
          </a:prstGeom>
          <a:ln w="0">
            <a:noFill/>
          </a:ln>
        </p:spPr>
      </p:pic>
      <p:grpSp>
        <p:nvGrpSpPr>
          <p:cNvPr id="293" name="Группа 11"/>
          <p:cNvGrpSpPr/>
          <p:nvPr/>
        </p:nvGrpSpPr>
        <p:grpSpPr>
          <a:xfrm>
            <a:off x="785880" y="1000080"/>
            <a:ext cx="7605720" cy="5072040"/>
            <a:chOff x="785880" y="1000080"/>
            <a:chExt cx="7605720" cy="5072040"/>
          </a:xfrm>
        </p:grpSpPr>
        <p:pic>
          <p:nvPicPr>
            <p:cNvPr id="294" name="Picture 11" descr=""/>
            <p:cNvPicPr/>
            <p:nvPr/>
          </p:nvPicPr>
          <p:blipFill>
            <a:blip r:embed="rId2"/>
            <a:stretch/>
          </p:blipFill>
          <p:spPr>
            <a:xfrm>
              <a:off x="4643640" y="1000080"/>
              <a:ext cx="374796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9" descr=""/>
            <p:cNvPicPr/>
            <p:nvPr/>
          </p:nvPicPr>
          <p:blipFill>
            <a:blip r:embed="rId3"/>
            <a:stretch/>
          </p:blipFill>
          <p:spPr>
            <a:xfrm>
              <a:off x="785880" y="1000080"/>
              <a:ext cx="407232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0" descr=""/>
            <p:cNvPicPr/>
            <p:nvPr/>
          </p:nvPicPr>
          <p:blipFill>
            <a:blip r:embed="rId4"/>
            <a:stretch/>
          </p:blipFill>
          <p:spPr>
            <a:xfrm>
              <a:off x="2500200" y="4000320"/>
              <a:ext cx="4786560" cy="207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0" y="429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Times New Roman"/>
              </a:rPr>
              <a:t>Арії — «благородні люди» — кочівники-скотарі, що прийшли з північного заходу (Європи) — вважаються предками більшості європейських народів і деяких азіатських народів (індійців, персів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420840" y="-30240"/>
            <a:ext cx="8321400" cy="895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2340000" y="836640"/>
            <a:ext cx="464328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Группа 17"/>
          <p:cNvGrpSpPr/>
          <p:nvPr/>
        </p:nvGrpSpPr>
        <p:grpSpPr>
          <a:xfrm>
            <a:off x="500040" y="214200"/>
            <a:ext cx="8215200" cy="6429600"/>
            <a:chOff x="500040" y="214200"/>
            <a:chExt cx="8215200" cy="6429600"/>
          </a:xfrm>
        </p:grpSpPr>
        <p:grpSp>
          <p:nvGrpSpPr>
            <p:cNvPr id="301" name="Скругленный прямоугольник 4"/>
            <p:cNvGrpSpPr/>
            <p:nvPr/>
          </p:nvGrpSpPr>
          <p:grpSpPr>
            <a:xfrm>
              <a:off x="500040" y="214200"/>
              <a:ext cx="8215200" cy="1127880"/>
              <a:chOff x="500040" y="214200"/>
              <a:chExt cx="8215200" cy="1127880"/>
            </a:xfrm>
          </p:grpSpPr>
          <p:pic>
            <p:nvPicPr>
              <p:cNvPr id="302" name="Скругленный прямоугольник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40" y="214200"/>
                <a:ext cx="821520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88600" y="296640"/>
                <a:ext cx="774036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 Black"/>
                  </a:rPr>
                  <a:t>Наслідки арійського завоювання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Скругленный прямоугольник 5"/>
            <p:cNvGrpSpPr/>
            <p:nvPr/>
          </p:nvGrpSpPr>
          <p:grpSpPr>
            <a:xfrm>
              <a:off x="1218960" y="1221840"/>
              <a:ext cx="6504840" cy="1127880"/>
              <a:chOff x="1218960" y="1221840"/>
              <a:chExt cx="6504840" cy="1127880"/>
            </a:xfrm>
          </p:grpSpPr>
          <p:pic>
            <p:nvPicPr>
              <p:cNvPr id="305" name="Скругленный прямоугольник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8960" y="1221840"/>
                <a:ext cx="65048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1335960" y="130320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Асимілювалися з місцевим населення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Скругленный прямоугольник 6"/>
            <p:cNvGrpSpPr/>
            <p:nvPr/>
          </p:nvGrpSpPr>
          <p:grpSpPr>
            <a:xfrm>
              <a:off x="1323000" y="3368880"/>
              <a:ext cx="6441120" cy="1127880"/>
              <a:chOff x="1323000" y="3368880"/>
              <a:chExt cx="6441120" cy="1127880"/>
            </a:xfrm>
          </p:grpSpPr>
          <p:pic>
            <p:nvPicPr>
              <p:cNvPr id="308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3000" y="3368880"/>
                <a:ext cx="644112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1403640" y="345024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Перешли до осілого способу житт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Скругленный прямоугольник 7"/>
            <p:cNvGrpSpPr/>
            <p:nvPr/>
          </p:nvGrpSpPr>
          <p:grpSpPr>
            <a:xfrm>
              <a:off x="1253520" y="2292480"/>
              <a:ext cx="6441120" cy="1127880"/>
              <a:chOff x="1253520" y="2292480"/>
              <a:chExt cx="6441120" cy="1127880"/>
            </a:xfrm>
          </p:grpSpPr>
          <p:pic>
            <p:nvPicPr>
              <p:cNvPr id="311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253520" y="2292480"/>
                <a:ext cx="644112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1335960" y="237672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Почали займатися землеробство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Скругленный прямоугольник 8"/>
            <p:cNvGrpSpPr/>
            <p:nvPr/>
          </p:nvGrpSpPr>
          <p:grpSpPr>
            <a:xfrm>
              <a:off x="1323000" y="4439520"/>
              <a:ext cx="6441120" cy="1127880"/>
              <a:chOff x="1323000" y="4439520"/>
              <a:chExt cx="6441120" cy="1127880"/>
            </a:xfrm>
          </p:grpSpPr>
          <p:pic>
            <p:nvPicPr>
              <p:cNvPr id="314" name="Скругленный прямоугольник 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23000" y="4439520"/>
                <a:ext cx="644112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1403640" y="452376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Освоїли долини Гангу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Скругленный прямоугольник 9"/>
            <p:cNvGrpSpPr/>
            <p:nvPr/>
          </p:nvGrpSpPr>
          <p:grpSpPr>
            <a:xfrm>
              <a:off x="1323000" y="5464440"/>
              <a:ext cx="6441120" cy="1179360"/>
              <a:chOff x="1323000" y="5464440"/>
              <a:chExt cx="6441120" cy="1179360"/>
            </a:xfrm>
          </p:grpSpPr>
          <p:pic>
            <p:nvPicPr>
              <p:cNvPr id="317" name="Скругленный прямоугольник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323000" y="5464440"/>
                <a:ext cx="6441120" cy="11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1403640" y="559728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Створили нові держави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(правителі — раджі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Стрелка вниз 12"/>
            <p:cNvGrpSpPr/>
            <p:nvPr/>
          </p:nvGrpSpPr>
          <p:grpSpPr>
            <a:xfrm>
              <a:off x="3740760" y="1989000"/>
              <a:ext cx="898560" cy="646920"/>
              <a:chOff x="3740760" y="1989000"/>
              <a:chExt cx="898560" cy="646920"/>
            </a:xfrm>
          </p:grpSpPr>
          <p:pic>
            <p:nvPicPr>
              <p:cNvPr id="320" name="Стрелка вниз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3740760" y="1989000"/>
                <a:ext cx="898560" cy="64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4221000" y="200520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Стрелка вниз 13"/>
            <p:cNvGrpSpPr/>
            <p:nvPr/>
          </p:nvGrpSpPr>
          <p:grpSpPr>
            <a:xfrm>
              <a:off x="3677040" y="981360"/>
              <a:ext cx="892800" cy="652680"/>
              <a:chOff x="3677040" y="981360"/>
              <a:chExt cx="892800" cy="652680"/>
            </a:xfrm>
          </p:grpSpPr>
          <p:pic>
            <p:nvPicPr>
              <p:cNvPr id="323" name="Стрелка вниз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3677040" y="981360"/>
                <a:ext cx="89280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4153320" y="99864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Стрелка вниз 14"/>
            <p:cNvGrpSpPr/>
            <p:nvPr/>
          </p:nvGrpSpPr>
          <p:grpSpPr>
            <a:xfrm>
              <a:off x="3740760" y="3059640"/>
              <a:ext cx="898560" cy="652680"/>
              <a:chOff x="3740760" y="3059640"/>
              <a:chExt cx="898560" cy="652680"/>
            </a:xfrm>
          </p:grpSpPr>
          <p:pic>
            <p:nvPicPr>
              <p:cNvPr id="326" name="Стрелка вниз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3740760" y="3059640"/>
                <a:ext cx="89856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4221000" y="307872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Стрелка вниз 15"/>
            <p:cNvGrpSpPr/>
            <p:nvPr/>
          </p:nvGrpSpPr>
          <p:grpSpPr>
            <a:xfrm>
              <a:off x="3810600" y="5206680"/>
              <a:ext cx="898560" cy="652680"/>
              <a:chOff x="3810600" y="5206680"/>
              <a:chExt cx="898560" cy="652680"/>
            </a:xfrm>
          </p:grpSpPr>
          <p:pic>
            <p:nvPicPr>
              <p:cNvPr id="329" name="Стрелка вниз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810600" y="5206680"/>
                <a:ext cx="89856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4289400" y="522576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Стрелка вниз 16"/>
            <p:cNvGrpSpPr/>
            <p:nvPr/>
          </p:nvGrpSpPr>
          <p:grpSpPr>
            <a:xfrm>
              <a:off x="3740760" y="4136040"/>
              <a:ext cx="898560" cy="646920"/>
              <a:chOff x="3740760" y="4136040"/>
              <a:chExt cx="898560" cy="646920"/>
            </a:xfrm>
          </p:grpSpPr>
          <p:pic>
            <p:nvPicPr>
              <p:cNvPr id="332" name="Стрелка вниз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40760" y="4136040"/>
                <a:ext cx="898560" cy="64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4221000" y="415224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81440" y="660240"/>
            <a:ext cx="6971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нскри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літературна, давньоарійська мо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о вживалась в стародавній Інді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</a:rPr>
              <a:t>Раджа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– вождь племені арії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</a:rPr>
              <a:t>Обмінна торгівля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– обмін товарами чере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середництво предметних грош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221000"/>
            <a:ext cx="2095560" cy="2028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28400" y="9997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82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Опрацювати текст параграфа№ 20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ccecff"/>
                </a:solidFill>
                <a:latin typeface="Arial"/>
              </a:rPr>
              <a:t>Виконати завдання №7 на сторінці 114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9156960" cy="890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http://s2.hubimg.com/u/1095653_f520.jpg"/>
          <p:cNvPicPr/>
          <p:nvPr/>
        </p:nvPicPr>
        <p:blipFill>
          <a:blip r:embed="rId2"/>
          <a:stretch/>
        </p:blipFill>
        <p:spPr>
          <a:xfrm>
            <a:off x="1643040" y="2714760"/>
            <a:ext cx="5643720" cy="3722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3059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1. Що таке цивілізаці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Назвіть ознаки цивілізації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Де виникли перші цивілізації?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4. Назвіть найдавніші міст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950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12880" y="189000"/>
            <a:ext cx="75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значаємо географічне розташування  Давньої Інд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428760" y="3130560"/>
            <a:ext cx="8358120" cy="32907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31840" y="65160"/>
            <a:ext cx="8661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обота в груп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1 група.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Визначити особливості природно-кліматичних умов Північно-Західної Інд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2 група.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Визначити особливості природно-кліматичних умов Північно-Східної Інд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3 група.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Визначити особливості природно-кліматичних умов Центральної Інд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18160" y="260280"/>
            <a:ext cx="48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родно-кліматичні ум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1413000"/>
            <a:ext cx="3384360" cy="22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івнічно-Захід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частина (район р. Ін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ерегулярні о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гарячі вітри з пустел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сушливий клім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3933720"/>
            <a:ext cx="3672000" cy="22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Центральна ча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(Дек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район плоскогі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вноводні рі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ерегулярні о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1413000"/>
            <a:ext cx="3600360" cy="22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івнічно-Східна ча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(район р. Ган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часті розли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аболочені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сезон дощ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сезон пос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843280" y="692280"/>
            <a:ext cx="14414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692280"/>
            <a:ext cx="107928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692280"/>
            <a:ext cx="71280" cy="31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0040" y="6000480"/>
            <a:ext cx="83059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Мохенджо-Даро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1560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6000840" cy="431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0040" y="5715000"/>
            <a:ext cx="83059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ecff"/>
                </a:solidFill>
                <a:latin typeface="Arial"/>
              </a:rPr>
              <a:t>Харапп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7893360" cy="507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47640" y="20124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руктура міст давньої Інді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95280" y="1413000"/>
          <a:ext cx="8497800" cy="45608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нтр (піднесена частина) — фортеця прав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вколо — місце поселення городя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улиці — перетинаються під прямим кут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динки — від маленьких хатин до 2–3-х поверхових будів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обливість — наявність водогону і каналізації (вперше на Сході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0040" y="5857920"/>
            <a:ext cx="83059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Вирощування ячменю,рису, пшениці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97452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3"/>
          <p:cNvSpPr/>
          <p:nvPr/>
        </p:nvSpPr>
        <p:spPr>
          <a:xfrm>
            <a:off x="2504880" y="642960"/>
            <a:ext cx="42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емлероб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Группа 8"/>
          <p:cNvGrpSpPr/>
          <p:nvPr/>
        </p:nvGrpSpPr>
        <p:grpSpPr>
          <a:xfrm>
            <a:off x="345960" y="1357200"/>
            <a:ext cx="8501040" cy="4572000"/>
            <a:chOff x="345960" y="1357200"/>
            <a:chExt cx="8501040" cy="4572000"/>
          </a:xfrm>
        </p:grpSpPr>
        <p:pic>
          <p:nvPicPr>
            <p:cNvPr id="279" name="Picture 2" descr=""/>
            <p:cNvPicPr/>
            <p:nvPr/>
          </p:nvPicPr>
          <p:blipFill>
            <a:blip r:embed="rId2"/>
            <a:stretch/>
          </p:blipFill>
          <p:spPr>
            <a:xfrm>
              <a:off x="345960" y="1428480"/>
              <a:ext cx="3357360" cy="251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" descr=""/>
            <p:cNvPicPr/>
            <p:nvPr/>
          </p:nvPicPr>
          <p:blipFill>
            <a:blip r:embed="rId3"/>
            <a:stretch/>
          </p:blipFill>
          <p:spPr>
            <a:xfrm>
              <a:off x="5500440" y="1357200"/>
              <a:ext cx="334656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" descr=""/>
            <p:cNvPicPr/>
            <p:nvPr/>
          </p:nvPicPr>
          <p:blipFill>
            <a:blip r:embed="rId4"/>
            <a:stretch/>
          </p:blipFill>
          <p:spPr>
            <a:xfrm>
              <a:off x="3000240" y="3500280"/>
              <a:ext cx="3238560" cy="2428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User1</cp:lastModifiedBy>
  <dcterms:modified xsi:type="dcterms:W3CDTF">2012-11-27T17:34:07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NXTAG2">
    <vt:lpwstr>0008005c12000000000001024140</vt:lpwstr>
  </property>
  <property fmtid="{D5CDD505-2E9C-101B-9397-08002B2CF9AE}" pid="6" name="UserClose">
    <vt:bool>0</vt:bool>
  </property>
</Properties>
</file>