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png" ContentType="image/png"/>
  <Override PartName="/ppt/media/image36.jpeg" ContentType="image/jpeg"/>
  <Override PartName="/ppt/media/image19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38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31.png" ContentType="image/png"/>
  <Override PartName="/ppt/media/image6.png" ContentType="image/png"/>
  <Override PartName="/ppt/media/image33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50CB-2F71-42FE-94A4-9736F09D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D788-01AA-47E7-90F4-CF72D3FF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A913-7A76-4182-84BD-8B87FEB0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AB0F-FB8F-4972-B767-611A0765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16F0-6268-4B67-B53C-56C7D3C8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BAB9-755B-4E07-A26D-0B2FB124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F074-1A8D-46A2-AE70-F3C2AAA8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3779-5DA9-4176-B406-12E87514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5B96-899B-4EE1-9021-1348B00B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1D11-9A2B-4D50-BD4C-B417C2F6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E337-6022-4849-8BE7-5310CFA8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33FC-6AFD-4BFB-93EC-66B6F73F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20E2-1A22-4CF2-84C1-1D1F8BCD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31A5-6EAA-4585-85D3-7F11A0BD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5A09-C29F-4337-A8F3-F51447DE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84B5-E32F-4780-A8E5-C393EB90E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9461-EE9D-4F71-804F-D1479541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34D61-3CD4-4057-B736-72996868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B2C60-1EA9-4587-B4F9-3590147C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794CA-B7A1-4906-8311-BA5189C0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66A31-CC3A-4D5E-89AF-7C078C5F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B1AAE-43EA-4332-8FBE-E1FEB095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BA1-FFC9-462F-AED6-B3CF891F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E79F0-171E-4095-81F9-7EC1EFB0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1477E-59E7-41EA-83B6-433A4ABB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08DEC-3704-4FB0-B832-92600199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3D8C5-79EC-4574-B243-6A4171C6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6D401-7A8D-4A52-A160-9386D6D9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D3F98-516A-492B-BCC9-4948F0A8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E665E-71EB-4773-9608-D1FB2B17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60E-1FED-44B0-9052-6A0EBA23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39EA-E53D-44AB-919A-6BA6430D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DFF4-696B-40D2-BB15-AFF41D26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D040-D63D-43DC-BB65-60587DBE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ECE8-73B7-430D-B816-6E6FFB1F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DEC0-202D-43DB-B0A6-63B90554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6920-92E7-4546-8BCB-EEFB83BD6B07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6186-CE5C-4319-A520-E5C44F54BF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0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6366-DC6C-47D3-B461-1E347A7CBB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commons.wikimedia.org/wiki/File:Rigveda_MS2097.jpg%3Fuselang=ru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881600" y="4071600"/>
            <a:ext cx="426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4614840" y="469800"/>
            <a:ext cx="4998960" cy="2529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"/>
          <p:cNvPicPr/>
          <p:nvPr/>
        </p:nvPicPr>
        <p:blipFill>
          <a:blip r:embed="rId2"/>
          <a:stretch/>
        </p:blipFill>
        <p:spPr>
          <a:xfrm>
            <a:off x="285840" y="357120"/>
            <a:ext cx="4680000" cy="6238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2714760" y="1214280"/>
            <a:ext cx="3929040" cy="9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ecff"/>
                </a:solidFill>
                <a:latin typeface="Arial"/>
              </a:rPr>
              <a:t>Розведення кіз, овець, буйволів, верблюдів, корів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ecff"/>
                </a:solidFill>
                <a:latin typeface="Arial"/>
              </a:rPr>
              <a:t>віслюків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-6480" y="-115920"/>
            <a:ext cx="9156960" cy="981000"/>
          </a:xfrm>
          <a:prstGeom prst="rect">
            <a:avLst/>
          </a:prstGeom>
          <a:ln w="0">
            <a:noFill/>
          </a:ln>
        </p:spPr>
      </p:pic>
      <p:grpSp>
        <p:nvGrpSpPr>
          <p:cNvPr id="284" name="Группа 11"/>
          <p:cNvGrpSpPr/>
          <p:nvPr/>
        </p:nvGrpSpPr>
        <p:grpSpPr>
          <a:xfrm>
            <a:off x="395280" y="620640"/>
            <a:ext cx="8286840" cy="6000840"/>
            <a:chOff x="395280" y="620640"/>
            <a:chExt cx="8286840" cy="6000840"/>
          </a:xfrm>
        </p:grpSpPr>
        <p:pic>
          <p:nvPicPr>
            <p:cNvPr id="285" name="Picture 2" descr=""/>
            <p:cNvPicPr/>
            <p:nvPr/>
          </p:nvPicPr>
          <p:blipFill>
            <a:blip r:embed="rId2"/>
            <a:stretch/>
          </p:blipFill>
          <p:spPr>
            <a:xfrm>
              <a:off x="395280" y="620640"/>
              <a:ext cx="2357280" cy="21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3" descr=""/>
            <p:cNvPicPr/>
            <p:nvPr/>
          </p:nvPicPr>
          <p:blipFill>
            <a:blip r:embed="rId3"/>
            <a:stretch/>
          </p:blipFill>
          <p:spPr>
            <a:xfrm>
              <a:off x="680760" y="2692440"/>
              <a:ext cx="2714760" cy="193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4" descr=""/>
            <p:cNvPicPr/>
            <p:nvPr/>
          </p:nvPicPr>
          <p:blipFill>
            <a:blip r:embed="rId4"/>
            <a:stretch/>
          </p:blipFill>
          <p:spPr>
            <a:xfrm>
              <a:off x="2038320" y="4621320"/>
              <a:ext cx="2592000" cy="20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5" descr=""/>
            <p:cNvPicPr/>
            <p:nvPr/>
          </p:nvPicPr>
          <p:blipFill>
            <a:blip r:embed="rId5"/>
            <a:stretch/>
          </p:blipFill>
          <p:spPr>
            <a:xfrm>
              <a:off x="4610160" y="4621320"/>
              <a:ext cx="2245680" cy="20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" descr=""/>
            <p:cNvPicPr/>
            <p:nvPr/>
          </p:nvPicPr>
          <p:blipFill>
            <a:blip r:embed="rId6"/>
            <a:stretch/>
          </p:blipFill>
          <p:spPr>
            <a:xfrm>
              <a:off x="5478120" y="2692440"/>
              <a:ext cx="2561040" cy="19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7" descr=""/>
            <p:cNvPicPr/>
            <p:nvPr/>
          </p:nvPicPr>
          <p:blipFill>
            <a:blip r:embed="rId7"/>
            <a:stretch/>
          </p:blipFill>
          <p:spPr>
            <a:xfrm>
              <a:off x="6681960" y="691920"/>
              <a:ext cx="2000160" cy="1995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0" y="6000480"/>
            <a:ext cx="91440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cecff"/>
                </a:solidFill>
                <a:latin typeface="Arial"/>
              </a:rPr>
              <a:t>Гончарне, прядильне, ювелірне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420840" y="-36360"/>
            <a:ext cx="8321400" cy="969840"/>
          </a:xfrm>
          <a:prstGeom prst="rect">
            <a:avLst/>
          </a:prstGeom>
          <a:ln w="0">
            <a:noFill/>
          </a:ln>
        </p:spPr>
      </p:pic>
      <p:grpSp>
        <p:nvGrpSpPr>
          <p:cNvPr id="293" name="Группа 11"/>
          <p:cNvGrpSpPr/>
          <p:nvPr/>
        </p:nvGrpSpPr>
        <p:grpSpPr>
          <a:xfrm>
            <a:off x="785880" y="1000080"/>
            <a:ext cx="7605720" cy="5072040"/>
            <a:chOff x="785880" y="1000080"/>
            <a:chExt cx="7605720" cy="5072040"/>
          </a:xfrm>
        </p:grpSpPr>
        <p:pic>
          <p:nvPicPr>
            <p:cNvPr id="294" name="Picture 11" descr=""/>
            <p:cNvPicPr/>
            <p:nvPr/>
          </p:nvPicPr>
          <p:blipFill>
            <a:blip r:embed="rId2"/>
            <a:stretch/>
          </p:blipFill>
          <p:spPr>
            <a:xfrm>
              <a:off x="4643640" y="1000080"/>
              <a:ext cx="3747960" cy="30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9" descr=""/>
            <p:cNvPicPr/>
            <p:nvPr/>
          </p:nvPicPr>
          <p:blipFill>
            <a:blip r:embed="rId3"/>
            <a:stretch/>
          </p:blipFill>
          <p:spPr>
            <a:xfrm>
              <a:off x="785880" y="1000080"/>
              <a:ext cx="4072320" cy="30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0" descr=""/>
            <p:cNvPicPr/>
            <p:nvPr/>
          </p:nvPicPr>
          <p:blipFill>
            <a:blip r:embed="rId4"/>
            <a:stretch/>
          </p:blipFill>
          <p:spPr>
            <a:xfrm>
              <a:off x="2500200" y="4000320"/>
              <a:ext cx="4786560" cy="2071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0" y="429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cecff"/>
                </a:solidFill>
                <a:latin typeface="Times New Roman"/>
              </a:rPr>
              <a:t>Арії — «благородні люди» — кочівники-скотарі, що прийшли з північного заходу (Європи) — вважаються предками більшості європейських народів і деяких азіатських народів (індійців, персів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420840" y="-30240"/>
            <a:ext cx="8321400" cy="8953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2340000" y="836640"/>
            <a:ext cx="4643280" cy="3529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Группа 17"/>
          <p:cNvGrpSpPr/>
          <p:nvPr/>
        </p:nvGrpSpPr>
        <p:grpSpPr>
          <a:xfrm>
            <a:off x="500040" y="214200"/>
            <a:ext cx="8215200" cy="6429600"/>
            <a:chOff x="500040" y="214200"/>
            <a:chExt cx="8215200" cy="6429600"/>
          </a:xfrm>
        </p:grpSpPr>
        <p:grpSp>
          <p:nvGrpSpPr>
            <p:cNvPr id="301" name="Скругленный прямоугольник 4"/>
            <p:cNvGrpSpPr/>
            <p:nvPr/>
          </p:nvGrpSpPr>
          <p:grpSpPr>
            <a:xfrm>
              <a:off x="500040" y="214200"/>
              <a:ext cx="8215200" cy="1127880"/>
              <a:chOff x="500040" y="214200"/>
              <a:chExt cx="8215200" cy="1127880"/>
            </a:xfrm>
          </p:grpSpPr>
          <p:pic>
            <p:nvPicPr>
              <p:cNvPr id="302" name="Скругленный прямоугольник 4" descr=""/>
              <p:cNvPicPr/>
              <p:nvPr/>
            </p:nvPicPr>
            <p:blipFill>
              <a:blip r:embed="rId1"/>
              <a:stretch/>
            </p:blipFill>
            <p:spPr>
              <a:xfrm>
                <a:off x="500040" y="214200"/>
                <a:ext cx="8215200" cy="112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>
                <a:off x="588600" y="296640"/>
                <a:ext cx="7740360" cy="66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ffff"/>
                    </a:solidFill>
                    <a:latin typeface="Arial Black"/>
                  </a:rPr>
                  <a:t>Наслідки арійського завоювання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4" name="Скругленный прямоугольник 5"/>
            <p:cNvGrpSpPr/>
            <p:nvPr/>
          </p:nvGrpSpPr>
          <p:grpSpPr>
            <a:xfrm>
              <a:off x="1218960" y="1221840"/>
              <a:ext cx="6504840" cy="1127880"/>
              <a:chOff x="1218960" y="1221840"/>
              <a:chExt cx="6504840" cy="1127880"/>
            </a:xfrm>
          </p:grpSpPr>
          <p:pic>
            <p:nvPicPr>
              <p:cNvPr id="305" name="Скругленный прямоугольник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8960" y="1221840"/>
                <a:ext cx="6504840" cy="112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"/>
              <p:cNvSpPr/>
              <p:nvPr/>
            </p:nvSpPr>
            <p:spPr>
              <a:xfrm>
                <a:off x="1335960" y="1303200"/>
                <a:ext cx="5973840" cy="66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Calibri"/>
                  </a:rPr>
                  <a:t>Асимілювалися з місцевим населенням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" name="Скругленный прямоугольник 6"/>
            <p:cNvGrpSpPr/>
            <p:nvPr/>
          </p:nvGrpSpPr>
          <p:grpSpPr>
            <a:xfrm>
              <a:off x="1323000" y="3368880"/>
              <a:ext cx="6441120" cy="1127880"/>
              <a:chOff x="1323000" y="3368880"/>
              <a:chExt cx="6441120" cy="1127880"/>
            </a:xfrm>
          </p:grpSpPr>
          <p:pic>
            <p:nvPicPr>
              <p:cNvPr id="308" name="Скругленный прямоугольник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323000" y="3368880"/>
                <a:ext cx="6441120" cy="112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1403640" y="3450240"/>
                <a:ext cx="5973840" cy="66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Calibri"/>
                  </a:rPr>
                  <a:t>Перешли до осілого способу життя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0" name="Скругленный прямоугольник 7"/>
            <p:cNvGrpSpPr/>
            <p:nvPr/>
          </p:nvGrpSpPr>
          <p:grpSpPr>
            <a:xfrm>
              <a:off x="1253520" y="2292480"/>
              <a:ext cx="6441120" cy="1127880"/>
              <a:chOff x="1253520" y="2292480"/>
              <a:chExt cx="6441120" cy="1127880"/>
            </a:xfrm>
          </p:grpSpPr>
          <p:pic>
            <p:nvPicPr>
              <p:cNvPr id="311" name="Скругленный прямоугольник 7" descr=""/>
              <p:cNvPicPr/>
              <p:nvPr/>
            </p:nvPicPr>
            <p:blipFill>
              <a:blip r:embed="rId4"/>
              <a:stretch/>
            </p:blipFill>
            <p:spPr>
              <a:xfrm>
                <a:off x="1253520" y="2292480"/>
                <a:ext cx="6441120" cy="112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1335960" y="2376720"/>
                <a:ext cx="5973840" cy="66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Calibri"/>
                  </a:rPr>
                  <a:t>Почали займатися землеробством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3" name="Скругленный прямоугольник 8"/>
            <p:cNvGrpSpPr/>
            <p:nvPr/>
          </p:nvGrpSpPr>
          <p:grpSpPr>
            <a:xfrm>
              <a:off x="1323000" y="4439520"/>
              <a:ext cx="6441120" cy="1127880"/>
              <a:chOff x="1323000" y="4439520"/>
              <a:chExt cx="6441120" cy="1127880"/>
            </a:xfrm>
          </p:grpSpPr>
          <p:pic>
            <p:nvPicPr>
              <p:cNvPr id="314" name="Скругленный прямоугольник 8" descr=""/>
              <p:cNvPicPr/>
              <p:nvPr/>
            </p:nvPicPr>
            <p:blipFill>
              <a:blip r:embed="rId5"/>
              <a:stretch/>
            </p:blipFill>
            <p:spPr>
              <a:xfrm>
                <a:off x="1323000" y="4439520"/>
                <a:ext cx="6441120" cy="112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1403640" y="4523760"/>
                <a:ext cx="5973840" cy="66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Calibri"/>
                  </a:rPr>
                  <a:t>Освоїли долини Гангу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6" name="Скругленный прямоугольник 9"/>
            <p:cNvGrpSpPr/>
            <p:nvPr/>
          </p:nvGrpSpPr>
          <p:grpSpPr>
            <a:xfrm>
              <a:off x="1323000" y="5464440"/>
              <a:ext cx="6441120" cy="1179360"/>
              <a:chOff x="1323000" y="5464440"/>
              <a:chExt cx="6441120" cy="1179360"/>
            </a:xfrm>
          </p:grpSpPr>
          <p:pic>
            <p:nvPicPr>
              <p:cNvPr id="317" name="Скругленный прямоугольник 9" descr=""/>
              <p:cNvPicPr/>
              <p:nvPr/>
            </p:nvPicPr>
            <p:blipFill>
              <a:blip r:embed="rId6"/>
              <a:stretch/>
            </p:blipFill>
            <p:spPr>
              <a:xfrm>
                <a:off x="1323000" y="5464440"/>
                <a:ext cx="6441120" cy="11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"/>
              <p:cNvSpPr/>
              <p:nvPr/>
            </p:nvSpPr>
            <p:spPr>
              <a:xfrm>
                <a:off x="1403640" y="5597280"/>
                <a:ext cx="5973840" cy="66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Calibri"/>
                  </a:rPr>
                  <a:t>Створили нові держави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"/>
                    <a:ea typeface="Calibri"/>
                  </a:rPr>
                  <a:t>(правителі — раджі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9" name="Стрелка вниз 12"/>
            <p:cNvGrpSpPr/>
            <p:nvPr/>
          </p:nvGrpSpPr>
          <p:grpSpPr>
            <a:xfrm>
              <a:off x="3740760" y="1989000"/>
              <a:ext cx="898560" cy="646920"/>
              <a:chOff x="3740760" y="1989000"/>
              <a:chExt cx="898560" cy="646920"/>
            </a:xfrm>
          </p:grpSpPr>
          <p:pic>
            <p:nvPicPr>
              <p:cNvPr id="320" name="Стрелка вниз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3740760" y="1989000"/>
                <a:ext cx="898560" cy="64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"/>
              <p:cNvSpPr/>
              <p:nvPr/>
            </p:nvSpPr>
            <p:spPr>
              <a:xfrm>
                <a:off x="4221000" y="2005200"/>
                <a:ext cx="271800" cy="25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2" name="Стрелка вниз 13"/>
            <p:cNvGrpSpPr/>
            <p:nvPr/>
          </p:nvGrpSpPr>
          <p:grpSpPr>
            <a:xfrm>
              <a:off x="3677040" y="981360"/>
              <a:ext cx="892800" cy="652680"/>
              <a:chOff x="3677040" y="981360"/>
              <a:chExt cx="892800" cy="652680"/>
            </a:xfrm>
          </p:grpSpPr>
          <p:pic>
            <p:nvPicPr>
              <p:cNvPr id="323" name="Стрелка вниз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3677040" y="981360"/>
                <a:ext cx="892800" cy="65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4" name=""/>
              <p:cNvSpPr/>
              <p:nvPr/>
            </p:nvSpPr>
            <p:spPr>
              <a:xfrm>
                <a:off x="4153320" y="998640"/>
                <a:ext cx="271800" cy="25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5" name="Стрелка вниз 14"/>
            <p:cNvGrpSpPr/>
            <p:nvPr/>
          </p:nvGrpSpPr>
          <p:grpSpPr>
            <a:xfrm>
              <a:off x="3740760" y="3059640"/>
              <a:ext cx="898560" cy="652680"/>
              <a:chOff x="3740760" y="3059640"/>
              <a:chExt cx="898560" cy="652680"/>
            </a:xfrm>
          </p:grpSpPr>
          <p:pic>
            <p:nvPicPr>
              <p:cNvPr id="326" name="Стрелка вниз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3740760" y="3059640"/>
                <a:ext cx="898560" cy="65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7" name=""/>
              <p:cNvSpPr/>
              <p:nvPr/>
            </p:nvSpPr>
            <p:spPr>
              <a:xfrm>
                <a:off x="4221000" y="3078720"/>
                <a:ext cx="271800" cy="25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8" name="Стрелка вниз 15"/>
            <p:cNvGrpSpPr/>
            <p:nvPr/>
          </p:nvGrpSpPr>
          <p:grpSpPr>
            <a:xfrm>
              <a:off x="3810600" y="5206680"/>
              <a:ext cx="898560" cy="652680"/>
              <a:chOff x="3810600" y="5206680"/>
              <a:chExt cx="898560" cy="652680"/>
            </a:xfrm>
          </p:grpSpPr>
          <p:pic>
            <p:nvPicPr>
              <p:cNvPr id="329" name="Стрелка вниз 15" descr=""/>
              <p:cNvPicPr/>
              <p:nvPr/>
            </p:nvPicPr>
            <p:blipFill>
              <a:blip r:embed="rId10"/>
              <a:stretch/>
            </p:blipFill>
            <p:spPr>
              <a:xfrm>
                <a:off x="3810600" y="5206680"/>
                <a:ext cx="898560" cy="65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0" name=""/>
              <p:cNvSpPr/>
              <p:nvPr/>
            </p:nvSpPr>
            <p:spPr>
              <a:xfrm>
                <a:off x="4289400" y="5225760"/>
                <a:ext cx="271800" cy="25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1" name="Стрелка вниз 16"/>
            <p:cNvGrpSpPr/>
            <p:nvPr/>
          </p:nvGrpSpPr>
          <p:grpSpPr>
            <a:xfrm>
              <a:off x="3740760" y="4136040"/>
              <a:ext cx="898560" cy="646920"/>
              <a:chOff x="3740760" y="4136040"/>
              <a:chExt cx="898560" cy="646920"/>
            </a:xfrm>
          </p:grpSpPr>
          <p:pic>
            <p:nvPicPr>
              <p:cNvPr id="332" name="Стрелка вниз 16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40760" y="4136040"/>
                <a:ext cx="898560" cy="64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3" name=""/>
              <p:cNvSpPr/>
              <p:nvPr/>
            </p:nvSpPr>
            <p:spPr>
              <a:xfrm>
                <a:off x="4221000" y="4152240"/>
                <a:ext cx="271800" cy="25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081440" y="660240"/>
            <a:ext cx="6971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анскрит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– літературна, давньоарійська мов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що вживалась в стародавній Індії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imes New Roman"/>
              </a:rPr>
              <a:t>Раджа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– вождь племені арії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Times New Roman"/>
              </a:rPr>
              <a:t>Обмінна торгівля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– обмін товарами чере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посередництво предметних грош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4221000"/>
            <a:ext cx="2095560" cy="2028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28400" y="99972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82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cecff"/>
                </a:solidFill>
                <a:latin typeface="Arial"/>
              </a:rPr>
              <a:t>Опрацювати текст параграфа№ 20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2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ccecff"/>
                </a:solidFill>
                <a:latin typeface="Arial"/>
              </a:rPr>
              <a:t>Виконати завдання №7 на сторінці 114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-6480" y="115920"/>
            <a:ext cx="9156960" cy="8906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http://s2.hubimg.com/u/1095653_f520.jpg"/>
          <p:cNvPicPr/>
          <p:nvPr/>
        </p:nvPicPr>
        <p:blipFill>
          <a:blip r:embed="rId2"/>
          <a:stretch/>
        </p:blipFill>
        <p:spPr>
          <a:xfrm>
            <a:off x="1643040" y="2714760"/>
            <a:ext cx="5643720" cy="3722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395280" y="549360"/>
            <a:ext cx="830592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1. Що таке цивілізація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2. Назвіть ознаки цивілізації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3. Де виникли перші цивілізації?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4. Назвіть найдавніші міста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713800" cy="59500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812880" y="189000"/>
            <a:ext cx="75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изначаємо географічне розташування  Давньої Інді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428760" y="3130560"/>
            <a:ext cx="8358120" cy="32907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31840" y="65160"/>
            <a:ext cx="86612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Робота в група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1 група.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Визначити особливості природно-кліматичних умов Північно-Західної Індії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2 група.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Визначити особливості природно-кліматичних умов Північно-Східної Індії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imes New Roman"/>
              </a:rPr>
              <a:t>3 група.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Визначити особливості природно-кліматичних умов Центральної Індії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018160" y="260280"/>
            <a:ext cx="48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Природно-кліматичні умов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" y="1413000"/>
            <a:ext cx="3384360" cy="22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Північно-Захід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частина (район р. Інд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нерегулярні оп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гарячі вітри з пустел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посушливий клім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00360" y="3933720"/>
            <a:ext cx="3672000" cy="22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Центральна част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(Дека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район плоскогір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повноводні рі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нерегулярні опа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19640" y="1413000"/>
            <a:ext cx="3600360" cy="22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Північно-Східна част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(район р. Ган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часті розли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заболочені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сезон дощ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сезон посу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843280" y="692280"/>
            <a:ext cx="144144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788000" y="692280"/>
            <a:ext cx="1079280" cy="64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00720" y="692280"/>
            <a:ext cx="71280" cy="31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00040" y="6000480"/>
            <a:ext cx="830592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cecff"/>
                </a:solidFill>
                <a:latin typeface="Arial"/>
              </a:rPr>
              <a:t>Мохенджо-Даро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-6480" y="-55440"/>
            <a:ext cx="9156960" cy="1560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"/>
          <p:cNvPicPr/>
          <p:nvPr/>
        </p:nvPicPr>
        <p:blipFill>
          <a:blip r:embed="rId2"/>
          <a:stretch/>
        </p:blipFill>
        <p:spPr>
          <a:xfrm>
            <a:off x="1643040" y="1643040"/>
            <a:ext cx="6000840" cy="4313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0040" y="5715000"/>
            <a:ext cx="83059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ecff"/>
                </a:solidFill>
                <a:latin typeface="Arial"/>
              </a:rPr>
              <a:t>Хараппа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714240" y="428760"/>
            <a:ext cx="7893360" cy="5072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547640" y="20124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Структура міст давньої Інді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95280" y="1413000"/>
          <a:ext cx="8497800" cy="456084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12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Центр (піднесена частина) — фортеця правител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вколо — місце поселення городя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улиці — перетинаються під прямим куто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удинки — від маленьких хатин до 2–3-х поверхових будівел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собливість — наявність водогону і каналізації (вперше на Сході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0" y="44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00040" y="5857920"/>
            <a:ext cx="83059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cecff"/>
                </a:solidFill>
                <a:latin typeface="Arial"/>
              </a:rPr>
              <a:t>Вирощування ячменю,рису, пшениці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-6480" y="-182520"/>
            <a:ext cx="9156960" cy="97452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3"/>
          <p:cNvSpPr/>
          <p:nvPr/>
        </p:nvSpPr>
        <p:spPr>
          <a:xfrm>
            <a:off x="2504880" y="642960"/>
            <a:ext cx="422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емлероб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" name="Группа 8"/>
          <p:cNvGrpSpPr/>
          <p:nvPr/>
        </p:nvGrpSpPr>
        <p:grpSpPr>
          <a:xfrm>
            <a:off x="345960" y="1357200"/>
            <a:ext cx="8501040" cy="4572000"/>
            <a:chOff x="345960" y="1357200"/>
            <a:chExt cx="8501040" cy="4572000"/>
          </a:xfrm>
        </p:grpSpPr>
        <p:pic>
          <p:nvPicPr>
            <p:cNvPr id="279" name="Picture 2" descr=""/>
            <p:cNvPicPr/>
            <p:nvPr/>
          </p:nvPicPr>
          <p:blipFill>
            <a:blip r:embed="rId2"/>
            <a:stretch/>
          </p:blipFill>
          <p:spPr>
            <a:xfrm>
              <a:off x="345960" y="1428480"/>
              <a:ext cx="3357360" cy="251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4" descr=""/>
            <p:cNvPicPr/>
            <p:nvPr/>
          </p:nvPicPr>
          <p:blipFill>
            <a:blip r:embed="rId3"/>
            <a:stretch/>
          </p:blipFill>
          <p:spPr>
            <a:xfrm>
              <a:off x="5500440" y="1357200"/>
              <a:ext cx="3346560" cy="25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3" descr=""/>
            <p:cNvPicPr/>
            <p:nvPr/>
          </p:nvPicPr>
          <p:blipFill>
            <a:blip r:embed="rId4"/>
            <a:stretch/>
          </p:blipFill>
          <p:spPr>
            <a:xfrm>
              <a:off x="3000240" y="3500280"/>
              <a:ext cx="3238560" cy="2428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05:28:58Z</dcterms:created>
  <dc:creator/>
  <dc:description/>
  <dc:language>en-US</dc:language>
  <cp:lastModifiedBy>User1</cp:lastModifiedBy>
  <dcterms:modified xsi:type="dcterms:W3CDTF">2012-11-27T17:34:07Z</dcterms:modified>
  <cp:revision>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ookName">
    <vt:lpwstr/>
  </property>
  <property fmtid="{D5CDD505-2E9C-101B-9397-08002B2CF9AE}" pid="3" name="IsFreeze">
    <vt:bool>0</vt:bool>
  </property>
  <property fmtid="{D5CDD505-2E9C-101B-9397-08002B2CF9AE}" pid="4" name="MayClose">
    <vt:bool>0</vt:bool>
  </property>
  <property fmtid="{D5CDD505-2E9C-101B-9397-08002B2CF9AE}" pid="5" name="NXTAG2">
    <vt:lpwstr>0008005c12000000000001024140</vt:lpwstr>
  </property>
  <property fmtid="{D5CDD505-2E9C-101B-9397-08002B2CF9AE}" pid="6" name="UserClose">
    <vt:bool>0</vt:bool>
  </property>
</Properties>
</file>