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38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597-8EA3-4FA8-B06A-EB0551FD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BFA-F004-4752-A028-ADD9A22E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1B-A769-41E8-9417-0DF9BF2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CDA-FA08-47DE-8B73-FFA0305A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3EF2-339A-41E8-B079-0E13C111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3EB9-28C9-4513-8907-3040B54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940-708F-4094-ADC6-C812FBA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892-A647-4965-A0C9-29C85510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C46-7C7F-4A1C-89B9-70FDE493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A909-EA7F-427C-8C60-2E6B8C9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6A8-1F86-43EE-BFE0-37FE5AD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847-7D2B-49C7-9E32-A35852AE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F06-2510-49AB-B913-8790551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7E0-22C4-455B-8F73-A0A17FF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58D-A073-46BF-A6E6-E3DE9AC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E24F-40E0-41AE-88D1-B110ED26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CD66-A783-46F5-AB87-469B70EC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AA88-D918-486C-9ED5-55DD9B9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BD6E-9D2E-4BE8-9F53-47EE1B0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F1DC-891F-4CDC-BAFA-12490D4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BD67-14D5-47A6-B9FD-0CF8F43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15ED-48E3-4885-BC6C-147EC97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7C7-970F-43D1-A1B7-722528F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E176-5BEE-4631-BFA1-45AFF6D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6674-C5A6-4B58-95F6-495B0B6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FA02-74B1-46A2-B725-358F8B0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FAE9-25EB-41BF-AB0D-079C38B3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5B7C-55AC-4139-AB9F-07F4BF1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8EAE-1ACF-4F5E-B404-F4AC763A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875B-0CFF-4417-87ED-E9566F7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FE9-9D95-415F-ACB8-0B1B29DE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757-A631-41EF-AB94-FF714223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409-9B1F-496B-8B64-435B62E7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FEB-ACF1-4DEC-AC86-AC8176C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CB2-5DA8-47DA-B1AA-4AF754D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203-21EB-4473-9E5E-AB4A2F9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33B1-EFC4-48C5-9032-4D98A3FC088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5BD-8BC9-49F7-8912-EE46DA000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B3C-29E1-463C-9F9C-E79100807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Rigveda_MS2097.jpg%3Fuselang=ru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881600" y="4071600"/>
            <a:ext cx="426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14840" y="469800"/>
            <a:ext cx="4998960" cy="25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4680000" cy="6238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714760" y="1214280"/>
            <a:ext cx="39290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Розведення кіз, овець, буйволів, верблюдів, корів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віслюк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11"/>
          <p:cNvGrpSpPr/>
          <p:nvPr/>
        </p:nvGrpSpPr>
        <p:grpSpPr>
          <a:xfrm>
            <a:off x="395280" y="620640"/>
            <a:ext cx="8286840" cy="6000840"/>
            <a:chOff x="395280" y="620640"/>
            <a:chExt cx="8286840" cy="6000840"/>
          </a:xfrm>
        </p:grpSpPr>
        <p:pic>
          <p:nvPicPr>
            <p:cNvPr id="285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23572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3"/>
            <a:stretch/>
          </p:blipFill>
          <p:spPr>
            <a:xfrm>
              <a:off x="680760" y="2692440"/>
              <a:ext cx="2714760" cy="19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" descr=""/>
            <p:cNvPicPr/>
            <p:nvPr/>
          </p:nvPicPr>
          <p:blipFill>
            <a:blip r:embed="rId4"/>
            <a:stretch/>
          </p:blipFill>
          <p:spPr>
            <a:xfrm>
              <a:off x="2038320" y="4621320"/>
              <a:ext cx="259200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5"/>
            <a:stretch/>
          </p:blipFill>
          <p:spPr>
            <a:xfrm>
              <a:off x="4610160" y="4621320"/>
              <a:ext cx="22456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"/>
            <p:cNvPicPr/>
            <p:nvPr/>
          </p:nvPicPr>
          <p:blipFill>
            <a:blip r:embed="rId6"/>
            <a:stretch/>
          </p:blipFill>
          <p:spPr>
            <a:xfrm>
              <a:off x="5478120" y="2692440"/>
              <a:ext cx="2561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"/>
            <p:cNvPicPr/>
            <p:nvPr/>
          </p:nvPicPr>
          <p:blipFill>
            <a:blip r:embed="rId7"/>
            <a:stretch/>
          </p:blipFill>
          <p:spPr>
            <a:xfrm>
              <a:off x="6681960" y="691920"/>
              <a:ext cx="2000160" cy="1995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0" y="6000480"/>
            <a:ext cx="91440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Гончарне, прядильне, ювелірне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20840" y="-36360"/>
            <a:ext cx="8321400" cy="969840"/>
          </a:xfrm>
          <a:prstGeom prst="rect">
            <a:avLst/>
          </a:prstGeom>
          <a:ln w="0">
            <a:noFill/>
          </a:ln>
        </p:spPr>
      </p:pic>
      <p:grpSp>
        <p:nvGrpSpPr>
          <p:cNvPr id="293" name="Группа 11"/>
          <p:cNvGrpSpPr/>
          <p:nvPr/>
        </p:nvGrpSpPr>
        <p:grpSpPr>
          <a:xfrm>
            <a:off x="785880" y="1000080"/>
            <a:ext cx="7605720" cy="5072040"/>
            <a:chOff x="785880" y="1000080"/>
            <a:chExt cx="7605720" cy="5072040"/>
          </a:xfrm>
        </p:grpSpPr>
        <p:pic>
          <p:nvPicPr>
            <p:cNvPr id="294" name="Picture 11" descr=""/>
            <p:cNvPicPr/>
            <p:nvPr/>
          </p:nvPicPr>
          <p:blipFill>
            <a:blip r:embed="rId2"/>
            <a:stretch/>
          </p:blipFill>
          <p:spPr>
            <a:xfrm>
              <a:off x="4643640" y="1000080"/>
              <a:ext cx="374796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"/>
            <p:cNvPicPr/>
            <p:nvPr/>
          </p:nvPicPr>
          <p:blipFill>
            <a:blip r:embed="rId3"/>
            <a:stretch/>
          </p:blipFill>
          <p:spPr>
            <a:xfrm>
              <a:off x="785880" y="1000080"/>
              <a:ext cx="407232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0" descr=""/>
            <p:cNvPicPr/>
            <p:nvPr/>
          </p:nvPicPr>
          <p:blipFill>
            <a:blip r:embed="rId4"/>
            <a:stretch/>
          </p:blipFill>
          <p:spPr>
            <a:xfrm>
              <a:off x="2500200" y="4000320"/>
              <a:ext cx="4786560" cy="207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Times New Roman"/>
              </a:rPr>
              <a:t>Арії — «благородні люди» — кочівники-скотарі, що прийшли з північного заходу (Європи) — вважаються предками більшості європейських народів і деяких азіатських народів (індійців, персів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420840" y="-30240"/>
            <a:ext cx="8321400" cy="895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64328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17"/>
          <p:cNvGrpSpPr/>
          <p:nvPr/>
        </p:nvGrpSpPr>
        <p:grpSpPr>
          <a:xfrm>
            <a:off x="500040" y="214200"/>
            <a:ext cx="8215200" cy="6429600"/>
            <a:chOff x="500040" y="214200"/>
            <a:chExt cx="8215200" cy="6429600"/>
          </a:xfrm>
        </p:grpSpPr>
        <p:grpSp>
          <p:nvGrpSpPr>
            <p:cNvPr id="301" name="Скругленный прямоугольник 4"/>
            <p:cNvGrpSpPr/>
            <p:nvPr/>
          </p:nvGrpSpPr>
          <p:grpSpPr>
            <a:xfrm>
              <a:off x="500040" y="214200"/>
              <a:ext cx="8215200" cy="1127880"/>
              <a:chOff x="500040" y="214200"/>
              <a:chExt cx="8215200" cy="1127880"/>
            </a:xfrm>
          </p:grpSpPr>
          <p:pic>
            <p:nvPicPr>
              <p:cNvPr id="302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214200"/>
                <a:ext cx="821520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88600" y="296640"/>
                <a:ext cx="774036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 Black"/>
                  </a:rPr>
                  <a:t>Наслідки арійського завоюванн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Скругленный прямоугольник 5"/>
            <p:cNvGrpSpPr/>
            <p:nvPr/>
          </p:nvGrpSpPr>
          <p:grpSpPr>
            <a:xfrm>
              <a:off x="1218960" y="1221840"/>
              <a:ext cx="6504840" cy="1127880"/>
              <a:chOff x="1218960" y="1221840"/>
              <a:chExt cx="6504840" cy="1127880"/>
            </a:xfrm>
          </p:grpSpPr>
          <p:pic>
            <p:nvPicPr>
              <p:cNvPr id="305" name="Скругленный прямоугольник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1221840"/>
                <a:ext cx="65048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1335960" y="130320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Асимілювалися з місцевим населення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Скругленный прямоугольник 6"/>
            <p:cNvGrpSpPr/>
            <p:nvPr/>
          </p:nvGrpSpPr>
          <p:grpSpPr>
            <a:xfrm>
              <a:off x="1323000" y="3368880"/>
              <a:ext cx="6441120" cy="1127880"/>
              <a:chOff x="1323000" y="3368880"/>
              <a:chExt cx="6441120" cy="1127880"/>
            </a:xfrm>
          </p:grpSpPr>
          <p:pic>
            <p:nvPicPr>
              <p:cNvPr id="308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3000" y="33688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403640" y="345024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ерешли до осілого способу житт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Скругленный прямоугольник 7"/>
            <p:cNvGrpSpPr/>
            <p:nvPr/>
          </p:nvGrpSpPr>
          <p:grpSpPr>
            <a:xfrm>
              <a:off x="1253520" y="2292480"/>
              <a:ext cx="6441120" cy="1127880"/>
              <a:chOff x="1253520" y="2292480"/>
              <a:chExt cx="6441120" cy="1127880"/>
            </a:xfrm>
          </p:grpSpPr>
          <p:pic>
            <p:nvPicPr>
              <p:cNvPr id="311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3520" y="22924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1335960" y="237672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очали займатися землеробство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Скругленный прямоугольник 8"/>
            <p:cNvGrpSpPr/>
            <p:nvPr/>
          </p:nvGrpSpPr>
          <p:grpSpPr>
            <a:xfrm>
              <a:off x="1323000" y="4439520"/>
              <a:ext cx="6441120" cy="1127880"/>
              <a:chOff x="1323000" y="4439520"/>
              <a:chExt cx="6441120" cy="1127880"/>
            </a:xfrm>
          </p:grpSpPr>
          <p:pic>
            <p:nvPicPr>
              <p:cNvPr id="314" name="Скругленный прямоугольник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3000" y="443952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403640" y="452376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Освоїли долини Ганг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Скругленный прямоугольник 9"/>
            <p:cNvGrpSpPr/>
            <p:nvPr/>
          </p:nvGrpSpPr>
          <p:grpSpPr>
            <a:xfrm>
              <a:off x="1323000" y="5464440"/>
              <a:ext cx="6441120" cy="1179360"/>
              <a:chOff x="1323000" y="5464440"/>
              <a:chExt cx="6441120" cy="1179360"/>
            </a:xfrm>
          </p:grpSpPr>
          <p:pic>
            <p:nvPicPr>
              <p:cNvPr id="317" name="Скругленный прямоугольник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323000" y="5464440"/>
                <a:ext cx="6441120" cy="11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403640" y="559728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Створили нові держави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(правителі — раджі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Стрелка вниз 12"/>
            <p:cNvGrpSpPr/>
            <p:nvPr/>
          </p:nvGrpSpPr>
          <p:grpSpPr>
            <a:xfrm>
              <a:off x="3740760" y="1989000"/>
              <a:ext cx="898560" cy="646920"/>
              <a:chOff x="3740760" y="1989000"/>
              <a:chExt cx="898560" cy="646920"/>
            </a:xfrm>
          </p:grpSpPr>
          <p:pic>
            <p:nvPicPr>
              <p:cNvPr id="320" name="Стрелка вниз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740760" y="198900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4221000" y="200520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Стрелка вниз 13"/>
            <p:cNvGrpSpPr/>
            <p:nvPr/>
          </p:nvGrpSpPr>
          <p:grpSpPr>
            <a:xfrm>
              <a:off x="3677040" y="981360"/>
              <a:ext cx="892800" cy="652680"/>
              <a:chOff x="3677040" y="981360"/>
              <a:chExt cx="892800" cy="652680"/>
            </a:xfrm>
          </p:grpSpPr>
          <p:pic>
            <p:nvPicPr>
              <p:cNvPr id="323" name="Стрелка вниз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3677040" y="981360"/>
                <a:ext cx="89280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4153320" y="9986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Стрелка вниз 14"/>
            <p:cNvGrpSpPr/>
            <p:nvPr/>
          </p:nvGrpSpPr>
          <p:grpSpPr>
            <a:xfrm>
              <a:off x="3740760" y="3059640"/>
              <a:ext cx="898560" cy="652680"/>
              <a:chOff x="3740760" y="3059640"/>
              <a:chExt cx="898560" cy="652680"/>
            </a:xfrm>
          </p:grpSpPr>
          <p:pic>
            <p:nvPicPr>
              <p:cNvPr id="326" name="Стрелка вниз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0760" y="305964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4221000" y="307872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Стрелка вниз 15"/>
            <p:cNvGrpSpPr/>
            <p:nvPr/>
          </p:nvGrpSpPr>
          <p:grpSpPr>
            <a:xfrm>
              <a:off x="3810600" y="5206680"/>
              <a:ext cx="898560" cy="652680"/>
              <a:chOff x="3810600" y="5206680"/>
              <a:chExt cx="898560" cy="652680"/>
            </a:xfrm>
          </p:grpSpPr>
          <p:pic>
            <p:nvPicPr>
              <p:cNvPr id="329" name="Стрелка вниз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10600" y="520668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4289400" y="522576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Стрелка вниз 16"/>
            <p:cNvGrpSpPr/>
            <p:nvPr/>
          </p:nvGrpSpPr>
          <p:grpSpPr>
            <a:xfrm>
              <a:off x="3740760" y="4136040"/>
              <a:ext cx="898560" cy="646920"/>
              <a:chOff x="3740760" y="4136040"/>
              <a:chExt cx="898560" cy="646920"/>
            </a:xfrm>
          </p:grpSpPr>
          <p:pic>
            <p:nvPicPr>
              <p:cNvPr id="332" name="Стрелка вниз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40760" y="413604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221000" y="41522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1440" y="660240"/>
            <a:ext cx="6971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нскри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ітературна, давньоарійська м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о вживалась в стародавній Інд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Радж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вождь племені арії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Обмінна торгівля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обмін товарами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ередництво предметних грош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221000"/>
            <a:ext cx="2095560" cy="2028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8400" y="9997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Опрацювати текст параграфа№ 2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ccecff"/>
                </a:solidFill>
                <a:latin typeface="Arial"/>
              </a:rPr>
              <a:t>Виконати завдання №7 на сторінці 114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9156960" cy="89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http://s2.hubimg.com/u/1095653_f520.jpg"/>
          <p:cNvPicPr/>
          <p:nvPr/>
        </p:nvPicPr>
        <p:blipFill>
          <a:blip r:embed="rId2"/>
          <a:stretch/>
        </p:blipFill>
        <p:spPr>
          <a:xfrm>
            <a:off x="1643040" y="2714760"/>
            <a:ext cx="5643720" cy="372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059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1. Що таке цивілізаці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Назвіть ознаки цивілізації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Де виникли перші цивілізації?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4. Назвіть найдавніші міст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950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12880" y="189000"/>
            <a:ext cx="75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значаємо географічне розташування  Давньої Інд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428760" y="3130560"/>
            <a:ext cx="8358120" cy="3290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31840" y="65160"/>
            <a:ext cx="8661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обота в груп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1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За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2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С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3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Централь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18160" y="2602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родно-кліматичні ум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1413000"/>
            <a:ext cx="3384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Захід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ина (район р. Ін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арячі вітри з пусте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ушливий клі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3933720"/>
            <a:ext cx="367200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Централь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Дек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айон плоскогі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вноводні рі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1413000"/>
            <a:ext cx="3600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Схід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район р. Ган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і роз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болочені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дощ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пос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43280" y="692280"/>
            <a:ext cx="144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692280"/>
            <a:ext cx="107928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692280"/>
            <a:ext cx="71280" cy="31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0040" y="6000480"/>
            <a:ext cx="8305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Мохенджо-Даро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1560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6000840" cy="431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0040" y="57150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ecff"/>
                </a:solidFill>
                <a:latin typeface="Arial"/>
              </a:rPr>
              <a:t>Харапп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893360" cy="507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47640" y="2012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міст давньої Інді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413000"/>
          <a:ext cx="8497800" cy="45608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нтр (піднесена частина) — фортеця прав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вколо — місце поселення городя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улиці — перетинаються під прямим кут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динки — від маленьких хатин до 2–3-х поверхових будів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обливість — наявність водогону і каналізації (вперше на Сході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0040" y="5857920"/>
            <a:ext cx="8305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Вирощування ячменю,рису, пшениці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9745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3"/>
          <p:cNvSpPr/>
          <p:nvPr/>
        </p:nvSpPr>
        <p:spPr>
          <a:xfrm>
            <a:off x="2504880" y="642960"/>
            <a:ext cx="42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емлероб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Группа 8"/>
          <p:cNvGrpSpPr/>
          <p:nvPr/>
        </p:nvGrpSpPr>
        <p:grpSpPr>
          <a:xfrm>
            <a:off x="345960" y="1357200"/>
            <a:ext cx="8501040" cy="4572000"/>
            <a:chOff x="345960" y="1357200"/>
            <a:chExt cx="8501040" cy="4572000"/>
          </a:xfrm>
        </p:grpSpPr>
        <p:pic>
          <p:nvPicPr>
            <p:cNvPr id="279" name="Picture 2" descr=""/>
            <p:cNvPicPr/>
            <p:nvPr/>
          </p:nvPicPr>
          <p:blipFill>
            <a:blip r:embed="rId2"/>
            <a:stretch/>
          </p:blipFill>
          <p:spPr>
            <a:xfrm>
              <a:off x="345960" y="1428480"/>
              <a:ext cx="3357360" cy="25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"/>
            <p:cNvPicPr/>
            <p:nvPr/>
          </p:nvPicPr>
          <p:blipFill>
            <a:blip r:embed="rId3"/>
            <a:stretch/>
          </p:blipFill>
          <p:spPr>
            <a:xfrm>
              <a:off x="5500440" y="1357200"/>
              <a:ext cx="334656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" descr=""/>
            <p:cNvPicPr/>
            <p:nvPr/>
          </p:nvPicPr>
          <p:blipFill>
            <a:blip r:embed="rId4"/>
            <a:stretch/>
          </p:blipFill>
          <p:spPr>
            <a:xfrm>
              <a:off x="3000240" y="3500280"/>
              <a:ext cx="323856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User1</cp:lastModifiedBy>
  <dcterms:modified xsi:type="dcterms:W3CDTF">2012-11-27T17:34:07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NXTAG2">
    <vt:lpwstr>0008005c12000000000001024140</vt:lpwstr>
  </property>
  <property fmtid="{D5CDD505-2E9C-101B-9397-08002B2CF9AE}" pid="6" name="UserClose">
    <vt:bool>0</vt:bool>
  </property>
</Properties>
</file>