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9BA8-B659-462D-962D-4E61DDA26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2C77-8D70-4CEE-9ADE-C944D9E3B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7321-3D63-4EB7-BD19-802C7E845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2DF1-A538-4A51-8931-03964EB1A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3533E-0784-4DAB-BEDE-4B69A6B52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97B21-4586-450C-BF8D-06F054DA5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A8424-17BC-4A0A-847E-44949AAB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0D164-EF6D-41D6-BBAF-31BBBE2CD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330D2-9FAC-433E-AB05-70066403C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55792-8BBE-4719-9C74-84B1BA03D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ACCD6-A4B8-42C4-9E61-4B0DE050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0C1A-14AF-45C2-8F4C-5D242C301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5871F-5EDF-4265-B32A-62BCD7A4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70738-8A03-4F60-A87D-B9AF0696F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658FC-C235-4FDD-A226-813F8A794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790EC-28CD-4504-B359-2F4E984C3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AB1CA-3C23-463A-A82A-510E4DFAE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E44F-8852-40F7-826E-178D1F983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2D57-D979-4C42-AB46-A341343CD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2517-71F6-4F74-9D17-90E0DDCDB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F9B1-9937-4205-BF27-E7D6E36A7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15F0-A330-454F-BAE4-77D36FD1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82A7-361A-4CA8-A9F8-C1C034C0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30B2-227A-4C46-9D4C-6B28A59C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93041-9A4A-4AAD-A192-DFC9406F99A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19F7B-8768-4366-88A8-5A979B7D6B1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uk-UA" sz="4000" spc="-1" strike="noStrike">
                <a:solidFill>
                  <a:srgbClr val="dbbd71"/>
                </a:solidFill>
                <a:latin typeface="Arial"/>
              </a:rPr>
              <a:t>Тема уроку: </a:t>
            </a:r>
            <a:br>
              <a:rPr sz="4000"/>
            </a:br>
            <a:r>
              <a:rPr b="0" lang="uk-UA" sz="4000" spc="-1" strike="noStrike">
                <a:solidFill>
                  <a:srgbClr val="dbbd71"/>
                </a:solidFill>
                <a:latin typeface="Arial"/>
              </a:rPr>
              <a:t>СВІТ ПІСЛЯ ДРУГОЇ СВІТОВОЇ ВІЙНИ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495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Головне питання уроку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Які відмінності виникли між капіталістичними і соцілістичними країнами в економічному розвитку під час “холодної війни”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952880" y="2438280"/>
            <a:ext cx="3962520" cy="3276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0100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uk-UA" sz="4000" spc="-1" strike="noStrike">
                <a:solidFill>
                  <a:srgbClr val="dbbd71"/>
                </a:solidFill>
                <a:latin typeface="Arial"/>
              </a:rPr>
              <a:t>              </a:t>
            </a:r>
            <a:r>
              <a:rPr b="0" lang="uk-UA" sz="4000" spc="-1" strike="noStrike">
                <a:solidFill>
                  <a:srgbClr val="dbbd71"/>
                </a:solidFill>
                <a:latin typeface="Arial"/>
              </a:rPr>
              <a:t>ПЕРША КРАПЛЯ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br>
              <a:rPr sz="4000"/>
            </a:br>
            <a:r>
              <a:rPr b="0" lang="uk-UA" sz="4000" spc="-1" strike="noStrike">
                <a:solidFill>
                  <a:srgbClr val="dbbd71"/>
                </a:solidFill>
                <a:latin typeface="Arial"/>
              </a:rPr>
              <a:t>США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51814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Tahoma"/>
              </a:rPr>
              <a:t>Демократична держава виступали за розвиток світу на засадах свободи і демократії, за міжнародне співробітництво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Tahoma"/>
              </a:rPr>
              <a:t>остерігалися поширення радянського союзу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Tahoma"/>
              </a:rPr>
              <a:t>відразу надали підтримку Західній Європі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114800" y="36576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dbbd71"/>
                </a:solidFill>
                <a:latin typeface="Arial"/>
              </a:rPr>
              <a:t>            </a:t>
            </a:r>
            <a:r>
              <a:rPr b="0" lang="uk-UA" sz="4000" spc="-1" strike="noStrike">
                <a:solidFill>
                  <a:srgbClr val="dbbd71"/>
                </a:solidFill>
                <a:latin typeface="Arial"/>
              </a:rPr>
              <a:t>СРС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05320" y="4267080"/>
            <a:ext cx="5638680" cy="23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Tahoma"/>
              </a:rPr>
              <a:t>тоталітарна держав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Tahoma"/>
              </a:rPr>
              <a:t>прагнув розширити свої володіння шляхом захоплення чужих територій і  встановлення Радянської влад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Tahoma"/>
              </a:rPr>
              <a:t>в країнах східної Європи встановили тоталітарні комуністичні режим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638680" y="1371600"/>
            <a:ext cx="2743200" cy="21718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724280" y="1905120"/>
            <a:ext cx="4876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uk-UA" sz="1600" spc="-1" strike="noStrike">
                <a:solidFill>
                  <a:srgbClr val="66ff66"/>
                </a:solidFill>
                <a:latin typeface="Arial"/>
              </a:rPr>
              <a:t>Берлинська стіна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33520" y="4267080"/>
            <a:ext cx="2882880" cy="20862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-533520" y="5181480"/>
            <a:ext cx="487692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uk-UA" sz="1600" spc="-1" strike="noStrike">
                <a:solidFill>
                  <a:srgbClr val="66ff66"/>
                </a:solidFill>
                <a:latin typeface="Arial"/>
              </a:rPr>
              <a:t>танки в Будапешті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dbbd71"/>
                </a:solidFill>
                <a:latin typeface="Arial"/>
              </a:rPr>
              <a:t>НАСЛІДКИ КОНФРОНТАЦІЇ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59984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Утворилася двополюсна структура міжнародних відносин.</a:t>
            </a:r>
            <a:br>
              <a:rPr sz="2800"/>
            </a:b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Конфлікт між ними переріс у “холодну війну” і "гонку озброєнь" що тривали 40 років до кінця 80-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199120" y="1600200"/>
            <a:ext cx="2935080" cy="21891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181480" y="3886200"/>
            <a:ext cx="2971800" cy="2098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57200" y="4025880"/>
            <a:ext cx="3352680" cy="23004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09480" y="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ДРУГА КРАПЛ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60480"/>
            <a:ext cx="579132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ffffff"/>
                </a:solidFill>
                <a:uFillTx/>
                <a:latin typeface="Tahoma"/>
              </a:rPr>
              <a:t>Капіталістичні країни: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- змінили структуру виробництва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- відмовилися від національної економік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регулювали економіку через державний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бюджет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- розвинули кредитно-грошову політику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інтернаціоналізація виробництва і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капіталу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- в добу НТР колоніальна система розпалас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191120" y="3493440"/>
            <a:ext cx="4676760" cy="31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ffffff"/>
                </a:solidFill>
                <a:uFillTx/>
                <a:latin typeface="Tahoma"/>
              </a:rPr>
              <a:t>В соціалістичних країнах панували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- комунистична партія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- жорстокі репресії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- одержавлена економіка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методи примусу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ідсутність громадянського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суспільств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3047760" cy="22352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dbbd71"/>
                </a:solidFill>
                <a:latin typeface="Arial"/>
              </a:rPr>
              <a:t>ТРЕТЯ КРАПЛЯ:</a:t>
            </a:r>
            <a:br>
              <a:rPr sz="3200"/>
            </a:br>
            <a:r>
              <a:rPr b="0" lang="uk-UA" sz="3200" spc="-1" strike="noStrike">
                <a:solidFill>
                  <a:srgbClr val="dbbd71"/>
                </a:solidFill>
                <a:latin typeface="Arial"/>
              </a:rPr>
              <a:t> НОВІ РИСИ СВІТОВОГО РОЗВИТКУ </a:t>
            </a:r>
            <a:br>
              <a:rPr sz="3200"/>
            </a:br>
            <a:r>
              <a:rPr b="0" lang="uk-UA" sz="3200" spc="-1" strike="noStrike">
                <a:solidFill>
                  <a:srgbClr val="dbbd71"/>
                </a:solidFill>
                <a:latin typeface="Arial"/>
              </a:rPr>
              <a:t>70 – 80 р. ХХ ст.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Tahoma"/>
              </a:rPr>
              <a:t>В КАПІТАЛІСТИЧНИХ КРАЇНАХ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Tahoma"/>
              </a:rPr>
              <a:t>мікропроцесорна і електронно-інформаційна техніка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2200" spc="-1" strike="noStrike">
                <a:solidFill>
                  <a:srgbClr val="ffffff"/>
                </a:solidFill>
                <a:latin typeface="Tahoma"/>
              </a:rPr>
              <a:t>біотехнологія і генна інженерія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Tahoma"/>
              </a:rPr>
              <a:t>працезберігаючи та гасозберігаючи технології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Tahoma"/>
              </a:rPr>
              <a:t>почалася інформаційна революція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952880" y="1752480"/>
            <a:ext cx="1828800" cy="21337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952880" y="4038480"/>
            <a:ext cx="1814760" cy="19051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6934320" y="4038480"/>
            <a:ext cx="1676160" cy="19051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6918480" y="1752480"/>
            <a:ext cx="1692000" cy="2133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dbbd71"/>
                </a:solidFill>
                <a:latin typeface="Arial"/>
              </a:rPr>
              <a:t>Для соціалістичних країн 70 – 80 р. ХХст. стали періодом назрівання всеохоплюючої суспільної кризи.</a:t>
            </a:r>
            <a:endParaRPr b="0" lang="en-US" sz="22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952880" y="1600200"/>
            <a:ext cx="1741680" cy="23623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533520" y="4038480"/>
            <a:ext cx="2590560" cy="19368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3200400" y="4038480"/>
            <a:ext cx="2590920" cy="19051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5867280" y="4038480"/>
            <a:ext cx="2819520" cy="18655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6781680" y="1600200"/>
            <a:ext cx="1905120" cy="23623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28600" y="1752480"/>
            <a:ext cx="4495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2200" spc="-1" strike="noStrike">
                <a:solidFill>
                  <a:srgbClr val="ffffff"/>
                </a:solidFill>
                <a:latin typeface="Tahoma"/>
              </a:rPr>
              <a:t>екстенсивна економіка вичерпувала свої можливості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uk-UA" sz="2200" spc="-1" strike="noStrike">
                <a:solidFill>
                  <a:srgbClr val="ffffff"/>
                </a:solidFill>
                <a:latin typeface="Tahoma"/>
              </a:rPr>
              <a:t>мілітарізація за рахунок низького рівня життя народу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uk-UA" sz="2200" spc="-1" strike="noStrike">
                <a:solidFill>
                  <a:srgbClr val="ffffff"/>
                </a:solidFill>
                <a:latin typeface="Tahoma"/>
              </a:rPr>
              <a:t>економіка СРСР стала перед загрозою глибокого занепад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dbbd71"/>
                </a:solidFill>
                <a:latin typeface="Arial"/>
              </a:rPr>
              <a:t>ЧЕТВЕРТА КРАПЛЯ</a:t>
            </a:r>
            <a:r>
              <a:rPr b="0" lang="uk-UA" sz="4400" spc="-1" strike="noStrike">
                <a:solidFill>
                  <a:srgbClr val="dbbd71"/>
                </a:solidFill>
                <a:latin typeface="Arial"/>
              </a:rPr>
              <a:t>: </a:t>
            </a:r>
            <a:br>
              <a:rPr sz="4400"/>
            </a:br>
            <a:r>
              <a:rPr b="0" lang="uk-UA" sz="3200" spc="-1" strike="noStrike">
                <a:solidFill>
                  <a:srgbClr val="dbbd71"/>
                </a:solidFill>
                <a:latin typeface="Arial"/>
              </a:rPr>
              <a:t>СВІТ В КІНЦІ ХХст. початку ХХІ ст. 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09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524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2100" spc="-1" strike="noStrike">
                <a:solidFill>
                  <a:srgbClr val="ffffff"/>
                </a:solidFill>
                <a:latin typeface="Tahoma"/>
              </a:rPr>
              <a:t>США стала єдиною наддержавою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524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2100" spc="-1" strike="noStrike">
                <a:solidFill>
                  <a:srgbClr val="ffffff"/>
                </a:solidFill>
                <a:latin typeface="Tahoma"/>
              </a:rPr>
              <a:t>конфронтація змінилась на міжнародне співробітництво</a:t>
            </a:r>
            <a:br>
              <a:rPr sz="2100"/>
            </a:br>
            <a:r>
              <a:rPr b="0" lang="uk-UA" sz="2100" spc="-1" strike="noStrike">
                <a:solidFill>
                  <a:srgbClr val="ffffff"/>
                </a:solidFill>
                <a:latin typeface="Tahoma"/>
              </a:rPr>
              <a:t>- скорочення запасів ядерної зброї</a:t>
            </a:r>
            <a:br>
              <a:rPr sz="2100"/>
            </a:br>
            <a:r>
              <a:rPr b="0" lang="uk-UA" sz="2100" spc="-1" strike="noStrike">
                <a:solidFill>
                  <a:srgbClr val="ffffff"/>
                </a:solidFill>
                <a:latin typeface="Tahoma"/>
              </a:rPr>
              <a:t>- впала "залізна завіса"</a:t>
            </a:r>
            <a:br>
              <a:rPr sz="2100"/>
            </a:br>
            <a:r>
              <a:rPr b="0" lang="uk-UA" sz="2100" spc="-1" strike="noStrike">
                <a:solidFill>
                  <a:srgbClr val="ffffff"/>
                </a:solidFill>
                <a:latin typeface="Tahoma"/>
              </a:rPr>
              <a:t>- розпалися багатонаціональні держави Європи: Чехословаччина,  Югославія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524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ffffff"/>
                </a:solidFill>
                <a:latin typeface="Tahoma"/>
              </a:rPr>
              <a:t>Комуністичне ярмо скинули:</a:t>
            </a:r>
            <a:br>
              <a:rPr sz="2100"/>
            </a:br>
            <a:r>
              <a:rPr b="0" lang="uk-UA" sz="2100" spc="-1" strike="noStrike">
                <a:solidFill>
                  <a:srgbClr val="ffffff"/>
                </a:solidFill>
                <a:latin typeface="Tahoma"/>
              </a:rPr>
              <a:t>Польша, Угорщина, Румунія, Болгарія, Німеччина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524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ffffff"/>
                </a:solidFill>
                <a:latin typeface="Tahoma"/>
              </a:rPr>
              <a:t>ринкові відносини впроваджує комуністичний Китай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524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ffffff"/>
                </a:solidFill>
                <a:latin typeface="Tahoma"/>
              </a:rPr>
              <a:t>у первозданному вигляді комуністичний режим залишився у Південній Кореї і на Кубі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477120" y="5334120"/>
            <a:ext cx="2438280" cy="12697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943600" y="1676520"/>
            <a:ext cx="1471680" cy="2044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6477120" y="3809880"/>
            <a:ext cx="2438280" cy="14479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7543800" y="1676520"/>
            <a:ext cx="1339920" cy="20095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dbbd71"/>
                </a:solidFill>
                <a:latin typeface="Arial"/>
              </a:rPr>
              <a:t>ЗВОРОТНІЙ БІК ТЕХНІЧНОГО ПРОГРЕСУ</a:t>
            </a:r>
            <a:r>
              <a:rPr b="0" lang="uk-UA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-  </a:t>
            </a:r>
            <a:r>
              <a:rPr b="0" lang="uk-UA" sz="2600" spc="-1" strike="noStrike">
                <a:solidFill>
                  <a:srgbClr val="ffffff"/>
                </a:solidFill>
                <a:latin typeface="Tahoma"/>
              </a:rPr>
              <a:t>екологічна 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криза;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- демографічна криза; 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- продовольча криза;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- енергетична криза; 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- сировинна криза;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- міжнародний      тероризм,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- поширення зброї масового знищення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419720" y="160020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7010280" y="4114800"/>
            <a:ext cx="1459080" cy="21891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4419720" y="4648320"/>
            <a:ext cx="2590560" cy="168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dbbd71"/>
                </a:solidFill>
                <a:latin typeface="Arial"/>
              </a:rPr>
              <a:t>ДОСЯГНЕННЯ СПІВРОБІТНИЦТВА</a:t>
            </a:r>
            <a:r>
              <a:rPr b="0" lang="uk-UA" sz="18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стратегічні перемоги:</a:t>
            </a:r>
            <a:br>
              <a:rPr sz="2400"/>
            </a:br>
            <a:br>
              <a:rPr sz="2400"/>
            </a:b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-  демократії над тоталетаризмом;</a:t>
            </a:r>
            <a:br>
              <a:rPr sz="2400"/>
            </a:br>
            <a:br>
              <a:rPr sz="2400"/>
            </a:b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- прав людини над свавіллям і жорстокістю;</a:t>
            </a:r>
            <a:br>
              <a:rPr sz="2400"/>
            </a:br>
            <a:br>
              <a:rPr sz="2400"/>
            </a:b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- розвиток продуктивих сил над стагнаціє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5334120" y="3733920"/>
            <a:ext cx="3352680" cy="21333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5334120" y="1523880"/>
            <a:ext cx="3352680" cy="21225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828800" y="1204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uler</cp:lastModifiedBy>
  <dcterms:modified xsi:type="dcterms:W3CDTF">2010-02-09T09:41:15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e03000000000001024140</vt:lpwstr>
  </property>
  <property fmtid="{D5CDD505-2E9C-101B-9397-08002B2CF9AE}" pid="3" name="Version">
    <vt:r8>1</vt:r8>
  </property>
</Properties>
</file>