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2F9-E983-402E-9976-F50D16AE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C62-AF93-4B11-82C2-9773DD0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A0B-8105-4DC2-8339-39365550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FE1-3D22-4C93-A4B4-71E04F8F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AC8-B2A8-43E4-86AB-648E32AC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4AA3-1C50-4F9C-BCEC-EF75A0E4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1E05-7CA8-4589-BC54-81EE0CC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F6BA-23D5-419E-A02E-1AFE0884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51BA-CC77-4D61-99FC-F148805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31DC-8844-4C80-96D7-236B2B5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A6A4-6C89-4C55-BE2F-EE7ABB6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615-6E12-4C9A-A6B4-A89C3AF0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BC2-6A78-4A1B-A97F-EE200BF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710-5709-4634-B6DF-79C002C2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B3F5-6180-450F-BD02-76A4B478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3853-0E4B-460E-9E3A-1379AE41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2AB6-E08E-49D1-A422-8CEC8AB2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04D-7C79-4E95-A646-52A45B9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A1D-6983-4C50-B179-37005371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DAB-5127-46C2-BF31-BFD2D1E2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E5E-3FFD-4AC7-BE91-3247D4AD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5A7-DF9C-4FD7-BAC1-2731A3C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269-3491-4C8D-BFFE-0BBD0FF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D5A-47C3-436E-99EA-E58B22F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FED-46FF-4DF5-81F8-4C6763C639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0A7-5E82-45A4-9C1C-CA631418B9E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79280" y="4076640"/>
            <a:ext cx="8785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З листів до Індіри Ганд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У Європі відбулися суттєві зміни, і на її карті з’явився ряд нових держав. Порівняй стару карту з новою, і ти зразу побачиш ці великі змін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вністю зникла одна з найбільших держав – Австро-Угорщина, - і замість неї з’явилося декілька невеликих держав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алі на північ знаходиться ще одна нова держава, правильніше, стара держава, що знову з’явилася на карті, -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ольщ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8" descr="Map_3"/>
          <p:cNvPicPr/>
          <p:nvPr/>
        </p:nvPicPr>
        <p:blipFill>
          <a:blip r:embed="rId1"/>
          <a:stretch/>
        </p:blipFill>
        <p:spPr>
          <a:xfrm>
            <a:off x="179280" y="189000"/>
            <a:ext cx="4211640" cy="3827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Map_4"/>
          <p:cNvPicPr/>
          <p:nvPr/>
        </p:nvPicPr>
        <p:blipFill>
          <a:blip r:embed="rId2"/>
          <a:stretch/>
        </p:blipFill>
        <p:spPr>
          <a:xfrm>
            <a:off x="4572000" y="189000"/>
            <a:ext cx="435600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1a5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роблемне пит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За що поля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азвали Юзефа Пілсудськ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останнім польськ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ляхтичем, що завоюва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обі славу, якої, мабуть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е здобуде ніхт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ротягом наступної пар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оліть”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Object 4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226368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Розділ</a:t>
            </a:r>
            <a:br>
              <a:rPr sz="4400"/>
            </a:b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 Країни Центральної та Східної Європи у 1918 – 1939 р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5183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Тема уроку:  “</a:t>
            </a:r>
            <a:r>
              <a:rPr b="1" lang="uk-UA" sz="3600" spc="-1" strike="noStrike">
                <a:solidFill>
                  <a:srgbClr val="6c0a13"/>
                </a:solidFill>
                <a:latin typeface="Tahoma"/>
              </a:rPr>
              <a:t>Польща</a:t>
            </a: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Object 4" descr=""/>
          <p:cNvPicPr/>
          <p:nvPr/>
        </p:nvPicPr>
        <p:blipFill>
          <a:blip r:embed="rId1"/>
          <a:stretch/>
        </p:blipFill>
        <p:spPr>
          <a:xfrm>
            <a:off x="3492360" y="4292640"/>
            <a:ext cx="189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Польща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ла на меті отримати території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-1827360" y="2205000"/>
            <a:ext cx="542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Галичина (поля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ідна Галичина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Білорусія ( білору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олинь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Литва ( литов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17" descr="Карта Земель"/>
          <p:cNvPicPr/>
          <p:nvPr/>
        </p:nvPicPr>
        <p:blipFill>
          <a:blip r:embed="rId1"/>
          <a:stretch/>
        </p:blipFill>
        <p:spPr>
          <a:xfrm>
            <a:off x="3527280" y="154764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Лінія Керзона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17" descr="Карта Земель"/>
          <p:cNvPicPr/>
          <p:nvPr/>
        </p:nvPicPr>
        <p:blipFill>
          <a:blip r:embed="rId1"/>
          <a:stretch/>
        </p:blipFill>
        <p:spPr>
          <a:xfrm>
            <a:off x="3786120" y="121428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6"/>
          <p:cNvSpPr/>
          <p:nvPr/>
        </p:nvSpPr>
        <p:spPr>
          <a:xfrm>
            <a:off x="0" y="2637000"/>
            <a:ext cx="3614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інія Керзона – умов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азва східного кордону Польщ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Ця лінія визначала кордо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за межами якого поля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 складали більші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Полілінія 10"/>
          <p:cNvSpPr/>
          <p:nvPr/>
        </p:nvSpPr>
        <p:spPr>
          <a:xfrm>
            <a:off x="4297320" y="1782720"/>
            <a:ext cx="1585800" cy="3368880"/>
          </a:xfrm>
          <a:prstGeom prst="pie">
            <a:avLst/>
          </a:prstGeom>
          <a:noFill/>
          <a:ln w="38160">
            <a:solidFill>
              <a:srgbClr val="38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Польсько - більшовицька війна </a:t>
            </a:r>
            <a:br>
              <a:rPr sz="4000"/>
            </a:b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1920 рок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341360"/>
          <a:ext cx="8785440" cy="5315040"/>
        </p:xfrm>
        <a:graphic>
          <a:graphicData uri="http://schemas.openxmlformats.org/drawingml/2006/table">
            <a:tbl>
              <a:tblPr/>
              <a:tblGrid>
                <a:gridCol w="3529080"/>
                <a:gridCol w="52563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Причини війни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аслідки війн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</a:t>
                      </a: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за Ризьким договором</a:t>
                      </a: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урегульованість східного кордону Польщі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Бажання Польщі бачити у своєму складі Правобережну Украї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визнання Польщею урядів УСРР та РСФР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61"/>
          <p:cNvSpPr/>
          <p:nvPr/>
        </p:nvSpPr>
        <p:spPr>
          <a:xfrm>
            <a:off x="3635280" y="285264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Встановлювався радянсько-польський кордон, значно на схід від “лінії Керзона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Польщі відходила територія Західної України та Західної Білорусії, інша частина Правобережжя – до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Сторони зобов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язувалися поважати суверенітет одна одної. Польща визнавала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Остаточне формування території Польщі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4" descr="Map_4"/>
          <p:cNvPicPr/>
          <p:nvPr/>
        </p:nvPicPr>
        <p:blipFill>
          <a:blip r:embed="rId1"/>
          <a:stretch/>
        </p:blipFill>
        <p:spPr>
          <a:xfrm>
            <a:off x="611280" y="622440"/>
            <a:ext cx="8028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новище українського населення в складі Польщ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11" descr="nov_d_166"/>
          <p:cNvPicPr/>
          <p:nvPr/>
        </p:nvPicPr>
        <p:blipFill>
          <a:blip r:embed="rId1"/>
          <a:stretch/>
        </p:blipFill>
        <p:spPr>
          <a:xfrm>
            <a:off x="5435640" y="1484280"/>
            <a:ext cx="3564000" cy="5373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nov_d_161"/>
          <p:cNvPicPr/>
          <p:nvPr/>
        </p:nvPicPr>
        <p:blipFill>
          <a:blip r:embed="rId2"/>
          <a:srcRect l="0" t="0" r="-83" b="0"/>
          <a:stretch/>
        </p:blipFill>
        <p:spPr>
          <a:xfrm>
            <a:off x="179280" y="1844640"/>
            <a:ext cx="504036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Начальник держави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275440" y="2852640"/>
            <a:ext cx="3868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Юзеф Пілсудсь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11" descr="пилсудский"/>
          <p:cNvPicPr/>
          <p:nvPr/>
        </p:nvPicPr>
        <p:blipFill>
          <a:blip r:embed="rId1"/>
          <a:stretch/>
        </p:blipFill>
        <p:spPr>
          <a:xfrm>
            <a:off x="395280" y="1052640"/>
            <a:ext cx="446076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Політичний режим Польщі </a:t>
            </a:r>
            <a:br>
              <a:rPr sz="3600"/>
            </a:b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за часів “санації”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6" descr="nov_d_169"/>
          <p:cNvPicPr/>
          <p:nvPr/>
        </p:nvPicPr>
        <p:blipFill>
          <a:blip r:embed="rId1"/>
          <a:stretch/>
        </p:blipFill>
        <p:spPr>
          <a:xfrm>
            <a:off x="250920" y="1052640"/>
            <a:ext cx="3728880" cy="561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Таблиця 02"/>
          <p:cNvPicPr/>
          <p:nvPr/>
        </p:nvPicPr>
        <p:blipFill>
          <a:blip r:embed="rId2"/>
          <a:stretch/>
        </p:blipFill>
        <p:spPr>
          <a:xfrm>
            <a:off x="4356000" y="1052640"/>
            <a:ext cx="460872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40:38Z</dcterms:created>
  <dc:creator>RIA</dc:creator>
  <dc:description/>
  <dc:language>en-US</dc:language>
  <cp:lastModifiedBy>Shool</cp:lastModifiedBy>
  <dcterms:modified xsi:type="dcterms:W3CDTF">2012-02-02T09:25:43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8000000000001024140</vt:lpwstr>
  </property>
</Properties>
</file>