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E58-1BA4-4126-99E6-507DC378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C91-2390-4F6A-84FA-DAF8ABD0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6B5-A850-4B68-8FF6-B2F27D18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028-F02A-43A7-9EEC-FCEC35AF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3FDB-5441-48B9-881A-674E01D9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5195-3EE4-4177-86D8-DED46C1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D136-71AE-4375-9B12-BE49DA0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DC56-F69D-499C-9AE8-7349E4F1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49E1-8400-49EC-889B-669D3C7D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7C0-BD60-4E40-A041-57BB004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A0EA-AE9B-4AD2-B32C-8FCD9F6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7F8-4500-4586-80A8-E71B0E44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980-7BF0-4258-A6B3-46DF4FB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F67-DDD2-4746-9FB3-B9F1DAF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8901-0CD0-4BAB-848C-C549E307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6960-685C-4A5C-9160-45DB4D94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374E-0126-4AFA-A6D7-EB3BFD6E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AD4-E893-4CF2-8F16-C43B48A9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E81-604E-4593-898C-DBE2EA40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5F0-A7F7-44C2-A9F9-2C256271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546-C602-466A-BC31-4F8D9A9B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90D-572F-4EFB-AF10-45BD41F3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A9D-DEE3-4F4B-9167-E3D7F9F4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B71-9426-4034-9642-36878B53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50E1-8901-40D6-BC57-601EBF821F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741F-31E0-4895-82CA-E68F66B7DD3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79280" y="4076640"/>
            <a:ext cx="8785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З листів до Індіри Ганд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У Європі відбулися суттєві зміни, і на її карті з’явився ряд нових держав. Порівняй стару карту з новою, і ти зразу побачиш ці великі змін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вністю зникла одна з найбільших держав – Австро-Угорщина, - і замість неї з’явилося декілька невеликих держав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алі на північ знаходиться ще одна нова держава, правильніше, стара держава, що знову з’явилася на карті, -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ольщ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8" descr="Map_3"/>
          <p:cNvPicPr/>
          <p:nvPr/>
        </p:nvPicPr>
        <p:blipFill>
          <a:blip r:embed="rId1"/>
          <a:stretch/>
        </p:blipFill>
        <p:spPr>
          <a:xfrm>
            <a:off x="179280" y="189000"/>
            <a:ext cx="4211640" cy="3827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Map_4"/>
          <p:cNvPicPr/>
          <p:nvPr/>
        </p:nvPicPr>
        <p:blipFill>
          <a:blip r:embed="rId2"/>
          <a:stretch/>
        </p:blipFill>
        <p:spPr>
          <a:xfrm>
            <a:off x="4572000" y="189000"/>
            <a:ext cx="435600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1a5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роблемне пит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65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За що поля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азвали Юзефа Пілсудськ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останнім польськи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ляхтичем, що завоюва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обі славу, якої, мабуть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е здобуде ніхт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протягом наступної пар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оліть”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Object 4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226368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6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Розділ</a:t>
            </a:r>
            <a:br>
              <a:rPr sz="4400"/>
            </a:b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 Країни Центральної та Східної Європи у 1918 – 1939 р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5183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Тема уроку:  “</a:t>
            </a:r>
            <a:r>
              <a:rPr b="1" lang="uk-UA" sz="3600" spc="-1" strike="noStrike">
                <a:solidFill>
                  <a:srgbClr val="6c0a13"/>
                </a:solidFill>
                <a:latin typeface="Tahoma"/>
              </a:rPr>
              <a:t>Польща</a:t>
            </a: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Object 4" descr=""/>
          <p:cNvPicPr/>
          <p:nvPr/>
        </p:nvPicPr>
        <p:blipFill>
          <a:blip r:embed="rId1"/>
          <a:stretch/>
        </p:blipFill>
        <p:spPr>
          <a:xfrm>
            <a:off x="3492360" y="4292640"/>
            <a:ext cx="189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3"/>
          <p:cNvSpPr/>
          <p:nvPr/>
        </p:nvSpPr>
        <p:spPr>
          <a:xfrm>
            <a:off x="0" y="1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Польща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ла на меті отримати території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-1827360" y="2205000"/>
            <a:ext cx="542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Галичина (поляк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ідна Галичина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Білорусія ( білору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олинь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Литва ( литов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17" descr="Карта Земель"/>
          <p:cNvPicPr/>
          <p:nvPr/>
        </p:nvPicPr>
        <p:blipFill>
          <a:blip r:embed="rId1"/>
          <a:stretch/>
        </p:blipFill>
        <p:spPr>
          <a:xfrm>
            <a:off x="3527280" y="154764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Лінія Керзона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17" descr="Карта Земель"/>
          <p:cNvPicPr/>
          <p:nvPr/>
        </p:nvPicPr>
        <p:blipFill>
          <a:blip r:embed="rId1"/>
          <a:stretch/>
        </p:blipFill>
        <p:spPr>
          <a:xfrm>
            <a:off x="3786120" y="121428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6"/>
          <p:cNvSpPr/>
          <p:nvPr/>
        </p:nvSpPr>
        <p:spPr>
          <a:xfrm>
            <a:off x="0" y="2637000"/>
            <a:ext cx="3614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інія Керзона – умов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азва східного кордону Польщ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Ця лінія визначала кордо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за межами якого поля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е складали більші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Полілінія 10"/>
          <p:cNvSpPr/>
          <p:nvPr/>
        </p:nvSpPr>
        <p:spPr>
          <a:xfrm>
            <a:off x="4297320" y="1782720"/>
            <a:ext cx="1585800" cy="3368880"/>
          </a:xfrm>
          <a:prstGeom prst="pie">
            <a:avLst/>
          </a:prstGeom>
          <a:noFill/>
          <a:ln w="38160">
            <a:solidFill>
              <a:srgbClr val="38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Польсько - більшовицька війна </a:t>
            </a:r>
            <a:br>
              <a:rPr sz="4000"/>
            </a:b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1920 рок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341360"/>
          <a:ext cx="8785440" cy="5315040"/>
        </p:xfrm>
        <a:graphic>
          <a:graphicData uri="http://schemas.openxmlformats.org/drawingml/2006/table">
            <a:tbl>
              <a:tblPr/>
              <a:tblGrid>
                <a:gridCol w="3529080"/>
                <a:gridCol w="52563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Причини війни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аслідки війн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</a:t>
                      </a: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за Ризьким договором</a:t>
                      </a: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урегульованість східного кордону Польщі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Бажання Польщі бачити у своєму складі Правобережну Украї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визнання Польщею урядів УСРР та РСФР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Text Box 61"/>
          <p:cNvSpPr/>
          <p:nvPr/>
        </p:nvSpPr>
        <p:spPr>
          <a:xfrm>
            <a:off x="3635280" y="285264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Встановлювався радянсько-польський кордон, значно на схід від “лінії Керзона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Польщі відходила територія Західної України та Західної Білорусії, інша частина Правобережжя – до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Сторони зобов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язувалися поважати суверенітет одна одної. Польща визнавала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Остаточне формування території Польщі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4" descr="Map_4"/>
          <p:cNvPicPr/>
          <p:nvPr/>
        </p:nvPicPr>
        <p:blipFill>
          <a:blip r:embed="rId1"/>
          <a:stretch/>
        </p:blipFill>
        <p:spPr>
          <a:xfrm>
            <a:off x="611280" y="622440"/>
            <a:ext cx="8028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новище українського населення в складі Польщ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11" descr="nov_d_166"/>
          <p:cNvPicPr/>
          <p:nvPr/>
        </p:nvPicPr>
        <p:blipFill>
          <a:blip r:embed="rId1"/>
          <a:stretch/>
        </p:blipFill>
        <p:spPr>
          <a:xfrm>
            <a:off x="5435640" y="1484280"/>
            <a:ext cx="3564000" cy="5373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nov_d_161"/>
          <p:cNvPicPr/>
          <p:nvPr/>
        </p:nvPicPr>
        <p:blipFill>
          <a:blip r:embed="rId2"/>
          <a:srcRect l="0" t="0" r="-83" b="0"/>
          <a:stretch/>
        </p:blipFill>
        <p:spPr>
          <a:xfrm>
            <a:off x="179280" y="1844640"/>
            <a:ext cx="504036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Начальник держави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275440" y="2852640"/>
            <a:ext cx="3868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Юзеф Пілсудсь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11" descr="пилсудский"/>
          <p:cNvPicPr/>
          <p:nvPr/>
        </p:nvPicPr>
        <p:blipFill>
          <a:blip r:embed="rId1"/>
          <a:stretch/>
        </p:blipFill>
        <p:spPr>
          <a:xfrm>
            <a:off x="395280" y="1052640"/>
            <a:ext cx="446076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Політичний режим Польщі </a:t>
            </a:r>
            <a:br>
              <a:rPr sz="3600"/>
            </a:b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за часів “санації”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Picture 6" descr="nov_d_169"/>
          <p:cNvPicPr/>
          <p:nvPr/>
        </p:nvPicPr>
        <p:blipFill>
          <a:blip r:embed="rId1"/>
          <a:stretch/>
        </p:blipFill>
        <p:spPr>
          <a:xfrm>
            <a:off x="250920" y="1052640"/>
            <a:ext cx="3728880" cy="561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Таблиця 02"/>
          <p:cNvPicPr/>
          <p:nvPr/>
        </p:nvPicPr>
        <p:blipFill>
          <a:blip r:embed="rId2"/>
          <a:stretch/>
        </p:blipFill>
        <p:spPr>
          <a:xfrm>
            <a:off x="4356000" y="1052640"/>
            <a:ext cx="460872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40:38Z</dcterms:created>
  <dc:creator>RIA</dc:creator>
  <dc:description/>
  <dc:language>en-US</dc:language>
  <cp:lastModifiedBy>Shool</cp:lastModifiedBy>
  <dcterms:modified xsi:type="dcterms:W3CDTF">2012-02-02T09:25:43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8000000000001024140</vt:lpwstr>
  </property>
</Properties>
</file>