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BF7-FA6C-44AC-AEC3-8F93FB95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B277-EBA1-499B-872B-5743B815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4D0-573C-4A37-AEA6-4B6B5F7E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CE4B-6982-4D9A-AECE-D0516A7B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47DC-3DDE-4A8B-BA81-E80AFAF6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3868-E321-4B3C-ABF5-EDC84830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53BB-3D2B-458B-BF6F-DEAA7FF0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0FF7-3D3C-443D-B854-203FF21B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E639-D7C7-4AB0-AC05-1C69613F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68DF-0D3C-497A-99DE-8C6429B7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FF56-9E6A-4E58-82DC-97521CC4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8286-C29C-45CC-B88B-588AF594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15E4-839B-42C7-9878-56FB9A63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C760-7848-46C8-A51D-D09DF382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C8B0-97C3-476F-BBCD-1EA6F057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74A0-52A9-4DC5-BD2C-791F3EDD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1341-6FBA-4808-AD7B-B719186A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C0E8-35B1-4A69-89D2-15EB4312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8D88-E686-4D69-BF75-CD11B2E8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672B-32AB-4E17-B57C-5FD81790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F41-5B11-4B2A-BC48-7E86621C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03CE-4773-4C95-83EA-D35A2B68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28C6-15DC-46DE-92BF-371FE8F2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FB9-CE16-427F-A417-683F0BD5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1E85-59F2-4A97-8FE3-1F2618CC341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23F3-95DE-45C8-88BC-57B30288FFD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79280" y="4076640"/>
            <a:ext cx="878544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4" marL="20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uk-UA" sz="2400" spc="-1" strike="noStrike">
                <a:solidFill>
                  <a:srgbClr val="ffffff"/>
                </a:solidFill>
                <a:latin typeface="Tahoma"/>
              </a:rPr>
              <a:t>З листів до Індіри Ганді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У Європі відбулися суттєві зміни, і на її карті з’явився ряд нових держав. Порівняй стару карту з новою, і ти зразу побачиш ці великі зміни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овністю зникла одна з найбільших держав – Австро-Угорщина, - і замість неї з’явилося декілька невеликих держав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алі на північ знаходиться ще одна нова держава, правильніше, стара держава, що знову з’явилася на карті, - 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Польщ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Picture 8" descr="Map_3"/>
          <p:cNvPicPr/>
          <p:nvPr/>
        </p:nvPicPr>
        <p:blipFill>
          <a:blip r:embed="rId1"/>
          <a:stretch/>
        </p:blipFill>
        <p:spPr>
          <a:xfrm>
            <a:off x="179280" y="189000"/>
            <a:ext cx="4211640" cy="38275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" descr="Map_4"/>
          <p:cNvPicPr/>
          <p:nvPr/>
        </p:nvPicPr>
        <p:blipFill>
          <a:blip r:embed="rId2"/>
          <a:stretch/>
        </p:blipFill>
        <p:spPr>
          <a:xfrm>
            <a:off x="4572000" y="189000"/>
            <a:ext cx="4356000" cy="38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1a5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Проблемне питанн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651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За що поляк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назвали Юзефа Пілсудськог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останнім польськи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шляхтичем, що завоював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собі славу, якої, мабуть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не здобуде ніхт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протягом наступної пар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століть”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Object 4" descr=""/>
          <p:cNvPicPr/>
          <p:nvPr/>
        </p:nvPicPr>
        <p:blipFill>
          <a:blip r:embed="rId1"/>
          <a:stretch/>
        </p:blipFill>
        <p:spPr>
          <a:xfrm>
            <a:off x="6732720" y="1052640"/>
            <a:ext cx="2263680" cy="27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000"/>
                            </p:stCondLst>
                            <p:childTnLst>
                              <p:par>
                                <p:cTn id="2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412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6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5611b3"/>
                </a:solidFill>
                <a:latin typeface="Tahoma"/>
              </a:rPr>
              <a:t>Розділ</a:t>
            </a:r>
            <a:br>
              <a:rPr sz="4400"/>
            </a:br>
            <a:r>
              <a:rPr b="0" lang="uk-UA" sz="4400" spc="-1" strike="noStrike">
                <a:solidFill>
                  <a:srgbClr val="5611b3"/>
                </a:solidFill>
                <a:latin typeface="Tahoma"/>
              </a:rPr>
              <a:t> Країни Центральної та Східної Європи у 1918 – 1939 рр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24000" y="3068280"/>
            <a:ext cx="85183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c0a13"/>
                </a:solidFill>
                <a:latin typeface="Tahoma"/>
              </a:rPr>
              <a:t>Тема уроку:  “</a:t>
            </a:r>
            <a:r>
              <a:rPr b="1" lang="uk-UA" sz="3600" spc="-1" strike="noStrike">
                <a:solidFill>
                  <a:srgbClr val="6c0a13"/>
                </a:solidFill>
                <a:latin typeface="Tahoma"/>
              </a:rPr>
              <a:t>Польща</a:t>
            </a:r>
            <a:r>
              <a:rPr b="0" lang="uk-UA" sz="3600" spc="-1" strike="noStrike">
                <a:solidFill>
                  <a:srgbClr val="6c0a13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Object 4" descr=""/>
          <p:cNvPicPr/>
          <p:nvPr/>
        </p:nvPicPr>
        <p:blipFill>
          <a:blip r:embed="rId1"/>
          <a:stretch/>
        </p:blipFill>
        <p:spPr>
          <a:xfrm>
            <a:off x="3492360" y="4292640"/>
            <a:ext cx="1895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3"/>
          <p:cNvSpPr/>
          <p:nvPr/>
        </p:nvSpPr>
        <p:spPr>
          <a:xfrm>
            <a:off x="0" y="189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Польща</a:t>
            </a: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мала на меті отримати території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-1827360" y="2205000"/>
            <a:ext cx="542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ахідна Галичина (поляк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Східна Галичина ( українці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ахідна Білорусія ( білорус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Волинь ( українці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Литва ( литовці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Picture 17" descr="Карта Земель"/>
          <p:cNvPicPr/>
          <p:nvPr/>
        </p:nvPicPr>
        <p:blipFill>
          <a:blip r:embed="rId1"/>
          <a:stretch/>
        </p:blipFill>
        <p:spPr>
          <a:xfrm>
            <a:off x="3527280" y="1547640"/>
            <a:ext cx="5616720" cy="5310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Лінія Керзона”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39254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Picture 17" descr="Карта Земель"/>
          <p:cNvPicPr/>
          <p:nvPr/>
        </p:nvPicPr>
        <p:blipFill>
          <a:blip r:embed="rId1"/>
          <a:stretch/>
        </p:blipFill>
        <p:spPr>
          <a:xfrm>
            <a:off x="3786120" y="1214280"/>
            <a:ext cx="5616720" cy="531036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16"/>
          <p:cNvSpPr/>
          <p:nvPr/>
        </p:nvSpPr>
        <p:spPr>
          <a:xfrm>
            <a:off x="0" y="2637000"/>
            <a:ext cx="3614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Лінія Керзона – умов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назва східного кордону Польщі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Ця лінія визначала кордон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за межами якого поля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не складали більші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Полілінія 10"/>
          <p:cNvSpPr/>
          <p:nvPr/>
        </p:nvSpPr>
        <p:spPr>
          <a:xfrm>
            <a:off x="4297320" y="1782720"/>
            <a:ext cx="1585800" cy="3368880"/>
          </a:xfrm>
          <a:prstGeom prst="pie">
            <a:avLst/>
          </a:prstGeom>
          <a:noFill/>
          <a:ln w="38160">
            <a:solidFill>
              <a:srgbClr val="38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4122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5611b3"/>
                </a:solidFill>
                <a:latin typeface="Tahoma"/>
              </a:rPr>
              <a:t>Польсько - більшовицька війна </a:t>
            </a:r>
            <a:br>
              <a:rPr sz="4000"/>
            </a:br>
            <a:r>
              <a:rPr b="0" lang="uk-UA" sz="4000" spc="-1" strike="noStrike">
                <a:solidFill>
                  <a:srgbClr val="5611b3"/>
                </a:solidFill>
                <a:latin typeface="Tahoma"/>
              </a:rPr>
              <a:t>1920 рок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79280" y="1341360"/>
          <a:ext cx="8785440" cy="5315040"/>
        </p:xfrm>
        <a:graphic>
          <a:graphicData uri="http://schemas.openxmlformats.org/drawingml/2006/table">
            <a:tbl>
              <a:tblPr/>
              <a:tblGrid>
                <a:gridCol w="3529080"/>
                <a:gridCol w="52563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7e0000"/>
                          </a:solidFill>
                          <a:latin typeface="Tahoma"/>
                        </a:rPr>
                        <a:t>Причини війни</a:t>
                      </a: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Наслідки війн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(</a:t>
                      </a:r>
                      <a:r>
                        <a:rPr b="0" lang="uk-UA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за Ризьким договором</a:t>
                      </a:r>
                      <a:r>
                        <a:rPr b="0" lang="uk-UA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7e0000"/>
                          </a:solidFill>
                          <a:latin typeface="Tahoma"/>
                        </a:rPr>
                        <a:t>Неурегульованість східного кордону Польщі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7e0000"/>
                          </a:solidFill>
                          <a:latin typeface="Tahoma"/>
                        </a:rPr>
                        <a:t>Бажання Польщі бачити у своєму складі Правобережну Україн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7e0000"/>
                          </a:solidFill>
                          <a:latin typeface="Tahoma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7e0000"/>
                          </a:solidFill>
                          <a:latin typeface="Tahoma"/>
                        </a:rPr>
                        <a:t>Невизнання Польщею урядів УСРР та РСФР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Text Box 61"/>
          <p:cNvSpPr/>
          <p:nvPr/>
        </p:nvSpPr>
        <p:spPr>
          <a:xfrm>
            <a:off x="3635280" y="2852640"/>
            <a:ext cx="518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ahoma"/>
              </a:rPr>
              <a:t>Встановлювався радянсько-польський кордон, значно на схід від “лінії Керзона”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ahoma"/>
              </a:rPr>
              <a:t>Польщі відходила територія Західної України та Західної Білорусії, інша частина Правобережжя – до УСР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ahoma"/>
              </a:rPr>
              <a:t>Сторони зобов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’</a:t>
            </a:r>
            <a:r>
              <a:rPr b="0" lang="uk-UA" sz="2000" spc="-1" strike="noStrike">
                <a:solidFill>
                  <a:srgbClr val="000099"/>
                </a:solidFill>
                <a:latin typeface="Tahoma"/>
              </a:rPr>
              <a:t>язувалися поважати суверенітет одна одної. Польща визнавала УСР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Остаточне формування території Польщі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Picture 4" descr="Map_4"/>
          <p:cNvPicPr/>
          <p:nvPr/>
        </p:nvPicPr>
        <p:blipFill>
          <a:blip r:embed="rId1"/>
          <a:stretch/>
        </p:blipFill>
        <p:spPr>
          <a:xfrm>
            <a:off x="611280" y="622440"/>
            <a:ext cx="8028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тановище українського населення в складі Польщ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Picture 11" descr="nov_d_166"/>
          <p:cNvPicPr/>
          <p:nvPr/>
        </p:nvPicPr>
        <p:blipFill>
          <a:blip r:embed="rId1"/>
          <a:stretch/>
        </p:blipFill>
        <p:spPr>
          <a:xfrm>
            <a:off x="5435640" y="1484280"/>
            <a:ext cx="3564000" cy="5373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2" descr="nov_d_161"/>
          <p:cNvPicPr/>
          <p:nvPr/>
        </p:nvPicPr>
        <p:blipFill>
          <a:blip r:embed="rId2"/>
          <a:srcRect l="0" t="0" r="-83" b="0"/>
          <a:stretch/>
        </p:blipFill>
        <p:spPr>
          <a:xfrm>
            <a:off x="179280" y="1844640"/>
            <a:ext cx="5040360" cy="427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Начальник держави”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275440" y="2852640"/>
            <a:ext cx="38685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Юзеф Пілсудсь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Picture 11" descr="пилсудский"/>
          <p:cNvPicPr/>
          <p:nvPr/>
        </p:nvPicPr>
        <p:blipFill>
          <a:blip r:embed="rId1"/>
          <a:stretch/>
        </p:blipFill>
        <p:spPr>
          <a:xfrm>
            <a:off x="395280" y="1052640"/>
            <a:ext cx="4460760" cy="58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Tahoma"/>
              </a:rPr>
              <a:t>Політичний режим Польщі </a:t>
            </a:r>
            <a:br>
              <a:rPr sz="3600"/>
            </a:br>
            <a:r>
              <a:rPr b="0" lang="uk-UA" sz="3600" spc="-1" strike="noStrike">
                <a:solidFill>
                  <a:srgbClr val="ffffcc"/>
                </a:solidFill>
                <a:latin typeface="Tahoma"/>
              </a:rPr>
              <a:t>за часів “санації”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2" name="Picture 6" descr="nov_d_169"/>
          <p:cNvPicPr/>
          <p:nvPr/>
        </p:nvPicPr>
        <p:blipFill>
          <a:blip r:embed="rId1"/>
          <a:stretch/>
        </p:blipFill>
        <p:spPr>
          <a:xfrm>
            <a:off x="250920" y="1052640"/>
            <a:ext cx="3728880" cy="5616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1" descr="Таблиця 02"/>
          <p:cNvPicPr/>
          <p:nvPr/>
        </p:nvPicPr>
        <p:blipFill>
          <a:blip r:embed="rId2"/>
          <a:stretch/>
        </p:blipFill>
        <p:spPr>
          <a:xfrm>
            <a:off x="4356000" y="1052640"/>
            <a:ext cx="4608720" cy="56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0:40:38Z</dcterms:created>
  <dc:creator>RIA</dc:creator>
  <dc:description/>
  <dc:language>en-US</dc:language>
  <cp:lastModifiedBy>Shool</cp:lastModifiedBy>
  <dcterms:modified xsi:type="dcterms:W3CDTF">2012-02-02T09:25:43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18000000000001024140</vt:lpwstr>
  </property>
</Properties>
</file>