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A76-CF6D-49C1-B9C3-D9A9EE99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32E-31EE-4C81-B24E-7DAB7A01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618-6358-498B-8585-809A2B44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CD5-F60C-410E-944B-202762D8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27C2-8196-451C-A266-CBBFC42A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E9EF-1010-4FA0-9A93-3ACC8E30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DC1B-9419-463C-9B6F-39AEC4DD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320A-5B02-462B-A051-DA85A5F9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6AD5-AD60-4F96-A4B0-FF5C2A08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A792-9522-4658-A8EB-A57FEE3D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8E1B-9FDD-4301-A14F-E9160485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8D1-55A1-4874-A193-293302EC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7F3F-2B33-4198-8010-5163167F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4FE9-43F0-4B35-AA95-5BAF0380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1898-7DD6-4DB9-B953-9AC4DCD7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6D68-700F-45E1-AA5C-ED18829C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23F2-591E-496C-8D73-1AA6ABF8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F0B-FAB6-4189-8D3E-3469BBFA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22F-8F4D-429E-835D-1A69B5A3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512-43A6-4E6E-B5D7-8FA55172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454-F873-465D-BE59-EBF41322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E8D-E567-43C7-8589-138E5D82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3F8-AD73-45BE-BC15-A5F186BB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34C-E853-452D-8DB7-EF717B81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1734-F109-478E-BAA0-D23203BEE7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E5DF-F80C-4401-982E-93C93241680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79280" y="4076640"/>
            <a:ext cx="878544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uk-UA" sz="2400" spc="-1" strike="noStrike">
                <a:solidFill>
                  <a:srgbClr val="ffffff"/>
                </a:solidFill>
                <a:latin typeface="Tahoma"/>
              </a:rPr>
              <a:t>З листів до Індіри Ганді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У Європі відбулися суттєві зміни, і на її карті з’явився ряд нових держав. Порівняй стару карту з новою, і ти зразу побачиш ці великі змін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вністю зникла одна з найбільших держав – Австро-Угорщина, - і замість неї з’явилося декілька невеликих держав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алі на північ знаходиться ще одна нова держава, правильніше, стара держава, що знову з’явилася на карті, -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Польщ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8" descr="Map_3"/>
          <p:cNvPicPr/>
          <p:nvPr/>
        </p:nvPicPr>
        <p:blipFill>
          <a:blip r:embed="rId1"/>
          <a:stretch/>
        </p:blipFill>
        <p:spPr>
          <a:xfrm>
            <a:off x="179280" y="189000"/>
            <a:ext cx="4211640" cy="3827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Map_4"/>
          <p:cNvPicPr/>
          <p:nvPr/>
        </p:nvPicPr>
        <p:blipFill>
          <a:blip r:embed="rId2"/>
          <a:stretch/>
        </p:blipFill>
        <p:spPr>
          <a:xfrm>
            <a:off x="4572000" y="189000"/>
            <a:ext cx="4356000" cy="38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1a5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Проблемне питанн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651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За що поляк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назвали Юзефа Пілсудськог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останнім польськи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шляхтичем, що завоюва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обі славу, якої, мабуть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не здобуде ніхт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протягом наступної пар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толіть”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Object 4" descr=""/>
          <p:cNvPicPr/>
          <p:nvPr/>
        </p:nvPicPr>
        <p:blipFill>
          <a:blip r:embed="rId1"/>
          <a:stretch/>
        </p:blipFill>
        <p:spPr>
          <a:xfrm>
            <a:off x="6732720" y="1052640"/>
            <a:ext cx="2263680" cy="27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412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6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611b3"/>
                </a:solidFill>
                <a:latin typeface="Tahoma"/>
              </a:rPr>
              <a:t>Розділ</a:t>
            </a:r>
            <a:br>
              <a:rPr sz="4400"/>
            </a:br>
            <a:r>
              <a:rPr b="0" lang="uk-UA" sz="4400" spc="-1" strike="noStrike">
                <a:solidFill>
                  <a:srgbClr val="5611b3"/>
                </a:solidFill>
                <a:latin typeface="Tahoma"/>
              </a:rPr>
              <a:t> Країни Центральної та Східної Європи у 1918 – 1939 рр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24000" y="3068280"/>
            <a:ext cx="85183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c0a13"/>
                </a:solidFill>
                <a:latin typeface="Tahoma"/>
              </a:rPr>
              <a:t>Тема уроку:  “</a:t>
            </a:r>
            <a:r>
              <a:rPr b="1" lang="uk-UA" sz="3600" spc="-1" strike="noStrike">
                <a:solidFill>
                  <a:srgbClr val="6c0a13"/>
                </a:solidFill>
                <a:latin typeface="Tahoma"/>
              </a:rPr>
              <a:t>Польща</a:t>
            </a:r>
            <a:r>
              <a:rPr b="0" lang="uk-UA" sz="3600" spc="-1" strike="noStrike">
                <a:solidFill>
                  <a:srgbClr val="6c0a13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Object 4" descr=""/>
          <p:cNvPicPr/>
          <p:nvPr/>
        </p:nvPicPr>
        <p:blipFill>
          <a:blip r:embed="rId1"/>
          <a:stretch/>
        </p:blipFill>
        <p:spPr>
          <a:xfrm>
            <a:off x="3492360" y="4292640"/>
            <a:ext cx="1895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3"/>
          <p:cNvSpPr/>
          <p:nvPr/>
        </p:nvSpPr>
        <p:spPr>
          <a:xfrm>
            <a:off x="0" y="18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Польща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ала на меті отримати території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-1827360" y="2205000"/>
            <a:ext cx="542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хідна Галичина (поляк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Східна Галичина ( українці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хідна Білорусія ( білорус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олинь ( українці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Литва ( литовці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17" descr="Карта Земель"/>
          <p:cNvPicPr/>
          <p:nvPr/>
        </p:nvPicPr>
        <p:blipFill>
          <a:blip r:embed="rId1"/>
          <a:stretch/>
        </p:blipFill>
        <p:spPr>
          <a:xfrm>
            <a:off x="3527280" y="1547640"/>
            <a:ext cx="5616720" cy="5310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Лінія Керзона”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17" descr="Карта Земель"/>
          <p:cNvPicPr/>
          <p:nvPr/>
        </p:nvPicPr>
        <p:blipFill>
          <a:blip r:embed="rId1"/>
          <a:stretch/>
        </p:blipFill>
        <p:spPr>
          <a:xfrm>
            <a:off x="3786120" y="1214280"/>
            <a:ext cx="5616720" cy="53103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6"/>
          <p:cNvSpPr/>
          <p:nvPr/>
        </p:nvSpPr>
        <p:spPr>
          <a:xfrm>
            <a:off x="0" y="2637000"/>
            <a:ext cx="3614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Лінія Керзона – умов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назва східного кордону Польщі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Ця лінія визначала кордон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за межами якого поля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не складали більші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Полілінія 10"/>
          <p:cNvSpPr/>
          <p:nvPr/>
        </p:nvSpPr>
        <p:spPr>
          <a:xfrm>
            <a:off x="4297320" y="1782720"/>
            <a:ext cx="1585800" cy="3368880"/>
          </a:xfrm>
          <a:prstGeom prst="pie">
            <a:avLst/>
          </a:prstGeom>
          <a:noFill/>
          <a:ln w="38160">
            <a:solidFill>
              <a:srgbClr val="38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4122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5611b3"/>
                </a:solidFill>
                <a:latin typeface="Tahoma"/>
              </a:rPr>
              <a:t>Польсько - більшовицька війна </a:t>
            </a:r>
            <a:br>
              <a:rPr sz="4000"/>
            </a:br>
            <a:r>
              <a:rPr b="0" lang="uk-UA" sz="4000" spc="-1" strike="noStrike">
                <a:solidFill>
                  <a:srgbClr val="5611b3"/>
                </a:solidFill>
                <a:latin typeface="Tahoma"/>
              </a:rPr>
              <a:t>1920 рок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79280" y="1341360"/>
          <a:ext cx="8785440" cy="5315040"/>
        </p:xfrm>
        <a:graphic>
          <a:graphicData uri="http://schemas.openxmlformats.org/drawingml/2006/table">
            <a:tbl>
              <a:tblPr/>
              <a:tblGrid>
                <a:gridCol w="3529080"/>
                <a:gridCol w="52563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Причини війни</a:t>
                      </a: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Наслідки війн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(</a:t>
                      </a:r>
                      <a:r>
                        <a:rPr b="0" lang="uk-UA" sz="2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за Ризьким договором</a:t>
                      </a:r>
                      <a:r>
                        <a:rPr b="0" lang="uk-UA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Неурегульованість східного кордону Польщі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Бажання Польщі бачити у своєму складі Правобережну Україн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7e0000"/>
                          </a:solidFill>
                          <a:latin typeface="Tahoma"/>
                        </a:rPr>
                        <a:t>Невизнання Польщею урядів УСРР та РСФР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Text Box 61"/>
          <p:cNvSpPr/>
          <p:nvPr/>
        </p:nvSpPr>
        <p:spPr>
          <a:xfrm>
            <a:off x="3635280" y="2852640"/>
            <a:ext cx="518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ahoma"/>
              </a:rPr>
              <a:t>Встановлювався радянсько-польський кордон, значно на схід від “лінії Керзона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ahoma"/>
              </a:rPr>
              <a:t>Польщі відходила територія Західної України та Західної Білорусії, інша частина Правобережжя – до УСР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ahoma"/>
              </a:rPr>
              <a:t>Сторони зобов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0" lang="uk-UA" sz="2000" spc="-1" strike="noStrike">
                <a:solidFill>
                  <a:srgbClr val="000099"/>
                </a:solidFill>
                <a:latin typeface="Tahoma"/>
              </a:rPr>
              <a:t>язувалися поважати суверенітет одна одної. Польща визнавала УСР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Остаточне формування території Польщі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Picture 4" descr="Map_4"/>
          <p:cNvPicPr/>
          <p:nvPr/>
        </p:nvPicPr>
        <p:blipFill>
          <a:blip r:embed="rId1"/>
          <a:stretch/>
        </p:blipFill>
        <p:spPr>
          <a:xfrm>
            <a:off x="611280" y="622440"/>
            <a:ext cx="8028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тановище українського населення в складі Польщ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Picture 11" descr="nov_d_166"/>
          <p:cNvPicPr/>
          <p:nvPr/>
        </p:nvPicPr>
        <p:blipFill>
          <a:blip r:embed="rId1"/>
          <a:stretch/>
        </p:blipFill>
        <p:spPr>
          <a:xfrm>
            <a:off x="5435640" y="1484280"/>
            <a:ext cx="3564000" cy="5373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2" descr="nov_d_161"/>
          <p:cNvPicPr/>
          <p:nvPr/>
        </p:nvPicPr>
        <p:blipFill>
          <a:blip r:embed="rId2"/>
          <a:srcRect l="0" t="0" r="-83" b="0"/>
          <a:stretch/>
        </p:blipFill>
        <p:spPr>
          <a:xfrm>
            <a:off x="179280" y="1844640"/>
            <a:ext cx="5040360" cy="42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Начальник держави”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275440" y="2852640"/>
            <a:ext cx="38685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Юзеф Пілсудсь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Picture 11" descr="пилсудский"/>
          <p:cNvPicPr/>
          <p:nvPr/>
        </p:nvPicPr>
        <p:blipFill>
          <a:blip r:embed="rId1"/>
          <a:stretch/>
        </p:blipFill>
        <p:spPr>
          <a:xfrm>
            <a:off x="395280" y="1052640"/>
            <a:ext cx="4460760" cy="58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Tahoma"/>
              </a:rPr>
              <a:t>Політичний режим Польщі </a:t>
            </a:r>
            <a:br>
              <a:rPr sz="3600"/>
            </a:br>
            <a:r>
              <a:rPr b="0" lang="uk-UA" sz="3600" spc="-1" strike="noStrike">
                <a:solidFill>
                  <a:srgbClr val="ffffcc"/>
                </a:solidFill>
                <a:latin typeface="Tahoma"/>
              </a:rPr>
              <a:t>за часів “санації”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2" name="Picture 6" descr="nov_d_169"/>
          <p:cNvPicPr/>
          <p:nvPr/>
        </p:nvPicPr>
        <p:blipFill>
          <a:blip r:embed="rId1"/>
          <a:stretch/>
        </p:blipFill>
        <p:spPr>
          <a:xfrm>
            <a:off x="250920" y="1052640"/>
            <a:ext cx="3728880" cy="5616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1" descr="Таблиця 02"/>
          <p:cNvPicPr/>
          <p:nvPr/>
        </p:nvPicPr>
        <p:blipFill>
          <a:blip r:embed="rId2"/>
          <a:stretch/>
        </p:blipFill>
        <p:spPr>
          <a:xfrm>
            <a:off x="4356000" y="1052640"/>
            <a:ext cx="460872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0:40:38Z</dcterms:created>
  <dc:creator>RIA</dc:creator>
  <dc:description/>
  <dc:language>en-US</dc:language>
  <cp:lastModifiedBy>Shool</cp:lastModifiedBy>
  <dcterms:modified xsi:type="dcterms:W3CDTF">2012-02-02T09:25:43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8000000000001024140</vt:lpwstr>
  </property>
</Properties>
</file>