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C917-0F31-4C08-90A4-A93459CA8F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BE3D-F69D-44ED-8C93-AE63120ECE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5D9E-8FF5-49EC-9D02-BA927F3769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3417-1B7D-4378-B896-15B87AFE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DC2E-F7E4-43AE-A417-B8B8E696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619E-4848-4EB1-B35B-C6B7FC3B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A4F2-6DBB-417F-9DD3-10DF6026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79DD-0526-4400-BFCA-2F83BE29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635-3779-424B-91F3-CF5F6AB6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5EFF-9095-42BD-9D9A-8403B2AA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B69C-C362-4F90-BE1F-97899126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89FF-09EF-4233-97E7-15B6BBF3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92F3-E825-4B01-BC45-204E9F9D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5DFD-23A5-4A3D-9896-71C4B0C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5907-DD7A-4D80-A226-4FA3346B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918F-6511-4607-A3FF-FFAFBF72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F01E-EA73-42FB-B433-8BABA2B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CE12-33BC-453C-9D4F-FCCF98DF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0F0A-7131-46AB-B592-DFD6922E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5849-259B-4B33-8517-127B93AF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8261-7765-4369-A1A0-4EC3A706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A90D-BDEA-4CFE-BEB7-3F38D5D8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5A58-6FB2-44F8-BDFF-37586A06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2F66-0F3B-463F-BD82-AE7B649A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CF0B-2948-43C1-AA9A-C19E5068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5263-6142-4963-91AF-39DDC48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45D5-90AF-424B-BA13-A05B0CB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BA3A-0512-4F32-BE31-D8C176DF75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4A04-F332-4301-AA11-4A540AE873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Bodoni MT Black"/>
              </a:rPr>
              <a:t>Катерина ІІ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8" descr="ек 2"/>
          <p:cNvPicPr/>
          <p:nvPr/>
        </p:nvPicPr>
        <p:blipFill>
          <a:blip r:embed="rId1"/>
          <a:stretch/>
        </p:blipFill>
        <p:spPr>
          <a:xfrm>
            <a:off x="1571760" y="2071800"/>
            <a:ext cx="3365280" cy="3805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"/>
              </a:rPr>
              <a:t>Імператриця     </a:t>
            </a:r>
            <a:r>
              <a:rPr b="0" lang="ru-RU" sz="4400" spc="-1" strike="noStrike">
                <a:solidFill>
                  <a:srgbClr val="ffffff"/>
                </a:solidFill>
                <a:latin typeface="comic"/>
              </a:rPr>
              <a:t>    Росі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"/>
              </a:rPr>
              <a:t>1762 - 179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нутрішня політика 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атерини І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Схема 5" descr=""/>
          <p:cNvPicPr/>
          <p:nvPr/>
        </p:nvPicPr>
        <p:blipFill>
          <a:blip r:embed="rId1"/>
          <a:stretch/>
        </p:blipFill>
        <p:spPr>
          <a:xfrm>
            <a:off x="768240" y="1639800"/>
            <a:ext cx="82425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Зміцнення централізованого управління державою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764 р. – ліквідовано гетьманство в Лівобережній Україні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765 р. – ліквідовано козацький устрій в Слобідській Україні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775 р. – загальноросійська губернська рефор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775 р. – знищена Запорізька Сі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ffffff"/>
                </a:solidFill>
                <a:latin typeface="Arial"/>
              </a:rPr>
              <a:t>Катеринінський палац в Царському Селі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дворец1"/>
          <p:cNvPicPr/>
          <p:nvPr/>
        </p:nvPicPr>
        <p:blipFill>
          <a:blip r:embed="rId1"/>
          <a:stretch/>
        </p:blipFill>
        <p:spPr>
          <a:xfrm>
            <a:off x="4932360" y="328464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дворец2"/>
          <p:cNvPicPr/>
          <p:nvPr/>
        </p:nvPicPr>
        <p:blipFill>
          <a:blip r:embed="rId2"/>
          <a:stretch/>
        </p:blipFill>
        <p:spPr>
          <a:xfrm>
            <a:off x="1042920" y="198900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ffffff"/>
                </a:solidFill>
                <a:latin typeface="Arial"/>
              </a:rPr>
              <a:t>Зміцнення становища дворянств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762 р.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дтверджено положення “Маніфесту про вольності дворянства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785 р. – видана “Жалувана грамота дворянству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зимний дворец"/>
          <p:cNvPicPr/>
          <p:nvPr/>
        </p:nvPicPr>
        <p:blipFill>
          <a:blip r:embed="rId1"/>
          <a:stretch/>
        </p:blipFill>
        <p:spPr>
          <a:xfrm>
            <a:off x="5072040" y="1143000"/>
            <a:ext cx="3817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ffffff"/>
                </a:solidFill>
                <a:latin typeface="Arial"/>
              </a:rPr>
              <a:t>Посилення </a:t>
            </a:r>
            <a:r>
              <a:rPr b="1" i="1" lang="uk-UA" sz="3900" spc="-1" strike="noStrike" u="sng">
                <a:solidFill>
                  <a:srgbClr val="ffffff"/>
                </a:solidFill>
                <a:uFillTx/>
                <a:latin typeface="Arial"/>
              </a:rPr>
              <a:t>кріпацтв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Було заборонено селянам йти від своїх панів (землевласникі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більшувалися панщина і об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Така політика цариз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привела до повст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народних мас на чол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 Омеляном  Пугачов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пугачев"/>
          <p:cNvPicPr/>
          <p:nvPr/>
        </p:nvPicPr>
        <p:blipFill>
          <a:blip r:embed="rId1"/>
          <a:stretch/>
        </p:blipFill>
        <p:spPr>
          <a:xfrm>
            <a:off x="6869160" y="3357720"/>
            <a:ext cx="2274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овнішння політика Катерини ІІ</a:t>
            </a: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 призвела до збільшення території Російської імпер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Схема 7" descr=""/>
          <p:cNvPicPr/>
          <p:nvPr/>
        </p:nvPicPr>
        <p:blipFill>
          <a:blip r:embed="rId1"/>
          <a:stretch/>
        </p:blipFill>
        <p:spPr>
          <a:xfrm>
            <a:off x="426960" y="1573200"/>
            <a:ext cx="8217000" cy="449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IMG_0008"/>
          <p:cNvPicPr/>
          <p:nvPr/>
        </p:nvPicPr>
        <p:blipFill>
          <a:blip r:embed="rId2"/>
          <a:stretch/>
        </p:blipFill>
        <p:spPr>
          <a:xfrm>
            <a:off x="468360" y="2205000"/>
            <a:ext cx="2374920" cy="1784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IMG_0009"/>
          <p:cNvPicPr/>
          <p:nvPr/>
        </p:nvPicPr>
        <p:blipFill>
          <a:blip r:embed="rId3"/>
          <a:stretch/>
        </p:blipFill>
        <p:spPr>
          <a:xfrm>
            <a:off x="5724360" y="2205000"/>
            <a:ext cx="2938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Епоха Катерини ІІ – це великий злет Російської держави і страшна трагедія народів, які її населя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ак только ты в Москву вступила, так все сердца заворожил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из песни студентов того времен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арам бархат да кружева, а нашему брату ни обуто, ни одето, ни ложкой задет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ужик-то гол, да в руках у него кол; есть надежда, что будет и одежд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Храбрость – сестра побед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народные поговорки того времен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7" descr="IMG"/>
          <p:cNvPicPr/>
          <p:nvPr/>
        </p:nvPicPr>
        <p:blipFill>
          <a:blip r:embed="rId1"/>
          <a:stretch/>
        </p:blipFill>
        <p:spPr>
          <a:xfrm>
            <a:off x="1755720" y="1916280"/>
            <a:ext cx="32702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Arial"/>
              </a:rPr>
              <a:t>«Золотий вік» Катерини ІІ</a:t>
            </a: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987280" y="37162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Часи правлі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Катерини І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одержали в історії назв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mic"/>
              </a:rPr>
              <a:t>«освічений абсолютиз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7120" y="1856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uk-UA" sz="5000" spc="-1" strike="noStrike">
                <a:solidFill>
                  <a:srgbClr val="ffffff"/>
                </a:solidFill>
                <a:latin typeface="comic"/>
              </a:rPr>
              <a:t>Хто і чому міг назвати  період правління </a:t>
            </a:r>
            <a:br>
              <a:rPr sz="5000"/>
            </a:br>
            <a:r>
              <a:rPr b="1" i="1" lang="uk-UA" sz="5000" spc="-1" strike="noStrike">
                <a:solidFill>
                  <a:srgbClr val="ffffff"/>
                </a:solidFill>
                <a:latin typeface="comic"/>
              </a:rPr>
              <a:t>Катерини ІІ  </a:t>
            </a:r>
            <a:br>
              <a:rPr sz="5000"/>
            </a:br>
            <a:r>
              <a:rPr b="1" i="1" lang="uk-UA" sz="5000" spc="-1" strike="noStrike">
                <a:solidFill>
                  <a:srgbClr val="ffffff"/>
                </a:solidFill>
                <a:latin typeface="comic"/>
              </a:rPr>
              <a:t>“золотим віком”?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comic"/>
              </a:rPr>
              <a:t>Прихід до влад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"/>
              </a:rPr>
              <a:t>Справжнє ім</a:t>
            </a: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comic"/>
              </a:rPr>
              <a:t>я російської імператриці Катерини ІІ – Софія Фредеріка Августа. Народилася вона в Німеччин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0" descr="IMG"/>
          <p:cNvPicPr/>
          <p:nvPr/>
        </p:nvPicPr>
        <p:blipFill>
          <a:blip r:embed="rId1"/>
          <a:stretch/>
        </p:blipFill>
        <p:spPr>
          <a:xfrm>
            <a:off x="5435640" y="1557360"/>
            <a:ext cx="2979720" cy="4103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-127332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ffffff"/>
                </a:solidFill>
                <a:latin typeface="Arial"/>
              </a:rPr>
              <a:t>В дитинстві Софію Фредеріку Августу  називали Фіке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92000" y="1989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Castellar"/>
              </a:rPr>
              <a:t>Вона отримала домашню освіту: вміла читати і писати, а також навчилася говорити французькою завдяки своїй гувернантки мадемуазель Кардель, яка переказувала їй п</a:t>
            </a: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Castellar"/>
              </a:rPr>
              <a:t>єси Мольєр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stellar"/>
              </a:rPr>
              <a:t>і модні ром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ffffff"/>
                </a:solidFill>
                <a:latin typeface="Arial"/>
              </a:rPr>
              <a:t>Як тільки їй виповнилося шістнадцять років,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ідбулася свадьба з наслідником російського престолу Петром ІІ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Росії Катерина багато читала, вивчала російську мову, яку вважала найбагатшою в світ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результаті палацового перевороту Катерина була проголошена імператрицею Рос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Forte"/>
              </a:rPr>
              <a:t>Добре освічена правителька читала твори Монтеск</a:t>
            </a: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Forte"/>
              </a:rPr>
              <a:t>є, листувалася з Вольтером, запросила до Петербурга Дід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вольтер"/>
          <p:cNvPicPr/>
          <p:nvPr/>
        </p:nvPicPr>
        <p:blipFill>
          <a:blip r:embed="rId1"/>
          <a:stretch/>
        </p:blipFill>
        <p:spPr>
          <a:xfrm>
            <a:off x="684360" y="1989000"/>
            <a:ext cx="2760480" cy="326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монтескье"/>
          <p:cNvPicPr/>
          <p:nvPr/>
        </p:nvPicPr>
        <p:blipFill>
          <a:blip r:embed="rId2"/>
          <a:stretch/>
        </p:blipFill>
        <p:spPr>
          <a:xfrm>
            <a:off x="5003640" y="2276640"/>
            <a:ext cx="302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Імператриця Катерина ІІ  прагнула закінчити </a:t>
            </a:r>
            <a:r>
              <a:rPr b="1" i="1" lang="uk-UA" sz="2900" spc="-1" strike="noStrike" u="sng">
                <a:solidFill>
                  <a:srgbClr val="ffffff"/>
                </a:solidFill>
                <a:uFillTx/>
                <a:latin typeface="Arial"/>
              </a:rPr>
              <a:t>реформи Петра І</a:t>
            </a: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 і перетворити Росію на найсильнішу державу Європ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ула проведена секуляризація церковних земель в 1764 році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 1767 до 1769 років працювала Уложенна комісія щодо розробки нового кодексу законів Російської імпері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Рисунок1"/>
          <p:cNvPicPr/>
          <p:nvPr/>
        </p:nvPicPr>
        <p:blipFill>
          <a:blip r:embed="rId1"/>
          <a:stretch/>
        </p:blipFill>
        <p:spPr>
          <a:xfrm>
            <a:off x="1676520" y="1981080"/>
            <a:ext cx="3440160" cy="411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Рисунок1"/>
          <p:cNvPicPr/>
          <p:nvPr/>
        </p:nvPicPr>
        <p:blipFill>
          <a:blip r:embed="rId2"/>
          <a:stretch/>
        </p:blipFill>
        <p:spPr>
          <a:xfrm>
            <a:off x="2695680" y="3768840"/>
            <a:ext cx="4051080" cy="454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IMG"/>
          <p:cNvPicPr/>
          <p:nvPr/>
        </p:nvPicPr>
        <p:blipFill>
          <a:blip r:embed="rId3"/>
          <a:stretch/>
        </p:blipFill>
        <p:spPr>
          <a:xfrm>
            <a:off x="1042920" y="2060640"/>
            <a:ext cx="30243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Катерина ІІ підтримувала  зв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язки з  </a:t>
            </a:r>
            <a:br>
              <a:rPr sz="2100"/>
            </a:b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М.В. Ломоносовим, який був ініціатором відкриття </a:t>
            </a:r>
            <a:br>
              <a:rPr sz="2100"/>
            </a:b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Московського університету </a:t>
            </a:r>
            <a:br>
              <a:rPr sz="2100"/>
            </a:b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в 1755 роцы.</a:t>
            </a: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ломоносов"/>
          <p:cNvPicPr/>
          <p:nvPr/>
        </p:nvPicPr>
        <p:blipFill>
          <a:blip r:embed="rId1"/>
          <a:stretch/>
        </p:blipFill>
        <p:spPr>
          <a:xfrm>
            <a:off x="5940360" y="2060640"/>
            <a:ext cx="2664000" cy="309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лом с ек"/>
          <p:cNvPicPr/>
          <p:nvPr/>
        </p:nvPicPr>
        <p:blipFill>
          <a:blip r:embed="rId2"/>
          <a:stretch/>
        </p:blipFill>
        <p:spPr>
          <a:xfrm>
            <a:off x="1692360" y="198900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4:59:21Z</dcterms:created>
  <dc:creator>Дом</dc:creator>
  <dc:description/>
  <dc:language>en-US</dc:language>
  <cp:lastModifiedBy>Admin</cp:lastModifiedBy>
  <dcterms:modified xsi:type="dcterms:W3CDTF">2004-12-31T21:07:43Z</dcterms:modified>
  <cp:revision>13</cp:revision>
  <dc:subject/>
  <dc:title>«Золотой век» Екатерин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8000000000001024140</vt:lpwstr>
  </property>
</Properties>
</file>