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FE5-0404-4200-8BF5-D8BA86C0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32E-D05A-47AD-A86F-09D71C4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B09-4FB1-48B4-BC4B-164FC1B0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614-BBE9-4899-97B4-EB6BC4B5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2FE-2AA5-4D34-AAB0-AE1BD6D9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B387-7A4D-46F2-A7CD-ECFF9F93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E3A5-F7EA-43AD-8C37-17DA9D8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E070-C720-4B17-B257-82EC9C0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6A64-8A9F-42EC-83C7-9338BB5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48CD-C203-4311-9247-45C3ED2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43FA-027E-4B50-9AE3-9A5B5C9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69F-B34B-408F-9465-C827FF4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C88-8EFD-4993-9666-B7F772D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AB0-32E7-4BD4-9653-DB64F27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E193-2FD3-48BA-9F3E-0D65927D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CFF-5241-41DE-A10B-39358FA0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8D84-2461-4968-B780-BAF98ED4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F50-8881-445A-A886-DBCA2F6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9A0-A6D6-4395-B7C5-4F8AA15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EF8-4F6E-4FE4-80B0-6210A4D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126-ECCF-46E1-95B8-F4E8C04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E0A-E76E-47C6-838D-5ECEFD6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DF5-C8CB-477C-9182-9A8E1D7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25D-3B26-41A4-AB5A-8B4C778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7DF-CFAF-4417-96B0-2A222FAA0F0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4E9-D416-417E-B188-E42D08E9B8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3402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Тема уроку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ди тоталітаризм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773360"/>
            <a:ext cx="2810160" cy="1800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омуністич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1844640"/>
            <a:ext cx="2664000" cy="172728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фаши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844640"/>
            <a:ext cx="2232000" cy="165564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націонал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соціалі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Історичні портрети тоталітаризму в 20-х роках</a:t>
            </a:r>
            <a:r>
              <a:rPr b="1" lang="uk-UA" sz="6600" spc="-1" strike="noStrike">
                <a:solidFill>
                  <a:srgbClr val="54547a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Робо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Учениці 10-Б клас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Іващенко Анастасі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Arial"/>
              </a:rPr>
              <a:t>Адольф Гітлер</a:t>
            </a:r>
            <a:r>
              <a:rPr b="0" i="1" lang="uk-UA" sz="9600" spc="-1" strike="noStrike">
                <a:solidFill>
                  <a:srgbClr val="54547a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639040" cy="5784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20 квітня 1889, Браунау на Інні, Австро-Угорщина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сім*ї австрійського митного чиновника,( який до 1876 р. носив прізвище Шікльгрубер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6 років закінчив школу в Лінці. Спроби поступити у Віденську художню академію виявилися невдали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07 р. – померла мати, перебрався до Від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ра у велич і особливу місію німецької на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ередодні Першої світової війни перебрався до Мюнхена. У перші роки війни записався добровольцем у німецьку армі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ання : рядовий, потім єфрейто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ічі поранений, нагороджений Залізними хрестами ІІ і І ступе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інці 1918 р. він повернувся до Мюнхена і вступив у рейхсвер (Е. Рема). Нова назва партії НСДАП (25 пункт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20-х роках НСДАП – найпомітніша екстремістських організаці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6"/>
          <a:stretch/>
        </p:blipFill>
        <p:spPr>
          <a:xfrm>
            <a:off x="457200" y="68580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листопада 1923 р. виступав на мітингу в мюнхенській пивній “Бюргербраукелер”, проголосив початок національної револю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листопада відбувся “ пивний путч ”. Йдучи зі своїми прибічниками до центральної площі він провів їх до “Фельдгеренхале”, частина рейхсверу відкрила вогонь по н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ютий - березень1924 р. – суд (засудили на 5 років, відпустили через 9 місяц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творення НСДАП в загальнонаціональну політичну си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1 січня 1933 р. рейхканцленр Німеччини (Гінденбург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оловна “уніфікація” Німеччини (знищення комуністичних, соціал-демократичних партій, ліквідація профспілок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0 червня - знищення ватажків СА ( нелояльність фюреру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029200" cy="533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-271440" y="957240"/>
            <a:ext cx="48099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ванш. Порушення Версальського договор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членована Чехословаччина, окупована Чехія, анексована Австрія. Підтримка Сталіним, війська на території Польщі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1941 р. – проти Радянського Союз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купація німецькими військами республіки Прибалтики, Білорусії, України, Молдавії і  частини Рос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нець 1942 р. – поразка . 1944 р. – звільнення від  окуп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0 квітня 1945 р. в оточеному Берліні, покінчив життя самогубств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4765680" cy="5635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65b2ff"/>
                </a:solidFill>
                <a:latin typeface="Arial"/>
              </a:rPr>
              <a:t>Франко Баамонде Франсіско 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Народився 14 грудня 1892 р.,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Элль-Ферроль</a:t>
            </a: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. Каудильйо уряду в Іспанії  в 1939 - 1975 р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став наймолодшим капітаном в іспанській арм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в чині підполковника став командиром іноземного добровільного легіону “ Терсіо 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6 р. - бригадний генера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7 р. - начальник Вищої військової академії генерального штаб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1937 р. - ключова фігура антиурядової змов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4 вересня 1939 р. підписав декрет про нейтралітет , який Іспанія зберегла до кінця вій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6 липня 1947 р. підписав “ Закон про успадкування поста голови держави ” (Іспанія монархія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3 червня 1969 затвердження принца Хуана Карлоса де Бурбона майбутнім королем Іспан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65b2ff"/>
                </a:solidFill>
                <a:latin typeface="Arial"/>
              </a:rPr>
              <a:t>Беніто Муссоліні !!!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5b2ff"/>
                </a:solidFill>
                <a:latin typeface="Arial"/>
              </a:rPr>
              <a:t>Фашистський диктатор Італії в 1922 -1943 рр. Політичну кар*єру розпочав у соціалістичній партії, з якої був виключений у 1914 р. У 1919 р. заснував фашистську партію. Здійснивши “ похід на Рим “ (28 жовтня 1922 р. ), захопив владу в країні й 1 листопада 1922 р. очолив уряд Італії. Будучи одночасно керівником (дуче) фашистської партії, він мав диктаторські повноваження. Уряд ввів у країні режим фашистського терору, проводив агресивну зовнішню політику (окупація Ефіопії в 1936 р., Албанії в 1939 р.), спільно з фашистською Німеччиною розв*язав Другу світову війну. У 1945 р. захоплений італійськими партизанами і розстрілян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05520" cy="46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: ознайомити учнів з поняттям </a:t>
            </a:r>
            <a:r>
              <a:rPr b="0" i="1" lang="uk-UA" sz="2800" spc="-1" strike="noStrike">
                <a:solidFill>
                  <a:srgbClr val="eaeaea"/>
                </a:solidFill>
                <a:latin typeface="Arial"/>
              </a:rPr>
              <a:t>«тоталітаризм»,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з основними ознаками та різновидами тоталітаризму, схарактеризувати особливості  тоталітарних режимів, співвідносити події та явища тем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розвивати вміння учнів аналізувати та порівнювати матеріал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иховувати почуття поваги до людської гідності, прав та свобод люди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іввіднесіть країну та особ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1082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Італ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Німеч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Іспан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Г СРС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64000" y="1628280"/>
            <a:ext cx="288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Фра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4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Установіть хронологічну послідовність по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1 Рік “великого перелому” в СРС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2 Призначення А.Гітлера канцлером Німеччи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3 Прихід до влади Б.Муссолін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4 Поразка республіканців  та прихід до влади фашистів в Іспанії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Встановіть відповідність між диктаторами та роками приходу їх до вла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246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1922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1933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1929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19280" y="1628280"/>
            <a:ext cx="280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48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aeaea"/>
                </a:solidFill>
                <a:latin typeface="Arial"/>
              </a:rPr>
              <a:t>Демократія-це найгірше зло, яке вигадало людство. Але нічого кращого воно не вигадало…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Черчілл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оталітаризм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otalita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, лат.-повнота) – державний лад, що здійснює абсолютний контроль над усіма сферами суспільного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оталітарні режими виникають за надзвичайних умов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губні наслідки вій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стабільність у суспільств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риза влад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параліч усієї політичної системи краї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економічна кр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агострення національних і расових суперечнос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обхідність розв</a:t>
            </a:r>
            <a:r>
              <a:rPr b="0" lang="he-IL" sz="2800" spc="-1" strike="noStrike">
                <a:solidFill>
                  <a:srgbClr val="eaeaea"/>
                </a:solidFill>
                <a:latin typeface="Arial"/>
                <a:cs typeface="Arial"/>
              </a:rPr>
              <a:t>׳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  <a:ea typeface="Arial"/>
              </a:rPr>
              <a:t>язання для країни винятково важливого завдання, що вимагає консолідації всієї н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З наведеного переліку понять виберіть ті, що є характерними рисами тоталітаризму:</a:t>
            </a:r>
            <a:br>
              <a:rPr sz="28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. Панування однієї офіційної ідеолог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2. Розподіл влад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3. Монополія однієї парт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4. Масове насильство каральних органі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5. Підпорядкування економічної діяльності держав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6. Толерантне ставлення до інакомислячи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7. Придушення будь-якої опозиц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8. Відкриті вибор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9. Використання референдумів для вирішення політичних питан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0.Командне господарюванн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1.Втручання держави у приватне життя людин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2.Багатопортійніс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3.Обмеження свободи слова, політична та історична цензур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Arial"/>
              </a:rPr>
              <a:t>Чому в умовах тоталітаризму будується своєрідна піраміда влади на чолі з вождем-ідолом? Чому тоталітаризм і культ особи є невід</a:t>
            </a:r>
            <a:r>
              <a:rPr b="1" lang="he-IL" sz="2400" spc="-1" strike="noStrike">
                <a:solidFill>
                  <a:srgbClr val="ccecff"/>
                </a:solidFill>
                <a:latin typeface="Arial"/>
                <a:cs typeface="Arial"/>
              </a:rPr>
              <a:t>׳</a:t>
            </a:r>
            <a:r>
              <a:rPr b="1" lang="uk-UA" sz="2400" spc="-1" strike="noStrike">
                <a:solidFill>
                  <a:srgbClr val="ccecff"/>
                </a:solidFill>
                <a:latin typeface="Arial"/>
                <a:ea typeface="Arial"/>
              </a:rPr>
              <a:t>ємними поняттям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416320" y="2022840"/>
            <a:ext cx="4240080" cy="4062600"/>
            <a:chOff x="2416320" y="2022840"/>
            <a:chExt cx="4240080" cy="4062600"/>
          </a:xfrm>
        </p:grpSpPr>
        <p:sp>
          <p:nvSpPr>
            <p:cNvPr id="225" name="_s10248"/>
            <p:cNvSpPr/>
            <p:nvPr/>
          </p:nvSpPr>
          <p:spPr>
            <a:xfrm flipV="1">
              <a:off x="4006800" y="2022840"/>
              <a:ext cx="1058760" cy="101520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64320 h 1015200"/>
                <a:gd name="textAreaBottom" fmla="*/ 65088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Вождь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251"/>
            <p:cNvSpPr/>
            <p:nvPr/>
          </p:nvSpPr>
          <p:spPr>
            <a:xfrm flipV="1">
              <a:off x="3476520" y="3038040"/>
              <a:ext cx="2119320" cy="10166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23560 h 1016640"/>
                <a:gd name="textAreaBottom" fmla="*/ 793080 h 10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Еліт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249"/>
            <p:cNvSpPr/>
            <p:nvPr/>
          </p:nvSpPr>
          <p:spPr>
            <a:xfrm flipV="1">
              <a:off x="2946240" y="4055040"/>
              <a:ext cx="3179880" cy="101520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76040 h 1015200"/>
                <a:gd name="textAreaBottom" fmla="*/ 8391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Парті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250"/>
            <p:cNvSpPr/>
            <p:nvPr/>
          </p:nvSpPr>
          <p:spPr>
            <a:xfrm flipV="1">
              <a:off x="2416320" y="5070240"/>
              <a:ext cx="4240080" cy="101520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52640 h 1015200"/>
                <a:gd name="textAreaBottom" fmla="*/ 8625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Держав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Протягом 1917-1939р.р. у світі поряд із державами з демократичними формами правління виникають держави тоталітарні. Порівняйте демократичне і тоталітарне правління</a:t>
            </a:r>
            <a:r>
              <a:rPr b="1" lang="uk-UA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1268280"/>
            <a:ext cx="194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268280"/>
            <a:ext cx="1944720" cy="5032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1197000"/>
            <a:ext cx="2305080" cy="5032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Демократ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413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управлінн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1989000"/>
            <a:ext cx="2376360" cy="1008360"/>
          </a:xfrm>
          <a:prstGeom prst="leftRightArrow">
            <a:avLst>
              <a:gd name="adj1" fmla="val 50000"/>
              <a:gd name="adj2" fmla="val 46915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характер виборі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637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поліції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22936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Права людин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357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ЗМІ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933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вплив на економік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50864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4800" y="304560"/>
            <a:ext cx="79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Основні ознаки тоталітар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197000"/>
            <a:ext cx="2808360" cy="2016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сока концентраці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її проникненн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 усі сфе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1197000"/>
            <a:ext cx="2519280" cy="180036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всього житт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1125360"/>
            <a:ext cx="2522520" cy="23749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Монополі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 н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інформацію, повни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 ЗМ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3645000"/>
            <a:ext cx="1944720" cy="29527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г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д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оведінко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людей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си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381636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Існує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єдина правляча партія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на чолі якої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стоїть лід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4986360"/>
            <a:ext cx="273672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дійснює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ховання людин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3789360"/>
            <a:ext cx="2233440" cy="2664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Армія, поліці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сі силов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трукту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еребуваю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 підпорядкуванн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артії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40:53Z</dcterms:created>
  <dc:creator>sh1</dc:creator>
  <dc:description/>
  <dc:language>en-US</dc:language>
  <cp:lastModifiedBy>Admin</cp:lastModifiedBy>
  <dcterms:modified xsi:type="dcterms:W3CDTF">2011-03-22T09:46:37Z</dcterms:modified>
  <cp:revision>6</cp:revision>
  <dc:subject/>
  <dc:title>Тоталітар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4000000000001024140</vt:lpwstr>
  </property>
</Properties>
</file>