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6A4-C6E6-42E0-B3E0-A7B7CE0A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49A-E1BD-4AE1-A7BC-46F21EA7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539-F3CD-4578-B772-FB590144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653-2677-47BD-ADDF-B8F45035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DC8B-CC18-4DA0-80F9-762B52E1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7743-9F31-435E-B59C-2C571FD7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E92A-61A7-4AA8-ADCA-E5A51583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230C-F022-436D-9547-F0833F27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7480-CA23-4D01-92D2-277995EB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6E56-C2B2-4D35-82D8-9148E738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F675-EF81-4724-8B71-C1E17B6B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8F8-7EB3-46A4-80D4-280CB408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7C2B-929C-43DD-80D7-681E9A54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75BB-6C16-4E32-9311-9351BC2D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A20B-32A1-4B52-AE18-D7BD99D7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C39C-96FC-4A5E-9AF9-42ECD09B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9814-74B6-4230-B151-4568767F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A59-4314-4AE7-AE08-89B80E64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1D5-4811-443E-9A0A-6F663A6D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47F-88BC-4113-B5DE-BCCC9C6F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31A-58E2-4757-8FAA-E0ADC2BB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4C0-7467-4C5A-8BEC-C3CA72B0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2C5-8EB9-4F1A-BB05-CB9581A6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F80-D8B2-436C-A3C1-BA0D221F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2D72-36CB-453F-908B-65C9FD23260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57D0-6A74-45DE-80B7-5AA9DB2501C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3402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Тема уроку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aeaea"/>
                </a:solidFill>
                <a:latin typeface="Arial"/>
              </a:rPr>
              <a:t>Тоталітаризм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ди тоталітаризм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1773360"/>
            <a:ext cx="2810160" cy="180000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комуністич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48000" y="1844640"/>
            <a:ext cx="2664000" cy="172728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фашиз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844640"/>
            <a:ext cx="2232000" cy="165564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націонал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соціаліз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Arial"/>
              </a:rPr>
              <a:t>Історичні портрети тоталітаризму в 20-х роках</a:t>
            </a:r>
            <a:r>
              <a:rPr b="1" lang="uk-UA" sz="6600" spc="-1" strike="noStrike">
                <a:solidFill>
                  <a:srgbClr val="54547a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Робо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Учениці 10-Б клас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Іващенко Анастасії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9600" spc="-1" strike="noStrike">
                <a:solidFill>
                  <a:srgbClr val="000000"/>
                </a:solidFill>
                <a:latin typeface="Arial"/>
              </a:rPr>
              <a:t>Адольф Гітлер</a:t>
            </a:r>
            <a:r>
              <a:rPr b="0" i="1" lang="uk-UA" sz="9600" spc="-1" strike="noStrike">
                <a:solidFill>
                  <a:srgbClr val="54547a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5639040" cy="5784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родився 20 квітня 1889, Браунау на Інні, Австро-Угорщина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сім*ї австрійського митного чиновника,( який до 1876 р. носив прізвище Шікльгрубер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16 років закінчив школу в Лінці. Спроби поступити у Віденську художню академію виявилися невдали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907 р. – померла мати, перебрався до Відн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ра у велич і особливу місію німецької нац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передодні Першої світової війни перебрався до Мюнхена. У перші роки війни записався добровольцем у німецьку армію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вання : рядовий, потім єфрейтор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вічі поранений, нагороджений Залізними хрестами ІІ і І ступен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кінці 1918 р. він повернувся до Мюнхена і вступив у рейхсвер (Е. Рема). Нова назва партії НСДАП (25 пункті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20-х роках НСДАП – найпомітніша екстремістських організаці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6"/>
          <a:stretch/>
        </p:blipFill>
        <p:spPr>
          <a:xfrm>
            <a:off x="457200" y="685800"/>
            <a:ext cx="4952880" cy="518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229600" cy="58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 листопада 1923 р. виступав на мітингу в мюнхенській пивній “Бюргербраукелер”, проголосив початок національної революц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 листопада відбувся “ пивний путч ”. Йдучи зі своїми прибічниками до центральної площі він провів їх до “Фельдгеренхале”, частина рейхсверу відкрила вогонь по них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ютий - березень1924 р. – суд (засудили на 5 років, відпустили через 9 місяці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творення НСДАП в загальнонаціональну політичну сил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1 січня 1933 р. рейхканцленр Німеччини (Гінденбург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головна “уніфікація” Німеччини (знищення комуністичних, соціал-демократичних партій, ліквідація профспілок 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0 червня - знищення ватажків СА ( нелояльність фюреру 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5029200" cy="5334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-271440" y="957240"/>
            <a:ext cx="4809960" cy="3809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ванш. Порушення Версальського договор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членована Чехословаччина, окупована Чехія, анексована Австрія. Підтримка Сталіним, війська на території Польщі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 1941 р. – проти Радянського Союз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купація німецькими військами республіки Прибалтики, Білорусії, України, Молдавії і  частини Росії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інець 1942 р. – поразка . 1944 р. – звільнення від  окупації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0 квітня 1945 р. в оточеному Берліні, покінчив життя самогубств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4765680" cy="5635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65b2ff"/>
                </a:solidFill>
                <a:latin typeface="Arial"/>
              </a:rPr>
              <a:t>Франко Баамонде Франсіско 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25680" y="0"/>
            <a:ext cx="60926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13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Народився 14 грудня 1892 р., </a:t>
            </a: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Элль-Ферроль</a:t>
            </a: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. Каудильйо уряду в Іспанії  в 1939 - 1975 рр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У 1915 р. став наймолодшим капітаном в іспанській арм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У 1915 р. в чині підполковника став командиром іноземного добровільного легіону “ Терсіо 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З 1926 р. - бригадний генера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З 1927 р. - начальник Вищої військової академії генерального штаб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1937 р. - ключова фігура антиурядової змов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4 вересня 1939 р. підписав декрет про нейтралітет , який Іспанія зберегла до кінця війн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26 липня 1947 р. підписав “ Закон про успадкування поста голови держави ” (Іспанія монархія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23 червня 1969 затвердження принца Хуана Карлоса де Бурбона майбутнім королем Іспан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65b2ff"/>
                </a:solidFill>
                <a:latin typeface="Arial"/>
              </a:rPr>
              <a:t>Беніто Муссоліні !!!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5b2ff"/>
                </a:solidFill>
                <a:latin typeface="Arial"/>
              </a:rPr>
              <a:t>Фашистський диктатор Італії в 1922 -1943 рр. Політичну кар*єру розпочав у соціалістичній партії, з якої був виключений у 1914 р. У 1919 р. заснував фашистську партію. Здійснивши “ похід на Рим “ (28 жовтня 1922 р. ), захопив владу в країні й 1 листопада 1922 р. очолив уряд Італії. Будучи одночасно керівником (дуче) фашистської партії, він мав диктаторські повноваження. Уряд ввів у країні режим фашистського терору, проводив агресивну зовнішню політику (окупація Ефіопії в 1936 р., Албанії в 1939 р.), спільно з фашистською Німеччиною розв*язав Другу світову війну. У 1945 р. захоплений італійськими партизанами і розстрілян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05520" cy="46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 урок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: ознайомити учнів з поняттям </a:t>
            </a:r>
            <a:r>
              <a:rPr b="0" i="1" lang="uk-UA" sz="2800" spc="-1" strike="noStrike">
                <a:solidFill>
                  <a:srgbClr val="eaeaea"/>
                </a:solidFill>
                <a:latin typeface="Arial"/>
              </a:rPr>
              <a:t>«тоталітаризм»,</a:t>
            </a: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 з основними ознаками та різновидами тоталітаризму, схарактеризувати особливості  тоталітарних режимів, співвідносити події та явища теми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розвивати вміння учнів аналізувати та порівнювати матеріал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виховувати почуття поваги до людської гідності, прав та свобод людин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іввіднесіть країну та особ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1082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А Італі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Б Німеччи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В Іспані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Г СРС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64000" y="1628280"/>
            <a:ext cx="2880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1 Франк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2 Й.Сталі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3 Б.Муссоліні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4 А.Гітле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Установіть хронологічну послідовність под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1 Рік “великого перелому” в СРС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2 Призначення А.Гітлера канцлером Німеччин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3 Прихід до влади Б.Муссоліні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4 Поразка республіканців  та прихід до влади фашистів в Іспанії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Встановіть відповідність між диктаторами та роками приходу їх до влад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76000" y="1628280"/>
            <a:ext cx="2460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А 1922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Б 1933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В 1929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19280" y="1628280"/>
            <a:ext cx="280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1 А.Гітле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2 Й.Сталі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3 Б.Муссоліні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48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Епіграф урок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eaeaea"/>
                </a:solidFill>
                <a:latin typeface="Arial"/>
              </a:rPr>
              <a:t>Демократія-це найгірше зло, яке вигадало людство. Але нічого кращого воно не вигадало…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</a:t>
            </a: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У.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Черчілл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оталітаризм 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totalitas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, лат.-повнота) – державний лад, що здійснює абсолютний контроль над усіма сферами суспільного житт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Тоталітарні режими виникають за надзвичайних умов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згубні наслідки війн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нестабільність у суспільстві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криза влад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параліч усієї політичної системи країн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економічна криз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загострення національних і расових суперечностей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необхідність розв</a:t>
            </a:r>
            <a:r>
              <a:rPr b="0" lang="he-IL" sz="2800" spc="-1" strike="noStrike">
                <a:solidFill>
                  <a:srgbClr val="eaeaea"/>
                </a:solidFill>
                <a:latin typeface="Arial"/>
                <a:cs typeface="Arial"/>
              </a:rPr>
              <a:t>׳</a:t>
            </a:r>
            <a:r>
              <a:rPr b="0" lang="uk-UA" sz="2800" spc="-1" strike="noStrike">
                <a:solidFill>
                  <a:srgbClr val="eaeaea"/>
                </a:solidFill>
                <a:latin typeface="Arial"/>
                <a:ea typeface="Arial"/>
              </a:rPr>
              <a:t>язання для країни винятково важливого завдання, що вимагає консолідації всієї нації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ecff"/>
                </a:solidFill>
                <a:latin typeface="Arial"/>
              </a:rPr>
              <a:t>З наведеного переліку понять виберіть ті, що є характерними рисами тоталітаризму:</a:t>
            </a:r>
            <a:br>
              <a:rPr sz="28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. Панування однієї офіційної ідеології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2. Розподіл влад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3. Монополія однієї партії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4. Масове насильство каральних органі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5. Підпорядкування економічної діяльності державі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6. Толерантне ставлення до інакомислячи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7. Придушення будь-якої опозиції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8. Відкриті вибор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9. Використання референдумів для вирішення політичних питань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0.Командне господарюванн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1.Втручання держави у приватне життя людин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2.Багатопортійність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3.Обмеження свободи слова, політична та історична цензур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ecff"/>
                </a:solidFill>
                <a:latin typeface="Arial"/>
              </a:rPr>
              <a:t>Чому в умовах тоталітаризму будується своєрідна піраміда влади на чолі з вождем-ідолом? Чому тоталітаризм і культ особи є невід</a:t>
            </a:r>
            <a:r>
              <a:rPr b="1" lang="he-IL" sz="2400" spc="-1" strike="noStrike">
                <a:solidFill>
                  <a:srgbClr val="ccecff"/>
                </a:solidFill>
                <a:latin typeface="Arial"/>
                <a:cs typeface="Arial"/>
              </a:rPr>
              <a:t>׳</a:t>
            </a:r>
            <a:r>
              <a:rPr b="1" lang="uk-UA" sz="2400" spc="-1" strike="noStrike">
                <a:solidFill>
                  <a:srgbClr val="ccecff"/>
                </a:solidFill>
                <a:latin typeface="Arial"/>
                <a:ea typeface="Arial"/>
              </a:rPr>
              <a:t>ємними поняттями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416320" y="2022840"/>
            <a:ext cx="4240080" cy="4062600"/>
            <a:chOff x="2416320" y="2022840"/>
            <a:chExt cx="4240080" cy="4062600"/>
          </a:xfrm>
        </p:grpSpPr>
        <p:sp>
          <p:nvSpPr>
            <p:cNvPr id="225" name="_s10248"/>
            <p:cNvSpPr/>
            <p:nvPr/>
          </p:nvSpPr>
          <p:spPr>
            <a:xfrm flipV="1">
              <a:off x="4006800" y="2022840"/>
              <a:ext cx="1058760" cy="1015200"/>
            </a:xfrm>
            <a:custGeom>
              <a:avLst/>
              <a:gdLst>
                <a:gd name="textAreaLeft" fmla="*/ 379800 w 1058760"/>
                <a:gd name="textAreaRight" fmla="*/ 678960 w 1058760"/>
                <a:gd name="textAreaTop" fmla="*/ 364320 h 1015200"/>
                <a:gd name="textAreaBottom" fmla="*/ 650880 h 101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Вождь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_s10251"/>
            <p:cNvSpPr/>
            <p:nvPr/>
          </p:nvSpPr>
          <p:spPr>
            <a:xfrm flipV="1">
              <a:off x="3476520" y="3038040"/>
              <a:ext cx="2119320" cy="1016640"/>
            </a:xfrm>
            <a:custGeom>
              <a:avLst/>
              <a:gdLst>
                <a:gd name="textAreaLeft" fmla="*/ 465840 w 2119320"/>
                <a:gd name="textAreaRight" fmla="*/ 1653480 w 2119320"/>
                <a:gd name="textAreaTop" fmla="*/ 223560 h 1016640"/>
                <a:gd name="textAreaBottom" fmla="*/ 793080 h 101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Еліт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_s10249"/>
            <p:cNvSpPr/>
            <p:nvPr/>
          </p:nvSpPr>
          <p:spPr>
            <a:xfrm flipV="1">
              <a:off x="2946240" y="4055040"/>
              <a:ext cx="3179880" cy="1015200"/>
            </a:xfrm>
            <a:custGeom>
              <a:avLst/>
              <a:gdLst>
                <a:gd name="textAreaLeft" fmla="*/ 551880 w 3179880"/>
                <a:gd name="textAreaRight" fmla="*/ 2628000 w 3179880"/>
                <a:gd name="textAreaTop" fmla="*/ 176040 h 1015200"/>
                <a:gd name="textAreaBottom" fmla="*/ 839160 h 101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Парті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_s10250"/>
            <p:cNvSpPr/>
            <p:nvPr/>
          </p:nvSpPr>
          <p:spPr>
            <a:xfrm flipV="1">
              <a:off x="2416320" y="5070240"/>
              <a:ext cx="4240080" cy="1015200"/>
            </a:xfrm>
            <a:custGeom>
              <a:avLst/>
              <a:gdLst>
                <a:gd name="textAreaLeft" fmla="*/ 637920 w 4240080"/>
                <a:gd name="textAreaRight" fmla="*/ 3602160 w 4240080"/>
                <a:gd name="textAreaTop" fmla="*/ 152640 h 1015200"/>
                <a:gd name="textAreaBottom" fmla="*/ 862560 h 101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Держав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ecff"/>
                </a:solidFill>
                <a:latin typeface="Arial"/>
              </a:rPr>
              <a:t>Протягом 1917-1939р.р. у світі поряд із державами з демократичними формами правління виникають держави тоталітарні. Порівняйте демократичне і тоталітарне правління</a:t>
            </a:r>
            <a:r>
              <a:rPr b="1" lang="uk-UA" sz="2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1268280"/>
            <a:ext cx="1944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268280"/>
            <a:ext cx="1944720" cy="5032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Тоталітариз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1197000"/>
            <a:ext cx="2305080" cy="503280"/>
          </a:xfrm>
          <a:prstGeom prst="flowChartProcess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Демократі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141300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управлінн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1989000"/>
            <a:ext cx="2376360" cy="1008360"/>
          </a:xfrm>
          <a:prstGeom prst="leftRightArrow">
            <a:avLst>
              <a:gd name="adj1" fmla="val 50000"/>
              <a:gd name="adj2" fmla="val 46915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характер виборі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263700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роль поліції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48000" y="522936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Права людин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335772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роль ЗМІ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393372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вплив на економік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48000" y="450864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ідеологі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4800" y="304560"/>
            <a:ext cx="7927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Основні ознаки тоталітариз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1197000"/>
            <a:ext cx="2808360" cy="201600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исока концентраці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лади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її проникненн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 усі сфери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успіль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48000" y="1197000"/>
            <a:ext cx="2519280" cy="180036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Ідеологі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всього житт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суспіль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27640" y="1125360"/>
            <a:ext cx="2522520" cy="237492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Монополі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лади н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інформацію, повний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контроль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за ЗМІ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3645000"/>
            <a:ext cx="1944720" cy="295272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истем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заг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контролю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над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поведінкою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людей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истем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насиль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40000" y="3068640"/>
            <a:ext cx="3816360" cy="187164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Існує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єдина правляча партія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на чолі якої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стоїть ліде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4986360"/>
            <a:ext cx="2736720" cy="187164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успільств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здійснює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иховання людин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59640" y="3789360"/>
            <a:ext cx="2233440" cy="266400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Армія, поліція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усі силові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труктури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перебувають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у підпорядкуванні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партії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8:40:53Z</dcterms:created>
  <dc:creator>sh1</dc:creator>
  <dc:description/>
  <dc:language>en-US</dc:language>
  <cp:lastModifiedBy>Admin</cp:lastModifiedBy>
  <dcterms:modified xsi:type="dcterms:W3CDTF">2011-03-22T09:46:37Z</dcterms:modified>
  <cp:revision>6</cp:revision>
  <dc:subject/>
  <dc:title>Тоталітариз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14000000000001024140</vt:lpwstr>
  </property>
</Properties>
</file>