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AE1F-A423-4827-BCBC-8AF32A17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DD93-8874-46FC-A600-E7E341D5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84C5-43F0-4137-8F3F-B00B69A6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913A-0606-4CD0-AAA1-BC345D6A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2385-AF62-4066-83FE-7A01C879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C3B2-E757-4148-9680-501A43BD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C189-C683-42B4-AA3B-AA92B5A1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E1D3-4941-4FBC-A122-53C517C3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2777-7784-4233-8453-3F2E9A30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7E7C-93C7-44F9-AA17-1C2283A6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DF9C1-1E6B-4A79-B5F5-23BB791E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E4B-3F22-4574-9B20-8E70F472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934E-4362-4AC7-9F03-E3C40F2E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607D-DB45-4EC0-8AC3-C9DB2F27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298F-43A2-40C5-B903-D2C52968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350E-9A54-4DB0-BB7B-3937A282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179C-1437-4B8B-B1AE-18863417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9E3-7C2F-4BA0-AB40-9E78FA1C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7A6C-9C60-4A2E-A828-80DD19B0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1135-92A0-47AF-89ED-5B5F22A4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E5B-5C06-4420-BF6C-B8F154A3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BCD2-188B-4DA3-BFD6-E9F14B43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6C06-6B19-4189-98BC-6D33C0CF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8366-B18D-43F1-B659-46136B3E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A6A8-3226-4886-B015-9CF8B17CF25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D19D-D9D5-42B4-BE4B-2F2DB92DF71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534024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cecff"/>
                </a:solidFill>
                <a:latin typeface="Arial"/>
              </a:rPr>
              <a:t>Тема уроку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eaeaea"/>
                </a:solidFill>
                <a:latin typeface="Arial"/>
              </a:rPr>
              <a:t>Тоталітаризм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иди тоталітаризм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9280" y="1773360"/>
            <a:ext cx="2810160" cy="1800000"/>
          </a:xfrm>
          <a:prstGeom prst="foldedCorner">
            <a:avLst>
              <a:gd name="adj" fmla="val 125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комуністичний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48000" y="1844640"/>
            <a:ext cx="2664000" cy="1727280"/>
          </a:xfrm>
          <a:prstGeom prst="foldedCorner">
            <a:avLst>
              <a:gd name="adj" fmla="val 125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фашиз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88000" y="1844640"/>
            <a:ext cx="2232000" cy="1655640"/>
          </a:xfrm>
          <a:prstGeom prst="foldedCorner">
            <a:avLst>
              <a:gd name="adj" fmla="val 125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націонал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соціалізм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191628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Arial"/>
              </a:rPr>
              <a:t>Історичні портрети тоталітаризму в 20-х роках</a:t>
            </a:r>
            <a:r>
              <a:rPr b="1" lang="uk-UA" sz="6600" spc="-1" strike="noStrike">
                <a:solidFill>
                  <a:srgbClr val="54547a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aeaea"/>
                </a:solidFill>
                <a:latin typeface="Arial"/>
              </a:rPr>
              <a:t>Робот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aeaea"/>
                </a:solidFill>
                <a:latin typeface="Arial"/>
              </a:rPr>
              <a:t>Учениці 10-Б клас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aeaea"/>
                </a:solidFill>
                <a:latin typeface="Arial"/>
              </a:rPr>
              <a:t>Іващенко Анастасії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9600" spc="-1" strike="noStrike">
                <a:solidFill>
                  <a:srgbClr val="000000"/>
                </a:solidFill>
                <a:latin typeface="Arial"/>
              </a:rPr>
              <a:t>Адольф Гітлер</a:t>
            </a:r>
            <a:r>
              <a:rPr b="0" i="1" lang="uk-UA" sz="9600" spc="-1" strike="noStrike">
                <a:solidFill>
                  <a:srgbClr val="54547a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5639040" cy="57848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родився 20 квітня 1889, Браунау на Інні, Австро-Угорщина 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 сім*ї австрійського митного чиновника,( який до 1876 р. носив прізвище Шікльгрубер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16 років закінчив школу в Лінці. Спроби поступити у Віденську художню академію виявилися невдалим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907 р. – померла мати, перебрався до Відн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ра у велич і особливу місію німецької нації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передодні Першої світової війни перебрався до Мюнхена. У перші роки війни записався добровольцем у німецьку армію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вання : рядовий, потім єфрейтор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вічі поранений, нагороджений Залізними хрестами ІІ і І ступен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кінці 1918 р. він повернувся до Мюнхена і вступив у рейхсвер (Е. Рема). Нова назва партії НСДАП (25 пунктів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20-х роках НСДАП – найпомітніша екстремістських організацій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0" r="0" b="26"/>
          <a:stretch/>
        </p:blipFill>
        <p:spPr>
          <a:xfrm>
            <a:off x="457200" y="685800"/>
            <a:ext cx="4952880" cy="5181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4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229600" cy="58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8 листопада 1923 р. виступав на мітингу в мюнхенській пивній “Бюргербраукелер”, проголосив початок національної революції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9 листопада відбувся “ пивний путч ”. Йдучи зі своїми прибічниками до центральної площі він провів їх до “Фельдгеренхале”, частина рейхсверу відкрила вогонь по них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Лютий - березень1924 р. – суд (засудили на 5 років, відпустили через 9 місяців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еретворення НСДАП в загальнонаціональну політичну сил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1 січня 1933 р. рейхканцленр Німеччини (Гінденбург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головна “уніфікація” Німеччини (знищення комуністичних, соціал-демократичних партій, ліквідація профспілок 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0 червня - знищення ватажків СА ( нелояльність фюреру 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657600" y="380880"/>
            <a:ext cx="5029200" cy="5334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-271440" y="957240"/>
            <a:ext cx="4809960" cy="3809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еванш. Порушення Версальського договор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членована Чехословаччина, окупована Чехія, анексована Австрія. Підтримка Сталіним, війська на території Польщі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У 1941 р. – проти Радянського Союз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Окупація німецькими військами республіки Прибалтики, Білорусії, України, Молдавії і  частини Росії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інець 1942 р. – поразка . 1944 р. – звільнення від  окупації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30 квітня 1945 р. в оточеному Берліні, покінчив життя самогубством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4765680" cy="56358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65b2ff"/>
                </a:solidFill>
                <a:latin typeface="Arial"/>
              </a:rPr>
              <a:t>Франко Баамонде Франсіско 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525680" y="0"/>
            <a:ext cx="609264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77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770" fill="hold"/>
                                        <p:tgtEl>
                                          <p:spTgt spid="2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137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Народився 14 грудня 1892 р., </a:t>
            </a:r>
            <a:r>
              <a:rPr b="0" lang="ru-RU" sz="2400" spc="-1" strike="noStrike">
                <a:solidFill>
                  <a:srgbClr val="65b2ff"/>
                </a:solidFill>
                <a:latin typeface="Arial"/>
              </a:rPr>
              <a:t>Элль-Ферроль</a:t>
            </a: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. Каудильйо уряду в Іспанії  в 1939 - 1975 рр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У 1915 р. став наймолодшим капітаном в іспанській армії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У 1915 р. в чині підполковника став командиром іноземного добровільного легіону “ Терсіо 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З 1926 р. - бригадний генерал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З 1927 р. - начальник Вищої військової академії генерального штаб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1937 р. - ключова фігура антиурядової змов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4 вересня 1939 р. підписав декрет про нейтралітет , який Іспанія зберегла до кінця війн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26 липня 1947 р. підписав “ Закон про успадкування поста голови держави ” (Іспанія монархія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5b2ff"/>
                </a:solidFill>
                <a:latin typeface="Arial"/>
              </a:rPr>
              <a:t>23 червня 1969 затвердження принца Хуана Карлоса де Бурбона майбутнім королем Іспанії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000" spc="-1" strike="noStrike">
                <a:solidFill>
                  <a:srgbClr val="65b2ff"/>
                </a:solidFill>
                <a:latin typeface="Arial"/>
              </a:rPr>
              <a:t>Беніто Муссоліні !!!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66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9900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65b2ff"/>
                </a:solidFill>
                <a:latin typeface="Arial"/>
              </a:rPr>
              <a:t>Фашистський диктатор Італії в 1922 -1943 рр. Політичну кар*єру розпочав у соціалістичній партії, з якої був виключений у 1914 р. У 1919 р. заснував фашистську партію. Здійснивши “ похід на Рим “ (28 жовтня 1922 р. ), захопив владу в країні й 1 листопада 1922 р. очолив уряд Італії. Будучи одночасно керівником (дуче) фашистської партії, він мав диктаторські повноваження. Уряд ввів у країні режим фашистського терору, проводив агресивну зовнішню політику (окупація Ефіопії в 1936 р., Албанії в 1939 р.), спільно з фашистською Німеччиною розв*язав Другу світову війну. У 1945 р. захоплений італійськими партизанами і розстрілян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105520" cy="46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Мета урок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: ознайомити учнів з поняттям </a:t>
            </a:r>
            <a:r>
              <a:rPr b="0" i="1" lang="uk-UA" sz="2800" spc="-1" strike="noStrike">
                <a:solidFill>
                  <a:srgbClr val="eaeaea"/>
                </a:solidFill>
                <a:latin typeface="Arial"/>
              </a:rPr>
              <a:t>«тоталітаризм»,</a:t>
            </a: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 з основними ознаками та різновидами тоталітаризму, схарактеризувати особливості  тоталітарних режимів, співвідносити події та явища теми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розвивати вміння учнів аналізувати та порівнювати матеріал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виховувати почуття поваги до людської гідності, прав та свобод людини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іввіднесіть країну та особ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1082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А Італі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Б Німеччин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В Іспані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Г СРСР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64000" y="1628280"/>
            <a:ext cx="2880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1 Франк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2 Й.Сталін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3 Б.Муссоліні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4 А.Гітлер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Установіть хронологічну послідовність поді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1 Рік “великого перелому” в СРСР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2 Призначення А.Гітлера канцлером Німеччин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3 Прихід до влади Б.Муссоліні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4 Поразка республіканців  та прихід до влади фашистів в Іспанії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Arial"/>
              </a:rPr>
              <a:t>Встановіть відповідність між диктаторами та роками приходу їх до влад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76000" y="1628280"/>
            <a:ext cx="2460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А 1922р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Б 1933р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В 1929р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19280" y="1628280"/>
            <a:ext cx="28069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1 А.Гітлер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2 Й.Сталін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3 Б.Муссоліні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548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Епіграф урок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eaeaea"/>
                </a:solidFill>
                <a:latin typeface="Arial"/>
              </a:rPr>
              <a:t>Демократія-це найгірше зло, яке вигадало людство. Але нічого кращого воно не вигадало…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  </a:t>
            </a:r>
            <a:r>
              <a:rPr b="1" lang="uk-UA" sz="3200" spc="-1" strike="noStrike">
                <a:solidFill>
                  <a:srgbClr val="eaeaea"/>
                </a:solidFill>
                <a:latin typeface="Arial"/>
              </a:rPr>
              <a:t>У.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Черчілль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Тоталітаризм 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totalitas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, лат.-повнота) – державний лад, що здійснює абсолютний контроль над усіма сферами суспільного житт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Тоталітарні режими виникають за надзвичайних умов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згубні наслідки війн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нестабільність у суспільстві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криза влад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параліч усієї політичної системи країн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економічна криз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загострення національних і расових суперечностей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aea"/>
                </a:solidFill>
                <a:latin typeface="Arial"/>
              </a:rPr>
              <a:t>необхідність розв</a:t>
            </a:r>
            <a:r>
              <a:rPr b="0" lang="he-IL" sz="2800" spc="-1" strike="noStrike">
                <a:solidFill>
                  <a:srgbClr val="eaeaea"/>
                </a:solidFill>
                <a:latin typeface="Arial"/>
                <a:cs typeface="Arial"/>
              </a:rPr>
              <a:t>׳</a:t>
            </a:r>
            <a:r>
              <a:rPr b="0" lang="uk-UA" sz="2800" spc="-1" strike="noStrike">
                <a:solidFill>
                  <a:srgbClr val="eaeaea"/>
                </a:solidFill>
                <a:latin typeface="Arial"/>
                <a:ea typeface="Arial"/>
              </a:rPr>
              <a:t>язання для країни винятково важливого завдання, що вимагає консолідації всієї нації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ecff"/>
                </a:solidFill>
                <a:latin typeface="Arial"/>
              </a:rPr>
              <a:t>З наведеного переліку понять виберіть ті, що є характерними рисами тоталітаризму:</a:t>
            </a:r>
            <a:br>
              <a:rPr sz="2800"/>
            </a:b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1. Панування однієї офіційної ідеології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2. Розподіл влад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3. Монополія однієї партії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4. Масове насильство каральних органів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5. Підпорядкування економічної діяльності державі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6. Толерантне ставлення до інакомислячих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7. Придушення будь-якої опозиції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8. Відкриті вибор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9. Використання референдумів для вирішення політичних питань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10.Командне господарюванн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11.Втручання держави у приватне життя людин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12.Багатопортійність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13.Обмеження свободи слова, політична та історична цензура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ecff"/>
                </a:solidFill>
                <a:latin typeface="Arial"/>
              </a:rPr>
              <a:t>Чому в умовах тоталітаризму будується своєрідна піраміда влади на чолі з вождем-ідолом? Чому тоталітаризм і культ особи є невід</a:t>
            </a:r>
            <a:r>
              <a:rPr b="1" lang="he-IL" sz="2400" spc="-1" strike="noStrike">
                <a:solidFill>
                  <a:srgbClr val="ccecff"/>
                </a:solidFill>
                <a:latin typeface="Arial"/>
                <a:cs typeface="Arial"/>
              </a:rPr>
              <a:t>׳</a:t>
            </a:r>
            <a:r>
              <a:rPr b="1" lang="uk-UA" sz="2400" spc="-1" strike="noStrike">
                <a:solidFill>
                  <a:srgbClr val="ccecff"/>
                </a:solidFill>
                <a:latin typeface="Arial"/>
                <a:ea typeface="Arial"/>
              </a:rPr>
              <a:t>ємними поняттями?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416320" y="2022840"/>
            <a:ext cx="4240080" cy="4062600"/>
            <a:chOff x="2416320" y="2022840"/>
            <a:chExt cx="4240080" cy="4062600"/>
          </a:xfrm>
        </p:grpSpPr>
        <p:sp>
          <p:nvSpPr>
            <p:cNvPr id="225" name="_s10248"/>
            <p:cNvSpPr/>
            <p:nvPr/>
          </p:nvSpPr>
          <p:spPr>
            <a:xfrm flipV="1">
              <a:off x="4006800" y="2022840"/>
              <a:ext cx="1058760" cy="1015200"/>
            </a:xfrm>
            <a:custGeom>
              <a:avLst/>
              <a:gdLst>
                <a:gd name="textAreaLeft" fmla="*/ 379800 w 1058760"/>
                <a:gd name="textAreaRight" fmla="*/ 678960 w 1058760"/>
                <a:gd name="textAreaTop" fmla="*/ 364320 h 1015200"/>
                <a:gd name="textAreaBottom" fmla="*/ 650880 h 101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cc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eaeaea"/>
                  </a:solidFill>
                  <a:latin typeface="Arial"/>
                </a:rPr>
                <a:t>Вождь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_s10251"/>
            <p:cNvSpPr/>
            <p:nvPr/>
          </p:nvSpPr>
          <p:spPr>
            <a:xfrm flipV="1">
              <a:off x="3476520" y="3038040"/>
              <a:ext cx="2119320" cy="1016640"/>
            </a:xfrm>
            <a:custGeom>
              <a:avLst/>
              <a:gdLst>
                <a:gd name="textAreaLeft" fmla="*/ 465840 w 2119320"/>
                <a:gd name="textAreaRight" fmla="*/ 1653480 w 2119320"/>
                <a:gd name="textAreaTop" fmla="*/ 223560 h 1016640"/>
                <a:gd name="textAreaBottom" fmla="*/ 793080 h 101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eaeaea"/>
                  </a:solidFill>
                  <a:latin typeface="Arial"/>
                </a:rPr>
                <a:t>Еліта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_s10249"/>
            <p:cNvSpPr/>
            <p:nvPr/>
          </p:nvSpPr>
          <p:spPr>
            <a:xfrm flipV="1">
              <a:off x="2946240" y="4055040"/>
              <a:ext cx="3179880" cy="1015200"/>
            </a:xfrm>
            <a:custGeom>
              <a:avLst/>
              <a:gdLst>
                <a:gd name="textAreaLeft" fmla="*/ 551880 w 3179880"/>
                <a:gd name="textAreaRight" fmla="*/ 2628000 w 3179880"/>
                <a:gd name="textAreaTop" fmla="*/ 176040 h 1015200"/>
                <a:gd name="textAreaBottom" fmla="*/ 839160 h 101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cc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eaeaea"/>
                  </a:solidFill>
                  <a:latin typeface="Arial"/>
                </a:rPr>
                <a:t>Партія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_s10250"/>
            <p:cNvSpPr/>
            <p:nvPr/>
          </p:nvSpPr>
          <p:spPr>
            <a:xfrm flipV="1">
              <a:off x="2416320" y="5070240"/>
              <a:ext cx="4240080" cy="1015200"/>
            </a:xfrm>
            <a:custGeom>
              <a:avLst/>
              <a:gdLst>
                <a:gd name="textAreaLeft" fmla="*/ 637920 w 4240080"/>
                <a:gd name="textAreaRight" fmla="*/ 3602160 w 4240080"/>
                <a:gd name="textAreaTop" fmla="*/ 152640 h 1015200"/>
                <a:gd name="textAreaBottom" fmla="*/ 862560 h 101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cc66"/>
            </a:solidFill>
            <a:ln w="46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eaeaea"/>
                  </a:solidFill>
                  <a:latin typeface="Arial"/>
                </a:rPr>
                <a:t>Держава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ecff"/>
                </a:solidFill>
                <a:latin typeface="Arial"/>
              </a:rPr>
              <a:t>Протягом 1917-1939р.р. у світі поряд із державами з демократичними формами правління виникають держави тоталітарні. Порівняйте демократичне і тоталітарне правління</a:t>
            </a:r>
            <a:r>
              <a:rPr b="1" lang="uk-UA" sz="2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32000" y="1268280"/>
            <a:ext cx="1944720" cy="64800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32000" y="1268280"/>
            <a:ext cx="1944720" cy="5032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Тоталітаризм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80000" y="1197000"/>
            <a:ext cx="2305080" cy="503280"/>
          </a:xfrm>
          <a:prstGeom prst="flowChartProcess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Демократі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1413000"/>
            <a:ext cx="2376360" cy="1008000"/>
          </a:xfrm>
          <a:prstGeom prst="leftRightArrow">
            <a:avLst>
              <a:gd name="adj1" fmla="val 50000"/>
              <a:gd name="adj2" fmla="val 4693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управлінн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1989000"/>
            <a:ext cx="2376360" cy="1008360"/>
          </a:xfrm>
          <a:prstGeom prst="leftRightArrow">
            <a:avLst>
              <a:gd name="adj1" fmla="val 50000"/>
              <a:gd name="adj2" fmla="val 46915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характер виборів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2637000"/>
            <a:ext cx="2376360" cy="1008000"/>
          </a:xfrm>
          <a:prstGeom prst="leftRightArrow">
            <a:avLst>
              <a:gd name="adj1" fmla="val 50000"/>
              <a:gd name="adj2" fmla="val 4693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роль поліції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48000" y="5229360"/>
            <a:ext cx="2376360" cy="1008000"/>
          </a:xfrm>
          <a:prstGeom prst="leftRightArrow">
            <a:avLst>
              <a:gd name="adj1" fmla="val 50000"/>
              <a:gd name="adj2" fmla="val 4693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Права людин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3357720"/>
            <a:ext cx="2376360" cy="1008000"/>
          </a:xfrm>
          <a:prstGeom prst="leftRightArrow">
            <a:avLst>
              <a:gd name="adj1" fmla="val 50000"/>
              <a:gd name="adj2" fmla="val 4693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роль ЗМІ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48000" y="3933720"/>
            <a:ext cx="2376360" cy="1008000"/>
          </a:xfrm>
          <a:prstGeom prst="leftRightArrow">
            <a:avLst>
              <a:gd name="adj1" fmla="val 50000"/>
              <a:gd name="adj2" fmla="val 4693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вплив на економіку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48000" y="4508640"/>
            <a:ext cx="2376360" cy="1008000"/>
          </a:xfrm>
          <a:prstGeom prst="leftRightArrow">
            <a:avLst>
              <a:gd name="adj1" fmla="val 50000"/>
              <a:gd name="adj2" fmla="val 4693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eaeaea"/>
                </a:solidFill>
                <a:latin typeface="Arial"/>
              </a:rPr>
              <a:t>ідеологі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4800" y="304560"/>
            <a:ext cx="79279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Основні ознаки тоталітаризм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9280" y="1197000"/>
            <a:ext cx="2808360" cy="201600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Висока концентрація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влади,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її проникнення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в усі сфери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суспільств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48000" y="1197000"/>
            <a:ext cx="2519280" cy="180036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eaeaea"/>
                </a:solidFill>
                <a:latin typeface="Arial"/>
              </a:rPr>
              <a:t>Ідеологі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eaeaea"/>
                </a:solidFill>
                <a:latin typeface="Arial"/>
              </a:rPr>
              <a:t>всього житт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eaeaea"/>
                </a:solidFill>
                <a:latin typeface="Arial"/>
              </a:rPr>
              <a:t>суспільств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27640" y="1125360"/>
            <a:ext cx="2522520" cy="237492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Монополія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влади на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інформацію, повний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контроль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за ЗМІ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9280" y="3645000"/>
            <a:ext cx="1944720" cy="295272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Систем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загальног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контролю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над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поведінкою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людей,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система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насильств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40000" y="3068640"/>
            <a:ext cx="3816360" cy="187164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Існує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єдина правляча партія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на чолі якої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eaeaea"/>
                </a:solidFill>
                <a:latin typeface="Arial"/>
              </a:rPr>
              <a:t>стоїть ліде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3640" y="4986360"/>
            <a:ext cx="2736720" cy="187164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Суспільств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здійснює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виховання людин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59640" y="3789360"/>
            <a:ext cx="2233440" cy="2664000"/>
          </a:xfrm>
          <a:prstGeom prst="flowChartMultidocumen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Армія, поліція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усі силові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структури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перебувають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у підпорядкуванні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eaeaea"/>
                </a:solidFill>
                <a:latin typeface="Arial"/>
              </a:rPr>
              <a:t>партії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8:40:53Z</dcterms:created>
  <dc:creator>sh1</dc:creator>
  <dc:description/>
  <dc:language>en-US</dc:language>
  <cp:lastModifiedBy>Admin</cp:lastModifiedBy>
  <dcterms:modified xsi:type="dcterms:W3CDTF">2011-03-22T09:46:37Z</dcterms:modified>
  <cp:revision>6</cp:revision>
  <dc:subject/>
  <dc:title>Тоталітариз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14000000000001024140</vt:lpwstr>
  </property>
</Properties>
</file>