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AC5-0470-4676-A50A-84041568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49C-91E6-4614-97D5-485F4F5C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F75-1654-403E-8066-706D4CFF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132-98EB-49B9-A2B9-89BB33E3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FF92-CB06-4DDB-AF1A-90609784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6895-43C3-4DE0-BCFF-A8ED3EB9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EEF4-25C2-4EC7-AD53-026C5F93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65D-6293-4F1E-960E-08C4867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D4FC-3D54-41E3-850D-711CF4E9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3E16-935C-4007-8555-34834C2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28AE-2DEE-4CD6-B3D3-1CA4B85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A4F-645E-4B09-AE63-AADE75E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2CD3-645C-4AE4-83E2-53430C7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3658-BC22-46DD-81AC-82C0B80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503-5F78-435B-9661-182B488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BD95-3E74-445F-8F6E-4CE0F2D6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C71-EF3E-4B8C-9143-C0B54115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5F0-6662-49B4-B2AF-8A014E80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90A-72A8-4DE9-BB0C-73D79E38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B93-99F2-4D43-A16D-B43E5C48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3A8-886E-4B59-93D3-7D6C28DF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F3E-0AD2-43DF-869D-05B5ED7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35A-BD28-494F-B371-549C300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2AA-CACE-43B0-A46E-6CF3F4D8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57C-9161-494D-AFB9-EDA2DA3E778D}" type="slidenum"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prstGeom prst="pi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24D5-3DFB-4F72-9B89-38B5060B26DA}" type="slidenum"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Місто Вавило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Picture 5" descr="Вавилон 3 "/>
          <p:cNvPicPr/>
          <p:nvPr/>
        </p:nvPicPr>
        <p:blipFill>
          <a:blip r:embed="rId1"/>
          <a:stretch/>
        </p:blipFill>
        <p:spPr>
          <a:xfrm>
            <a:off x="324000" y="836640"/>
            <a:ext cx="5832360" cy="3478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500720" y="3716280"/>
            <a:ext cx="4248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істо Вавило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1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539640" y="981000"/>
            <a:ext cx="80964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152280"/>
            <a:ext cx="7588440" cy="540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в</a:t>
            </a:r>
            <a:r>
              <a:rPr b="1" lang="uk-UA" sz="32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он в середині 2 тис. до н.е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56000" y="990720"/>
            <a:ext cx="4267440" cy="5030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авилон був розташований на берегу р.Євфра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Місто було оточене сті-нами, довжина яких -12 км, висота їх  превищувала 10 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Головні ворота міста називались “Ворота Іштар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Рисунок1"/>
          <p:cNvPicPr/>
          <p:nvPr/>
        </p:nvPicPr>
        <p:blipFill>
          <a:blip r:embed="rId2"/>
          <a:stretch/>
        </p:blipFill>
        <p:spPr>
          <a:xfrm>
            <a:off x="620640" y="968400"/>
            <a:ext cx="3591000" cy="46926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35" name="Text Box 5"/>
          <p:cNvSpPr/>
          <p:nvPr/>
        </p:nvSpPr>
        <p:spPr>
          <a:xfrm>
            <a:off x="1273320" y="57801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орота Іштар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рота богини Іштар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авилон – торгове міст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5" descr="Вавилон 4 jpg"/>
          <p:cNvPicPr/>
          <p:nvPr/>
        </p:nvPicPr>
        <p:blipFill>
          <a:blip r:embed="rId1"/>
          <a:stretch/>
        </p:blipFill>
        <p:spPr>
          <a:xfrm>
            <a:off x="468360" y="1268280"/>
            <a:ext cx="3612960" cy="5040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356000" y="2349360"/>
            <a:ext cx="428940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исячі сади Семірамід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37"/>
                </a:solidFill>
                <a:latin typeface="Times New Roman"/>
              </a:rPr>
              <a:t>Одне із 7 чудес світ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3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d937"/>
                </a:solidFill>
                <a:latin typeface="Times New Roman"/>
              </a:rPr>
              <a:t>сади – сходи з 12 терас, які підіймаються вгор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37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d937"/>
                </a:solidFill>
                <a:latin typeface="Times New Roman"/>
              </a:rPr>
              <a:t>здалеку здавалося, що сади висять у повітр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540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авилонська вежа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Picture 4" descr="1"/>
          <p:cNvPicPr/>
          <p:nvPr/>
        </p:nvPicPr>
        <p:blipFill>
          <a:blip r:embed="rId1"/>
          <a:stretch/>
        </p:blipFill>
        <p:spPr>
          <a:xfrm>
            <a:off x="1042920" y="981000"/>
            <a:ext cx="3843360" cy="513576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47" name="Rectangle 3"/>
          <p:cNvSpPr/>
          <p:nvPr/>
        </p:nvSpPr>
        <p:spPr>
          <a:xfrm>
            <a:off x="5724360" y="1268280"/>
            <a:ext cx="252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одне з чудес свету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багатоярусна пірамідальна будівля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АВИЛОНСЬКА ВЕЖ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1835280" y="1557360"/>
            <a:ext cx="5545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312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АВИЛОНСЬКИЙ  ЦАР ХАММУРАПІ  ТА  ЙОГО                                          ЗАКОН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4" descr="Хаммурапи "/>
          <p:cNvPicPr/>
          <p:nvPr/>
        </p:nvPicPr>
        <p:blipFill>
          <a:blip r:embed="rId1"/>
          <a:stretch/>
        </p:blipFill>
        <p:spPr>
          <a:xfrm>
            <a:off x="755640" y="1989000"/>
            <a:ext cx="2849400" cy="40071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708360" y="422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1792-1750 рр до н.е.</a:t>
            </a: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Хаммурапі отримав владу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від богів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00"/>
                </a:solidFill>
                <a:uFillTx/>
                <a:latin typeface="Times New Roman"/>
              </a:rPr>
              <a:t>Заслуги Хаммурапі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Збільшив територію держави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Встановив єдині закони в державі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415800" y="1270080"/>
            <a:ext cx="43005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Стародавн</a:t>
            </a:r>
            <a:r>
              <a:rPr b="1" lang="uk-UA" sz="4400" spc="-1" strike="noStrike" u="sng">
                <a:solidFill>
                  <a:srgbClr val="ffff00"/>
                </a:solidFill>
                <a:uFillTx/>
                <a:latin typeface="Times New Roman"/>
              </a:rPr>
              <a:t>є Межирічч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ЗАКОНИ –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авила, обов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зкові  для всіх жител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ів країн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Picture 4" descr="законы "/>
          <p:cNvPicPr/>
          <p:nvPr/>
        </p:nvPicPr>
        <p:blipFill>
          <a:blip r:embed="rId1"/>
          <a:stretch/>
        </p:blipFill>
        <p:spPr>
          <a:xfrm>
            <a:off x="684360" y="1484280"/>
            <a:ext cx="4093920" cy="475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стелла "/>
          <p:cNvPicPr/>
          <p:nvPr/>
        </p:nvPicPr>
        <p:blipFill>
          <a:blip r:embed="rId2"/>
          <a:stretch/>
        </p:blipFill>
        <p:spPr>
          <a:xfrm>
            <a:off x="6016680" y="1413000"/>
            <a:ext cx="2600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СТАТТІ ЗАКОНІВ ХАММУРАПІ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468360" y="1628640"/>
            <a:ext cx="405108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716360" y="2133720"/>
            <a:ext cx="39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-про власність;</a:t>
            </a: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про шлюб і сім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ю;</a:t>
            </a: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про злочини проти особи;</a:t>
            </a: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карання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27640" y="1905120"/>
            <a:ext cx="403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штра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60360" indent="-3603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мертна кар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60360" indent="-3603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нцип таліон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60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(око за око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60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зуб – за зуб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ОГО ЗАХИЩАЛИ ЗАКОНИ ХАММУРАПІ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исновок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кони Хаммурапі – правила, обов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язкові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ля вс</a:t>
            </a:r>
            <a:r>
              <a:rPr b="1" lang="uk-UA" sz="2800" spc="-1" strike="noStrike">
                <a:solidFill>
                  <a:srgbClr val="ffff00"/>
                </a:solidFill>
                <a:latin typeface="Times New Roman"/>
              </a:rPr>
              <a:t>і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 жителів країн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явність писаних законів – найважливіша ознака держави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кони Хаммурапі регулюють всі сторони  суспільного життя, захищають права власності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9" name="Picture 5" descr="Хаммураппи "/>
          <p:cNvPicPr/>
          <p:nvPr/>
        </p:nvPicPr>
        <p:blipFill>
          <a:blip r:embed="rId1"/>
          <a:stretch/>
        </p:blipFill>
        <p:spPr>
          <a:xfrm>
            <a:off x="468360" y="1700280"/>
            <a:ext cx="2773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6098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Письмо на глиняних табличках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76240" y="693360"/>
            <a:ext cx="4488120" cy="554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В Двуріччі до сих пір зна-ходять глиняні таблички покриті клинописом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Їх видавлювали загостре-ними  палочкам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Кожний знак означав слово, але були сполучення знаків,які  передавали звук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Клинопис складався із сотен знаків і його вчили з великими труднощам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10" descr="2"/>
          <p:cNvPicPr/>
          <p:nvPr/>
        </p:nvPicPr>
        <p:blipFill>
          <a:blip r:embed="rId2"/>
          <a:stretch/>
        </p:blipFill>
        <p:spPr>
          <a:xfrm>
            <a:off x="612720" y="981000"/>
            <a:ext cx="3743280" cy="367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3" name="Text Box 11"/>
          <p:cNvSpPr/>
          <p:nvPr/>
        </p:nvSpPr>
        <p:spPr>
          <a:xfrm>
            <a:off x="865440" y="5084640"/>
            <a:ext cx="31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иняна табличка із 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разком клинопису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9" descr="1"/>
          <p:cNvPicPr/>
          <p:nvPr/>
        </p:nvPicPr>
        <p:blipFill>
          <a:blip r:embed="rId1"/>
          <a:stretch/>
        </p:blipFill>
        <p:spPr>
          <a:xfrm>
            <a:off x="539640" y="1052640"/>
            <a:ext cx="3600720" cy="47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356000" y="980640"/>
            <a:ext cx="4183200" cy="482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В Дворіччі  спочатку з</a:t>
            </a:r>
            <a:r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явилися знаки для цифр- пастухи, рахуючи тварин,залишали ка- мінці,потім їх замінили вмятинами в глині.Пізніше вони перетворились в клинописні знак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6098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исьмо на глиняних табличках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831960" y="580536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ичка для рахунку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Times New Roman"/>
              </a:rPr>
              <a:t>Клинопис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Picture 6" descr="g_tabl01"/>
          <p:cNvPicPr/>
          <p:nvPr/>
        </p:nvPicPr>
        <p:blipFill>
          <a:blip r:embed="rId1"/>
          <a:srcRect l="2364" t="1483" r="0" b="0"/>
          <a:stretch/>
        </p:blipFill>
        <p:spPr>
          <a:xfrm>
            <a:off x="1403280" y="1197000"/>
            <a:ext cx="5975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4462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Порівняти природні умови Єгипту і Межиріччя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З</a:t>
            </a: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ясувати,чому була закономірною поява найдавніших цивілізаці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у долинах річок?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Заголовок 1"/>
          <p:cNvSpPr/>
          <p:nvPr/>
        </p:nvSpPr>
        <p:spPr>
          <a:xfrm>
            <a:off x="1908000" y="549360"/>
            <a:ext cx="590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imes New Roman"/>
              </a:rPr>
              <a:t>Відповіді:</a:t>
            </a:r>
            <a:endParaRPr b="0" lang="en-US" sz="4400" spc="-1" strike="noStrike">
              <a:solidFill>
                <a:srgbClr val="eaeaea"/>
              </a:solidFill>
              <a:latin typeface="Times New Roman Cyr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4360" y="2492280"/>
          <a:ext cx="7772400" cy="1441440"/>
        </p:xfrm>
        <a:graphic>
          <a:graphicData uri="http://schemas.openxmlformats.org/drawingml/2006/table">
            <a:tbl>
              <a:tblPr/>
              <a:tblGrid>
                <a:gridCol w="777600"/>
                <a:gridCol w="776520"/>
                <a:gridCol w="777600"/>
                <a:gridCol w="776520"/>
                <a:gridCol w="777960"/>
                <a:gridCol w="777600"/>
                <a:gridCol w="776520"/>
                <a:gridCol w="777600"/>
                <a:gridCol w="776520"/>
                <a:gridCol w="77796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 Cyr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Маршрут екскурс</a:t>
            </a:r>
            <a:r>
              <a:rPr b="1" lang="uk-UA" sz="4400" spc="-1" strike="noStrike" u="sng">
                <a:solidFill>
                  <a:srgbClr val="ffff00"/>
                </a:solidFill>
                <a:uFillTx/>
                <a:latin typeface="Times New Roman"/>
              </a:rPr>
              <a:t>ії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Times New Roman"/>
              </a:rPr>
              <a:t>1.Країна 2-х річок.Природа й населення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Times New Roman"/>
              </a:rPr>
              <a:t>2.Шумер і Аккад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Times New Roman"/>
              </a:rPr>
              <a:t>3.Стародавній Вавилон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66"/>
                </a:solidFill>
                <a:latin typeface="Times New Roman"/>
              </a:rPr>
              <a:t>4.Письмена на глиняних таб-личках.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Завдання екскурсії</a:t>
            </a:r>
            <a:endParaRPr b="0" lang="en-US" sz="4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Порівняти природні умови Єгипту і Межиріччя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З</a:t>
            </a: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’</a:t>
            </a: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ясувати,чому була закономірною поява найдавніших цивілізаці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33"/>
                </a:solidFill>
                <a:latin typeface="Times New Roman"/>
              </a:rPr>
              <a:t>у долинах річок 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двуречье в 4-3 тысячелетии до н э"/>
          <p:cNvPicPr/>
          <p:nvPr/>
        </p:nvPicPr>
        <p:blipFill>
          <a:blip r:embed="rId1"/>
          <a:stretch/>
        </p:blipFill>
        <p:spPr>
          <a:xfrm>
            <a:off x="468360" y="763560"/>
            <a:ext cx="8207280" cy="609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40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1.Країна 2-х річок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435640" y="907920"/>
            <a:ext cx="3240000" cy="19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лизько 5 тис.років тому тут одночасно з Єгиптом виникла держав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Фінікова пальма-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дерево життя</a:t>
            </a: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Мешканцям було відомо 360 способів її використанн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Picture 5" descr="C:\Documents and Settings\Администратор\Рабочий стол\9-Б\74226.jpg"/>
          <p:cNvPicPr/>
          <p:nvPr/>
        </p:nvPicPr>
        <p:blipFill>
          <a:blip r:embed="rId2"/>
          <a:stretch/>
        </p:blipFill>
        <p:spPr>
          <a:xfrm>
            <a:off x="500040" y="1785960"/>
            <a:ext cx="4000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imes New Roman"/>
              </a:rPr>
              <a:t>Шумер і Акка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івдень-шумери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Держава Шумер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Північні сусіди-племена семітів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Держава Акка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28760" y="1647720"/>
            <a:ext cx="450036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443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іста із глиняної цегл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640" y="765000"/>
            <a:ext cx="4419360" cy="5616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Міста будували на берегах річок. Основним матеріалом для будівництва була глина, із якої робили цегл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Times New Roman"/>
              </a:rPr>
              <a:t>Чому саме з глин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Цеглу сушили на сонці. Міські фортечні стіни робили дуже товсти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авіщо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Picture 7" descr="4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68360" y="826920"/>
            <a:ext cx="3816360" cy="49071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2" name="Text Box 8"/>
          <p:cNvSpPr/>
          <p:nvPr/>
        </p:nvSpPr>
        <p:spPr>
          <a:xfrm>
            <a:off x="279720" y="587700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удівництво фортечних сті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540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ашти від землі до неба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3920" y="4652640"/>
            <a:ext cx="8740800" cy="2120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центрі міст будували східчасту башту.Кожен поверх був пофарбований у свій колі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ашти присвячувались разним богам.На вершину башти піднімалися лише жереці.Астрологи вели спостереження за планетами і зірк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Picture 8" descr="Рисунок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635280" y="654120"/>
            <a:ext cx="5184720" cy="3960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26" name="Text Box 9"/>
          <p:cNvSpPr/>
          <p:nvPr/>
        </p:nvSpPr>
        <p:spPr>
          <a:xfrm>
            <a:off x="406080" y="1720800"/>
            <a:ext cx="30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іккурат Етеменаки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конструкція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т.до н.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 </dc:creator>
  <dc:description/>
  <dc:language>en-US</dc:language>
  <cp:lastModifiedBy>Samsung</cp:lastModifiedBy>
  <dcterms:modified xsi:type="dcterms:W3CDTF">2010-11-23T17:24:53Z</dcterms:modified>
  <cp:revision>64</cp:revision>
  <dc:subject/>
  <dc:title>Финикийские мореплаватели.</dc:title>
</cp:coreProperties>
</file>