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71D-6C40-4BCA-ABB4-7F6EEF35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721-B48F-4362-97CA-41CC81A2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7F3-31A5-4E2C-8D95-DAA66BDA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97A-9C9D-46DE-924E-A3E5FAEA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80ED-B047-42CE-B4A6-4E8110A4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B226-2D88-4996-AABF-9B8DA2CD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3328-7A45-4D3B-B066-8E3BA431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4CC4-1983-4A9D-A243-F02A92F0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706F-9F29-488E-B746-3E0C95B5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CAA3-360F-44E6-8D11-CC512446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11BA-2446-47A6-BECC-2ABC99D6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32F-71D5-4F12-AC90-49BBE671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31EE-B51F-4B43-AD3C-3606CBC9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B5D5-00BE-4CBA-8990-2A556C5C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1D4C-F408-44E6-A278-B17EF5CE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D310-61E2-45F3-8D0B-6E0F6E72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02B4-565A-4A2A-9FF0-F4D37B9E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2E9-875D-430A-9694-2ADB37C6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6CB-E1C7-4661-800F-C58FD885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4DC-C50D-41A8-8A28-DFAE3D5E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B2C-5C7C-4B6A-9663-B8DAFD42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138-F9F2-43BC-83D9-321694F5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781-9405-4588-8AFA-5D0262A3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132-502A-405D-8AA8-F33DAB9C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AC42-6865-4520-98F6-9428A2B54A4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9B94-1FB9-46B5-8327-9893DB9E8CB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58;&#1086;&#1074;&#1072;&#1088;" TargetMode="External"/><Relationship Id="rId2" Type="http://schemas.openxmlformats.org/officeDocument/2006/relationships/hyperlink" Target="http://uk.wikipedia.org/wiki/&#1047;&#1072;&#1075;&#1072;&#1083;&#1100;&#1085;&#1080;&#1081;_&#1077;&#1082;&#1074;&#1110;&#1074;&#1072;&#1083;&#1077;&#1085;&#1090;" TargetMode="External"/><Relationship Id="rId3" Type="http://schemas.openxmlformats.org/officeDocument/2006/relationships/hyperlink" Target="http://uk.wikipedia.org/wiki/&#1042;&#1072;&#1088;&#1090;&#1110;&#1089;&#1090;&#1100;" TargetMode="External"/><Relationship Id="rId4" Type="http://schemas.openxmlformats.org/officeDocument/2006/relationships/hyperlink" Target="http://uk.wikipedia.org/wiki/&#1058;&#1086;&#1074;&#1072;&#1088;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ТЕМА УРОКУ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Verdana"/>
              </a:rPr>
              <a:t>Грош</a:t>
            </a:r>
            <a:r>
              <a:rPr b="0" lang="uk-UA" sz="6700" spc="-1" strike="noStrike">
                <a:solidFill>
                  <a:srgbClr val="000000"/>
                </a:solidFill>
                <a:latin typeface="Verdana"/>
              </a:rPr>
              <a:t>і</a:t>
            </a:r>
            <a:endParaRPr b="0" lang="en-US" sz="6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-11"/>
          <a:stretch/>
        </p:blipFill>
        <p:spPr>
          <a:xfrm>
            <a:off x="2286000" y="266688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На острові Гвінея майже до нашого часу  «поросячі гроші»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Товар ,що його обирали як гроші, повинен був мати певні переваги: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високу варті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ділитися на однорідні части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вартість товару не повинна змінюватис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НУМІЗМАТ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умізматика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– це наука, що вивчає моне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Монетами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називаються металеві гроші, виготовлені методом карбування або литт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Перші монети з’явилися у Китаї у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X</a:t>
            </a: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ІІ ст.. до н.е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Київські князі почали карбувати монети в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X</a:t>
            </a: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І ст.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Українські монети карбуються в Банкнотно – монетному дворі НБУ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-162"/>
          <a:stretch/>
        </p:blipFill>
        <p:spPr>
          <a:xfrm>
            <a:off x="457200" y="1600200"/>
            <a:ext cx="8229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Ювілейні та пам'ятні монет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276720" cy="2189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" y="39416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648320" y="3941640"/>
            <a:ext cx="4038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9900"/>
                </a:solidFill>
                <a:latin typeface="Garamond"/>
              </a:rPr>
              <a:t>Монети номінальної вартістю – 10 коп., 25 коп., 50 коп., 1 грн. виготовлено з латуні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ФІНАНСОВИЙ СЛОВНИК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роші— особливий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това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, що є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загальною еквівалентною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формою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вартості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інших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4"/>
              </a:rPr>
              <a:t>товарі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ТИПИ ГРОШЕ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05000" y="1676520"/>
            <a:ext cx="7076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Грош</a:t>
            </a:r>
            <a:r>
              <a:rPr b="0" lang="uk-UA" sz="2800" spc="-1" strike="noStrike">
                <a:solidFill>
                  <a:srgbClr val="999900"/>
                </a:solidFill>
                <a:latin typeface="Garamond"/>
              </a:rPr>
              <a:t>і дуже лихий пан , але вельми  хороший слуга.</a:t>
            </a:r>
            <a:br>
              <a:rPr sz="2800"/>
            </a:b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</a:t>
            </a:r>
            <a:r>
              <a:rPr b="0" lang="uk-UA" sz="2800" spc="-1" strike="noStrike">
                <a:solidFill>
                  <a:srgbClr val="999900"/>
                </a:solidFill>
                <a:latin typeface="Garamond"/>
              </a:rPr>
              <a:t>Френсіс Бекон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057400" y="2514600"/>
            <a:ext cx="5334120" cy="3255840"/>
            <a:chOff x="2057400" y="2514600"/>
            <a:chExt cx="5334120" cy="32558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057400" y="2514600"/>
              <a:ext cx="533412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2057400" y="2514600"/>
              <a:ext cx="5334120" cy="32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601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місія грошових знаків, тобто випуск грошей в обіг здійснює держава в особі Національного бан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Історія розвитку українських паперових грошей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 1917 р. Центральною Радою в Україні було запроваджено нову національну валюту – український карбованець -  це була купюра вартістю 100 кр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 1918 р. щоб запобігти фальшуванню, ввели нову грошову одиницю – гривню,яка дорівнювала ½ карбованця або 100 шага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Наприкінці квітня 1918 р. гетьман Павло Скоропадський відновив як основну грошову одиницю карбованець, що дорівнював 200 шаг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У грудні 1918 р. після переходу влади до рук Директорії знову відновили гривню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У 1991 р. зі здобуттям незалежності Україною, нашою національною валютою стала гривня. Це навіть зазначено в ст.. 99 Конституції Украї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ФУНКЦІЇ ГРОШЕ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Міра вартост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сіб обіг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сіб платеж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сіб накопиче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вітові грош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Кредитні пластикові картки надають власнику можливість отримати кредит в банку, здійснювати покупки та оплачувати послуг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ебітові пластикові картки дають можливість використовувати ті гроші, які є у вас на рахунк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МІЖНАРОДНІ ГРОШІ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Міжнародні гроші обслуговують міжнародні економічні відносини та забезпечують торгові зв’язки між країн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3273480" cy="2189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0388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ПІДСУМОК УРОКУ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БАРТЕР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ДОМАШНЄ ЗАВДАНН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.Опрацювати параграф 6, виписати назви грошових одиниць зарубіжних краї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2. Пригадати твори українських і зарубіжних авторів, у яких розкривається проблема грош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УКРАЇНСЬКЕ ПРИСЛІВ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`</a:t>
            </a: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Я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0" r="0" b="35"/>
          <a:stretch/>
        </p:blipFill>
        <p:spPr>
          <a:xfrm>
            <a:off x="457200" y="3941640"/>
            <a:ext cx="4038480" cy="1925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« Міняю шило на мило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УРИВОК ІЗ ГОМЕРОВОЇ ІЛЛІАД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Решту п’янкого  в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ишно прибрані діти ахейці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се купували; платив хто залізом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Хто сяйною міддю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Хто ж і бичачими шкурам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Хто і самими бикам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Або рабами – людьми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ФІНАНСОВИЙ СЛОВНИК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арте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прямий, не опосередкований грошима обмін товарами або послуга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В Ісландії  до 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XV</a:t>
            </a: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 ст. грошима була риба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В Індії  до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XX</a:t>
            </a: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 ст. -  жемчуг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В Нікарагуа до 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X</a:t>
            </a: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І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X</a:t>
            </a: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 ст.   - мішечки з бобами какао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3-01-04T22:09:0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1000000000001024140</vt:lpwstr>
  </property>
  <property fmtid="{D5CDD505-2E9C-101B-9397-08002B2CF9AE}" pid="3" name="Version">
    <vt:r8>1</vt:r8>
  </property>
</Properties>
</file>