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2BD8-05E3-4323-B384-BC85CAED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1A16-CC8F-4EC3-BFB5-7CC97E04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39F-723C-42A8-B597-E1713A06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8EEE-692E-491D-A350-6E49CDA2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28F1-1888-4B13-A18F-26F7AB59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740A-318E-4C6C-9D88-227C8D23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2FDD-933D-416B-9568-F6E626E6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7AA38-CE74-4304-862F-6B879F57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39A7-86AE-4BED-B2A0-4FF4A2D0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4A1D-C4C9-4329-A723-C2DA6EE2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ED4C-9394-403C-A137-66E29433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C780-DEE0-47BF-8511-BBAECE13D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615F0-5674-4B2B-8737-E1A1ADF5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6B9E-7BEA-44A0-A1D3-BBBBEA9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CE48-88FC-4CE9-A54C-758FEC11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F44A-1D50-4B12-A911-E4B47245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ECB1-BD87-49F8-9765-190A231D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BA6-6817-42F0-8FCD-F40FBD87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2B8B-B4DC-4E54-8BBF-04D10921C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710A-36E9-47EE-B67D-07AB8E40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3D5-038E-4D2C-80F5-1D6AC4F4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B723-B4B3-43BE-9B77-32D4FEA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EBCF-E0CF-461D-B0C0-A4E530F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4F4-0E23-4E2C-8705-616BCB22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D3A0-3DF4-47DB-BAEF-3E5E65BDF19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DA6F-8649-45D0-854D-251A983600C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k.wikipedia.org/wiki/&#1058;&#1086;&#1074;&#1072;&#1088;" TargetMode="External"/><Relationship Id="rId2" Type="http://schemas.openxmlformats.org/officeDocument/2006/relationships/hyperlink" Target="http://uk.wikipedia.org/wiki/&#1047;&#1072;&#1075;&#1072;&#1083;&#1100;&#1085;&#1080;&#1081;_&#1077;&#1082;&#1074;&#1110;&#1074;&#1072;&#1083;&#1077;&#1085;&#1090;" TargetMode="External"/><Relationship Id="rId3" Type="http://schemas.openxmlformats.org/officeDocument/2006/relationships/hyperlink" Target="http://uk.wikipedia.org/wiki/&#1042;&#1072;&#1088;&#1090;&#1110;&#1089;&#1090;&#1100;" TargetMode="External"/><Relationship Id="rId4" Type="http://schemas.openxmlformats.org/officeDocument/2006/relationships/hyperlink" Target="http://uk.wikipedia.org/wiki/&#1058;&#1086;&#1074;&#1072;&#1088;" TargetMode="External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ЕМА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700" spc="-1" strike="noStrike">
                <a:solidFill>
                  <a:srgbClr val="000000"/>
                </a:solidFill>
                <a:latin typeface="Verdana"/>
              </a:rPr>
              <a:t>Грош</a:t>
            </a:r>
            <a:r>
              <a:rPr b="0" lang="uk-UA" sz="6700" spc="-1" strike="noStrike">
                <a:solidFill>
                  <a:srgbClr val="000000"/>
                </a:solidFill>
                <a:latin typeface="Verdana"/>
              </a:rPr>
              <a:t>і</a:t>
            </a:r>
            <a:endParaRPr b="0" lang="en-US" sz="6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2286000" y="2666880"/>
            <a:ext cx="5029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На острові Гвінея майже до нашого часу  «поросячі гроші»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Товар ,що його обирали як гроші, повинен був мати певні переваги: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исоку варті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ділитися на однорідні частин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Verdana"/>
              </a:rPr>
              <a:t>вартість товару не повинна змінюватис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НУМІЗМАТИ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умізматика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– це наука, що вивчає монет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Монетами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зиваються металеві гроші, виготовлені методом карбування або лиття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Перші монети з’явилися у Китаї у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І ст.. до н.е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53341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Київські князі почали карбувати монети в </a:t>
            </a: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 ст.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Українські монети карбуються в Банкнотно – монетному дворі НБУ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0" r="0" b="-162"/>
          <a:stretch/>
        </p:blipFill>
        <p:spPr>
          <a:xfrm>
            <a:off x="457200" y="16002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Ювілейні та пам'ятні монети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327672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3941640"/>
            <a:ext cx="4038480" cy="21891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648320" y="394164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999900"/>
                </a:solidFill>
                <a:latin typeface="Garamond"/>
              </a:rPr>
              <a:t>Монети номінальної вартістю – 10 коп., 25 коп., 50 коп., 1 грн. виготовлено з латуні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роші— особливий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1"/>
              </a:rPr>
              <a:t>това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, що є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2"/>
              </a:rPr>
              <a:t>загальною еквівалентною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формою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3"/>
              </a:rPr>
              <a:t>вартості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інших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Verdana"/>
                <a:hlinkClick r:id="rId4"/>
              </a:rPr>
              <a:t>товарів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ТИПИ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05000" y="1676520"/>
            <a:ext cx="7076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Грош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і дуже лихий пан , але вельми  хороший слуга.</a:t>
            </a:r>
            <a:br>
              <a:rPr sz="2800"/>
            </a:br>
            <a:r>
              <a:rPr b="0" lang="ru-RU" sz="2800" spc="-1" strike="noStrike">
                <a:solidFill>
                  <a:srgbClr val="999900"/>
                </a:solidFill>
                <a:latin typeface="Garamond"/>
              </a:rPr>
              <a:t>                                    </a:t>
            </a:r>
            <a:r>
              <a:rPr b="0" lang="uk-UA" sz="2800" spc="-1" strike="noStrike">
                <a:solidFill>
                  <a:srgbClr val="999900"/>
                </a:solidFill>
                <a:latin typeface="Garamond"/>
              </a:rPr>
              <a:t>Френсіс Бекон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057400" y="2514600"/>
            <a:ext cx="5334120" cy="3255840"/>
            <a:chOff x="2057400" y="2514600"/>
            <a:chExt cx="5334120" cy="32558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057400" y="2514600"/>
              <a:ext cx="533412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 txBox="1"/>
            <p:nvPr/>
          </p:nvSpPr>
          <p:spPr>
            <a:xfrm>
              <a:off x="2057400" y="2514600"/>
              <a:ext cx="5334120" cy="32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601"/>
                </a:spcBef>
                <a:buClr>
                  <a:srgbClr val="666600"/>
                </a:buClr>
                <a:buSzPct val="75000"/>
                <a:buFont typeface="Wingdings" charset="2"/>
                <a:buChar char="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Емісія грошових знаків, тобто випуск грошей в обіг здійснює держава в особі Національного банк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Історія розвитку українських паперових грошей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7 р. Центральною Радою в Україні було запроваджено нову національну валюту – український карбованець -  це була купюра вартістю 100 крб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 1918 р. щоб запобігти фальшуванню, ввели нову грошову одиницю – гривню,яка дорівнювала ½ карбованця або 100 шага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2514600"/>
            <a:ext cx="4038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Наприкінці квітня 1918 р. гетьман Павло Скоропадський відновив як основну грошову одиницю карбованець, що дорівнював 200 шага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грудні 1918 р. після переходу влади до рук Директорії знову відновили гривню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У 1991 р. зі здобуттям незалежності Україною, нашою національною валютою стала гривня. Це навіть зазначено в ст.. 99 Конституції Украї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УНКЦІЇ ГРОШЕЙ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ра вартост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обіг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платеж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Засіб накопиче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         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Світові грош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Кредитні пластикові картки надають власнику можливість отримати кредит в банку, здійснювати покупки та оплачувати послуг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Дебітові пластикові картки дають можливість використовувати ті гроші, які є у вас на рахунку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МІЖНАРОДНІ ГРОШІ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Міжнародні гроші обслуговують міжнародні економічні відносини та забезпечують торгові зв’язки між країн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800600" y="4114800"/>
            <a:ext cx="3273480" cy="21891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95680" y="1752480"/>
            <a:ext cx="40388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ПІДСУМОК УРОКУ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БАРТЕР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96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ДОМАШНЄ ЗАВДАННЯ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1.Опрацювати параграф 6, виписати назви грошових одиниць зарубіжних країн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2. Пригадати твори українських і зарубіжних авторів, у яких розкривається проблема грош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УКРАЇНСЬКЕ ПРИСЛІВ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`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Я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0" t="0" r="0" b="35"/>
          <a:stretch/>
        </p:blipFill>
        <p:spPr>
          <a:xfrm>
            <a:off x="457200" y="3941640"/>
            <a:ext cx="4038480" cy="19256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« Міняю шило на мило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999900"/>
                </a:solidFill>
                <a:latin typeface="Garamond"/>
              </a:rPr>
              <a:t>УРИВОК ІЗ ГОМЕРОВОЇ ІЛЛІАД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Решту п’янкого  вин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пишно прибрані діти ахейці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Все купували; платив хто залізом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сяйною міддю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ж і бичачими шкур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Хто і самими биками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Verdana"/>
              </a:rPr>
              <a:t>Або рабами – людьми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ФІНАНСОВИЙ СЛОВНИК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Барте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прямий, не опосередкований грошима обмін товарами або послуга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Ісландії 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V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грошима була риба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В Індії  до 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XX</a:t>
            </a:r>
            <a:r>
              <a:rPr b="0" lang="uk-UA" sz="4400" spc="-1" strike="noStrike">
                <a:solidFill>
                  <a:srgbClr val="999900"/>
                </a:solidFill>
                <a:latin typeface="Garamond"/>
              </a:rPr>
              <a:t> ст. -  жемчуг</a:t>
            </a:r>
            <a:r>
              <a:rPr b="0" lang="ru-RU" sz="44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В Нікарагуа до 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І</a:t>
            </a: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X</a:t>
            </a:r>
            <a:r>
              <a:rPr b="0" lang="uk-UA" sz="3600" spc="-1" strike="noStrike">
                <a:solidFill>
                  <a:srgbClr val="999900"/>
                </a:solidFill>
                <a:latin typeface="Garamond"/>
              </a:rPr>
              <a:t> ст.   - мішечки з бобами какао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3-01-04T22:09:0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11000000000001024140</vt:lpwstr>
  </property>
  <property fmtid="{D5CDD505-2E9C-101B-9397-08002B2CF9AE}" pid="3" name="Version">
    <vt:r8>1</vt:r8>
  </property>
</Properties>
</file>