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82B6-9123-45AA-B4BE-85E5E69B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A7D-9E84-4C68-9F70-2D25EA05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5FEB-F3A0-40CE-AD05-82978E7D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BCF-609F-4EA9-B2C2-FFB3A796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4B180-983F-4666-A17F-802D7E01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4EF6-42A9-4FEA-9C97-1F785DFD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C763-6D89-4AA3-A882-AB4E9A97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988C-649E-46ED-BF23-35508231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668B-DA28-4B6A-8FA3-CD71F09F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12E4-C185-4BF2-B35C-F19CE137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4A0A-C2CE-495B-93D4-B00BA154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EA5-79B2-4B5B-862C-A36F4ECF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0D55-DB03-4F7F-8849-76537726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297-E8E6-4A1B-A3D1-0247FCA2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E651-D71C-4131-9BC3-12810D56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E304-1732-47FE-917A-67C08F93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48E7-40AC-41D2-B7F0-1051CDB2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474A-94E6-46F0-ABB9-9BFAD1A3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FE2-DD03-4701-A23A-4A8120A9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C843-AB86-4E39-8FEE-4ABC0A8A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806-8A56-4D9A-986D-595144C0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BF52-5E03-4161-9EC7-1D7242AE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E1C8-2299-48AA-B5E2-50C29C24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1D6-9E65-4500-8DCB-15B2C01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3FC2-E27E-475B-AA15-F03E457E6B3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B952-B24F-4735-B77D-A341F3F5FC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8;&#1086;&#1074;&#1072;&#1088;" TargetMode="External"/><Relationship Id="rId2" Type="http://schemas.openxmlformats.org/officeDocument/2006/relationships/hyperlink" Target="http://uk.wikipedia.org/wiki/&#1047;&#1072;&#1075;&#1072;&#1083;&#1100;&#1085;&#1080;&#1081;_&#1077;&#1082;&#1074;&#1110;&#1074;&#1072;&#1083;&#1077;&#1085;&#1090;" TargetMode="External"/><Relationship Id="rId3" Type="http://schemas.openxmlformats.org/officeDocument/2006/relationships/hyperlink" Target="http://uk.wikipedia.org/wiki/&#1042;&#1072;&#1088;&#1090;&#1110;&#1089;&#1090;&#1100;" TargetMode="External"/><Relationship Id="rId4" Type="http://schemas.openxmlformats.org/officeDocument/2006/relationships/hyperlink" Target="http://uk.wikipedia.org/wiki/&#1058;&#1086;&#1074;&#1072;&#1088;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ЕМА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Грош</a:t>
            </a:r>
            <a:r>
              <a:rPr b="0" lang="uk-UA" sz="6700" spc="-1" strike="noStrike">
                <a:solidFill>
                  <a:srgbClr val="000000"/>
                </a:solidFill>
                <a:latin typeface="Verdana"/>
              </a:rPr>
              <a:t>і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2286000" y="26668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На острові Гвінея майже до нашого часу  «поросячі гроші»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Товар ,що його обирали як гроші, повинен був мати певні переваги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исоку варт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литися на однорідні части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артість товару не повинна змінюватис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НУМІЗМА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умізматик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– це наука, що вивчає моне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онетами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зиваються металеві гроші, виготовлені методом карбування або литт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Перші монети з’явилися у Китаї у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І ст.. до н.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Київські князі почали карбувати монети в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 ст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Українські монети карбуються в Банкнотно – монетному дворі НБУ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-162"/>
          <a:stretch/>
        </p:blipFill>
        <p:spPr>
          <a:xfrm>
            <a:off x="457200" y="16002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Ювілейні та пам'ятні моне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39416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39416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9900"/>
                </a:solidFill>
                <a:latin typeface="Garamond"/>
              </a:rPr>
              <a:t>Монети номінальної вартістю – 10 коп., 25 коп., 50 коп., 1 грн. виготовлено з латуні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оші— особливий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това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, що є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загальною еквівалентно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формою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вартості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інших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товарі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ИПИ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05000" y="1676520"/>
            <a:ext cx="7076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Грош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і дуже лихий пан , але вельми  хороший слуга.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Френсіс Бекон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57400" y="2514600"/>
            <a:ext cx="5334120" cy="3255840"/>
            <a:chOff x="2057400" y="2514600"/>
            <a:chExt cx="5334120" cy="32558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057400" y="2514600"/>
              <a:ext cx="53341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2057400" y="2514600"/>
              <a:ext cx="533412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місія грошових знаків, тобто випуск грошей в обіг здійснює держава в особі Національного бан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сторія розвитку українських паперових грошей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7 р. Центральною Радою в Україні було запроваджено нову національну валюту – український карбованець -  це була купюра вартістю 100 кр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8 р. щоб запобігти фальшуванню, ввели нову грошову одиницю – гривню,яка дорівнювала ½ карбованця або 100 шаг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прикінці квітня 1918 р. гетьман Павло Скоропадський відновив як основну грошову одиницю карбованець, що дорівнював 200 шаг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грудні 1918 р. після переходу влади до рук Директорії знову відновили гривню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1991 р. зі здобуттям незалежності Україною, нашою національною валютою стала гривня. Це навіть зазначено в ст.. 99 Конституції Украї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УНКЦІЇ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ра варт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обіг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платеж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накопиче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вітові грош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Кредитні пластикові картки надають власнику можливість отримати кредит в банку, здійснювати покупки та оплачувати послу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ебітові пластикові картки дають можливість використовувати ті гроші, які є у вас на рахун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МІЖНАРОДНІ ГРОШ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жнародні гроші обслуговують міжнародні економічні відносини та забезпечують торгові зв’язки між країн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27348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ІДСУМОК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БАРТЕР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ДОМАШНЄ ЗАВДАН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.Опрацювати параграф 6, виписати назви грошових одиниць зарубіжних краї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2. Пригадати твори українських і зарубіжних авторів, у яких розкривається проблема грош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УКРАЇНСЬКЕ ПРИСЛІВ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`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5"/>
          <a:stretch/>
        </p:blipFill>
        <p:spPr>
          <a:xfrm>
            <a:off x="457200" y="3941640"/>
            <a:ext cx="4038480" cy="19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« Міняю шило на мило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УРИВОК ІЗ ГОМЕРОВОЇ ІЛЛІАД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шту п’янкого  в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ишно прибрані діти ахейц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се купували; платив хто залізо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сяйною мідд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ж і бичачими шкур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і самими бик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Або рабами – людь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арте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прямий, не опосередкований грошима обмін товарами або послуг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Ісландії 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V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грошима була риба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В Індії  до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XX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ст. -  жемчуг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Нікарагуа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І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  - мішечки з бобами какао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1-04T22:09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4140</vt:lpwstr>
  </property>
  <property fmtid="{D5CDD505-2E9C-101B-9397-08002B2CF9AE}" pid="3" name="Version">
    <vt:r8>1</vt:r8>
  </property>
</Properties>
</file>