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103-9AAA-4AEC-8495-52749966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09F-4491-4C10-B788-F290B821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2AF-F7E3-47C7-8DFB-D7729505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6CE-6D8E-43DF-8B86-763CA57A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9F98-224C-45E6-8F11-368A854D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2BA1-5E1F-4231-A2B7-523B7D24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75F6-7B21-4EE3-8781-4B4A446C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984A-46D7-4ECE-AD81-87DB23E0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60C3-9E95-47FC-87D3-EF633B70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2C53-4BEC-49A4-B65F-EF0C3E84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57C4-A819-46AD-9224-750EA8D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B3D-945F-4E33-9C62-65AD17D3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5276-6358-4E95-AD02-3AD5D855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3913-FDB8-4B76-BFA5-10D1B0EA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42F4-8144-487F-8614-40A16373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A63F-4561-47AE-ACBB-DD128569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9AF2-C144-44F0-A174-F12C80AD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736-EF7F-4E63-9128-B73AD44F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7B7-D0DE-4AAD-8148-BCC80F77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BF1-0170-4163-BFF2-E7AE0210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71C-E0B2-4AAE-A4E4-030B8C82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999-7810-4C6C-A00D-37C196A3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154-282D-4F0A-AE6D-E4DBB32B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63D-15EB-4A9E-B6DB-5262C73E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56BF-7A97-44CD-945F-F52C8441F1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7AD9-0EC2-4E83-9194-CAA56A0159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58;&#1086;&#1074;&#1072;&#1088;" TargetMode="External"/><Relationship Id="rId2" Type="http://schemas.openxmlformats.org/officeDocument/2006/relationships/hyperlink" Target="http://uk.wikipedia.org/wiki/&#1047;&#1072;&#1075;&#1072;&#1083;&#1100;&#1085;&#1080;&#1081;_&#1077;&#1082;&#1074;&#1110;&#1074;&#1072;&#1083;&#1077;&#1085;&#1090;" TargetMode="External"/><Relationship Id="rId3" Type="http://schemas.openxmlformats.org/officeDocument/2006/relationships/hyperlink" Target="http://uk.wikipedia.org/wiki/&#1042;&#1072;&#1088;&#1090;&#1110;&#1089;&#1090;&#1100;" TargetMode="External"/><Relationship Id="rId4" Type="http://schemas.openxmlformats.org/officeDocument/2006/relationships/hyperlink" Target="http://uk.wikipedia.org/wiki/&#1058;&#1086;&#1074;&#1072;&#1088;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ЕМА УРОК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Verdana"/>
              </a:rPr>
              <a:t>Грош</a:t>
            </a:r>
            <a:r>
              <a:rPr b="0" lang="uk-UA" sz="6700" spc="-1" strike="noStrike">
                <a:solidFill>
                  <a:srgbClr val="000000"/>
                </a:solidFill>
                <a:latin typeface="Verdana"/>
              </a:rPr>
              <a:t>і</a:t>
            </a:r>
            <a:endParaRPr b="0" lang="en-US" sz="6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-11"/>
          <a:stretch/>
        </p:blipFill>
        <p:spPr>
          <a:xfrm>
            <a:off x="2286000" y="26668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На острові Гвінея майже до нашого часу  «поросячі гроші»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Товар ,що його обирали як гроші, повинен був мати певні переваги: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исоку варті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ділитися на однорідні части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артість товару не повинна змінюватис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НУМІЗМАТ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умізматика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– це наука, що вивчає моне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Монетами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зиваються металеві гроші, виготовлені методом карбування або литт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Перші монети з’явилися у Китаї у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І ст.. до н.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Київські князі почали карбувати монети в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 ст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Українські монети карбуються в Банкнотно – монетному дворі НБУ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-162"/>
          <a:stretch/>
        </p:blipFill>
        <p:spPr>
          <a:xfrm>
            <a:off x="457200" y="160020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Ювілейні та пам'ятні монет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39416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648320" y="394164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9900"/>
                </a:solidFill>
                <a:latin typeface="Garamond"/>
              </a:rPr>
              <a:t>Монети номінальної вартістю – 10 коп., 25 коп., 50 коп., 1 грн. виготовлено з латуні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ІНАНСОВИЙ СЛОВНИК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роші— особливий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това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, що є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загальною еквівалентною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формою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вартості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інших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4"/>
              </a:rPr>
              <a:t>товарі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ИПИ ГРОШ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05000" y="1676520"/>
            <a:ext cx="7076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Грош</a:t>
            </a:r>
            <a:r>
              <a:rPr b="0" lang="uk-UA" sz="2800" spc="-1" strike="noStrike">
                <a:solidFill>
                  <a:srgbClr val="999900"/>
                </a:solidFill>
                <a:latin typeface="Garamond"/>
              </a:rPr>
              <a:t>і дуже лихий пан , але вельми  хороший слуга.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</a:t>
            </a:r>
            <a:r>
              <a:rPr b="0" lang="uk-UA" sz="2800" spc="-1" strike="noStrike">
                <a:solidFill>
                  <a:srgbClr val="999900"/>
                </a:solidFill>
                <a:latin typeface="Garamond"/>
              </a:rPr>
              <a:t>Френсіс Бекон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57400" y="2514600"/>
            <a:ext cx="5334120" cy="3255840"/>
            <a:chOff x="2057400" y="2514600"/>
            <a:chExt cx="5334120" cy="32558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057400" y="2514600"/>
              <a:ext cx="533412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2057400" y="2514600"/>
              <a:ext cx="5334120" cy="32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місія грошових знаків, тобто випуск грошей в обіг здійснює держава в особі Національного бан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сторія розвитку українських паперових грошей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 1917 р. Центральною Радою в Україні було запроваджено нову національну валюту – український карбованець -  це була купюра вартістю 100 кр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 1918 р. щоб запобігти фальшуванню, ввели нову грошову одиницю – гривню,яка дорівнювала ½ карбованця або 100 шага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прикінці квітня 1918 р. гетьман Павло Скоропадський відновив як основну грошову одиницю карбованець, що дорівнював 200 шаг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У грудні 1918 р. після переходу влади до рук Директорії знову відновили гривню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У 1991 р. зі здобуттям незалежності Україною, нашою національною валютою стала гривня. Це навіть зазначено в ст.. 99 Конституції Украї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УНКЦІЇ ГРОШ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іра варто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обіг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платеж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накопиче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вітові грош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Кредитні пластикові картки надають власнику можливість отримати кредит в банку, здійснювати покупки та оплачувати послуг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ебітові пластикові картки дають можливість використовувати ті гроші, які є у вас на рахунк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МІЖНАРОДНІ ГРОШІ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іжнародні гроші обслуговують міжнародні економічні відносини та забезпечують торгові зв’язки між країн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27348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038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ПІДСУМОК УРОК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БАРТЕР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ДОМАШНЄ ЗАВДАН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.Опрацювати параграф 6, виписати назви грошових одиниць зарубіжних краї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2. Пригадати твори українських і зарубіжних авторів, у яких розкривається проблема грош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УКРАЇНСЬКЕ ПРИСЛІВ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`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0" b="35"/>
          <a:stretch/>
        </p:blipFill>
        <p:spPr>
          <a:xfrm>
            <a:off x="457200" y="3941640"/>
            <a:ext cx="4038480" cy="192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« Міняю шило на мило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УРИВОК ІЗ ГОМЕРОВОЇ ІЛЛІАД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Решту п’янкого  в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ишно прибрані діти ахейці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се купували; платив хто залізом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сяйною міддю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ж і бичачими шкурам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і самими бикам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Або рабами – людь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ІНАНСОВИЙ СЛОВНИК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арте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прямий, не опосередкований грошима обмін товарами або послуга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В Ісландії  до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V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 ст. грошима була риба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В Індії  до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XX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 ст. -  жемчуг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В Нікарагуа до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І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 ст.   - мішечки з бобами какао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3-01-04T22:09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1000000000001024140</vt:lpwstr>
  </property>
  <property fmtid="{D5CDD505-2E9C-101B-9397-08002B2CF9AE}" pid="3" name="Version">
    <vt:r8>1</vt:r8>
  </property>
</Properties>
</file>