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69C-6FAF-4F2E-9B86-A713FB39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0D2-9FFC-47D1-BDB5-2D3EE527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2BF-AF84-4C62-A5DC-7FA5C24A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C75-10F2-4399-BEE3-643908A1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6AF-F6FA-4747-B967-996C3619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AA0-332B-419F-980C-61836FB7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A3F-90AC-47FA-ADB0-4FBEE76D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E21-E221-4099-BC1B-A20886E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762-6B4D-4AF6-8CF6-42663766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0C9-9AF5-41C7-B793-23019B9C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D3C-E27B-480F-ADDD-8405DE59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DB0-4797-45CB-9D3C-2E58152B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AE7A-FA4C-46CC-8479-4373573C3D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309767142_12621660154b3b0c7f653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-212760" y="1255680"/>
            <a:ext cx="5272200" cy="3206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4"/>
          <p:cNvSpPr/>
          <p:nvPr/>
        </p:nvSpPr>
        <p:spPr>
          <a:xfrm>
            <a:off x="609480" y="228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inherit"/>
                <a:ea typeface="Arial"/>
              </a:rPr>
              <a:t>Податок на додану вартість: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143000"/>
          <a:ext cx="8381880" cy="1951200"/>
        </p:xfrm>
        <a:graphic>
          <a:graphicData uri="http://schemas.openxmlformats.org/drawingml/2006/table">
            <a:tbl>
              <a:tblPr/>
              <a:tblGrid>
                <a:gridCol w="6875640"/>
                <a:gridCol w="15062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з 1 січня 2011 року до 31 грудня 2013 року включно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20%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</a:tr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з 1 січня 2014 року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17%.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</a:tbl>
          </a:graphicData>
        </a:graphic>
      </p:graphicFrame>
      <p:pic>
        <p:nvPicPr>
          <p:cNvPr id="65" name="Прямоугольник 4" descr=""/>
          <p:cNvPicPr/>
          <p:nvPr/>
        </p:nvPicPr>
        <p:blipFill>
          <a:blip r:embed="rId1"/>
          <a:stretch/>
        </p:blipFill>
        <p:spPr>
          <a:xfrm>
            <a:off x="384120" y="3297240"/>
            <a:ext cx="845496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28600" y="711360"/>
          <a:ext cx="8763120" cy="5717880"/>
        </p:xfrm>
        <a:graphic>
          <a:graphicData uri="http://schemas.openxmlformats.org/drawingml/2006/table">
            <a:tbl>
              <a:tblPr/>
              <a:tblGrid>
                <a:gridCol w="7667640"/>
                <a:gridCol w="1095480"/>
              </a:tblGrid>
              <a:tr h="14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кщо загальний місячний оподатковуваний дохід платника податку не перевищує десятикратний розмір мінімальної заробітної плати, встановленої законом на 1 січня звітного податкового року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 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</a:tr>
              <a:tr h="16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Якщо загальний місячний оподатковуваний дохід платника податку перевищує десятикратний розмір мінімальної заробітної плати, встановленої законом на 1 січня звітного податкового року (застосовуєтья до суми перевищення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17% 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Процент на поточний або депозитний (вкладний) банківський рахуно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5%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Застосовується щодо доходів, нарахованих як виграш чи приз (крім державн</a:t>
                      </a:r>
                      <a:r>
                        <a:rPr b="0" lang="uk-UA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ої</a:t>
                      </a: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та недержавн</a:t>
                      </a:r>
                      <a:r>
                        <a:rPr b="0" lang="uk-UA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ої</a:t>
                      </a: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грошов</a:t>
                      </a:r>
                      <a:r>
                        <a:rPr b="0" lang="uk-UA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ої</a:t>
                      </a: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 лотереї</a:t>
                      </a:r>
                      <a:r>
                        <a:rPr b="0" lang="uk-UA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. </a:t>
                      </a:r>
                      <a:r>
                        <a:rPr b="1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30%</a:t>
                      </a: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 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10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Застосовується щодо заробітної плати шахтарів та інших працівників, зайнятих на підземних роботах з особливо шкідливими і особливо важкими умовами праці, зайнятість в яких повний робочий.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10%</a:t>
                      </a:r>
                      <a:r>
                        <a:rPr b="0" lang="ru-RU" sz="18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 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</a:tbl>
          </a:graphicData>
        </a:graphic>
      </p:graphicFrame>
      <p:sp>
        <p:nvSpPr>
          <p:cNvPr id="67" name="Прямоугольник 6"/>
          <p:cNvSpPr/>
          <p:nvPr/>
        </p:nvSpPr>
        <p:spPr>
          <a:xfrm>
            <a:off x="0" y="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аток на доходи фізичних осіб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1905120" y="3049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Єдиний податок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1143000"/>
          <a:ext cx="8534160" cy="5130720"/>
        </p:xfrm>
        <a:graphic>
          <a:graphicData uri="http://schemas.openxmlformats.org/drawingml/2006/table">
            <a:tbl>
              <a:tblPr/>
              <a:tblGrid>
                <a:gridCol w="1725480"/>
                <a:gridCol w="6808680"/>
              </a:tblGrid>
              <a:tr h="812880"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inherit"/>
                          <a:ea typeface="Times New Roman"/>
                        </a:rPr>
                        <a:t>Груп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inherit"/>
                          <a:ea typeface="Times New Roman"/>
                        </a:rPr>
                        <a:t>Ставка ЄП: фіксован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inherit"/>
                          <a:ea typeface="Times New Roman"/>
                        </a:rPr>
                        <a:t>( % до мінімальної зарплати (МЗП)станом на 1 січня) або % до доходу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</a:tr>
              <a:tr h="812880"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1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(фізособі -підприємці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1% — 10% від мінімальної зарпла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812880"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(фізособи -підприємці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2% — 20% від мінімальної зарпла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812880"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3 (фізособи -підприємці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а) 3% від доходу у разі сплати ПДВ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б) 5% від доходу  у разі включення ПДВ до складу єдиного податку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812880"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(юрособи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а) 3% від доходу у разі сплати ПДВ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б) 5% від доходу  у разі включення ПДВ до складу єдиного податку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812880"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5 (фізособи -підприємці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а) 7% від доходу у разі сплати ПДВ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б) 10% від доходу  у разі включення ПДВ до складу єдиного податку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812880"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(юрособи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152280" rIns="152280" tIns="106560" bIns="106560" anchor="t">
                      <a:noAutofit/>
                    </a:bodyPr>
                    <a:p>
                      <a:pPr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а) 7% від доходу у разі сплати ПДВ;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e3e5c"/>
                          </a:solidFill>
                          <a:latin typeface="inherit"/>
                          <a:ea typeface="Times New Roman"/>
                        </a:rPr>
                        <a:t>б) 10% від доходу  у разі включення ПДВ до складу єдиного податку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52280" marR="15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прями реформування податкової системи Україн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ниження фіскального тиску, а поряд з цим зниження ставок податку на прибуток підприємств і додану вартість призводить до стимулювання підприємницької та інвестиційної діяльності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атковий та бухгалтерський облік повинен взаємозалежати та доповнювати один одного, що надасть змогу ефективно вести свою діяльність та поряд з цим формувати звітніст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ращити ефективність нарахування та стягнення податкових платежів, а саме удосконалити процедуру взяття на облік,  забезпечити ефективну діяльність податкових органі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меншити податкове навантаження серед непрямих податків, підвищити роль місцевих податків у структурі доходів місцевих бюджетів, враховуючи особливості відповідно до територіального розподіл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икористовувати регулюючу функцію мита за допомогою ставок, які відповідатимуть вимогам СО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article"/>
          <p:cNvPicPr/>
          <p:nvPr/>
        </p:nvPicPr>
        <p:blipFill>
          <a:blip r:embed="rId1"/>
          <a:stretch/>
        </p:blipFill>
        <p:spPr>
          <a:xfrm rot="21227400">
            <a:off x="1247400" y="4987800"/>
            <a:ext cx="2444760" cy="150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66"/>
          <p:cNvPicPr/>
          <p:nvPr/>
        </p:nvPicPr>
        <p:blipFill>
          <a:blip r:embed="rId2"/>
          <a:stretch/>
        </p:blipFill>
        <p:spPr>
          <a:xfrm rot="322200">
            <a:off x="5333760" y="491184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2230560" y="1292400"/>
            <a:ext cx="474336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6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366696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212760" y="128520"/>
            <a:ext cx="5859360" cy="561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index.jpg"/>
          <p:cNvPicPr/>
          <p:nvPr/>
        </p:nvPicPr>
        <p:blipFill>
          <a:blip r:embed="rId1"/>
          <a:stretch/>
        </p:blipFill>
        <p:spPr>
          <a:xfrm>
            <a:off x="5943600" y="3962520"/>
            <a:ext cx="2868480" cy="27622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371520" y="285840"/>
            <a:ext cx="8772480" cy="55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7621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2d050"/>
                </a:solidFill>
                <a:latin typeface="Times New Roman"/>
              </a:rPr>
              <a:t>Податки як джерело доходів держави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685800" y="19810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2d050"/>
                </a:solidFill>
                <a:latin typeface="Times New Roman"/>
              </a:rPr>
              <a:t>Ти можеш і не помітити, що у тебе все йде добре, але податкова служба нагадає.</a:t>
            </a:r>
            <a:br>
              <a:rPr sz="2800"/>
            </a:br>
            <a:r>
              <a:rPr b="1" lang="uk-UA" sz="2800" spc="-1" strike="noStrike">
                <a:solidFill>
                  <a:srgbClr val="92d050"/>
                </a:solidFill>
                <a:latin typeface="Times New Roman"/>
              </a:rPr>
              <a:t>            П'єр Даніно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6" descr="PE01460_"/>
          <p:cNvPicPr/>
          <p:nvPr/>
        </p:nvPicPr>
        <p:blipFill>
          <a:blip r:embed="rId1"/>
          <a:stretch/>
        </p:blipFill>
        <p:spPr>
          <a:xfrm>
            <a:off x="5157720" y="2133720"/>
            <a:ext cx="2790720" cy="347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изначення терміна подат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smithcd"/>
          <p:cNvPicPr/>
          <p:nvPr/>
        </p:nvPicPr>
        <p:blipFill>
          <a:blip r:embed="rId1"/>
          <a:stretch/>
        </p:blipFill>
        <p:spPr>
          <a:xfrm rot="20940600">
            <a:off x="1296720" y="3914640"/>
            <a:ext cx="2162160" cy="2767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шим в історії людства поняття податку розкри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Адам Сміт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роботі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"</a:t>
            </a:r>
            <a:r>
              <a:rPr b="1" i="1" lang="ru-RU" sz="1800" spc="-1" strike="noStrike">
                <a:solidFill>
                  <a:srgbClr val="ffff99"/>
                </a:solidFill>
                <a:latin typeface="Times New Roman"/>
              </a:rPr>
              <a:t>Дослідження про природу і причини багатства народів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" (1776 р.)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кий написа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"</a:t>
            </a:r>
            <a:r>
              <a:rPr b="1" lang="ru-RU" sz="2000" spc="-1" strike="noStrike" u="sng">
                <a:solidFill>
                  <a:srgbClr val="ffff99"/>
                </a:solidFill>
                <a:uFillTx/>
                <a:latin typeface="Times New Roman"/>
              </a:rPr>
              <a:t>Податок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 тягар, який накладається державою у формі закону, що передбачає і його розмір, і порядок сплати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99"/>
                </a:solidFill>
                <a:uFillTx/>
                <a:latin typeface="Times New Roman"/>
              </a:rPr>
              <a:t>В наш час</a:t>
            </a:r>
            <a:r>
              <a:rPr b="0" lang="uk-UA" sz="1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податки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 фінансове підґрунтя існування держави, а з іншого боку, податки — це знаряддя перерозподілу доходів юридичних і фізичних осіб, найефективніший інструмент впливу держави на суспільне виробниц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9e6652c674b3c47929a80d8940dd104f"/>
          <p:cNvPicPr/>
          <p:nvPr/>
        </p:nvPicPr>
        <p:blipFill>
          <a:blip r:embed="rId2"/>
          <a:stretch/>
        </p:blipFill>
        <p:spPr>
          <a:xfrm rot="934800">
            <a:off x="6400800" y="411444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4" descr=""/>
          <p:cNvPicPr/>
          <p:nvPr/>
        </p:nvPicPr>
        <p:blipFill>
          <a:blip r:embed="rId1"/>
          <a:stretch/>
        </p:blipFill>
        <p:spPr>
          <a:xfrm>
            <a:off x="689040" y="212760"/>
            <a:ext cx="821700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истема оподаткуван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Суб'єкти оподаткуванн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це платники (фізичні чи юридичні особи), які безпосередньо сплачують подат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Об'єкт оподаткуванн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це доходи (прибуток), додана вартість продукції (робіт, послуг), вартість продукції (робіт, послуг), спеціальне використання природних ресурсів, майно юридичних і фізичних осіб, інші об'єкти, визначені законодавством про оподаткуван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pic183"/>
          <p:cNvPicPr/>
          <p:nvPr/>
        </p:nvPicPr>
        <p:blipFill>
          <a:blip r:embed="rId1"/>
          <a:stretch/>
        </p:blipFill>
        <p:spPr>
          <a:xfrm>
            <a:off x="6019920" y="10666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ertificate Multiprofile"/>
          <p:cNvPicPr/>
          <p:nvPr/>
        </p:nvPicPr>
        <p:blipFill>
          <a:blip r:embed="rId2"/>
          <a:stretch/>
        </p:blipFill>
        <p:spPr>
          <a:xfrm rot="672600">
            <a:off x="5283000" y="2738520"/>
            <a:ext cx="2666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774720" y="225360"/>
            <a:ext cx="7289640" cy="484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24" descr="J0237202"/>
          <p:cNvPicPr/>
          <p:nvPr/>
        </p:nvPicPr>
        <p:blipFill>
          <a:blip r:embed="rId2"/>
          <a:stretch/>
        </p:blipFill>
        <p:spPr>
          <a:xfrm>
            <a:off x="5715000" y="3429000"/>
            <a:ext cx="2736720" cy="26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1676520"/>
          <a:ext cx="7848360" cy="4765680"/>
        </p:xfrm>
        <a:graphic>
          <a:graphicData uri="http://schemas.openxmlformats.org/drawingml/2006/table">
            <a:tbl>
              <a:tblPr/>
              <a:tblGrid>
                <a:gridCol w="6781680"/>
                <a:gridCol w="106668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з 1 квітня 2011 року по 31 грудня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2011 року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23%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97b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з 1 січня 2012 року по 31 грудня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2012 року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21%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з 1 січня 2013 року по 31 грудня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2013 року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19%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з 1 січня 2014 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inherit"/>
                          <a:ea typeface="Times New Roman"/>
                        </a:rPr>
                        <a:t>16%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d7"/>
                    </a:solidFill>
                  </a:tcPr>
                </a:tc>
              </a:tr>
            </a:tbl>
          </a:graphicData>
        </a:graphic>
      </p:graphicFrame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1279440" y="-146160"/>
            <a:ext cx="6608880" cy="201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2</dc:creator>
  <dc:description/>
  <dc:language>en-US</dc:language>
  <cp:lastModifiedBy>FOX</cp:lastModifiedBy>
  <dcterms:modified xsi:type="dcterms:W3CDTF">2013-03-16T05:48:57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12000000000001024140</vt:lpwstr>
  </property>
  <property fmtid="{D5CDD505-2E9C-101B-9397-08002B2CF9AE}" pid="3" name="Version">
    <vt:r8>1</vt:r8>
  </property>
</Properties>
</file>