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2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8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4D5-A074-4345-AA3A-7630F048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36C-624B-4DA9-A92B-EA97110B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36BB3-0BFB-4A92-A6C4-8997CDAC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E3921-1A3C-4198-AE3F-4522EBDC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DEACD-58DA-4A7A-B8E6-D7120786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7F55F-65E6-4C18-BBE9-8FD91B6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44CA6-E22D-4B71-97E6-FCE791EE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9165F-41CF-45D5-BAA3-BA3BC75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4F8A4-8819-44C2-92D7-B3BD2465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FA9C5-E0A6-4C6C-B1B9-80ED63F8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91A53-2B6B-4BC8-A60F-37562AF4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14280-0DD7-4902-83DB-D85D8575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1A8-DE25-4F8C-AA27-A05D1727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20F61-51DB-4FE0-8EF0-A58EFB0D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D034A-CAFB-49B3-9A95-606DCF89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A0C9D-34FE-44C3-93EA-B909A6EB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962AB-E561-4B45-B3EC-9C97EC26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7EF10-7D51-47A0-B9B3-5E8437F4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BB893-ECEE-4A2D-8383-64A5F246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F810D-0768-4EF9-9597-E8E0C2D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E922F-CD4F-4034-9D2E-3E6102DD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4BF29-556D-40D9-ABA6-101A393F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21318-193C-49BC-BD69-D6D0EFB9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6AD-005C-487C-B431-BAB51523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BE1E7-6BF4-446F-95A9-3B7AF845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B22CB-43FD-4423-BF59-17F3AA1A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ADAC0-700E-43B5-A629-93F5818E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74BE6-A039-44BD-9EF8-264DF863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57816-394D-4152-8041-3F01F8A3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36BA1-6E40-4A63-85D5-4AB1F380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D3696-0E1D-49D5-B4AB-4C016CBD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51A0E-791F-4808-9E56-58E42578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7111E-1C47-46F5-AD96-FF5466E4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27D05-13FA-4E2C-BC9A-9FB10D87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C478-C755-4D4D-B1DA-8678450B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17DD2-5A22-4CFA-AC1C-75E25D48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629D4-C923-47E4-BD11-F851EEE6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43403-BFB0-4034-BEAC-766B888D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0E56B-C8B1-47CA-B4AA-B9A6910E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637A6-0AA1-4363-BB41-92C3A7AB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7A2AF-A707-411F-A442-ECC19D87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6FE4E-0AAD-473E-A284-E3042546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08865-69BF-4D1E-AB84-884BAF53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52683-A229-4C37-9C2D-8169C57A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B9A14-B2ED-4888-8E9B-06A5568B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8A50-7871-4EB9-89FE-FEC3D695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CF941-EFF0-4264-A9D5-BF03A999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93421-818A-494B-A12F-A449A711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AD3EF-73CC-4290-854F-2CD46EF0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30604-EE50-47A9-AB43-5793F62A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32FFA-13D9-48D5-9B2C-960C8BD9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62A0D-326C-412E-8F72-D97AB6C3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FEB3E-3FAD-4B7A-86CC-B8D6994E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7A4B8-5C67-45F8-9946-C6468010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6227E-4EA1-45E5-9E33-1DFAD3AD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70A29-6EE5-49DD-AC10-4D75CCDF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9F1B-9207-4553-8C9F-3E14DC2E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4FE9F-1C79-4ED3-A397-523843E0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C795B-7693-4352-B24C-141198D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0BD6E-023A-4A58-AFDC-46641A45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E1408-D743-434D-A3CA-B1691410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52425-92FD-4459-94DC-E9F155E7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3A56E-CF8D-49B3-973B-B52DE412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88AA7-8D14-46A0-A1F1-4B47DA02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7FCC3-06C0-48AA-BB3A-1313AB9C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B2B77-DEFD-45FF-9164-6F1D08CF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1DFC2-1547-4EC2-BA44-83A05963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197D-83FD-4D8D-AA00-59AC455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9201C-29C6-4CE6-ADC0-27111D7D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2652E-009B-48F9-AEE3-C30BDEB3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860AA-FF12-4ED5-8728-313CF30F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CF4D1-CC54-4E76-ABFE-96FFA314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AD91A-E3DF-4DBF-A02E-299446CC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3FBDF-0A86-4EEE-BCC1-691B72BF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42A9B-73D0-466B-A544-92950356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12FC3-9C0B-4362-84AE-A0E2C423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B8CCD-B3B0-4156-9B94-25CC0372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220AF-945F-4E77-AC4B-AD955FBB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D515-FCEE-4B38-B8D4-53DAE7F3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86085-B8FA-435E-88D3-D70EA4D3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EF76F-EE30-4662-97DA-3F30A915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EBBBC-09E6-4A33-B56D-38A8506B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266AC-D631-4278-9E50-2FD54856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399E1-7708-4498-8813-B5E39EF4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48C1F7-F967-41A4-874A-1FBBBD68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33C2F-92F6-4BB5-871F-63B5791B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A8BAC-81C5-4747-898A-D5F7A4CD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D4854-744A-4CF7-89B3-F9AD86A8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5A5D9-2B7D-4D72-86CC-1848812E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6381-8891-4197-9851-61632719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8CB2F5-136D-4186-8256-B135C77E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1B4EEE-8E3F-418F-9FD7-6D0AEFA0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A9EEC-A071-4D7E-B833-F47A96B6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54F72-D156-477F-9DE1-2AF20367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90F47-0ED5-48ED-A511-2AC34C39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F949F-2AE4-4B1B-BC3C-D668C8E2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AAA6E-088F-4555-824B-7BA1134E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83976-E817-4FBA-ACB8-F9B1E53E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C0A78-1A1E-4232-A9B9-532643B8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FEF77-B96A-4066-AC87-EE321475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EE2D-B0B8-4F59-B297-9B7828CE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34A45-A473-48A7-8ADE-52B801B6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59358-B832-49E5-B623-1C380E2D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9DF71-53DB-4950-A0BF-9A68EEFF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34F-0ED2-4A57-8F66-D943F031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CFF2-4578-480B-8919-C6E02F3D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6B82-C74B-494F-9685-676AA821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4D56-2709-4745-B879-EC6204FF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96F7-C634-49D2-BEE4-6FBBECE8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D088-0FD0-4122-BBC6-8CA9F0F1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E48C-65B0-4912-BF30-0D40F1FE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A5C4-8930-47D4-A9F7-652C814D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63A4-8297-47E6-B743-05FD11E4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CE91-B97C-4D5A-9A56-F101297F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2274-64E2-4E0A-8126-AE1866B8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BE1-7418-4360-9E1B-133D65C9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5AB5F-8F33-4C8B-9D4A-D0B109F2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FE04-AE9A-4519-BA0F-2FB097DF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D1ED-B1DF-44E9-BA8C-3BD78FE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A4B8-DB5B-40DF-84C3-6E6ED50B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CA66-5AD9-499F-9D04-5267374B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FAC32-550C-4C3B-BD6D-6DC3CB10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B60A-8394-4501-86EF-C0C2FCC5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9AD0-50F4-4A26-8138-D9FD85B9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B64A-B1D8-4CB1-A021-D9A8886F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5111-AF79-48F3-BAC4-BDBF14AC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936-B14E-4A13-9EE5-517C404D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73E5-E4F4-4F46-921D-965ECFF5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19C52-46A1-4B6B-8CA6-9ED9E824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9CC4-8238-49F3-B6DD-DA489733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3E81-61BA-4300-B6C6-F080595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0BFA-924B-4533-A805-1F8A29FD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9231E-E535-4647-8822-2820EDF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D9494-1E2F-4024-AFC1-C984E267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C9DD2-63F6-4D36-A601-E618A6B2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77C51-D029-4400-A6FD-2F296FAE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69CA1-9A42-4878-A0E9-B35C8E50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872-84A5-4E2C-A94A-219AF9C9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DEA5C-7964-4B86-B045-A8D05963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4A400-8D5F-426F-A814-6732CA22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FD812-397A-4416-B173-76178B0C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B310B-67D3-405F-AA6C-DEE58A76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F597A-EA59-4F8B-95C4-2B0E6718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BE3BA-2D1E-41B5-AB11-D6AFE82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64782-8178-4F61-8055-E16E30B3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8F22B-8075-4AD1-A9EE-99720DD9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31015-37FD-4C35-909E-DB1319A8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A0808-3A33-4CE8-9BA4-09A323BB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E55-3E81-4E16-94B2-944BB654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55352-7172-43C8-8C80-B9038238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743B7-F42A-4E1F-A68E-CB425558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1F1D5-8C15-41D7-8941-10FB0114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C9E9C-BB1A-4F85-8D47-E3FCA263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7A02B-3C9A-4264-A611-C796ABA4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E94E5-E2C2-42E2-B4FA-D1A1CF4D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55FAA-FC83-4E5C-95CF-7736A699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E098-B3C3-45CA-81B0-4D5D7FB3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39BCF-B9CC-4CBF-BFBF-EAD7D67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5A2A7-6923-418C-8EC3-B111373D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98E-01B2-4514-B72D-3FEFBB0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88400-234B-4005-9137-6744345C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2E0DC-3F62-4665-B241-ECE1767F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46F2-25E3-4BD8-82D5-6214BBE9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DCBA-60AD-418A-94C3-4530F278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70D9C-B081-4A1B-AB5B-F70C5343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267DC-999E-444B-AAD9-13A7D10F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C903B-5E62-4B71-8A36-59ADCDE5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6F08C-0447-449E-8E7C-10F2A7A0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CAEFB-B8C8-4AF0-8CF6-86BFF345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1D029-39AB-4C97-9567-9926EFC0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197-382C-445F-BBA2-B7CABADA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AD4D6-4B71-450F-920A-42143955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54970-A8AF-4E15-BE8C-6AACAD8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CD315-846B-460F-B229-5CD695D6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8B296-0F9C-46FA-8609-814D2F8C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C20D9-8907-4605-8829-ED97D254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60FFA-E582-4E3B-9C93-D14F246F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5EAE8-8D4E-46A7-8DB9-66D96342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1B494-89CE-49CA-A059-4EF60ABE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E8DB1-26A5-4553-B65E-DDFA35D0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8DC2F-1E7E-4C4B-A655-5217AB58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6A7-CC92-4A89-9821-EA178600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95705-321B-455C-ADCE-8DA55FF7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860EE-4A37-488E-B083-52B2A091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5A158-A34A-4466-9B0B-1C51914B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A176F-7778-4F5C-B315-7385221C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9507C-1732-4ED8-A5A5-326C39AE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0BDDB-18F5-4769-84AD-DADD02B4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4015B-9896-4225-A88F-2FF42FC7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27140-F085-46A2-8E36-9CDBA82E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FC61A-D14D-454E-8120-F24F5BA8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0B3BE-B357-4E87-8E92-5CF01C58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69.xml"/><Relationship Id="rId35" Type="http://schemas.openxmlformats.org/officeDocument/2006/relationships/slideLayout" Target="../slideLayouts/slideLayout170.xml"/><Relationship Id="rId36" Type="http://schemas.openxmlformats.org/officeDocument/2006/relationships/slideLayout" Target="../slideLayouts/slideLayout171.xml"/><Relationship Id="rId37" Type="http://schemas.openxmlformats.org/officeDocument/2006/relationships/slideLayout" Target="../slideLayouts/slideLayout172.xml"/><Relationship Id="rId38" Type="http://schemas.openxmlformats.org/officeDocument/2006/relationships/slideLayout" Target="../slideLayouts/slideLayout173.xml"/><Relationship Id="rId39" Type="http://schemas.openxmlformats.org/officeDocument/2006/relationships/slideLayout" Target="../slideLayouts/slideLayout174.xml"/><Relationship Id="rId40" Type="http://schemas.openxmlformats.org/officeDocument/2006/relationships/slideLayout" Target="../slideLayouts/slideLayout175.xml"/><Relationship Id="rId41" Type="http://schemas.openxmlformats.org/officeDocument/2006/relationships/slideLayout" Target="../slideLayouts/slideLayout176.xml"/><Relationship Id="rId42" Type="http://schemas.openxmlformats.org/officeDocument/2006/relationships/slideLayout" Target="../slideLayouts/slideLayout177.xml"/><Relationship Id="rId43" Type="http://schemas.openxmlformats.org/officeDocument/2006/relationships/slideLayout" Target="../slideLayouts/slideLayout178.xml"/><Relationship Id="rId44" Type="http://schemas.openxmlformats.org/officeDocument/2006/relationships/slideLayout" Target="../slideLayouts/slideLayout179.xml"/><Relationship Id="rId4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8948-BFAF-4DA8-AF04-E7033B279B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3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C2FE-2999-4CEB-8B0B-E91423482E1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09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10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1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2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3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4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5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6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17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8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9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23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724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5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6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728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9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0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31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732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3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4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35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736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7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8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39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740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1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2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43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4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5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6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7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8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9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D674-1B13-452C-9668-129253DD4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9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8B02-B2EA-4D04-86D8-683391652C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5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5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3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1D5C-3692-4D06-9D60-D0A6C9C812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0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6CF2-8180-45CC-903C-C3F4FF1D646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5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6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6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6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6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66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67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968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69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0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1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2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3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97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8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8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0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3BDA-6EF7-4771-87B7-555B0F455B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4"/>
    <p:sldLayoutId id="2147483832" r:id="rId35"/>
    <p:sldLayoutId id="2147483833" r:id="rId36"/>
    <p:sldLayoutId id="2147483834" r:id="rId37"/>
    <p:sldLayoutId id="2147483835" r:id="rId38"/>
    <p:sldLayoutId id="2147483836" r:id="rId39"/>
    <p:sldLayoutId id="2147483837" r:id="rId40"/>
    <p:sldLayoutId id="2147483838" r:id="rId41"/>
    <p:sldLayoutId id="2147483839" r:id="rId42"/>
    <p:sldLayoutId id="2147483840" r:id="rId43"/>
    <p:sldLayoutId id="2147483841" r:id="rId44"/>
    <p:sldLayoutId id="2147483842" r:id="rId4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05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E5BA-A455-4D5F-94D3-0472BA939B2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2114-A4BF-4BEF-A734-2FE9FB905B7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57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8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9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3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64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9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70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1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2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3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74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78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82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AD06-7A8F-4DA7-A94B-79A087875B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4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9AC2-4B4C-49B6-AA24-65A64D4334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5370-FC75-4B24-A6B8-EAF3CD8A0B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0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0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0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5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0CD8-09A0-4395-BC5E-43BDE6B3E05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0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1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1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1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1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1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41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42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3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5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5322-D4BB-46AF-93FE-5D343D1BDF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BD9B-1FB2-41E0-9906-A180D3844F0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5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6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6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5BD6-DB45-45C4-A0FD-01E65C20DE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WordArt 6"/>
          <p:cNvSpPr txBox="1"/>
          <p:nvPr/>
        </p:nvSpPr>
        <p:spPr>
          <a:xfrm>
            <a:off x="304920" y="685800"/>
            <a:ext cx="72388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даткова система С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04" name="Picture 7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4876920" cy="341928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0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33530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510552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99"/>
                </a:solidFill>
                <a:latin typeface="Arial"/>
              </a:rPr>
              <a:t>Існують також і податки на бейгли, популярну нью-йоркську випічку. Два роки тому влада штату Нью-Йорк розпочала стягувати податок на цей кулінарний виріб, з одним застереженням: гроші сплачуються тільки в тому випадку, якщо бублик порізаний або незвичним способом приготований. Якщо він залишається недоторканим, зберігаючи свою споконвічну круглу форму, податок не стягується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52" name="Picture 5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733920" cy="271944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6" descr=""/>
          <p:cNvPicPr/>
          <p:nvPr/>
        </p:nvPicPr>
        <p:blipFill>
          <a:blip r:embed="rId2"/>
          <a:stretch/>
        </p:blipFill>
        <p:spPr>
          <a:xfrm>
            <a:off x="5334120" y="43812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У цілому податкова система США є мало прогресивно</a:t>
            </a:r>
            <a:r>
              <a:rPr b="1" i="1" lang="uk-UA" sz="3200" spc="-1" strike="noStrike">
                <a:solidFill>
                  <a:srgbClr val="0066ff"/>
                </a:solidFill>
                <a:latin typeface="Arial"/>
              </a:rPr>
              <a:t>ю </a:t>
            </a: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і не відіграє суттєвої ролі в перерозподілі доходів. У країнах з переважанням соціально-орієнтованої моделі, таких, як Німеччина, Швеція та інші, податкові ставки в цілому вище і держава відіграє більш активну роль у розподілі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ff"/>
                </a:solidFill>
                <a:latin typeface="Arial"/>
              </a:rPr>
              <a:t>доходів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uk-UA" sz="2800" spc="-1" strike="noStrike">
                <a:solidFill>
                  <a:srgbClr val="9900ff"/>
                </a:solidFill>
                <a:latin typeface="Arial"/>
              </a:rPr>
              <a:t>“</a:t>
            </a:r>
            <a:r>
              <a:rPr b="0" i="1" lang="uk-UA" sz="2800" spc="-1" strike="noStrike">
                <a:solidFill>
                  <a:srgbClr val="9900ff"/>
                </a:solidFill>
                <a:latin typeface="Arial"/>
              </a:rPr>
              <a:t>В світі немає нічого неминучого, крім смерті та податків.”</a:t>
            </a:r>
            <a:br>
              <a:rPr sz="2800"/>
            </a:br>
            <a:br>
              <a:rPr sz="2800"/>
            </a:br>
            <a:r>
              <a:rPr b="0" i="1" lang="uk-UA" sz="2800" spc="-1" strike="noStrike">
                <a:solidFill>
                  <a:srgbClr val="9900ff"/>
                </a:solidFill>
                <a:latin typeface="Arial"/>
              </a:rPr>
              <a:t>Бенджамін Франклін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07" name="Picture 7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417840" cy="42670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8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49528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905120" y="1981080"/>
            <a:ext cx="443376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Verdana"/>
              </a:rPr>
              <a:t>Податкова система США виходить з основи свого устрою зі спільного економічного принципа лібералізації, суть якого заключається в максимально можливому використанні об’єктивно діючих ринкових регуляторів економічного розвитку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111" name="Object 13" descr="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5" descr=""/>
          <p:cNvPicPr/>
          <p:nvPr/>
        </p:nvPicPr>
        <p:blipFill>
          <a:blip r:embed="rId3"/>
          <a:stretch/>
        </p:blipFill>
        <p:spPr>
          <a:xfrm>
            <a:off x="5791320" y="4767120"/>
            <a:ext cx="3352680" cy="2090880"/>
          </a:xfrm>
          <a:prstGeom prst="rect">
            <a:avLst/>
          </a:prstGeom>
          <a:ln w="0">
            <a:noFill/>
          </a:ln>
        </p:spPr>
      </p:pic>
      <p:pic>
        <p:nvPicPr>
          <p:cNvPr id="1113" name="Object 18" descr=""/>
          <p:cNvPicPr/>
          <p:nvPr/>
        </p:nvPicPr>
        <p:blipFill>
          <a:blip r:embed="rId4"/>
          <a:stretch/>
        </p:blipFill>
        <p:spPr>
          <a:xfrm>
            <a:off x="0" y="0"/>
            <a:ext cx="2647800" cy="17240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20" descr=""/>
          <p:cNvPicPr/>
          <p:nvPr/>
        </p:nvPicPr>
        <p:blipFill>
          <a:blip r:embed="rId5"/>
          <a:stretch/>
        </p:blipFill>
        <p:spPr>
          <a:xfrm>
            <a:off x="0" y="4981680"/>
            <a:ext cx="281952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4"/>
          <p:cNvSpPr/>
          <p:nvPr/>
        </p:nvSpPr>
        <p:spPr>
          <a:xfrm>
            <a:off x="1828800" y="533520"/>
            <a:ext cx="5562720" cy="1676160"/>
          </a:xfrm>
          <a:prstGeom prst="roundRect">
            <a:avLst>
              <a:gd name="adj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AutoShape 6"/>
          <p:cNvSpPr/>
          <p:nvPr/>
        </p:nvSpPr>
        <p:spPr>
          <a:xfrm>
            <a:off x="76320" y="2819520"/>
            <a:ext cx="2666880" cy="2895480"/>
          </a:xfrm>
          <a:prstGeom prst="octagon">
            <a:avLst>
              <a:gd name="adj" fmla="val 2928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AutoShape 8"/>
          <p:cNvSpPr/>
          <p:nvPr/>
        </p:nvSpPr>
        <p:spPr>
          <a:xfrm>
            <a:off x="3276720" y="2666880"/>
            <a:ext cx="2666880" cy="2971800"/>
          </a:xfrm>
          <a:prstGeom prst="octagon">
            <a:avLst>
              <a:gd name="adj" fmla="val 2928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8" name="AutoShape 10"/>
          <p:cNvSpPr/>
          <p:nvPr/>
        </p:nvSpPr>
        <p:spPr>
          <a:xfrm>
            <a:off x="6172200" y="2743200"/>
            <a:ext cx="2819520" cy="2971800"/>
          </a:xfrm>
          <a:prstGeom prst="octagon">
            <a:avLst>
              <a:gd name="adj" fmla="val 2928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980720" y="762120"/>
            <a:ext cx="525780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даткова система США складається з трьох рівнів, що відповідає трь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вням влад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0" name="Rectangle 16"/>
          <p:cNvSpPr/>
          <p:nvPr/>
        </p:nvSpPr>
        <p:spPr>
          <a:xfrm>
            <a:off x="0" y="2971800"/>
            <a:ext cx="2743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ерхній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де збираються федеральні податки, що надходять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едеральний бюдж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1" name="Rectangle 17"/>
          <p:cNvSpPr/>
          <p:nvPr/>
        </p:nvSpPr>
        <p:spPr>
          <a:xfrm>
            <a:off x="3200400" y="2895480"/>
            <a:ext cx="2743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ередній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де збираються податки і збори, що вводяться законами штатів, що надходять до бюджетів штаті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2" name="Rectangle 19"/>
          <p:cNvSpPr/>
          <p:nvPr/>
        </p:nvSpPr>
        <p:spPr>
          <a:xfrm>
            <a:off x="6172200" y="2895480"/>
            <a:ext cx="28195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ижній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де збираються податки, що надходить до місцевих бюджеті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66ff"/>
                </a:solidFill>
                <a:latin typeface="Arial"/>
              </a:rPr>
              <a:t>Бюджетний механізм США</a:t>
            </a:r>
            <a:br>
              <a:rPr sz="4000"/>
            </a:br>
            <a:r>
              <a:rPr b="0" lang="uk-UA" sz="3200" spc="-1" strike="noStrike">
                <a:solidFill>
                  <a:srgbClr val="3366ff"/>
                </a:solidFill>
                <a:latin typeface="Arial"/>
              </a:rPr>
              <a:t>є федеративним і складається з 3 рівнів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4" name="AutoShape 4"/>
          <p:cNvSpPr/>
          <p:nvPr/>
        </p:nvSpPr>
        <p:spPr>
          <a:xfrm>
            <a:off x="914400" y="2133720"/>
            <a:ext cx="2971800" cy="144756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5" name="AutoShape 5"/>
          <p:cNvSpPr/>
          <p:nvPr/>
        </p:nvSpPr>
        <p:spPr>
          <a:xfrm>
            <a:off x="3352680" y="3733920"/>
            <a:ext cx="2895840" cy="160020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AutoShape 6"/>
          <p:cNvSpPr/>
          <p:nvPr/>
        </p:nvSpPr>
        <p:spPr>
          <a:xfrm>
            <a:off x="6324480" y="5029200"/>
            <a:ext cx="2667240" cy="160020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7" name="Rectangle 9"/>
          <p:cNvSpPr/>
          <p:nvPr/>
        </p:nvSpPr>
        <p:spPr>
          <a:xfrm>
            <a:off x="1371600" y="2286000"/>
            <a:ext cx="2362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ffff"/>
                </a:solidFill>
                <a:latin typeface="Arial"/>
              </a:rPr>
              <a:t>Федеральний бюдж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8" name="Rectangle 10"/>
          <p:cNvSpPr/>
          <p:nvPr/>
        </p:nvSpPr>
        <p:spPr>
          <a:xfrm>
            <a:off x="3733920" y="3962520"/>
            <a:ext cx="2133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ffff"/>
                </a:solidFill>
                <a:latin typeface="Arial"/>
              </a:rPr>
              <a:t>Бюджет штаті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9" name="Rectangle 12"/>
          <p:cNvSpPr/>
          <p:nvPr/>
        </p:nvSpPr>
        <p:spPr>
          <a:xfrm>
            <a:off x="6400800" y="5181480"/>
            <a:ext cx="2438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ffff"/>
                </a:solidFill>
                <a:latin typeface="Arial"/>
              </a:rPr>
              <a:t>Бюджет місцевих органів самоврядуванн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AutoShape 13"/>
          <p:cNvSpPr/>
          <p:nvPr/>
        </p:nvSpPr>
        <p:spPr>
          <a:xfrm>
            <a:off x="152280" y="1828800"/>
            <a:ext cx="914400" cy="8380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AutoShape 15"/>
          <p:cNvSpPr/>
          <p:nvPr/>
        </p:nvSpPr>
        <p:spPr>
          <a:xfrm>
            <a:off x="2438280" y="3429000"/>
            <a:ext cx="914400" cy="8380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2" name="AutoShape 16"/>
          <p:cNvSpPr/>
          <p:nvPr/>
        </p:nvSpPr>
        <p:spPr>
          <a:xfrm>
            <a:off x="4572000" y="5029200"/>
            <a:ext cx="1447920" cy="9907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3" name="Picture 17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2376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58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ff"/>
                </a:solidFill>
                <a:latin typeface="Times New Roman"/>
              </a:rPr>
              <a:t>Для сучасної податкової системи США характерна така риса, як паралельне використання основних видів податків федеральним урядом, урядами штатів, а також місцевими органами влади. В результаті чого населення держави сплачує два види майнові податку, три види прибуткового податку і два види універсального акцизу. Найбільш вагомими в сучасній податковій системі на федеральному рівні є особисті прибуткові податки, на рівні штатів - універсальний і спеціальний акцизи, а на місцевих рівнях - майнові податок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ffff"/>
                </a:solidFill>
                <a:latin typeface="Times New Roman"/>
              </a:rPr>
              <a:t>Найдивніші податки США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136" name="Picture 5" descr=""/>
          <p:cNvPicPr/>
          <p:nvPr/>
        </p:nvPicPr>
        <p:blipFill>
          <a:blip r:embed="rId1"/>
          <a:stretch/>
        </p:blipFill>
        <p:spPr>
          <a:xfrm rot="20416800">
            <a:off x="347760" y="370152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6" descr=""/>
          <p:cNvPicPr/>
          <p:nvPr/>
        </p:nvPicPr>
        <p:blipFill>
          <a:blip r:embed="rId2"/>
          <a:stretch/>
        </p:blipFill>
        <p:spPr>
          <a:xfrm rot="1077000">
            <a:off x="6171840" y="4343400"/>
            <a:ext cx="2666880" cy="21351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7" descr=""/>
          <p:cNvPicPr/>
          <p:nvPr/>
        </p:nvPicPr>
        <p:blipFill>
          <a:blip r:embed="rId3"/>
          <a:stretch/>
        </p:blipFill>
        <p:spPr>
          <a:xfrm>
            <a:off x="3352680" y="2819520"/>
            <a:ext cx="24037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038480" cy="635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американському штаті Канзас є податок на польоти на повітряній кулі. При цьому використання прив'язних аеростатів обкладається податком як розвага. А кулі, що перебувають у вільному польоті, «вважаються легітимною формою подорожі по повітрю» і тому не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оподатковуються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0" name="Picture 5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496040" cy="33670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6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4419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AutoShape 4"/>
          <p:cNvSpPr/>
          <p:nvPr/>
        </p:nvSpPr>
        <p:spPr>
          <a:xfrm>
            <a:off x="152280" y="0"/>
            <a:ext cx="3505320" cy="3276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3" name="AutoShape 5"/>
          <p:cNvSpPr/>
          <p:nvPr/>
        </p:nvSpPr>
        <p:spPr>
          <a:xfrm>
            <a:off x="2743200" y="3276720"/>
            <a:ext cx="3276720" cy="29718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AutoShape 6"/>
          <p:cNvSpPr/>
          <p:nvPr/>
        </p:nvSpPr>
        <p:spPr>
          <a:xfrm>
            <a:off x="5638680" y="304920"/>
            <a:ext cx="3810240" cy="35049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2209680" cy="216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aramond"/>
              </a:rPr>
              <a:t>Податки на гральні карти існують у штаті Алабама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6" name="Rectangle 8"/>
          <p:cNvSpPr/>
          <p:nvPr/>
        </p:nvSpPr>
        <p:spPr>
          <a:xfrm>
            <a:off x="3352680" y="3809880"/>
            <a:ext cx="1981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Чорницю оподатковують в штаті Ме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7" name="Rectangle 9"/>
          <p:cNvSpPr/>
          <p:nvPr/>
        </p:nvSpPr>
        <p:spPr>
          <a:xfrm>
            <a:off x="6172200" y="1143000"/>
            <a:ext cx="2590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aramond"/>
              </a:rPr>
              <a:t>За татуювання пересічному американцю доведеться заплатити в Арканзасі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8" name="Picture 10" descr=""/>
          <p:cNvPicPr/>
          <p:nvPr/>
        </p:nvPicPr>
        <p:blipFill>
          <a:blip r:embed="rId1"/>
          <a:stretch/>
        </p:blipFill>
        <p:spPr>
          <a:xfrm>
            <a:off x="152280" y="4724280"/>
            <a:ext cx="2667240" cy="200052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1" descr=""/>
          <p:cNvPicPr/>
          <p:nvPr/>
        </p:nvPicPr>
        <p:blipFill>
          <a:blip r:embed="rId2"/>
          <a:stretch/>
        </p:blipFill>
        <p:spPr>
          <a:xfrm>
            <a:off x="5943600" y="4741920"/>
            <a:ext cx="3009960" cy="17733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2" descr=""/>
          <p:cNvPicPr/>
          <p:nvPr/>
        </p:nvPicPr>
        <p:blipFill>
          <a:blip r:embed="rId3"/>
          <a:stretch/>
        </p:blipFill>
        <p:spPr>
          <a:xfrm>
            <a:off x="3581280" y="304920"/>
            <a:ext cx="21909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2:50:37Z</dcterms:created>
  <dc:creator>user</dc:creator>
  <dc:description/>
  <dc:language>en-US</dc:language>
  <cp:lastModifiedBy>FOX</cp:lastModifiedBy>
  <dcterms:modified xsi:type="dcterms:W3CDTF">2013-03-16T05:51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5000000000001024140</vt:lpwstr>
  </property>
  <property fmtid="{D5CDD505-2E9C-101B-9397-08002B2CF9AE}" pid="3" name="Version">
    <vt:r8>1</vt:r8>
  </property>
</Properties>
</file>