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4.jpeg" ContentType="image/jpeg"/>
  <Override PartName="/ppt/media/image3.jpeg" ContentType="image/jpeg"/>
  <Override PartName="/ppt/media/image2.jpeg" ContentType="image/jpeg"/>
  <Override PartName="/ppt/media/image8.png" ContentType="image/png"/>
  <Override PartName="/ppt/media/image1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8ABC-C0F5-4C5D-898F-ABEB1444F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7CF6-27B2-400C-846B-5ED0784BD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7A01-2630-4229-B578-235D47DD9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3399-3AAD-4AC9-909F-EA2AD8A41A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04C-0F66-4A8D-BE74-7F9C3A36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A9A-268B-4103-97AC-CF1F5D22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5F0-98D1-41A3-975B-AEEF370F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A56-9911-4728-B7AD-F0D34D28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87B-04F9-46D9-A42A-674DA49D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3D2-8B9C-4977-B207-1CFBA544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036-2CC2-4ED7-AC01-FF03B040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C72-47CE-429E-9288-751A73DD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C27-80C5-4C40-A2D4-7E792F6F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101-F4BD-438D-8AE8-CC7BB54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7DA-5924-4068-B9DB-C07478BF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FFA7-F801-4698-B7DE-262B8A1C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6937-EC51-43A0-BF3F-27BA0EB7A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908000" y="692280"/>
            <a:ext cx="48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Податкова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система 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Швейцарії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 spd="slow">
    <p:wipe dir="u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304920" y="-171360"/>
            <a:ext cx="830880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0360" y="950760"/>
          <a:ext cx="8945640" cy="5823000"/>
        </p:xfrm>
        <a:graphic>
          <a:graphicData uri="http://schemas.openxmlformats.org/drawingml/2006/table">
            <a:tbl>
              <a:tblPr/>
              <a:tblGrid>
                <a:gridCol w="4473720"/>
                <a:gridCol w="4471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вейцар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раї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КОВИЙ ПОД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лежності від кантону, де знаходиться компанія, і від її податкового статусу (напр., холдингова компанія, компанія, що управляє), податок, що стягується становить 9% - 25%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КОВИЙ ПОД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свою чергу згідно з Законом Україн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Про прибутковий податок з фізичних осіб"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ільшості фізичних осіб із січня з 2007 р. - 15%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ТОК НА ДОДАНУ ВАРТІСТЬ (ПДВ / V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ільшість видів товарів і послуг поширюється 7.6%-а ставка. Деякі специфічні види обкладаються податком за зниженим тарифом: 2.4%; готельні послуги: 3.6%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ТОК НА ДОДАНУ ВАРТІСТЬ (ПДВ 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країн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В становить 20%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ТОК НА ПРИРІСТ З КАПІТАЛУ КОМПАНІЇ (НПК / CG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К в Швейцарії немає. Продаж дочірніх підприємств податком не обкладаєть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овір про уникнення подвійного оподатк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адено з 79 країн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м на 26.12.2011 р. чинними є міжнародні договори про уникнення подвійного оподаткування, укладені Україною з 64 країнами. Крім того, відповідно до ст. 7 Закону про правонаступництво Україна застосовує 4 договори СРСР про уникнення подвійного оподаткування, що діють до набрання чинності новими договор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ИМАННЯ ПОДАТКУ. При виплаті швейцарською компанією дивідендів / відсотків / рояльті на рахунок нерезид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віденди: 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отки: 0% (для банків 3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яльті: 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slow">
    <p:wipe dir="u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853920" y="963720"/>
            <a:ext cx="7388280" cy="412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469800" y="374760"/>
            <a:ext cx="3743280" cy="626400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68360" y="476280"/>
            <a:ext cx="37447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вейца́рія</a:t>
            </a:r>
            <a:r>
              <a:rPr b="1" lang="uk-UA" sz="18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толиця:</a:t>
            </a:r>
            <a:r>
              <a:rPr b="1" lang="uk-UA" sz="1600" spc="-1" strike="noStrike" u="sng">
                <a:solidFill>
                  <a:srgbClr val="002060"/>
                </a:solidFill>
                <a:uFillTx/>
                <a:latin typeface="Comic Sans MS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Бе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фіційна назва: 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Швейца́рска                                                                                                                                          Конфедера́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жує:</a:t>
            </a:r>
            <a:r>
              <a:rPr b="1" lang="uk-UA" sz="1800" spc="-1" strike="noStrike" u="sng">
                <a:solidFill>
                  <a:srgbClr val="002060"/>
                </a:solidFill>
                <a:uFillTx/>
                <a:latin typeface="Comic Sans MS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на півночі з Німеччиною , на півдні з Італією, на заході  з Францією, на сході з Австрією і Ліхтенштей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Назва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 походить від найменування кантону Швіц, утвореного від старонімецького «пали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фіційні мови: 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німецка, французька, італійська і романш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8"/>
          <p:cNvPicPr/>
          <p:nvPr/>
        </p:nvPicPr>
        <p:blipFill>
          <a:blip r:embed="rId1"/>
          <a:stretch/>
        </p:blipFill>
        <p:spPr>
          <a:xfrm>
            <a:off x="4572000" y="476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01471"/>
          <p:cNvPicPr/>
          <p:nvPr/>
        </p:nvPicPr>
        <p:blipFill>
          <a:blip r:embed="rId2"/>
          <a:stretch/>
        </p:blipFill>
        <p:spPr>
          <a:xfrm>
            <a:off x="5003640" y="2565360"/>
            <a:ext cx="2533680" cy="3809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53" name="Picture 9" descr="14"/>
          <p:cNvPicPr/>
          <p:nvPr/>
        </p:nvPicPr>
        <p:blipFill>
          <a:blip r:embed="rId3"/>
          <a:stretch/>
        </p:blipFill>
        <p:spPr>
          <a:xfrm>
            <a:off x="6588000" y="1341360"/>
            <a:ext cx="2233800" cy="1663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C:\Users\Саня\Desktop\galo4ka.gif"/>
          <p:cNvPicPr/>
          <p:nvPr/>
        </p:nvPicPr>
        <p:blipFill>
          <a:blip r:embed="rId1"/>
          <a:stretch/>
        </p:blipFill>
        <p:spPr>
          <a:xfrm>
            <a:off x="-31680" y="0"/>
            <a:ext cx="1609560" cy="16891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9"/>
          <p:cNvSpPr/>
          <p:nvPr/>
        </p:nvSpPr>
        <p:spPr>
          <a:xfrm>
            <a:off x="1577880" y="324000"/>
            <a:ext cx="7566120" cy="7034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Історія виникнення податк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"/>
          <p:cNvSpPr/>
          <p:nvPr/>
        </p:nvSpPr>
        <p:spPr>
          <a:xfrm>
            <a:off x="179280" y="1844640"/>
            <a:ext cx="8785440" cy="501336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податкування з'явилася з виникненням най­простішої державної модел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оки оподаткування дехто вба­чає в стародавніх жертвопринесеннях, що практикува­лися як майже добровільна данина вищим силам ще до виникнення христия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ими джерелами по­датків були оподатковувані базові цінності: земля, худоба, раби. І са­мі податки були «прямими», справ­лялися безпосередньо з грома­дян, що одержують прибуток від ма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  <p:sndAc>
      <p:stSnd>
        <p:snd r:embed="rId2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хема 3" descr=""/>
          <p:cNvPicPr/>
          <p:nvPr/>
        </p:nvPicPr>
        <p:blipFill>
          <a:blip r:embed="rId1"/>
          <a:stretch/>
        </p:blipFill>
        <p:spPr>
          <a:xfrm>
            <a:off x="-12600" y="-36360"/>
            <a:ext cx="5207040" cy="145728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9" descr=""/>
          <p:cNvPicPr/>
          <p:nvPr/>
        </p:nvPicPr>
        <p:blipFill>
          <a:blip r:embed="rId2"/>
          <a:stretch/>
        </p:blipFill>
        <p:spPr>
          <a:xfrm>
            <a:off x="-30240" y="1335240"/>
            <a:ext cx="5175360" cy="551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D:\Documents and Settings\Admin\Рабочий стол\швейцария\images (8).jpg"/>
          <p:cNvPicPr/>
          <p:nvPr/>
        </p:nvPicPr>
        <p:blipFill>
          <a:blip r:embed="rId3"/>
          <a:stretch/>
        </p:blipFill>
        <p:spPr>
          <a:xfrm>
            <a:off x="5657760" y="493560"/>
            <a:ext cx="3333960" cy="485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D:\Documents and Settings\Admin\Рабочий стол\швейцария\images (11).jpg"/>
          <p:cNvPicPr/>
          <p:nvPr/>
        </p:nvPicPr>
        <p:blipFill>
          <a:blip r:embed="rId4"/>
          <a:stretch/>
        </p:blipFill>
        <p:spPr>
          <a:xfrm>
            <a:off x="4932360" y="3645000"/>
            <a:ext cx="41832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хема 2" descr=""/>
          <p:cNvPicPr/>
          <p:nvPr/>
        </p:nvPicPr>
        <p:blipFill>
          <a:blip r:embed="rId1"/>
          <a:stretch/>
        </p:blipFill>
        <p:spPr>
          <a:xfrm>
            <a:off x="96840" y="115920"/>
            <a:ext cx="4597560" cy="501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D:\Documents and Settings\Admin\Рабочий стол\швейцария\images (7).jpg"/>
          <p:cNvPicPr/>
          <p:nvPr/>
        </p:nvPicPr>
        <p:blipFill>
          <a:blip r:embed="rId2"/>
          <a:stretch/>
        </p:blipFill>
        <p:spPr>
          <a:xfrm>
            <a:off x="5076720" y="333360"/>
            <a:ext cx="374328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D:\Documents and Settings\Admin\Рабочий стол\швейцария\images (9).jpg"/>
          <p:cNvPicPr/>
          <p:nvPr/>
        </p:nvPicPr>
        <p:blipFill>
          <a:blip r:embed="rId3"/>
          <a:stretch/>
        </p:blipFill>
        <p:spPr>
          <a:xfrm>
            <a:off x="5151600" y="3213000"/>
            <a:ext cx="3671640" cy="251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Прямоугольник 1"/>
          <p:cNvGrpSpPr/>
          <p:nvPr/>
        </p:nvGrpSpPr>
        <p:grpSpPr>
          <a:xfrm>
            <a:off x="1762200" y="-79200"/>
            <a:ext cx="5156280" cy="3504960"/>
            <a:chOff x="1762200" y="-79200"/>
            <a:chExt cx="5156280" cy="3504960"/>
          </a:xfrm>
        </p:grpSpPr>
        <p:pic>
          <p:nvPicPr>
            <p:cNvPr id="65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62200" y="-79200"/>
              <a:ext cx="515628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050920" y="189000"/>
              <a:ext cx="457200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65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Наступний  етап у розвитку подат­ків, зокрема у Швейцарії, припав у Європі на XIX ст. і був пов'язаний з піднесенням вироб­ництва й економіки. Держава зміни­ла пріоритети: головним об'єктом оподаткування став оборот — пере­хід цінностей від одного суб'єкта до іншого. Відчутним виявився для гро­мадян також податок на спадщину. Поширилися податки на операції та капітал — в основному на його приріст у вигляді відсотків за цінними па­перами або вкладами, дивідендів за акціями, зростання вартості активі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7" descr="D:\Documents and Settings\Admin\Рабочий стол\швейцария\images (4).jpg"/>
          <p:cNvPicPr/>
          <p:nvPr/>
        </p:nvPicPr>
        <p:blipFill>
          <a:blip r:embed="rId2"/>
          <a:stretch/>
        </p:blipFill>
        <p:spPr>
          <a:xfrm>
            <a:off x="0" y="3789360"/>
            <a:ext cx="4788000" cy="306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:\Documents and Settings\Admin\Рабочий стол\швейцария\images (10).jpg"/>
          <p:cNvPicPr/>
          <p:nvPr/>
        </p:nvPicPr>
        <p:blipFill>
          <a:blip r:embed="rId3"/>
          <a:stretch/>
        </p:blipFill>
        <p:spPr>
          <a:xfrm>
            <a:off x="4788000" y="3789360"/>
            <a:ext cx="435600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олилиния 4"/>
          <p:cNvSpPr/>
          <p:nvPr/>
        </p:nvSpPr>
        <p:spPr>
          <a:xfrm>
            <a:off x="324000" y="0"/>
            <a:ext cx="6696000" cy="2924280"/>
          </a:xfrm>
          <a:prstGeom prst="pi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0960" rIns="914400" tIns="8280" bIns="828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наступному етапі ХХ ст.. світової історії оподаткування ознаменувався народженням ПДВ. Поширилися й цільові подат­ки, збирання яких має на меті ви­робництво                                      конкретних суспільних благ, таких як соціальне страху­вання, державне медичне обслуго­вування і пенсійне забезпечення, будівництво доріг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http://cs317828.userapi.com/v317828655/7f83/VwWjOy77UPI.jpg"/>
          <p:cNvPicPr/>
          <p:nvPr/>
        </p:nvPicPr>
        <p:blipFill>
          <a:blip r:embed="rId1"/>
          <a:stretch/>
        </p:blipFill>
        <p:spPr>
          <a:xfrm>
            <a:off x="0" y="3164040"/>
            <a:ext cx="4932360" cy="3693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http://cs317828.userapi.com/v317828655/7fef/tH_tsOnIeMA.jpg"/>
          <p:cNvPicPr/>
          <p:nvPr/>
        </p:nvPicPr>
        <p:blipFill>
          <a:blip r:embed="rId2"/>
          <a:stretch/>
        </p:blipFill>
        <p:spPr>
          <a:xfrm>
            <a:off x="4932360" y="3164040"/>
            <a:ext cx="4211640" cy="3693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np6j4HES"/>
          <p:cNvPicPr/>
          <p:nvPr/>
        </p:nvPicPr>
        <p:blipFill>
          <a:blip r:embed="rId1"/>
          <a:stretch/>
        </p:blipFill>
        <p:spPr>
          <a:xfrm>
            <a:off x="4773600" y="195120"/>
            <a:ext cx="4370400" cy="2908440"/>
          </a:xfrm>
          <a:prstGeom prst="rect">
            <a:avLst/>
          </a:prstGeom>
          <a:ln w="0">
            <a:noFill/>
          </a:ln>
        </p:spPr>
      </p:pic>
      <p:grpSp>
        <p:nvGrpSpPr>
          <p:cNvPr id="73" name="Прямоугольник 1"/>
          <p:cNvGrpSpPr/>
          <p:nvPr/>
        </p:nvGrpSpPr>
        <p:grpSpPr>
          <a:xfrm>
            <a:off x="-176040" y="212760"/>
            <a:ext cx="4803480" cy="6827760"/>
            <a:chOff x="-176040" y="212760"/>
            <a:chExt cx="4803480" cy="6827760"/>
          </a:xfrm>
        </p:grpSpPr>
        <p:pic>
          <p:nvPicPr>
            <p:cNvPr id="74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-176040" y="212760"/>
              <a:ext cx="4803480" cy="68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301680"/>
              <a:ext cx="4572000" cy="64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Економіка Швейцарії насьогодні в значній мірі залежить від зовнішньої торгівлі - як у імпорті сировини та напівфабрикатів, так і в експорті виробів промисловості (на експорт йде більш 50% продукції текстильної, близько 70% машинобудівної, понад 90% хімічної та фармацевтичної, 98% годинної промисловості)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9" descr="http://cs317828.userapi.com/v317828655/7f7a/PmHW8fj6yE8.jpg"/>
          <p:cNvPicPr/>
          <p:nvPr/>
        </p:nvPicPr>
        <p:blipFill>
          <a:blip r:embed="rId3"/>
          <a:stretch/>
        </p:blipFill>
        <p:spPr>
          <a:xfrm>
            <a:off x="4425840" y="2627280"/>
            <a:ext cx="489420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403280" y="-9360"/>
            <a:ext cx="6193080" cy="3687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ДАТКОВА СИСТЕМА У ШВЕЙЦАРІЇ ПІД ЧАС ПРИДБАННЯ НЕРУХОМ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одаток на передачу прав на нерухомість становить 3,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одаток на додану вартість становить 7,6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Оподаткування після купівлі нерухомості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складає від 0,0 до 0,4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одаток на прибуток становить від 9% до 25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одаток з чистого майна рівень цього податку є змін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одаток на передачу нерухомості у спадок (податок на дарування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Зазвичай він коливається між 0% та 54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http://cs317828.userapi.com/v317828655/7f95/Q2BI0BuFjVc.jpg"/>
          <p:cNvPicPr/>
          <p:nvPr/>
        </p:nvPicPr>
        <p:blipFill>
          <a:blip r:embed="rId1"/>
          <a:stretch/>
        </p:blipFill>
        <p:spPr>
          <a:xfrm>
            <a:off x="-139680" y="3236760"/>
            <a:ext cx="4930920" cy="372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http://cs317828.userapi.com/v317828655/7f8c/sgaGBTocDS8.jpg"/>
          <p:cNvPicPr/>
          <p:nvPr/>
        </p:nvPicPr>
        <p:blipFill>
          <a:blip r:embed="rId2"/>
          <a:stretch/>
        </p:blipFill>
        <p:spPr>
          <a:xfrm>
            <a:off x="4632480" y="3444840"/>
            <a:ext cx="4505040" cy="6881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46:02Z</dcterms:created>
  <dc:creator>Admin</dc:creator>
  <dc:description/>
  <dc:language>en-US</dc:language>
  <cp:lastModifiedBy>FOX</cp:lastModifiedBy>
  <dcterms:modified xsi:type="dcterms:W3CDTF">2013-03-16T05:45:30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250000000000010241400207f6000400038000</vt:lpwstr>
  </property>
</Properties>
</file>