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E5B-A7E5-48C3-BC7C-9875B6B9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892-2873-426D-B7DC-B4CB909C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78B-99BE-4DBC-A3A5-BC19570B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423-35FE-4373-9096-D31F8D75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F192-CB74-4E42-8A83-04EF01F5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DA2B-4A0A-4DBB-BFE6-51F69F20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699A-14FB-4EE5-884A-4C2DF027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A3AC-96BE-439C-A653-BF1E4711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3D25-CDB8-4D95-99FE-DCB8B658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BB8B-36BE-46DA-8701-8B6B182A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7852-1B7C-4EBB-8574-B312FD95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591-AAEB-4D10-8020-A0EB421A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00DC-5CD9-49D5-AA65-65E2151F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0820-58DE-4686-B6FB-329521DA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3B71-ED85-48F7-9453-5494C146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C08A-68CF-46AD-91B8-C91A9BF1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7F54-C9A5-4443-8D44-DB29F64E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2C2-726E-4A4F-8AE8-7C8590DF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395-2454-4EA2-8712-6161BDF1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143-C457-4363-B655-5A94A2FC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96E-1F12-4B4D-A5E9-7157593F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D3D-11A8-46D6-8336-CD4FAD21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E8E-4F1D-4C02-B0A6-BFD3DB40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A4A5-89CD-468A-AA16-6FB823E6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9641-F31A-4931-BF43-5C669A22712D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4DFF-3DA7-4C75-ACBD-F081F108C19F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2"/>
          <a:stretch/>
        </p:blipFill>
        <p:spPr>
          <a:xfrm>
            <a:off x="530280" y="701640"/>
            <a:ext cx="7864560" cy="25592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отлично.jpeg"/>
          <p:cNvPicPr/>
          <p:nvPr/>
        </p:nvPicPr>
        <p:blipFill>
          <a:blip r:embed="rId3"/>
          <a:stretch/>
        </p:blipFill>
        <p:spPr>
          <a:xfrm>
            <a:off x="4786200" y="3602160"/>
            <a:ext cx="378648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бчисліть  ВВП (ВНП), створений в умовній країні у поточному році, за методами потоку доходів і потоку витрат, порівняйте отримані значенн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2" name="Рисунок 3" descr="задумався.jpeg"/>
          <p:cNvPicPr/>
          <p:nvPr/>
        </p:nvPicPr>
        <p:blipFill>
          <a:blip r:embed="rId2"/>
          <a:stretch/>
        </p:blipFill>
        <p:spPr>
          <a:xfrm>
            <a:off x="1571760" y="2428920"/>
            <a:ext cx="5857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57160" y="214200"/>
          <a:ext cx="7500960" cy="6583320"/>
        </p:xfrm>
        <a:graphic>
          <a:graphicData uri="http://schemas.openxmlformats.org/drawingml/2006/table">
            <a:tbl>
              <a:tblPr/>
              <a:tblGrid>
                <a:gridCol w="6000840"/>
                <a:gridCol w="1500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КЛАДОВ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лрд.гр.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кспор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ивіден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мортизац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робітна пл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 4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ержавні закупівлі товарів і по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н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прямі подат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атки на доходи корпорац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ансфертні платеж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0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центи на капіт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хід індивідуальних власник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оживчі витр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 8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імпор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нески на соціальне страхув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розподілені прибутки корпорац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атки на особисті дохо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исті приватні інвестиці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За методом витрат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споживчі витрати                           3 88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державні закупівлі                          1 01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валові приватні інвестиції               78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(приватні інвестиції + амортизація 254+534=788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чистий  експорт 132 – 189                  -5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00"/>
                </a:solidFill>
                <a:latin typeface="Constantia"/>
              </a:rPr>
              <a:t>ВВП(ВНП)                                        5 627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 + G + I + Nx =</a:t>
            </a: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ВВП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42960" y="7858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За доходами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nstantia"/>
              </a:rPr>
              <a:t>прибуток = 398 + 170 + 188 + 122 = 878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nstantia"/>
              </a:rPr>
              <a:t>національний дохід = 3 420 + 43 + 291 + 878 = 463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nstantia"/>
              </a:rPr>
              <a:t>чистий ВВП = 4 632 + 461 = 5 093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onstantia"/>
              </a:rPr>
              <a:t>ВВП(ВНП) = 5 093 + 543 = 5 627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ВВП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= W + Pr + i + R + A + T</a:t>
            </a: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п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4" descr=""/>
          <p:cNvPicPr/>
          <p:nvPr/>
        </p:nvPicPr>
        <p:blipFill>
          <a:blip r:embed="rId2"/>
          <a:stretch/>
        </p:blipFill>
        <p:spPr>
          <a:xfrm>
            <a:off x="235080" y="1306440"/>
            <a:ext cx="867384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928800" y="347760"/>
          <a:ext cx="7572240" cy="6060960"/>
        </p:xfrm>
        <a:graphic>
          <a:graphicData uri="http://schemas.openxmlformats.org/drawingml/2006/table">
            <a:tbl>
              <a:tblPr/>
              <a:tblGrid>
                <a:gridCol w="1428480"/>
                <a:gridCol w="1285920"/>
                <a:gridCol w="1490760"/>
                <a:gridCol w="1400040"/>
                <a:gridCol w="196704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раї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івень зростання ВВП(%до попереднього ро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ВП/особ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л. США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08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івень зростання ВВП(%до попереднього ро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ВП/особ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л. США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09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стон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 8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 2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Італ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 1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 5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атв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 5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 0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імечч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 7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 1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 6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 2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горщ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 99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6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 8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Швец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 2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 1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краї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7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7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лд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5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               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« ПРЕС»            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Я ВВАЖАЮ, ЩО…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ТОМУ, ЩО… 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НАПРИКЛАД…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ОТЖЕ…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                                     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стійке зростанн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забезпечення                                       бездефіцитни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повної  зайнятості                                   державний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           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бюджет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стабільний рівень                                рівноважний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цін                                                            платіжний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      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балан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Правильный пятиугольник 3"/>
          <p:cNvSpPr/>
          <p:nvPr/>
        </p:nvSpPr>
        <p:spPr>
          <a:xfrm>
            <a:off x="3429000" y="2928960"/>
            <a:ext cx="2357280" cy="1785960"/>
          </a:xfrm>
          <a:prstGeom prst="pentagon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Стрелка вниз 4"/>
          <p:cNvSpPr/>
          <p:nvPr/>
        </p:nvSpPr>
        <p:spPr>
          <a:xfrm>
            <a:off x="4357800" y="2571840"/>
            <a:ext cx="484200" cy="47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Стрелка влево 5"/>
          <p:cNvSpPr/>
          <p:nvPr/>
        </p:nvSpPr>
        <p:spPr>
          <a:xfrm>
            <a:off x="5643720" y="3357720"/>
            <a:ext cx="500040" cy="48420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Стрелка влево 6"/>
          <p:cNvSpPr/>
          <p:nvPr/>
        </p:nvSpPr>
        <p:spPr>
          <a:xfrm>
            <a:off x="5286240" y="4500720"/>
            <a:ext cx="500040" cy="48420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Стрелка вправо 7"/>
          <p:cNvSpPr/>
          <p:nvPr/>
        </p:nvSpPr>
        <p:spPr>
          <a:xfrm>
            <a:off x="3214800" y="342900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Стрелка вправо 8"/>
          <p:cNvSpPr/>
          <p:nvPr/>
        </p:nvSpPr>
        <p:spPr>
          <a:xfrm>
            <a:off x="3500280" y="45007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eeece1"/>
                </a:solidFill>
                <a:latin typeface="Calibri"/>
              </a:rPr>
              <a:t>Домашнє завдання: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Повторити поняття з тем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конати практичні вправ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                       № 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395, ст.  105,( 1 варіант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                       №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399, ст.   106,(2 варіант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працювати інформацію  щодо макроекономічних показників України у поточному році: прогнози і реалії.(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ww.ukrstat.gov.u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МЕТ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значити основні характеристики показників макроекономі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володіти практичними навичками обчислювання за  різними методами макроекономічних показникі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ховувати економічну культуру, толерантне ставлення до переконань однокласникі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ТЕМА:</a:t>
            </a:r>
            <a:r>
              <a:rPr b="0" lang="uk-UA" sz="4500" spc="-1" strike="noStrike">
                <a:solidFill>
                  <a:srgbClr val="ffff00"/>
                </a:solidFill>
                <a:latin typeface="Calibri"/>
              </a:rPr>
              <a:t>Основні макроекономічні показники. Методи розрахунку.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450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eeece1"/>
                </a:solidFill>
                <a:latin typeface="Calibri"/>
              </a:rPr>
              <a:t>                             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uk-UA" sz="4500" spc="-1" strike="noStrike">
                <a:solidFill>
                  <a:srgbClr val="ff0000"/>
                </a:solidFill>
                <a:latin typeface="Calibri"/>
              </a:rPr>
              <a:t>магічний”</a:t>
            </a:r>
            <a:br>
              <a:rPr sz="4500"/>
            </a:br>
            <a:r>
              <a:rPr b="0" lang="uk-UA" sz="4500" spc="-1" strike="noStrike">
                <a:solidFill>
                  <a:srgbClr val="eeece1"/>
                </a:solidFill>
                <a:latin typeface="Calibri"/>
              </a:rPr>
              <a:t>                </a:t>
            </a:r>
            <a:br>
              <a:rPr sz="4500"/>
            </a:br>
            <a:r>
              <a:rPr b="0" lang="uk-UA" sz="4500" spc="-1" strike="noStrike">
                <a:solidFill>
                  <a:srgbClr val="eeece1"/>
                </a:solidFill>
                <a:latin typeface="Calibri"/>
              </a:rPr>
              <a:t> п’ятикутник є бажаною, але недосяжною мрією більшості країн світу ?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00" name="Содержимое 3" descr="вопрос.jpeg"/>
          <p:cNvPicPr/>
          <p:nvPr/>
        </p:nvPicPr>
        <p:blipFill>
          <a:blip r:embed="rId2"/>
          <a:stretch/>
        </p:blipFill>
        <p:spPr>
          <a:xfrm>
            <a:off x="500040" y="214200"/>
            <a:ext cx="3929040" cy="32511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6091200" y="1427040"/>
            <a:ext cx="183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eeece1"/>
                </a:solidFill>
                <a:latin typeface="Calibri"/>
              </a:rPr>
              <a:t>ЧОМ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856800"/>
            <a:ext cx="8286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1.Збалансованість і  пропорційність процесів у масштабах народного господарств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2.Сукупність усіх благ, що знаходяться у розпорядженні суспільства країни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3.Статистична система макроекономічних результатів виробництв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4.Сукупна вартість кінцевої продукції, виготовленої на території даної країни,незалежно від того, кому належать фактори виробництв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5.Вартість товарів і послуг, вироблених не лише в країні, а й за ії межами вітчизняними підприємствами за рік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928800"/>
            <a:ext cx="818676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6.Валовий національний продукт, зменшений на суму вартості спожитого за рік капіталу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7.Різниця між чистим національним продуктом і сумою доходів на національні фактори виробництв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8.Річний обсяг кінцевих товарів і послуг, виражений у поточних цінах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9.Річний обсяг кінцевих товарів і послуг, виражений у цінах базового періоду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10.Коефіціент, що використовується для корегування грошового вираження ВВП з урахуванням динаміки цін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Ключ: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р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івновага національної економі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2.національне багатств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3.система національного рахівницт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4.валовий внутрішній проду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5.валовий національний проду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6.чистий національний проду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7.національний дохі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8.номінальний ВВП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9.реальний ВВП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10.дефлятор ВВП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Розрахуйте показники ВВП, ВНП, НД, ЧНП умовної країни за дани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СКЛАДОВІ:                                                        ум.гр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чистий змішаний прибуток                    11 07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податок на прибуток                                  8 43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непрямі податки на бізнес                        9 43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плата праці найманих працівників    38 93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амортизація                                                14 70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доходи від інших країн                                  16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доходи, виплачені іншим країнам            1 21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571680"/>
            <a:ext cx="804384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ЗА ВИТРА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ВП =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 + I + G +Nx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ЗА ДОХОД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ВП =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 + Pr + I + R + A + T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ЧНП = ВНП – 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НД = ЧНП - Т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8" name="Рисунок 3" descr="знання в книжках.jpeg"/>
          <p:cNvPicPr/>
          <p:nvPr/>
        </p:nvPicPr>
        <p:blipFill>
          <a:blip r:embed="rId2"/>
          <a:stretch/>
        </p:blipFill>
        <p:spPr>
          <a:xfrm>
            <a:off x="5214960" y="2786040"/>
            <a:ext cx="2881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ВІДПОВІДІ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НД= 38 931 +11 076 + 8 436 = 58 443 ум.грош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НП=58 443 + 14 702 + 9 430 = 82 575 ум.грош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ВП = 82575 +( 160 – 1 216) = 81 519 ум.гр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ЧНП =82 575 – 14 702 = 67 873 ум.гр.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Рисунок 3" descr="gorshochek_deneg.jpg"/>
          <p:cNvPicPr/>
          <p:nvPr/>
        </p:nvPicPr>
        <p:blipFill>
          <a:blip r:embed="rId2"/>
          <a:stretch/>
        </p:blipFill>
        <p:spPr>
          <a:xfrm>
            <a:off x="5357880" y="3500280"/>
            <a:ext cx="3643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3:22:44Z</dcterms:created>
  <dc:creator>admin</dc:creator>
  <dc:description/>
  <dc:language>en-US</dc:language>
  <cp:lastModifiedBy>Admin</cp:lastModifiedBy>
  <dcterms:modified xsi:type="dcterms:W3CDTF">2014-01-25T07:51:39Z</dcterms:modified>
  <cp:revision>37</cp:revision>
  <dc:subject/>
  <dc:title>УРОК ЕКОНОМІКИ    11 клас</dc:title>
</cp:coreProperties>
</file>