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5CC-6902-44C3-9938-36791D64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724-9A56-4030-BEB3-380607A2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368-EE2F-43ED-87E0-B265EAB6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F539-61D4-4238-B95A-9A128D28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C9A2-0FAA-427F-A581-4F671C50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ED15-4AFA-46DF-9DCF-D82E26AB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8836-46CD-47DA-B2D9-A8AF7048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F1AC-B919-4BDC-A0BA-5D86880F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AD65-5CDF-46E8-A587-CA88D12B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6BD0-8BF1-4C10-97C0-86CEAD06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7005-BD6D-4E94-BB43-C937C411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139-1999-456D-8E45-BD638024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30DC-2945-4047-B20D-67A58C7D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1222-4444-4861-84B1-E56957AB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8F49-C0C2-4E3F-92FB-AE060FB0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906E-6E49-42E5-BD76-E70F4C3F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4D61-D705-4EDB-AC4E-0C12B905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A9F-EC62-4CC5-B2F8-5E74AF41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368-8F27-4EC1-96B4-C4991057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4E7-51B0-4B99-B576-9D6D2E46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A518-AFAE-4117-90E2-18523187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81B5-833C-4615-999E-8EC2F8A7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B6A-3B07-4A8B-9234-77E7A79E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DA3-73C3-46BD-BD45-342E8FDB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2947-F180-4F81-8E20-5EA5738CD969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5FFF-991C-49D8-A3F6-BB3A8EB00B01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2"/>
          <a:stretch/>
        </p:blipFill>
        <p:spPr>
          <a:xfrm>
            <a:off x="530280" y="701640"/>
            <a:ext cx="7864560" cy="25592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отлично.jpeg"/>
          <p:cNvPicPr/>
          <p:nvPr/>
        </p:nvPicPr>
        <p:blipFill>
          <a:blip r:embed="rId3"/>
          <a:stretch/>
        </p:blipFill>
        <p:spPr>
          <a:xfrm>
            <a:off x="4786200" y="3602160"/>
            <a:ext cx="378648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Обчисліть  ВВП (ВНП), створений в умовній країні у поточному році, за методами потоку доходів і потоку витрат, порівняйте отримані значенн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2" name="Рисунок 3" descr="задумався.jpeg"/>
          <p:cNvPicPr/>
          <p:nvPr/>
        </p:nvPicPr>
        <p:blipFill>
          <a:blip r:embed="rId2"/>
          <a:stretch/>
        </p:blipFill>
        <p:spPr>
          <a:xfrm>
            <a:off x="1571760" y="2428920"/>
            <a:ext cx="5857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57160" y="214200"/>
          <a:ext cx="7500960" cy="6583320"/>
        </p:xfrm>
        <a:graphic>
          <a:graphicData uri="http://schemas.openxmlformats.org/drawingml/2006/table">
            <a:tbl>
              <a:tblPr/>
              <a:tblGrid>
                <a:gridCol w="6000840"/>
                <a:gridCol w="1500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КЛАДОВ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лрд.гр.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кспор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ивіден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мортизац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робітна пл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 4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ержавні закупівлі товарів і посл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н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прямі подат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атки на доходи корпорац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ансфертні платеж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0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центи на капіт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хід індивідуальних власник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поживчі витр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 8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імпор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нески на соціальне страхув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розподілені прибутки корпорац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атки на особисті дохо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исті приватні інвестиці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За методом витрат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споживчі витрати                           3 88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державні закупівлі                          1 01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валові приватні інвестиції               788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(приватні інвестиції + амортизація 254+534=788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чистий  експорт 132 – 189                  -5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ВВП(ВНП)                                        5 627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C + G + I + Nx =</a:t>
            </a: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ВВП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42960" y="7858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За доходами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nstantia"/>
              </a:rPr>
              <a:t>прибуток = 398 + 170 + 188 + 122 = 878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nstantia"/>
              </a:rPr>
              <a:t>національний дохід = 3 420 + 43 + 291 + 878 = 4632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nstantia"/>
              </a:rPr>
              <a:t>чистий ВВП = 4 632 + 461 = 5 093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nstantia"/>
              </a:rPr>
              <a:t>ВВП(ВНП) = 5 093 + 543 = 5 627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ВВП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= W + Pr + i + R + A + T</a:t>
            </a: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п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4" descr=""/>
          <p:cNvPicPr/>
          <p:nvPr/>
        </p:nvPicPr>
        <p:blipFill>
          <a:blip r:embed="rId2"/>
          <a:stretch/>
        </p:blipFill>
        <p:spPr>
          <a:xfrm>
            <a:off x="235080" y="1306440"/>
            <a:ext cx="867384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928800" y="347760"/>
          <a:ext cx="7572240" cy="6060960"/>
        </p:xfrm>
        <a:graphic>
          <a:graphicData uri="http://schemas.openxmlformats.org/drawingml/2006/table">
            <a:tbl>
              <a:tblPr/>
              <a:tblGrid>
                <a:gridCol w="1428480"/>
                <a:gridCol w="1285920"/>
                <a:gridCol w="1490760"/>
                <a:gridCol w="1400040"/>
                <a:gridCol w="196704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раї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івень зростання ВВП(%до попереднього рок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ВП/особ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л. США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008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івень зростання ВВП(%до попереднього рок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ВП/особ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л. США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009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стон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3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 8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 2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Італ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 1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 5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атв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 5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 0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імечч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 7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 1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 6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 2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горщ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 99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6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 8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Швец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 2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5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 1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краї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7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5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7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лд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5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                </a:t>
            </a: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« ПРЕС»            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Я ВВАЖАЮ, ЩО…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ТОМУ, ЩО… 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НАПРИКЛАД…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ОТЖЕ…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                                     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стійке зростанн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забезпечення                                       бездефіцитни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повної  зайнятості                                   державний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           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бюджет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стабільний рівень                                рівноважний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цін                                                            платіжний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      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балан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Правильный пятиугольник 3"/>
          <p:cNvSpPr/>
          <p:nvPr/>
        </p:nvSpPr>
        <p:spPr>
          <a:xfrm>
            <a:off x="3429000" y="2928960"/>
            <a:ext cx="2357280" cy="1785960"/>
          </a:xfrm>
          <a:prstGeom prst="pentagon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Стрелка вниз 4"/>
          <p:cNvSpPr/>
          <p:nvPr/>
        </p:nvSpPr>
        <p:spPr>
          <a:xfrm>
            <a:off x="4357800" y="2571840"/>
            <a:ext cx="484200" cy="47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Стрелка влево 5"/>
          <p:cNvSpPr/>
          <p:nvPr/>
        </p:nvSpPr>
        <p:spPr>
          <a:xfrm>
            <a:off x="5643720" y="3357720"/>
            <a:ext cx="500040" cy="48420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Стрелка влево 6"/>
          <p:cNvSpPr/>
          <p:nvPr/>
        </p:nvSpPr>
        <p:spPr>
          <a:xfrm>
            <a:off x="5286240" y="4500720"/>
            <a:ext cx="500040" cy="48420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Стрелка вправо 7"/>
          <p:cNvSpPr/>
          <p:nvPr/>
        </p:nvSpPr>
        <p:spPr>
          <a:xfrm>
            <a:off x="3214800" y="342900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Стрелка вправо 8"/>
          <p:cNvSpPr/>
          <p:nvPr/>
        </p:nvSpPr>
        <p:spPr>
          <a:xfrm>
            <a:off x="3500280" y="45007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eeece1"/>
                </a:solidFill>
                <a:latin typeface="Calibri"/>
              </a:rPr>
              <a:t>Домашнє завдання: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Повторити поняття з тем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иконати практичні вправ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                        № 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395, ст.  105,( 1 варіант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                        №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399, ст.   106,(2 варіант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Опрацювати інформацію  щодо макроекономічних показників України у поточному році: прогнози і реалії.(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ww.ukrstat.gov.u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МЕТ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изначити основні характеристики показників макроекономі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Оволодіти практичними навичками обчислювання за  різними методами макроекономічних показникі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иховувати економічну культуру, толерантне ставлення до переконань однокласникі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ТЕМА:</a:t>
            </a:r>
            <a:r>
              <a:rPr b="0" lang="uk-UA" sz="4500" spc="-1" strike="noStrike">
                <a:solidFill>
                  <a:srgbClr val="ffff00"/>
                </a:solidFill>
                <a:latin typeface="Calibri"/>
              </a:rPr>
              <a:t>Основні макроекономічні показники. Методи розрахунку.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4240" y="450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eeece1"/>
                </a:solidFill>
                <a:latin typeface="Calibri"/>
              </a:rPr>
              <a:t>                            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магічний”</a:t>
            </a:r>
            <a:br>
              <a:rPr sz="4500"/>
            </a:br>
            <a:r>
              <a:rPr b="0" lang="uk-UA" sz="4500" spc="-1" strike="noStrike">
                <a:solidFill>
                  <a:srgbClr val="eeece1"/>
                </a:solidFill>
                <a:latin typeface="Calibri"/>
              </a:rPr>
              <a:t>                </a:t>
            </a:r>
            <a:br>
              <a:rPr sz="4500"/>
            </a:br>
            <a:r>
              <a:rPr b="0" lang="uk-UA" sz="4500" spc="-1" strike="noStrike">
                <a:solidFill>
                  <a:srgbClr val="eeece1"/>
                </a:solidFill>
                <a:latin typeface="Calibri"/>
              </a:rPr>
              <a:t> п’ятикутник є бажаною, але недосяжною мрією більшості країн світу ?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00" name="Содержимое 3" descr="вопрос.jpeg"/>
          <p:cNvPicPr/>
          <p:nvPr/>
        </p:nvPicPr>
        <p:blipFill>
          <a:blip r:embed="rId2"/>
          <a:stretch/>
        </p:blipFill>
        <p:spPr>
          <a:xfrm>
            <a:off x="500040" y="214200"/>
            <a:ext cx="3929040" cy="32511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6091200" y="1427040"/>
            <a:ext cx="183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eeece1"/>
                </a:solidFill>
                <a:latin typeface="Calibri"/>
              </a:rPr>
              <a:t>ЧОМ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856800"/>
            <a:ext cx="8286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1.Збалансованість і  пропорційність процесів у масштабах народного господарства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2.Сукупність усіх благ, що знаходяться у розпорядженні суспільства країни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3.Статистична система макроекономічних результатів виробництва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4.Сукупна вартість кінцевої продукції, виготовленої на території даної країни,незалежно від того, кому належать фактори виробництва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5.Вартість товарів і послуг, вироблених не лише в країні, а й за ії межами вітчизняними підприємствами за рік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928800"/>
            <a:ext cx="818676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6.Валовий національний продукт, зменшений на суму вартості спожитого за рік капіталу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7.Різниця між чистим національним продуктом і сумою доходів на національні фактори виробництва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8.Річний обсяг кінцевих товарів і послуг, виражений у поточних цінах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9.Річний обсяг кінцевих товарів і послуг, виражений у цінах базового періоду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10.Коефіціент, що використовується для корегування грошового вираження ВВП з урахуванням динаміки цін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Ключ: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р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івновага національної економі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2.національне багатств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3.система національного рахівницт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4.валовий внутрішній проду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5.валовий національний проду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6.чистий національний проду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7.національний дохі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8.номінальний ВВП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9.реальний ВВП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10.дефлятор ВВП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Розрахуйте показники ВВП, ВНП, НД, ЧНП умовної країни за дани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СКЛАДОВІ:                                                        ум.гр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чистий змішаний прибуток                    11 07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податок на прибуток                                  8 43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непрямі податки на бізнес                        9 43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оплата праці найманих працівників    38 93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амортизація                                                14 70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доходи від інших країн                                  16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доходи, виплачені іншим країнам            1 21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571680"/>
            <a:ext cx="804384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ЗА ВИТРА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ВП =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 + I + G +Nx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ЗА ДОХОД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ВП =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 + Pr + I + R + A + T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ЧНП = ВНП – 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НД = ЧНП - Т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8" name="Рисунок 3" descr="знання в книжках.jpeg"/>
          <p:cNvPicPr/>
          <p:nvPr/>
        </p:nvPicPr>
        <p:blipFill>
          <a:blip r:embed="rId2"/>
          <a:stretch/>
        </p:blipFill>
        <p:spPr>
          <a:xfrm>
            <a:off x="5214960" y="2786040"/>
            <a:ext cx="2881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ВІДПОВІДІ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НД= 38 931 +11 076 + 8 436 = 58 443 ум.грош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НП=58 443 + 14 702 + 9 430 = 82 575 ум.грош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ВП = 82575 +( 160 – 1 216) = 81 519 ум.гр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ЧНП =82 575 – 14 702 = 67 873 ум.гр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0" name="Рисунок 3" descr="gorshochek_deneg.jpg"/>
          <p:cNvPicPr/>
          <p:nvPr/>
        </p:nvPicPr>
        <p:blipFill>
          <a:blip r:embed="rId2"/>
          <a:stretch/>
        </p:blipFill>
        <p:spPr>
          <a:xfrm>
            <a:off x="5357880" y="3500280"/>
            <a:ext cx="36432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3:22:44Z</dcterms:created>
  <dc:creator>admin</dc:creator>
  <dc:description/>
  <dc:language>en-US</dc:language>
  <cp:lastModifiedBy>Admin</cp:lastModifiedBy>
  <dcterms:modified xsi:type="dcterms:W3CDTF">2014-01-25T07:51:39Z</dcterms:modified>
  <cp:revision>37</cp:revision>
  <dc:subject/>
  <dc:title>УРОК ЕКОНОМІКИ    11 клас</dc:title>
</cp:coreProperties>
</file>