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E66-80BE-4708-AA84-8836EC15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5F5-9AD2-458D-8E42-A2E17C0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6EB-C625-4902-A27B-6AB61A0B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A6D-C57F-4A20-820D-8C2E108C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65D-3288-49FA-BFE3-06EEC809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E515-8E1F-4208-BA6A-A2F396AA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4520-1586-48B9-BCFE-B52FFDD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86F-883D-4E89-B3D4-30DFF83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EF19-BA8C-4721-8F84-583CDD0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E78F-B86B-4D25-84BC-5472FEC5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DDCD-F5CA-4D44-AF1E-6B5F4605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599-9575-44AA-A248-A54946B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3BEA-6F11-48DC-BAAA-F1E340C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884-968F-4138-8E1E-50C5F55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76E8-6973-4173-A6BB-677C49BD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169-0D7E-4405-99A8-B52B4B16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B709-69AB-44E6-8371-6277776C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0BB-C428-4BFE-866A-288E2C1C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218-4C95-42CA-9BEC-0DC3FE72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176-F721-4E9B-916F-EFF23E0F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31F-D64A-45C4-B613-ADC3E9B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9FA-20E3-4978-9074-A4BBD8B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267-F8E4-4839-B3FD-E9F6D839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67F-207F-4EBB-9E12-59C3E0B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BA6-7481-4CBE-86BB-002717E7189C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9423-BD7A-4A46-A3FC-7C2DAB820622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отлично.jpeg"/>
          <p:cNvPicPr/>
          <p:nvPr/>
        </p:nvPicPr>
        <p:blipFill>
          <a:blip r:embed="rId3"/>
          <a:stretch/>
        </p:blipFill>
        <p:spPr>
          <a:xfrm>
            <a:off x="4786200" y="3602160"/>
            <a:ext cx="37864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бчисліть  ВВП (ВНП), створений в умовній країні у поточному році, за методами потоку доходів і потоку витрат, порівняйте отримані значен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Рисунок 3" descr="задумався.jpeg"/>
          <p:cNvPicPr/>
          <p:nvPr/>
        </p:nvPicPr>
        <p:blipFill>
          <a:blip r:embed="rId2"/>
          <a:stretch/>
        </p:blipFill>
        <p:spPr>
          <a:xfrm>
            <a:off x="1571760" y="2428920"/>
            <a:ext cx="5857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57160" y="214200"/>
          <a:ext cx="7500960" cy="6583320"/>
        </p:xfrm>
        <a:graphic>
          <a:graphicData uri="http://schemas.openxmlformats.org/drawingml/2006/table">
            <a:tbl>
              <a:tblPr/>
              <a:tblGrid>
                <a:gridCol w="6000840"/>
                <a:gridCol w="150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КЛАДОВ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лрд.гр.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віден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мортиза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обітна 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4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ржавні закупівлі товарів і по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прямі под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доход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нсфертні платеж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и на капі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ід індивідуальних власни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жив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8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м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нески на соціальне страх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розподілені прибутк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особисті дохо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исті приватні інвести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методом витрат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споживчі витрати                           3 88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державні закупівлі                          1 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алові приватні інвестиції               78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(приватні інвестиції + амортизація 254+534=788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чистий  експорт 132 – 189                  -5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ВП(ВНП)                                        5 627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 + G + I + Nx =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4296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прибуток = 398 + 170 + 188 + 122 = 878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національний дохід = 3 420 + 43 + 291 + 878 = 463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чистий ВВП = 4 632 + 461 = 5 09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ВВП(ВНП) = 5 093 + 543 = 5 627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= W + Pr + i + R + A + T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4" descr=""/>
          <p:cNvPicPr/>
          <p:nvPr/>
        </p:nvPicPr>
        <p:blipFill>
          <a:blip r:embed="rId2"/>
          <a:stretch/>
        </p:blipFill>
        <p:spPr>
          <a:xfrm>
            <a:off x="235080" y="1306440"/>
            <a:ext cx="86738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28800" y="347760"/>
          <a:ext cx="7572240" cy="6060960"/>
        </p:xfrm>
        <a:graphic>
          <a:graphicData uri="http://schemas.openxmlformats.org/drawingml/2006/table">
            <a:tbl>
              <a:tblPr/>
              <a:tblGrid>
                <a:gridCol w="1428480"/>
                <a:gridCol w="1285920"/>
                <a:gridCol w="1490760"/>
                <a:gridCol w="1400040"/>
                <a:gridCol w="19670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8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9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стон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 8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2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тал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 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 5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тв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0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імеч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 7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 6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 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р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9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8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ве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 2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7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7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лд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5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   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« ПРЕС»            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Я ВВАЖАЮ, ЩО…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ТОМУ, ЩО…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НАПРИКЛАД…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ОТЖЕ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ійке зростанн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безпечення                                       бездефіцит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повної  зайнятості                                   державний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юджет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абільний рівень                                рівноважний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цін                                                            платіжний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алан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Правильный пятиугольник 3"/>
          <p:cNvSpPr/>
          <p:nvPr/>
        </p:nvSpPr>
        <p:spPr>
          <a:xfrm>
            <a:off x="3429000" y="2928960"/>
            <a:ext cx="2357280" cy="178596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4"/>
          <p:cNvSpPr/>
          <p:nvPr/>
        </p:nvSpPr>
        <p:spPr>
          <a:xfrm>
            <a:off x="4357800" y="257184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 влево 5"/>
          <p:cNvSpPr/>
          <p:nvPr/>
        </p:nvSpPr>
        <p:spPr>
          <a:xfrm>
            <a:off x="5643720" y="3357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лево 6"/>
          <p:cNvSpPr/>
          <p:nvPr/>
        </p:nvSpPr>
        <p:spPr>
          <a:xfrm>
            <a:off x="5286240" y="4500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право 7"/>
          <p:cNvSpPr/>
          <p:nvPr/>
        </p:nvSpPr>
        <p:spPr>
          <a:xfrm>
            <a:off x="3214800" y="342900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право 8"/>
          <p:cNvSpPr/>
          <p:nvPr/>
        </p:nvSpPr>
        <p:spPr>
          <a:xfrm>
            <a:off x="3500280" y="45007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Домашнє завдання: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вторити поняття з тем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ти практичні вправ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5, ст.  105,( 1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9, ст.   106,(2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рацювати інформацію  щодо макроекономічних показників України у поточному році: прогнози і реалії.(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ukrstat.gov.u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МЕ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значити основні характеристики показників макро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володіти практичними навичками обчислювання за  різними методами макроекономічних показ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ховувати економічну культуру, толерантне ставлення до переконань одноклас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ТЕМА:</a:t>
            </a:r>
            <a:r>
              <a:rPr b="0" lang="uk-UA" sz="4500" spc="-1" strike="noStrike">
                <a:solidFill>
                  <a:srgbClr val="ffff00"/>
                </a:solidFill>
                <a:latin typeface="Calibri"/>
              </a:rPr>
              <a:t>Основні макроекономічні показники. Методи розрахунку.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            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магічний”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п’ятикутник є бажаною, але недосяжною мрією більшості країн світу ?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0" name="Содержимое 3" descr="вопрос.jpeg"/>
          <p:cNvPicPr/>
          <p:nvPr/>
        </p:nvPicPr>
        <p:blipFill>
          <a:blip r:embed="rId2"/>
          <a:stretch/>
        </p:blipFill>
        <p:spPr>
          <a:xfrm>
            <a:off x="500040" y="214200"/>
            <a:ext cx="3929040" cy="3251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6091200" y="1427040"/>
            <a:ext cx="183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ЧОМ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85680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.Збалансованість і  пропорційність процесів у масштабах народного господарс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Сукупність усіх благ, що знаходяться у розпорядженні суспільства країни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татистична система макроекономічних результатів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Сукупна вартість кінцевої продукції, виготовленої на території даної країни,незалежно від того, кому належать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ртість товарів і послуг, вироблених не лише в країні, а й за ії межами вітчизняними підприємствами за рік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928800"/>
            <a:ext cx="818676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Валовий національний продукт, зменшений на суму вартості спожитого за рік капітал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Різниця між чистим національним продуктом і сумою доходів на національні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Річний обсяг кінцевих товарів і послуг, виражений у поточних цінах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ічний обсяг кінцевих товарів і послуг, виражений у цінах базового період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Коефіціент, що використовується для корегування грошового вираження ВВП з урахуванням динаміки цін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Ключ: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вновага національної 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національне багат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истема національного рахівниц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валовий внутрішні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лов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чист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національний дохі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номін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е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дефлятор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Розрахуйте показники ВВП, ВНП, НД, ЧНП умовної країни за дани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КЛАДОВІ:                                                       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истий змішаний прибуток                    11 07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даток на прибуток                                  8 43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епрямі податки на бізнес                        9 4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лата праці найманих працівників    38 93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амортизація                                                14 70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 від інших країн                                  16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, виплачені іншим країнам            1 2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71680"/>
            <a:ext cx="80438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ВИТРА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+ I + G +N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 + Pr + I + R + A + T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 ВНП – 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 = ЧНП - Т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Рисунок 3" descr="знання в книжках.jpeg"/>
          <p:cNvPicPr/>
          <p:nvPr/>
        </p:nvPicPr>
        <p:blipFill>
          <a:blip r:embed="rId2"/>
          <a:stretch/>
        </p:blipFill>
        <p:spPr>
          <a:xfrm>
            <a:off x="5214960" y="2786040"/>
            <a:ext cx="288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ІДПОВІ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= 38 931 +11 076 + 8 436 = 58 443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НП=58 443 + 14 702 + 9 430 = 82 575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82575 +( 160 – 1 216) = 81 519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82 575 – 14 702 = 67 873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Рисунок 3" descr="gorshochek_deneg.jpg"/>
          <p:cNvPicPr/>
          <p:nvPr/>
        </p:nvPicPr>
        <p:blipFill>
          <a:blip r:embed="rId2"/>
          <a:stretch/>
        </p:blipFill>
        <p:spPr>
          <a:xfrm>
            <a:off x="5357880" y="3500280"/>
            <a:ext cx="364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22:44Z</dcterms:created>
  <dc:creator>admin</dc:creator>
  <dc:description/>
  <dc:language>en-US</dc:language>
  <cp:lastModifiedBy>Admin</cp:lastModifiedBy>
  <dcterms:modified xsi:type="dcterms:W3CDTF">2014-01-25T07:51:39Z</dcterms:modified>
  <cp:revision>37</cp:revision>
  <dc:subject/>
  <dc:title>УРОК ЕКОНОМІКИ    11 клас</dc:title>
</cp:coreProperties>
</file>