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5480-6B75-4F5F-8BDC-522B7105C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C073-4995-4E6D-8FD9-14B7556D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2074-E868-46ED-B1C8-5EBF1F1B2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9D6E-0ABB-499B-BA01-32B76CFAD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270E-E5BA-4138-A5FE-7D9837FF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FC79-4E83-4FD8-8234-E7BAEF79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7B7A-DFA2-44FA-91FF-7E06C5D1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89B9-6F4F-412E-A606-59057CF5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BFB5-FB6B-482D-8A20-75DC13BA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3B7B-152C-453E-9268-90CA2B67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4FC5-5A18-4896-8492-32918538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D536-F5DE-428F-B13E-45BAED16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F454-7DF7-4CFB-AA13-66F71FE2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14A8-8514-485A-8F68-5E5C4AD0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B399-58EF-408F-9242-EFC4B3A2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C6BA-EA16-47F0-A643-FD25889EA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69A9-5559-4E75-A947-D278E75E7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7EA1-ACCE-4B06-B862-A889A3C7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85D2-6370-4E8D-BA26-CB01C461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F0A2-960F-494C-89A3-CCBCCCF8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94D4-EA52-446B-971E-D666A5FC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DBCE-18EB-4787-9348-71588E90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9C1F-0FFC-4754-BDD8-DDB1A00B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3AE5-10BF-40D6-9509-56CF043B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4BCF-154F-4268-A9FB-E769E2FCE60A}" type="slidenum"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BCAE-29E8-4534-A778-ED2857C46939}" type="slidenum"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3" descr=""/>
          <p:cNvPicPr/>
          <p:nvPr/>
        </p:nvPicPr>
        <p:blipFill>
          <a:blip r:embed="rId2"/>
          <a:stretch/>
        </p:blipFill>
        <p:spPr>
          <a:xfrm>
            <a:off x="530280" y="701640"/>
            <a:ext cx="7864560" cy="25592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отлично.jpeg"/>
          <p:cNvPicPr/>
          <p:nvPr/>
        </p:nvPicPr>
        <p:blipFill>
          <a:blip r:embed="rId3"/>
          <a:stretch/>
        </p:blipFill>
        <p:spPr>
          <a:xfrm>
            <a:off x="4786200" y="3602160"/>
            <a:ext cx="378648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642960"/>
            <a:ext cx="8229600" cy="56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Обчисліть  ВВП (ВНП), створений в умовній країні у поточному році, за методами потоку доходів і потоку витрат, порівняйте отримані значенн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2" name="Рисунок 3" descr="задумався.jpeg"/>
          <p:cNvPicPr/>
          <p:nvPr/>
        </p:nvPicPr>
        <p:blipFill>
          <a:blip r:embed="rId2"/>
          <a:stretch/>
        </p:blipFill>
        <p:spPr>
          <a:xfrm>
            <a:off x="1571760" y="2428920"/>
            <a:ext cx="58579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857160" y="214200"/>
          <a:ext cx="7500960" cy="6583320"/>
        </p:xfrm>
        <a:graphic>
          <a:graphicData uri="http://schemas.openxmlformats.org/drawingml/2006/table">
            <a:tbl>
              <a:tblPr/>
              <a:tblGrid>
                <a:gridCol w="6000840"/>
                <a:gridCol w="1500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КЛАДОВ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млрд.гр.од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експор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ивіденд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мортизаці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аробітна пла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 4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ержавні закупівлі товарів і послу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ен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прямі подат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датки на доходи корпораці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рансфертні платеж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0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оценти на капіт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9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охід індивідуальних власник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поживчі витр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 88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імпор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нески на соціальне страхуван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розподілені прибутки корпораці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датки на особисті доход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чисті приватні інвестиції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714240"/>
            <a:ext cx="822960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Constantia"/>
              </a:rPr>
              <a:t>За методом витрат: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00"/>
                </a:solidFill>
                <a:latin typeface="Constantia"/>
              </a:rPr>
              <a:t>споживчі витрати                           3 883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00"/>
                </a:solidFill>
                <a:latin typeface="Constantia"/>
              </a:rPr>
              <a:t>державні закупівлі                          1 013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00"/>
                </a:solidFill>
                <a:latin typeface="Constantia"/>
              </a:rPr>
              <a:t>валові приватні інвестиції               788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00"/>
                </a:solidFill>
                <a:latin typeface="Constantia"/>
              </a:rPr>
              <a:t>(приватні інвестиції + амортизація 254+534=788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00"/>
                </a:solidFill>
                <a:latin typeface="Constantia"/>
              </a:rPr>
              <a:t>чистий  експорт 132 – 189                  -57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00"/>
                </a:solidFill>
                <a:latin typeface="Constantia"/>
              </a:rPr>
              <a:t>ВВП(ВНП)                                        5 627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C + G + I + Nx =</a:t>
            </a:r>
            <a:r>
              <a:rPr b="0" lang="uk-UA" sz="3600" spc="-1" strike="noStrike">
                <a:solidFill>
                  <a:srgbClr val="ff0000"/>
                </a:solidFill>
                <a:latin typeface="Constantia"/>
              </a:rPr>
              <a:t>ВВП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42960" y="7858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Constantia"/>
              </a:rPr>
              <a:t>За доходами: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Constantia"/>
              </a:rPr>
              <a:t>прибуток = 398 + 170 + 188 + 122 = 878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Constantia"/>
              </a:rPr>
              <a:t>національний дохід = 3 420 + 43 + 291 + 878 = 4632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Constantia"/>
              </a:rPr>
              <a:t>чистий ВВП = 4 632 + 461 = 5 093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Constantia"/>
              </a:rPr>
              <a:t>ВВП(ВНП) = 5 093 + 543 = 5 627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Constantia"/>
              </a:rPr>
              <a:t>ВВП</a:t>
            </a: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 = W + Pr + i + R + A + T</a:t>
            </a:r>
            <a:r>
              <a:rPr b="0" lang="uk-UA" sz="3600" spc="-1" strike="noStrike">
                <a:solidFill>
                  <a:srgbClr val="ff0000"/>
                </a:solidFill>
                <a:latin typeface="Constantia"/>
              </a:rPr>
              <a:t>п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Содержимое 4" descr=""/>
          <p:cNvPicPr/>
          <p:nvPr/>
        </p:nvPicPr>
        <p:blipFill>
          <a:blip r:embed="rId2"/>
          <a:stretch/>
        </p:blipFill>
        <p:spPr>
          <a:xfrm>
            <a:off x="235080" y="1306440"/>
            <a:ext cx="867384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928800" y="347760"/>
          <a:ext cx="7572240" cy="6060960"/>
        </p:xfrm>
        <a:graphic>
          <a:graphicData uri="http://schemas.openxmlformats.org/drawingml/2006/table">
            <a:tbl>
              <a:tblPr/>
              <a:tblGrid>
                <a:gridCol w="1428480"/>
                <a:gridCol w="1285920"/>
                <a:gridCol w="1490760"/>
                <a:gridCol w="1400040"/>
                <a:gridCol w="1967040"/>
              </a:tblGrid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краї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івень зростання ВВП(%до попереднього року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ВП/особ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ол. США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008 рі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івень зростання ВВП(%до попереднього року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ВП/особ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ол. США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009 рі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Естоні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3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 8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14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6 2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Італі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1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 1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5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 5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атві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7 5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18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 0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імечч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3 7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 14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Ш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3 6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2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 2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горщ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7 99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6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6 88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Швеці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0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4 2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5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 1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краї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 76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15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 7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олдо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 7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6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 59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642960"/>
            <a:ext cx="8229600" cy="56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                </a:t>
            </a: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« ПРЕС»            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Я ВВАЖАЮ, ЩО… 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ТОМУ, ЩО…                  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НАПРИКЛАД…                 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ОТЖЕ…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785520"/>
            <a:ext cx="8229600" cy="55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                                  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                     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                                     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стійке зростанн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забезпечення                                       бездефіцитни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повної  зайнятості                                   державний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                                                                      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бюджет      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стабільний рівень                                рівноважний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цін                                                            платіжний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                                                                 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баланс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Правильный пятиугольник 3"/>
          <p:cNvSpPr/>
          <p:nvPr/>
        </p:nvSpPr>
        <p:spPr>
          <a:xfrm>
            <a:off x="3429000" y="2928960"/>
            <a:ext cx="2357280" cy="1785960"/>
          </a:xfrm>
          <a:prstGeom prst="pentagon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Стрелка вниз 4"/>
          <p:cNvSpPr/>
          <p:nvPr/>
        </p:nvSpPr>
        <p:spPr>
          <a:xfrm>
            <a:off x="4357800" y="2571840"/>
            <a:ext cx="484200" cy="477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Стрелка влево 5"/>
          <p:cNvSpPr/>
          <p:nvPr/>
        </p:nvSpPr>
        <p:spPr>
          <a:xfrm>
            <a:off x="5643720" y="3357720"/>
            <a:ext cx="500040" cy="484200"/>
          </a:xfrm>
          <a:prstGeom prst="left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Стрелка влево 6"/>
          <p:cNvSpPr/>
          <p:nvPr/>
        </p:nvSpPr>
        <p:spPr>
          <a:xfrm>
            <a:off x="5286240" y="4500720"/>
            <a:ext cx="500040" cy="484200"/>
          </a:xfrm>
          <a:prstGeom prst="left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Стрелка вправо 7"/>
          <p:cNvSpPr/>
          <p:nvPr/>
        </p:nvSpPr>
        <p:spPr>
          <a:xfrm>
            <a:off x="3214800" y="342900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Стрелка вправо 8"/>
          <p:cNvSpPr/>
          <p:nvPr/>
        </p:nvSpPr>
        <p:spPr>
          <a:xfrm>
            <a:off x="3500280" y="45007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eeece1"/>
                </a:solidFill>
                <a:latin typeface="Calibri"/>
              </a:rPr>
              <a:t>Домашнє завдання: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Повторити поняття з теми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Виконати практичні вправ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                          № 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395, ст.  105,( 1 варіант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                          №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399, ст.   106,(2 варіант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Опрацювати інформацію  щодо макроекономічних показників України у поточному році: прогнози і реалії.(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ww.ukrstat.gov.ua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МЕТА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Визначити основні характеристики показників макроекономік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Оволодіти практичними навичками обчислювання за  різними методами макроекономічних показникі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Виховувати економічну культуру, толерантне ставлення до переконань однокласникі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ТЕМА:</a:t>
            </a:r>
            <a:r>
              <a:rPr b="0" lang="uk-UA" sz="4500" spc="-1" strike="noStrike">
                <a:solidFill>
                  <a:srgbClr val="ffff00"/>
                </a:solidFill>
                <a:latin typeface="Calibri"/>
              </a:rPr>
              <a:t>Основні макроекономічні показники. Методи розрахунку.</a:t>
            </a:r>
            <a:endParaRPr b="0" lang="en-US" sz="4500" spc="-1" strike="noStrike">
              <a:solidFill>
                <a:srgbClr val="eeece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4240" y="450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eeece1"/>
                </a:solidFill>
                <a:latin typeface="Calibri"/>
              </a:rPr>
              <a:t>                             </a:t>
            </a: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магічний”</a:t>
            </a:r>
            <a:br>
              <a:rPr sz="4500"/>
            </a:br>
            <a:r>
              <a:rPr b="0" lang="uk-UA" sz="4500" spc="-1" strike="noStrike">
                <a:solidFill>
                  <a:srgbClr val="eeece1"/>
                </a:solidFill>
                <a:latin typeface="Calibri"/>
              </a:rPr>
              <a:t>                </a:t>
            </a:r>
            <a:br>
              <a:rPr sz="4500"/>
            </a:br>
            <a:r>
              <a:rPr b="0" lang="uk-UA" sz="4500" spc="-1" strike="noStrike">
                <a:solidFill>
                  <a:srgbClr val="eeece1"/>
                </a:solidFill>
                <a:latin typeface="Calibri"/>
              </a:rPr>
              <a:t> п’ятикутник є бажаною, але недосяжною мрією більшості країн світу ?</a:t>
            </a:r>
            <a:endParaRPr b="0" lang="en-US" sz="4500" spc="-1" strike="noStrike">
              <a:solidFill>
                <a:srgbClr val="eeece1"/>
              </a:solidFill>
              <a:latin typeface="Calibri"/>
            </a:endParaRPr>
          </a:p>
        </p:txBody>
      </p:sp>
      <p:pic>
        <p:nvPicPr>
          <p:cNvPr id="100" name="Содержимое 3" descr="вопрос.jpeg"/>
          <p:cNvPicPr/>
          <p:nvPr/>
        </p:nvPicPr>
        <p:blipFill>
          <a:blip r:embed="rId2"/>
          <a:stretch/>
        </p:blipFill>
        <p:spPr>
          <a:xfrm>
            <a:off x="500040" y="214200"/>
            <a:ext cx="3929040" cy="325116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4"/>
          <p:cNvSpPr/>
          <p:nvPr/>
        </p:nvSpPr>
        <p:spPr>
          <a:xfrm>
            <a:off x="6091200" y="1427040"/>
            <a:ext cx="183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eeece1"/>
                </a:solidFill>
                <a:latin typeface="Calibri"/>
              </a:rPr>
              <a:t>ЧОМУ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28760" y="856800"/>
            <a:ext cx="8286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1.Збалансованість і  пропорційність процесів у масштабах народного господарства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2.Сукупність усіх благ, що знаходяться у розпорядженні суспільства країни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3.Статистична система макроекономічних результатів виробництва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4.Сукупна вартість кінцевої продукції, виготовленої на території даної країни,незалежно від того, кому належать фактори виробництва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5.Вартість товарів і послуг, вироблених не лише в країні, а й за ії межами вітчизняними підприємствами за рік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6840" y="928800"/>
            <a:ext cx="818676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6.Валовий національний продукт, зменшений на суму вартості спожитого за рік капіталу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7.Різниця між чистим національним продуктом і сумою доходів на національні фактори виробництва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8.Річний обсяг кінцевих товарів і послуг, виражений у поточних цінах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9.Річний обсяг кінцевих товарів і послуг, виражений у цінах базового періоду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10.Коефіціент, що використовується для корегування грошового вираження ВВП з урахуванням динаміки цін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Calibri"/>
              </a:rPr>
              <a:t>Ключ:</a:t>
            </a:r>
            <a:endParaRPr b="0" lang="en-US" sz="45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.р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івновага національної економік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2.національне багатство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3.система національного рахівництв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4.валовий внутрішній проду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5.валовий національний проду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6.чистий національний проду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7.національний дохід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8.номінальний ВВП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9.реальний ВВП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10.дефлятор ВВП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714240"/>
            <a:ext cx="822960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Розрахуйте показники ВВП, ВНП, НД, ЧНП умовної країни за даним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СКЛАДОВІ:                                                        ум.гр.од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чистий змішаний прибуток                    11 076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податок на прибуток                                  8 436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непрямі податки на бізнес                        9 43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оплата праці найманих працівників    38 931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амортизація                                                14 702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доходи від інших країн                                  16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доходи, виплачені іншим країнам            1 216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571680"/>
            <a:ext cx="8043840" cy="57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ЗА ВИТРАТАМ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ВВП =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 + I + G +Nx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ЗА ДОХОДАМ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ВВП =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 + Pr + I + R + A + T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п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ЧНП = ВНП – 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НД = ЧНП - Тп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8" name="Рисунок 3" descr="знання в книжках.jpeg"/>
          <p:cNvPicPr/>
          <p:nvPr/>
        </p:nvPicPr>
        <p:blipFill>
          <a:blip r:embed="rId2"/>
          <a:stretch/>
        </p:blipFill>
        <p:spPr>
          <a:xfrm>
            <a:off x="5214960" y="2786040"/>
            <a:ext cx="28814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Constantia"/>
              </a:rPr>
              <a:t>ВІДПОВІДІ: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НД= 38 931 +11 076 + 8 436 = 58 443 ум.грош.од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ВНП=58 443 + 14 702 + 9 430 = 82 575 ум.грош.од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ВВП = 82575 +( 160 – 1 216) = 81 519 ум.гр.од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ЧНП =82 575 – 14 702 = 67 873 ум.гр.од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0" name="Рисунок 3" descr="gorshochek_deneg.jpg"/>
          <p:cNvPicPr/>
          <p:nvPr/>
        </p:nvPicPr>
        <p:blipFill>
          <a:blip r:embed="rId2"/>
          <a:stretch/>
        </p:blipFill>
        <p:spPr>
          <a:xfrm>
            <a:off x="5357880" y="3500280"/>
            <a:ext cx="36432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1T13:22:44Z</dcterms:created>
  <dc:creator>admin</dc:creator>
  <dc:description/>
  <dc:language>en-US</dc:language>
  <cp:lastModifiedBy>Admin</cp:lastModifiedBy>
  <dcterms:modified xsi:type="dcterms:W3CDTF">2014-01-25T07:51:39Z</dcterms:modified>
  <cp:revision>37</cp:revision>
  <dc:subject/>
  <dc:title>УРОК ЕКОНОМІКИ    11 клас</dc:title>
</cp:coreProperties>
</file>