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A9E-E7CB-4934-A2A1-21F3FBE0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A5A-01B4-48A5-A9AF-B2C10742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469-60F2-48C5-9CBA-55D4F46F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2DF-989B-4A46-B52D-5823C9C3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573E7-1D15-4534-9458-5C6BF061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A2543-BD44-4F5F-9745-03FEAFB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85B34-F3C3-4DD8-BBB7-8A9A32CD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01986-2012-48D0-9972-FFC7A426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078B6-29C9-45EA-BEF0-5B13567B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59FD5-3484-444A-A3F7-C71D5F0D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9A23E-E1FE-400B-AE7B-5A17C5DA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B4F-7722-4528-812E-85C95F25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3A304-6B29-4F8E-B4B1-4089EF91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AA0A2-7270-4F98-8114-623A74D2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AA2A4-1B3C-4EB7-A429-D1BABAA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A682D-3420-4F69-86F5-C39E542C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1EA85-C9D1-4AA5-85F2-84A7EC59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7CA0-5969-45BF-998A-62B40CC6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AA56-25CB-4380-9C70-798B2523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7928-3FEC-46E6-B2FD-CD7AA75F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7D3F-9184-4861-BC74-7C0A41B6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CC4C-F527-453F-A854-8594F0ED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560-8200-4D85-B9AB-CB88113C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B08D-0B8E-4C6D-AC79-924FB3C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66A3-0B97-474A-8800-B7710AAB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8413-112F-4E6F-85BE-C23C7B5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A7CC-4E1A-434C-8B87-E60CF844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9BFB-B8EB-4235-BDA0-D8275314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75EA-EEE6-4AC1-A544-C9D3DD3B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0512-2649-4DC1-B30E-77371A1E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38438-EE3E-4C03-B632-98D170C8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C3772A-22BF-4105-9C9F-EF21EB5B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29DD7-7FDE-45A9-A326-56CC8CD2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430-6779-4BAD-8975-80E9D3A9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A5374-EEFA-4775-A6E0-7E1CF3B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31AF9B-CFAA-4A65-B282-D7816BE5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52475-1822-43D9-88B7-9722B9A7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A00DB-83F7-407B-A753-E88FC2F0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FB8CD-1E03-42BC-8DF6-97800BF0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13DC2-5E68-491E-86C5-AC9CE69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D7748-EBDA-4F2F-8AE7-B44781A6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D3BE7-8BEC-43C9-8237-AC0FE2CC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F8906-D339-4E56-B1D2-07867B1F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2FA7B-B04B-45C6-A6F2-CC89132F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243-7214-428F-AF3C-E368EA4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A574D-8DD9-4C1D-84DF-30E6E389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2114B-B5B8-49B8-B151-CB70CB40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5FF30-F096-4B5E-A75D-5ABA4BA2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F33FC-509E-4624-A87D-B9782D43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6DA81-830A-4046-AE48-7C5ECCC4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95C92-23FD-46EC-9AE9-066073A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DDDF0-0D1C-426F-B0AB-83BDB945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D807E-DB1C-4CC3-81F5-507FDDA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5C92C-49F8-4611-BFA3-0B639802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77076-9146-480C-A829-9E447460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BE2-38D2-46F0-A54B-FC95C56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FEC8B-80FE-4664-9131-B33AD199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9627C-2F43-400B-839B-310302E9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5DA94-1FC2-4543-B547-CF42F609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134A4-4489-4313-A373-8D463523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28840-5C7F-4D42-A9AE-A46746BD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F06BA-42B0-4CFE-BFB8-E8B86DB8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ADB7A-21BB-4E96-8DD6-310C73DE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6226E-8370-43C8-9E35-3B02DB11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EBC7F-DC77-4F98-AEA9-682BCA30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B40D7-8AEB-4559-ADEA-65237B5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430-8385-442F-A21E-8BD75331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7FFA5-12BB-4836-BA6E-47F727F4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EA3D5-0D69-47EE-9A63-950F6F9F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3F758-8A55-4F2B-A7E6-BF1A24B6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C7E-DDD2-4CD6-8B5D-1FBF6E6A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7A0-54DA-4E97-A7AA-903B1A4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E338-F50C-47DD-A06B-AF824B221F7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4CE2-EB7D-4749-B4EE-1BCFF5BD9F5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7C26-CF6E-4058-BD09-4B5265EE9C0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A7D6-277D-4351-8208-BF83240A140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1F47-F3DA-496B-B409-90B55467C8A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68C6-0695-44B8-8B7D-E2FA1AFD2A8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3" descr=""/>
          <p:cNvPicPr/>
          <p:nvPr/>
        </p:nvPicPr>
        <p:blipFill>
          <a:blip r:embed="rId2"/>
          <a:stretch/>
        </p:blipFill>
        <p:spPr>
          <a:xfrm>
            <a:off x="208080" y="195120"/>
            <a:ext cx="8485200" cy="2230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3"/>
          <a:stretch/>
        </p:blipFill>
        <p:spPr>
          <a:xfrm>
            <a:off x="1547640" y="2492280"/>
            <a:ext cx="6409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257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3024000" cy="2881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4103640" cy="475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38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 rot="186600">
            <a:off x="465120" y="337680"/>
            <a:ext cx="4033800" cy="4083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 rot="573600">
            <a:off x="4723920" y="2533320"/>
            <a:ext cx="38912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6084720" y="1268280"/>
            <a:ext cx="2808360" cy="4032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489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058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41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6626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1523880" y="549360"/>
            <a:ext cx="60962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1322280" y="469800"/>
            <a:ext cx="7371000" cy="10908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496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загальнити та систематизувати знання учнів з вивчених тем з економіки,закріпити практичні вміння і навички. Розвивати критичне мислення, ініціативу, уміння обґрунтувати свої думки,активізувати групову розумову діяльність. Виховувати культуру спілкування, колективізм, інтерес до науки економі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048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425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611280" y="549360"/>
            <a:ext cx="80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Чи є різниця між споживачем і покупцем? Між товаром і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продуктом?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547640" y="2781360"/>
            <a:ext cx="547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539640" y="54936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ислів одного з економіст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ів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                </a:t>
            </a: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« Бджола збирає нектар не для того,    щоб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запилювати квіти, вона бажає отримувати мед. У кінцевому ж рахунку вона служить інтересам квітів.  Те ж саме відбувається і з підприємництвом.»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826920" y="260280"/>
            <a:ext cx="705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.Видатний економіст А. Сміт сформулював проблему, яку згодом</a:t>
            </a:r>
            <a:r>
              <a:rPr b="0" lang="uk-UA" sz="2800" spc="-1" strike="noStrike">
                <a:solidFill>
                  <a:srgbClr val="4e75a3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назвали </a:t>
            </a:r>
            <a:r>
              <a:rPr b="0" lang="uk-UA" sz="2800" spc="-1" strike="noStrike">
                <a:solidFill>
                  <a:srgbClr val="ff0000"/>
                </a:solidFill>
                <a:latin typeface="Constantia"/>
              </a:rPr>
              <a:t>«парадоксом води та діамантів»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«Чому вода, без якої  неможливо жити, має таку низьку ціну, у той час як  діаманти, які  не є насущним благом мають таку високу ціну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302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539640" y="255960"/>
            <a:ext cx="784872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Розв язати економічну задач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Arial"/>
                <a:ea typeface="Times New Roman"/>
              </a:rPr>
              <a:t>Обчисліть, скільки грошей варто випустити в обіг,якщо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номінальний ВВП країни  дорівнював 750 млн.у.о.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швидкість обігу однієї грошової одиниці  на рік—6 разів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ошова маса на початку року становила—90 млн. у.о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539640" y="487440"/>
            <a:ext cx="792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Розв язати  економічну задачу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значте у гривнях, якою буде ціна землі (1 сотки), якщо площа земельних ділянок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), пропонованих на ринку, становить 500 соток, ставка банківського відсотка -- 20%. Попит на землю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) заданий рівнянням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2000 – 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де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нта.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8:19:55Z</dcterms:created>
  <dc:creator>дом</dc:creator>
  <dc:description/>
  <dc:language>en-US</dc:language>
  <cp:lastModifiedBy>Admin</cp:lastModifiedBy>
  <dcterms:modified xsi:type="dcterms:W3CDTF">2014-01-29T18:27:2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c000000000001024140</vt:lpwstr>
  </property>
</Properties>
</file>