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477-64FF-4521-BFEA-52C4D9F3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C9F-69CB-4799-9472-B7908A23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C75-BFBB-4C73-9987-CCB46FC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5E6-E658-4E06-9010-EAD77340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C889F-6B8F-4FC2-9F7E-729A122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C0C01-2B5A-4F42-8A1D-9AE1444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9D6D0-B2AB-4765-8744-03EB605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5A68C-E754-4A4A-8942-087E69C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8D4A-F462-4F32-B5A8-B775B8A1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C69D1-83C7-4139-AC49-1BD9CBF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4788-7CC2-424A-8F12-5FB0A44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099-6FA7-445A-BA09-52C96981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E4F20-32D6-437F-8B41-2E46896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484A7-B0D0-4C71-82A5-AF2A386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56A5F-C2DA-47E7-9E1E-EFC1EFC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D20B4-36E4-4153-99E9-99921A70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91095-B68A-4AFD-AB0A-E4877009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C686-CC52-44E9-9F6C-799A958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10AD-A92C-4059-AEFA-C2C778AF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AF9E-27F8-4A29-85D9-B857EA6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6907-B320-4DD5-83BF-BF789B7B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32E4-7C31-4AF3-A07A-12F85CC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956-28BF-4AB6-AF21-B71E6812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7AAF-C16F-48D7-9E75-AD0B6AE8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7BFB-1A1A-489D-85A4-13214E5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1A0A-49FF-4AF3-90A4-12DF253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BD5C-A075-4344-8D83-1F694CF7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FBA8-E737-43C5-A60A-7845121C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3FF3-C626-4BF7-8476-E50866BC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6CDB-2E45-4DCE-8CD9-115AAA42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B0497-F1B7-4450-98C6-5D2E9B7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8F9DE-748E-4BB2-B5E0-32C36582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0F948-5BD1-442E-8EF4-AA2C51DD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968-3265-4A8D-A669-D7D07F19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A2896-3535-4003-9F74-3089332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1885F-95B3-4FBD-B924-D278BD41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EF0C6-6107-4066-BD76-157D7E5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D7404-BA26-456D-8870-93963B4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15EF2-C210-4B8B-9D86-D6C1D23B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1145E-EEFF-48AE-A7A5-6985ECD3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4FA8A-BC6F-4B7A-9B9A-BEDD295E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8C3781-DC8F-462B-9587-DB9ACF8F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BA945-C565-459F-9546-89B2168E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BBA8E-D36A-4BCD-9812-B6E52337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C89-9927-4028-9165-306CF204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18CC2-BD91-4082-8401-22CCFB61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3CD46-7B69-4B78-9245-2F87B488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DAEB8-B829-4466-A8EC-A13FB026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03050-FE70-40B9-B682-25A0768F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78CB1-B1A7-4551-944B-090A0E0F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C0DD8-160B-4F32-9FDC-1E43309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CEB07-9704-48CD-9EF2-EB01ED8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BDBCB-996E-4B31-ACEE-8BB18A6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69B89-62C6-41B3-A2E1-DE26DE3E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6E572-2429-4A50-B7B3-C7EBAB62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7FE-013B-45A0-87E4-8F6159D9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77C8E-DEA6-4FFE-B9F4-7EDAD3CA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9131D-DA03-477D-9CCA-C0E44C8B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2C771-5CB7-489C-BFB8-8D2FAA2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0CB0F-6A87-4EE9-AB07-2384B04A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50700-FDD1-46F4-8C5E-2231922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920FC-DB6B-4F5C-91BD-73DF6A3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44390-A323-4A26-A989-E180BCE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859AC-D5F3-4744-9ABD-61D69A0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46EF3-C69D-4C24-9DFB-7815D0E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A6ACD-965C-42CE-B87D-BC3ABB9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DE3-EAA0-414B-91A6-358992E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51A7B-BC63-43D4-A591-89591BF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7C246-D86E-4FB4-ABAA-A73F35D6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1BA17-7A1C-4209-A3BB-C4BA4D3B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C35-1CA1-4445-A10B-1BB4D2A4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EBD-B150-4BD5-AF95-6880821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84F4-B828-4590-BE88-9CC4B1220DE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ADC3-5E00-4A8D-AC51-19BEC7CA9EB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B00-245F-4C06-B3DD-BADC2B9B635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6EC7-2D48-438C-B7D2-414B20B3B99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C13-2387-4AB4-A32D-AAE2FD7522B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8E50-27EC-4A5C-B1BA-7CC41227340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3" descr=""/>
          <p:cNvPicPr/>
          <p:nvPr/>
        </p:nvPicPr>
        <p:blipFill>
          <a:blip r:embed="rId2"/>
          <a:stretch/>
        </p:blipFill>
        <p:spPr>
          <a:xfrm>
            <a:off x="208080" y="195120"/>
            <a:ext cx="8485200" cy="2230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1547640" y="2492280"/>
            <a:ext cx="6409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257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024000" cy="2881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103640" cy="47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38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 rot="186600">
            <a:off x="465120" y="337680"/>
            <a:ext cx="4033800" cy="408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 rot="573600">
            <a:off x="4723920" y="2533320"/>
            <a:ext cx="38912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2808360" cy="4032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489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05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41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6626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1523880" y="549360"/>
            <a:ext cx="60962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1322280" y="469800"/>
            <a:ext cx="7371000" cy="1090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496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Узагальнити та систематизувати знання учнів з вивчених тем з економіки,закріпити практичні вміння і навички. Розвивати критичне мислення, ініціативу, уміння обґрунтувати свої думки,активізувати групову розумову діяльність. Виховувати культуру спілкування, колективізм, інтерес до науки економі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048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425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611280" y="54936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Чи є різниця між споживачем і покупцем? Між товаром і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продуктом?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54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539640" y="549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ислів одного з економіст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ів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                </a:t>
            </a: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« Бджола збирає нектар не для того,    щоб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запилювати квіти, вона бажає отримувати мед. У кінцевому ж рахунку вона служить інтересам квітів.  Те ж саме відбувається і з підприємництвом.»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826920" y="260280"/>
            <a:ext cx="70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.Видатний економіст А. Сміт сформулював проблему, яку згодом</a:t>
            </a:r>
            <a:r>
              <a:rPr b="0" lang="uk-UA" sz="2800" spc="-1" strike="noStrike">
                <a:solidFill>
                  <a:srgbClr val="4e75a3"/>
                </a:solidFill>
                <a:latin typeface="Constanti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назвали </a:t>
            </a:r>
            <a:r>
              <a:rPr b="0" lang="uk-UA" sz="2800" spc="-1" strike="noStrike">
                <a:solidFill>
                  <a:srgbClr val="ff0000"/>
                </a:solidFill>
                <a:latin typeface="Constantia"/>
              </a:rPr>
              <a:t>«парадоксом води та діамантів»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«Чому вода, без якої  неможливо жити, має таку низьку ціну, у той час як  діаманти, які  не є насущним благом мають таку високу ціну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02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539640" y="255960"/>
            <a:ext cx="784872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озв язати економічну задач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"/>
                <a:ea typeface="Times New Roman"/>
              </a:rPr>
              <a:t>Обчисліть, скільки грошей варто випустити в обіг,якщ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номінальний ВВП країни  дорівнював 750 млн.у.о.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швидкість обігу однієї грошової одиниці  на рік—6 разів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ошова маса на початку року становила—90 млн. у.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539640" y="487440"/>
            <a:ext cx="79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Розв язати  економічну задачу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начте у гривнях, якою буде ціна землі (1 сотки), якщо площа земельних ділянок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, пропонованих на ринку, становить 500 соток, ставка банківського відсотка -- 20%. Попит на землю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) заданий рівнянням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2000 – 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де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нта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8:19:55Z</dcterms:created>
  <dc:creator>дом</dc:creator>
  <dc:description/>
  <dc:language>en-US</dc:language>
  <cp:lastModifiedBy>Admin</cp:lastModifiedBy>
  <dcterms:modified xsi:type="dcterms:W3CDTF">2014-01-29T18:27:2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c000000000001024140</vt:lpwstr>
  </property>
</Properties>
</file>