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5F7-0816-4D34-8A9D-D5455D9D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40D-4293-4D4E-99C2-CDFC307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C01-3F44-4F50-A437-341072B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C97-7AF8-4B0C-B9E3-C1371289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DF54F-458B-4A45-830C-BF3C185A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8B32C-FDDF-4AD1-A560-030C6F7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61A4A-5A6B-44E9-999A-A918762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8F90-8CC9-4C6D-BB3A-8639BAF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9FB67-9E8C-4052-B2D5-E867B007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2057-6D12-4669-8FF2-B1BF7E04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E338F-DBF7-46FA-9378-C73A0BF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01F-276D-4480-B427-B54C2945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AB5E-5FF0-4A75-A3CA-966048D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E7A5-35B5-466E-B866-5F59C9B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C875A-40CC-42E2-B3C2-E5BD832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4BE5-E8F0-4BE3-942B-793EDCF6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DF00-41E6-45BB-935D-EA1A8135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0754-BAAE-44A5-A688-6287E2C6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2DDF-052E-4B12-9421-0FA05B3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8F24-09AD-4A4D-8713-1DBA6D4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AFB4-C329-4266-9202-9E5F448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A875-D314-44BD-AB18-319815B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104-E4E3-4F7F-944D-1902594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7AF8-75EC-45D0-B3CF-135C08B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6175-87FD-49DF-AD71-A1FF726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89E9-193C-4FDB-BAC4-3ABE73DC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7B22-3FDE-4A11-86FE-712E985C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8234-BF9C-4407-BC2C-A5C2B3AB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A616-99EE-4629-8671-2C8F104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28F6-7FFA-46BA-A2E4-7418572D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019DF-79A9-47B6-99AE-06A726E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B6614-5F88-4521-9A59-6F633FF4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E853C-465F-4E26-AC6A-FC42ED2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194-D71C-4E0F-8F6E-E922136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DA06F-18D6-4823-B3D9-6E34249E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F7EEC-37EF-45C1-88C1-45F7E6E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DC97E-CA54-41C3-A736-0DC6DDEB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07E10-31E2-4FD3-81B5-9E6D0E1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7DBE7-0EB1-4F1E-9124-552CD97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5EC2E-B699-4BD0-A63E-E48D83B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78897-9970-4DE8-8625-BA1DEAC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9C9D8-72F5-4C51-8550-696496DA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F359E-9D0B-4A29-9380-C5AB73EA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0B869-7BAF-45F4-93A2-AC0C8B9A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389-8FA0-47C9-B93A-8B0F27A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49259-8ADC-40A2-91EB-0FF2A0B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C7664-B3CC-4ACA-9BA1-EB7D08E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F9ACD-A2B2-4CE5-B91C-D74BA52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2A28A-2009-4D8A-A34A-9A13F44F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EB8A1-AB31-4B8A-A17B-3495C5A4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25A28-41CD-4191-B3DB-AA666D8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C1B6C-1FDD-438E-8128-52DA13D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98A93-476F-4504-A1BA-0236746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33DF9-AC62-4DBF-A26A-5DA5BD5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2B177-7772-4428-8EF1-DE3F0D13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175-7D99-44F6-A1F2-665CC5A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814FA-F4EC-4390-8484-7EB50493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0D9F2-AA22-48B7-AFDA-C36F126E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D06F9-1FCC-4B08-A70B-4F10FD8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E69BD-629C-4515-8D02-E67E83AC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6A2C3-D1F5-4A2F-8F87-EB1C49E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576B0-0CEF-43FB-ADDC-B976F63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9F84C-EC08-4F81-B28B-06B1D95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1956E-56A7-4717-8503-ADA956C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2BC6E-2D0D-4543-9E7F-95640AF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BCB1A-39E0-436C-9AB5-6B95DB0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C31-ACB1-472D-9F53-F961CA6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F94AA-29E0-471D-AD93-CD3C068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B8C2E-003E-4217-A80C-FA633260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19390-87E1-4589-9588-C901DA8D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85F-9762-49A5-AC25-3711A0F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EFD-825D-430F-AA68-DB872D0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60C-0C9E-476B-8528-B60DFF9704C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F96-9870-4B4A-8767-65176ADBD3B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FC7-D03D-4BDF-A6BA-39C3D98B58C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31D-4D43-4D03-A5D6-82FC9FE6C8B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A56-382E-4E6B-8D45-2B44B2305B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D02-A3B5-4304-AAAF-5C4B4F2470C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2"/>
          <a:stretch/>
        </p:blipFill>
        <p:spPr>
          <a:xfrm>
            <a:off x="208080" y="195120"/>
            <a:ext cx="8485200" cy="2230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1547640" y="2492280"/>
            <a:ext cx="6409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25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024000" cy="2881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103640" cy="47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 rot="186600">
            <a:off x="465120" y="337680"/>
            <a:ext cx="4033800" cy="408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 rot="573600">
            <a:off x="4723920" y="2533320"/>
            <a:ext cx="3891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2808360" cy="403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489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05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41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626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1523880" y="549360"/>
            <a:ext cx="60962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322280" y="469800"/>
            <a:ext cx="7371000" cy="1090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49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загальнити та систематизувати знання учнів з вивчених тем з економіки,закріпити практичні вміння і навички. Розвивати критичне мислення, ініціативу, уміння обґрунтувати свої думки,активізувати групову розумову діяльність. Виховувати культуру спілкування, колективізм, інтерес до науки економі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048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425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611280" y="54936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 є різниця між споживачем і покупцем? Між товаром і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родуктом?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54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539640" y="549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ислів одного з економіст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ів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       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« Бджола збирає нектар не для того,    щоб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запилювати квіти, вона бажає отримувати мед. У кінцевому ж рахунку вона служить інтересам квітів.  Те ж саме відбувається і з підприємництвом.»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26920" y="260280"/>
            <a:ext cx="70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.Видатний економіст А. Сміт сформулював проблему, яку згодом</a:t>
            </a:r>
            <a:r>
              <a:rPr b="0" lang="uk-UA" sz="2800" spc="-1" strike="noStrike">
                <a:solidFill>
                  <a:srgbClr val="4e75a3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назвали </a:t>
            </a:r>
            <a:r>
              <a:rPr b="0" lang="uk-UA" sz="2800" spc="-1" strike="noStrike">
                <a:solidFill>
                  <a:srgbClr val="ff0000"/>
                </a:solidFill>
                <a:latin typeface="Constantia"/>
              </a:rPr>
              <a:t>«парадоксом води та діамантів»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«Чому вода, без якої  неможливо жити, має таку низьку ціну, у той час як  діаманти, які  не є насущним благом мають таку високу ціну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02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39640" y="255960"/>
            <a:ext cx="784872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економічну задач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"/>
                <a:ea typeface="Times New Roman"/>
              </a:rPr>
              <a:t>Обчисліть, скільки грошей варто випустити в обіг,якщ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номінальний ВВП країни  дорівнював 750 млн.у.о.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швидкість обігу однієї грошової одиниці  на рік—6 разів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ошова маса на початку року становила—90 млн. у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539640" y="487440"/>
            <a:ext cx="79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 економічну задачу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начте у гривнях, якою буде ціна землі (1 сотки), якщо площа земельних ділянок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, пропонованих на ринку, становить 500 соток, ставка банківського відсотка -- 20%. Попит на землю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) заданий рівнянням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2000 –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де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нта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8:19:55Z</dcterms:created>
  <dc:creator>дом</dc:creator>
  <dc:description/>
  <dc:language>en-US</dc:language>
  <cp:lastModifiedBy>Admin</cp:lastModifiedBy>
  <dcterms:modified xsi:type="dcterms:W3CDTF">2014-01-29T18:27:2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c000000000001024140</vt:lpwstr>
  </property>
</Properties>
</file>