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432-D191-4226-BEF5-7B99311F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52D-F0CA-4152-9987-8513E32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5F9-B3C8-44A1-B182-F3D32EFE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F78-A4D4-419D-A611-3485BF61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EF69-5EED-4F84-98CF-A0C0A02F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7F21-D826-4FB9-A658-107539F5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0A17-F3EE-4E55-AC53-DFF55100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EE40-DAB6-402C-B47C-CECA75CD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0E27-1568-42BB-87B2-C9B55956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DEB7-5428-4CDA-B828-66ED29B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1FFF-F840-4203-9C7B-01CEE92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AB4-0434-453E-ADA2-A0F2929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00CF-8D64-4BF4-BA4F-8FD2319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C848-8647-4EB9-B8F0-CA7160B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40B-4CCC-4405-AFB1-4404B7B4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D3E7-05F9-4BD8-97AA-5E0A2351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4B3-2861-40F9-8568-A9AB0BBA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518F-4D23-42DA-81E3-6749F849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F53A-0B70-40D4-9217-117BDA3E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A6F5-3D0D-4E4E-99B3-4C318D18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F766-9063-4CE4-ADE6-62F9BE1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7B14-8031-46A4-9E66-DE8B7F1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A52-C245-4160-8882-B0219C7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50C3-0CE7-46BF-8708-5C7719A9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788C-EE8E-4F06-8AB3-D1FEE891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6B22-3F64-435E-8740-D5F58DD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7F21-9C4F-4110-B3E2-AFD81B8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9834-8412-4A60-8A04-34D61FF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6B0A-EE11-49ED-9703-548B4B74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CF5E-B85F-408A-A680-9466FC06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78EE-6039-4285-89E6-77994E00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16AD-FB3A-428B-9E8A-4F4B8514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8BEE-8F26-471C-98BF-08AEFEF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D84-2C27-4A0E-B416-D66D602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A274-29DE-431C-813D-3D2F4DEC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F3D9-EEB0-4048-8D34-53B4CFAC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BB20-574A-4FA3-B198-DF7ABCD8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C515-8F6C-43EA-B1AC-3BF82E7C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AD3C-533E-4F9F-AAEF-E0C39458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892A-7DFA-478A-AB48-4DE568A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1ED1-6724-4198-9281-868E1217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9FA7-E67D-4544-AE88-5209286B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0E98-5F16-4451-9D70-77AEEDC7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CC41D-58BC-4527-8396-C4B88A10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457-ADCB-4903-BAC5-3C99950B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A9B4-96D7-4105-974A-5C28C223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5D8D-3FF8-4103-AF80-06CF5864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D930-EEF1-4E2C-9AC6-9C1BBE0C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D3DFB-A2B4-4CBA-8989-A5A270FB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2C2A-E0C4-400D-AEE7-543D2121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4EEA-AFA3-4F33-A499-2F47EC3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84FF1-D177-4214-9AA9-B1FB3AD5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B03F-A32F-464A-9235-D583F8B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B09E-304D-4CD2-85B3-0F620B47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15B1-0B2C-4547-A943-C69AD775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FF1-1378-4E7D-BFC1-10D39311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4C0E-422F-4100-A03C-BD141BB5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F653-AE2D-4786-A6C6-C33154A5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2BD8-AFEB-41BF-97C3-3D668610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2F99D-AE1A-4723-9431-365D87C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3843D-94FC-4716-B8FD-4C9D4AA6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07E0F-888F-4DA1-95E7-2B006D48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CB6A-CDA2-4010-BC33-E3EBEE9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74A7-E4B3-4323-BC34-BC43868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F583-95AD-43F0-A47B-EE79D4C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B409C-699B-44CA-A850-A6719A4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2DE-7B12-45A6-A336-94FA8B2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F156-5C63-4BB0-8C11-22C124B0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36535-59E1-405D-9818-C0F7E411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4B01D-4940-4098-88FE-19C08333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108-C8A8-4807-9050-EB8C0673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34B-0F46-4ADC-9D91-EFD120F4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5098-E6EB-4692-8DC1-E317CF7EA94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C375-327D-4445-82DC-B89349E9F8B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7150-3569-4573-85F8-E826805ABA3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E01C-2D48-4FBA-9E36-3DC5EC5C9A9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D87-450F-4CBC-992E-B3CFC4E3F60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3259-69C4-40DB-AD25-1949D6FE7FC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03320" y="285840"/>
            <a:ext cx="9053280" cy="2450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www.solidarnost.org/netcat_files/1171/1170/money_resize.jpg"/>
          <p:cNvPicPr/>
          <p:nvPr/>
        </p:nvPicPr>
        <p:blipFill>
          <a:blip r:embed="rId2"/>
          <a:stretch/>
        </p:blipFill>
        <p:spPr>
          <a:xfrm>
            <a:off x="785880" y="2000160"/>
            <a:ext cx="7572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262080"/>
            <a:ext cx="8547120" cy="27795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http://minfin.com.ua/img/2013/810107/big.jpg?1379407355"/>
          <p:cNvPicPr/>
          <p:nvPr/>
        </p:nvPicPr>
        <p:blipFill>
          <a:blip r:embed="rId2"/>
          <a:stretch/>
        </p:blipFill>
        <p:spPr>
          <a:xfrm>
            <a:off x="642960" y="3143160"/>
            <a:ext cx="800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1" descr=""/>
          <p:cNvPicPr/>
          <p:nvPr/>
        </p:nvPicPr>
        <p:blipFill>
          <a:blip r:embed="rId1"/>
          <a:stretch/>
        </p:blipFill>
        <p:spPr>
          <a:xfrm>
            <a:off x="23760" y="122400"/>
            <a:ext cx="91011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55440" y="-66600"/>
            <a:ext cx="8917200" cy="5333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http://provce.ck.ua/wp-content/uploads/2013/03/originnal_634dc35bf8e6099c371c9d2984fb4f03.jpg"/>
          <p:cNvPicPr/>
          <p:nvPr/>
        </p:nvPicPr>
        <p:blipFill>
          <a:blip r:embed="rId2"/>
          <a:stretch/>
        </p:blipFill>
        <p:spPr>
          <a:xfrm>
            <a:off x="4143240" y="3071880"/>
            <a:ext cx="4761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1" descr=""/>
          <p:cNvPicPr/>
          <p:nvPr/>
        </p:nvPicPr>
        <p:blipFill>
          <a:blip r:embed="rId1"/>
          <a:stretch/>
        </p:blipFill>
        <p:spPr>
          <a:xfrm>
            <a:off x="23760" y="-85680"/>
            <a:ext cx="90471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" descr=""/>
          <p:cNvPicPr/>
          <p:nvPr/>
        </p:nvPicPr>
        <p:blipFill>
          <a:blip r:embed="rId1"/>
          <a:stretch/>
        </p:blipFill>
        <p:spPr>
          <a:xfrm>
            <a:off x="55440" y="66600"/>
            <a:ext cx="9015480" cy="4481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http://image.newsru.ua/pict/id/large/224296.gif"/>
          <p:cNvPicPr/>
          <p:nvPr/>
        </p:nvPicPr>
        <p:blipFill>
          <a:blip r:embed="rId2"/>
          <a:stretch/>
        </p:blipFill>
        <p:spPr>
          <a:xfrm>
            <a:off x="2000160" y="4143240"/>
            <a:ext cx="4762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1" descr=""/>
          <p:cNvPicPr/>
          <p:nvPr/>
        </p:nvPicPr>
        <p:blipFill>
          <a:blip r:embed="rId1"/>
          <a:stretch/>
        </p:blipFill>
        <p:spPr>
          <a:xfrm>
            <a:off x="23760" y="-92160"/>
            <a:ext cx="93218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1" descr=""/>
          <p:cNvPicPr/>
          <p:nvPr/>
        </p:nvPicPr>
        <p:blipFill>
          <a:blip r:embed="rId1"/>
          <a:stretch/>
        </p:blipFill>
        <p:spPr>
          <a:xfrm>
            <a:off x="158760" y="-66600"/>
            <a:ext cx="8826480" cy="23828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http://image.zn.ua/media/images/original/Oct2011/37552.jpg"/>
          <p:cNvPicPr/>
          <p:nvPr/>
        </p:nvPicPr>
        <p:blipFill>
          <a:blip r:embed="rId2"/>
          <a:stretch/>
        </p:blipFill>
        <p:spPr>
          <a:xfrm>
            <a:off x="1357200" y="2286000"/>
            <a:ext cx="6500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6:57:06Z</dcterms:created>
  <dc:creator>Влад</dc:creator>
  <dc:description/>
  <dc:language>en-US</dc:language>
  <cp:lastModifiedBy>Влад</cp:lastModifiedBy>
  <dcterms:modified xsi:type="dcterms:W3CDTF">2014-02-19T17:50:20Z</dcterms:modified>
  <cp:revision>4</cp:revision>
  <dc:subject/>
  <dc:title>Соціально-економічні наслідки безробітт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28000000000001024140</vt:lpwstr>
  </property>
</Properties>
</file>