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12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8A4A-F258-4A35-AE8C-4BD057B67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8F03-6DEA-43CE-B393-36A949D9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0D6E-29C7-4A65-9C5D-8B73E99D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D422-96A7-40A1-AD8F-F48327075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4039-C244-48C6-BEEE-D30C8865D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8A4A-BC34-41E5-AC81-BF59B3D2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6038-52EC-4007-86FC-43558E33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B9B6-FF2E-438B-874F-6EA93DD0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D32C-9C73-4788-A2D4-CACAD945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6A2C-517A-47DC-AA34-90E05D6B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EFED-B116-4024-93E7-0D99292D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2CC4-01B6-45CE-B03E-DCB1A19A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AFB2-5CB3-4F2C-BA37-0C0C644A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94C7-9B57-4CB1-AF24-31F66234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85B3-3CF8-47F7-82DF-2CE5F1D6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C71D-5CB9-4CB4-9998-9E0A7397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40F9-6E57-4306-9094-DAC5C0CCC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01931-C237-41DF-8D4B-8E857350A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9EAC8-77EB-4D48-99BE-30DDB7E7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0814D-C673-457B-BC66-A78E98F4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C1140-7562-44F3-8F1E-B5CAC7D5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DF543-827F-4047-A2D1-A858188E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419A-F458-44FA-922D-E661ADE4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D1D8D-1F49-4411-88FC-A8AFF342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81B6B-E59F-4D8D-A9E8-A66A916A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5ECBC-C108-4992-B25E-91725F88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BAB9A-CE4C-453B-A092-A1417DCF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814D6-1EB5-4AC6-8863-6FD4AAD5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22DCD-E341-4908-A1AC-219359FD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760B3-D6B3-4A86-83A0-336E40904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B63FD-C26F-4356-9206-CB99A6BE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A6106-A0DA-43B2-BD21-85B1048E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2F720-3AEB-4904-AA1C-22E86EFB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8A79-2E49-48C4-977C-A8531F90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83A4A-8DF1-400B-AB2B-96D8243D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FD2B5-3EB8-4864-BA18-E01EDE5C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3DC27-D8E3-4978-A26A-89CEDC9F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B2D61-CF3B-42BF-A1F5-C630D2F2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16740-8E81-4EA8-B7BA-C70C7236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636DB-1300-4AEA-A575-2E33F79A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0815B-552B-42F1-B939-C35FB3E4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A52B0-33B5-4A1A-83B2-F1FFDDB2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6AA5A-A310-481E-AC62-C461BC68B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70873-9626-4A82-AA52-78F1E489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6634-560C-4A03-9C0B-6D854626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DC6FD-BF57-4DE9-B6D2-F1BA5ED5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FF7B1-5160-411A-B29F-874D7202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B8E30-D4E1-4186-8E7E-CB35C53B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5EAA7-78F3-4D5D-A093-030131C5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8F39A-C05C-4051-AA8F-B51DB80C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F86E1-A3D5-4EE6-AA56-B445ACB2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11872-065A-43CC-8CEA-5F7D0DCF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239AB-AC32-49E7-887C-7061D4AD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9FB92-C48D-411E-A857-F96D356F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E8E49-43F5-4509-A315-9DA237D1C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B400-9632-4656-B99A-E5704006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674F1-BF97-4D99-A0B1-F2DFD9EA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1C149-A597-43A0-B5D6-E545432BB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E97B6-726C-4DFC-88EA-614230CF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18CB5-8E13-4570-B827-C36CB440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58794-04E1-4E48-94DB-541E7D28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46DA0-42DC-4C5B-9C00-84421596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791B0-36CC-4A48-A164-A747897D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547CD-AAF6-4713-82D4-9F3D9700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062CC-1CCF-45E2-B7A0-25B389BD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F5B1E-1EEA-4DD0-B62B-0B4A6D7E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77B1-65B7-4F9E-8475-8FF40DF6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76226-D0F5-4566-9D6D-1024E55F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D5BDA-9D7E-4B30-83CA-BD981924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E497D-22D5-483D-8BC3-E9D096846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CBAC-BC49-475E-A59A-A1C88E1B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A162-8587-4E59-B385-50E3F25E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A979-D8CA-4E5A-99E2-55BD8E8E478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3CB7-D58B-4E6C-B9F9-7CF21658FF7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1DCB-1D1E-453F-A509-6EAA92E6359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3B49-346B-41CE-A47A-91C4CD414B6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6DD1-DF27-4CBF-BFEE-B87758E7EA1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101C-5A82-4707-A785-DAC3F8ADAF2B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103320" y="285840"/>
            <a:ext cx="9053280" cy="24508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http://www.solidarnost.org/netcat_files/1171/1170/money_resize.jpg"/>
          <p:cNvPicPr/>
          <p:nvPr/>
        </p:nvPicPr>
        <p:blipFill>
          <a:blip r:embed="rId2"/>
          <a:stretch/>
        </p:blipFill>
        <p:spPr>
          <a:xfrm>
            <a:off x="785880" y="2000160"/>
            <a:ext cx="75722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Прямоугольник 1" descr=""/>
          <p:cNvPicPr/>
          <p:nvPr/>
        </p:nvPicPr>
        <p:blipFill>
          <a:blip r:embed="rId1"/>
          <a:stretch/>
        </p:blipFill>
        <p:spPr>
          <a:xfrm>
            <a:off x="268200" y="262080"/>
            <a:ext cx="8547120" cy="277956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2" descr="http://minfin.com.ua/img/2013/810107/big.jpg?1379407355"/>
          <p:cNvPicPr/>
          <p:nvPr/>
        </p:nvPicPr>
        <p:blipFill>
          <a:blip r:embed="rId2"/>
          <a:stretch/>
        </p:blipFill>
        <p:spPr>
          <a:xfrm>
            <a:off x="642960" y="3143160"/>
            <a:ext cx="8001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1" descr=""/>
          <p:cNvPicPr/>
          <p:nvPr/>
        </p:nvPicPr>
        <p:blipFill>
          <a:blip r:embed="rId1"/>
          <a:stretch/>
        </p:blipFill>
        <p:spPr>
          <a:xfrm>
            <a:off x="23760" y="122400"/>
            <a:ext cx="9101160" cy="56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1" descr=""/>
          <p:cNvPicPr/>
          <p:nvPr/>
        </p:nvPicPr>
        <p:blipFill>
          <a:blip r:embed="rId1"/>
          <a:stretch/>
        </p:blipFill>
        <p:spPr>
          <a:xfrm>
            <a:off x="55440" y="-66600"/>
            <a:ext cx="8917200" cy="533376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2" descr="http://provce.ck.ua/wp-content/uploads/2013/03/originnal_634dc35bf8e6099c371c9d2984fb4f03.jpg"/>
          <p:cNvPicPr/>
          <p:nvPr/>
        </p:nvPicPr>
        <p:blipFill>
          <a:blip r:embed="rId2"/>
          <a:stretch/>
        </p:blipFill>
        <p:spPr>
          <a:xfrm>
            <a:off x="4143240" y="3071880"/>
            <a:ext cx="476100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1" descr=""/>
          <p:cNvPicPr/>
          <p:nvPr/>
        </p:nvPicPr>
        <p:blipFill>
          <a:blip r:embed="rId1"/>
          <a:stretch/>
        </p:blipFill>
        <p:spPr>
          <a:xfrm>
            <a:off x="23760" y="-85680"/>
            <a:ext cx="904716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1" descr=""/>
          <p:cNvPicPr/>
          <p:nvPr/>
        </p:nvPicPr>
        <p:blipFill>
          <a:blip r:embed="rId1"/>
          <a:stretch/>
        </p:blipFill>
        <p:spPr>
          <a:xfrm>
            <a:off x="55440" y="66600"/>
            <a:ext cx="9015480" cy="448164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2" descr="http://image.newsru.ua/pict/id/large/224296.gif"/>
          <p:cNvPicPr/>
          <p:nvPr/>
        </p:nvPicPr>
        <p:blipFill>
          <a:blip r:embed="rId2"/>
          <a:stretch/>
        </p:blipFill>
        <p:spPr>
          <a:xfrm>
            <a:off x="2000160" y="4143240"/>
            <a:ext cx="47624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Rectangle 1" descr=""/>
          <p:cNvPicPr/>
          <p:nvPr/>
        </p:nvPicPr>
        <p:blipFill>
          <a:blip r:embed="rId1"/>
          <a:stretch/>
        </p:blipFill>
        <p:spPr>
          <a:xfrm>
            <a:off x="23760" y="-92160"/>
            <a:ext cx="932184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Rectangle 1" descr=""/>
          <p:cNvPicPr/>
          <p:nvPr/>
        </p:nvPicPr>
        <p:blipFill>
          <a:blip r:embed="rId1"/>
          <a:stretch/>
        </p:blipFill>
        <p:spPr>
          <a:xfrm>
            <a:off x="158760" y="-66600"/>
            <a:ext cx="8826480" cy="238284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2" descr="http://image.zn.ua/media/images/original/Oct2011/37552.jpg"/>
          <p:cNvPicPr/>
          <p:nvPr/>
        </p:nvPicPr>
        <p:blipFill>
          <a:blip r:embed="rId2"/>
          <a:stretch/>
        </p:blipFill>
        <p:spPr>
          <a:xfrm>
            <a:off x="1357200" y="2286000"/>
            <a:ext cx="65008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16:57:06Z</dcterms:created>
  <dc:creator>Влад</dc:creator>
  <dc:description/>
  <dc:language>en-US</dc:language>
  <cp:lastModifiedBy>Влад</cp:lastModifiedBy>
  <dcterms:modified xsi:type="dcterms:W3CDTF">2014-02-19T17:50:20Z</dcterms:modified>
  <cp:revision>4</cp:revision>
  <dc:subject/>
  <dc:title>Соціально-економічні наслідки безробітт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28000000000001024140</vt:lpwstr>
  </property>
</Properties>
</file>