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EE5-5C8C-4315-9B0C-4920B965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422-21F4-447D-9FC6-A9BC3A9B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466-6CCE-4D99-A888-E38F5D4D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FD8-0303-4546-B1EB-9D7473F4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387A-8BE1-413A-868E-DFDE5EB3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32AD-86A8-47BD-9664-395DC10A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188E-13A3-457F-9B25-EC5329C2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7A38-4AA8-4FA3-9766-545A3D9C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A481-8C39-44FB-B022-63E43E03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64DA-29BD-4C15-B0E2-FFCF4BDC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2FC0-E915-41E6-B895-61C927A9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F5A-1A76-417F-BDF6-58B882E9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231B-EA53-49BE-B702-98EF66FD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5623-3FFB-4E13-8AFF-73FFABDE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CC4F-1963-430D-8FA4-7F4FB912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79C5-97E2-4B8B-99B8-65225A31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B190-6933-4D4D-A6BD-1E455616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518E5-0C61-4D0B-8EFA-0C8C167E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3DFD-4EAC-49E6-84C7-8B74FAAF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92E81-D979-416E-9781-CF3569D7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000A-8D9C-4D80-A46F-C3D3A45B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67D88-3D7F-4F70-A4FD-16C1E994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D97-4C7B-4BE8-BAC4-D1001C54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AA9C3-F6CE-4268-B05F-340B3F60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96676-8279-4344-9197-D36C4A52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06C8C-7283-444D-806F-79F3649C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D5687-F324-4F34-AEA8-44C31E75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83E9B-A6CD-424E-A8EE-B44FDEA0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7445C-100F-4F03-9E96-2F58D962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009C-D45E-4F1A-BD33-651ED8EC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EAD33-DA5A-433B-8461-9B7AA863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37F4B-CD8E-4658-B569-4A5ED998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05714-369A-4DB5-AB05-C3500DA3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0CA-8EC9-4D0C-A53E-E22C5E3C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EF0CE-3DB5-4F92-AADF-3F447202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0E71E-A4FA-4F5B-82EB-E8FBD260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04C38-EAB2-44AA-95C5-E25FC32E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61DC8-E88B-4568-9A78-69D37671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5DC03-758E-457C-93F6-AFD4C2BD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348E4-1E55-4F81-B6DB-EA028FA3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A1964-3A53-4AC6-900A-466484CD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FFAE2-10D4-47B6-924F-D7CC9BB2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C78A9-40FD-4D74-AEE0-0E25704B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54251-578F-4663-B630-849CD193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1714-FB22-4101-9C01-385512B6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DCB2E-EDAA-476F-AA80-17CABF11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99593-85F9-4647-9EE4-FCD6A328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6B947-4924-4D0E-ABE4-63EB3F0B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2E5B5-A517-446C-864A-ADCDB1F8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15679-45FA-44A9-A71A-5FBB68CE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1F202-B3D4-453B-B3C1-12893FB1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483E1-1204-428E-B63B-7110092E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AF6C0-8985-42D4-AB11-9AB9F848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95183-33D4-464E-8C2D-403EE3AA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555BA-C576-4118-9608-0A9137DE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922-ECF5-445D-BDE7-0D15B238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5E97B-C4A2-4100-928F-12380CE4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B3FFA-B46C-463D-9102-67BA151A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6996A-7044-46B4-922B-103F4EC3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1F710-C259-4C3A-BC89-58984FB4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BFA3A-C589-4887-911F-4FC306A5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BDB98-205B-4352-8120-388C6452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A49CA-E0E3-47D7-A981-7031E47C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E3A33-C367-4EF6-BF5B-698C57C2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52E41-B7CD-4844-8209-B53C5CD1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284B5-3D4F-455B-A659-95DD0479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045-2A4A-4432-8045-FCBA7166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2ED26-D10D-4E83-B31A-F3B0BE5B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D948D-B6F8-4582-A2DB-57CCA007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BE6CD-667B-4104-8782-86247913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30B-71C5-4603-BF21-D1E3971B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85B-EB89-4AEE-8E5C-01A416D9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0E16-9174-465F-B465-7FC13266544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71AD-117E-4DBE-8158-20494598C85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F370-5166-4E7B-AB25-2E7CB2E738E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851B-EBC7-4182-AC76-435D22A1CFE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6ED3-E3A7-4983-A0D0-EA29897BE25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B8FC-EED0-46CA-952E-A20921407D4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03320" y="285840"/>
            <a:ext cx="9053280" cy="2450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http://www.solidarnost.org/netcat_files/1171/1170/money_resize.jpg"/>
          <p:cNvPicPr/>
          <p:nvPr/>
        </p:nvPicPr>
        <p:blipFill>
          <a:blip r:embed="rId2"/>
          <a:stretch/>
        </p:blipFill>
        <p:spPr>
          <a:xfrm>
            <a:off x="785880" y="2000160"/>
            <a:ext cx="7572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Прямоугольник 1" descr=""/>
          <p:cNvPicPr/>
          <p:nvPr/>
        </p:nvPicPr>
        <p:blipFill>
          <a:blip r:embed="rId1"/>
          <a:stretch/>
        </p:blipFill>
        <p:spPr>
          <a:xfrm>
            <a:off x="268200" y="262080"/>
            <a:ext cx="8547120" cy="27795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http://minfin.com.ua/img/2013/810107/big.jpg?1379407355"/>
          <p:cNvPicPr/>
          <p:nvPr/>
        </p:nvPicPr>
        <p:blipFill>
          <a:blip r:embed="rId2"/>
          <a:stretch/>
        </p:blipFill>
        <p:spPr>
          <a:xfrm>
            <a:off x="642960" y="3143160"/>
            <a:ext cx="8001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1" descr=""/>
          <p:cNvPicPr/>
          <p:nvPr/>
        </p:nvPicPr>
        <p:blipFill>
          <a:blip r:embed="rId1"/>
          <a:stretch/>
        </p:blipFill>
        <p:spPr>
          <a:xfrm>
            <a:off x="23760" y="122400"/>
            <a:ext cx="910116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1" descr=""/>
          <p:cNvPicPr/>
          <p:nvPr/>
        </p:nvPicPr>
        <p:blipFill>
          <a:blip r:embed="rId1"/>
          <a:stretch/>
        </p:blipFill>
        <p:spPr>
          <a:xfrm>
            <a:off x="55440" y="-66600"/>
            <a:ext cx="8917200" cy="53337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2" descr="http://provce.ck.ua/wp-content/uploads/2013/03/originnal_634dc35bf8e6099c371c9d2984fb4f03.jpg"/>
          <p:cNvPicPr/>
          <p:nvPr/>
        </p:nvPicPr>
        <p:blipFill>
          <a:blip r:embed="rId2"/>
          <a:stretch/>
        </p:blipFill>
        <p:spPr>
          <a:xfrm>
            <a:off x="4143240" y="3071880"/>
            <a:ext cx="47610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1" descr=""/>
          <p:cNvPicPr/>
          <p:nvPr/>
        </p:nvPicPr>
        <p:blipFill>
          <a:blip r:embed="rId1"/>
          <a:stretch/>
        </p:blipFill>
        <p:spPr>
          <a:xfrm>
            <a:off x="23760" y="-85680"/>
            <a:ext cx="90471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1" descr=""/>
          <p:cNvPicPr/>
          <p:nvPr/>
        </p:nvPicPr>
        <p:blipFill>
          <a:blip r:embed="rId1"/>
          <a:stretch/>
        </p:blipFill>
        <p:spPr>
          <a:xfrm>
            <a:off x="55440" y="66600"/>
            <a:ext cx="9015480" cy="44816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" descr="http://image.newsru.ua/pict/id/large/224296.gif"/>
          <p:cNvPicPr/>
          <p:nvPr/>
        </p:nvPicPr>
        <p:blipFill>
          <a:blip r:embed="rId2"/>
          <a:stretch/>
        </p:blipFill>
        <p:spPr>
          <a:xfrm>
            <a:off x="2000160" y="4143240"/>
            <a:ext cx="4762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1" descr=""/>
          <p:cNvPicPr/>
          <p:nvPr/>
        </p:nvPicPr>
        <p:blipFill>
          <a:blip r:embed="rId1"/>
          <a:stretch/>
        </p:blipFill>
        <p:spPr>
          <a:xfrm>
            <a:off x="23760" y="-92160"/>
            <a:ext cx="93218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1" descr=""/>
          <p:cNvPicPr/>
          <p:nvPr/>
        </p:nvPicPr>
        <p:blipFill>
          <a:blip r:embed="rId1"/>
          <a:stretch/>
        </p:blipFill>
        <p:spPr>
          <a:xfrm>
            <a:off x="158760" y="-66600"/>
            <a:ext cx="8826480" cy="23828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" descr="http://image.zn.ua/media/images/original/Oct2011/37552.jpg"/>
          <p:cNvPicPr/>
          <p:nvPr/>
        </p:nvPicPr>
        <p:blipFill>
          <a:blip r:embed="rId2"/>
          <a:stretch/>
        </p:blipFill>
        <p:spPr>
          <a:xfrm>
            <a:off x="1357200" y="2286000"/>
            <a:ext cx="6500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6:57:06Z</dcterms:created>
  <dc:creator>Влад</dc:creator>
  <dc:description/>
  <dc:language>en-US</dc:language>
  <cp:lastModifiedBy>Влад</cp:lastModifiedBy>
  <dcterms:modified xsi:type="dcterms:W3CDTF">2014-02-19T17:50:20Z</dcterms:modified>
  <cp:revision>4</cp:revision>
  <dc:subject/>
  <dc:title>Соціально-економічні наслідки безробітт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28000000000001024140</vt:lpwstr>
  </property>
</Properties>
</file>