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media/image10.jpeg" ContentType="image/jpeg"/>
  <Override PartName="/ppt/media/image12.png" ContentType="image/pn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5AAD-C33D-4DA7-9275-B06726ACC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AFE0-359E-4B78-9538-D1F31CBE8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363C-BA55-4672-80A9-854E6BDD4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8097-525F-4CFD-AC2C-5670610AF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7439E-1164-4155-BAAC-54F15C07A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3900F-40B4-4CC6-9B85-1AB3E2F56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4CA9F-19ED-435C-9789-8219FC1C8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790F7-8B35-4F21-BF66-146F05D63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BEE7A-B96F-4AA4-B102-2C82D9B4F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CEA74-DC65-4DB5-AD65-8B8D98458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78479-9DEF-41A5-94E5-98D2AF940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ED26-5041-4128-8F66-7D9D25A7E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88341-D9BC-42F6-83D6-4F68F6B8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86094-D3B9-4BE6-8932-15848A566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C8196-8874-422A-B2B7-C2AB2D471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AE95D-0D67-4598-AE19-736024D2D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B5127-710F-4B9F-AEBF-6DFBED4D5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D9B0C-AD39-45B1-B360-118EFA675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A4310-D12C-4F60-9089-17B1BF4F6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C8869-AB4D-479D-9DE3-F78C7FCA6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36E84-E9B2-43FC-99A3-98EBF5C1E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50769-3552-48F7-887E-BF21D1D95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5460-E667-4C5B-98D2-CC436E5D0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584D2-8A8F-4881-88EC-109679DD2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D3976-4320-4AEE-9943-149DB79A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E2F98-D9A6-461A-8444-5EECC3E2B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1BD45-A9E7-4E17-8A85-BD81429A0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7AE72-AD30-477A-BCA6-BA9029370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E6549-DFB6-417C-A3C7-1D290AE96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0ED69-7256-4A34-87AE-D043FC560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15A18-2570-45D3-9BFF-04C551CCA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F28F1-D35A-4B56-AAFE-A4C72E2D4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9BE20-AA31-4C61-AFE1-5AD8AC4D0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0544-F2BD-4325-92CB-FF64F88BD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A8D8C-D445-4FEE-90FE-67342C10C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6B471-DF8A-423C-954E-5288707B6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2B52A-A83D-4132-B0D6-35DE24145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EE110-92E0-4328-8811-CEC06E46C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6AC92-9556-4F0F-906C-CA6002141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11B44-2EA8-4961-8871-175C1CE1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8A93E-597B-4A98-B700-052844455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A047C-693C-4D05-99B4-324E79470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9FBD6-73E3-47E6-8C13-168FEBF34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2A0F2-1A7E-49F4-9535-285CCD05F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C936-BD16-4083-91DB-5E0266D30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0F66F-6E92-4497-96EA-3BB9C2531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89D796-E07D-4ABD-9285-7E8FB4DE3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3D572-A3C2-4E99-B75B-7BD875F2C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732736-F774-47CA-8CA0-1E4DDB441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018AAB-E312-4DC0-9A83-663132470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FB81F-8657-4A5D-A27B-1CACD10EC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B2A3D5-F9A6-4CF9-BA82-1A18F534D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3A91E-07E8-419E-AE63-81743999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B47FFF-F853-4606-B714-3C987F50A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70E957-BE63-4E43-A304-9AC5DA9C1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9905-4B6C-49D1-A647-E5D752A13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CC5E54-10AC-4AB7-A087-DAE18CE11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AEE28F-749D-4145-9106-8CE02D370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15C60E-A271-4202-B526-EEB0645D5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CA011D-D59F-43E0-B9BF-1EE85D26E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0E7E55-D303-4C7F-BDE8-D8946A03F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BEFF0F-AED1-4A86-875B-3105E81BD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9F7A8A-A763-4BA7-BC95-9F86649FA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6E7FD4-05DB-443C-AC80-E4DDEE25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F95637-3F42-4B4F-B4D0-E04D351A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9D6D9-0A26-4F60-A8EF-9AC98067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4062-AD62-4028-92AB-7D4FD7D7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FDD22E-EAE2-468B-9D4E-341B47694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04D430-661B-46E3-BE09-896295630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BCC821-7DE7-45BD-BE2D-CCE5CCA84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44D2-C911-42B0-BE89-B98525737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1C1B-3ADC-46EE-B5B2-F583A4FA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BC984-1175-44F7-BD8E-60CD77575D60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44698-6EF2-4B71-AEC1-6F466B8A60F5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93638-B650-4E31-9CBA-DC0CAA81C38F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BE7CC-108B-44A3-BC73-8DEA1B511AE1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8DB5D-D520-4915-B7BD-258752EDD78F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52482-5B06-4FE8-8D41-ABC3959A3C07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1" descr=""/>
          <p:cNvPicPr/>
          <p:nvPr/>
        </p:nvPicPr>
        <p:blipFill>
          <a:blip r:embed="rId1"/>
          <a:stretch/>
        </p:blipFill>
        <p:spPr>
          <a:xfrm>
            <a:off x="103320" y="285840"/>
            <a:ext cx="9053280" cy="24508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4" descr="http://www.solidarnost.org/netcat_files/1171/1170/money_resize.jpg"/>
          <p:cNvPicPr/>
          <p:nvPr/>
        </p:nvPicPr>
        <p:blipFill>
          <a:blip r:embed="rId2"/>
          <a:stretch/>
        </p:blipFill>
        <p:spPr>
          <a:xfrm>
            <a:off x="785880" y="2000160"/>
            <a:ext cx="757224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Прямоугольник 1" descr=""/>
          <p:cNvPicPr/>
          <p:nvPr/>
        </p:nvPicPr>
        <p:blipFill>
          <a:blip r:embed="rId1"/>
          <a:stretch/>
        </p:blipFill>
        <p:spPr>
          <a:xfrm>
            <a:off x="268200" y="262080"/>
            <a:ext cx="8547120" cy="2779560"/>
          </a:xfrm>
          <a:prstGeom prst="rect">
            <a:avLst/>
          </a:prstGeom>
          <a:ln w="0">
            <a:noFill/>
          </a:ln>
        </p:spPr>
      </p:pic>
      <p:pic>
        <p:nvPicPr>
          <p:cNvPr id="257" name="Рисунок 2" descr="http://minfin.com.ua/img/2013/810107/big.jpg?1379407355"/>
          <p:cNvPicPr/>
          <p:nvPr/>
        </p:nvPicPr>
        <p:blipFill>
          <a:blip r:embed="rId2"/>
          <a:stretch/>
        </p:blipFill>
        <p:spPr>
          <a:xfrm>
            <a:off x="642960" y="3143160"/>
            <a:ext cx="8001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Rectangle 1" descr=""/>
          <p:cNvPicPr/>
          <p:nvPr/>
        </p:nvPicPr>
        <p:blipFill>
          <a:blip r:embed="rId1"/>
          <a:stretch/>
        </p:blipFill>
        <p:spPr>
          <a:xfrm>
            <a:off x="23760" y="122400"/>
            <a:ext cx="9101160" cy="56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Rectangle 1" descr=""/>
          <p:cNvPicPr/>
          <p:nvPr/>
        </p:nvPicPr>
        <p:blipFill>
          <a:blip r:embed="rId1"/>
          <a:stretch/>
        </p:blipFill>
        <p:spPr>
          <a:xfrm>
            <a:off x="55440" y="-66600"/>
            <a:ext cx="8917200" cy="5333760"/>
          </a:xfrm>
          <a:prstGeom prst="rect">
            <a:avLst/>
          </a:prstGeom>
          <a:ln w="0">
            <a:noFill/>
          </a:ln>
        </p:spPr>
      </p:pic>
      <p:pic>
        <p:nvPicPr>
          <p:cNvPr id="260" name="Рисунок 2" descr="http://provce.ck.ua/wp-content/uploads/2013/03/originnal_634dc35bf8e6099c371c9d2984fb4f03.jpg"/>
          <p:cNvPicPr/>
          <p:nvPr/>
        </p:nvPicPr>
        <p:blipFill>
          <a:blip r:embed="rId2"/>
          <a:stretch/>
        </p:blipFill>
        <p:spPr>
          <a:xfrm>
            <a:off x="4143240" y="3071880"/>
            <a:ext cx="4761000" cy="35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Rectangle 1" descr=""/>
          <p:cNvPicPr/>
          <p:nvPr/>
        </p:nvPicPr>
        <p:blipFill>
          <a:blip r:embed="rId1"/>
          <a:stretch/>
        </p:blipFill>
        <p:spPr>
          <a:xfrm>
            <a:off x="23760" y="-85680"/>
            <a:ext cx="9047160" cy="65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Rectangle 1" descr=""/>
          <p:cNvPicPr/>
          <p:nvPr/>
        </p:nvPicPr>
        <p:blipFill>
          <a:blip r:embed="rId1"/>
          <a:stretch/>
        </p:blipFill>
        <p:spPr>
          <a:xfrm>
            <a:off x="55440" y="66600"/>
            <a:ext cx="9015480" cy="4481640"/>
          </a:xfrm>
          <a:prstGeom prst="rect">
            <a:avLst/>
          </a:prstGeom>
          <a:ln w="0">
            <a:noFill/>
          </a:ln>
        </p:spPr>
      </p:pic>
      <p:pic>
        <p:nvPicPr>
          <p:cNvPr id="263" name="Рисунок 2" descr="http://image.newsru.ua/pict/id/large/224296.gif"/>
          <p:cNvPicPr/>
          <p:nvPr/>
        </p:nvPicPr>
        <p:blipFill>
          <a:blip r:embed="rId2"/>
          <a:stretch/>
        </p:blipFill>
        <p:spPr>
          <a:xfrm>
            <a:off x="2000160" y="4143240"/>
            <a:ext cx="476244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Rectangle 1" descr=""/>
          <p:cNvPicPr/>
          <p:nvPr/>
        </p:nvPicPr>
        <p:blipFill>
          <a:blip r:embed="rId1"/>
          <a:stretch/>
        </p:blipFill>
        <p:spPr>
          <a:xfrm>
            <a:off x="23760" y="-92160"/>
            <a:ext cx="9321840" cy="56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Rectangle 1" descr=""/>
          <p:cNvPicPr/>
          <p:nvPr/>
        </p:nvPicPr>
        <p:blipFill>
          <a:blip r:embed="rId1"/>
          <a:stretch/>
        </p:blipFill>
        <p:spPr>
          <a:xfrm>
            <a:off x="158760" y="-66600"/>
            <a:ext cx="8826480" cy="2382840"/>
          </a:xfrm>
          <a:prstGeom prst="rect">
            <a:avLst/>
          </a:prstGeom>
          <a:ln w="0">
            <a:noFill/>
          </a:ln>
        </p:spPr>
      </p:pic>
      <p:pic>
        <p:nvPicPr>
          <p:cNvPr id="266" name="Рисунок 2" descr="http://image.zn.ua/media/images/original/Oct2011/37552.jpg"/>
          <p:cNvPicPr/>
          <p:nvPr/>
        </p:nvPicPr>
        <p:blipFill>
          <a:blip r:embed="rId2"/>
          <a:stretch/>
        </p:blipFill>
        <p:spPr>
          <a:xfrm>
            <a:off x="1357200" y="2286000"/>
            <a:ext cx="650088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9T16:57:06Z</dcterms:created>
  <dc:creator>Влад</dc:creator>
  <dc:description/>
  <dc:language>en-US</dc:language>
  <cp:lastModifiedBy>Влад</cp:lastModifiedBy>
  <dcterms:modified xsi:type="dcterms:W3CDTF">2014-02-19T17:50:20Z</dcterms:modified>
  <cp:revision>4</cp:revision>
  <dc:subject/>
  <dc:title>Соціально-економічні наслідки безробітт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628000000000001024140</vt:lpwstr>
  </property>
</Properties>
</file>