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2366-5199-4BD4-9EA7-0C257159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D27-6172-4A18-B8CF-A156085E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B7D-BB2A-4F2F-96E2-57E3CA4E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2C30-A301-4D86-B100-1E144CAD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E4DA-12B4-4781-8836-F6808E96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8FFC-42CA-4CE3-8155-145ED42E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44E8-105B-4803-834B-98F4CEAC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E628-BC22-4E91-A8BE-DFFE239C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CE19-A362-48A5-A216-7CBCE7A2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1A96-E5B6-4AB7-9948-CC5CE923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0718-4418-48BE-8612-64F9D78C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1EE4-A3F1-4104-A319-1CB6A252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C0F6-CAE2-4FD9-8802-EA29AB60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749E-FE8F-4976-9733-E96CF606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022A-84A9-4D96-BC67-82350513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CFAE-2BF9-4210-A521-EB036D9D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3075-A00A-4183-96E9-F7C4B160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31F52-AF00-4767-A08C-084DFBDC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AE49D-43C0-4E91-8F25-1A9B193F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9231C-FBB9-4B3F-873C-8B19F0C9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415BE-67A7-4D5A-AD6C-9D85D570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9494A-0A70-4ECF-9BF1-97DA4A71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A6C-2E04-4DBA-A15D-AF58878F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3A07C-499E-48D3-A307-1DCB05DF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4BCF4-5E0E-4AFB-BC4D-30808EFA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071A9-39AD-4F0F-BC2B-88174088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88685-55F8-4F3D-8D0A-1AB1C111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492BF-F90A-4DCF-AE93-352E2CCF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02B44-3586-43A8-B7B2-0217A930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FA5BB-CB54-4E3B-AE1B-07607E79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F7F56-91F2-41B1-A919-E3A06FBC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7FB07-10FC-416A-9121-34F34C92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B1C0F-5677-4219-ABD9-C3F7C540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6B2E-E255-4CD4-9D62-2DD96C86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23C0B-C060-477C-A878-6663CC0A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2047A-2731-4D84-B35E-1B394A1B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C86A8-0E71-4611-8877-1E520B3C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44D4A-D7E5-47EA-96EC-E6106963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61A93-8C85-4B03-88AF-294FA22C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941BB-1A9E-4B6F-AA6C-C1451E77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63F2E-872C-4841-9709-32D7610B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8EC98-274A-4A70-8106-A1B14ABB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43D00-E42A-4616-821B-2C31F276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093-CCDD-4BEC-AAB1-417B82BB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F5EF-3DD4-4368-92D4-BCEB665D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B769-C88E-4849-8D90-3A843211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196-4954-4B5E-8B62-A334256A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43B-CA00-460D-AFF6-EBCDA419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A5A3-46BF-4BCD-AC88-FDF446629CD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DAC2-B4CE-4A2B-ACC8-F95E8FF2237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8788-5E47-406F-986C-90084B9C24C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1DB6-43C7-4064-BA8D-AC68AF0A4AB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-378000" y="-6480"/>
            <a:ext cx="10076040" cy="3683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10920" y="378936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7.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Визначте перелік змін основних макроекономічних показників, який спостерігатиметься в економіці, що перебуває у фазі піднесення та наближається до потенційного рівня виробництва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А) реальний ВВП зростає, безробіття зростає, інфляці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) реальний ВВП зростає, зайнятість зростає, ціни зростають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) реальний ВВП не змінюється, зайнятість не змінюється, інфляці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) реальний ВВП зростає, зайнятість зростає, ціни не змінюютьс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8.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Укажіть правильне твердження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А) «безробіття зростає під час пожвавлення в економіці»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) «безробіття зменшується під час економічного піднесення»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) «безробіття зменшується під час спаду в економіці»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) « зайнятість збільшується під час депресії»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9.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Укажіть ситуацію циклу економічної активності, яка супроводжується зменшенням зайнятості населення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А) пік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) піднесенн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) пожвавленн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) спад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24000" y="764640"/>
            <a:ext cx="836280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10. Показник економічної активності – це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А)період найвищої ділової активності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) чергування економічних спадів та підйомів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) зміни податкової ставки та видатків бюджет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) період неповного використання виробничих ресурсі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11.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Головна ідея  полягає в тому, що вплив циклів ділової активності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А) невелики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) не може бути передбаченим та виміряним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) може бути виміряним і частково піддається регулюванню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) триває недовго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12. Що не є характерним для періоду підйому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А) ріст продуктивності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) зниження безробітт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) збільшення кредитів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) скорочення інвестицій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/З. Тема 20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повісти на питанн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В яких країнах протягом 1992-1998 років  спостерігалось економічне зростання та економічний спад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Мета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nstantia"/>
              </a:rPr>
              <a:t>Сформувати  в учнів  знання про макроекономічні коливання,навчитись аналізувати економічні цикли згідно рафіку,оцінювати результати на підставі вивченого матеріалу, сформувати в учнів знання про  економічний стан нашої  держави, та інших країн світу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Цикл ділової активності 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Диаграмма 3" descr=""/>
          <p:cNvPicPr/>
          <p:nvPr/>
        </p:nvPicPr>
        <p:blipFill>
          <a:blip r:embed="rId2"/>
          <a:stretch/>
        </p:blipFill>
        <p:spPr>
          <a:xfrm>
            <a:off x="272880" y="1433520"/>
            <a:ext cx="8921880" cy="54752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4067280" y="3933720"/>
            <a:ext cx="1081080" cy="57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ад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2556000" y="5445000"/>
            <a:ext cx="1584360" cy="41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іднесенн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156360" y="1557360"/>
            <a:ext cx="1038240" cy="43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і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4716360" y="5732640"/>
            <a:ext cx="2376720" cy="55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жня точ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пресія            Дн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12000" y="3500280"/>
            <a:ext cx="1512720" cy="38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іднесенн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2700360" y="3357720"/>
            <a:ext cx="920880" cy="4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і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1800" y="33408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Rectangle 18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Rectangle 19"/>
          <p:cNvSpPr/>
          <p:nvPr/>
        </p:nvSpPr>
        <p:spPr>
          <a:xfrm>
            <a:off x="4437360" y="419004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7812000" y="2852640"/>
            <a:ext cx="1081080" cy="57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ад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11" name="Прямая со стрелкой 19"/>
          <p:cNvCxnSpPr/>
          <p:nvPr/>
        </p:nvCxnSpPr>
        <p:spPr>
          <a:xfrm flipV="1">
            <a:off x="5363640" y="4365000"/>
            <a:ext cx="361080" cy="935640"/>
          </a:xfrm>
          <a:prstGeom prst="straightConnector1">
            <a:avLst/>
          </a:prstGeom>
          <a:ln w="28440">
            <a:solidFill>
              <a:srgbClr val="065093"/>
            </a:solidFill>
            <a:prstDash val="dash"/>
            <a:miter/>
            <a:tailEnd len="med" type="arrow" w="med"/>
          </a:ln>
        </p:spPr>
      </p:cxnSp>
      <p:sp>
        <p:nvSpPr>
          <p:cNvPr id="212" name="Прямоугольник 20"/>
          <p:cNvSpPr/>
          <p:nvPr/>
        </p:nvSpPr>
        <p:spPr>
          <a:xfrm>
            <a:off x="5510880" y="501336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вавленн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ичини економічних коливань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9280" y="1920960"/>
            <a:ext cx="43164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Зовнішн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чисельність населення(зб.;зменш.;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находи людст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атаклізми в суспільств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716000" y="1920960"/>
            <a:ext cx="424836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Внутрішні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людські     фактор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(психологічні,духовні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іяльність уряду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88640"/>
            <a:ext cx="8229600" cy="61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500" spc="-1" strike="noStrike">
                <a:solidFill>
                  <a:srgbClr val="c00000"/>
                </a:solidFill>
                <a:latin typeface="Constantia"/>
              </a:rPr>
              <a:t>ЄС чи Митний Союз?</a:t>
            </a:r>
            <a:endParaRPr b="0" lang="en-US" sz="10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актична робот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117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На основі даних скласти цикл економічних коливань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у Росії                                                                             у Польщ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79280" y="2276640"/>
          <a:ext cx="8713800" cy="1728720"/>
        </p:xfrm>
        <a:graphic>
          <a:graphicData uri="http://schemas.openxmlformats.org/drawingml/2006/table">
            <a:tbl>
              <a:tblPr/>
              <a:tblGrid>
                <a:gridCol w="1082880"/>
                <a:gridCol w="1084320"/>
                <a:gridCol w="1089000"/>
                <a:gridCol w="1089000"/>
                <a:gridCol w="1089000"/>
                <a:gridCol w="1089000"/>
                <a:gridCol w="1089000"/>
                <a:gridCol w="1101600"/>
              </a:tblGrid>
              <a:tr h="56484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с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880">
                <a:tc>
                  <a:txBody>
                    <a:bodyPr lIns="47160" rIns="471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Індекс ВВ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250920" y="4581360"/>
          <a:ext cx="8713800" cy="1884600"/>
        </p:xfrm>
        <a:graphic>
          <a:graphicData uri="http://schemas.openxmlformats.org/drawingml/2006/table">
            <a:tbl>
              <a:tblPr/>
              <a:tblGrid>
                <a:gridCol w="1225440"/>
                <a:gridCol w="952560"/>
                <a:gridCol w="1089000"/>
                <a:gridCol w="1089000"/>
                <a:gridCol w="1090440"/>
                <a:gridCol w="1089360"/>
                <a:gridCol w="1089000"/>
                <a:gridCol w="1089000"/>
              </a:tblGrid>
              <a:tr h="784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ьщ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Індекс ВВ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1729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04617b"/>
                </a:solidFill>
                <a:latin typeface="Calibri"/>
              </a:rPr>
              <a:t>?                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2" descr="C:\Program Files\Microsoft Office\MEDIA\CAGCAT10\j0090386.wmf"/>
          <p:cNvPicPr/>
          <p:nvPr/>
        </p:nvPicPr>
        <p:blipFill>
          <a:blip r:embed="rId2"/>
          <a:stretch/>
        </p:blipFill>
        <p:spPr>
          <a:xfrm>
            <a:off x="1979640" y="3500280"/>
            <a:ext cx="5256360" cy="3357720"/>
          </a:xfrm>
          <a:prstGeom prst="rect">
            <a:avLst/>
          </a:prstGeom>
          <a:ln w="0">
            <a:noFill/>
          </a:ln>
        </p:spPr>
      </p:pic>
      <p:pic>
        <p:nvPicPr>
          <p:cNvPr id="223" name="Выноска-облако 4" descr=""/>
          <p:cNvPicPr/>
          <p:nvPr/>
        </p:nvPicPr>
        <p:blipFill>
          <a:blip r:embed="rId3"/>
          <a:stretch/>
        </p:blipFill>
        <p:spPr>
          <a:xfrm>
            <a:off x="-19080" y="324000"/>
            <a:ext cx="3567240" cy="3016080"/>
          </a:xfrm>
          <a:prstGeom prst="rect">
            <a:avLst/>
          </a:prstGeom>
          <a:ln w="0">
            <a:noFill/>
          </a:ln>
        </p:spPr>
      </p:pic>
      <p:grpSp>
        <p:nvGrpSpPr>
          <p:cNvPr id="224" name="Солнце 5"/>
          <p:cNvGrpSpPr/>
          <p:nvPr/>
        </p:nvGrpSpPr>
        <p:grpSpPr>
          <a:xfrm>
            <a:off x="4645080" y="225360"/>
            <a:ext cx="4565520" cy="3097440"/>
            <a:chOff x="4645080" y="225360"/>
            <a:chExt cx="4565520" cy="3097440"/>
          </a:xfrm>
        </p:grpSpPr>
        <p:pic>
          <p:nvPicPr>
            <p:cNvPr id="225" name="Солнце 5" descr=""/>
            <p:cNvPicPr/>
            <p:nvPr/>
          </p:nvPicPr>
          <p:blipFill>
            <a:blip r:embed="rId4"/>
            <a:stretch/>
          </p:blipFill>
          <p:spPr>
            <a:xfrm>
              <a:off x="4645080" y="225360"/>
              <a:ext cx="4565520" cy="30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146640" y="1214280"/>
              <a:ext cx="156528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Constantia"/>
                </a:rPr>
                <a:t>ПІДНЕ-СЕННЯ</a:t>
              </a:r>
              <a:endParaRPr b="0" lang="en-US" sz="2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«Бліц опитування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1.Укажіть,якими змінами основних макроекономічних показників супроводжується фаза спаду економічного цикл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) зростання реального ВВП, зайнятості та цін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) зменшенням реального ВВП і  зайнятості, зменшенням цін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) зменшенням реального ВВП і зайнятості,  зростанням цін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) зменшенням реального ВВП і безробіттям, зниженням ці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Визначте макроекономічний показник, значення якого свідчить про економічне зростанн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) обсяг виробництва легкої промисловості країни зріс на 8%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) обсяг номінального ВВП зріс на 1,2 млрд. грн. порівняно з попереднім роко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) обсяг реального ВВП зріс на 4 %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) обсяг реального ВВП на душу населення зменшився на 0,5 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Визначте, за яких умов деякі економісти вважають доцільним наявність дефіциту державного бюджету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А) у період економічного спад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) у період економічного зростанн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) у фазі піку економічного цикл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) у жодній фазі економічного циклу дефіцит бюджету не є доцільни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0" y="62028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Визначте, які монетарні та фіскальні заходи уряду призведуть до збільшення ВВП, якщо економіка перебуває в стадії спад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nstantia"/>
              </a:rPr>
              <a:t>А)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купівля цінних паперів і збільшення видатків бюджет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) продаж цінних паперів і збільшення  податкових ставок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) продаж цінних паперів і збільшення видатків бюджет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) купівля цінних паперів і збільшення податкових ставо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5.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Визначте, за якої фази ділової активності в економіці уряд скоріше за все збільшить державні видатки та зменшить облікову ставку центрального банк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) пожвавленн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) піднесенн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) рецесі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) інфляці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6.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Визначте, який висновок можна зробити про розвиток економік країни, якщо її номінальний ВВП зріс на 8%, а дефлятор ВВП  дорівнює 1,08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) відбувається економічне зростання 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) реальний ВВП не змінивс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) відбувається економічний спад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) номінальний ВВП на душу населення зрі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0:11:29Z</dcterms:created>
  <dc:creator>пк</dc:creator>
  <dc:description/>
  <dc:language>en-US</dc:language>
  <cp:lastModifiedBy>Admin</cp:lastModifiedBy>
  <dcterms:modified xsi:type="dcterms:W3CDTF">2014-04-08T10:43:03Z</dcterms:modified>
  <cp:revision>7</cp:revision>
  <dc:subject/>
  <dc:title>Тема уроку:  Економічні коливанн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a000000000001024140</vt:lpwstr>
  </property>
</Properties>
</file>