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931D-8DBA-4E3A-AE3E-3233DC03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B9D8-6285-4675-B90E-25BD8659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FFA0-02D9-4550-8343-6D0DD3F4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C4C2-2880-4ECE-8D06-62F49A8BA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19D36-18D8-4AEB-BBCD-AE060D92B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6F380-9456-462F-8265-C4971BFB7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E4142-7127-45DB-88A4-D39F0AF99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87D1-0A3F-4D5D-BCC7-04C4C553A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82900-4141-48F8-BD7E-0A77B38E9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0B0C-0EBA-4B12-BF56-C549FF3F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DE4D-DFB0-4F41-9987-25632C39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A0B3-7021-42B8-A517-4BE93491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8925B-D760-42DC-9E61-6E3A8745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768D-B217-4E9A-8D11-DF035AE3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6700B-461F-4B2D-8534-A1A00683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12821-ACD4-4F00-B840-E6D9E6D38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BD3E-C934-4694-A371-31F6EC0D7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0B09B-AA34-4E85-BE29-0E4580CC0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E16963-F3D0-4C15-9871-F4E0331D6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8239C-81DD-4C45-BC09-6B975F78F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2773E-3651-4E92-8615-9D0DF1B78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5908F-39D5-4DE2-ADB0-A25CAD08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B78A-0F75-402C-A6C7-AE7F6494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7CFE2-77D2-480D-BBD4-276C4E833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0C359-324A-4D24-AC29-DAD27CB1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80BF9-16D8-4754-9666-E83D6FCF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75782-3FE0-4DE7-80AB-5CBF08CF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E7931-743E-47D4-9059-0643289E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B9C30-ADC3-44F7-A205-9ED4BA34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B495E-37C7-41D2-8C9B-D1CBCF75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EFA993-97BF-4EF8-B204-F73EB3C3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FCBB1-F981-41CB-A2B5-16A7247F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DF1B0-CE4C-4B9E-88E9-4ABBBD6E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CA23-6064-405E-9A0A-0427700A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C4E61-763D-45D6-8767-D71AD7C8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DEC7B-E50B-421C-9571-19FAD7E5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209237-1DDB-4498-9696-097DB6BE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CA8B1-6B34-4118-9BB5-DD1AFD70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44DA0A-A371-4D06-B4EB-16C49F2C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5F09B-B941-43A0-A37D-41EB4C48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B05DC-056E-4299-842C-B59D1D3B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78E11-2C5A-4039-9F9D-0A0EC9ED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E3F92-636E-400B-AACA-2B2EA7A8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28BC-F73E-44BC-8AED-9C2768843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18CE-9746-45F6-BB5C-CA99D37F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3146-B3A1-42DD-B532-DC30A904C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8E1A-44BB-4C56-A028-9ACFED3A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51BC-5093-4786-B79F-A3CFEEC5B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1B77-084C-4B01-BE9F-3643F0FFE519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B26E5-2ECB-4471-82BA-6005E9A4E6E5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7B8F-8DEE-4AAA-A2CD-C46AC211766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7E100-3F2F-41B8-8511-136EDFE3FC06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-378000" y="-6480"/>
            <a:ext cx="10076040" cy="36831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10920" y="378936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0" y="475920"/>
            <a:ext cx="914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7.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Визначте перелік змін основних макроекономічних показників, який спостерігатиметься в економіці, що перебуває у фазі піднесення та наближається до потенційного рівня виробництва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А) реальний ВВП зростає, безробіття зростає, інфляці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) реальний ВВП зростає, зайнятість зростає, ціни зростають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) реальний ВВП не змінюється, зайнятість не змінюється, інфляці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) реальний ВВП зростає, зайнятість зростає, ціни не змінюються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8.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Укажіть правильне твердження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А) «безробіття зростає під час пожвавлення в економіці»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) «безробіття зменшується під час економічного піднесення»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) «безробіття зменшується під час спаду в економіці»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) « зайнятість збільшується під час депресії»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9.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Укажіть ситуацію циклу економічної активності, яка супроводжується зменшенням зайнятості населення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А) пік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) піднесенн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) пожвавленн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) спад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324000" y="764640"/>
            <a:ext cx="836280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10. Показник економічної активності – це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А)період найвищої ділової активності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) чергування економічних спадів та підйомів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) зміни податкової ставки та видатків бюджету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) період неповного використання виробничих ресурсі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11.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Головна ідея  полягає в тому, що вплив циклів ділової активності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А) невеликий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) не може бути передбаченим та виміряним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) може бути виміряним і частково піддається регулюванню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) триває недовго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12. Що не є характерним для періоду підйому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А) ріст продуктивності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) зниження безробітт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) збільшення кредитів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) скорочення інвестицій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/З. Тема 20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ідповісти на питанн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)В яких країнах протягом 1992-1998 років  спостерігалось економічне зростання та економічний спад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Мета.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300" spc="-1" strike="noStrike">
                <a:solidFill>
                  <a:srgbClr val="000000"/>
                </a:solidFill>
                <a:latin typeface="Constantia"/>
              </a:rPr>
              <a:t>Сформувати  в учнів  знання про макроекономічні коливання,навчитись аналізувати економічні цикли згідно рафіку,оцінювати результати на підставі вивченого матеріалу, сформувати в учнів знання про  економічний стан нашої  держави, та інших країн світу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8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4617b"/>
                </a:solidFill>
                <a:latin typeface="Calibri"/>
              </a:rPr>
              <a:t>Цикл ділової активності </a:t>
            </a:r>
            <a:br>
              <a:rPr sz="32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0" name="Диаграмма 3" descr=""/>
          <p:cNvPicPr/>
          <p:nvPr/>
        </p:nvPicPr>
        <p:blipFill>
          <a:blip r:embed="rId2"/>
          <a:stretch/>
        </p:blipFill>
        <p:spPr>
          <a:xfrm>
            <a:off x="272880" y="1433520"/>
            <a:ext cx="8921880" cy="54752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3"/>
          <p:cNvSpPr/>
          <p:nvPr/>
        </p:nvSpPr>
        <p:spPr>
          <a:xfrm>
            <a:off x="4067280" y="3933720"/>
            <a:ext cx="1081080" cy="57312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ад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2556000" y="5445000"/>
            <a:ext cx="1584360" cy="41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іднесенн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6156360" y="1557360"/>
            <a:ext cx="1038240" cy="43668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і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4716360" y="5732640"/>
            <a:ext cx="2376720" cy="55224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Нижня точк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Депресія            Дно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6012000" y="3500280"/>
            <a:ext cx="1512720" cy="38916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іднесенн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2700360" y="3357720"/>
            <a:ext cx="920880" cy="475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ік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1800" y="334080"/>
            <a:ext cx="18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Rectangle 18"/>
          <p:cNvSpPr/>
          <p:nvPr/>
        </p:nvSpPr>
        <p:spPr>
          <a:xfrm>
            <a:off x="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Rectangle 19"/>
          <p:cNvSpPr/>
          <p:nvPr/>
        </p:nvSpPr>
        <p:spPr>
          <a:xfrm>
            <a:off x="4437360" y="4190040"/>
            <a:ext cx="26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19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7812000" y="2852640"/>
            <a:ext cx="1081080" cy="57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4f81b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пад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11" name="Прямая со стрелкой 19"/>
          <p:cNvCxnSpPr/>
          <p:nvPr/>
        </p:nvCxnSpPr>
        <p:spPr>
          <a:xfrm flipV="1">
            <a:off x="5363640" y="4365000"/>
            <a:ext cx="361080" cy="935640"/>
          </a:xfrm>
          <a:prstGeom prst="straightConnector1">
            <a:avLst/>
          </a:prstGeom>
          <a:ln w="28440">
            <a:solidFill>
              <a:srgbClr val="065093"/>
            </a:solidFill>
            <a:prstDash val="dash"/>
            <a:miter/>
            <a:tailEnd len="med" type="arrow" w="med"/>
          </a:ln>
        </p:spPr>
      </p:cxnSp>
      <p:sp>
        <p:nvSpPr>
          <p:cNvPr id="212" name="Прямоугольник 20"/>
          <p:cNvSpPr/>
          <p:nvPr/>
        </p:nvSpPr>
        <p:spPr>
          <a:xfrm>
            <a:off x="5510880" y="5013360"/>
            <a:ext cx="177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вавлення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Причини економічних коливань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79280" y="1920960"/>
            <a:ext cx="431640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Зовнішні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чисельність населення(зб.;зменш.;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инаходи людств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катаклізми в суспільстві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716000" y="1920960"/>
            <a:ext cx="4248360" cy="44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 u="sng">
                <a:solidFill>
                  <a:srgbClr val="000000"/>
                </a:solidFill>
                <a:uFillTx/>
                <a:latin typeface="Constantia"/>
              </a:rPr>
              <a:t>Внутрішні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людські     фактор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(психологічні,духовні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діяльність уряду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88640"/>
            <a:ext cx="8229600" cy="61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500" spc="-1" strike="noStrike">
                <a:solidFill>
                  <a:srgbClr val="c00000"/>
                </a:solidFill>
                <a:latin typeface="Constantia"/>
              </a:rPr>
              <a:t>ЄС чи Митний Союз?</a:t>
            </a:r>
            <a:endParaRPr b="0" lang="en-US" sz="10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000" spc="-1" strike="noStrike">
                <a:solidFill>
                  <a:srgbClr val="04617b"/>
                </a:solidFill>
                <a:latin typeface="Calibri"/>
              </a:rPr>
              <a:t>Практична робота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1173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7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На основі даних скласти цикл економічних коливань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4617b"/>
                </a:solidFill>
                <a:latin typeface="Constantia"/>
              </a:rPr>
              <a:t>у Росії                                                                             у Польщі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179280" y="2276640"/>
          <a:ext cx="8713800" cy="1728720"/>
        </p:xfrm>
        <a:graphic>
          <a:graphicData uri="http://schemas.openxmlformats.org/drawingml/2006/table">
            <a:tbl>
              <a:tblPr/>
              <a:tblGrid>
                <a:gridCol w="1082880"/>
                <a:gridCol w="1084320"/>
                <a:gridCol w="1089000"/>
                <a:gridCol w="1089000"/>
                <a:gridCol w="1089000"/>
                <a:gridCol w="1089000"/>
                <a:gridCol w="1089000"/>
                <a:gridCol w="1101600"/>
              </a:tblGrid>
              <a:tr h="56484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Росі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3880">
                <a:tc>
                  <a:txBody>
                    <a:bodyPr lIns="47160" rIns="4716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Індекс ВВ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 marL="68400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250920" y="4581360"/>
          <a:ext cx="8713800" cy="1884600"/>
        </p:xfrm>
        <a:graphic>
          <a:graphicData uri="http://schemas.openxmlformats.org/drawingml/2006/table">
            <a:tbl>
              <a:tblPr/>
              <a:tblGrid>
                <a:gridCol w="1225440"/>
                <a:gridCol w="952560"/>
                <a:gridCol w="1089000"/>
                <a:gridCol w="1089000"/>
                <a:gridCol w="1090440"/>
                <a:gridCol w="1089360"/>
                <a:gridCol w="1089000"/>
                <a:gridCol w="1089000"/>
              </a:tblGrid>
              <a:tr h="78444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льщ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Індекс ВВ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1729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04617b"/>
                </a:solidFill>
                <a:latin typeface="Calibri"/>
              </a:rPr>
              <a:t>?                  </a:t>
            </a: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2" descr="C:\Program Files\Microsoft Office\MEDIA\CAGCAT10\j0090386.wmf"/>
          <p:cNvPicPr/>
          <p:nvPr/>
        </p:nvPicPr>
        <p:blipFill>
          <a:blip r:embed="rId2"/>
          <a:stretch/>
        </p:blipFill>
        <p:spPr>
          <a:xfrm>
            <a:off x="1979640" y="3500280"/>
            <a:ext cx="5256360" cy="3357720"/>
          </a:xfrm>
          <a:prstGeom prst="rect">
            <a:avLst/>
          </a:prstGeom>
          <a:ln w="0">
            <a:noFill/>
          </a:ln>
        </p:spPr>
      </p:pic>
      <p:pic>
        <p:nvPicPr>
          <p:cNvPr id="223" name="Выноска-облако 4" descr=""/>
          <p:cNvPicPr/>
          <p:nvPr/>
        </p:nvPicPr>
        <p:blipFill>
          <a:blip r:embed="rId3"/>
          <a:stretch/>
        </p:blipFill>
        <p:spPr>
          <a:xfrm>
            <a:off x="-19080" y="324000"/>
            <a:ext cx="3567240" cy="3016080"/>
          </a:xfrm>
          <a:prstGeom prst="rect">
            <a:avLst/>
          </a:prstGeom>
          <a:ln w="0">
            <a:noFill/>
          </a:ln>
        </p:spPr>
      </p:pic>
      <p:grpSp>
        <p:nvGrpSpPr>
          <p:cNvPr id="224" name="Солнце 5"/>
          <p:cNvGrpSpPr/>
          <p:nvPr/>
        </p:nvGrpSpPr>
        <p:grpSpPr>
          <a:xfrm>
            <a:off x="4645080" y="225360"/>
            <a:ext cx="4565520" cy="3097440"/>
            <a:chOff x="4645080" y="225360"/>
            <a:chExt cx="4565520" cy="3097440"/>
          </a:xfrm>
        </p:grpSpPr>
        <p:pic>
          <p:nvPicPr>
            <p:cNvPr id="225" name="Солнце 5" descr=""/>
            <p:cNvPicPr/>
            <p:nvPr/>
          </p:nvPicPr>
          <p:blipFill>
            <a:blip r:embed="rId4"/>
            <a:stretch/>
          </p:blipFill>
          <p:spPr>
            <a:xfrm>
              <a:off x="4645080" y="225360"/>
              <a:ext cx="4565520" cy="309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6146640" y="1214280"/>
              <a:ext cx="1565280" cy="10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000000"/>
                  </a:solidFill>
                  <a:latin typeface="Constantia"/>
                </a:rPr>
                <a:t>ПІДНЕ-СЕННЯ</a:t>
              </a:r>
              <a:endParaRPr b="0" lang="en-US" sz="2800" spc="-1" strike="noStrike">
                <a:solidFill>
                  <a:srgbClr val="000000"/>
                </a:solidFill>
                <a:latin typeface="Constanti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«Бліц опитування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1.Укажіть,якими змінами основних макроекономічних показників супроводжується фаза спаду економічного циклу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) зростання реального ВВП, зайнятості та цін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) зменшенням реального ВВП і  зайнятості, зменшенням цін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) зменшенням реального ВВП і зайнятості,  зростанням цін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) зменшенням реального ВВП і безробіттям, зниженням цін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Визначте макроекономічний показник, значення якого свідчить про економічне зростання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) обсяг виробництва легкої промисловості країни зріс на 8%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) обсяг номінального ВВП зріс на 1,2 млрд. грн. порівняно з попереднім роком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) обсяг реального ВВП зріс на 4 %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) обсяг реального ВВП на душу населення зменшився на 0,5 %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200" spc="-1" strike="noStrike">
                <a:solidFill>
                  <a:srgbClr val="000000"/>
                </a:solidFill>
                <a:latin typeface="Constantia"/>
              </a:rPr>
              <a:t>Визначте, за яких умов деякі економісти вважають доцільним наявність дефіциту державного бюджету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А) у період економічного спаду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Б) у період економічного зростання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В) у фазі піку економічного циклу;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Constantia"/>
              </a:rPr>
              <a:t>Г) у жодній фазі економічного циклу дефіцит бюджету не є доцільним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0" y="62028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Визначте, які монетарні та фіскальні заходи уряду призведуть до збільшення ВВП, якщо економіка перебуває в стадії спаду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Constantia"/>
              </a:rPr>
              <a:t>А)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купівля цінних паперів і збільшення видатків бюджет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) продаж цінних паперів і збільшення  податкових ставок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) продаж цінних паперів і збільшення видатків бюджету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) купівля цінних паперів і збільшення податкових ставок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5.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Визначте, за якої фази ділової активності в економіці уряд скоріше за все збільшить державні видатки та зменшить облікову ставку центрального банку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) пожвавленн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) піднесенн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) рецесі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) інфляці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6.</a:t>
            </a: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Constantia"/>
              </a:rPr>
              <a:t>Визначте, який висновок можна зробити про розвиток економік країни, якщо її номінальний ВВП зріс на 8%, а дефлятор ВВП  дорівнює 1,08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А) відбувається економічне зростання 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Б) реальний ВВП не змінивс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В) відбувається економічний спад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Constantia"/>
              </a:rPr>
              <a:t>Г) номінальний ВВП на душу населення зріс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0:11:29Z</dcterms:created>
  <dc:creator>пк</dc:creator>
  <dc:description/>
  <dc:language>en-US</dc:language>
  <cp:lastModifiedBy>Admin</cp:lastModifiedBy>
  <dcterms:modified xsi:type="dcterms:W3CDTF">2014-04-08T10:43:03Z</dcterms:modified>
  <cp:revision>7</cp:revision>
  <dc:subject/>
  <dc:title>Тема уроку:  Економічні коливанн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a000000000001024140</vt:lpwstr>
  </property>
</Properties>
</file>