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D50-54A5-4B39-BE46-51C5AD57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27C-1A0C-4895-9108-86D36099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978-6210-4AFC-B08D-E18E29F8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A72-CABC-4D32-9EB6-684A795C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334-CCDE-42E1-B3A1-A8047D6D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9F2-6C3D-4498-9F90-D7AFA05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82D-81D1-4A17-AF84-2BC8C593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FD7-CB51-4181-AB89-248EBB39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D31-3580-463C-97E1-6FAE8D2E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7A4-C5AB-4104-B3EA-577C54A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EE8-0EF5-4D83-B603-969B227D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970-316E-47CD-BC86-09C884C5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417A-32CD-44B4-86B3-7BC3D69B9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uk-UA" sz="4800" spc="-1" strike="noStrike">
                <a:solidFill>
                  <a:srgbClr val="333399"/>
                </a:solidFill>
                <a:latin typeface="Aharoni"/>
              </a:rPr>
              <a:t>В школі</a:t>
            </a:r>
            <a:r>
              <a:rPr b="1" lang="uk-UA" sz="5400" spc="-1" strike="noStrike">
                <a:solidFill>
                  <a:srgbClr val="333399"/>
                </a:solidFill>
                <a:latin typeface="Aharoni"/>
              </a:rPr>
              <a:t> справу хоч я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3399"/>
                </a:solidFill>
                <a:latin typeface="Arial"/>
              </a:rPr>
              <a:t>Починаєм по дзвінк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3399"/>
                </a:solidFill>
                <a:latin typeface="Arial"/>
              </a:rPr>
              <a:t>Тож хвилини не втрачаєм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3399"/>
                </a:solidFill>
                <a:latin typeface="Arial"/>
              </a:rPr>
              <a:t>Все нове запам’ятаєм</a:t>
            </a:r>
            <a:r>
              <a:rPr b="0" lang="uk-UA" sz="5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428113"/>
          <p:cNvPicPr/>
          <p:nvPr/>
        </p:nvPicPr>
        <p:blipFill>
          <a:blip r:embed="rId1"/>
          <a:stretch/>
        </p:blipFill>
        <p:spPr>
          <a:xfrm>
            <a:off x="0" y="476280"/>
            <a:ext cx="1728720" cy="182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kolokol05"/>
          <p:cNvPicPr/>
          <p:nvPr/>
        </p:nvPicPr>
        <p:blipFill>
          <a:blip r:embed="rId2"/>
          <a:stretch/>
        </p:blipFill>
        <p:spPr>
          <a:xfrm>
            <a:off x="395280" y="4221000"/>
            <a:ext cx="15480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I:\Відкритий урок 21.10.14\картинки\588px-Книги.jpg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5554800" cy="220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-360" y="1700280"/>
            <a:ext cx="8389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00"/>
                </a:solidFill>
                <a:latin typeface="Comic Sans MS"/>
                <a:ea typeface="Calibri"/>
              </a:rPr>
              <a:t>І група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 –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Ознайомтесь зі статтями 51, 52  Конституції України та зі  статтями 141, 150, 151, 153, 154, 155, 160, 164, 180 Сімейного Кодексу України й випишіть у таблицю основні права та обов’язки батьків по відношенню до своїх дітей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00"/>
                </a:solidFill>
                <a:latin typeface="Comic Sans MS"/>
                <a:ea typeface="Calibri"/>
              </a:rPr>
              <a:t>ІІ група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 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омтесь зі статтями 173, 174, 175, 177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, 178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імейного кодексу України та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иконайте вправу «Право власності у сім’ї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0000"/>
                </a:solidFill>
                <a:latin typeface="Arial"/>
              </a:rPr>
              <a:t>ІІІ група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. Ознайомтесь зі ст. 51 Конституції України та с. 81, 202, 203, 204, 206 Сімейного кодексу України та визначте, у яких випадках діти зобов’язані надавати матеріальну допомогу своїм батьк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990000"/>
                </a:solidFill>
                <a:latin typeface="Arial"/>
              </a:rPr>
              <a:t>                     </a:t>
            </a:r>
            <a:r>
              <a:rPr b="1" lang="uk-UA" sz="4800" spc="-1" strike="noStrike">
                <a:solidFill>
                  <a:srgbClr val="990000"/>
                </a:solidFill>
                <a:latin typeface="Arial"/>
              </a:rPr>
              <a:t>Рольова 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1" lang="uk-UA" sz="6000" spc="-1" strike="noStrike">
                <a:solidFill>
                  <a:srgbClr val="000066"/>
                </a:solidFill>
                <a:latin typeface="Arial"/>
              </a:rPr>
              <a:t>Розгляд у суді цивільної справи громадянина Г.Іванова</a:t>
            </a:r>
            <a:r>
              <a:rPr b="0" lang="uk-UA" sz="6000" spc="-1" strike="noStrike">
                <a:solidFill>
                  <a:srgbClr val="000066"/>
                </a:solidFill>
                <a:latin typeface="Arial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663640" cy="17748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Дайте відповідь на проблемне питання, яке стояло на початку уро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2349000"/>
            <a:ext cx="6553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uk-UA" sz="5400" spc="-1" strike="noStrike">
                <a:solidFill>
                  <a:srgbClr val="990000"/>
                </a:solidFill>
                <a:latin typeface="Arial"/>
              </a:rPr>
              <a:t>Що означає взаємна відповідальність батьків і діте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Уявний мікро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0000"/>
                </a:solidFill>
                <a:latin typeface="Arial"/>
              </a:rPr>
              <a:t>Продовжіть дум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990000"/>
                </a:solidFill>
                <a:latin typeface="Arial"/>
              </a:rPr>
              <a:t>«Взаємна відповідальність батьків і дітей полягає у тому, що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990000"/>
                </a:solidFill>
                <a:latin typeface="Arial"/>
              </a:rPr>
              <a:t>«Права і обов’язки дітей мають взаємний характер, тому щ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990000"/>
                </a:solidFill>
                <a:latin typeface="Arial"/>
              </a:rPr>
              <a:t>« Я на уроці замислився над тим, що 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990000"/>
                </a:solidFill>
                <a:latin typeface="Arial"/>
              </a:rPr>
              <a:t>« Сім’я щаслива тоді, коли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990000"/>
                </a:solidFill>
                <a:latin typeface="Arial"/>
              </a:rPr>
              <a:t>«Сьогодні на уроці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для мене </a:t>
            </a:r>
            <a:r>
              <a:rPr b="0" i="1" lang="uk-UA" sz="2800" spc="-1" strike="noStrike">
                <a:solidFill>
                  <a:srgbClr val="990000"/>
                </a:solidFill>
                <a:latin typeface="Arial"/>
              </a:rPr>
              <a:t>було важливи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7931160" cy="572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імейна радість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Щасливі обличчя!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Бажаю всім сім'ям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юбов'ю світитися!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Хай в родинах веселий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вучить дитячий сміх,</a:t>
            </a:r>
            <a:br>
              <a:rPr sz="2800"/>
            </a:b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Весіннє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і радісн</a:t>
            </a: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е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вято для всіх!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юбов процвітає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ругом по Землі!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ир вашому дому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І кожній родині</a:t>
            </a: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 завжд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Arial"/>
              </a:rPr>
              <a:t>                          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i="1" lang="uk-UA" sz="2800" spc="-1" strike="noStrike">
                <a:solidFill>
                  <a:srgbClr val="ff0066"/>
                </a:solidFill>
                <a:latin typeface="Arial"/>
              </a:rPr>
              <a:t>Олена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Морозова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2440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Usert\Pictures\i.jpg"/>
          <p:cNvPicPr/>
          <p:nvPr/>
        </p:nvPicPr>
        <p:blipFill>
          <a:blip r:embed="rId2"/>
          <a:stretch/>
        </p:blipFill>
        <p:spPr>
          <a:xfrm>
            <a:off x="684360" y="1965240"/>
            <a:ext cx="67672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35344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це форма спілкування                  (Аристотель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….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це найважливіше, що є у світі. Якщо у вас немає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її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вважайте, що у вас немає нічого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Ц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 найміцніші узи всього вашого життя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жонні Депп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….. – перше джерело, з якого починається велика ріка почуттів і переконань (В. О. Сухомлинськ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80024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333399"/>
                </a:solidFill>
                <a:latin typeface="Arial"/>
              </a:rPr>
              <a:t>Інтерактивна</a:t>
            </a:r>
            <a:r>
              <a:rPr b="0" lang="uk-UA" sz="7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7200" spc="-1" strike="noStrike">
                <a:solidFill>
                  <a:srgbClr val="333399"/>
                </a:solidFill>
                <a:latin typeface="Arial"/>
              </a:rPr>
              <a:t>вправа</a:t>
            </a:r>
            <a:r>
              <a:rPr b="1" lang="uk-UA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9600" spc="-1" strike="noStrike">
                <a:solidFill>
                  <a:srgbClr val="990000"/>
                </a:solidFill>
                <a:latin typeface="Arial"/>
              </a:rPr>
              <a:t>„Бінго”</a:t>
            </a:r>
            <a:r>
              <a:rPr b="0" lang="uk-UA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1463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549360"/>
          <a:ext cx="8291520" cy="58928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Шлюбний вік в Україні  для чолові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Шлюбний вік в Україні для жін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17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.Мінімальний вік для вступу у шлюб за рішенням су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14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Вік, з якого дитина може самостійно звернутися до суду за захистом своїх пра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14 р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Максимальний строк чинної заяви про реєстрацію шлюб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3 місяці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Строк, протягом якого має бути зареєстрована новонароджена дит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1 місяць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Назва особи чоловічої статі, яка подала заяву про вступ до шлюб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наречений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Як називається шлюб, який укладається без наміру створити сім’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фіктивний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Вік, до якого дитина вважається малолітньо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14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Особа, яка посвідчує шлюбний догові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нотаріус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Вид прав, які не можуть регулюватися шлюбним договор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особисті права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Назва органу, який розриває шлюб за спільною заявою подружжя, яке має ді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ідповідь: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Calibri"/>
                          <a:ea typeface="Times New Roman"/>
                        </a:rPr>
                        <a:t>суд </a:t>
                      </a:r>
                      <a:r>
                        <a:rPr b="1" lang="uk-UA" sz="16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90000"/>
                </a:solidFill>
                <a:latin typeface="Arial"/>
              </a:rPr>
              <a:t>Інтерактивна гра «Снігова куля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uk-UA" sz="5400" spc="-1" strike="noStrike">
                <a:solidFill>
                  <a:srgbClr val="333399"/>
                </a:solidFill>
                <a:latin typeface="Arial"/>
              </a:rPr>
              <a:t>Тема нашого уроку «Взаємні права та обов’язки батьків та дітей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image001"/>
          <p:cNvPicPr/>
          <p:nvPr/>
        </p:nvPicPr>
        <p:blipFill>
          <a:blip r:embed="rId1"/>
          <a:stretch/>
        </p:blipFill>
        <p:spPr>
          <a:xfrm>
            <a:off x="0" y="260280"/>
            <a:ext cx="1828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Епіграф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«Сім’я, дитинство, материнство                                                         і батьківство охороняється державо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Стаття 51 Конституції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§ 18 опрацювати, відповіді на питання в кінці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Написати есе-роздум на тему «Чи повинна держава втручатися у сімейні стосунк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Скласти три юридичні задачі з питань сімейного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школа\13.png"/>
          <p:cNvPicPr/>
          <p:nvPr/>
        </p:nvPicPr>
        <p:blipFill>
          <a:blip r:embed="rId1"/>
          <a:stretch/>
        </p:blipFill>
        <p:spPr>
          <a:xfrm>
            <a:off x="7335720" y="5084640"/>
            <a:ext cx="12034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uk-UA" sz="6600" spc="-1" strike="noStrike">
                <a:solidFill>
                  <a:srgbClr val="990000"/>
                </a:solidFill>
                <a:latin typeface="Arial"/>
              </a:rPr>
              <a:t>Проблемне питанн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uk-UA" sz="5400" spc="-1" strike="noStrike">
                <a:solidFill>
                  <a:srgbClr val="333399"/>
                </a:solidFill>
                <a:latin typeface="Arial"/>
              </a:rPr>
              <a:t>Що означає взаємна відповідальність батьків і діте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0:35:35Z</dcterms:created>
  <dc:creator>Игорь</dc:creator>
  <dc:description/>
  <dc:language>en-US</dc:language>
  <cp:lastModifiedBy>Игорь</cp:lastModifiedBy>
  <dcterms:modified xsi:type="dcterms:W3CDTF">2015-03-18T18:03:0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</Properties>
</file>