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2DB-640C-4A55-8AE7-85E56E53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A72-FCFA-4C81-BC17-24D39153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087-4C10-45E3-971C-3789DBBF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150-D2F2-4AA5-9379-6308BD34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EECB-3400-4812-A357-EC4D3757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654-4F49-4B39-AD9F-7901B10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7FE-CF08-4F01-A2E2-9E1A981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FB6F-85F8-46BB-BA54-36BB848B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316-E9A9-493C-AE90-88E9DF0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36E-3B2C-412A-8B3B-2AA2B01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35A-1495-4A03-A970-EA9ABDD4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1E8-A7DB-4E11-8B0D-CEC5DCA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2D5F-9643-404B-9D20-47D70DE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5F84-93A9-41D6-A4A1-7F83E9B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5C3-1B60-46FF-8BE5-4BAC6FF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C7A-21D4-4BF2-A413-847DC2D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3BC7-AAA4-49D4-AC19-03E0B80E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B99-65F4-4933-98CC-D352057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DEC-3CBF-4D16-BCB1-C9BBDC2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2AD-7372-40B7-9EE2-7CDF8DE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721-5F2D-494C-A88C-3CE11928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CC3-96A6-4A64-B3C9-B07BC3E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722-2A24-4F3B-8FA6-EF71CC7C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30C-F306-4734-BB7D-1EDF7CAF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72D-2865-4CF3-84FF-70B0F4BE0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EFA6-2432-4B10-81D5-F1120D10C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333360"/>
            <a:ext cx="633708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зна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клас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7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53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82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кінчіть реч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00040" y="1125360"/>
            <a:ext cx="80326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маю велосипед, тобто я ним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їжджу на цьому велосипеді щоденно до місця своєї роботи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продав свій велосипед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ідстави для позбавлення права влас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Примусове відчу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попереднього і повного відшкод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фіскація май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виключно за рішенням суду в умовах і порядку, визначеному закон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Обме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завдання шкоди правам, свободі і гідності людей, інтересам суспіль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250920" y="18900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ові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Визначте правомірність 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 зв’язку з реконструкцією центральної площі міста, безоплатно була вилучена частина власності громадян, які проживали поряд із центральною площ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У громадянина Петренка, підозрюваного у скоєнні правопорушення, була конфіскована частина його майна за рішенням дільничого міліціо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купівля"/>
          <p:cNvPicPr/>
          <p:nvPr/>
        </p:nvPicPr>
        <p:blipFill>
          <a:blip r:embed="rId1"/>
          <a:stretch/>
        </p:blipFill>
        <p:spPr>
          <a:xfrm>
            <a:off x="2590920" y="228600"/>
            <a:ext cx="2438280" cy="1681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13372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89396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533412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6"/>
          <a:stretch/>
        </p:blipFill>
        <p:spPr>
          <a:xfrm>
            <a:off x="2743200" y="4521240"/>
            <a:ext cx="23814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7"/>
          <a:stretch/>
        </p:blipFill>
        <p:spPr>
          <a:xfrm>
            <a:off x="6400800" y="2133720"/>
            <a:ext cx="2438280" cy="170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327672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7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Да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57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Виготов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100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Ск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342900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нахі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8580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апов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86000" y="2590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Шляхи набуття вла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6095880" y="6095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Привласнення дарів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на тему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 у нашому жит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549360"/>
            <a:ext cx="799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сні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шому жит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692360" y="4046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684360" y="1125360"/>
            <a:ext cx="3240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инн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цтво      (винахі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хідка (скар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снення дарів прир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доглядна домашня тв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48360" y="1557360"/>
            <a:ext cx="3600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хідн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івля –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к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89000"/>
            <a:ext cx="79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 328 ЦКУ. Підстави набу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 власност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42920" y="210960"/>
          <a:ext cx="8858160" cy="63864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13360">
                <a:tc gridSpan="4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 власності в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ласність українського на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ерж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а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мунальна (власність села, району, мі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7880">
                <a:tc>
                  <a:txBody>
                    <a:bodyPr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, її на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е повіт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і та інші природні ресурси, які знаходяться в межах території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і ресурси її континентального шельфу, виключної (морської) економічної з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но Збройних Сил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із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, які належить державі 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ажливіші культурні, освітні та медичні устан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ована 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автомобі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і особистого корис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іщення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и куль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нотеа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і компле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а частина жит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49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до 14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62864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4 р. до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54936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333360"/>
            <a:ext cx="871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Алгоритм аналізу газетної стат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1. Яка подія спонукала автора до написання стат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2. Визначте головну ідею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3. Підберіть аргументи на підтрим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цієї ідеї і стисло їх сформулю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4. Визначте групи проблем, я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автор окреслює 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5. Дайте власну оцінк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23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30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39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46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51280" y="404640"/>
            <a:ext cx="48261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ку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14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5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сні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володіння речами; речі, рухомі й нерухомі, що комусь належать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Nastja\Desktop\1310037922.jpg"/>
          <p:cNvPicPr/>
          <p:nvPr/>
        </p:nvPicPr>
        <p:blipFill>
          <a:blip r:embed="rId1"/>
          <a:stretch/>
        </p:blipFill>
        <p:spPr>
          <a:xfrm>
            <a:off x="5364000" y="1773360"/>
            <a:ext cx="347508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Nastja\Desktop\категория_детская_одежда1.jpg"/>
          <p:cNvPicPr/>
          <p:nvPr/>
        </p:nvPicPr>
        <p:blipFill>
          <a:blip r:embed="rId2"/>
          <a:stretch/>
        </p:blipFill>
        <p:spPr>
          <a:xfrm>
            <a:off x="241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Nastja\Desktop\ball.jpg"/>
          <p:cNvPicPr/>
          <p:nvPr/>
        </p:nvPicPr>
        <p:blipFill>
          <a:blip r:embed="rId3"/>
          <a:stretch/>
        </p:blipFill>
        <p:spPr>
          <a:xfrm>
            <a:off x="395280" y="2637000"/>
            <a:ext cx="2005200" cy="200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11592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іше заглядайте у словник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05:04Z</dcterms:created>
  <dc:creator>Nastja</dc:creator>
  <dc:description/>
  <dc:language>en-US</dc:language>
  <cp:lastModifiedBy>VIP</cp:lastModifiedBy>
  <dcterms:modified xsi:type="dcterms:W3CDTF">2014-12-15T12:56:34Z</dcterms:modified>
  <cp:revision>63</cp:revision>
  <dc:subject/>
  <dc:title>Презентація на тему:  Власність у нашому жит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0000000000001024140</vt:lpwstr>
  </property>
</Properties>
</file>