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73D-3E09-4B57-A1CD-8C6FE76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0A3-A4F6-4D45-9EAA-19ED6C6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AC4-F8E2-4C11-8BEA-66817237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627-C4E0-4420-AA89-6B0A74A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F3A-3AD2-404D-B460-5F2E972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5A3-8F04-45B9-B98E-AF68B10A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F2F9-FEAE-409E-94CF-D8F0F8EE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DF5C-9DBB-461C-90D9-9369942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9C3A-50B3-49E2-B710-1E20AB3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5970-2CA4-4D95-90FA-19BC01C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1540-E3FE-4D56-A9D4-00E8DFD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EE7-2212-4540-B061-CC5B51E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BF6-C7E8-44A8-AC41-876D078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ED9-E9CF-4CE2-AB92-F1987AA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B4B-CF20-461C-AEE2-5993928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7A6-D7D1-448C-8CB5-DD94A47C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D466-F045-4808-BF07-832F6F77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AF1-D3DA-45CA-98EE-5611EE6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A26-5AA1-4C27-B5CC-B62DBF3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C12-1427-41B0-9D61-F3442DF5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857-ED1C-4757-83B4-89A144D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248-4241-4629-8D9B-C2CEE06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DE-EFAE-40B3-AFCB-C7BAB0B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894-E7FC-4EBF-AF2F-2DEAEA2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F5B-4405-474D-B5C2-CA0873702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5A34-5C85-4BE7-8396-F9C209D46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333360"/>
            <a:ext cx="633708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зна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клас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7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53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sp>
          <p:nvSpPr>
            <p:cNvPr id="182" name="AutoShape 5"/>
            <p:cNvSpPr/>
            <p:nvPr/>
          </p:nvSpPr>
          <p:spPr>
            <a:xfrm>
              <a:off x="0" y="189000"/>
              <a:ext cx="9144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1947600" y="675000"/>
              <a:ext cx="5244840" cy="4859640"/>
              <a:chOff x="1947600" y="675000"/>
              <a:chExt cx="5244840" cy="4859640"/>
            </a:xfrm>
          </p:grpSpPr>
          <p:sp>
            <p:nvSpPr>
              <p:cNvPr id="184" name="AutoShape 7"/>
              <p:cNvSpPr/>
              <p:nvPr/>
            </p:nvSpPr>
            <p:spPr>
              <a:xfrm>
                <a:off x="1947600" y="675000"/>
                <a:ext cx="3074760" cy="310932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>
                <a:off x="4117680" y="675000"/>
                <a:ext cx="3074760" cy="31122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>
                <a:off x="3032640" y="2423880"/>
                <a:ext cx="3074760" cy="311076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0"/>
            <p:cNvSpPr/>
            <p:nvPr/>
          </p:nvSpPr>
          <p:spPr>
            <a:xfrm>
              <a:off x="4046040" y="2457360"/>
              <a:ext cx="1198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4944960" y="1485360"/>
              <a:ext cx="2247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Користува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97240" y="1485360"/>
              <a:ext cx="179676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лоді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3446280" y="4077000"/>
              <a:ext cx="23997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uk-UA" sz="2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озпоряджен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299160" y="1808640"/>
              <a:ext cx="1948680" cy="17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пливати на річ 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безпосередньо,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змінювати її розміщення, пересувати її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7192800" y="1808640"/>
              <a:ext cx="195084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илучати із речей їхні корисні властивості для задоволення своїх потре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446280" y="5535000"/>
              <a:ext cx="2547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ливість вирішувати долю речі шляхом відчу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4211640" y="115920"/>
            <a:ext cx="47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ліджуємо разом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кінчіть рече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00040" y="1125360"/>
            <a:ext cx="80326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маю велосипед, тобто я ним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їжджу на цьому велосипеді щоденно до місця своєї роботи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Times New Roman"/>
              </a:rPr>
              <a:t>Я продав свій велосипед, тобто я ним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ідстави для позбавлення права влас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Примусове відчу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попереднього і повного відшкодув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фіскація майн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виключно за рішенням суду в умовах і порядку, визначеному закон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Обмеж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(за умови завдання шкоди правам, свободі і гідності людей, інтересам суспіль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250920" y="18900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авові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  <a:ea typeface="Arial"/>
              </a:rPr>
              <a:t>Визначте правомірність 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 зв’язку з реконструкцією центральної площі міста, безоплатно була вилучена частина власності громадян, які проживали поряд із центральною площе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У громадянина Петренка, підозрюваного у скоєнні правопорушення, була конфіскована частина його майна за рішенням дільничого міліціо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купівля"/>
          <p:cNvPicPr/>
          <p:nvPr/>
        </p:nvPicPr>
        <p:blipFill>
          <a:blip r:embed="rId1"/>
          <a:stretch/>
        </p:blipFill>
        <p:spPr>
          <a:xfrm>
            <a:off x="2590920" y="228600"/>
            <a:ext cx="2438280" cy="1681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133720" cy="1536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89396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62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533412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6"/>
          <a:stretch/>
        </p:blipFill>
        <p:spPr>
          <a:xfrm>
            <a:off x="2743200" y="4521240"/>
            <a:ext cx="23814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/>
          <p:cNvPicPr/>
          <p:nvPr/>
        </p:nvPicPr>
        <p:blipFill>
          <a:blip r:embed="rId7"/>
          <a:stretch/>
        </p:blipFill>
        <p:spPr>
          <a:xfrm>
            <a:off x="6400800" y="2133720"/>
            <a:ext cx="2438280" cy="170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3276720" y="19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7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Да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572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Виготов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100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Ск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342900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нахі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8580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Запов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86000" y="2590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Шляхи набуття вла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6095880" y="6095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  <a:ea typeface="Arial"/>
              </a:rPr>
              <a:t>Привласнення дарів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на тему: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 у нашому жит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549360"/>
            <a:ext cx="7993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ласні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шому жит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692360" y="40464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684360" y="1125360"/>
            <a:ext cx="3240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инн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цтво      (винахі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хідка (скарб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снення дарів прир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доглядна домашня тв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48360" y="1557360"/>
            <a:ext cx="3600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хідн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івля –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к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89000"/>
            <a:ext cx="79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 328 ЦКУ. Підстави набу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 власност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42920" y="210960"/>
          <a:ext cx="8858160" cy="63864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513360">
                <a:tc gridSpan="4"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 власності в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ласність українського на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ержа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а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мунальна (власність села, району, мі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7880">
                <a:tc>
                  <a:txBody>
                    <a:bodyPr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, її на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е повіт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і та інші природні ресурси, які знаходяться в межах території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2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і ресурси її континентального шельфу, виключної (морської) економічної з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но Збройних Сил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із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, які належить державі 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ажливіші культурні, освітні та медичні устан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тизована 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автомобі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і особистого корист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і діля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іщення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и куль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нотеа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і компле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а частина жит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587700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Конституція України, Цивільний Кодекс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3645000"/>
            <a:ext cx="1944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Пра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влас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олоді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н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ря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97164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042920" y="3284280"/>
            <a:ext cx="100800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Підстави для позбавлення прав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6360" y="2708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Шляхи набуття права влас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3284640"/>
            <a:ext cx="11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ерви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хі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620640"/>
            <a:ext cx="18734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Форми власност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ласність укр.на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ержав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ват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мун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49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до 14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628640"/>
            <a:ext cx="20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4 р. до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9640" y="54936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з 18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о власності неповнолітні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. Частков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до 14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дрібні побутові угоди, особисті немайнові права на результати інтелектуальної, творчої діяльності. Іншим майном, що їй належить,  розпоряджаються батьки в її інтер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2. Неповна цивільна дієзда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 14 до 18 років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самостійно розпоряджатися заробітком, стипендією, укладати договір банківського вкладу, здійснювати права на результати інтелектуальної діяльності; інші правочини за згодою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3. Повна цивільна дієздатність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 ро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 моменту реєстрації  шлюбу, особа 16 років, яка працює за трудовим договором, записана батьком чи маті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 дит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333360"/>
            <a:ext cx="871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Алгоритм аналізу газетної стат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1. Яка подія спонукала автора до написання стат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2. Визначте головну ідею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3. Підберіть аргументи на підтрим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цієї ідеї і стисло їх сформулю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4. Визначте групи проблем, я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автор окреслює 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5. Дайте власну оцінку стат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23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30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8"/>
          <p:cNvGrpSpPr/>
          <p:nvPr/>
        </p:nvGrpSpPr>
        <p:grpSpPr>
          <a:xfrm>
            <a:off x="105840" y="0"/>
            <a:ext cx="8789400" cy="6857280"/>
            <a:chOff x="105840" y="0"/>
            <a:chExt cx="8789400" cy="6857280"/>
          </a:xfrm>
        </p:grpSpPr>
        <p:sp>
          <p:nvSpPr>
            <p:cNvPr id="339" name="Freeform 25"/>
            <p:cNvSpPr/>
            <p:nvPr/>
          </p:nvSpPr>
          <p:spPr>
            <a:xfrm>
              <a:off x="3205440" y="0"/>
              <a:ext cx="2663640" cy="351504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3515040"/>
                <a:gd name="textAreaBottom" fmla="*/ 3515400 h 351504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26552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 rot="574800">
              <a:off x="414000" y="1613160"/>
              <a:ext cx="4622040" cy="1941480"/>
            </a:xfrm>
            <a:custGeom>
              <a:avLst/>
              <a:gdLst>
                <a:gd name="textAreaLeft" fmla="*/ 0 w 4622040"/>
                <a:gd name="textAreaRight" fmla="*/ 4622400 w 46220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00526f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"/>
            <p:cNvSpPr/>
            <p:nvPr/>
          </p:nvSpPr>
          <p:spPr>
            <a:xfrm rot="21118800">
              <a:off x="403200" y="3500280"/>
              <a:ext cx="4650840" cy="1945080"/>
            </a:xfrm>
            <a:custGeom>
              <a:avLst/>
              <a:gdLst>
                <a:gd name="textAreaLeft" fmla="*/ 0 w 4650840"/>
                <a:gd name="textAreaRight" fmla="*/ 4651200 w 4650840"/>
                <a:gd name="textAreaTop" fmla="*/ 0 h 1945080"/>
                <a:gd name="textAreaBottom" fmla="*/ 1945440 h 1945080"/>
              </a:gdLst>
              <a:ahLst/>
              <a:rect l="textAreaLeft" t="textAreaTop" r="textAreaRight" b="textAreaBottom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572d5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3205440" y="3458160"/>
              <a:ext cx="2536560" cy="3399120"/>
            </a:xfrm>
            <a:custGeom>
              <a:avLst/>
              <a:gdLst>
                <a:gd name="textAreaLeft" fmla="*/ 0 w 2536560"/>
                <a:gd name="textAreaRight" fmla="*/ 2536920 w 2536560"/>
                <a:gd name="textAreaTop" fmla="*/ 0 h 3399120"/>
                <a:gd name="textAreaBottom" fmla="*/ 3399120 h 3399120"/>
              </a:gdLst>
              <a:ahLst/>
              <a:rect l="textAreaLeft" t="textAreaTop" r="textAreaRight" b="textAreaBottom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 rot="521400">
              <a:off x="4082760" y="3615120"/>
              <a:ext cx="4439160" cy="1815120"/>
            </a:xfrm>
            <a:custGeom>
              <a:avLst/>
              <a:gdLst>
                <a:gd name="textAreaLeft" fmla="*/ 0 w 4439160"/>
                <a:gd name="textAreaRight" fmla="*/ 4439520 w 4439160"/>
                <a:gd name="textAreaTop" fmla="*/ 0 h 1815120"/>
                <a:gd name="textAreaBottom" fmla="*/ 1815480 h 1815120"/>
              </a:gdLst>
              <a:ahLst/>
              <a:rect l="textAreaLeft" t="textAreaTop" r="textAreaRight" b="textAreaBottom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763a1c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 rot="21130800">
              <a:off x="4219920" y="1714680"/>
              <a:ext cx="4566240" cy="1915560"/>
            </a:xfrm>
            <a:custGeom>
              <a:avLst/>
              <a:gdLst>
                <a:gd name="textAreaLeft" fmla="*/ 0 w 4566240"/>
                <a:gd name="textAreaRight" fmla="*/ 4566600 w 45662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4"/>
            <p:cNvGrpSpPr/>
            <p:nvPr/>
          </p:nvGrpSpPr>
          <p:grpSpPr>
            <a:xfrm>
              <a:off x="3348000" y="2722680"/>
              <a:ext cx="2042640" cy="1613520"/>
              <a:chOff x="3348000" y="2722680"/>
              <a:chExt cx="2042640" cy="1613520"/>
            </a:xfrm>
          </p:grpSpPr>
          <p:sp>
            <p:nvSpPr>
              <p:cNvPr id="346" name="Oval 15"/>
              <p:cNvSpPr/>
              <p:nvPr/>
            </p:nvSpPr>
            <p:spPr>
              <a:xfrm>
                <a:off x="3348000" y="2722680"/>
                <a:ext cx="2042640" cy="1613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>
                <a:off x="3581280" y="2749320"/>
                <a:ext cx="1575720" cy="60876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608760"/>
                  <a:gd name="textAreaBottom" fmla="*/ 609120 h 608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 Box 32"/>
            <p:cNvSpPr/>
            <p:nvPr/>
          </p:nvSpPr>
          <p:spPr>
            <a:xfrm>
              <a:off x="717480" y="1878480"/>
              <a:ext cx="22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- зн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"/>
            <p:cNvSpPr/>
            <p:nvPr/>
          </p:nvSpPr>
          <p:spPr>
            <a:xfrm>
              <a:off x="3175920" y="76896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 - 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34"/>
            <p:cNvSpPr/>
            <p:nvPr/>
          </p:nvSpPr>
          <p:spPr>
            <a:xfrm>
              <a:off x="5516640" y="187848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умі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5"/>
            <p:cNvSpPr/>
            <p:nvPr/>
          </p:nvSpPr>
          <p:spPr>
            <a:xfrm>
              <a:off x="105840" y="4500360"/>
              <a:ext cx="34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розрізня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6"/>
            <p:cNvSpPr/>
            <p:nvPr/>
          </p:nvSpPr>
          <p:spPr>
            <a:xfrm>
              <a:off x="5220000" y="4500360"/>
              <a:ext cx="36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запам</a:t>
              </a: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’</a:t>
              </a: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тав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7"/>
            <p:cNvSpPr/>
            <p:nvPr/>
          </p:nvSpPr>
          <p:spPr>
            <a:xfrm>
              <a:off x="2839680" y="5609520"/>
              <a:ext cx="31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eorgia"/>
                </a:rPr>
                <a:t>Я – складаю.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51280" y="404640"/>
            <a:ext cx="48261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ку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14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5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сні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 володіння речами; речі, рухомі й нерухомі, що комусь належать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Nastja\Desktop\1310037922.jpg"/>
          <p:cNvPicPr/>
          <p:nvPr/>
        </p:nvPicPr>
        <p:blipFill>
          <a:blip r:embed="rId1"/>
          <a:stretch/>
        </p:blipFill>
        <p:spPr>
          <a:xfrm>
            <a:off x="5364000" y="1773360"/>
            <a:ext cx="347508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Nastja\Desktop\категория_детская_одежда1.jpg"/>
          <p:cNvPicPr/>
          <p:nvPr/>
        </p:nvPicPr>
        <p:blipFill>
          <a:blip r:embed="rId2"/>
          <a:stretch/>
        </p:blipFill>
        <p:spPr>
          <a:xfrm>
            <a:off x="241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Nastja\Desktop\ball.jpg"/>
          <p:cNvPicPr/>
          <p:nvPr/>
        </p:nvPicPr>
        <p:blipFill>
          <a:blip r:embed="rId3"/>
          <a:stretch/>
        </p:blipFill>
        <p:spPr>
          <a:xfrm>
            <a:off x="395280" y="2637000"/>
            <a:ext cx="2005200" cy="200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11592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іше заглядайте у словник!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70020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8567640" cy="28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37360"/>
            <a:ext cx="28908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079640" cy="1228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826920" cy="431640"/>
          </a:xfrm>
          <a:prstGeom prst="rightArrow">
            <a:avLst>
              <a:gd name="adj1" fmla="val 50000"/>
              <a:gd name="adj2" fmla="val 478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6-4 тис. років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6237360"/>
            <a:ext cx="28872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6381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1097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237360"/>
            <a:ext cx="2890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6381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1789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37360"/>
            <a:ext cx="288720" cy="260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6381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Arial"/>
              </a:rPr>
              <a:t>30-ті рр. ХХ 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05:04Z</dcterms:created>
  <dc:creator>Nastja</dc:creator>
  <dc:description/>
  <dc:language>en-US</dc:language>
  <cp:lastModifiedBy>VIP</cp:lastModifiedBy>
  <dcterms:modified xsi:type="dcterms:W3CDTF">2014-12-15T12:56:34Z</dcterms:modified>
  <cp:revision>63</cp:revision>
  <dc:subject/>
  <dc:title>Презентація на тему:  Власність у нашому жит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0000000000001024140</vt:lpwstr>
  </property>
</Properties>
</file>