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5.png" ContentType="image/png"/>
  <Override PartName="/ppt/media/image6.gif" ContentType="image/gif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7.gif" ContentType="image/gi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5816-234A-4295-85A7-FC61FD3B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E517-99CB-4389-BAB2-3EBB46F5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32ED-4B0A-4442-B5A6-6DE9531E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A695-1F81-43A7-AE8C-B2B3A090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B1EE-EC62-4E96-B3F5-13C3029F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20C5-44FE-476F-B468-BB57E21D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1FE7-1A0E-4D3E-9509-D88AA703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CA67-29D6-4ACE-9160-851FD26F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7205-5F42-4F55-985F-EB3B8AEC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2251-E1BA-4FB1-BC6A-12652644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DA8E-680A-41A8-BFF7-D458360E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614-B6AF-4DDE-8914-13530C6F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7870-2EF2-42F7-838E-4065851E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C6FC-0751-4DE2-938F-5D08B18E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F111-EF7A-44CE-9DF6-0C9B1A98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000F-DE00-4EAF-A236-120A231D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314A-5933-4741-AFD8-1936EB4C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B7E1-F28D-47EB-8581-0432F13A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22AF-0DEE-423D-A42A-7422F896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ABF5-B251-4673-BCB5-1E71ACC8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82B2-84D1-4D66-84D7-4179A893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F4C5-D906-4159-85D2-434C42B7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8D40-B5A7-4629-9B55-DED9BB12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EA16-30CC-4D9D-B9EF-C7F3F386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4813-41DD-441E-9637-4171054D5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CB1C-088C-412C-93DE-D8E67E488B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556000" y="333360"/>
            <a:ext cx="6337080" cy="61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знав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9 класі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37800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4"/>
          <p:cNvGrpSpPr/>
          <p:nvPr/>
        </p:nvGrpSpPr>
        <p:grpSpPr>
          <a:xfrm>
            <a:off x="0" y="189000"/>
            <a:ext cx="9144000" cy="6480000"/>
            <a:chOff x="0" y="189000"/>
            <a:chExt cx="9144000" cy="6480000"/>
          </a:xfrm>
        </p:grpSpPr>
        <p:sp>
          <p:nvSpPr>
            <p:cNvPr id="153" name="AutoShape 5"/>
            <p:cNvSpPr/>
            <p:nvPr/>
          </p:nvSpPr>
          <p:spPr>
            <a:xfrm>
              <a:off x="0" y="189000"/>
              <a:ext cx="914400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"/>
            <p:cNvGrpSpPr/>
            <p:nvPr/>
          </p:nvGrpSpPr>
          <p:grpSpPr>
            <a:xfrm>
              <a:off x="1947600" y="675000"/>
              <a:ext cx="5244840" cy="4859640"/>
              <a:chOff x="1947600" y="675000"/>
              <a:chExt cx="5244840" cy="4859640"/>
            </a:xfrm>
          </p:grpSpPr>
          <p:sp>
            <p:nvSpPr>
              <p:cNvPr id="155" name="AutoShape 7"/>
              <p:cNvSpPr/>
              <p:nvPr/>
            </p:nvSpPr>
            <p:spPr>
              <a:xfrm>
                <a:off x="1947600" y="675000"/>
                <a:ext cx="3074760" cy="3109320"/>
              </a:xfrm>
              <a:prstGeom prst="flowChartConnector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8"/>
              <p:cNvSpPr/>
              <p:nvPr/>
            </p:nvSpPr>
            <p:spPr>
              <a:xfrm>
                <a:off x="4117680" y="675000"/>
                <a:ext cx="3074760" cy="3112200"/>
              </a:xfrm>
              <a:prstGeom prst="flowChartConnector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9"/>
              <p:cNvSpPr/>
              <p:nvPr/>
            </p:nvSpPr>
            <p:spPr>
              <a:xfrm>
                <a:off x="3032640" y="2423880"/>
                <a:ext cx="3074760" cy="3110760"/>
              </a:xfrm>
              <a:prstGeom prst="flowChartConnector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Text Box 10"/>
            <p:cNvSpPr/>
            <p:nvPr/>
          </p:nvSpPr>
          <p:spPr>
            <a:xfrm>
              <a:off x="4046040" y="2457360"/>
              <a:ext cx="1198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Пра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1"/>
            <p:cNvSpPr/>
            <p:nvPr/>
          </p:nvSpPr>
          <p:spPr>
            <a:xfrm>
              <a:off x="4944960" y="1485360"/>
              <a:ext cx="224784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0000ff"/>
                  </a:solidFill>
                  <a:latin typeface="Arial"/>
                  <a:ea typeface="Arial"/>
                </a:rPr>
                <a:t>Користува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2"/>
            <p:cNvSpPr/>
            <p:nvPr/>
          </p:nvSpPr>
          <p:spPr>
            <a:xfrm>
              <a:off x="2397240" y="1485360"/>
              <a:ext cx="179676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0000ff"/>
                  </a:solidFill>
                  <a:latin typeface="Arial"/>
                  <a:ea typeface="Arial"/>
                </a:rPr>
                <a:t>Володі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3446280" y="4077000"/>
              <a:ext cx="239976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uk-UA" sz="2200" spc="-1" strike="noStrike">
                  <a:solidFill>
                    <a:srgbClr val="0000ff"/>
                  </a:solidFill>
                  <a:latin typeface="Arial"/>
                  <a:ea typeface="Arial"/>
                </a:rPr>
                <a:t>Розпорядже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4"/>
            <p:cNvSpPr/>
            <p:nvPr/>
          </p:nvSpPr>
          <p:spPr>
            <a:xfrm>
              <a:off x="299160" y="1808640"/>
              <a:ext cx="1948680" cy="17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пливати на річ  </a:t>
              </a: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безпосередньо,</a:t>
              </a: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змінювати її розміщення, пересувати її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5"/>
            <p:cNvSpPr/>
            <p:nvPr/>
          </p:nvSpPr>
          <p:spPr>
            <a:xfrm>
              <a:off x="7192800" y="1808640"/>
              <a:ext cx="1950840" cy="19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Вилучати із речей їхні корисні властивості для задоволення своїх потре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6"/>
            <p:cNvSpPr/>
            <p:nvPr/>
          </p:nvSpPr>
          <p:spPr>
            <a:xfrm>
              <a:off x="3446280" y="5535000"/>
              <a:ext cx="254700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жливість вирішувати долю речі шляхом відчуже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 txBox="1"/>
          <p:nvPr/>
        </p:nvSpPr>
        <p:spPr>
          <a:xfrm>
            <a:off x="4211640" y="115920"/>
            <a:ext cx="475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сліджуємо разом!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43640" y="3645000"/>
            <a:ext cx="1944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Пра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влас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олоді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истува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ря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4"/>
          <p:cNvGrpSpPr/>
          <p:nvPr/>
        </p:nvGrpSpPr>
        <p:grpSpPr>
          <a:xfrm>
            <a:off x="0" y="189000"/>
            <a:ext cx="9144000" cy="6480000"/>
            <a:chOff x="0" y="189000"/>
            <a:chExt cx="9144000" cy="6480000"/>
          </a:xfrm>
        </p:grpSpPr>
        <p:sp>
          <p:nvSpPr>
            <p:cNvPr id="182" name="AutoShape 5"/>
            <p:cNvSpPr/>
            <p:nvPr/>
          </p:nvSpPr>
          <p:spPr>
            <a:xfrm>
              <a:off x="0" y="189000"/>
              <a:ext cx="914400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6"/>
            <p:cNvGrpSpPr/>
            <p:nvPr/>
          </p:nvGrpSpPr>
          <p:grpSpPr>
            <a:xfrm>
              <a:off x="1947600" y="675000"/>
              <a:ext cx="5244840" cy="4859640"/>
              <a:chOff x="1947600" y="675000"/>
              <a:chExt cx="5244840" cy="4859640"/>
            </a:xfrm>
          </p:grpSpPr>
          <p:sp>
            <p:nvSpPr>
              <p:cNvPr id="184" name="AutoShape 7"/>
              <p:cNvSpPr/>
              <p:nvPr/>
            </p:nvSpPr>
            <p:spPr>
              <a:xfrm>
                <a:off x="1947600" y="675000"/>
                <a:ext cx="3074760" cy="3109320"/>
              </a:xfrm>
              <a:prstGeom prst="flowChartConnector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8"/>
              <p:cNvSpPr/>
              <p:nvPr/>
            </p:nvSpPr>
            <p:spPr>
              <a:xfrm>
                <a:off x="4117680" y="675000"/>
                <a:ext cx="3074760" cy="3112200"/>
              </a:xfrm>
              <a:prstGeom prst="flowChartConnector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AutoShape 9"/>
              <p:cNvSpPr/>
              <p:nvPr/>
            </p:nvSpPr>
            <p:spPr>
              <a:xfrm>
                <a:off x="3032640" y="2423880"/>
                <a:ext cx="3074760" cy="3110760"/>
              </a:xfrm>
              <a:prstGeom prst="flowChartConnector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Text Box 10"/>
            <p:cNvSpPr/>
            <p:nvPr/>
          </p:nvSpPr>
          <p:spPr>
            <a:xfrm>
              <a:off x="4046040" y="2457360"/>
              <a:ext cx="1198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Пра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1"/>
            <p:cNvSpPr/>
            <p:nvPr/>
          </p:nvSpPr>
          <p:spPr>
            <a:xfrm>
              <a:off x="4944960" y="1485360"/>
              <a:ext cx="224784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0000ff"/>
                  </a:solidFill>
                  <a:latin typeface="Arial"/>
                  <a:ea typeface="Arial"/>
                </a:rPr>
                <a:t>Користува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2"/>
            <p:cNvSpPr/>
            <p:nvPr/>
          </p:nvSpPr>
          <p:spPr>
            <a:xfrm>
              <a:off x="2397240" y="1485360"/>
              <a:ext cx="179676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0000ff"/>
                  </a:solidFill>
                  <a:latin typeface="Arial"/>
                  <a:ea typeface="Arial"/>
                </a:rPr>
                <a:t>Володі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3"/>
            <p:cNvSpPr/>
            <p:nvPr/>
          </p:nvSpPr>
          <p:spPr>
            <a:xfrm>
              <a:off x="3446280" y="4077000"/>
              <a:ext cx="239976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uk-UA" sz="2200" spc="-1" strike="noStrike">
                  <a:solidFill>
                    <a:srgbClr val="0000ff"/>
                  </a:solidFill>
                  <a:latin typeface="Arial"/>
                  <a:ea typeface="Arial"/>
                </a:rPr>
                <a:t>Розпорядже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4"/>
            <p:cNvSpPr/>
            <p:nvPr/>
          </p:nvSpPr>
          <p:spPr>
            <a:xfrm>
              <a:off x="299160" y="1808640"/>
              <a:ext cx="1948680" cy="17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пливати на річ  </a:t>
              </a: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безпосередньо,</a:t>
              </a: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змінювати її розміщення, пересувати її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5"/>
            <p:cNvSpPr/>
            <p:nvPr/>
          </p:nvSpPr>
          <p:spPr>
            <a:xfrm>
              <a:off x="7192800" y="1808640"/>
              <a:ext cx="1950840" cy="19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Вилучати із речей їхні корисні властивості для задоволення своїх потре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6"/>
            <p:cNvSpPr/>
            <p:nvPr/>
          </p:nvSpPr>
          <p:spPr>
            <a:xfrm>
              <a:off x="3446280" y="5535000"/>
              <a:ext cx="254700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жливість вирішувати долю речі шляхом відчуже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 txBox="1"/>
          <p:nvPr/>
        </p:nvSpPr>
        <p:spPr>
          <a:xfrm>
            <a:off x="4211640" y="115920"/>
            <a:ext cx="475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сліджуємо разом!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imes New Roman"/>
              </a:rPr>
              <a:t>Закінчіть реченн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500040" y="1125360"/>
            <a:ext cx="803268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cc"/>
                </a:solidFill>
                <a:latin typeface="Times New Roman"/>
              </a:rPr>
              <a:t>Я маю велосипед, тобто я ним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cc"/>
                </a:solidFill>
                <a:latin typeface="Times New Roman"/>
              </a:rPr>
              <a:t>Я їжджу на цьому велосипеді щоденно до місця своєї роботи, тобто я ним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cc"/>
                </a:solidFill>
                <a:latin typeface="Times New Roman"/>
              </a:rPr>
              <a:t>Я продав свій велосипед, тобто я ним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ff0000"/>
                </a:solidFill>
                <a:latin typeface="Times New Roman"/>
              </a:rPr>
              <a:t>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43640" y="3645000"/>
            <a:ext cx="1944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Пра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влас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олоді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истуван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ря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97164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104292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Підстави для позбавлення права власності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Times New Roman"/>
              </a:rPr>
              <a:t>Примусове відчуженн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(за умови попереднього і повного відшкодуванн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Times New Roman"/>
              </a:rPr>
              <a:t>Конфіскація майн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(виключно за рішенням суду в умовах і порядку, визначеному законо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Times New Roman"/>
              </a:rPr>
              <a:t>Обмеженн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(за умови завдання шкоди правам, свободі і гідності людей, інтересам суспільств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43640" y="3645000"/>
            <a:ext cx="1944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Пра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влас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олоді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истуван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ря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97164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104292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2637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Підстави для позбавлення прав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4"/>
          <p:cNvSpPr/>
          <p:nvPr/>
        </p:nvSpPr>
        <p:spPr>
          <a:xfrm>
            <a:off x="250920" y="189000"/>
            <a:ext cx="8713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Правові ситу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Times New Roman"/>
                <a:ea typeface="Arial"/>
              </a:rPr>
              <a:t>Визначте правомірність д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У зв’язку з реконструкцією центральної площі міста, безоплатно була вилучена частина власності громадян, які проживали поряд із центральною площе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2. У громадянина Петренка, підозрюваного у скоєнні правопорушення, була конфіскована частина його майна за рішенням дільничого міліціон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9" descr="купівля"/>
          <p:cNvPicPr/>
          <p:nvPr/>
        </p:nvPicPr>
        <p:blipFill>
          <a:blip r:embed="rId1"/>
          <a:stretch/>
        </p:blipFill>
        <p:spPr>
          <a:xfrm>
            <a:off x="2590920" y="228600"/>
            <a:ext cx="2438280" cy="1681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2133720" cy="1536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1893960" cy="1905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4"/>
          <a:stretch/>
        </p:blipFill>
        <p:spPr>
          <a:xfrm>
            <a:off x="5943600" y="4495680"/>
            <a:ext cx="2666880" cy="1627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5"/>
          <a:stretch/>
        </p:blipFill>
        <p:spPr>
          <a:xfrm>
            <a:off x="5334120" y="304920"/>
            <a:ext cx="2438280" cy="1600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"/>
          <p:cNvPicPr/>
          <p:nvPr/>
        </p:nvPicPr>
        <p:blipFill>
          <a:blip r:embed="rId6"/>
          <a:stretch/>
        </p:blipFill>
        <p:spPr>
          <a:xfrm>
            <a:off x="2743200" y="4521240"/>
            <a:ext cx="2381400" cy="1584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"/>
          <p:cNvPicPr/>
          <p:nvPr/>
        </p:nvPicPr>
        <p:blipFill>
          <a:blip r:embed="rId7"/>
          <a:stretch/>
        </p:blipFill>
        <p:spPr>
          <a:xfrm>
            <a:off x="6400800" y="2133720"/>
            <a:ext cx="2438280" cy="17049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0"/>
          <p:cNvSpPr/>
          <p:nvPr/>
        </p:nvSpPr>
        <p:spPr>
          <a:xfrm>
            <a:off x="3276720" y="1905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Купів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4572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Дар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457200" y="5486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Виготовл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3"/>
          <p:cNvSpPr/>
          <p:nvPr/>
        </p:nvSpPr>
        <p:spPr>
          <a:xfrm>
            <a:off x="5410080" y="1905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Скар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5"/>
          <p:cNvSpPr/>
          <p:nvPr/>
        </p:nvSpPr>
        <p:spPr>
          <a:xfrm>
            <a:off x="3429000" y="617220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Знахі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6858000" y="3809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Запові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2286000" y="259092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Шляхи набуття власнос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8"/>
          <p:cNvSpPr/>
          <p:nvPr/>
        </p:nvSpPr>
        <p:spPr>
          <a:xfrm>
            <a:off x="6095880" y="60958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Привласнення дарів прир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ія на тему:</a:t>
            </a: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ність у нашому житт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9640" y="549360"/>
            <a:ext cx="7993080" cy="48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ласність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нашому житті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1692360" y="404640"/>
            <a:ext cx="1839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"/>
          <p:cNvSpPr/>
          <p:nvPr/>
        </p:nvSpPr>
        <p:spPr>
          <a:xfrm>
            <a:off x="684360" y="1125360"/>
            <a:ext cx="32400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инні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робництво      (винахід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хідка (скарб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власнення дарів природ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здоглядна домашня твар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5148360" y="1557360"/>
            <a:ext cx="360036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хідні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івля – продаж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уван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і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дкув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39640" y="189000"/>
            <a:ext cx="7993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. 328 ЦКУ. Підстави набутт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а власності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43640" y="3645000"/>
            <a:ext cx="1944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Пра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влас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олоді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истуван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ря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97164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104292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2637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Підстави для позбавлення прав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16360" y="270828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Шляхи набуття права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635280" y="3284640"/>
            <a:ext cx="115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ервинн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хідн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142920" y="210960"/>
          <a:ext cx="8858160" cy="6386400"/>
        </p:xfrm>
        <a:graphic>
          <a:graphicData uri="http://schemas.openxmlformats.org/drawingml/2006/table">
            <a:tbl>
              <a:tblPr/>
              <a:tblGrid>
                <a:gridCol w="2214360"/>
                <a:gridCol w="2214720"/>
                <a:gridCol w="2214720"/>
                <a:gridCol w="2214360"/>
              </a:tblGrid>
              <a:tr h="513360">
                <a:tc gridSpan="4"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орми власності в Україн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516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Власність українського нар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Держа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риват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Комунальна (власність села, району, міст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7880">
                <a:tc>
                  <a:txBody>
                    <a:bodyPr anchor="t">
                      <a:noAutofit/>
                    </a:bodyPr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2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я, її на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2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мосферне повітр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2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ні та інші природні ресурси, які знаходяться в межах території Украї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2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і ресурси її континентального шельфу, виключної (морської) економічної зо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89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но Збройних Сил Украї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89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лізни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89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ошові кошти, які належить державі Украї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89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важливіші культурні, освітні та медичні устан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атизована 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ий автомобі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і особистого користув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ош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і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і діля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і діля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іщення навчальних заклад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динки культу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нотеат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і комплек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на частина жит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443640" y="3645000"/>
            <a:ext cx="1944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Пра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влас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олоді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истуван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ря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97164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104292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5280" y="2637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Підстави для позбавлення прав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16360" y="270828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Шляхи набуття права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35280" y="3284640"/>
            <a:ext cx="115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ервинн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хідн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88000" y="620640"/>
            <a:ext cx="18734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Форми власност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в Україн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власність укр.наро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ержав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риват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комуналь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250920" y="189000"/>
            <a:ext cx="8569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Право власності неповнолітні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. Часткова цивільна дієздат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до 14 років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дрібні побутові угоди, особисті немайнові права на результати інтелектуальної, творчої діяльності. Іншим майном, що їй належить,  розпоряджаються батьки в її інтере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2. Неповна цивільна дієздат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з 14 до 18 років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самостійно розпоряджатися заробітком, стипендією, укладати договір банківського вкладу, здійснювати права на результати інтелектуальної діяльності; інші правочини за згодою батьк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3. Повна цивільна дієздатність: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18 рок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, з моменту реєстрації  шлюбу, особа 16 років, яка працює за трудовим договором, записана батьком чи маті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ю дит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443640" y="3645000"/>
            <a:ext cx="1944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Пра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влас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олоді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истуван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ря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97164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104292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95280" y="2637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Підстави для позбавлення прав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916360" y="270828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Шляхи набуття права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35280" y="3284640"/>
            <a:ext cx="115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ервинн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хідн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0" y="620640"/>
            <a:ext cx="18734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Форми власност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в Україн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власність укр.наро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ержав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риват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комуналь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26920" y="549360"/>
            <a:ext cx="1873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до 14 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050920" y="1628640"/>
            <a:ext cx="208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з 14 р. до 18 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19640" y="549360"/>
            <a:ext cx="208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з 18 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250920" y="189000"/>
            <a:ext cx="8569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Право власності неповнолітні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. Часткова цивільна дієздат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до 14 років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дрібні побутові угоди, особисті немайнові права на результати інтелектуальної, творчої діяльності. Іншим майном, що їй належить,  розпоряджаються батьки в її інтере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2. Неповна цивільна дієздат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з 14 до 18 років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самостійно розпоряджатися заробітком, стипендією, укладати договір банківського вкладу, здійснювати права на результати інтелектуальної діяльності; інші правочини за згодою батьк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3. Повна цивільна дієздатність: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18 рок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, з моменту реєстрації  шлюбу, особа 16 років, яка працює за трудовим договором, записана батьком чи маті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ю дит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50920" y="333360"/>
            <a:ext cx="87138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66"/>
                </a:solidFill>
                <a:latin typeface="Arial"/>
              </a:rPr>
              <a:t>Алгоритм аналізу газетної статт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1. Яка подія спонукала автора до написання статт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2. Визначте головну ідею стат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3. Підберіть аргументи на підтрим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цієї ідеї і стисло їх сформулюй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4. Визначте групи проблем, як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автор окреслює у стат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5. Дайте власну оцінку стат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38"/>
          <p:cNvGrpSpPr/>
          <p:nvPr/>
        </p:nvGrpSpPr>
        <p:grpSpPr>
          <a:xfrm>
            <a:off x="105840" y="0"/>
            <a:ext cx="8789400" cy="6857280"/>
            <a:chOff x="105840" y="0"/>
            <a:chExt cx="8789400" cy="6857280"/>
          </a:xfrm>
        </p:grpSpPr>
        <p:sp>
          <p:nvSpPr>
            <p:cNvPr id="323" name="Freeform 25"/>
            <p:cNvSpPr/>
            <p:nvPr/>
          </p:nvSpPr>
          <p:spPr>
            <a:xfrm>
              <a:off x="3205440" y="0"/>
              <a:ext cx="2663640" cy="3515040"/>
            </a:xfrm>
            <a:custGeom>
              <a:avLst/>
              <a:gdLst>
                <a:gd name="textAreaLeft" fmla="*/ 0 w 2663640"/>
                <a:gd name="textAreaRight" fmla="*/ 2664000 w 2663640"/>
                <a:gd name="textAreaTop" fmla="*/ 0 h 3515040"/>
                <a:gd name="textAreaBottom" fmla="*/ 3515400 h 3515040"/>
              </a:gdLst>
              <a:ahLst/>
              <a:rect l="textAreaLeft" t="textAreaTop" r="textAreaRight" b="textAreaBottom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265522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7"/>
            <p:cNvSpPr/>
            <p:nvPr/>
          </p:nvSpPr>
          <p:spPr>
            <a:xfrm rot="574800">
              <a:off x="414000" y="1613160"/>
              <a:ext cx="4622040" cy="1941480"/>
            </a:xfrm>
            <a:custGeom>
              <a:avLst/>
              <a:gdLst>
                <a:gd name="textAreaLeft" fmla="*/ 0 w 4622040"/>
                <a:gd name="textAreaRight" fmla="*/ 4622400 w 4622040"/>
                <a:gd name="textAreaTop" fmla="*/ 0 h 1941480"/>
                <a:gd name="textAreaBottom" fmla="*/ 1941840 h 1941480"/>
              </a:gdLst>
              <a:ahLst/>
              <a:rect l="textAreaLeft" t="textAreaTop" r="textAreaRight" b="textAreaBottom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00b1f0"/>
                </a:gs>
                <a:gs pos="100000">
                  <a:srgbClr val="00526f"/>
                </a:gs>
              </a:gsLst>
              <a:lin ang="212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8"/>
            <p:cNvSpPr/>
            <p:nvPr/>
          </p:nvSpPr>
          <p:spPr>
            <a:xfrm rot="21118800">
              <a:off x="403200" y="3500280"/>
              <a:ext cx="4650840" cy="1945080"/>
            </a:xfrm>
            <a:custGeom>
              <a:avLst/>
              <a:gdLst>
                <a:gd name="textAreaLeft" fmla="*/ 0 w 4650840"/>
                <a:gd name="textAreaRight" fmla="*/ 4651200 w 4650840"/>
                <a:gd name="textAreaTop" fmla="*/ 0 h 1945080"/>
                <a:gd name="textAreaBottom" fmla="*/ 1945440 h 1945080"/>
              </a:gdLst>
              <a:ahLst/>
              <a:rect l="textAreaLeft" t="textAreaTop" r="textAreaRight" b="textAreaBottom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bc61cb"/>
                </a:gs>
                <a:gs pos="100000">
                  <a:srgbClr val="572d5e"/>
                </a:gs>
              </a:gsLst>
              <a:lin ang="4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4"/>
            <p:cNvSpPr/>
            <p:nvPr/>
          </p:nvSpPr>
          <p:spPr>
            <a:xfrm>
              <a:off x="3205440" y="3458160"/>
              <a:ext cx="2536560" cy="3399120"/>
            </a:xfrm>
            <a:custGeom>
              <a:avLst/>
              <a:gdLst>
                <a:gd name="textAreaLeft" fmla="*/ 0 w 2536560"/>
                <a:gd name="textAreaRight" fmla="*/ 2536920 w 2536560"/>
                <a:gd name="textAreaTop" fmla="*/ 0 h 3399120"/>
                <a:gd name="textAreaBottom" fmla="*/ 3399120 h 3399120"/>
              </a:gdLst>
              <a:ahLst/>
              <a:rect l="textAreaLeft" t="textAreaTop" r="textAreaRight" b="textAreaBottom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76002f"/>
                </a:gs>
                <a:gs pos="100000">
                  <a:srgbClr val="ff0066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6"/>
            <p:cNvSpPr/>
            <p:nvPr/>
          </p:nvSpPr>
          <p:spPr>
            <a:xfrm rot="521400">
              <a:off x="4082760" y="3615120"/>
              <a:ext cx="4439160" cy="1815120"/>
            </a:xfrm>
            <a:custGeom>
              <a:avLst/>
              <a:gdLst>
                <a:gd name="textAreaLeft" fmla="*/ 0 w 4439160"/>
                <a:gd name="textAreaRight" fmla="*/ 4439520 w 4439160"/>
                <a:gd name="textAreaTop" fmla="*/ 0 h 1815120"/>
                <a:gd name="textAreaBottom" fmla="*/ 1815480 h 1815120"/>
              </a:gdLst>
              <a:ahLst/>
              <a:rect l="textAreaLeft" t="textAreaTop" r="textAreaRight" b="textAreaBottom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763a1c"/>
                </a:gs>
                <a:gs pos="100000">
                  <a:srgbClr val="ff7e3d"/>
                </a:gs>
              </a:gsLst>
              <a:lin ang="21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9"/>
            <p:cNvSpPr/>
            <p:nvPr/>
          </p:nvSpPr>
          <p:spPr>
            <a:xfrm rot="21130800">
              <a:off x="4219920" y="1714680"/>
              <a:ext cx="4566240" cy="1915560"/>
            </a:xfrm>
            <a:custGeom>
              <a:avLst/>
              <a:gdLst>
                <a:gd name="textAreaLeft" fmla="*/ 0 w 4566240"/>
                <a:gd name="textAreaRight" fmla="*/ 4566600 w 4566240"/>
                <a:gd name="textAreaTop" fmla="*/ 0 h 1915560"/>
                <a:gd name="textAreaBottom" fmla="*/ 1915920 h 1915560"/>
              </a:gdLst>
              <a:ahLst/>
              <a:rect l="textAreaLeft" t="textAreaTop" r="textAreaRight" b="textAreaBottom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1936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14"/>
            <p:cNvGrpSpPr/>
            <p:nvPr/>
          </p:nvGrpSpPr>
          <p:grpSpPr>
            <a:xfrm>
              <a:off x="3348000" y="2722680"/>
              <a:ext cx="2042640" cy="1613520"/>
              <a:chOff x="3348000" y="2722680"/>
              <a:chExt cx="2042640" cy="1613520"/>
            </a:xfrm>
          </p:grpSpPr>
          <p:sp>
            <p:nvSpPr>
              <p:cNvPr id="330" name="Oval 15"/>
              <p:cNvSpPr/>
              <p:nvPr/>
            </p:nvSpPr>
            <p:spPr>
              <a:xfrm>
                <a:off x="3348000" y="2722680"/>
                <a:ext cx="2042640" cy="161352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3e0c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6"/>
              <p:cNvSpPr/>
              <p:nvPr/>
            </p:nvSpPr>
            <p:spPr>
              <a:xfrm>
                <a:off x="3581280" y="2749320"/>
                <a:ext cx="1575720" cy="608760"/>
              </a:xfrm>
              <a:custGeom>
                <a:avLst/>
                <a:gdLst>
                  <a:gd name="textAreaLeft" fmla="*/ 0 w 1575720"/>
                  <a:gd name="textAreaRight" fmla="*/ 1576080 w 1575720"/>
                  <a:gd name="textAreaTop" fmla="*/ 0 h 608760"/>
                  <a:gd name="textAreaBottom" fmla="*/ 609120 h 6087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Text Box 32"/>
            <p:cNvSpPr/>
            <p:nvPr/>
          </p:nvSpPr>
          <p:spPr>
            <a:xfrm>
              <a:off x="717480" y="1878480"/>
              <a:ext cx="227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- зна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3"/>
            <p:cNvSpPr/>
            <p:nvPr/>
          </p:nvSpPr>
          <p:spPr>
            <a:xfrm>
              <a:off x="3175920" y="768960"/>
              <a:ext cx="269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 - умі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34"/>
            <p:cNvSpPr/>
            <p:nvPr/>
          </p:nvSpPr>
          <p:spPr>
            <a:xfrm>
              <a:off x="5516640" y="1878480"/>
              <a:ext cx="307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розумі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35"/>
            <p:cNvSpPr/>
            <p:nvPr/>
          </p:nvSpPr>
          <p:spPr>
            <a:xfrm>
              <a:off x="105840" y="4500360"/>
              <a:ext cx="34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розрізня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36"/>
            <p:cNvSpPr/>
            <p:nvPr/>
          </p:nvSpPr>
          <p:spPr>
            <a:xfrm>
              <a:off x="5220000" y="4500360"/>
              <a:ext cx="365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запам</a:t>
              </a:r>
              <a:r>
                <a:rPr b="1" lang="en-US" sz="3200" spc="-1" strike="noStrike">
                  <a:solidFill>
                    <a:srgbClr val="000000"/>
                  </a:solidFill>
                  <a:latin typeface="Georgia"/>
                </a:rPr>
                <a:t>’</a:t>
              </a: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тав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37"/>
            <p:cNvSpPr/>
            <p:nvPr/>
          </p:nvSpPr>
          <p:spPr>
            <a:xfrm>
              <a:off x="2839680" y="5609520"/>
              <a:ext cx="310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склада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38"/>
          <p:cNvGrpSpPr/>
          <p:nvPr/>
        </p:nvGrpSpPr>
        <p:grpSpPr>
          <a:xfrm>
            <a:off x="105840" y="0"/>
            <a:ext cx="8789400" cy="6857280"/>
            <a:chOff x="105840" y="0"/>
            <a:chExt cx="8789400" cy="6857280"/>
          </a:xfrm>
        </p:grpSpPr>
        <p:sp>
          <p:nvSpPr>
            <p:cNvPr id="339" name="Freeform 25"/>
            <p:cNvSpPr/>
            <p:nvPr/>
          </p:nvSpPr>
          <p:spPr>
            <a:xfrm>
              <a:off x="3205440" y="0"/>
              <a:ext cx="2663640" cy="3515040"/>
            </a:xfrm>
            <a:custGeom>
              <a:avLst/>
              <a:gdLst>
                <a:gd name="textAreaLeft" fmla="*/ 0 w 2663640"/>
                <a:gd name="textAreaRight" fmla="*/ 2664000 w 2663640"/>
                <a:gd name="textAreaTop" fmla="*/ 0 h 3515040"/>
                <a:gd name="textAreaBottom" fmla="*/ 3515400 h 3515040"/>
              </a:gdLst>
              <a:ahLst/>
              <a:rect l="textAreaLeft" t="textAreaTop" r="textAreaRight" b="textAreaBottom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265522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7"/>
            <p:cNvSpPr/>
            <p:nvPr/>
          </p:nvSpPr>
          <p:spPr>
            <a:xfrm rot="574800">
              <a:off x="414000" y="1613160"/>
              <a:ext cx="4622040" cy="1941480"/>
            </a:xfrm>
            <a:custGeom>
              <a:avLst/>
              <a:gdLst>
                <a:gd name="textAreaLeft" fmla="*/ 0 w 4622040"/>
                <a:gd name="textAreaRight" fmla="*/ 4622400 w 4622040"/>
                <a:gd name="textAreaTop" fmla="*/ 0 h 1941480"/>
                <a:gd name="textAreaBottom" fmla="*/ 1941840 h 1941480"/>
              </a:gdLst>
              <a:ahLst/>
              <a:rect l="textAreaLeft" t="textAreaTop" r="textAreaRight" b="textAreaBottom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00b1f0"/>
                </a:gs>
                <a:gs pos="100000">
                  <a:srgbClr val="00526f"/>
                </a:gs>
              </a:gsLst>
              <a:lin ang="212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8"/>
            <p:cNvSpPr/>
            <p:nvPr/>
          </p:nvSpPr>
          <p:spPr>
            <a:xfrm rot="21118800">
              <a:off x="403200" y="3500280"/>
              <a:ext cx="4650840" cy="1945080"/>
            </a:xfrm>
            <a:custGeom>
              <a:avLst/>
              <a:gdLst>
                <a:gd name="textAreaLeft" fmla="*/ 0 w 4650840"/>
                <a:gd name="textAreaRight" fmla="*/ 4651200 w 4650840"/>
                <a:gd name="textAreaTop" fmla="*/ 0 h 1945080"/>
                <a:gd name="textAreaBottom" fmla="*/ 1945440 h 1945080"/>
              </a:gdLst>
              <a:ahLst/>
              <a:rect l="textAreaLeft" t="textAreaTop" r="textAreaRight" b="textAreaBottom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bc61cb"/>
                </a:gs>
                <a:gs pos="100000">
                  <a:srgbClr val="572d5e"/>
                </a:gs>
              </a:gsLst>
              <a:lin ang="4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4"/>
            <p:cNvSpPr/>
            <p:nvPr/>
          </p:nvSpPr>
          <p:spPr>
            <a:xfrm>
              <a:off x="3205440" y="3458160"/>
              <a:ext cx="2536560" cy="3399120"/>
            </a:xfrm>
            <a:custGeom>
              <a:avLst/>
              <a:gdLst>
                <a:gd name="textAreaLeft" fmla="*/ 0 w 2536560"/>
                <a:gd name="textAreaRight" fmla="*/ 2536920 w 2536560"/>
                <a:gd name="textAreaTop" fmla="*/ 0 h 3399120"/>
                <a:gd name="textAreaBottom" fmla="*/ 3399120 h 3399120"/>
              </a:gdLst>
              <a:ahLst/>
              <a:rect l="textAreaLeft" t="textAreaTop" r="textAreaRight" b="textAreaBottom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76002f"/>
                </a:gs>
                <a:gs pos="100000">
                  <a:srgbClr val="ff0066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6"/>
            <p:cNvSpPr/>
            <p:nvPr/>
          </p:nvSpPr>
          <p:spPr>
            <a:xfrm rot="521400">
              <a:off x="4082760" y="3615120"/>
              <a:ext cx="4439160" cy="1815120"/>
            </a:xfrm>
            <a:custGeom>
              <a:avLst/>
              <a:gdLst>
                <a:gd name="textAreaLeft" fmla="*/ 0 w 4439160"/>
                <a:gd name="textAreaRight" fmla="*/ 4439520 w 4439160"/>
                <a:gd name="textAreaTop" fmla="*/ 0 h 1815120"/>
                <a:gd name="textAreaBottom" fmla="*/ 1815480 h 1815120"/>
              </a:gdLst>
              <a:ahLst/>
              <a:rect l="textAreaLeft" t="textAreaTop" r="textAreaRight" b="textAreaBottom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763a1c"/>
                </a:gs>
                <a:gs pos="100000">
                  <a:srgbClr val="ff7e3d"/>
                </a:gs>
              </a:gsLst>
              <a:lin ang="21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9"/>
            <p:cNvSpPr/>
            <p:nvPr/>
          </p:nvSpPr>
          <p:spPr>
            <a:xfrm rot="21130800">
              <a:off x="4219920" y="1714680"/>
              <a:ext cx="4566240" cy="1915560"/>
            </a:xfrm>
            <a:custGeom>
              <a:avLst/>
              <a:gdLst>
                <a:gd name="textAreaLeft" fmla="*/ 0 w 4566240"/>
                <a:gd name="textAreaRight" fmla="*/ 4566600 w 4566240"/>
                <a:gd name="textAreaTop" fmla="*/ 0 h 1915560"/>
                <a:gd name="textAreaBottom" fmla="*/ 1915920 h 1915560"/>
              </a:gdLst>
              <a:ahLst/>
              <a:rect l="textAreaLeft" t="textAreaTop" r="textAreaRight" b="textAreaBottom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1936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Group 14"/>
            <p:cNvGrpSpPr/>
            <p:nvPr/>
          </p:nvGrpSpPr>
          <p:grpSpPr>
            <a:xfrm>
              <a:off x="3348000" y="2722680"/>
              <a:ext cx="2042640" cy="1613520"/>
              <a:chOff x="3348000" y="2722680"/>
              <a:chExt cx="2042640" cy="1613520"/>
            </a:xfrm>
          </p:grpSpPr>
          <p:sp>
            <p:nvSpPr>
              <p:cNvPr id="346" name="Oval 15"/>
              <p:cNvSpPr/>
              <p:nvPr/>
            </p:nvSpPr>
            <p:spPr>
              <a:xfrm>
                <a:off x="3348000" y="2722680"/>
                <a:ext cx="2042640" cy="161352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3e0c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6"/>
              <p:cNvSpPr/>
              <p:nvPr/>
            </p:nvSpPr>
            <p:spPr>
              <a:xfrm>
                <a:off x="3581280" y="2749320"/>
                <a:ext cx="1575720" cy="608760"/>
              </a:xfrm>
              <a:custGeom>
                <a:avLst/>
                <a:gdLst>
                  <a:gd name="textAreaLeft" fmla="*/ 0 w 1575720"/>
                  <a:gd name="textAreaRight" fmla="*/ 1576080 w 1575720"/>
                  <a:gd name="textAreaTop" fmla="*/ 0 h 608760"/>
                  <a:gd name="textAreaBottom" fmla="*/ 609120 h 6087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Text Box 32"/>
            <p:cNvSpPr/>
            <p:nvPr/>
          </p:nvSpPr>
          <p:spPr>
            <a:xfrm>
              <a:off x="717480" y="1878480"/>
              <a:ext cx="227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- зна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33"/>
            <p:cNvSpPr/>
            <p:nvPr/>
          </p:nvSpPr>
          <p:spPr>
            <a:xfrm>
              <a:off x="3175920" y="768960"/>
              <a:ext cx="269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 - умі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34"/>
            <p:cNvSpPr/>
            <p:nvPr/>
          </p:nvSpPr>
          <p:spPr>
            <a:xfrm>
              <a:off x="5516640" y="1878480"/>
              <a:ext cx="307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розумі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35"/>
            <p:cNvSpPr/>
            <p:nvPr/>
          </p:nvSpPr>
          <p:spPr>
            <a:xfrm>
              <a:off x="105840" y="4500360"/>
              <a:ext cx="34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розрізня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36"/>
            <p:cNvSpPr/>
            <p:nvPr/>
          </p:nvSpPr>
          <p:spPr>
            <a:xfrm>
              <a:off x="5220000" y="4500360"/>
              <a:ext cx="365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запам</a:t>
              </a:r>
              <a:r>
                <a:rPr b="1" lang="en-US" sz="3200" spc="-1" strike="noStrike">
                  <a:solidFill>
                    <a:srgbClr val="000000"/>
                  </a:solidFill>
                  <a:latin typeface="Georgia"/>
                </a:rPr>
                <a:t>’</a:t>
              </a: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тав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37"/>
            <p:cNvSpPr/>
            <p:nvPr/>
          </p:nvSpPr>
          <p:spPr>
            <a:xfrm>
              <a:off x="2839680" y="5609520"/>
              <a:ext cx="310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склада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51280" y="404640"/>
            <a:ext cx="482616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яку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боту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1148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324000" y="5493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ласніст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— володіння речами; речі, рухомі й нерухомі, що комусь належать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Nastja\Desktop\1310037922.jpg"/>
          <p:cNvPicPr/>
          <p:nvPr/>
        </p:nvPicPr>
        <p:blipFill>
          <a:blip r:embed="rId1"/>
          <a:stretch/>
        </p:blipFill>
        <p:spPr>
          <a:xfrm>
            <a:off x="5364000" y="1773360"/>
            <a:ext cx="3475080" cy="3224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Nastja\Desktop\категория_детская_одежда1.jpg"/>
          <p:cNvPicPr/>
          <p:nvPr/>
        </p:nvPicPr>
        <p:blipFill>
          <a:blip r:embed="rId2"/>
          <a:stretch/>
        </p:blipFill>
        <p:spPr>
          <a:xfrm>
            <a:off x="2411280" y="4005360"/>
            <a:ext cx="2664000" cy="266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Users\Nastja\Desktop\ball.jpg"/>
          <p:cNvPicPr/>
          <p:nvPr/>
        </p:nvPicPr>
        <p:blipFill>
          <a:blip r:embed="rId3"/>
          <a:stretch/>
        </p:blipFill>
        <p:spPr>
          <a:xfrm>
            <a:off x="395280" y="2637000"/>
            <a:ext cx="2005200" cy="200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635280" y="115920"/>
            <a:ext cx="5329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астіше заглядайте у словник!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3:05:04Z</dcterms:created>
  <dc:creator>Nastja</dc:creator>
  <dc:description/>
  <dc:language>en-US</dc:language>
  <cp:lastModifiedBy>VIP</cp:lastModifiedBy>
  <dcterms:modified xsi:type="dcterms:W3CDTF">2014-12-15T12:56:34Z</dcterms:modified>
  <cp:revision>63</cp:revision>
  <dc:subject/>
  <dc:title>Презентація на тему:  Власність у нашому житт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10000000000001024140</vt:lpwstr>
  </property>
</Properties>
</file>