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png" ContentType="image/png"/>
  <Override PartName="/ppt/media/image6.gif" ContentType="image/gi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642-6FD3-4E19-B695-6C0018DA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4CB-9B57-437E-95C4-B592919D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FE8-2D0B-45C7-8740-ECE2CD27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94A-9053-437D-8A75-A39B7D31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C83C-429D-40D8-B438-50C706A2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019E-65C1-49AA-AB9C-FFC9823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ED5F-85E4-4900-9731-7C19B83C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D10A-09CB-4469-AC38-418B062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6782-B83F-4789-9203-79A9520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22B-F589-4241-B765-27BCE21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D18B-762C-4888-82FA-3845CD96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A40-C537-4A04-A762-F615FB51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1967-39CB-4840-B311-112C3F9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904-4106-40F6-BE95-1473D17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77CA-160E-44F4-97F7-937117C4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582-620F-46BC-B71D-9E3B6569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957E-FAA8-4958-A8B0-A23010E3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639-C5F2-4FC0-91B2-0FD2CECC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924-1B82-4E47-A20C-CF4A24C2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44D-88FB-4662-8A39-CEB2F6ED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4B7-72B0-4DE1-82AF-56FA88B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771-1CF3-471A-A5C4-6F8326A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F14-AF9E-4A97-84EA-4CCF38D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FF6-2453-4756-9F05-6A961D3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813-8318-4008-A210-FBFAE05ED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187-7259-48C1-8C6C-EDBFE35EA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56000" y="333360"/>
            <a:ext cx="633708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зна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клас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78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53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82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акінчіть рече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00040" y="1125360"/>
            <a:ext cx="80326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маю велосипед, тобто я ним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їжджу на цьому велосипеді щоденно до місця своєї роботи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продав свій велосипед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ідстави для позбавлення права влас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Примусове відчу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попереднього і повного відшкод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онфіскація май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виключно за рішенням суду в умовах і порядку, визначеному закон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Обме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завдання шкоди правам, свободі і гідності людей, інтересам суспіль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250920" y="18900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ові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Визначте правомірність 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 зв’язку з реконструкцією центральної площі міста, безоплатно була вилучена частина власності громадян, які проживали поряд із центральною площ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У громадянина Петренка, підозрюваного у скоєнні правопорушення, була конфіскована частина його майна за рішенням дільничого міліціо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купівля"/>
          <p:cNvPicPr/>
          <p:nvPr/>
        </p:nvPicPr>
        <p:blipFill>
          <a:blip r:embed="rId1"/>
          <a:stretch/>
        </p:blipFill>
        <p:spPr>
          <a:xfrm>
            <a:off x="2590920" y="228600"/>
            <a:ext cx="2438280" cy="1681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133720" cy="153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89396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266688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533412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6"/>
          <a:stretch/>
        </p:blipFill>
        <p:spPr>
          <a:xfrm>
            <a:off x="2743200" y="4521240"/>
            <a:ext cx="2381400" cy="15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/>
          <p:cNvPicPr/>
          <p:nvPr/>
        </p:nvPicPr>
        <p:blipFill>
          <a:blip r:embed="rId7"/>
          <a:stretch/>
        </p:blipFill>
        <p:spPr>
          <a:xfrm>
            <a:off x="6400800" y="2133720"/>
            <a:ext cx="2438280" cy="170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327672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7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Да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572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Виготов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4100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Ск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342900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нахі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85800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апов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86000" y="2590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Шляхи набуття вла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6095880" y="6095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Привласнення дарів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на тему: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 у нашому жит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549360"/>
            <a:ext cx="7993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ласніс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шому житт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692360" y="4046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684360" y="1125360"/>
            <a:ext cx="3240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инн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цтво      (винахі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хідка (скарб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снення дарів прир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доглядна домашня тв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48360" y="1557360"/>
            <a:ext cx="3600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хідн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івля – прод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к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89000"/>
            <a:ext cx="79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. 328 ЦКУ. Підстави набутт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 власност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42920" y="210960"/>
          <a:ext cx="8858160" cy="638640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513360">
                <a:tc gridSpan="4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 власності в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ласність українського на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ерж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а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мунальна (власність села, району, мі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7880">
                <a:tc>
                  <a:txBody>
                    <a:bodyPr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, її на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мосферне повіт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і та інші природні ресурси, які знаходяться в межах території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і ресурси її континентального шельфу, виключної (морської) економічної з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но Збройних Сил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із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, які належить державі Украї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ажливіші культурні, освітні та медичні устан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тизована 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автомобі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і особистого корист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іщення навчальних заклад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и куль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нотеа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і компле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а частина жит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549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до 14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628640"/>
            <a:ext cx="20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4 р. до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9640" y="549360"/>
            <a:ext cx="208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333360"/>
            <a:ext cx="871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Алгоритм аналізу газетної стат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1. Яка подія спонукала автора до написання стат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2. Визначте головну ідею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3. Підберіть аргументи на підтрим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цієї ідеї і стисло їх сформулю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4. Визначте групи проблем, я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автор окреслює 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5. Дайте власну оцінк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23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30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39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46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51280" y="404640"/>
            <a:ext cx="48261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ку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14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24000" y="54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сні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володіння речами; речі, рухомі й нерухомі, що комусь належать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Nastja\Desktop\1310037922.jpg"/>
          <p:cNvPicPr/>
          <p:nvPr/>
        </p:nvPicPr>
        <p:blipFill>
          <a:blip r:embed="rId1"/>
          <a:stretch/>
        </p:blipFill>
        <p:spPr>
          <a:xfrm>
            <a:off x="5364000" y="1773360"/>
            <a:ext cx="347508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Nastja\Desktop\категория_детская_одежда1.jpg"/>
          <p:cNvPicPr/>
          <p:nvPr/>
        </p:nvPicPr>
        <p:blipFill>
          <a:blip r:embed="rId2"/>
          <a:stretch/>
        </p:blipFill>
        <p:spPr>
          <a:xfrm>
            <a:off x="241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Nastja\Desktop\ball.jpg"/>
          <p:cNvPicPr/>
          <p:nvPr/>
        </p:nvPicPr>
        <p:blipFill>
          <a:blip r:embed="rId3"/>
          <a:stretch/>
        </p:blipFill>
        <p:spPr>
          <a:xfrm>
            <a:off x="395280" y="2637000"/>
            <a:ext cx="2005200" cy="200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11592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іше заглядайте у словник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05:04Z</dcterms:created>
  <dc:creator>Nastja</dc:creator>
  <dc:description/>
  <dc:language>en-US</dc:language>
  <cp:lastModifiedBy>VIP</cp:lastModifiedBy>
  <dcterms:modified xsi:type="dcterms:W3CDTF">2014-12-15T12:56:34Z</dcterms:modified>
  <cp:revision>63</cp:revision>
  <dc:subject/>
  <dc:title>Презентація на тему:  Власність у нашому житт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0000000000001024140</vt:lpwstr>
  </property>
</Properties>
</file>