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156-5273-4BF9-BF02-3E316F46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964-599D-4CDC-8FAA-D020AE18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971-01A7-4B7D-9BA0-EA87E149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361-26B2-4455-B9C8-CAFCCA33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2A6D-79D8-42DB-8907-DA65D3E7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FFA1-9674-43DF-8477-FCF26AD8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9C4B-46E1-4635-9539-E358119A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26D5-30E5-4B90-A8BB-6CEA85DE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4030-DB8E-4432-A8FD-A9164A95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74CD-D29D-463F-84F1-EDE3FF95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66D2-FAA3-4982-9E0A-7DD707BD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EBC-4FF7-478E-9648-33A12711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9BE5-1430-4E72-B470-0FDF2135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7C52-426F-4AD2-8838-4A15328E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219D-6227-49B9-B325-F0707D20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FF50-EAEB-427A-8EF5-5783E202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193B-74EB-4B14-BF5A-D6F3B3F7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4B3-A643-41FD-8487-99D5A5E7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C5B8-74BD-49FF-BD50-CCEAC76A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A392-6B01-4862-9201-8A148C07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1675-D255-4A7B-9A93-4B75A26F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FF3-5B47-4D20-8F03-BC8F6B3C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F98-087D-405F-8811-8536B3B6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BE6-C37F-4415-AF7E-42E2F2E4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E204-42D8-47BE-8D53-00F08761C5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2DF5-2411-4D73-B02E-F90D3F839D5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0" spc="-1" strike="noStrike">
                <a:solidFill>
                  <a:srgbClr val="dbbd71"/>
                </a:solidFill>
                <a:latin typeface="Arial"/>
              </a:rPr>
              <a:t>Цивільно-правові правочни</a:t>
            </a:r>
            <a:endParaRPr b="0" lang="en-US" sz="10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716360" y="-3619440"/>
            <a:ext cx="6984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639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Умови дійсності правочину:</a:t>
            </a: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Вільне волевиявлення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Сторони повинні мати дієздатність </a:t>
            </a:r>
            <a:br>
              <a:rPr sz="2800"/>
            </a:b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- Визначена законом форма (усна, письмова,  </a:t>
            </a: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нотаріальна)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Не повинен суперечити законодавству.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Якщо умови недодержані (хоча б одна), в такому разі правочин буде недійсний і сторони повинні повернутися до попереднього стану.</a:t>
            </a:r>
            <a:br>
              <a:rPr sz="2800"/>
            </a:br>
            <a:br>
              <a:rPr sz="2800"/>
            </a:br>
            <a:r>
              <a:rPr b="1" i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Реституція</a:t>
            </a:r>
            <a:r>
              <a:rPr b="0" lang="uk-UA" sz="2800" spc="-1" strike="noStrike">
                <a:solidFill>
                  <a:srgbClr val="dbbd71"/>
                </a:solidFill>
                <a:latin typeface="Arial"/>
              </a:rPr>
              <a:t> – повернення до попереднього стану у разі визнання угоди недійсною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603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dbbd71"/>
                </a:solidFill>
                <a:latin typeface="Arial"/>
              </a:rPr>
              <a:t>В дитячому садочку хлопчик подарував дівчинці дорогоцінну каблучку в знак вірності і кохання, але мама хлопчика на наступний день вимагала визнання договору дарування недійним.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61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dbbd71"/>
                </a:solidFill>
                <a:latin typeface="Arial"/>
              </a:rPr>
              <a:t>Під час шлюбу жінка виходячи заміж для сміливості випила келих напою. Прийшовши до тями вона вимагала недійсності шлюбного контракту, якого підписала.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567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dbbd71"/>
                </a:solidFill>
                <a:latin typeface="Arial"/>
              </a:rPr>
              <a:t>Перед смертю дідусь вирішив змінити права спадкоємців і написав розписку з підписом і датою, де все майно передає держав, що обурило спадкоємців.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58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dbbd71"/>
                </a:solidFill>
                <a:latin typeface="Arial"/>
              </a:rPr>
              <a:t>Поблизу кордонів з Молдовою було виявлено групу підприємців, які в письмовій формі підписали договір продажу зброї.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51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000" spc="-1" strike="noStrike">
                <a:solidFill>
                  <a:srgbClr val="dbbd71"/>
                </a:solidFill>
                <a:latin typeface="Arial"/>
              </a:rPr>
              <a:t>Якщо придбати неякісний товар і в гарантійний термін поміняти на аналогічний, але дешевший, то вам доплатять різницю цін чи ні?</a:t>
            </a:r>
            <a:r>
              <a:rPr b="0" lang="ru-RU" sz="5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51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000" spc="-1" strike="noStrike">
                <a:solidFill>
                  <a:srgbClr val="dbbd71"/>
                </a:solidFill>
                <a:latin typeface="Arial"/>
              </a:rPr>
              <a:t>В одному рівненському магазині сантехніки продають в одному відділі ванни, а в іншому ніжки до неї</a:t>
            </a:r>
            <a:r>
              <a:rPr b="0" lang="ru-RU" sz="5000" spc="-1" strike="noStrike">
                <a:solidFill>
                  <a:srgbClr val="dbbd71"/>
                </a:solidFill>
                <a:latin typeface="Arial"/>
              </a:rPr>
              <a:t> . Чи правомірно це?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51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000" spc="-1" strike="noStrike">
                <a:solidFill>
                  <a:srgbClr val="dbbd71"/>
                </a:solidFill>
                <a:latin typeface="Arial"/>
              </a:rPr>
              <a:t>Якщо краватку від Гуччі упакують в пакет від Дольче Габане, то ви маєте право вимагати обміну товару який є неналежної якості</a:t>
            </a:r>
            <a:r>
              <a:rPr b="0" lang="ru-RU" sz="5000" spc="-1" strike="noStrike">
                <a:solidFill>
                  <a:srgbClr val="dbbd71"/>
                </a:solidFill>
                <a:latin typeface="Arial"/>
              </a:rPr>
              <a:t> ?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51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000" spc="-1" strike="noStrike">
                <a:solidFill>
                  <a:srgbClr val="dbbd71"/>
                </a:solidFill>
                <a:latin typeface="Arial"/>
              </a:rPr>
              <a:t>Якщо батько пообіцяв сину купити комп’ютер, і не купив – то син вправі вимагати відшкодування його вартості</a:t>
            </a:r>
            <a:r>
              <a:rPr b="0" lang="ru-RU" sz="5000" spc="-1" strike="noStrike">
                <a:solidFill>
                  <a:srgbClr val="dbbd71"/>
                </a:solidFill>
                <a:latin typeface="Arial"/>
              </a:rPr>
              <a:t> ?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752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500" spc="-1" strike="noStrike">
                <a:solidFill>
                  <a:srgbClr val="ffffff"/>
                </a:solidFill>
                <a:latin typeface="Tahoma"/>
              </a:rPr>
              <a:t>Вчитель – це не той, хто навчає, а той, хто здатний надихнути учня виявити все найкраще в самому собі, аби відкрити те, про що він уже знає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ffffff"/>
                </a:solidFill>
                <a:latin typeface="Tahoma"/>
              </a:rPr>
              <a:t>П.Куель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51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000" spc="-1" strike="noStrike">
                <a:solidFill>
                  <a:srgbClr val="dbbd71"/>
                </a:solidFill>
                <a:latin typeface="Arial"/>
              </a:rPr>
              <a:t>Під час одруження сина , даруючи йому машину чи потрібно укласти нотаріальну угоду дарування?</a:t>
            </a:r>
            <a:r>
              <a:rPr b="0" lang="ru-RU" sz="5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075520" cy="51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dbbd71"/>
                </a:solidFill>
                <a:latin typeface="Arial"/>
              </a:rPr>
              <a:t>Після того було здано на зберігання київський торт поклажодавець забираючи застав лише половину торта, а задоволений зберігач вказав що продав і віддав частину грошей.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44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dbbd71"/>
                </a:solidFill>
                <a:latin typeface="Arial"/>
              </a:rPr>
              <a:t>Після цього уроку я знаю, що …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bbd71"/>
                </a:solidFill>
                <a:latin typeface="Arial"/>
              </a:rPr>
              <a:t>Я можу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ояснювати зміст поняття “правочин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изначати умови дійсності правочині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Характеризувати правочини за різними озна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Розв’язувати ситуації, що можуть виникнути при укладанні правочинів неповнолітні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20908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0" spc="-1" strike="noStrike">
                <a:solidFill>
                  <a:srgbClr val="dbbd71"/>
                </a:solidFill>
                <a:latin typeface="Arial"/>
              </a:rPr>
              <a:t>Дякую за увагу!!!</a:t>
            </a:r>
            <a:endParaRPr b="0" lang="en-US" sz="10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bbd71"/>
                </a:solidFill>
                <a:latin typeface="Arial"/>
              </a:rPr>
              <a:t>Після уроку Ви зможете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ояснювати зміст поняття “правочин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изначати умови дійсності правочині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Характеризувати правочини за різними озна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Розв’язувати ситуації, що можуть виникнути при укладанні договорів неповнолітні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dbbd71"/>
                </a:solidFill>
                <a:latin typeface="Arial"/>
              </a:rPr>
              <a:t>План уроку:</a:t>
            </a:r>
            <a:endParaRPr b="0" lang="en-US" sz="5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Що таке правочини та їх класифікаці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Умови дійсності правочин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Які правочини можуть укладати неповнолітні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507520" cy="559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Правочин</a:t>
            </a:r>
            <a:r>
              <a:rPr b="0" lang="uk-UA" sz="4400" spc="-1" strike="noStrike">
                <a:solidFill>
                  <a:srgbClr val="dbbd71"/>
                </a:solidFill>
                <a:latin typeface="Arial"/>
              </a:rPr>
              <a:t> – погоджене волевиявлення двох і більше сторін, спрямоване на встановлення, зміну чи скасування цивільних прав та обов’язків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507520" cy="58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33cc33"/>
                </a:solidFill>
                <a:latin typeface="Arial"/>
              </a:rPr>
              <a:t>При характеристиці правочинів їх класифікують за різними ознаками: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000"/>
            </a:br>
            <a:r>
              <a:rPr b="1" lang="uk-UA" sz="3000" spc="-1" strike="noStrike" u="sng">
                <a:solidFill>
                  <a:srgbClr val="ffffff"/>
                </a:solidFill>
                <a:uFillTx/>
                <a:latin typeface="Arial"/>
              </a:rPr>
              <a:t>За формою:</a:t>
            </a: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3000"/>
            </a:b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усні, письмові (нотаріальні, державна реєстрація)</a:t>
            </a:r>
            <a:br>
              <a:rPr sz="3000"/>
            </a:br>
            <a:r>
              <a:rPr b="1" lang="uk-UA" sz="3000" spc="-1" strike="noStrike" u="sng">
                <a:solidFill>
                  <a:srgbClr val="ffffff"/>
                </a:solidFill>
                <a:uFillTx/>
                <a:latin typeface="Arial"/>
              </a:rPr>
              <a:t>За строком:</a:t>
            </a: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3000"/>
            </a:b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строкові, безстрокові.</a:t>
            </a:r>
            <a:br>
              <a:rPr sz="3000"/>
            </a:br>
            <a:r>
              <a:rPr b="1" lang="uk-UA" sz="3000" spc="-1" strike="noStrike" u="sng">
                <a:solidFill>
                  <a:srgbClr val="ffffff"/>
                </a:solidFill>
                <a:uFillTx/>
                <a:latin typeface="Arial"/>
              </a:rPr>
              <a:t>За платністю: </a:t>
            </a:r>
            <a:br>
              <a:rPr sz="3000"/>
            </a:b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оплатні, безоплатні.</a:t>
            </a:r>
            <a:br>
              <a:rPr sz="3000"/>
            </a:br>
            <a:r>
              <a:rPr b="1" lang="uk-UA" sz="3000" spc="-1" strike="noStrike" u="sng">
                <a:solidFill>
                  <a:srgbClr val="ffffff"/>
                </a:solidFill>
                <a:uFillTx/>
                <a:latin typeface="Arial"/>
              </a:rPr>
              <a:t>За кількістю сторін:</a:t>
            </a: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3000"/>
            </a:b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односторонні, двосторонні,багатосторонні</a:t>
            </a:r>
            <a:br>
              <a:rPr sz="3000"/>
            </a:br>
            <a:r>
              <a:rPr b="1" lang="uk-UA" sz="3000" spc="-1" strike="noStrike" u="sng">
                <a:solidFill>
                  <a:srgbClr val="ffffff"/>
                </a:solidFill>
                <a:uFillTx/>
                <a:latin typeface="Arial"/>
              </a:rPr>
              <a:t>За моментом укладання:</a:t>
            </a: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3000"/>
            </a:br>
            <a:r>
              <a:rPr b="0" lang="uk-UA" sz="3000" spc="-1" strike="noStrike">
                <a:solidFill>
                  <a:srgbClr val="dbbd71"/>
                </a:solidFill>
                <a:latin typeface="Arial"/>
              </a:rPr>
              <a:t>консесуальні, реальні.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0" y="765000"/>
            <a:ext cx="6062760" cy="46688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43280" y="277920"/>
            <a:ext cx="2376360" cy="502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Договір купівлі-продажу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письмов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безстроков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оплатн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двосторонні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консесуальний;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6443640" y="836640"/>
            <a:ext cx="252108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Договір позики: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письмовий (більше 170 грн.)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короткостроков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оплатн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двосторонні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реальний.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4" name="Group 8"/>
          <p:cNvGrpSpPr/>
          <p:nvPr/>
        </p:nvGrpSpPr>
        <p:grpSpPr>
          <a:xfrm>
            <a:off x="0" y="907920"/>
            <a:ext cx="6227640" cy="4730760"/>
            <a:chOff x="0" y="907920"/>
            <a:chExt cx="6227640" cy="4730760"/>
          </a:xfrm>
        </p:grpSpPr>
        <p:pic>
          <p:nvPicPr>
            <p:cNvPr id="165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6227640" cy="47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7"/>
            <p:cNvSpPr/>
            <p:nvPr/>
          </p:nvSpPr>
          <p:spPr>
            <a:xfrm>
              <a:off x="179280" y="5084640"/>
              <a:ext cx="219564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800" spc="-1" strike="noStrike">
                  <a:solidFill>
                    <a:srgbClr val="000000"/>
                  </a:solidFill>
                  <a:latin typeface="Tahoma"/>
                </a:rPr>
                <a:t>Позикодавец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0" y="549360"/>
            <a:ext cx="6516720" cy="5300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6588000" y="692280"/>
            <a:ext cx="237672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Договір дарування: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усн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безстроков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безоплатни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односторонній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реаль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1:36:29Z</dcterms:created>
  <dc:creator>Admin</dc:creator>
  <dc:description/>
  <dc:language>en-US</dc:language>
  <cp:lastModifiedBy>User</cp:lastModifiedBy>
  <dcterms:modified xsi:type="dcterms:W3CDTF">2014-12-09T19:00:13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8000000000001024140</vt:lpwstr>
  </property>
</Properties>
</file>