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EE2-2359-464E-BA38-5A66495F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484-9E37-49CE-BC7C-7016B3AE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A9D-8D98-46A2-BACA-082D7656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A37-3D1E-4A80-AC06-1F7BE3DA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65B5-881B-4ED0-8521-98FF71EB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2C9-6C08-4EB8-8955-54406505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BBF6-C04E-4347-A574-F925C6F4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5DE5-1BDB-483B-83DB-05385B3D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22DB-2B79-42D8-8538-5CA5745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76EA-F7FB-4FFE-A986-931E1F47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C6D2-C7B0-4206-8905-B77B4385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4D2-316A-4857-8936-12107270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2FD0-46DC-46C6-9776-04705E3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5857-8E74-4CDC-AE5D-687D3E7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C28C-2058-40E7-B5A0-1DC03E2C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F31C-E64C-40CF-B82E-EC0225AB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3531-23E4-4B91-A71B-655ABB15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8F6-11DD-4D31-B68E-8A67982B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25B-BC90-4A98-B932-C2506B52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33D-4EA7-45A4-BE87-C11C3470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5C2-0771-4F34-878A-9FC6CB47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2D6-7874-4EAC-8224-DEFA975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158-4247-4CDB-A63F-28B2AE84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8BC-A818-46E8-B165-FFFF14D6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949-A52D-4118-B34C-9276114D53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0F7-20C1-4E9D-A509-28C9A65F56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0" spc="-1" strike="noStrike">
                <a:solidFill>
                  <a:srgbClr val="dbbd71"/>
                </a:solidFill>
                <a:latin typeface="Arial"/>
              </a:rPr>
              <a:t>Цивільно-правові правочни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716360" y="-3619440"/>
            <a:ext cx="698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63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Умови дійсності правочину: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Вільне волевиявлення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Сторони повинні мати дієздатність </a:t>
            </a:r>
            <a:br>
              <a:rPr sz="2800"/>
            </a:b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- Визначена законом форма (усна, письмова, 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нотаріальна)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Не повинен суперечити законодавству.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Якщо умови недодержані (хоча б одна), в такому разі правочин буде недійсний і сторони повинні повернутися до попереднього стану.</a:t>
            </a:r>
            <a:br>
              <a:rPr sz="2800"/>
            </a:br>
            <a:br>
              <a:rPr sz="2800"/>
            </a:b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Реституція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 – повернення до попереднього стану у разі визнання угоди недійсною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bbd71"/>
                </a:solidFill>
                <a:latin typeface="Arial"/>
              </a:rPr>
              <a:t>В дитячому садочку хлопчик подарував дівчинці дорогоцінну каблучку в знак вірності і кохання, але мама хлопчика на наступний день вимагала визнання договору дарування недійним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61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ід час шлюбу жінка виходячи заміж для сміливості випила келих напою. Прийшовши до тями вона вимагала недійсності шлюбного контракту, якого підписала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56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еред смертю дідусь вирішив змінити права спадкоємців і написав розписку з підписом і датою, де все майно передає держав, що обурило спадкоємців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облизу кордонів з Молдовою було виявлено групу підприємців, які в письмовій формі підписали договір продажу зброї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придбати неякісний товар і в гарантійний термін поміняти на аналогічний, але дешевший, то вам доплатять різницю цін чи ні?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В одному рівненському магазині сантехніки продають в одному відділі ванни, а в іншому ніжки до неї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. Чи правомірно це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краватку від Гуччі упакують в пакет від Дольче Габане, то ви маєте право вимагати обміну товару який є неналежної якості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батько пообіцяв сину купити комп’ютер, і не купив – то син вправі вимагати відшкодування його вартості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75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500" spc="-1" strike="noStrike">
                <a:solidFill>
                  <a:srgbClr val="ffffff"/>
                </a:solidFill>
                <a:latin typeface="Tahoma"/>
              </a:rPr>
              <a:t>Вчитель – це не той, хто навчає, а той, хто здатний надихнути учня виявити все найкраще в самому собі, аби відкрити те, про що він уже знає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ahoma"/>
              </a:rPr>
              <a:t>П.Куель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Під час одруження сина , даруючи йому машину чи потрібно укласти нотаріальну угоду дарування?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075520" cy="51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ісля того було здано на зберігання київський торт поклажодавець забираючи застав лише половину торта, а задоволений зберігач вказав що продав і віддав частину грошей.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4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dbbd71"/>
                </a:solidFill>
                <a:latin typeface="Arial"/>
              </a:rPr>
              <a:t>Після цього уроку я знаю, що …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Я можу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яснювати зміст поняття “правочин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ати умови дійсності правочин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арактеризувати правочини за різними озна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зв’язувати ситуації, що можуть виникнути при укладанні правочинів неповнолітні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090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0" spc="-1" strike="noStrike">
                <a:solidFill>
                  <a:srgbClr val="dbbd71"/>
                </a:solidFill>
                <a:latin typeface="Arial"/>
              </a:rPr>
              <a:t>Дякую за увагу!!!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Після уроку Ви зможет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яснювати зміст поняття “правочин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ати умови дійсності правочин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арактеризувати правочини за різними озна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зв’язувати ситуації, що можуть виникнути при укладанні договорів неповнолітні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dbbd71"/>
                </a:solidFill>
                <a:latin typeface="Arial"/>
              </a:rPr>
              <a:t>План уроку: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Що таке правочини та їх класифікаці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Умови дійсності правочин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Які правочини можуть укладати неповнолітн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55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Правочин</a:t>
            </a: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 – погоджене волевиявлення двох і більше сторін, спрямоване на встановлення, зміну чи скасування цивільних прав та обов’язків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33cc33"/>
                </a:solidFill>
                <a:latin typeface="Arial"/>
              </a:rPr>
              <a:t>При характеристиці правочинів їх класифікують за різними ознаками: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формою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усні, письмові (нотаріальні, державна реєстрація)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строком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строкові, безстрокові.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платністю: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оплатні, безоплатні.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кількістю сторін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односторонні, двосторонні,багатосторонні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моментом укладання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консесуальні, реальні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6062760" cy="4668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43280" y="277920"/>
            <a:ext cx="2376360" cy="50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купівлі-продажу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исьм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без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дв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консесуальний;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6443640" y="836640"/>
            <a:ext cx="252108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позики: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письмовий (більше 170 грн.)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коротко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в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реальний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0" y="907920"/>
            <a:ext cx="6227640" cy="4730760"/>
            <a:chOff x="0" y="907920"/>
            <a:chExt cx="6227640" cy="4730760"/>
          </a:xfrm>
        </p:grpSpPr>
        <p:pic>
          <p:nvPicPr>
            <p:cNvPr id="16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622764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7"/>
            <p:cNvSpPr/>
            <p:nvPr/>
          </p:nvSpPr>
          <p:spPr>
            <a:xfrm>
              <a:off x="179280" y="5084640"/>
              <a:ext cx="21956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ahoma"/>
                </a:rPr>
                <a:t>Позикодавец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6516720" cy="5300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6588000" y="692280"/>
            <a:ext cx="237672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дарування: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с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без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без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одн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реаль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1:36:29Z</dcterms:created>
  <dc:creator>Admin</dc:creator>
  <dc:description/>
  <dc:language>en-US</dc:language>
  <cp:lastModifiedBy>User</cp:lastModifiedBy>
  <dcterms:modified xsi:type="dcterms:W3CDTF">2014-12-09T19:00:13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8000000000001024140</vt:lpwstr>
  </property>
</Properties>
</file>