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1A9-5B90-4025-898F-6FECAC7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203-8929-441C-8681-DC33DE0F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8EB-A267-46BD-B129-40ABB1B5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6D4-C145-43A5-9761-2DF4DFA9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C23-8C59-4A6C-B96D-29294C1E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8E9E-4B54-4233-ACED-F20EB7E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E5A8-20BD-43C7-B35F-6A002F98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D806-4D1D-4F7E-9B30-76F7EB3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926E-7E75-4698-987D-CBB29D6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26A-D622-4D2D-A413-A4CFFB5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449-CC62-4F59-8B95-7A4E660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C66-D4FF-4C71-890F-A0AE911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6CE9-B7DB-4D97-9930-83A3A46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315F-DCF5-4524-863E-F1933F04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CA37-99BA-4AA2-A4F7-A0D349F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F74-34E2-4BA9-9BE2-82B1C8B8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8B0-1487-4E47-B59F-21223B73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102-A7C7-4D73-8B3E-D822371A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50A-B78A-4561-9419-79C6C18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B56-C5AB-4189-8BF8-02F81B81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494-B78E-4C55-B9AF-81F6CCB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B67-5B3D-405A-9EFC-37AB825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441-07E4-47DD-A568-2FE1F8B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424-53A3-415E-978A-056D300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902-33B9-4343-A22E-919B980F02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0CA0-B283-4040-9A4E-CB10F254EE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Цивільно-правові правочни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716360" y="-3619440"/>
            <a:ext cx="698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мови дійсності правочину: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Вільне волевиявлення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Сторони повинні мати дієздатність </a:t>
            </a: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- Визначена законом форма (усна, письмова, 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отаріальна)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е повинен суперечити законодавству.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Якщо умови недодержані (хоча б одна), в такому разі правочин буде недійсний і сторони повинні повернутися до попереднього стану.</a:t>
            </a:r>
            <a:br>
              <a:rPr sz="2800"/>
            </a:br>
            <a:br>
              <a:rPr sz="2800"/>
            </a:b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Реституція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– повернення до попереднього стану у разі визнання угоди недійсною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bbd71"/>
                </a:solidFill>
                <a:latin typeface="Arial"/>
              </a:rPr>
              <a:t>В дитячому садочку хлопчик подарував дівчинці дорогоцінну каблучку в знак вірності і кохання, але мама хлопчика на наступний день вимагала визнання договору дарування недійним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д час шлюбу жінка виходячи заміж для сміливості випила келих напою. Прийшовши до тями вона вимагала недійсності шлюбного контракту, якого підписала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56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еред смертю дідусь вирішив змінити права спадкоємців і написав розписку з підписом і датою, де все майно передає держав, що обурило спадкоємців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облизу кордонів з Молдовою було виявлено групу підприємців, які в письмовій формі підписали договір продажу зброї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придбати неякісний товар і в гарантійний термін поміняти на аналогічний, але дешевший, то вам доплатять різницю цін чи ні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В одному рівненському магазині сантехніки продають в одному відділі ванни, а в іншому ніжки до неї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. Чи правомірно це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краватку від Гуччі упакують в пакет від Дольче Габане, то ви маєте право вимагати обміну товару який є неналежної як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батько пообіцяв сину купити комп’ютер, і не купив – то син вправі вимагати відшкодування його варт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75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500" spc="-1" strike="noStrike">
                <a:solidFill>
                  <a:srgbClr val="ffffff"/>
                </a:solidFill>
                <a:latin typeface="Tahoma"/>
              </a:rPr>
              <a:t>Вчитель – це не той, хто навчає, а той, хто здатний надихнути учня виявити все найкраще в самому собі, аби відкрити те, про що він уже знає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ahoma"/>
              </a:rPr>
              <a:t>П.Куель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Під час одруження сина , даруючи йому машину чи потрібно укласти нотаріальну угоду дарування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07552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сля того було здано на зберігання київський торт поклажодавець забираючи застав лише половину торта, а задоволений зберігач вказав що продав і віддав частину грошей.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4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dbbd71"/>
                </a:solidFill>
                <a:latin typeface="Arial"/>
              </a:rPr>
              <a:t>Після цього уроку я знаю, що …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Я можу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правочин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Дякую за увагу!!!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Після уроку Ви зможет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договор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dbbd71"/>
                </a:solidFill>
                <a:latin typeface="Arial"/>
              </a:rPr>
              <a:t>План уроку: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Що таке правочини та їх класифікаці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Умови дійсності правоч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Які правочини можуть укладати неповнолітн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равочин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 – погоджене волевиявлення двох і більше сторін, спрямоване на встановлення, зміну чи скасування цивільних прав та обов’язкі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33cc33"/>
                </a:solidFill>
                <a:latin typeface="Arial"/>
              </a:rPr>
              <a:t>При характеристиці правочинів їх класифікують за різними ознаками: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формою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усні, письмові (нотаріальні, державна реєстрація)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строком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строкові, безстроков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платністю: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платні, безоплатн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кількістю сторін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дносторонні, двосторонні,багатосторонні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моментом укладання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консесуальні, реальні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6062760" cy="4668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43280" y="277920"/>
            <a:ext cx="237636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купівлі-продажу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исьм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консесуальний;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6443640" y="836640"/>
            <a:ext cx="252108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позики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письмовий (більше 170 грн.)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оротко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0" y="907920"/>
            <a:ext cx="6227640" cy="4730760"/>
            <a:chOff x="0" y="907920"/>
            <a:chExt cx="6227640" cy="4730760"/>
          </a:xfrm>
        </p:grpSpPr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622764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7"/>
            <p:cNvSpPr/>
            <p:nvPr/>
          </p:nvSpPr>
          <p:spPr>
            <a:xfrm>
              <a:off x="179280" y="5084640"/>
              <a:ext cx="21956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ahoma"/>
                </a:rPr>
                <a:t>Позикодавец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6516720" cy="5300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588000" y="692280"/>
            <a:ext cx="23767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дарування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с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дн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1:36:29Z</dcterms:created>
  <dc:creator>Admin</dc:creator>
  <dc:description/>
  <dc:language>en-US</dc:language>
  <cp:lastModifiedBy>User</cp:lastModifiedBy>
  <dcterms:modified xsi:type="dcterms:W3CDTF">2014-12-09T19:00:13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